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DF0-4918-46FB-95ED-D3E48A2C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CA2-6881-493C-B07B-A6E827F8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E40-556C-4989-8A1E-FB1691E6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2D0-4989-41C2-B6F9-29156E99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ABD-4BFB-4B8B-B380-FD593131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3A0-EA4E-48DA-A6DA-9721C6C3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3B2-77A7-460F-8765-50764183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C11-A669-46AB-8015-0C016B2B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0EB-358F-4285-970A-E2081D06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A03-9A98-423E-A7F3-4E535221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F5A-9DD0-4372-BFF6-342461E8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86C-B86D-4EB6-B982-62E5BED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076-30DA-4831-ACA1-59128D757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000160" y="428760"/>
            <a:ext cx="542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Monotype Corsiva"/>
              </a:rPr>
              <a:t>Анна Ахмат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7072200" y="4786200"/>
            <a:ext cx="1911600" cy="191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://www.poetryclub.com.ua/upload/poem_all/00396622.jpg"/>
          <p:cNvPicPr/>
          <p:nvPr/>
        </p:nvPicPr>
        <p:blipFill>
          <a:blip r:embed="rId3"/>
          <a:stretch/>
        </p:blipFill>
        <p:spPr>
          <a:xfrm>
            <a:off x="285840" y="1643040"/>
            <a:ext cx="3214440" cy="45496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46" name="Rectangle 8"/>
          <p:cNvSpPr/>
          <p:nvPr/>
        </p:nvSpPr>
        <p:spPr>
          <a:xfrm>
            <a:off x="3714840" y="2297880"/>
            <a:ext cx="50004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84807"/>
                </a:solidFill>
                <a:latin typeface="Arial"/>
                <a:ea typeface="Times New Roman"/>
              </a:rPr>
              <a:t>«Я родилась 11 (23) июня 1989 года под Одессой (Большой Фонтан). Мой отец был в то время отставной инженер-механик флота. Годовалым ребенком я была перевезена на север - в Царское Село. Там я прожила до 16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84807"/>
                </a:solidFill>
                <a:latin typeface="Arial"/>
                <a:ea typeface="Times New Roman"/>
              </a:rPr>
              <a:t>Читать я училась по азбуке Льва Толстого. В пять лет, слушая, как учительница занималась со старшими детьми, я тоже научилась говорить по-французс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84807"/>
                </a:solidFill>
                <a:latin typeface="Arial"/>
                <a:ea typeface="Times New Roman"/>
              </a:rPr>
              <a:t>Первое стихотворение я написала, когда мне было 11 л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6715080" y="4429080"/>
            <a:ext cx="226872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i053.radikal.ru/1303/32/835d2822ef8a.jpg"/>
          <p:cNvPicPr/>
          <p:nvPr/>
        </p:nvPicPr>
        <p:blipFill>
          <a:blip r:embed="rId3"/>
          <a:stretch/>
        </p:blipFill>
        <p:spPr>
          <a:xfrm>
            <a:off x="642960" y="785880"/>
            <a:ext cx="8304120" cy="57862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7500960" y="5214960"/>
            <a:ext cx="1482840" cy="148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www.etoya.ru/files/images/pub/part_0/7520/gallery/8160/pre/660_660.jpg"/>
          <p:cNvPicPr/>
          <p:nvPr/>
        </p:nvPicPr>
        <p:blipFill>
          <a:blip r:embed="rId3"/>
          <a:stretch/>
        </p:blipFill>
        <p:spPr>
          <a:xfrm>
            <a:off x="500040" y="1000080"/>
            <a:ext cx="7048440" cy="52866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7500960" y="5214960"/>
            <a:ext cx="1482840" cy="148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://foto.rambler.ru/preview/r/500x500/47c95014-244e-dbd5-b1ac-29a495c43f38"/>
          <p:cNvPicPr/>
          <p:nvPr/>
        </p:nvPicPr>
        <p:blipFill>
          <a:blip r:embed="rId3"/>
          <a:stretch/>
        </p:blipFill>
        <p:spPr>
          <a:xfrm>
            <a:off x="357120" y="1071720"/>
            <a:ext cx="7143840" cy="55004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ед весной бывают дни такие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 плотным снегом отдыхает луг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Шумят деревья весело-сухи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теплый ветер нежен и упру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лёгкости своей дивится тело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дома своего не узнаеш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песню ту, что прежде надоел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к новую, с волнением по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6715080" y="4429080"/>
            <a:ext cx="2268720" cy="2268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2214720" y="4283640"/>
            <a:ext cx="392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Перед весной бывают дни такие: Под плотным снегом отдыхает луг, Шумят деревья весело-сух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И теплый ветер нежен и уп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И лёгкости своей дивится т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И дома своего не узна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84807"/>
                </a:solidFill>
                <a:latin typeface="Times New Roman"/>
              </a:rPr>
              <a:t>И песню ту, что прежде надоела, Как новую, с волнением поеш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s39.radikal.ru/i086/1107/af/69a8b5e6fc13.jpg"/>
          <p:cNvPicPr/>
          <p:nvPr/>
        </p:nvPicPr>
        <p:blipFill>
          <a:blip r:embed="rId3"/>
          <a:stretch/>
        </p:blipFill>
        <p:spPr>
          <a:xfrm>
            <a:off x="1571760" y="214200"/>
            <a:ext cx="5429160" cy="4071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с одним вырезанным углом 9"/>
          <p:cNvSpPr/>
          <p:nvPr/>
        </p:nvSpPr>
        <p:spPr>
          <a:xfrm rot="16200000">
            <a:off x="1219320" y="-995400"/>
            <a:ext cx="6742080" cy="8964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Компас\Pictures\png.png"/>
          <p:cNvPicPr/>
          <p:nvPr/>
        </p:nvPicPr>
        <p:blipFill>
          <a:blip r:embed="rId1"/>
          <a:stretch/>
        </p:blipFill>
        <p:spPr>
          <a:xfrm>
            <a:off x="-142920" y="28584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572323-9a0093e628fc8900.png"/>
          <p:cNvPicPr/>
          <p:nvPr/>
        </p:nvPicPr>
        <p:blipFill>
          <a:blip r:embed="rId2"/>
          <a:stretch/>
        </p:blipFill>
        <p:spPr>
          <a:xfrm>
            <a:off x="6715080" y="4429080"/>
            <a:ext cx="2268720" cy="226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www.clopotel.ro/_files/usermedia/7/c/c/u489274/album/c/5/ai489274n1911420.gif"/>
          <p:cNvPicPr/>
          <p:nvPr/>
        </p:nvPicPr>
        <p:blipFill>
          <a:blip r:embed="rId3"/>
          <a:stretch/>
        </p:blipFill>
        <p:spPr>
          <a:xfrm>
            <a:off x="571680" y="739800"/>
            <a:ext cx="4000320" cy="5337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4857840" y="1374480"/>
            <a:ext cx="400032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олюсь оконному лучу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 бледен, тонок, пр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егодня я с утра молч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 сердце - попо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 рукомойнике мо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зеленела мед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о так играет луч на н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то весело гляде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акой невинный и прос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вечерней тиши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о в этой храмине пус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 словно праздник золо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 утешенье м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928800" y="235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internet.ru/users/liebkind37/post28643703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015200" y="3214800"/>
            <a:ext cx="41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zenit.ucoz.com/news/2011-03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090440" y="378612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internet.ru/users/3179073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1143000" y="43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ol-pictures.su/photo/priroda/solnechnaja_priroda/31-0-101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5:52:47Z</dcterms:created>
  <dc:creator>Компас</dc:creator>
  <dc:description/>
  <dc:language>en-US</dc:language>
  <cp:lastModifiedBy>User</cp:lastModifiedBy>
  <dcterms:modified xsi:type="dcterms:W3CDTF">2014-02-02T08:50:31Z</dcterms:modified>
  <cp:revision>32</cp:revision>
  <dc:subject/>
  <dc:title>Слайд 1</dc:title>
</cp:coreProperties>
</file>