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FAB-1644-4AE6-AA22-07A6FC09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034-9E2A-4C1E-A93F-94835708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59D-3E89-43E9-B4C5-331FF11B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DAD-9957-4716-9C8E-3D26FB02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957DA-3765-439F-AAA5-059BA11B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9CC11-A7BC-4B56-A38E-930EE7BD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EF14B-4CEA-42A1-B0E1-8B83EA5D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F367D-77F2-4B5E-BE83-C28F039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1B35A-C863-4161-ABBD-3D0234ED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AB50E-9AEF-4049-B6D4-D1762687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9C3D2-5474-4BF6-8D74-2DCF0D92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6E9-F787-4B72-B81F-241378EC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E4F77-8211-4E88-9B8E-186B6F3D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E1E95-751D-4727-BFD5-0EC00590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C0122-8C89-450F-88A6-3DDD495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CD631-1B01-4ADE-B273-240AAEA4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75BE3-882E-4EEA-895E-DE009A17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BB4-3E0F-426D-A52B-A386A841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CD4-067E-4FDA-B3CC-2E854675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EC7-DCC4-4DA8-8079-65B93FFA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776-39B0-43CE-B8A0-9B0A67FC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A06-491F-494A-ADF4-69C1E50A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CA5-7EFA-442F-A268-7C8730D9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ED0-FB6B-4E57-A05B-4BA8ADF7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7806-4CAE-4AA8-95D1-8CA7D57BB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5A80-15B0-4EAA-B924-26C2E026B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1511640" cy="977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95640" y="189000"/>
            <a:ext cx="1511280" cy="1003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516720" y="1413000"/>
            <a:ext cx="1440000" cy="955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140360" y="2565360"/>
            <a:ext cx="1295280" cy="1049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692360" y="4149720"/>
            <a:ext cx="1514520" cy="110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6659640" y="4076640"/>
            <a:ext cx="1512720" cy="1060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4140360" y="5300640"/>
            <a:ext cx="1438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20:14:47Z</dcterms:created>
  <dc:creator>Дмитрий Каленюк</dc:creator>
  <dc:description/>
  <dc:language>en-US</dc:language>
  <cp:lastModifiedBy>Дмитрий Каленюк</cp:lastModifiedBy>
  <dcterms:modified xsi:type="dcterms:W3CDTF">2012-04-29T21:53:32Z</dcterms:modified>
  <cp:revision>6</cp:revision>
  <dc:subject/>
  <dc:title>Слайд 1</dc:title>
</cp:coreProperties>
</file>