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273-9077-4DAE-B6D0-4B0A1E66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466-AC27-417E-82EA-D79603AE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F71-60DE-402E-860B-9BE288DB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877-CD4D-4B3B-9E5F-540FD285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CCA-ED83-4B69-A9AA-4C809E6D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C7F-4EA2-4DAB-BEAA-41C0E716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01B-18BB-4F0F-BFDD-1FAFADE8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1DB-D137-472E-A436-3E32DDCB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2B2-7DE1-4D3D-A4ED-E419D269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256-768F-4ED5-B85F-83C48F1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6FA-4B99-4D03-BEE3-E7D9942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D91-50C6-4FF6-B56E-B13BCEF9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8B8-8678-48AB-9089-4778E6167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png"/><Relationship Id="rId3" Type="http://schemas.openxmlformats.org/officeDocument/2006/relationships/slide" Target="slide18.xml"/><Relationship Id="rId4" Type="http://schemas.openxmlformats.org/officeDocument/2006/relationships/image" Target="../media/image24.png"/><Relationship Id="rId5" Type="http://schemas.openxmlformats.org/officeDocument/2006/relationships/slide" Target="slide23.xml"/><Relationship Id="rId6" Type="http://schemas.openxmlformats.org/officeDocument/2006/relationships/image" Target="../media/image25.png"/><Relationship Id="rId7" Type="http://schemas.openxmlformats.org/officeDocument/2006/relationships/slide" Target="slide20.xml"/><Relationship Id="rId8" Type="http://schemas.openxmlformats.org/officeDocument/2006/relationships/image" Target="../media/image26.png"/><Relationship Id="rId9" Type="http://schemas.openxmlformats.org/officeDocument/2006/relationships/slide" Target="slide21.xml"/><Relationship Id="rId10" Type="http://schemas.openxmlformats.org/officeDocument/2006/relationships/image" Target="../media/image27.png"/><Relationship Id="rId11" Type="http://schemas.openxmlformats.org/officeDocument/2006/relationships/slide" Target="slide19.xml"/><Relationship Id="rId12" Type="http://schemas.openxmlformats.org/officeDocument/2006/relationships/image" Target="../media/image28.png"/><Relationship Id="rId13" Type="http://schemas.openxmlformats.org/officeDocument/2006/relationships/slide" Target="slide24.xml"/><Relationship Id="rId14" Type="http://schemas.openxmlformats.org/officeDocument/2006/relationships/image" Target="../media/image29.png"/><Relationship Id="rId15" Type="http://schemas.openxmlformats.org/officeDocument/2006/relationships/slide" Target="slide25.xml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" Target="slide17.xml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3;&#1080;&#1085;&#1077;&#1081;&#1082;&#1080;&amp;uinfo=sw-1135-sh-773-fw-910-fh-567-pd-1" TargetMode="External"/><Relationship Id="rId2" Type="http://schemas.openxmlformats.org/officeDocument/2006/relationships/hyperlink" Target="http://images.yandex.ru/yandsearch?text=&#1089;&#1083;&#1086;&#1085;&amp;pos=5&amp;uinfo=sw-1135-sh-773-fw-910-fh-567-pd-1&amp;rpt=simage&amp;img_url=http%3A%2F%2Flifeglobe.net%2Fmedia%2Fentry%2F347%2Fradionetplus_ru_jivnoct23_3.jpg" TargetMode="External"/><Relationship Id="rId3" Type="http://schemas.openxmlformats.org/officeDocument/2006/relationships/hyperlink" Target="http://images.yandex.ru/yandsearch?text=&#1074;&#1077;&#1089;&#1099;&amp;pos=8&amp;uinfo=sw-1135-sh-773-fw-910-fh-567-pd-1&amp;rpt=simage&amp;img_url=http%3A%2F%2Fwww.1kran.ru%2Fimages%2Fvrnc10.jpg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ЕДИНИЦЫ ИЗМЕРЕНИЯ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: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информатики МБОУ Солчурской СОШ Овюрского кожууна Республики Ты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гуш Лариса Михай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45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50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56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62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68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чтобы вы представили, что это за единицы измерения, послушайт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 бит – буква в клетке кроссвор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байт – символ, введенный с клави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 байт – средний размер слова, в тексте на русском язы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0 байт – строка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Кбайт – страница машинописного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0 Кбайт – фотография в низком разреш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байт – небольшая художественная кни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0 Мбайт – метровая книга с пол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Гбайт – прочитывает человек за всю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Гбайт – час качественной видеозапи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343" name="Group 5"/>
            <p:cNvGrpSpPr/>
            <p:nvPr/>
          </p:nvGrpSpPr>
          <p:grpSpPr>
            <a:xfrm>
              <a:off x="0" y="25920"/>
              <a:ext cx="9144000" cy="6819120"/>
              <a:chOff x="0" y="25920"/>
              <a:chExt cx="9144000" cy="6819120"/>
            </a:xfrm>
          </p:grpSpPr>
          <p:sp>
            <p:nvSpPr>
              <p:cNvPr id="344" name="Rectangle 6"/>
              <p:cNvSpPr/>
              <p:nvPr/>
            </p:nvSpPr>
            <p:spPr>
              <a:xfrm rot="5400000">
                <a:off x="4482360" y="-445644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7"/>
              <p:cNvSpPr/>
              <p:nvPr/>
            </p:nvSpPr>
            <p:spPr>
              <a:xfrm rot="5400000">
                <a:off x="4482360" y="218304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8"/>
              <p:cNvSpPr/>
              <p:nvPr/>
            </p:nvSpPr>
            <p:spPr>
              <a:xfrm>
                <a:off x="0" y="25920"/>
                <a:ext cx="172440" cy="681912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"/>
              <p:cNvSpPr/>
              <p:nvPr/>
            </p:nvSpPr>
            <p:spPr>
              <a:xfrm>
                <a:off x="8971200" y="25920"/>
                <a:ext cx="172440" cy="681912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0"/>
            <p:cNvGrpSpPr/>
            <p:nvPr/>
          </p:nvGrpSpPr>
          <p:grpSpPr>
            <a:xfrm>
              <a:off x="8281080" y="0"/>
              <a:ext cx="862560" cy="1611360"/>
              <a:chOff x="8281080" y="0"/>
              <a:chExt cx="862560" cy="1611360"/>
            </a:xfrm>
          </p:grpSpPr>
          <p:sp>
            <p:nvSpPr>
              <p:cNvPr id="349" name="Freeform 11"/>
              <p:cNvSpPr/>
              <p:nvPr/>
            </p:nvSpPr>
            <p:spPr>
              <a:xfrm>
                <a:off x="8681400" y="24660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2"/>
              <p:cNvSpPr/>
              <p:nvPr/>
            </p:nvSpPr>
            <p:spPr>
              <a:xfrm>
                <a:off x="8814600" y="1440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3"/>
              <p:cNvSpPr/>
              <p:nvPr/>
            </p:nvSpPr>
            <p:spPr>
              <a:xfrm>
                <a:off x="8814600" y="55152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4"/>
              <p:cNvSpPr/>
              <p:nvPr/>
            </p:nvSpPr>
            <p:spPr>
              <a:xfrm>
                <a:off x="8574480" y="8712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5"/>
              <p:cNvSpPr/>
              <p:nvPr/>
            </p:nvSpPr>
            <p:spPr>
              <a:xfrm>
                <a:off x="8281080" y="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6"/>
            <p:cNvGrpSpPr/>
            <p:nvPr/>
          </p:nvGrpSpPr>
          <p:grpSpPr>
            <a:xfrm>
              <a:off x="0" y="23760"/>
              <a:ext cx="862560" cy="1793160"/>
              <a:chOff x="0" y="23760"/>
              <a:chExt cx="862560" cy="1793160"/>
            </a:xfrm>
          </p:grpSpPr>
          <p:sp>
            <p:nvSpPr>
              <p:cNvPr id="355" name="Freeform 17"/>
              <p:cNvSpPr/>
              <p:nvPr/>
            </p:nvSpPr>
            <p:spPr>
              <a:xfrm flipH="1">
                <a:off x="115920" y="298080"/>
                <a:ext cx="346320" cy="694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0" y="39600"/>
                <a:ext cx="329040" cy="678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9"/>
              <p:cNvSpPr/>
              <p:nvPr/>
            </p:nvSpPr>
            <p:spPr>
              <a:xfrm flipH="1">
                <a:off x="0" y="637560"/>
                <a:ext cx="329040" cy="117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0"/>
              <p:cNvSpPr/>
              <p:nvPr/>
            </p:nvSpPr>
            <p:spPr>
              <a:xfrm flipH="1">
                <a:off x="461880" y="993240"/>
                <a:ext cx="106920" cy="24192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1"/>
              <p:cNvSpPr/>
              <p:nvPr/>
            </p:nvSpPr>
            <p:spPr>
              <a:xfrm flipH="1">
                <a:off x="275040" y="23760"/>
                <a:ext cx="587160" cy="711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2"/>
            <p:cNvGrpSpPr/>
            <p:nvPr/>
          </p:nvGrpSpPr>
          <p:grpSpPr>
            <a:xfrm>
              <a:off x="8281080" y="5246280"/>
              <a:ext cx="862560" cy="1611360"/>
              <a:chOff x="8281080" y="5246280"/>
              <a:chExt cx="862560" cy="1611360"/>
            </a:xfrm>
          </p:grpSpPr>
          <p:sp>
            <p:nvSpPr>
              <p:cNvPr id="361" name="Freeform 23"/>
              <p:cNvSpPr/>
              <p:nvPr/>
            </p:nvSpPr>
            <p:spPr>
              <a:xfrm flipV="1">
                <a:off x="8681400" y="598608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4"/>
              <p:cNvSpPr/>
              <p:nvPr/>
            </p:nvSpPr>
            <p:spPr>
              <a:xfrm flipV="1">
                <a:off x="8814600" y="623268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5"/>
              <p:cNvSpPr/>
              <p:nvPr/>
            </p:nvSpPr>
            <p:spPr>
              <a:xfrm flipV="1">
                <a:off x="8814600" y="524628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26"/>
              <p:cNvSpPr/>
              <p:nvPr/>
            </p:nvSpPr>
            <p:spPr>
              <a:xfrm flipV="1">
                <a:off x="8574480" y="57690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7"/>
              <p:cNvSpPr/>
              <p:nvPr/>
            </p:nvSpPr>
            <p:spPr>
              <a:xfrm flipV="1">
                <a:off x="8281080" y="621828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8"/>
            <p:cNvGrpSpPr/>
            <p:nvPr/>
          </p:nvGrpSpPr>
          <p:grpSpPr>
            <a:xfrm>
              <a:off x="0" y="5246280"/>
              <a:ext cx="862560" cy="1611360"/>
              <a:chOff x="0" y="5246280"/>
              <a:chExt cx="862560" cy="1611360"/>
            </a:xfrm>
          </p:grpSpPr>
          <p:sp>
            <p:nvSpPr>
              <p:cNvPr id="367" name="Freeform 29"/>
              <p:cNvSpPr/>
              <p:nvPr/>
            </p:nvSpPr>
            <p:spPr>
              <a:xfrm flipH="1" flipV="1">
                <a:off x="115560" y="598608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0"/>
              <p:cNvSpPr/>
              <p:nvPr/>
            </p:nvSpPr>
            <p:spPr>
              <a:xfrm flipH="1" flipV="1">
                <a:off x="0" y="623268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1"/>
              <p:cNvSpPr/>
              <p:nvPr/>
            </p:nvSpPr>
            <p:spPr>
              <a:xfrm flipH="1" flipV="1">
                <a:off x="0" y="524628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32"/>
              <p:cNvSpPr/>
              <p:nvPr/>
            </p:nvSpPr>
            <p:spPr>
              <a:xfrm flipH="1" flipV="1">
                <a:off x="461880" y="57690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3"/>
              <p:cNvSpPr/>
              <p:nvPr/>
            </p:nvSpPr>
            <p:spPr>
              <a:xfrm flipH="1" flipV="1">
                <a:off x="274680" y="621828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онный объём носителей информ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скета – 1,44 Мбай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акт-диск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700 Мбай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диск – до 17 Гбайт (стандарт – 4,7 Гбайт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ёсткий диск – от 20 Гбайт до 80 Гбайт и более (стандарт 80 Гбайт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s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амять – 256 Мбайт – 2 Гбай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375" name="Group 5"/>
            <p:cNvGrpSpPr/>
            <p:nvPr/>
          </p:nvGrpSpPr>
          <p:grpSpPr>
            <a:xfrm>
              <a:off x="0" y="25920"/>
              <a:ext cx="9144000" cy="6819120"/>
              <a:chOff x="0" y="25920"/>
              <a:chExt cx="9144000" cy="6819120"/>
            </a:xfrm>
          </p:grpSpPr>
          <p:sp>
            <p:nvSpPr>
              <p:cNvPr id="376" name="Rectangle 6"/>
              <p:cNvSpPr/>
              <p:nvPr/>
            </p:nvSpPr>
            <p:spPr>
              <a:xfrm rot="5400000">
                <a:off x="4482360" y="-445644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"/>
              <p:cNvSpPr/>
              <p:nvPr/>
            </p:nvSpPr>
            <p:spPr>
              <a:xfrm rot="5400000">
                <a:off x="4482360" y="218304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8"/>
              <p:cNvSpPr/>
              <p:nvPr/>
            </p:nvSpPr>
            <p:spPr>
              <a:xfrm>
                <a:off x="0" y="25920"/>
                <a:ext cx="172440" cy="681912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9"/>
              <p:cNvSpPr/>
              <p:nvPr/>
            </p:nvSpPr>
            <p:spPr>
              <a:xfrm>
                <a:off x="8971200" y="25920"/>
                <a:ext cx="172440" cy="681912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0"/>
            <p:cNvGrpSpPr/>
            <p:nvPr/>
          </p:nvGrpSpPr>
          <p:grpSpPr>
            <a:xfrm>
              <a:off x="8281080" y="0"/>
              <a:ext cx="862560" cy="1611360"/>
              <a:chOff x="8281080" y="0"/>
              <a:chExt cx="862560" cy="1611360"/>
            </a:xfrm>
          </p:grpSpPr>
          <p:sp>
            <p:nvSpPr>
              <p:cNvPr id="381" name="Freeform 11"/>
              <p:cNvSpPr/>
              <p:nvPr/>
            </p:nvSpPr>
            <p:spPr>
              <a:xfrm>
                <a:off x="8681400" y="24660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"/>
              <p:cNvSpPr/>
              <p:nvPr/>
            </p:nvSpPr>
            <p:spPr>
              <a:xfrm>
                <a:off x="8814600" y="1440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3"/>
              <p:cNvSpPr/>
              <p:nvPr/>
            </p:nvSpPr>
            <p:spPr>
              <a:xfrm>
                <a:off x="8814600" y="55152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4"/>
              <p:cNvSpPr/>
              <p:nvPr/>
            </p:nvSpPr>
            <p:spPr>
              <a:xfrm>
                <a:off x="8574480" y="8712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5"/>
              <p:cNvSpPr/>
              <p:nvPr/>
            </p:nvSpPr>
            <p:spPr>
              <a:xfrm>
                <a:off x="8281080" y="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16"/>
            <p:cNvGrpSpPr/>
            <p:nvPr/>
          </p:nvGrpSpPr>
          <p:grpSpPr>
            <a:xfrm>
              <a:off x="0" y="23760"/>
              <a:ext cx="862560" cy="1793160"/>
              <a:chOff x="0" y="23760"/>
              <a:chExt cx="862560" cy="1793160"/>
            </a:xfrm>
          </p:grpSpPr>
          <p:sp>
            <p:nvSpPr>
              <p:cNvPr id="387" name="Freeform 17"/>
              <p:cNvSpPr/>
              <p:nvPr/>
            </p:nvSpPr>
            <p:spPr>
              <a:xfrm flipH="1">
                <a:off x="115920" y="298080"/>
                <a:ext cx="346320" cy="694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"/>
              <p:cNvSpPr/>
              <p:nvPr/>
            </p:nvSpPr>
            <p:spPr>
              <a:xfrm flipH="1">
                <a:off x="0" y="39600"/>
                <a:ext cx="329040" cy="678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9"/>
              <p:cNvSpPr/>
              <p:nvPr/>
            </p:nvSpPr>
            <p:spPr>
              <a:xfrm flipH="1">
                <a:off x="0" y="637560"/>
                <a:ext cx="329040" cy="117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20"/>
              <p:cNvSpPr/>
              <p:nvPr/>
            </p:nvSpPr>
            <p:spPr>
              <a:xfrm flipH="1">
                <a:off x="461880" y="993240"/>
                <a:ext cx="106920" cy="24192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1"/>
              <p:cNvSpPr/>
              <p:nvPr/>
            </p:nvSpPr>
            <p:spPr>
              <a:xfrm flipH="1">
                <a:off x="275040" y="23760"/>
                <a:ext cx="587160" cy="711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2"/>
            <p:cNvGrpSpPr/>
            <p:nvPr/>
          </p:nvGrpSpPr>
          <p:grpSpPr>
            <a:xfrm>
              <a:off x="8281080" y="5246280"/>
              <a:ext cx="862560" cy="1611360"/>
              <a:chOff x="8281080" y="5246280"/>
              <a:chExt cx="862560" cy="1611360"/>
            </a:xfrm>
          </p:grpSpPr>
          <p:sp>
            <p:nvSpPr>
              <p:cNvPr id="393" name="Freeform 23"/>
              <p:cNvSpPr/>
              <p:nvPr/>
            </p:nvSpPr>
            <p:spPr>
              <a:xfrm flipV="1">
                <a:off x="8681400" y="598608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4"/>
              <p:cNvSpPr/>
              <p:nvPr/>
            </p:nvSpPr>
            <p:spPr>
              <a:xfrm flipV="1">
                <a:off x="8814600" y="623268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5"/>
              <p:cNvSpPr/>
              <p:nvPr/>
            </p:nvSpPr>
            <p:spPr>
              <a:xfrm flipV="1">
                <a:off x="8814600" y="524628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26"/>
              <p:cNvSpPr/>
              <p:nvPr/>
            </p:nvSpPr>
            <p:spPr>
              <a:xfrm flipV="1">
                <a:off x="8574480" y="57690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7"/>
              <p:cNvSpPr/>
              <p:nvPr/>
            </p:nvSpPr>
            <p:spPr>
              <a:xfrm flipV="1">
                <a:off x="8281080" y="621828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8"/>
            <p:cNvGrpSpPr/>
            <p:nvPr/>
          </p:nvGrpSpPr>
          <p:grpSpPr>
            <a:xfrm>
              <a:off x="0" y="5246280"/>
              <a:ext cx="862560" cy="1611360"/>
              <a:chOff x="0" y="5246280"/>
              <a:chExt cx="862560" cy="1611360"/>
            </a:xfrm>
          </p:grpSpPr>
          <p:sp>
            <p:nvSpPr>
              <p:cNvPr id="399" name="Freeform 29"/>
              <p:cNvSpPr/>
              <p:nvPr/>
            </p:nvSpPr>
            <p:spPr>
              <a:xfrm flipH="1" flipV="1">
                <a:off x="115560" y="598608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0"/>
              <p:cNvSpPr/>
              <p:nvPr/>
            </p:nvSpPr>
            <p:spPr>
              <a:xfrm flipH="1" flipV="1">
                <a:off x="0" y="623268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1"/>
              <p:cNvSpPr/>
              <p:nvPr/>
            </p:nvSpPr>
            <p:spPr>
              <a:xfrm flipH="1" flipV="1">
                <a:off x="0" y="524628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32"/>
              <p:cNvSpPr/>
              <p:nvPr/>
            </p:nvSpPr>
            <p:spPr>
              <a:xfrm flipH="1" flipV="1">
                <a:off x="461880" y="57690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"/>
              <p:cNvSpPr/>
              <p:nvPr/>
            </p:nvSpPr>
            <p:spPr>
              <a:xfrm flipH="1" flipV="1">
                <a:off x="274680" y="621828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35" descr="д.jpg"/>
          <p:cNvPicPr/>
          <p:nvPr/>
        </p:nvPicPr>
        <p:blipFill>
          <a:blip r:embed="rId1"/>
          <a:stretch/>
        </p:blipFill>
        <p:spPr>
          <a:xfrm>
            <a:off x="5000760" y="1571760"/>
            <a:ext cx="495000" cy="476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6" descr="c.jpg"/>
          <p:cNvPicPr/>
          <p:nvPr/>
        </p:nvPicPr>
        <p:blipFill>
          <a:blip r:embed="rId2"/>
          <a:stretch/>
        </p:blipFill>
        <p:spPr>
          <a:xfrm>
            <a:off x="7572240" y="214308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7" descr="ф.jpg"/>
          <p:cNvPicPr/>
          <p:nvPr/>
        </p:nvPicPr>
        <p:blipFill>
          <a:blip r:embed="rId3"/>
          <a:stretch/>
        </p:blipFill>
        <p:spPr>
          <a:xfrm>
            <a:off x="7286760" y="5072040"/>
            <a:ext cx="798480" cy="59544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8" descr="ж.jpg"/>
          <p:cNvPicPr/>
          <p:nvPr/>
        </p:nvPicPr>
        <p:blipFill>
          <a:blip r:embed="rId4"/>
          <a:stretch/>
        </p:blipFill>
        <p:spPr>
          <a:xfrm>
            <a:off x="8001000" y="4143240"/>
            <a:ext cx="8715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Куб 9"/>
          <p:cNvSpPr/>
          <p:nvPr/>
        </p:nvSpPr>
        <p:spPr>
          <a:xfrm>
            <a:off x="714240" y="1714680"/>
            <a:ext cx="2500560" cy="25002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РУ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928800" y="28584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еревод из крупных единиц в мел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714240" y="5214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12 байт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Куб 8"/>
          <p:cNvSpPr/>
          <p:nvPr/>
        </p:nvSpPr>
        <p:spPr>
          <a:xfrm>
            <a:off x="5857920" y="2071800"/>
            <a:ext cx="1571760" cy="15714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ЕЛ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трелка вправо 10"/>
          <p:cNvSpPr/>
          <p:nvPr/>
        </p:nvSpPr>
        <p:spPr>
          <a:xfrm>
            <a:off x="3357720" y="2643120"/>
            <a:ext cx="228600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ьная выноска 11"/>
          <p:cNvSpPr/>
          <p:nvPr/>
        </p:nvSpPr>
        <p:spPr>
          <a:xfrm>
            <a:off x="4286160" y="1071720"/>
            <a:ext cx="1571760" cy="1143000"/>
          </a:xfrm>
          <a:prstGeom prst="wedgeEllipseCallout">
            <a:avLst>
              <a:gd name="adj1" fmla="val -60361"/>
              <a:gd name="adj2" fmla="val 81606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85880" y="4857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ведите 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8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419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424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430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436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442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7" name="Прямоугольник 38" descr=""/>
          <p:cNvPicPr/>
          <p:nvPr/>
        </p:nvPicPr>
        <p:blipFill>
          <a:blip r:embed="rId1"/>
          <a:stretch/>
        </p:blipFill>
        <p:spPr>
          <a:xfrm>
            <a:off x="2835360" y="4968720"/>
            <a:ext cx="2962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Куб 9"/>
          <p:cNvSpPr/>
          <p:nvPr/>
        </p:nvSpPr>
        <p:spPr>
          <a:xfrm>
            <a:off x="5572080" y="1928880"/>
            <a:ext cx="2500200" cy="25002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РУ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857160" y="528624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24 бит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Куб 8"/>
          <p:cNvSpPr/>
          <p:nvPr/>
        </p:nvSpPr>
        <p:spPr>
          <a:xfrm>
            <a:off x="1214280" y="2786040"/>
            <a:ext cx="1571760" cy="157176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ЕЛ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трелка вправо 10"/>
          <p:cNvSpPr/>
          <p:nvPr/>
        </p:nvSpPr>
        <p:spPr>
          <a:xfrm>
            <a:off x="3214800" y="3214800"/>
            <a:ext cx="1857240" cy="4284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ьная выноска 11"/>
          <p:cNvSpPr/>
          <p:nvPr/>
        </p:nvSpPr>
        <p:spPr>
          <a:xfrm>
            <a:off x="3500280" y="1357200"/>
            <a:ext cx="1571760" cy="1357560"/>
          </a:xfrm>
          <a:prstGeom prst="wedgeEllipseCallout">
            <a:avLst>
              <a:gd name="adj1" fmla="val -22148"/>
              <a:gd name="adj2" fmla="val 8456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28800" y="28584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еревод из мелких единиц в круп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928800" y="492912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ведите 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56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457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462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468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474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480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5" name="Прямоугольник 38" descr=""/>
          <p:cNvPicPr/>
          <p:nvPr/>
        </p:nvPicPr>
        <p:blipFill>
          <a:blip r:embed="rId1"/>
          <a:stretch/>
        </p:blipFill>
        <p:spPr>
          <a:xfrm>
            <a:off x="2968560" y="4968720"/>
            <a:ext cx="3353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>
            <a:off x="3643200" y="342900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 байт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3"/>
          <p:cNvSpPr/>
          <p:nvPr/>
        </p:nvSpPr>
        <p:spPr>
          <a:xfrm>
            <a:off x="785880" y="85716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в компьютере – это любая буква, цифра, знак препинания, математический знак, специальный символ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89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490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495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501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507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513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8" name="Picture 35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500040" y="2500200"/>
            <a:ext cx="2938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1"/>
          <p:cNvSpPr/>
          <p:nvPr/>
        </p:nvSpPr>
        <p:spPr>
          <a:xfrm>
            <a:off x="857160" y="178596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ИНФОР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857160" y="357192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Сколько символов содержит это сло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Какой информационный объем имеет это сообщ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714240" y="42876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дите информационный объем слов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3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524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529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535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541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547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286080" y="57168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1000080" y="1428840"/>
            <a:ext cx="671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ТИКА – 11 символов, следовательно, это сообщение несет в себе информационный объем, ра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символов*1байт = 11 бай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*1*8= 88 би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55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556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561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567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573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579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5" name="Группа 58"/>
          <p:cNvGrpSpPr/>
          <p:nvPr/>
        </p:nvGrpSpPr>
        <p:grpSpPr>
          <a:xfrm>
            <a:off x="2232720" y="1143000"/>
            <a:ext cx="5401800" cy="5285880"/>
            <a:chOff x="2232720" y="1143000"/>
            <a:chExt cx="5401800" cy="5285880"/>
          </a:xfrm>
        </p:grpSpPr>
        <p:pic>
          <p:nvPicPr>
            <p:cNvPr id="586" name="Прямоугольник 6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615040" y="2352960"/>
              <a:ext cx="1463040" cy="85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7" name="Группа 88"/>
            <p:cNvGrpSpPr/>
            <p:nvPr/>
          </p:nvGrpSpPr>
          <p:grpSpPr>
            <a:xfrm>
              <a:off x="2232720" y="1143000"/>
              <a:ext cx="5401800" cy="5285880"/>
              <a:chOff x="2232720" y="1143000"/>
              <a:chExt cx="5401800" cy="5285880"/>
            </a:xfrm>
          </p:grpSpPr>
          <p:sp>
            <p:nvSpPr>
              <p:cNvPr id="588" name="Дуга 20"/>
              <p:cNvSpPr/>
              <p:nvPr/>
            </p:nvSpPr>
            <p:spPr>
              <a:xfrm>
                <a:off x="4214880" y="1214280"/>
                <a:ext cx="1285920" cy="642960"/>
              </a:xfrm>
              <a:prstGeom prst="pie">
                <a:avLst/>
              </a:prstGeom>
              <a:noFill/>
              <a:ln w="50760">
                <a:solidFill>
                  <a:srgbClr val="7793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Группа 85"/>
              <p:cNvGrpSpPr/>
              <p:nvPr/>
            </p:nvGrpSpPr>
            <p:grpSpPr>
              <a:xfrm>
                <a:off x="2232720" y="1143000"/>
                <a:ext cx="5401800" cy="5285880"/>
                <a:chOff x="2232720" y="1143000"/>
                <a:chExt cx="5401800" cy="5285880"/>
              </a:xfrm>
            </p:grpSpPr>
            <p:sp>
              <p:nvSpPr>
                <p:cNvPr id="590" name="Прямая соединительная линия 4"/>
                <p:cNvSpPr/>
                <p:nvPr/>
              </p:nvSpPr>
              <p:spPr>
                <a:xfrm flipV="1">
                  <a:off x="3330360" y="2212920"/>
                  <a:ext cx="3098880" cy="3252960"/>
                </a:xfrm>
                <a:prstGeom prst="line">
                  <a:avLst/>
                </a:prstGeom>
                <a:ln w="507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Прямая соединительная линия 7"/>
                <p:cNvSpPr/>
                <p:nvPr/>
              </p:nvSpPr>
              <p:spPr>
                <a:xfrm flipV="1">
                  <a:off x="4249080" y="2847240"/>
                  <a:ext cx="2903400" cy="31647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Прямая соединительная линия 8"/>
                <p:cNvSpPr/>
                <p:nvPr/>
              </p:nvSpPr>
              <p:spPr>
                <a:xfrm>
                  <a:off x="2614320" y="3003480"/>
                  <a:ext cx="3038400" cy="2945520"/>
                </a:xfrm>
                <a:prstGeom prst="line">
                  <a:avLst/>
                </a:prstGeom>
                <a:ln w="507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Прямая соединительная линия 9"/>
                <p:cNvSpPr/>
                <p:nvPr/>
              </p:nvSpPr>
              <p:spPr>
                <a:xfrm flipV="1">
                  <a:off x="2645640" y="1670760"/>
                  <a:ext cx="2854440" cy="3121560"/>
                </a:xfrm>
                <a:prstGeom prst="line">
                  <a:avLst/>
                </a:prstGeom>
                <a:ln w="507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Прямая соединительная линия 10"/>
                <p:cNvSpPr/>
                <p:nvPr/>
              </p:nvSpPr>
              <p:spPr>
                <a:xfrm>
                  <a:off x="3299760" y="2277720"/>
                  <a:ext cx="3367080" cy="3205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Прямая соединительная линия 11"/>
                <p:cNvSpPr/>
                <p:nvPr/>
              </p:nvSpPr>
              <p:spPr>
                <a:xfrm>
                  <a:off x="4215600" y="1697040"/>
                  <a:ext cx="3133800" cy="2999880"/>
                </a:xfrm>
                <a:prstGeom prst="line">
                  <a:avLst/>
                </a:prstGeom>
                <a:ln w="5076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Дуга 34"/>
                <p:cNvSpPr/>
                <p:nvPr/>
              </p:nvSpPr>
              <p:spPr>
                <a:xfrm rot="10800000">
                  <a:off x="4249440" y="5595480"/>
                  <a:ext cx="1377720" cy="833400"/>
                </a:xfrm>
                <a:prstGeom prst="pie">
                  <a:avLst/>
                </a:prstGeom>
                <a:noFill/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Дуга 44"/>
                <p:cNvSpPr/>
                <p:nvPr/>
              </p:nvSpPr>
              <p:spPr>
                <a:xfrm rot="18932400">
                  <a:off x="2428920" y="2259000"/>
                  <a:ext cx="1017360" cy="728640"/>
                </a:xfrm>
                <a:prstGeom prst="pie">
                  <a:avLst/>
                </a:prstGeom>
                <a:noFill/>
                <a:ln w="507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Дуга 46"/>
                <p:cNvSpPr/>
                <p:nvPr/>
              </p:nvSpPr>
              <p:spPr>
                <a:xfrm rot="7990800">
                  <a:off x="6513120" y="4762800"/>
                  <a:ext cx="1034280" cy="685800"/>
                </a:xfrm>
                <a:prstGeom prst="pie">
                  <a:avLst/>
                </a:prstGeom>
                <a:noFill/>
                <a:ln w="50760">
                  <a:solidFill>
                    <a:srgbClr val="703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Дуга 49"/>
                <p:cNvSpPr/>
                <p:nvPr/>
              </p:nvSpPr>
              <p:spPr>
                <a:xfrm rot="13351800">
                  <a:off x="2517120" y="4502160"/>
                  <a:ext cx="974520" cy="1221120"/>
                </a:xfrm>
                <a:prstGeom prst="pie">
                  <a:avLst/>
                </a:prstGeom>
                <a:noFill/>
                <a:ln w="507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Дуга 52"/>
                <p:cNvSpPr/>
                <p:nvPr/>
              </p:nvSpPr>
              <p:spPr>
                <a:xfrm rot="2352600">
                  <a:off x="6288120" y="1936440"/>
                  <a:ext cx="974520" cy="1221120"/>
                </a:xfrm>
                <a:prstGeom prst="pie">
                  <a:avLst/>
                </a:prstGeom>
                <a:noFill/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1" name="Прямоугольник 65" descr="">
                  <a:hlinkClick r:id="rId3" action="ppaction://hlinksldjump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114800" y="1143000"/>
                  <a:ext cx="1463040" cy="84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602" name="Прямоугольник 6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614560" y="2352960"/>
              <a:ext cx="146304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Прямоугольник 67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688120" y="3992760"/>
              <a:ext cx="1463040" cy="8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Прямоугольник 68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754600" y="3919680"/>
              <a:ext cx="1463040" cy="8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Прямоугольник 6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254840" y="5352120"/>
              <a:ext cx="146304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Прямоугольник 7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4187880" y="2352960"/>
              <a:ext cx="146304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Прямоугольник 73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4187880" y="3852720"/>
              <a:ext cx="1463040" cy="8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Прямоугольник 76"/>
          <p:cNvSpPr/>
          <p:nvPr/>
        </p:nvSpPr>
        <p:spPr>
          <a:xfrm>
            <a:off x="395280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610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611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616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622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628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634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39" name="Прямоугольник 57" descr=""/>
          <p:cNvPicPr/>
          <p:nvPr/>
        </p:nvPicPr>
        <p:blipFill>
          <a:blip r:embed="rId17"/>
          <a:stretch/>
        </p:blipFill>
        <p:spPr>
          <a:xfrm>
            <a:off x="1066680" y="182520"/>
            <a:ext cx="2872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643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644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649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655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661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667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2" name="Овал 33"/>
          <p:cNvGrpSpPr/>
          <p:nvPr/>
        </p:nvGrpSpPr>
        <p:grpSpPr>
          <a:xfrm>
            <a:off x="1725480" y="603360"/>
            <a:ext cx="5686560" cy="2468520"/>
            <a:chOff x="1725480" y="603360"/>
            <a:chExt cx="5686560" cy="2468520"/>
          </a:xfrm>
        </p:grpSpPr>
        <p:pic>
          <p:nvPicPr>
            <p:cNvPr id="673" name="Овал 33" descr=""/>
            <p:cNvPicPr/>
            <p:nvPr/>
          </p:nvPicPr>
          <p:blipFill>
            <a:blip r:embed="rId1"/>
            <a:stretch/>
          </p:blipFill>
          <p:spPr>
            <a:xfrm>
              <a:off x="1725480" y="603360"/>
              <a:ext cx="568656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2602080" y="987480"/>
              <a:ext cx="3939840" cy="16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Вопрос на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зовите наибольшу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з предложенных едини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змерения информац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Прямоугольник 34"/>
          <p:cNvGrpSpPr/>
          <p:nvPr/>
        </p:nvGrpSpPr>
        <p:grpSpPr>
          <a:xfrm>
            <a:off x="652320" y="3608280"/>
            <a:ext cx="2475000" cy="1036800"/>
            <a:chOff x="652320" y="3608280"/>
            <a:chExt cx="2475000" cy="1036800"/>
          </a:xfrm>
        </p:grpSpPr>
        <p:pic>
          <p:nvPicPr>
            <p:cNvPr id="676" name="Прямоугольник 34" descr=""/>
            <p:cNvPicPr/>
            <p:nvPr/>
          </p:nvPicPr>
          <p:blipFill>
            <a:blip r:embed="rId2"/>
            <a:stretch/>
          </p:blipFill>
          <p:spPr>
            <a:xfrm>
              <a:off x="652320" y="3608280"/>
              <a:ext cx="247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14240" y="3643200"/>
              <a:ext cx="2357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А) бай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Прямоугольник 35"/>
          <p:cNvGrpSpPr/>
          <p:nvPr/>
        </p:nvGrpSpPr>
        <p:grpSpPr>
          <a:xfrm>
            <a:off x="6010200" y="5108400"/>
            <a:ext cx="2475000" cy="1036800"/>
            <a:chOff x="6010200" y="5108400"/>
            <a:chExt cx="2475000" cy="1036800"/>
          </a:xfrm>
        </p:grpSpPr>
        <p:pic>
          <p:nvPicPr>
            <p:cNvPr id="679" name="Прямоугольник 35" descr=""/>
            <p:cNvPicPr/>
            <p:nvPr/>
          </p:nvPicPr>
          <p:blipFill>
            <a:blip r:embed="rId3"/>
            <a:stretch/>
          </p:blipFill>
          <p:spPr>
            <a:xfrm>
              <a:off x="6010200" y="5108400"/>
              <a:ext cx="247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6072120" y="5143680"/>
              <a:ext cx="2357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Г) мегабай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Прямоугольник 36"/>
          <p:cNvGrpSpPr/>
          <p:nvPr/>
        </p:nvGrpSpPr>
        <p:grpSpPr>
          <a:xfrm>
            <a:off x="652320" y="5108400"/>
            <a:ext cx="2475000" cy="1036800"/>
            <a:chOff x="652320" y="5108400"/>
            <a:chExt cx="2475000" cy="1036800"/>
          </a:xfrm>
        </p:grpSpPr>
        <p:pic>
          <p:nvPicPr>
            <p:cNvPr id="682" name="Прямоугольник 36" descr=""/>
            <p:cNvPicPr/>
            <p:nvPr/>
          </p:nvPicPr>
          <p:blipFill>
            <a:blip r:embed="rId4"/>
            <a:stretch/>
          </p:blipFill>
          <p:spPr>
            <a:xfrm>
              <a:off x="652320" y="5108400"/>
              <a:ext cx="247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14240" y="5143680"/>
              <a:ext cx="2357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) килобай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Прямоугольник 37"/>
          <p:cNvGrpSpPr/>
          <p:nvPr/>
        </p:nvGrpSpPr>
        <p:grpSpPr>
          <a:xfrm>
            <a:off x="6010200" y="3608280"/>
            <a:ext cx="2475000" cy="1036800"/>
            <a:chOff x="6010200" y="3608280"/>
            <a:chExt cx="2475000" cy="1036800"/>
          </a:xfrm>
        </p:grpSpPr>
        <p:pic>
          <p:nvPicPr>
            <p:cNvPr id="685" name="Прямоугольник 37" descr=""/>
            <p:cNvPicPr/>
            <p:nvPr/>
          </p:nvPicPr>
          <p:blipFill>
            <a:blip r:embed="rId5"/>
            <a:stretch/>
          </p:blipFill>
          <p:spPr>
            <a:xfrm>
              <a:off x="6010200" y="3608280"/>
              <a:ext cx="247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6072120" y="3643200"/>
              <a:ext cx="2357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Б) б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Прямая соединительная линия 39"/>
          <p:cNvSpPr/>
          <p:nvPr/>
        </p:nvSpPr>
        <p:spPr>
          <a:xfrm flipH="1">
            <a:off x="71388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41"/>
          <p:cNvSpPr/>
          <p:nvPr/>
        </p:nvSpPr>
        <p:spPr>
          <a:xfrm>
            <a:off x="735804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46"/>
          <p:cNvSpPr/>
          <p:nvPr/>
        </p:nvSpPr>
        <p:spPr>
          <a:xfrm flipH="1">
            <a:off x="7128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ая соединительная линия 48"/>
          <p:cNvSpPr/>
          <p:nvPr/>
        </p:nvSpPr>
        <p:spPr>
          <a:xfrm flipH="1">
            <a:off x="842976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51"/>
          <p:cNvSpPr/>
          <p:nvPr/>
        </p:nvSpPr>
        <p:spPr>
          <a:xfrm>
            <a:off x="3071880" y="6072120"/>
            <a:ext cx="3071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53"/>
          <p:cNvSpPr/>
          <p:nvPr/>
        </p:nvSpPr>
        <p:spPr>
          <a:xfrm flipH="1">
            <a:off x="2071440" y="2655720"/>
            <a:ext cx="53028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55"/>
          <p:cNvSpPr/>
          <p:nvPr/>
        </p:nvSpPr>
        <p:spPr>
          <a:xfrm>
            <a:off x="6541920" y="2655720"/>
            <a:ext cx="60192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Управляющая кнопка: домой 45"/>
          <p:cNvGrpSpPr/>
          <p:nvPr/>
        </p:nvGrpSpPr>
        <p:grpSpPr>
          <a:xfrm>
            <a:off x="7370640" y="6181560"/>
            <a:ext cx="901800" cy="749520"/>
            <a:chOff x="7370640" y="6181560"/>
            <a:chExt cx="901800" cy="749520"/>
          </a:xfrm>
        </p:grpSpPr>
        <p:pic>
          <p:nvPicPr>
            <p:cNvPr id="695" name="Управляющая кнопка: домой 45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370640" y="6181560"/>
              <a:ext cx="9018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429680" y="6215040"/>
              <a:ext cx="78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6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700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701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706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712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718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724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Овал 33"/>
          <p:cNvSpPr/>
          <p:nvPr/>
        </p:nvSpPr>
        <p:spPr>
          <a:xfrm>
            <a:off x="1785960" y="642960"/>
            <a:ext cx="5572080" cy="23572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прос на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ложите в порядке возрастания единицы измерения 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34"/>
          <p:cNvSpPr/>
          <p:nvPr/>
        </p:nvSpPr>
        <p:spPr>
          <a:xfrm>
            <a:off x="714240" y="3643200"/>
            <a:ext cx="235764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)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35"/>
          <p:cNvSpPr/>
          <p:nvPr/>
        </p:nvSpPr>
        <p:spPr>
          <a:xfrm>
            <a:off x="6072120" y="5143680"/>
            <a:ext cx="235764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) мега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36"/>
          <p:cNvSpPr/>
          <p:nvPr/>
        </p:nvSpPr>
        <p:spPr>
          <a:xfrm>
            <a:off x="714240" y="5143680"/>
            <a:ext cx="235764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) кило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оугольник 37"/>
          <p:cNvSpPr/>
          <p:nvPr/>
        </p:nvSpPr>
        <p:spPr>
          <a:xfrm>
            <a:off x="6072120" y="3643200"/>
            <a:ext cx="235764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) 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ая соединительная линия 39"/>
          <p:cNvSpPr/>
          <p:nvPr/>
        </p:nvSpPr>
        <p:spPr>
          <a:xfrm flipH="1">
            <a:off x="71388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ая соединительная линия 41"/>
          <p:cNvSpPr/>
          <p:nvPr/>
        </p:nvSpPr>
        <p:spPr>
          <a:xfrm>
            <a:off x="735804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ая соединительная линия 46"/>
          <p:cNvSpPr/>
          <p:nvPr/>
        </p:nvSpPr>
        <p:spPr>
          <a:xfrm flipH="1">
            <a:off x="7128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ая соединительная линия 48"/>
          <p:cNvSpPr/>
          <p:nvPr/>
        </p:nvSpPr>
        <p:spPr>
          <a:xfrm flipH="1">
            <a:off x="842976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ая соединительная линия 51"/>
          <p:cNvSpPr/>
          <p:nvPr/>
        </p:nvSpPr>
        <p:spPr>
          <a:xfrm>
            <a:off x="3071880" y="6072120"/>
            <a:ext cx="3071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ая соединительная линия 53"/>
          <p:cNvSpPr/>
          <p:nvPr/>
        </p:nvSpPr>
        <p:spPr>
          <a:xfrm flipH="1">
            <a:off x="2071440" y="2655720"/>
            <a:ext cx="53028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ая соединительная линия 55"/>
          <p:cNvSpPr/>
          <p:nvPr/>
        </p:nvSpPr>
        <p:spPr>
          <a:xfrm>
            <a:off x="6541920" y="2655720"/>
            <a:ext cx="60192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Управляющая кнопка: домой 45">
            <a:hlinkClick r:id="rId1" action="ppaction://hlinksldjump"/>
          </p:cNvPr>
          <p:cNvSpPr/>
          <p:nvPr/>
        </p:nvSpPr>
        <p:spPr>
          <a:xfrm>
            <a:off x="7500960" y="6215040"/>
            <a:ext cx="785880" cy="642960"/>
          </a:xfrm>
          <a:custGeom>
            <a:avLst/>
            <a:gdLst>
              <a:gd name="textAreaLeft" fmla="*/ 41400 w 785880"/>
              <a:gd name="textAreaRight" fmla="*/ 744480 w 7858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99" h="21600">
                <a:moveTo>
                  <a:pt x="0" y="0"/>
                </a:moveTo>
                <a:lnTo>
                  <a:pt x="26399" y="0"/>
                </a:lnTo>
                <a:lnTo>
                  <a:pt x="26399" y="21600"/>
                </a:lnTo>
                <a:lnTo>
                  <a:pt x="0" y="21600"/>
                </a:lnTo>
                <a:close/>
              </a:path>
              <a:path fill="lightenLess" w="26399" h="21600">
                <a:moveTo>
                  <a:pt x="0" y="0"/>
                </a:moveTo>
                <a:lnTo>
                  <a:pt x="26399" y="0"/>
                </a:lnTo>
                <a:lnTo>
                  <a:pt x="24999" y="1400"/>
                </a:lnTo>
                <a:lnTo>
                  <a:pt x="1400" y="1400"/>
                </a:lnTo>
                <a:close/>
              </a:path>
              <a:path fill="darken" w="26399" h="21600">
                <a:moveTo>
                  <a:pt x="26399" y="0"/>
                </a:moveTo>
                <a:lnTo>
                  <a:pt x="26399" y="21600"/>
                </a:lnTo>
                <a:lnTo>
                  <a:pt x="24999" y="20200"/>
                </a:lnTo>
                <a:lnTo>
                  <a:pt x="24999" y="1400"/>
                </a:lnTo>
                <a:close/>
              </a:path>
              <a:path fill="darkenLess" w="26399" h="21600">
                <a:moveTo>
                  <a:pt x="26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9" y="20200"/>
                </a:lnTo>
                <a:close/>
              </a:path>
              <a:path fill="lighten" w="26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9" h="21600">
                <a:moveTo>
                  <a:pt x="13199" y="3837"/>
                </a:moveTo>
                <a:lnTo>
                  <a:pt x="15776" y="6448"/>
                </a:lnTo>
                <a:lnTo>
                  <a:pt x="15776" y="4707"/>
                </a:lnTo>
                <a:lnTo>
                  <a:pt x="17551" y="4707"/>
                </a:lnTo>
                <a:lnTo>
                  <a:pt x="17551" y="8224"/>
                </a:lnTo>
                <a:lnTo>
                  <a:pt x="20162" y="10800"/>
                </a:lnTo>
                <a:lnTo>
                  <a:pt x="18509" y="10800"/>
                </a:lnTo>
                <a:lnTo>
                  <a:pt x="18509" y="17989"/>
                </a:lnTo>
                <a:lnTo>
                  <a:pt x="7890" y="17989"/>
                </a:lnTo>
                <a:lnTo>
                  <a:pt x="7890" y="10800"/>
                </a:lnTo>
                <a:lnTo>
                  <a:pt x="6236" y="10800"/>
                </a:lnTo>
                <a:close/>
              </a:path>
              <a:path fill="darkenLess" w="26399" h="21600">
                <a:moveTo>
                  <a:pt x="15776" y="6448"/>
                </a:moveTo>
                <a:lnTo>
                  <a:pt x="15776" y="4707"/>
                </a:lnTo>
                <a:lnTo>
                  <a:pt x="17551" y="4707"/>
                </a:lnTo>
                <a:lnTo>
                  <a:pt x="17551" y="8224"/>
                </a:lnTo>
                <a:close/>
              </a:path>
              <a:path fill="darkenLess" w="26399" h="21600">
                <a:moveTo>
                  <a:pt x="12277" y="14299"/>
                </a:moveTo>
                <a:lnTo>
                  <a:pt x="14122" y="14299"/>
                </a:lnTo>
                <a:lnTo>
                  <a:pt x="14122" y="17989"/>
                </a:lnTo>
                <a:lnTo>
                  <a:pt x="18509" y="17989"/>
                </a:lnTo>
                <a:lnTo>
                  <a:pt x="18509" y="10800"/>
                </a:lnTo>
                <a:lnTo>
                  <a:pt x="7890" y="10800"/>
                </a:lnTo>
                <a:lnTo>
                  <a:pt x="7890" y="17989"/>
                </a:lnTo>
                <a:lnTo>
                  <a:pt x="12277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37835E-006 L -0.65521 0.00624 E">
                                      <p:cBhvr>
                                        <p:cTn id="28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37835E-006 L 0.15921 0.00624 E">
                                      <p:cBhvr>
                                        <p:cTn id="32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3728E-006 L 0.37969 -0.21231 E">
                                      <p:cBhvr>
                                        <p:cTn id="36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3728E-006 L 0.04566 -0.21231 E">
                                      <p:cBhvr>
                                        <p:cTn id="40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ить знания о представлении информации в памяти компьют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навык перевода из одной единицы измерения в другу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нахождение информационного объема сообще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умение строить логические схемы и связ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6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77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82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88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94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100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745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746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751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757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763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769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4" name="Овал 33"/>
          <p:cNvSpPr/>
          <p:nvPr/>
        </p:nvSpPr>
        <p:spPr>
          <a:xfrm>
            <a:off x="1785960" y="642960"/>
            <a:ext cx="5572080" cy="23572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прос на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читать информационный объем со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оздравляем школу с 70-летним юбилее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34"/>
          <p:cNvSpPr/>
          <p:nvPr/>
        </p:nvSpPr>
        <p:spPr>
          <a:xfrm>
            <a:off x="714240" y="3643200"/>
            <a:ext cx="235764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35"/>
          <p:cNvSpPr/>
          <p:nvPr/>
        </p:nvSpPr>
        <p:spPr>
          <a:xfrm>
            <a:off x="6072120" y="5143680"/>
            <a:ext cx="235764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4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оугольник 36"/>
          <p:cNvSpPr/>
          <p:nvPr/>
        </p:nvSpPr>
        <p:spPr>
          <a:xfrm>
            <a:off x="714240" y="5143680"/>
            <a:ext cx="235764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8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рямоугольник 37"/>
          <p:cNvSpPr/>
          <p:nvPr/>
        </p:nvSpPr>
        <p:spPr>
          <a:xfrm>
            <a:off x="6072120" y="3643200"/>
            <a:ext cx="235764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8 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ая соединительная линия 39"/>
          <p:cNvSpPr/>
          <p:nvPr/>
        </p:nvSpPr>
        <p:spPr>
          <a:xfrm flipH="1">
            <a:off x="71388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ая соединительная линия 41"/>
          <p:cNvSpPr/>
          <p:nvPr/>
        </p:nvSpPr>
        <p:spPr>
          <a:xfrm>
            <a:off x="735804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ая соединительная линия 46"/>
          <p:cNvSpPr/>
          <p:nvPr/>
        </p:nvSpPr>
        <p:spPr>
          <a:xfrm flipH="1">
            <a:off x="7128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ая соединительная линия 48"/>
          <p:cNvSpPr/>
          <p:nvPr/>
        </p:nvSpPr>
        <p:spPr>
          <a:xfrm flipH="1">
            <a:off x="842976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ая соединительная линия 51"/>
          <p:cNvSpPr/>
          <p:nvPr/>
        </p:nvSpPr>
        <p:spPr>
          <a:xfrm>
            <a:off x="3071880" y="6072120"/>
            <a:ext cx="3071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ая соединительная линия 53"/>
          <p:cNvSpPr/>
          <p:nvPr/>
        </p:nvSpPr>
        <p:spPr>
          <a:xfrm flipH="1">
            <a:off x="2071440" y="2655720"/>
            <a:ext cx="53028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ая соединительная линия 55"/>
          <p:cNvSpPr/>
          <p:nvPr/>
        </p:nvSpPr>
        <p:spPr>
          <a:xfrm>
            <a:off x="6541920" y="2655720"/>
            <a:ext cx="60192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Управляющая кнопка: домой 45">
            <a:hlinkClick r:id="rId1" action="ppaction://hlinksldjump"/>
          </p:cNvPr>
          <p:cNvSpPr/>
          <p:nvPr/>
        </p:nvSpPr>
        <p:spPr>
          <a:xfrm>
            <a:off x="7429680" y="6215040"/>
            <a:ext cx="785520" cy="642960"/>
          </a:xfrm>
          <a:custGeom>
            <a:avLst/>
            <a:gdLst>
              <a:gd name="textAreaLeft" fmla="*/ 41400 w 785520"/>
              <a:gd name="textAreaRight" fmla="*/ 744120 w 7855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87" h="21600">
                <a:moveTo>
                  <a:pt x="0" y="0"/>
                </a:moveTo>
                <a:lnTo>
                  <a:pt x="26387" y="0"/>
                </a:lnTo>
                <a:lnTo>
                  <a:pt x="26387" y="21600"/>
                </a:lnTo>
                <a:lnTo>
                  <a:pt x="0" y="21600"/>
                </a:lnTo>
                <a:close/>
              </a:path>
              <a:path fill="lightenLess" w="26387" h="21600">
                <a:moveTo>
                  <a:pt x="0" y="0"/>
                </a:moveTo>
                <a:lnTo>
                  <a:pt x="26387" y="0"/>
                </a:lnTo>
                <a:lnTo>
                  <a:pt x="24987" y="1400"/>
                </a:lnTo>
                <a:lnTo>
                  <a:pt x="1400" y="1400"/>
                </a:lnTo>
                <a:close/>
              </a:path>
              <a:path fill="darken" w="26387" h="21600">
                <a:moveTo>
                  <a:pt x="26387" y="0"/>
                </a:moveTo>
                <a:lnTo>
                  <a:pt x="26387" y="21600"/>
                </a:lnTo>
                <a:lnTo>
                  <a:pt x="24987" y="20200"/>
                </a:lnTo>
                <a:lnTo>
                  <a:pt x="24987" y="1400"/>
                </a:lnTo>
                <a:close/>
              </a:path>
              <a:path fill="darkenLess" w="26387" h="21600">
                <a:moveTo>
                  <a:pt x="26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7" y="20200"/>
                </a:lnTo>
                <a:close/>
              </a:path>
              <a:path fill="lighten" w="26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7" h="21600">
                <a:moveTo>
                  <a:pt x="13193" y="3837"/>
                </a:moveTo>
                <a:lnTo>
                  <a:pt x="15770" y="6448"/>
                </a:ln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lnTo>
                  <a:pt x="20156" y="10800"/>
                </a:lnTo>
                <a:lnTo>
                  <a:pt x="18503" y="10800"/>
                </a:lnTo>
                <a:lnTo>
                  <a:pt x="18503" y="17989"/>
                </a:lnTo>
                <a:lnTo>
                  <a:pt x="7884" y="17989"/>
                </a:lnTo>
                <a:lnTo>
                  <a:pt x="7884" y="10800"/>
                </a:lnTo>
                <a:lnTo>
                  <a:pt x="6230" y="10800"/>
                </a:lnTo>
                <a:close/>
              </a:path>
              <a:path fill="darkenLess" w="26387" h="21600">
                <a:moveTo>
                  <a:pt x="15770" y="6448"/>
                </a:move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close/>
              </a:path>
              <a:path fill="darkenLess" w="26387" h="21600">
                <a:moveTo>
                  <a:pt x="12271" y="14299"/>
                </a:moveTo>
                <a:lnTo>
                  <a:pt x="14116" y="14299"/>
                </a:lnTo>
                <a:lnTo>
                  <a:pt x="14116" y="17989"/>
                </a:lnTo>
                <a:lnTo>
                  <a:pt x="18503" y="17989"/>
                </a:lnTo>
                <a:lnTo>
                  <a:pt x="18503" y="10800"/>
                </a:lnTo>
                <a:lnTo>
                  <a:pt x="7884" y="10800"/>
                </a:lnTo>
                <a:lnTo>
                  <a:pt x="7884" y="17989"/>
                </a:lnTo>
                <a:lnTo>
                  <a:pt x="12271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9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790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791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796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802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808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814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9" name="Овал 33"/>
          <p:cNvSpPr/>
          <p:nvPr/>
        </p:nvSpPr>
        <p:spPr>
          <a:xfrm>
            <a:off x="1785960" y="642960"/>
            <a:ext cx="5572080" cy="23572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прос на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равни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34"/>
          <p:cNvSpPr/>
          <p:nvPr/>
        </p:nvSpPr>
        <p:spPr>
          <a:xfrm>
            <a:off x="714240" y="3643200"/>
            <a:ext cx="771552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8 бит и 1 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36"/>
          <p:cNvSpPr/>
          <p:nvPr/>
        </p:nvSpPr>
        <p:spPr>
          <a:xfrm>
            <a:off x="714240" y="5143680"/>
            <a:ext cx="771552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24 Кбайт и 1024 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Прямая соединительная линия 39"/>
          <p:cNvSpPr/>
          <p:nvPr/>
        </p:nvSpPr>
        <p:spPr>
          <a:xfrm flipH="1">
            <a:off x="71388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ая соединительная линия 41"/>
          <p:cNvSpPr/>
          <p:nvPr/>
        </p:nvSpPr>
        <p:spPr>
          <a:xfrm>
            <a:off x="735804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6"/>
          <p:cNvSpPr/>
          <p:nvPr/>
        </p:nvSpPr>
        <p:spPr>
          <a:xfrm flipH="1">
            <a:off x="7128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8"/>
          <p:cNvSpPr/>
          <p:nvPr/>
        </p:nvSpPr>
        <p:spPr>
          <a:xfrm flipH="1">
            <a:off x="842976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51"/>
          <p:cNvSpPr/>
          <p:nvPr/>
        </p:nvSpPr>
        <p:spPr>
          <a:xfrm>
            <a:off x="3071880" y="6072120"/>
            <a:ext cx="3071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3"/>
          <p:cNvSpPr/>
          <p:nvPr/>
        </p:nvSpPr>
        <p:spPr>
          <a:xfrm flipH="1">
            <a:off x="2071440" y="2655720"/>
            <a:ext cx="53028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5"/>
          <p:cNvSpPr/>
          <p:nvPr/>
        </p:nvSpPr>
        <p:spPr>
          <a:xfrm>
            <a:off x="6541920" y="2655720"/>
            <a:ext cx="60192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Управляющая кнопка: домой 45">
            <a:hlinkClick r:id="rId1" action="ppaction://hlinksldjump"/>
          </p:cNvPr>
          <p:cNvSpPr/>
          <p:nvPr/>
        </p:nvSpPr>
        <p:spPr>
          <a:xfrm>
            <a:off x="7429680" y="6215040"/>
            <a:ext cx="785520" cy="642960"/>
          </a:xfrm>
          <a:custGeom>
            <a:avLst/>
            <a:gdLst>
              <a:gd name="textAreaLeft" fmla="*/ 41400 w 785520"/>
              <a:gd name="textAreaRight" fmla="*/ 744120 w 7855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87" h="21600">
                <a:moveTo>
                  <a:pt x="0" y="0"/>
                </a:moveTo>
                <a:lnTo>
                  <a:pt x="26387" y="0"/>
                </a:lnTo>
                <a:lnTo>
                  <a:pt x="26387" y="21600"/>
                </a:lnTo>
                <a:lnTo>
                  <a:pt x="0" y="21600"/>
                </a:lnTo>
                <a:close/>
              </a:path>
              <a:path fill="lightenLess" w="26387" h="21600">
                <a:moveTo>
                  <a:pt x="0" y="0"/>
                </a:moveTo>
                <a:lnTo>
                  <a:pt x="26387" y="0"/>
                </a:lnTo>
                <a:lnTo>
                  <a:pt x="24987" y="1400"/>
                </a:lnTo>
                <a:lnTo>
                  <a:pt x="1400" y="1400"/>
                </a:lnTo>
                <a:close/>
              </a:path>
              <a:path fill="darken" w="26387" h="21600">
                <a:moveTo>
                  <a:pt x="26387" y="0"/>
                </a:moveTo>
                <a:lnTo>
                  <a:pt x="26387" y="21600"/>
                </a:lnTo>
                <a:lnTo>
                  <a:pt x="24987" y="20200"/>
                </a:lnTo>
                <a:lnTo>
                  <a:pt x="24987" y="1400"/>
                </a:lnTo>
                <a:close/>
              </a:path>
              <a:path fill="darkenLess" w="26387" h="21600">
                <a:moveTo>
                  <a:pt x="26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7" y="20200"/>
                </a:lnTo>
                <a:close/>
              </a:path>
              <a:path fill="lighten" w="26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7" h="21600">
                <a:moveTo>
                  <a:pt x="13193" y="3837"/>
                </a:moveTo>
                <a:lnTo>
                  <a:pt x="15770" y="6448"/>
                </a:ln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lnTo>
                  <a:pt x="20156" y="10800"/>
                </a:lnTo>
                <a:lnTo>
                  <a:pt x="18503" y="10800"/>
                </a:lnTo>
                <a:lnTo>
                  <a:pt x="18503" y="17989"/>
                </a:lnTo>
                <a:lnTo>
                  <a:pt x="7884" y="17989"/>
                </a:lnTo>
                <a:lnTo>
                  <a:pt x="7884" y="10800"/>
                </a:lnTo>
                <a:lnTo>
                  <a:pt x="6230" y="10800"/>
                </a:lnTo>
                <a:close/>
              </a:path>
              <a:path fill="darkenLess" w="26387" h="21600">
                <a:moveTo>
                  <a:pt x="15770" y="6448"/>
                </a:move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close/>
              </a:path>
              <a:path fill="darkenLess" w="26387" h="21600">
                <a:moveTo>
                  <a:pt x="12271" y="14299"/>
                </a:moveTo>
                <a:lnTo>
                  <a:pt x="14116" y="14299"/>
                </a:lnTo>
                <a:lnTo>
                  <a:pt x="14116" y="17989"/>
                </a:lnTo>
                <a:lnTo>
                  <a:pt x="18503" y="17989"/>
                </a:lnTo>
                <a:lnTo>
                  <a:pt x="18503" y="10800"/>
                </a:lnTo>
                <a:lnTo>
                  <a:pt x="7884" y="10800"/>
                </a:lnTo>
                <a:lnTo>
                  <a:pt x="7884" y="17989"/>
                </a:lnTo>
                <a:lnTo>
                  <a:pt x="12271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Прямоугольник 44" descr=""/>
          <p:cNvPicPr/>
          <p:nvPr/>
        </p:nvPicPr>
        <p:blipFill>
          <a:blip r:embed="rId2"/>
          <a:stretch/>
        </p:blipFill>
        <p:spPr>
          <a:xfrm>
            <a:off x="3816360" y="3468600"/>
            <a:ext cx="1243080" cy="1103400"/>
          </a:xfrm>
          <a:prstGeom prst="rect">
            <a:avLst/>
          </a:prstGeom>
          <a:ln w="0">
            <a:noFill/>
          </a:ln>
        </p:spPr>
      </p:pic>
      <p:pic>
        <p:nvPicPr>
          <p:cNvPr id="831" name="Прямоугольник 47" descr=""/>
          <p:cNvPicPr/>
          <p:nvPr/>
        </p:nvPicPr>
        <p:blipFill>
          <a:blip r:embed="rId3"/>
          <a:stretch/>
        </p:blipFill>
        <p:spPr>
          <a:xfrm>
            <a:off x="4170240" y="4968720"/>
            <a:ext cx="1243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835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836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841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847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853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859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4" name="Овал 33"/>
          <p:cNvSpPr/>
          <p:nvPr/>
        </p:nvSpPr>
        <p:spPr>
          <a:xfrm>
            <a:off x="1785960" y="642960"/>
            <a:ext cx="5572080" cy="23572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прос на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ановите соответ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34"/>
          <p:cNvSpPr/>
          <p:nvPr/>
        </p:nvSpPr>
        <p:spPr>
          <a:xfrm>
            <a:off x="714240" y="3643200"/>
            <a:ext cx="235764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35"/>
          <p:cNvSpPr/>
          <p:nvPr/>
        </p:nvSpPr>
        <p:spPr>
          <a:xfrm>
            <a:off x="6072120" y="5143680"/>
            <a:ext cx="235764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 б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36"/>
          <p:cNvSpPr/>
          <p:nvPr/>
        </p:nvSpPr>
        <p:spPr>
          <a:xfrm>
            <a:off x="714240" y="5143680"/>
            <a:ext cx="235764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 Г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37"/>
          <p:cNvSpPr/>
          <p:nvPr/>
        </p:nvSpPr>
        <p:spPr>
          <a:xfrm>
            <a:off x="6072120" y="3643200"/>
            <a:ext cx="235764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24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ая соединительная линия 39"/>
          <p:cNvSpPr/>
          <p:nvPr/>
        </p:nvSpPr>
        <p:spPr>
          <a:xfrm flipH="1">
            <a:off x="71388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ая соединительная линия 41"/>
          <p:cNvSpPr/>
          <p:nvPr/>
        </p:nvSpPr>
        <p:spPr>
          <a:xfrm>
            <a:off x="735804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ая соединительная линия 46"/>
          <p:cNvSpPr/>
          <p:nvPr/>
        </p:nvSpPr>
        <p:spPr>
          <a:xfrm flipH="1">
            <a:off x="7128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ая соединительная линия 48"/>
          <p:cNvSpPr/>
          <p:nvPr/>
        </p:nvSpPr>
        <p:spPr>
          <a:xfrm flipH="1">
            <a:off x="842976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ая соединительная линия 51"/>
          <p:cNvSpPr/>
          <p:nvPr/>
        </p:nvSpPr>
        <p:spPr>
          <a:xfrm>
            <a:off x="3071880" y="6072120"/>
            <a:ext cx="3071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ая соединительная линия 53"/>
          <p:cNvSpPr/>
          <p:nvPr/>
        </p:nvSpPr>
        <p:spPr>
          <a:xfrm flipH="1">
            <a:off x="2071440" y="2655720"/>
            <a:ext cx="53028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ая соединительная линия 55"/>
          <p:cNvSpPr/>
          <p:nvPr/>
        </p:nvSpPr>
        <p:spPr>
          <a:xfrm>
            <a:off x="6541920" y="2655720"/>
            <a:ext cx="60192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Управляющая кнопка: домой 45">
            <a:hlinkClick r:id="rId1" action="ppaction://hlinksldjump"/>
          </p:cNvPr>
          <p:cNvSpPr/>
          <p:nvPr/>
        </p:nvSpPr>
        <p:spPr>
          <a:xfrm>
            <a:off x="7429680" y="6215040"/>
            <a:ext cx="785520" cy="642960"/>
          </a:xfrm>
          <a:custGeom>
            <a:avLst/>
            <a:gdLst>
              <a:gd name="textAreaLeft" fmla="*/ 41400 w 785520"/>
              <a:gd name="textAreaRight" fmla="*/ 744120 w 7855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87" h="21600">
                <a:moveTo>
                  <a:pt x="0" y="0"/>
                </a:moveTo>
                <a:lnTo>
                  <a:pt x="26387" y="0"/>
                </a:lnTo>
                <a:lnTo>
                  <a:pt x="26387" y="21600"/>
                </a:lnTo>
                <a:lnTo>
                  <a:pt x="0" y="21600"/>
                </a:lnTo>
                <a:close/>
              </a:path>
              <a:path fill="lightenLess" w="26387" h="21600">
                <a:moveTo>
                  <a:pt x="0" y="0"/>
                </a:moveTo>
                <a:lnTo>
                  <a:pt x="26387" y="0"/>
                </a:lnTo>
                <a:lnTo>
                  <a:pt x="24987" y="1400"/>
                </a:lnTo>
                <a:lnTo>
                  <a:pt x="1400" y="1400"/>
                </a:lnTo>
                <a:close/>
              </a:path>
              <a:path fill="darken" w="26387" h="21600">
                <a:moveTo>
                  <a:pt x="26387" y="0"/>
                </a:moveTo>
                <a:lnTo>
                  <a:pt x="26387" y="21600"/>
                </a:lnTo>
                <a:lnTo>
                  <a:pt x="24987" y="20200"/>
                </a:lnTo>
                <a:lnTo>
                  <a:pt x="24987" y="1400"/>
                </a:lnTo>
                <a:close/>
              </a:path>
              <a:path fill="darkenLess" w="26387" h="21600">
                <a:moveTo>
                  <a:pt x="26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7" y="20200"/>
                </a:lnTo>
                <a:close/>
              </a:path>
              <a:path fill="lighten" w="26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7" h="21600">
                <a:moveTo>
                  <a:pt x="13193" y="3837"/>
                </a:moveTo>
                <a:lnTo>
                  <a:pt x="15770" y="6448"/>
                </a:ln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lnTo>
                  <a:pt x="20156" y="10800"/>
                </a:lnTo>
                <a:lnTo>
                  <a:pt x="18503" y="10800"/>
                </a:lnTo>
                <a:lnTo>
                  <a:pt x="18503" y="17989"/>
                </a:lnTo>
                <a:lnTo>
                  <a:pt x="7884" y="17989"/>
                </a:lnTo>
                <a:lnTo>
                  <a:pt x="7884" y="10800"/>
                </a:lnTo>
                <a:lnTo>
                  <a:pt x="6230" y="10800"/>
                </a:lnTo>
                <a:close/>
              </a:path>
              <a:path fill="darkenLess" w="26387" h="21600">
                <a:moveTo>
                  <a:pt x="15770" y="6448"/>
                </a:move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close/>
              </a:path>
              <a:path fill="darkenLess" w="26387" h="21600">
                <a:moveTo>
                  <a:pt x="12271" y="14299"/>
                </a:moveTo>
                <a:lnTo>
                  <a:pt x="14116" y="14299"/>
                </a:lnTo>
                <a:lnTo>
                  <a:pt x="14116" y="17989"/>
                </a:lnTo>
                <a:lnTo>
                  <a:pt x="18503" y="17989"/>
                </a:lnTo>
                <a:lnTo>
                  <a:pt x="18503" y="10800"/>
                </a:lnTo>
                <a:lnTo>
                  <a:pt x="7884" y="10800"/>
                </a:lnTo>
                <a:lnTo>
                  <a:pt x="7884" y="17989"/>
                </a:lnTo>
                <a:lnTo>
                  <a:pt x="12271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7" name="Прямая со стрелкой 49"/>
          <p:cNvCxnSpPr/>
          <p:nvPr/>
        </p:nvCxnSpPr>
        <p:spPr>
          <a:xfrm>
            <a:off x="3143160" y="4142880"/>
            <a:ext cx="285840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8" name="Прямая со стрелкой 52"/>
          <p:cNvCxnSpPr>
            <a:stCxn id="867" idx="3"/>
          </p:cNvCxnSpPr>
          <p:nvPr/>
        </p:nvCxnSpPr>
        <p:spPr>
          <a:xfrm flipV="1">
            <a:off x="3071880" y="4142520"/>
            <a:ext cx="2929680" cy="146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882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883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888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894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900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906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Овал 33"/>
          <p:cNvSpPr/>
          <p:nvPr/>
        </p:nvSpPr>
        <p:spPr>
          <a:xfrm>
            <a:off x="1785960" y="642960"/>
            <a:ext cx="5572080" cy="23572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прос на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ановите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34"/>
          <p:cNvSpPr/>
          <p:nvPr/>
        </p:nvSpPr>
        <p:spPr>
          <a:xfrm>
            <a:off x="714240" y="3643200"/>
            <a:ext cx="235764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35"/>
          <p:cNvSpPr/>
          <p:nvPr/>
        </p:nvSpPr>
        <p:spPr>
          <a:xfrm>
            <a:off x="6072120" y="5143680"/>
            <a:ext cx="235764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24 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36"/>
          <p:cNvSpPr/>
          <p:nvPr/>
        </p:nvSpPr>
        <p:spPr>
          <a:xfrm>
            <a:off x="714240" y="5143680"/>
            <a:ext cx="2357640" cy="9284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37"/>
          <p:cNvSpPr/>
          <p:nvPr/>
        </p:nvSpPr>
        <p:spPr>
          <a:xfrm>
            <a:off x="6072120" y="3643200"/>
            <a:ext cx="2357640" cy="9288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24 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ая соединительная линия 39"/>
          <p:cNvSpPr/>
          <p:nvPr/>
        </p:nvSpPr>
        <p:spPr>
          <a:xfrm flipH="1">
            <a:off x="71388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ая соединительная линия 41"/>
          <p:cNvSpPr/>
          <p:nvPr/>
        </p:nvSpPr>
        <p:spPr>
          <a:xfrm>
            <a:off x="735804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Прямая соединительная линия 46"/>
          <p:cNvSpPr/>
          <p:nvPr/>
        </p:nvSpPr>
        <p:spPr>
          <a:xfrm flipH="1">
            <a:off x="7128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ая соединительная линия 48"/>
          <p:cNvSpPr/>
          <p:nvPr/>
        </p:nvSpPr>
        <p:spPr>
          <a:xfrm flipH="1">
            <a:off x="842976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Прямая соединительная линия 51"/>
          <p:cNvSpPr/>
          <p:nvPr/>
        </p:nvSpPr>
        <p:spPr>
          <a:xfrm>
            <a:off x="3071880" y="6072120"/>
            <a:ext cx="3071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ая соединительная линия 53"/>
          <p:cNvSpPr/>
          <p:nvPr/>
        </p:nvSpPr>
        <p:spPr>
          <a:xfrm flipH="1">
            <a:off x="2071440" y="2655720"/>
            <a:ext cx="53028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ая соединительная линия 55"/>
          <p:cNvSpPr/>
          <p:nvPr/>
        </p:nvSpPr>
        <p:spPr>
          <a:xfrm>
            <a:off x="6541920" y="2655720"/>
            <a:ext cx="60192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Управляющая кнопка: домой 45">
            <a:hlinkClick r:id="rId1" action="ppaction://hlinksldjump"/>
          </p:cNvPr>
          <p:cNvSpPr/>
          <p:nvPr/>
        </p:nvSpPr>
        <p:spPr>
          <a:xfrm>
            <a:off x="7429680" y="6215040"/>
            <a:ext cx="785520" cy="642960"/>
          </a:xfrm>
          <a:custGeom>
            <a:avLst/>
            <a:gdLst>
              <a:gd name="textAreaLeft" fmla="*/ 41400 w 785520"/>
              <a:gd name="textAreaRight" fmla="*/ 744120 w 7855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87" h="21600">
                <a:moveTo>
                  <a:pt x="0" y="0"/>
                </a:moveTo>
                <a:lnTo>
                  <a:pt x="26387" y="0"/>
                </a:lnTo>
                <a:lnTo>
                  <a:pt x="26387" y="21600"/>
                </a:lnTo>
                <a:lnTo>
                  <a:pt x="0" y="21600"/>
                </a:lnTo>
                <a:close/>
              </a:path>
              <a:path fill="lightenLess" w="26387" h="21600">
                <a:moveTo>
                  <a:pt x="0" y="0"/>
                </a:moveTo>
                <a:lnTo>
                  <a:pt x="26387" y="0"/>
                </a:lnTo>
                <a:lnTo>
                  <a:pt x="24987" y="1400"/>
                </a:lnTo>
                <a:lnTo>
                  <a:pt x="1400" y="1400"/>
                </a:lnTo>
                <a:close/>
              </a:path>
              <a:path fill="darken" w="26387" h="21600">
                <a:moveTo>
                  <a:pt x="26387" y="0"/>
                </a:moveTo>
                <a:lnTo>
                  <a:pt x="26387" y="21600"/>
                </a:lnTo>
                <a:lnTo>
                  <a:pt x="24987" y="20200"/>
                </a:lnTo>
                <a:lnTo>
                  <a:pt x="24987" y="1400"/>
                </a:lnTo>
                <a:close/>
              </a:path>
              <a:path fill="darkenLess" w="26387" h="21600">
                <a:moveTo>
                  <a:pt x="26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7" y="20200"/>
                </a:lnTo>
                <a:close/>
              </a:path>
              <a:path fill="lighten" w="26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7" h="21600">
                <a:moveTo>
                  <a:pt x="13193" y="3837"/>
                </a:moveTo>
                <a:lnTo>
                  <a:pt x="15770" y="6448"/>
                </a:ln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lnTo>
                  <a:pt x="20156" y="10800"/>
                </a:lnTo>
                <a:lnTo>
                  <a:pt x="18503" y="10800"/>
                </a:lnTo>
                <a:lnTo>
                  <a:pt x="18503" y="17989"/>
                </a:lnTo>
                <a:lnTo>
                  <a:pt x="7884" y="17989"/>
                </a:lnTo>
                <a:lnTo>
                  <a:pt x="7884" y="10800"/>
                </a:lnTo>
                <a:lnTo>
                  <a:pt x="6230" y="10800"/>
                </a:lnTo>
                <a:close/>
              </a:path>
              <a:path fill="darkenLess" w="26387" h="21600">
                <a:moveTo>
                  <a:pt x="15770" y="6448"/>
                </a:move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close/>
              </a:path>
              <a:path fill="darkenLess" w="26387" h="21600">
                <a:moveTo>
                  <a:pt x="12271" y="14299"/>
                </a:moveTo>
                <a:lnTo>
                  <a:pt x="14116" y="14299"/>
                </a:lnTo>
                <a:lnTo>
                  <a:pt x="14116" y="17989"/>
                </a:lnTo>
                <a:lnTo>
                  <a:pt x="18503" y="17989"/>
                </a:lnTo>
                <a:lnTo>
                  <a:pt x="18503" y="10800"/>
                </a:lnTo>
                <a:lnTo>
                  <a:pt x="7884" y="10800"/>
                </a:lnTo>
                <a:lnTo>
                  <a:pt x="7884" y="17989"/>
                </a:lnTo>
                <a:lnTo>
                  <a:pt x="12271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4" name="Прямая со стрелкой 49"/>
          <p:cNvCxnSpPr>
            <a:stCxn id="912" idx="3"/>
            <a:endCxn id="915" idx="1"/>
          </p:cNvCxnSpPr>
          <p:nvPr/>
        </p:nvCxnSpPr>
        <p:spPr>
          <a:xfrm>
            <a:off x="3071880" y="4107960"/>
            <a:ext cx="3000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5" name="Прямая со стрелкой 52"/>
          <p:cNvCxnSpPr>
            <a:stCxn id="914" idx="3"/>
          </p:cNvCxnSpPr>
          <p:nvPr/>
        </p:nvCxnSpPr>
        <p:spPr>
          <a:xfrm flipV="1">
            <a:off x="3071880" y="5571720"/>
            <a:ext cx="292968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929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930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935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941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947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953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Овал 33"/>
          <p:cNvSpPr/>
          <p:nvPr/>
        </p:nvSpPr>
        <p:spPr>
          <a:xfrm>
            <a:off x="1785960" y="642960"/>
            <a:ext cx="5572080" cy="23572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прос на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полните пропуск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Прямоугольник 34"/>
          <p:cNvSpPr/>
          <p:nvPr/>
        </p:nvSpPr>
        <p:spPr>
          <a:xfrm>
            <a:off x="428760" y="3643200"/>
            <a:ext cx="8286480" cy="15004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___ Гбайт = 1536 Мбайт = _______К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ая соединительная линия 39"/>
          <p:cNvSpPr/>
          <p:nvPr/>
        </p:nvSpPr>
        <p:spPr>
          <a:xfrm flipH="1">
            <a:off x="500040" y="1820880"/>
            <a:ext cx="1285920" cy="1751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Прямая соединительная линия 41"/>
          <p:cNvSpPr/>
          <p:nvPr/>
        </p:nvSpPr>
        <p:spPr>
          <a:xfrm>
            <a:off x="7358040" y="1822320"/>
            <a:ext cx="1357200" cy="182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ая соединительная линия 46"/>
          <p:cNvSpPr/>
          <p:nvPr/>
        </p:nvSpPr>
        <p:spPr>
          <a:xfrm flipH="1">
            <a:off x="7128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Прямая соединительная линия 48"/>
          <p:cNvSpPr/>
          <p:nvPr/>
        </p:nvSpPr>
        <p:spPr>
          <a:xfrm flipH="1">
            <a:off x="842976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ая соединительная линия 51"/>
          <p:cNvSpPr/>
          <p:nvPr/>
        </p:nvSpPr>
        <p:spPr>
          <a:xfrm>
            <a:off x="3071880" y="6072120"/>
            <a:ext cx="3071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ая соединительная линия 53"/>
          <p:cNvSpPr/>
          <p:nvPr/>
        </p:nvSpPr>
        <p:spPr>
          <a:xfrm flipH="1">
            <a:off x="2071440" y="2655720"/>
            <a:ext cx="53028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Прямая соединительная линия 55"/>
          <p:cNvSpPr/>
          <p:nvPr/>
        </p:nvSpPr>
        <p:spPr>
          <a:xfrm>
            <a:off x="6541920" y="2655720"/>
            <a:ext cx="60192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Управляющая кнопка: домой 45">
            <a:hlinkClick r:id="rId1" action="ppaction://hlinksldjump"/>
          </p:cNvPr>
          <p:cNvSpPr/>
          <p:nvPr/>
        </p:nvSpPr>
        <p:spPr>
          <a:xfrm>
            <a:off x="7429680" y="6215040"/>
            <a:ext cx="785520" cy="642960"/>
          </a:xfrm>
          <a:custGeom>
            <a:avLst/>
            <a:gdLst>
              <a:gd name="textAreaLeft" fmla="*/ 41400 w 785520"/>
              <a:gd name="textAreaRight" fmla="*/ 744120 w 7855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87" h="21600">
                <a:moveTo>
                  <a:pt x="0" y="0"/>
                </a:moveTo>
                <a:lnTo>
                  <a:pt x="26387" y="0"/>
                </a:lnTo>
                <a:lnTo>
                  <a:pt x="26387" y="21600"/>
                </a:lnTo>
                <a:lnTo>
                  <a:pt x="0" y="21600"/>
                </a:lnTo>
                <a:close/>
              </a:path>
              <a:path fill="lightenLess" w="26387" h="21600">
                <a:moveTo>
                  <a:pt x="0" y="0"/>
                </a:moveTo>
                <a:lnTo>
                  <a:pt x="26387" y="0"/>
                </a:lnTo>
                <a:lnTo>
                  <a:pt x="24987" y="1400"/>
                </a:lnTo>
                <a:lnTo>
                  <a:pt x="1400" y="1400"/>
                </a:lnTo>
                <a:close/>
              </a:path>
              <a:path fill="darken" w="26387" h="21600">
                <a:moveTo>
                  <a:pt x="26387" y="0"/>
                </a:moveTo>
                <a:lnTo>
                  <a:pt x="26387" y="21600"/>
                </a:lnTo>
                <a:lnTo>
                  <a:pt x="24987" y="20200"/>
                </a:lnTo>
                <a:lnTo>
                  <a:pt x="24987" y="1400"/>
                </a:lnTo>
                <a:close/>
              </a:path>
              <a:path fill="darkenLess" w="26387" h="21600">
                <a:moveTo>
                  <a:pt x="26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7" y="20200"/>
                </a:lnTo>
                <a:close/>
              </a:path>
              <a:path fill="lighten" w="26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7" h="21600">
                <a:moveTo>
                  <a:pt x="13193" y="3837"/>
                </a:moveTo>
                <a:lnTo>
                  <a:pt x="15770" y="6448"/>
                </a:ln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lnTo>
                  <a:pt x="20156" y="10800"/>
                </a:lnTo>
                <a:lnTo>
                  <a:pt x="18503" y="10800"/>
                </a:lnTo>
                <a:lnTo>
                  <a:pt x="18503" y="17989"/>
                </a:lnTo>
                <a:lnTo>
                  <a:pt x="7884" y="17989"/>
                </a:lnTo>
                <a:lnTo>
                  <a:pt x="7884" y="10800"/>
                </a:lnTo>
                <a:lnTo>
                  <a:pt x="6230" y="10800"/>
                </a:lnTo>
                <a:close/>
              </a:path>
              <a:path fill="darkenLess" w="26387" h="21600">
                <a:moveTo>
                  <a:pt x="15770" y="6448"/>
                </a:move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close/>
              </a:path>
              <a:path fill="darkenLess" w="26387" h="21600">
                <a:moveTo>
                  <a:pt x="12271" y="14299"/>
                </a:moveTo>
                <a:lnTo>
                  <a:pt x="14116" y="14299"/>
                </a:lnTo>
                <a:lnTo>
                  <a:pt x="14116" y="17989"/>
                </a:lnTo>
                <a:lnTo>
                  <a:pt x="18503" y="17989"/>
                </a:lnTo>
                <a:lnTo>
                  <a:pt x="18503" y="10800"/>
                </a:lnTo>
                <a:lnTo>
                  <a:pt x="7884" y="10800"/>
                </a:lnTo>
                <a:lnTo>
                  <a:pt x="7884" y="17989"/>
                </a:lnTo>
                <a:lnTo>
                  <a:pt x="12271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Прямоугольник 43" descr=""/>
          <p:cNvPicPr/>
          <p:nvPr/>
        </p:nvPicPr>
        <p:blipFill>
          <a:blip r:embed="rId2"/>
          <a:stretch/>
        </p:blipFill>
        <p:spPr>
          <a:xfrm>
            <a:off x="30240" y="3614760"/>
            <a:ext cx="1798560" cy="1103400"/>
          </a:xfrm>
          <a:prstGeom prst="rect">
            <a:avLst/>
          </a:prstGeom>
          <a:ln w="0">
            <a:noFill/>
          </a:ln>
        </p:spPr>
      </p:pic>
      <p:pic>
        <p:nvPicPr>
          <p:cNvPr id="969" name="Прямоугольник 44" descr=""/>
          <p:cNvPicPr/>
          <p:nvPr/>
        </p:nvPicPr>
        <p:blipFill>
          <a:blip r:embed="rId3"/>
          <a:stretch/>
        </p:blipFill>
        <p:spPr>
          <a:xfrm>
            <a:off x="5535720" y="4005360"/>
            <a:ext cx="18032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973" name="Group 5"/>
            <p:cNvGrpSpPr/>
            <p:nvPr/>
          </p:nvGrpSpPr>
          <p:grpSpPr>
            <a:xfrm>
              <a:off x="0" y="21600"/>
              <a:ext cx="9144000" cy="6827760"/>
              <a:chOff x="0" y="21600"/>
              <a:chExt cx="9144000" cy="6827760"/>
            </a:xfrm>
          </p:grpSpPr>
          <p:sp>
            <p:nvSpPr>
              <p:cNvPr id="974" name="Rectangle 6"/>
              <p:cNvSpPr/>
              <p:nvPr/>
            </p:nvSpPr>
            <p:spPr>
              <a:xfrm rot="5400000">
                <a:off x="4482000" y="-4460400"/>
                <a:ext cx="17964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7"/>
              <p:cNvSpPr/>
              <p:nvPr/>
            </p:nvSpPr>
            <p:spPr>
              <a:xfrm rot="5400000">
                <a:off x="4482360" y="21870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8"/>
              <p:cNvSpPr/>
              <p:nvPr/>
            </p:nvSpPr>
            <p:spPr>
              <a:xfrm>
                <a:off x="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9"/>
              <p:cNvSpPr/>
              <p:nvPr/>
            </p:nvSpPr>
            <p:spPr>
              <a:xfrm>
                <a:off x="8971200" y="21600"/>
                <a:ext cx="172440" cy="682776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10"/>
            <p:cNvGrpSpPr/>
            <p:nvPr/>
          </p:nvGrpSpPr>
          <p:grpSpPr>
            <a:xfrm>
              <a:off x="8281080" y="0"/>
              <a:ext cx="862560" cy="1613520"/>
              <a:chOff x="8281080" y="0"/>
              <a:chExt cx="862560" cy="1613520"/>
            </a:xfrm>
          </p:grpSpPr>
          <p:sp>
            <p:nvSpPr>
              <p:cNvPr id="979" name="Freeform 11"/>
              <p:cNvSpPr/>
              <p:nvPr/>
            </p:nvSpPr>
            <p:spPr>
              <a:xfrm>
                <a:off x="8681400" y="24696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2"/>
              <p:cNvSpPr/>
              <p:nvPr/>
            </p:nvSpPr>
            <p:spPr>
              <a:xfrm>
                <a:off x="8814600" y="1440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3"/>
              <p:cNvSpPr/>
              <p:nvPr/>
            </p:nvSpPr>
            <p:spPr>
              <a:xfrm>
                <a:off x="8814600" y="55224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Rectangle 14"/>
              <p:cNvSpPr/>
              <p:nvPr/>
            </p:nvSpPr>
            <p:spPr>
              <a:xfrm>
                <a:off x="8574480" y="8726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15"/>
              <p:cNvSpPr/>
              <p:nvPr/>
            </p:nvSpPr>
            <p:spPr>
              <a:xfrm>
                <a:off x="8281080" y="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6"/>
            <p:cNvGrpSpPr/>
            <p:nvPr/>
          </p:nvGrpSpPr>
          <p:grpSpPr>
            <a:xfrm>
              <a:off x="0" y="19080"/>
              <a:ext cx="862560" cy="1795320"/>
              <a:chOff x="0" y="19080"/>
              <a:chExt cx="862560" cy="1795320"/>
            </a:xfrm>
          </p:grpSpPr>
          <p:sp>
            <p:nvSpPr>
              <p:cNvPr id="985" name="Freeform 17"/>
              <p:cNvSpPr/>
              <p:nvPr/>
            </p:nvSpPr>
            <p:spPr>
              <a:xfrm flipH="1">
                <a:off x="115920" y="293760"/>
                <a:ext cx="346320" cy="6958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8"/>
              <p:cNvSpPr/>
              <p:nvPr/>
            </p:nvSpPr>
            <p:spPr>
              <a:xfrm flipH="1">
                <a:off x="0" y="34920"/>
                <a:ext cx="329040" cy="6796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9"/>
              <p:cNvSpPr/>
              <p:nvPr/>
            </p:nvSpPr>
            <p:spPr>
              <a:xfrm flipH="1">
                <a:off x="0" y="633600"/>
                <a:ext cx="329040" cy="1180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20"/>
              <p:cNvSpPr/>
              <p:nvPr/>
            </p:nvSpPr>
            <p:spPr>
              <a:xfrm flipH="1">
                <a:off x="461880" y="99000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1"/>
              <p:cNvSpPr/>
              <p:nvPr/>
            </p:nvSpPr>
            <p:spPr>
              <a:xfrm flipH="1">
                <a:off x="275040" y="19080"/>
                <a:ext cx="587160" cy="712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22"/>
            <p:cNvGrpSpPr/>
            <p:nvPr/>
          </p:nvGrpSpPr>
          <p:grpSpPr>
            <a:xfrm>
              <a:off x="8281080" y="5244120"/>
              <a:ext cx="862560" cy="1613520"/>
              <a:chOff x="8281080" y="5244120"/>
              <a:chExt cx="862560" cy="1613520"/>
            </a:xfrm>
          </p:grpSpPr>
          <p:sp>
            <p:nvSpPr>
              <p:cNvPr id="991" name="Freeform 23"/>
              <p:cNvSpPr/>
              <p:nvPr/>
            </p:nvSpPr>
            <p:spPr>
              <a:xfrm flipV="1">
                <a:off x="868140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4"/>
              <p:cNvSpPr/>
              <p:nvPr/>
            </p:nvSpPr>
            <p:spPr>
              <a:xfrm flipV="1">
                <a:off x="881460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5"/>
              <p:cNvSpPr/>
              <p:nvPr/>
            </p:nvSpPr>
            <p:spPr>
              <a:xfrm flipV="1">
                <a:off x="881460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Rectangle 26"/>
              <p:cNvSpPr/>
              <p:nvPr/>
            </p:nvSpPr>
            <p:spPr>
              <a:xfrm flipV="1">
                <a:off x="85744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"/>
              <p:cNvSpPr/>
              <p:nvPr/>
            </p:nvSpPr>
            <p:spPr>
              <a:xfrm flipV="1">
                <a:off x="82810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28"/>
            <p:cNvGrpSpPr/>
            <p:nvPr/>
          </p:nvGrpSpPr>
          <p:grpSpPr>
            <a:xfrm>
              <a:off x="0" y="5244120"/>
              <a:ext cx="862560" cy="1613520"/>
              <a:chOff x="0" y="5244120"/>
              <a:chExt cx="862560" cy="1613520"/>
            </a:xfrm>
          </p:grpSpPr>
          <p:sp>
            <p:nvSpPr>
              <p:cNvPr id="997" name="Freeform 29"/>
              <p:cNvSpPr/>
              <p:nvPr/>
            </p:nvSpPr>
            <p:spPr>
              <a:xfrm flipH="1" flipV="1">
                <a:off x="115560" y="5985000"/>
                <a:ext cx="346320" cy="625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0"/>
              <p:cNvSpPr/>
              <p:nvPr/>
            </p:nvSpPr>
            <p:spPr>
              <a:xfrm flipH="1" flipV="1">
                <a:off x="0" y="6231960"/>
                <a:ext cx="329040" cy="6109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1"/>
              <p:cNvSpPr/>
              <p:nvPr/>
            </p:nvSpPr>
            <p:spPr>
              <a:xfrm flipH="1" flipV="1">
                <a:off x="0" y="5244120"/>
                <a:ext cx="329040" cy="10612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32"/>
              <p:cNvSpPr/>
              <p:nvPr/>
            </p:nvSpPr>
            <p:spPr>
              <a:xfrm flipH="1" flipV="1">
                <a:off x="461880" y="576684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3"/>
              <p:cNvSpPr/>
              <p:nvPr/>
            </p:nvSpPr>
            <p:spPr>
              <a:xfrm flipH="1" flipV="1">
                <a:off x="274680" y="6217560"/>
                <a:ext cx="587160" cy="6397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2" name="Овал 33"/>
          <p:cNvSpPr/>
          <p:nvPr/>
        </p:nvSpPr>
        <p:spPr>
          <a:xfrm>
            <a:off x="1785960" y="642960"/>
            <a:ext cx="5572080" cy="23572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прос на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полните пропуск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Прямоугольник 34"/>
          <p:cNvSpPr/>
          <p:nvPr/>
        </p:nvSpPr>
        <p:spPr>
          <a:xfrm>
            <a:off x="714240" y="3643200"/>
            <a:ext cx="7715520" cy="15717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________ бит = 3584байт = ____ К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Прямая соединительная линия 39"/>
          <p:cNvSpPr/>
          <p:nvPr/>
        </p:nvSpPr>
        <p:spPr>
          <a:xfrm flipH="1">
            <a:off x="71388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ая соединительная линия 41"/>
          <p:cNvSpPr/>
          <p:nvPr/>
        </p:nvSpPr>
        <p:spPr>
          <a:xfrm>
            <a:off x="7358040" y="1820880"/>
            <a:ext cx="1071720" cy="18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Прямая соединительная линия 46"/>
          <p:cNvSpPr/>
          <p:nvPr/>
        </p:nvSpPr>
        <p:spPr>
          <a:xfrm flipH="1">
            <a:off x="7128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Прямая соединительная линия 48"/>
          <p:cNvSpPr/>
          <p:nvPr/>
        </p:nvSpPr>
        <p:spPr>
          <a:xfrm flipH="1">
            <a:off x="842976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Прямая соединительная линия 51"/>
          <p:cNvSpPr/>
          <p:nvPr/>
        </p:nvSpPr>
        <p:spPr>
          <a:xfrm>
            <a:off x="3071880" y="6072120"/>
            <a:ext cx="3071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Прямая соединительная линия 53"/>
          <p:cNvSpPr/>
          <p:nvPr/>
        </p:nvSpPr>
        <p:spPr>
          <a:xfrm flipH="1">
            <a:off x="2071440" y="2655720"/>
            <a:ext cx="53028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Прямая соединительная линия 55"/>
          <p:cNvSpPr/>
          <p:nvPr/>
        </p:nvSpPr>
        <p:spPr>
          <a:xfrm>
            <a:off x="6541920" y="2655720"/>
            <a:ext cx="601920" cy="98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Управляющая кнопка: домой 45">
            <a:hlinkClick r:id="rId1" action="ppaction://hlinksldjump"/>
          </p:cNvPr>
          <p:cNvSpPr/>
          <p:nvPr/>
        </p:nvSpPr>
        <p:spPr>
          <a:xfrm>
            <a:off x="7429680" y="6215040"/>
            <a:ext cx="785520" cy="642960"/>
          </a:xfrm>
          <a:custGeom>
            <a:avLst/>
            <a:gdLst>
              <a:gd name="textAreaLeft" fmla="*/ 41400 w 785520"/>
              <a:gd name="textAreaRight" fmla="*/ 744120 w 7855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87" h="21600">
                <a:moveTo>
                  <a:pt x="0" y="0"/>
                </a:moveTo>
                <a:lnTo>
                  <a:pt x="26387" y="0"/>
                </a:lnTo>
                <a:lnTo>
                  <a:pt x="26387" y="21600"/>
                </a:lnTo>
                <a:lnTo>
                  <a:pt x="0" y="21600"/>
                </a:lnTo>
                <a:close/>
              </a:path>
              <a:path fill="lightenLess" w="26387" h="21600">
                <a:moveTo>
                  <a:pt x="0" y="0"/>
                </a:moveTo>
                <a:lnTo>
                  <a:pt x="26387" y="0"/>
                </a:lnTo>
                <a:lnTo>
                  <a:pt x="24987" y="1400"/>
                </a:lnTo>
                <a:lnTo>
                  <a:pt x="1400" y="1400"/>
                </a:lnTo>
                <a:close/>
              </a:path>
              <a:path fill="darken" w="26387" h="21600">
                <a:moveTo>
                  <a:pt x="26387" y="0"/>
                </a:moveTo>
                <a:lnTo>
                  <a:pt x="26387" y="21600"/>
                </a:lnTo>
                <a:lnTo>
                  <a:pt x="24987" y="20200"/>
                </a:lnTo>
                <a:lnTo>
                  <a:pt x="24987" y="1400"/>
                </a:lnTo>
                <a:close/>
              </a:path>
              <a:path fill="darkenLess" w="26387" h="21600">
                <a:moveTo>
                  <a:pt x="26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7" y="20200"/>
                </a:lnTo>
                <a:close/>
              </a:path>
              <a:path fill="lighten" w="26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7" h="21600">
                <a:moveTo>
                  <a:pt x="13193" y="3837"/>
                </a:moveTo>
                <a:lnTo>
                  <a:pt x="15770" y="6448"/>
                </a:ln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lnTo>
                  <a:pt x="20156" y="10800"/>
                </a:lnTo>
                <a:lnTo>
                  <a:pt x="18503" y="10800"/>
                </a:lnTo>
                <a:lnTo>
                  <a:pt x="18503" y="17989"/>
                </a:lnTo>
                <a:lnTo>
                  <a:pt x="7884" y="17989"/>
                </a:lnTo>
                <a:lnTo>
                  <a:pt x="7884" y="10800"/>
                </a:lnTo>
                <a:lnTo>
                  <a:pt x="6230" y="10800"/>
                </a:lnTo>
                <a:close/>
              </a:path>
              <a:path fill="darkenLess" w="26387" h="21600">
                <a:moveTo>
                  <a:pt x="15770" y="6448"/>
                </a:moveTo>
                <a:lnTo>
                  <a:pt x="15770" y="4707"/>
                </a:lnTo>
                <a:lnTo>
                  <a:pt x="17545" y="4707"/>
                </a:lnTo>
                <a:lnTo>
                  <a:pt x="17545" y="8224"/>
                </a:lnTo>
                <a:close/>
              </a:path>
              <a:path fill="darkenLess" w="26387" h="21600">
                <a:moveTo>
                  <a:pt x="12271" y="14299"/>
                </a:moveTo>
                <a:lnTo>
                  <a:pt x="14116" y="14299"/>
                </a:lnTo>
                <a:lnTo>
                  <a:pt x="14116" y="17989"/>
                </a:lnTo>
                <a:lnTo>
                  <a:pt x="18503" y="17989"/>
                </a:lnTo>
                <a:lnTo>
                  <a:pt x="18503" y="10800"/>
                </a:lnTo>
                <a:lnTo>
                  <a:pt x="7884" y="10800"/>
                </a:lnTo>
                <a:lnTo>
                  <a:pt x="7884" y="17989"/>
                </a:lnTo>
                <a:lnTo>
                  <a:pt x="12271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Прямоугольник 43" descr=""/>
          <p:cNvPicPr/>
          <p:nvPr/>
        </p:nvPicPr>
        <p:blipFill>
          <a:blip r:embed="rId2"/>
          <a:stretch/>
        </p:blipFill>
        <p:spPr>
          <a:xfrm>
            <a:off x="384120" y="3681360"/>
            <a:ext cx="2760840" cy="1103400"/>
          </a:xfrm>
          <a:prstGeom prst="rect">
            <a:avLst/>
          </a:prstGeom>
          <a:ln w="0">
            <a:noFill/>
          </a:ln>
        </p:spPr>
      </p:pic>
      <p:pic>
        <p:nvPicPr>
          <p:cNvPr id="1013" name="Прямоугольник 44" descr=""/>
          <p:cNvPicPr/>
          <p:nvPr/>
        </p:nvPicPr>
        <p:blipFill>
          <a:blip r:embed="rId3"/>
          <a:stretch/>
        </p:blipFill>
        <p:spPr>
          <a:xfrm>
            <a:off x="5724360" y="3681360"/>
            <a:ext cx="1798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йдите информацию о других единицах измерения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очинить сказку о единицах измер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17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1018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1023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1029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1035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1041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 информ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p=1&amp;text=%D0%BA%D0%BB%D0%BE%D0%B4%20%D1%88%D0%B5%D0%BD%D0%BD%D0%BE%D0%BD%20%D1%84%D0%BE%D1%82%D0%BE&amp;pos=42&amp;uinfo=sw-1135-sh-773-fw-910-fh-567-pd-1&amp;rpt=simage&amp;img_url=http%3A%2F%2Fwww.allmystery.de%2Fi%2Ft515743_3c97cd_Shannon-Life-p38-x64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ages.yandex.ru/yandsearch?text=%D1%84%D0%BE%D1%82%D0%BE%20%D0%BB%D0%B8%D0%BD%D0%B5%D0%B9%D0%BA%D0%B8&amp;uinfo=sw-1135-sh-773-fw-910-fh-567-pd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p=1&amp;text=%D1%84%D0%BE%D1%82%D0%BE%20%D0%BB%D0%B8%D0%BD%D0%B5%D0%B9%D0%BA%D0%B8&amp;pos=34&amp;uinfo=sw-1135-sh-773-fw-910-fh-567-pd-1&amp;rpt=simage&amp;img_url=http%3A%2F%2Fimg0.liveinternet.ru%2Fimages%2Fattach%2Fc%2F5%2F84%2F810%2F84810200_1331894290_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yandex.ru/yandsearch?text=%D1%81%D0%BB%D0%BE%D0%BD&amp;pos=5&amp;uinfo=sw-1135-sh-773-fw-910-fh-567-pd-1&amp;rpt=simage&amp;img_url=http%3A%2F%2Flifeglobe.net%2Fmedia%2Fentry%2F347%2Fradionetplus_ru_jivnoct23_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ages.yandex.ru/yandsearch?text=%D0%B2%D0%B5%D1%81%D1%8B&amp;pos=8&amp;uinfo=sw-1135-sh-773-fw-910-fh-567-pd-1&amp;rpt=simage&amp;img_url=http%3A%2F%2Fwww.1kran.ru%2Fimages%2Fvrnc1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=%D0%B3%D0%B8%D1%80%D1%8F&amp;pos=3&amp;uinfo=sw-1135-sh-773-fw-910-fh-567-pd-1&amp;rpt=simage&amp;img_url=http%3A%2F%2Fwww.b-port.com%2Fmediafiles%2Fitems%2F2011%2F02%2F57369%2F8fce1db8de12064673ed0028ff4829ea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p=1&amp;text=%D1%87%D0%B0%D1%81%D1%8B&amp;pos=32&amp;uinfo=sw-1135-sh-773-fw-910-fh-567-pd-1&amp;rpt=simage&amp;img_url=http%3A%2F%2Fhcl.harvard.edu%2Fhfa%2Fimages%2Ffilms%2F2011aprjun%2Ffisher_phi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=%D0%BF%D0%B5%D1%81%D0%BE%D1%87%D0%BD%D1%8B%D0%B5%20%D1%87%D0%B0%D1%81%D1%8B&amp;pos=9&amp;uinfo=sw-1135-sh-773-fw-910-fh-567-pd-1&amp;rpt=simage&amp;img_url=http%3A%2F%2Fimg-fotki.yandex.ru%2Fget%2F5908%2Fcoto48.20%2F0_61414_c9de1a35_X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8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1049" name="Group 5"/>
            <p:cNvGrpSpPr/>
            <p:nvPr/>
          </p:nvGrpSpPr>
          <p:grpSpPr>
            <a:xfrm>
              <a:off x="0" y="25920"/>
              <a:ext cx="9144000" cy="6819120"/>
              <a:chOff x="0" y="25920"/>
              <a:chExt cx="9144000" cy="6819120"/>
            </a:xfrm>
          </p:grpSpPr>
          <p:sp>
            <p:nvSpPr>
              <p:cNvPr id="1050" name="Rectangle 6"/>
              <p:cNvSpPr/>
              <p:nvPr/>
            </p:nvSpPr>
            <p:spPr>
              <a:xfrm rot="5400000">
                <a:off x="4482360" y="-445644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7"/>
              <p:cNvSpPr/>
              <p:nvPr/>
            </p:nvSpPr>
            <p:spPr>
              <a:xfrm rot="5400000">
                <a:off x="4482360" y="218304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8"/>
              <p:cNvSpPr/>
              <p:nvPr/>
            </p:nvSpPr>
            <p:spPr>
              <a:xfrm>
                <a:off x="0" y="25920"/>
                <a:ext cx="172440" cy="681912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9"/>
              <p:cNvSpPr/>
              <p:nvPr/>
            </p:nvSpPr>
            <p:spPr>
              <a:xfrm>
                <a:off x="8971200" y="25920"/>
                <a:ext cx="172440" cy="681912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Group 10"/>
            <p:cNvGrpSpPr/>
            <p:nvPr/>
          </p:nvGrpSpPr>
          <p:grpSpPr>
            <a:xfrm>
              <a:off x="8281080" y="0"/>
              <a:ext cx="862560" cy="1611360"/>
              <a:chOff x="8281080" y="0"/>
              <a:chExt cx="862560" cy="1611360"/>
            </a:xfrm>
          </p:grpSpPr>
          <p:sp>
            <p:nvSpPr>
              <p:cNvPr id="1055" name="Freeform 11"/>
              <p:cNvSpPr/>
              <p:nvPr/>
            </p:nvSpPr>
            <p:spPr>
              <a:xfrm>
                <a:off x="8681400" y="24660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12"/>
              <p:cNvSpPr/>
              <p:nvPr/>
            </p:nvSpPr>
            <p:spPr>
              <a:xfrm>
                <a:off x="8814600" y="1440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13"/>
              <p:cNvSpPr/>
              <p:nvPr/>
            </p:nvSpPr>
            <p:spPr>
              <a:xfrm>
                <a:off x="8814600" y="55152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14"/>
              <p:cNvSpPr/>
              <p:nvPr/>
            </p:nvSpPr>
            <p:spPr>
              <a:xfrm>
                <a:off x="8574480" y="8712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5"/>
              <p:cNvSpPr/>
              <p:nvPr/>
            </p:nvSpPr>
            <p:spPr>
              <a:xfrm>
                <a:off x="8281080" y="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16"/>
            <p:cNvGrpSpPr/>
            <p:nvPr/>
          </p:nvGrpSpPr>
          <p:grpSpPr>
            <a:xfrm>
              <a:off x="0" y="23760"/>
              <a:ext cx="862560" cy="1793160"/>
              <a:chOff x="0" y="23760"/>
              <a:chExt cx="862560" cy="1793160"/>
            </a:xfrm>
          </p:grpSpPr>
          <p:sp>
            <p:nvSpPr>
              <p:cNvPr id="1061" name="Freeform 17"/>
              <p:cNvSpPr/>
              <p:nvPr/>
            </p:nvSpPr>
            <p:spPr>
              <a:xfrm flipH="1">
                <a:off x="115920" y="298080"/>
                <a:ext cx="346320" cy="6948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8"/>
              <p:cNvSpPr/>
              <p:nvPr/>
            </p:nvSpPr>
            <p:spPr>
              <a:xfrm flipH="1">
                <a:off x="0" y="39600"/>
                <a:ext cx="329040" cy="678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9"/>
              <p:cNvSpPr/>
              <p:nvPr/>
            </p:nvSpPr>
            <p:spPr>
              <a:xfrm flipH="1">
                <a:off x="0" y="637560"/>
                <a:ext cx="329040" cy="117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20"/>
              <p:cNvSpPr/>
              <p:nvPr/>
            </p:nvSpPr>
            <p:spPr>
              <a:xfrm flipH="1">
                <a:off x="461880" y="993240"/>
                <a:ext cx="106920" cy="24192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21"/>
              <p:cNvSpPr/>
              <p:nvPr/>
            </p:nvSpPr>
            <p:spPr>
              <a:xfrm flipH="1">
                <a:off x="275040" y="23760"/>
                <a:ext cx="587160" cy="711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6" name="Group 22"/>
            <p:cNvGrpSpPr/>
            <p:nvPr/>
          </p:nvGrpSpPr>
          <p:grpSpPr>
            <a:xfrm>
              <a:off x="8281080" y="5246280"/>
              <a:ext cx="862560" cy="1611360"/>
              <a:chOff x="8281080" y="5246280"/>
              <a:chExt cx="862560" cy="1611360"/>
            </a:xfrm>
          </p:grpSpPr>
          <p:sp>
            <p:nvSpPr>
              <p:cNvPr id="1067" name="Freeform 23"/>
              <p:cNvSpPr/>
              <p:nvPr/>
            </p:nvSpPr>
            <p:spPr>
              <a:xfrm flipV="1">
                <a:off x="8681400" y="598608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24"/>
              <p:cNvSpPr/>
              <p:nvPr/>
            </p:nvSpPr>
            <p:spPr>
              <a:xfrm flipV="1">
                <a:off x="8814600" y="623268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25"/>
              <p:cNvSpPr/>
              <p:nvPr/>
            </p:nvSpPr>
            <p:spPr>
              <a:xfrm flipV="1">
                <a:off x="8814600" y="524628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26"/>
              <p:cNvSpPr/>
              <p:nvPr/>
            </p:nvSpPr>
            <p:spPr>
              <a:xfrm flipV="1">
                <a:off x="8574480" y="57690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27"/>
              <p:cNvSpPr/>
              <p:nvPr/>
            </p:nvSpPr>
            <p:spPr>
              <a:xfrm flipV="1">
                <a:off x="8281080" y="621828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28"/>
            <p:cNvGrpSpPr/>
            <p:nvPr/>
          </p:nvGrpSpPr>
          <p:grpSpPr>
            <a:xfrm>
              <a:off x="0" y="5246280"/>
              <a:ext cx="862560" cy="1611360"/>
              <a:chOff x="0" y="5246280"/>
              <a:chExt cx="862560" cy="1611360"/>
            </a:xfrm>
          </p:grpSpPr>
          <p:sp>
            <p:nvSpPr>
              <p:cNvPr id="1073" name="Freeform 29"/>
              <p:cNvSpPr/>
              <p:nvPr/>
            </p:nvSpPr>
            <p:spPr>
              <a:xfrm flipH="1" flipV="1">
                <a:off x="115560" y="5986080"/>
                <a:ext cx="346320" cy="6246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30"/>
              <p:cNvSpPr/>
              <p:nvPr/>
            </p:nvSpPr>
            <p:spPr>
              <a:xfrm flipH="1" flipV="1">
                <a:off x="0" y="6232680"/>
                <a:ext cx="329040" cy="6102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31"/>
              <p:cNvSpPr/>
              <p:nvPr/>
            </p:nvSpPr>
            <p:spPr>
              <a:xfrm flipH="1" flipV="1">
                <a:off x="0" y="5246280"/>
                <a:ext cx="329040" cy="105984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32"/>
              <p:cNvSpPr/>
              <p:nvPr/>
            </p:nvSpPr>
            <p:spPr>
              <a:xfrm flipH="1" flipV="1">
                <a:off x="461880" y="5769000"/>
                <a:ext cx="106920" cy="21744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3"/>
              <p:cNvSpPr/>
              <p:nvPr/>
            </p:nvSpPr>
            <p:spPr>
              <a:xfrm flipH="1" flipV="1">
                <a:off x="274680" y="6218280"/>
                <a:ext cx="587160" cy="63900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Д. Угринович, Информатика и ИКТ, 8 класс - М. БИНОМ Лаборатория знаний, 201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сова Л. Л. Занимательные задачи по информатике.– М. БИНОМ Лаборатория знаний, 200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А. Якушкин, В.Р. Лещинер, Д.П. Кириенко, Подготовка к ЕГЭ. Типовые тестовые задания, 2012 г. М: Издательство «Экзаме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81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1082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1087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1093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1099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1105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2241720" cy="15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786040" y="4000680"/>
            <a:ext cx="2928960" cy="1465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5786280" y="2714760"/>
            <a:ext cx="1513080" cy="2357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500040" y="785880"/>
            <a:ext cx="807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м известны единицы измерения дл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миллиметр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сантиметр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метр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километр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0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111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116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122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128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134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857160" y="71424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сса измеряется в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грамма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килограммах, центнерах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тонна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214800" y="2428920"/>
            <a:ext cx="1500120" cy="200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714240" y="2643120"/>
            <a:ext cx="1606680" cy="1928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286240" y="3071880"/>
            <a:ext cx="305604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145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150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156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162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168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643040" y="85716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глы измеряются в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градуса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1446480" cy="2000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6357960" y="3000240"/>
            <a:ext cx="2039760" cy="130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1000080" y="4143240"/>
            <a:ext cx="2100240" cy="157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3357720" y="1643040"/>
            <a:ext cx="2877840" cy="18572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79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180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185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191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197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203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571680" y="85716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я – в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секундах, минутах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часа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159000" cy="2090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5500800" y="1500120"/>
            <a:ext cx="2914560" cy="2176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3857760" y="4000680"/>
            <a:ext cx="1571400" cy="23572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3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214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219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225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231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237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8"/>
          <p:cNvSpPr/>
          <p:nvPr/>
        </p:nvSpPr>
        <p:spPr>
          <a:xfrm>
            <a:off x="714240" y="3786120"/>
            <a:ext cx="51436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entury Schoolbook"/>
              </a:rPr>
              <a:t>Бит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именьшая единица измерения, которую ввёл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Клод Шеннон (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мериканский инженер и математи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9" descr="027_0_1"/>
          <p:cNvPicPr/>
          <p:nvPr/>
        </p:nvPicPr>
        <p:blipFill>
          <a:blip r:embed="rId1"/>
          <a:stretch/>
        </p:blipFill>
        <p:spPr>
          <a:xfrm>
            <a:off x="5929200" y="3000240"/>
            <a:ext cx="2554560" cy="25894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428760" y="5000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мпьютер «не понимает» человеческий язык. Поэтому каждый символ кодируется. ПК «понимает» только нули и единички – с помощью них и представляется информация в компьютере. Эти </a:t>
            </a: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«нули и единички»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зываются </a:t>
            </a: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битом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46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247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252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258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264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270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642960" y="285840"/>
            <a:ext cx="73580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ит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может принимать одно из двух значений – 0 или 1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ьми таких бит достаточно, чтобы придать уникальность любому символу, а таких последовательностей, состоящих из 8 бит, может быть 256, что достаточно, чтобы отобразить любой симво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7215120" y="357120"/>
            <a:ext cx="137484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3"/>
          <p:cNvSpPr/>
          <p:nvPr/>
        </p:nvSpPr>
        <p:spPr>
          <a:xfrm>
            <a:off x="642960" y="3500280"/>
            <a:ext cx="78580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этому – 1 символ = 8 битам. Но информацию не считают не в символах не в би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формацию считают в байтах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 символ = 8 битам = 1 бай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айт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это единица измер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79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280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285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291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297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303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857160" y="2214720"/>
            <a:ext cx="7858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1 байт = 2</a:t>
            </a:r>
            <a:r>
              <a:rPr b="1" lang="ru-RU" sz="4000" spc="-1" strike="noStrike" baseline="30000">
                <a:solidFill>
                  <a:srgbClr val="632523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бит=8 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1 Кбайт = 2</a:t>
            </a:r>
            <a:r>
              <a:rPr b="1" lang="ru-RU" sz="4000" spc="-1" strike="noStrike" baseline="30000">
                <a:solidFill>
                  <a:srgbClr val="632523"/>
                </a:solidFill>
                <a:latin typeface="Calibri"/>
              </a:rPr>
              <a:t>10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байт=1024 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1 Мбайт =2</a:t>
            </a:r>
            <a:r>
              <a:rPr b="1" lang="ru-RU" sz="4000" spc="-1" strike="noStrike" baseline="30000">
                <a:solidFill>
                  <a:srgbClr val="632523"/>
                </a:solidFill>
                <a:latin typeface="Calibri"/>
              </a:rPr>
              <a:t>10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Кбайт=1024 К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1 Гбайт = </a:t>
            </a: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2</a:t>
            </a:r>
            <a:r>
              <a:rPr b="1" lang="ru-RU" sz="4000" spc="-1" strike="noStrike" baseline="30000">
                <a:solidFill>
                  <a:srgbClr val="632523"/>
                </a:solidFill>
                <a:latin typeface="Arial"/>
              </a:rPr>
              <a:t>10</a:t>
            </a: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Мбайт=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1024 М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1 Тбайт = </a:t>
            </a: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2</a:t>
            </a:r>
            <a:r>
              <a:rPr b="1" lang="ru-RU" sz="4000" spc="-1" strike="noStrike" baseline="30000">
                <a:solidFill>
                  <a:srgbClr val="632523"/>
                </a:solidFill>
                <a:latin typeface="Arial"/>
              </a:rPr>
              <a:t>10</a:t>
            </a: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Гбайт=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1024 Г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0" name="Group 5"/>
            <p:cNvGrpSpPr/>
            <p:nvPr/>
          </p:nvGrpSpPr>
          <p:grpSpPr>
            <a:xfrm>
              <a:off x="0" y="23760"/>
              <a:ext cx="9144000" cy="6823440"/>
              <a:chOff x="0" y="23760"/>
              <a:chExt cx="9144000" cy="6823440"/>
            </a:xfrm>
          </p:grpSpPr>
          <p:sp>
            <p:nvSpPr>
              <p:cNvPr id="311" name="Rectangle 6"/>
              <p:cNvSpPr/>
              <p:nvPr/>
            </p:nvSpPr>
            <p:spPr>
              <a:xfrm rot="5400000">
                <a:off x="4482360" y="-44586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7"/>
              <p:cNvSpPr/>
              <p:nvPr/>
            </p:nvSpPr>
            <p:spPr>
              <a:xfrm rot="5400000">
                <a:off x="4482360" y="2185200"/>
                <a:ext cx="179280" cy="914400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"/>
              <p:cNvSpPr/>
              <p:nvPr/>
            </p:nvSpPr>
            <p:spPr>
              <a:xfrm>
                <a:off x="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9"/>
              <p:cNvSpPr/>
              <p:nvPr/>
            </p:nvSpPr>
            <p:spPr>
              <a:xfrm>
                <a:off x="8971200" y="23760"/>
                <a:ext cx="172440" cy="6823440"/>
              </a:xfrm>
              <a:prstGeom prst="rect">
                <a:avLst/>
              </a:prstGeom>
              <a:solidFill>
                <a:srgbClr val="ffc000"/>
              </a:solidFill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0"/>
            <p:cNvGrpSpPr/>
            <p:nvPr/>
          </p:nvGrpSpPr>
          <p:grpSpPr>
            <a:xfrm>
              <a:off x="8281080" y="0"/>
              <a:ext cx="862560" cy="1612440"/>
              <a:chOff x="8281080" y="0"/>
              <a:chExt cx="862560" cy="1612440"/>
            </a:xfrm>
          </p:grpSpPr>
          <p:sp>
            <p:nvSpPr>
              <p:cNvPr id="316" name="Freeform 11"/>
              <p:cNvSpPr/>
              <p:nvPr/>
            </p:nvSpPr>
            <p:spPr>
              <a:xfrm>
                <a:off x="8681400" y="24660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2"/>
              <p:cNvSpPr/>
              <p:nvPr/>
            </p:nvSpPr>
            <p:spPr>
              <a:xfrm>
                <a:off x="8814600" y="1440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"/>
              <p:cNvSpPr/>
              <p:nvPr/>
            </p:nvSpPr>
            <p:spPr>
              <a:xfrm>
                <a:off x="8814600" y="55188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4"/>
              <p:cNvSpPr/>
              <p:nvPr/>
            </p:nvSpPr>
            <p:spPr>
              <a:xfrm>
                <a:off x="8574480" y="871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5"/>
              <p:cNvSpPr/>
              <p:nvPr/>
            </p:nvSpPr>
            <p:spPr>
              <a:xfrm>
                <a:off x="8281080" y="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6"/>
            <p:cNvGrpSpPr/>
            <p:nvPr/>
          </p:nvGrpSpPr>
          <p:grpSpPr>
            <a:xfrm>
              <a:off x="0" y="21240"/>
              <a:ext cx="862560" cy="1794240"/>
              <a:chOff x="0" y="21240"/>
              <a:chExt cx="862560" cy="1794240"/>
            </a:xfrm>
          </p:grpSpPr>
          <p:sp>
            <p:nvSpPr>
              <p:cNvPr id="322" name="Freeform 17"/>
              <p:cNvSpPr/>
              <p:nvPr/>
            </p:nvSpPr>
            <p:spPr>
              <a:xfrm flipH="1">
                <a:off x="115920" y="295920"/>
                <a:ext cx="346320" cy="6955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"/>
              <p:cNvSpPr/>
              <p:nvPr/>
            </p:nvSpPr>
            <p:spPr>
              <a:xfrm flipH="1">
                <a:off x="0" y="37080"/>
                <a:ext cx="329040" cy="67932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9"/>
              <p:cNvSpPr/>
              <p:nvPr/>
            </p:nvSpPr>
            <p:spPr>
              <a:xfrm flipH="1">
                <a:off x="0" y="635400"/>
                <a:ext cx="329040" cy="118008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0"/>
              <p:cNvSpPr/>
              <p:nvPr/>
            </p:nvSpPr>
            <p:spPr>
              <a:xfrm flipH="1">
                <a:off x="461880" y="991440"/>
                <a:ext cx="106920" cy="24228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1"/>
              <p:cNvSpPr/>
              <p:nvPr/>
            </p:nvSpPr>
            <p:spPr>
              <a:xfrm flipH="1">
                <a:off x="275040" y="21240"/>
                <a:ext cx="587160" cy="711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2"/>
            <p:cNvGrpSpPr/>
            <p:nvPr/>
          </p:nvGrpSpPr>
          <p:grpSpPr>
            <a:xfrm>
              <a:off x="8281080" y="5245560"/>
              <a:ext cx="862560" cy="1612440"/>
              <a:chOff x="8281080" y="5245560"/>
              <a:chExt cx="862560" cy="1612440"/>
            </a:xfrm>
          </p:grpSpPr>
          <p:sp>
            <p:nvSpPr>
              <p:cNvPr id="328" name="Freeform 23"/>
              <p:cNvSpPr/>
              <p:nvPr/>
            </p:nvSpPr>
            <p:spPr>
              <a:xfrm flipV="1">
                <a:off x="868140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4"/>
              <p:cNvSpPr/>
              <p:nvPr/>
            </p:nvSpPr>
            <p:spPr>
              <a:xfrm flipV="1">
                <a:off x="881460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5"/>
              <p:cNvSpPr/>
              <p:nvPr/>
            </p:nvSpPr>
            <p:spPr>
              <a:xfrm flipV="1">
                <a:off x="881460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6"/>
              <p:cNvSpPr/>
              <p:nvPr/>
            </p:nvSpPr>
            <p:spPr>
              <a:xfrm flipV="1">
                <a:off x="85744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7"/>
              <p:cNvSpPr/>
              <p:nvPr/>
            </p:nvSpPr>
            <p:spPr>
              <a:xfrm flipV="1">
                <a:off x="82810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28"/>
            <p:cNvGrpSpPr/>
            <p:nvPr/>
          </p:nvGrpSpPr>
          <p:grpSpPr>
            <a:xfrm>
              <a:off x="0" y="5245560"/>
              <a:ext cx="862560" cy="1612440"/>
              <a:chOff x="0" y="5245560"/>
              <a:chExt cx="862560" cy="1612440"/>
            </a:xfrm>
          </p:grpSpPr>
          <p:sp>
            <p:nvSpPr>
              <p:cNvPr id="334" name="Freeform 29"/>
              <p:cNvSpPr/>
              <p:nvPr/>
            </p:nvSpPr>
            <p:spPr>
              <a:xfrm flipH="1" flipV="1">
                <a:off x="115560" y="5986440"/>
                <a:ext cx="346320" cy="6249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0"/>
              <p:cNvSpPr/>
              <p:nvPr/>
            </p:nvSpPr>
            <p:spPr>
              <a:xfrm flipH="1" flipV="1">
                <a:off x="0" y="6233040"/>
                <a:ext cx="329040" cy="61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1"/>
              <p:cNvSpPr/>
              <p:nvPr/>
            </p:nvSpPr>
            <p:spPr>
              <a:xfrm flipH="1" flipV="1">
                <a:off x="0" y="5245560"/>
                <a:ext cx="329040" cy="10605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2"/>
              <p:cNvSpPr/>
              <p:nvPr/>
            </p:nvSpPr>
            <p:spPr>
              <a:xfrm flipH="1" flipV="1">
                <a:off x="461880" y="5767920"/>
                <a:ext cx="106920" cy="217800"/>
              </a:xfrm>
              <a:prstGeom prst="rect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3"/>
              <p:cNvSpPr/>
              <p:nvPr/>
            </p:nvSpPr>
            <p:spPr>
              <a:xfrm flipH="1" flipV="1">
                <a:off x="274680" y="6218640"/>
                <a:ext cx="587160" cy="639360"/>
              </a:xfrm>
              <a:prstGeom prst="pie">
                <a:avLst/>
              </a:prstGeom>
              <a:solidFill>
                <a:srgbClr val="ffc000"/>
              </a:solidFill>
              <a:ln cap="rnd" w="1332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диницы измере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1:32:35Z</dcterms:created>
  <dc:creator>Монгуш</dc:creator>
  <dc:description/>
  <dc:language>en-US</dc:language>
  <cp:lastModifiedBy>*</cp:lastModifiedBy>
  <dcterms:modified xsi:type="dcterms:W3CDTF">2013-04-05T09:15:56Z</dcterms:modified>
  <cp:revision>39</cp:revision>
  <dc:subject/>
  <dc:title>Слайд 1</dc:title>
</cp:coreProperties>
</file>