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093-8436-4682-9DCA-B7F555A0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F2E-7C54-4901-A456-96CD8E84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76A4D-1AA6-4787-9F72-0FE41C69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1D244-F97F-4208-BAFD-A7F0CCB4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87DC3-4E89-4B08-AF51-D9A42328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D0024-DB82-45A3-8096-DF072E1D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EF359-9291-4686-90C3-F02D9CA6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C58F3-8441-486A-8767-E89114DB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B2025-C809-4D2A-92E2-C90D67E6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CB15A-F205-4785-94DD-2BD6AD20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8A291-871C-48F6-8F7F-57F7B8FC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25876-F813-467B-B90B-1B559FDC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145-DE7F-4CA1-BB79-BB590D53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7E1ED-648F-4C21-8A87-1CA4B349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64AF3-6BF3-4589-8BF5-D9403CBA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A02BD-1ABC-48B9-B753-72E3DEEE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22A91-AC18-486E-B7E5-1EAD6FE3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A59EE-66F9-4A17-9805-588C7726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D7403-F164-41A6-B431-2B1C5A03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DB57E-A42F-4028-B5E5-FB5CBEDF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5B81B-11AA-400B-9E12-FA447EE6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CF9C6-E06D-492B-BF70-2C93719C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D1F02-F229-4B54-B8C9-210CFAD4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68C-30FE-4BC5-AEEF-92854BFC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35468-7EC9-4711-A1FC-CCBA927E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18A4F-3472-4CD2-8024-55907358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FD4E6-0549-4586-8FCE-F3D1F70A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B5ADD-3852-4369-9D34-A199D0C6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103A2-82BA-4D3D-AC0B-1EEC3256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51717-BAA4-4B0B-995F-51278DC9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A637A-D46D-4147-A155-AB108361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00BC6-50B3-48FE-AB93-5FBCB27B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38455-2E54-4A1D-B76E-5512DF3D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6B308-86A6-4952-B68C-5D954F9A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5A2A-4B4C-41CE-92DE-878F021B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E61FD-9340-4AD1-B06B-51A1AB82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A00D2-2100-4976-A190-19DA85D4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B406D-CA97-4212-952D-47C7753F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18B5A-435B-4111-8727-C9EE4F23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09447-6F2C-4963-A72A-893C131F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FC303-8055-409F-8541-A87DDA70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EE3A6-D4B3-468B-AE5B-DB8048EC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4C30D-1ECF-4936-8B82-4F013150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0A966-C26A-4A68-821D-0D12570C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84BA4-C09B-434F-A625-0D5BB03E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DD23-9D9C-447E-B25E-60767ECB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1F706-BAB9-4293-9847-3C58583C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6E102-7C8D-4257-A70E-3A00668F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3E3FA-3060-4572-BA74-E83E1CD5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ADF80-8971-48E3-9446-A9194B09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6486C-ABB6-46BD-A6BD-C9268870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611C-7294-4720-939B-604C8AE7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9456-F467-441D-A78A-D8EF7532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2A27-FA68-4C7A-9170-D0E6F8C4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D6A8-B735-410C-B2DA-69E8CF78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410F-4129-468A-ABB9-C632747E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FD1-3991-4DA1-B192-A5EA1042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34C3-EC7B-4E06-86EB-7FA233E5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5D8A-260B-47B4-A914-16CCD6C8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F666-B6B0-4297-870C-0D2ECE6C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C858-95A5-4D4A-913F-288AE239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2515-02B9-4212-9C65-326ABC10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7A42D-7B1B-459C-ABE8-796CC275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9BBB-8B0E-4BC8-B8A3-8DE03A12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E5877-71AC-4789-97A1-0B4D3570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BCF0-9F01-4782-8576-0465B250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8A1E-8391-4E6B-9841-1F094BFA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4AB-63E4-4A5F-9C18-EE29CBF0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015B9-47E5-48BB-868E-79E26005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7F8C5-AAEC-451C-89D4-F274A4A1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BF1A6-6F63-4AEA-8869-0A2EE8BB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91BD-B9C0-4FEB-8C3F-DFFA8E9D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B399-AD1C-4173-9ABC-51DC7315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272ED-1EA2-4EAB-856C-BB0F5FB7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EC167-9C0C-49CD-BB79-38BB93BD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85A7A-6481-437B-A49A-656EE987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2A82E-59FF-451F-8954-3CDD71AB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62FDF-6FFE-4783-8300-D48E2712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8A2-4462-4C60-A244-36AA2B2A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58313-7ED6-4B73-A8F4-62262F14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24002-4572-46A5-93E7-09E201A7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5E63C-917F-4B83-9374-ACF77B75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EB59C-2A42-400C-82C9-9D65D6DA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99647-73F7-4532-B4F4-30AAEE3C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F1445-780B-4D1B-90CB-FAF50754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507A4-A677-4001-9CF7-19360E94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C6B29-66F0-46FF-9A85-A642E462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E01F-B014-4286-9400-7E8FF683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EF02D-1F52-4506-8298-A38C52BA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A65-68F6-439C-BC64-F01B6A53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105D9-6FA7-4E4E-9619-B10F22D9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77970-50EC-4820-AA25-47C34321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076BF-1303-4C94-9D86-7D520F9A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48BDD-F504-4FB9-AF12-6B629306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F2ED6-CDD3-4734-B914-A809268F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6BE3D-A571-43D9-AA50-C52FFB22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88CE8-9A3B-40D0-A0D4-B22D3083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86245-AC59-4A91-A239-C4FAB5EE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50910-C1AC-4265-81DE-56323EF4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EB272-5DFE-4B1E-87DE-55DE4F1B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82C-D3FE-43A9-8577-1DFC4E07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E21C8-4F59-4367-B76E-EF9ACBB5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2F71C-8DEB-4AC1-9FE0-FF4EEAA0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3490A-FA67-439F-8C43-8FFCA1FF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F7431-AFF5-4D3D-B40C-8C8CDB5C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B8AB9-5478-4734-97BF-6EF660AE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60807-6B29-441D-BD35-C8FEF5A4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DAEF4-0111-462C-A255-DB7CCA4B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5C4E4-B0CB-4CD5-A6FB-8C7A7AE0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A1F85-3C97-49BB-A334-7FDFDF73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40F85-6228-4409-9564-74724524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27B-E508-4AFF-ACC1-A184CF6E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D9081-CB25-4CDE-BFC5-6A6ABAFF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D300C-6DEE-4689-B6F4-34F2B5D9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B2536-484B-4CF3-990A-B20017E7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CCE77-4271-450C-B767-AC8B9B20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B182E-B32E-4182-BD7F-2B5948A8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D1832-4F85-4165-A980-A646BF32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040AA-76C9-44CA-865B-6764D79A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F645F-8D1D-4B44-8AA9-116A8BEE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A4D1B-F7D8-4B1C-9D11-39CC173B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AAA46-2B1B-489C-A6DB-78F69B69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5EB-CC3F-464C-94D2-28DEA9A9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B09D6-B796-4869-A7FD-3C69FB10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40921-7B23-420A-B9E0-FFBABA9B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6973B-E210-4AF6-B139-32640607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DD0A4-79E7-4D97-B356-668EC390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BF5EA-B8D9-49A8-865E-FE48B3DA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2C0B8-9000-453F-B659-2E4AB6C8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1BB7E-9CB8-4067-9760-2365DB09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BFF96-9122-4376-B3F5-F42481E1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AE59E-3FAF-40FB-9F35-F7515275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DA64E-A253-49F6-A337-C838BC7D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FCB3-8391-4E6B-AA5F-A4B50855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FB79E-5051-4198-93C2-0A62D624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D488E-315E-4030-84E1-3856ABDF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79733-E2CB-4363-93CE-BFF89CEF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DB3E2-F0A8-44FB-9DA3-5650F02D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A37FE-B201-494B-8B18-892E8976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7C9EC-5183-4A0C-A3FC-143979C4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1B131-B21C-426A-9BCD-D70D8AE8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DBA4E-7BF8-4D5C-B08A-46DBFE65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01A68-0C89-43C0-B539-FFA309B4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FF619-9435-4E30-BA37-26F7ABBA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2014-4C70-4142-892A-4E58D59305A3}" type="datetime">
              <a:rPr b="0" lang="ru-RU" sz="1200" spc="-1" strike="noStrike">
                <a:solidFill>
                  <a:srgbClr val="d38e27"/>
                </a:solidFill>
                <a:latin typeface="Cambr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AAC0-0B65-4F58-BA51-B9DF65F23A02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CFB1-6FD0-4469-B4D8-9D912895F582}" type="datetime">
              <a:rPr b="0" lang="ru-RU" sz="1200" spc="-1" strike="noStrike">
                <a:solidFill>
                  <a:srgbClr val="d38e27"/>
                </a:solidFill>
                <a:latin typeface="Cambr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B481-D278-4C32-8F09-3C32C9D398DD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8848-A16C-4BAB-82E1-87DCF6E3645A}" type="datetime">
              <a:rPr b="0" lang="ru-RU" sz="1200" spc="-1" strike="noStrike">
                <a:solidFill>
                  <a:srgbClr val="d38e27"/>
                </a:solidFill>
                <a:latin typeface="Cambr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7A5A-CEA1-47FB-9DE0-E55FF4A99274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7155-18DE-4087-997A-8D5C6B982563}" type="datetime">
              <a:rPr b="0" lang="ru-RU" sz="1200" spc="-1" strike="noStrike">
                <a:solidFill>
                  <a:srgbClr val="d38e27"/>
                </a:solidFill>
                <a:latin typeface="Cambr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161A-DB86-4CFF-A7E2-7B61D0F31BE8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40A4-F7C3-41F1-A138-9B5804C86E28}" type="datetime">
              <a:rPr b="0" lang="ru-RU" sz="1200" spc="-1" strike="noStrike">
                <a:solidFill>
                  <a:srgbClr val="d38e27"/>
                </a:solidFill>
                <a:latin typeface="Cambr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582D-3F94-46F1-9E37-24322EC3A5E7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C8B6-858B-4A77-BE81-D6BB928C1CB7}" type="datetime">
              <a:rPr b="0" lang="ru-RU" sz="1200" spc="-1" strike="noStrike">
                <a:solidFill>
                  <a:srgbClr val="d38e27"/>
                </a:solidFill>
                <a:latin typeface="Cambr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192A-68D3-48DB-92A1-957A21D31E65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36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F48F-C808-4F7B-8667-2973A5304B04}" type="datetime">
              <a:rPr b="0" lang="ru-RU" sz="1200" spc="-1" strike="noStrike">
                <a:solidFill>
                  <a:srgbClr val="d38e27"/>
                </a:solidFill>
                <a:latin typeface="Cambr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3C15-73D6-4B75-8391-D7BC6318570D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8895-659E-4C34-8692-6850AD00FE01}" type="datetime">
              <a:rPr b="0" lang="ru-RU" sz="1200" spc="-1" strike="noStrike">
                <a:solidFill>
                  <a:srgbClr val="d38e27"/>
                </a:solidFill>
                <a:latin typeface="Cambr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25F4-D9F5-4EB9-B631-6FE6F082D486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2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AB08-5094-426E-97EB-2C430EA93A26}" type="datetime">
              <a:rPr b="0" lang="ru-RU" sz="1200" spc="-1" strike="noStrike">
                <a:solidFill>
                  <a:srgbClr val="d38e27"/>
                </a:solidFill>
                <a:latin typeface="Cambr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EEE3-498A-4756-982F-C530DF6C14B4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353B-D2DC-42BC-9E4A-E3E9DB1A83AB}" type="datetime">
              <a:rPr b="0" lang="ru-RU" sz="1200" spc="-1" strike="noStrike">
                <a:solidFill>
                  <a:srgbClr val="d38e27"/>
                </a:solidFill>
                <a:latin typeface="Cambr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94DA-E401-4F23-A96F-916FCAD62531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58C6-505B-44FD-BEEA-359E0BED4A4D}" type="datetime">
              <a:rPr b="0" lang="ru-RU" sz="1200" spc="-1" strike="noStrike">
                <a:solidFill>
                  <a:srgbClr val="d38e27"/>
                </a:solidFill>
                <a:latin typeface="Cambr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5971-DABE-4349-955D-C234BC66A30E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47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3AEB-5DCF-4DBA-8ACC-E01342EE54C3}" type="datetime">
              <a:rPr b="0" lang="ru-RU" sz="1200" spc="-1" strike="noStrike">
                <a:solidFill>
                  <a:srgbClr val="d38e27"/>
                </a:solidFill>
                <a:latin typeface="Cambr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83C8-576C-4245-A89E-6B20A3F8FC9D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Прямоугольник 4" descr=""/>
          <p:cNvPicPr/>
          <p:nvPr/>
        </p:nvPicPr>
        <p:blipFill>
          <a:blip r:embed="rId1"/>
          <a:stretch/>
        </p:blipFill>
        <p:spPr>
          <a:xfrm>
            <a:off x="890640" y="676440"/>
            <a:ext cx="7540560" cy="3603600"/>
          </a:xfrm>
          <a:prstGeom prst="rect">
            <a:avLst/>
          </a:prstGeom>
          <a:ln w="0">
            <a:noFill/>
          </a:ln>
        </p:spPr>
      </p:pic>
      <p:sp>
        <p:nvSpPr>
          <p:cNvPr id="514" name="TextBox 2"/>
          <p:cNvSpPr/>
          <p:nvPr/>
        </p:nvSpPr>
        <p:spPr>
          <a:xfrm>
            <a:off x="3571920" y="4643280"/>
            <a:ext cx="557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нформатики и ИК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Лицей №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Саров, Нижегород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мова Ю.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3"/>
          <p:cNvSpPr/>
          <p:nvPr/>
        </p:nvSpPr>
        <p:spPr>
          <a:xfrm>
            <a:off x="5916600" y="2766960"/>
            <a:ext cx="600120" cy="849240"/>
          </a:xfrm>
          <a:prstGeom prst="rect">
            <a:avLst/>
          </a:prstGeom>
          <a:solidFill>
            <a:srgbClr val="fbe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2230560" y="2766960"/>
            <a:ext cx="601560" cy="849240"/>
          </a:xfrm>
          <a:prstGeom prst="rect">
            <a:avLst/>
          </a:prstGeom>
          <a:solidFill>
            <a:srgbClr val="fbe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6"/>
          <p:cNvSpPr/>
          <p:nvPr/>
        </p:nvSpPr>
        <p:spPr>
          <a:xfrm>
            <a:off x="3002040" y="428760"/>
            <a:ext cx="2727360" cy="7300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7"/>
          <p:cNvSpPr/>
          <p:nvPr/>
        </p:nvSpPr>
        <p:spPr>
          <a:xfrm>
            <a:off x="2736720" y="1573200"/>
            <a:ext cx="2992680" cy="7794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ВОД 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8"/>
          <p:cNvSpPr/>
          <p:nvPr/>
        </p:nvSpPr>
        <p:spPr>
          <a:xfrm>
            <a:off x="2646360" y="2766960"/>
            <a:ext cx="3379680" cy="11192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AutoShape 9"/>
          <p:cNvCxnSpPr/>
          <p:nvPr/>
        </p:nvCxnSpPr>
        <p:spPr>
          <a:xfrm>
            <a:off x="6026040" y="3314520"/>
            <a:ext cx="41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3" name="AutoShape 10"/>
          <p:cNvCxnSpPr/>
          <p:nvPr/>
        </p:nvCxnSpPr>
        <p:spPr>
          <a:xfrm>
            <a:off x="2230200" y="3314520"/>
            <a:ext cx="108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4" name="AutoShape 11"/>
          <p:cNvCxnSpPr/>
          <p:nvPr/>
        </p:nvCxnSpPr>
        <p:spPr>
          <a:xfrm>
            <a:off x="6441840" y="3314520"/>
            <a:ext cx="108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5" name="AutoShape 12"/>
          <p:cNvCxnSpPr/>
          <p:nvPr/>
        </p:nvCxnSpPr>
        <p:spPr>
          <a:xfrm>
            <a:off x="4330440" y="1158480"/>
            <a:ext cx="108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6" name="AutoShape 13"/>
          <p:cNvCxnSpPr/>
          <p:nvPr/>
        </p:nvCxnSpPr>
        <p:spPr>
          <a:xfrm>
            <a:off x="4330440" y="2352240"/>
            <a:ext cx="108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AutoShape 14"/>
          <p:cNvCxnSpPr/>
          <p:nvPr/>
        </p:nvCxnSpPr>
        <p:spPr>
          <a:xfrm>
            <a:off x="2230200" y="3314520"/>
            <a:ext cx="41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8" name="AutoShape 15"/>
          <p:cNvSpPr/>
          <p:nvPr/>
        </p:nvSpPr>
        <p:spPr>
          <a:xfrm>
            <a:off x="285840" y="4227480"/>
            <a:ext cx="3987720" cy="723960"/>
          </a:xfrm>
          <a:prstGeom prst="parallelogram">
            <a:avLst>
              <a:gd name="adj" fmla="val 2150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ВОД  «Является решение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6"/>
          <p:cNvSpPr/>
          <p:nvPr/>
        </p:nvSpPr>
        <p:spPr>
          <a:xfrm>
            <a:off x="4273560" y="4227480"/>
            <a:ext cx="4227480" cy="723960"/>
          </a:xfrm>
          <a:prstGeom prst="parallelogram">
            <a:avLst>
              <a:gd name="adj" fmla="val 2280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ВОД «Не является решение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0" name="AutoShape 17"/>
          <p:cNvCxnSpPr/>
          <p:nvPr/>
        </p:nvCxnSpPr>
        <p:spPr>
          <a:xfrm>
            <a:off x="6441840" y="4951080"/>
            <a:ext cx="108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1" name="AutoShape 18"/>
          <p:cNvCxnSpPr/>
          <p:nvPr/>
        </p:nvCxnSpPr>
        <p:spPr>
          <a:xfrm>
            <a:off x="2230200" y="4951080"/>
            <a:ext cx="108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2" name="AutoShape 19"/>
          <p:cNvCxnSpPr/>
          <p:nvPr/>
        </p:nvCxnSpPr>
        <p:spPr>
          <a:xfrm>
            <a:off x="2230200" y="5427360"/>
            <a:ext cx="42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3" name="AutoShape 20"/>
          <p:cNvCxnSpPr/>
          <p:nvPr/>
        </p:nvCxnSpPr>
        <p:spPr>
          <a:xfrm>
            <a:off x="4273200" y="5427360"/>
            <a:ext cx="108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4" name="AutoShape 21"/>
          <p:cNvSpPr/>
          <p:nvPr/>
        </p:nvSpPr>
        <p:spPr>
          <a:xfrm>
            <a:off x="2932200" y="5842080"/>
            <a:ext cx="2727360" cy="7300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Номер слайда 19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D774-129E-423D-9CA5-82709343485E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"/>
          <p:cNvSpPr/>
          <p:nvPr/>
        </p:nvSpPr>
        <p:spPr>
          <a:xfrm>
            <a:off x="285840" y="201852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PROGRA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pr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VAR X:BY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Введи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чис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READLN 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I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&gt;2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AN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&lt;1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THEN WRITEL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(‘Число является решением’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ELSE WRITEL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(‘Число не является решением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EN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1214280" y="142920"/>
            <a:ext cx="72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ограмма на языке программирования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as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CC17-B1E3-4C81-BFA5-FDC1ECD32510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57120" y="1501920"/>
          <a:ext cx="8501040" cy="314136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5360"/>
              </a:tblGrid>
              <a:tr h="1027080"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сходные да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дположит. 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зультат на 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0" name="Прямоугольник 2"/>
          <p:cNvSpPr/>
          <p:nvPr/>
        </p:nvSpPr>
        <p:spPr>
          <a:xfrm>
            <a:off x="6072120" y="2571840"/>
            <a:ext cx="2714760" cy="2000160"/>
          </a:xfrm>
          <a:prstGeom prst="rect">
            <a:avLst/>
          </a:prstGeom>
          <a:solidFill>
            <a:srgbClr val="d9d5c7"/>
          </a:solidFill>
          <a:ln w="25560">
            <a:solidFill>
              <a:srgbClr val="f9d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3"/>
          <p:cNvSpPr/>
          <p:nvPr/>
        </p:nvSpPr>
        <p:spPr>
          <a:xfrm>
            <a:off x="1214280" y="14292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Тестирование програм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9DF1-3F99-4DBF-9C44-5B75B912BE63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81481E-006 L -5.55556E-007 0.08403 E">
                                      <p:cBhvr>
                                        <p:cTn id="197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08402 L -5.55556E-007 0.16805 E">
                                      <p:cBhvr>
                                        <p:cTn id="201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16806 L 0.00243 0.22061 E">
                                      <p:cBhvr>
                                        <p:cTn id="205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285480" y="4071240"/>
            <a:ext cx="8501040" cy="1449360"/>
            <a:chOff x="285480" y="4071240"/>
            <a:chExt cx="8501040" cy="1449360"/>
          </a:xfrm>
        </p:grpSpPr>
        <p:sp>
          <p:nvSpPr>
            <p:cNvPr id="614" name="Text Box 41"/>
            <p:cNvSpPr/>
            <p:nvPr/>
          </p:nvSpPr>
          <p:spPr>
            <a:xfrm>
              <a:off x="2715120" y="4665600"/>
              <a:ext cx="650880" cy="748080"/>
            </a:xfrm>
            <a:prstGeom prst="rect">
              <a:avLst/>
            </a:prstGeom>
            <a:solidFill>
              <a:srgbClr val="fbe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Group 3"/>
            <p:cNvGrpSpPr/>
            <p:nvPr/>
          </p:nvGrpSpPr>
          <p:grpSpPr>
            <a:xfrm>
              <a:off x="285480" y="4071240"/>
              <a:ext cx="8501040" cy="708120"/>
              <a:chOff x="285480" y="4071240"/>
              <a:chExt cx="8501040" cy="708120"/>
            </a:xfrm>
          </p:grpSpPr>
          <p:cxnSp>
            <p:nvCxnSpPr>
              <p:cNvPr id="616" name="AutoShape 27"/>
              <p:cNvCxnSpPr/>
              <p:nvPr/>
            </p:nvCxnSpPr>
            <p:spPr>
              <a:xfrm>
                <a:off x="2811960" y="4349160"/>
                <a:ext cx="127440" cy="24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617" name="Group 4"/>
              <p:cNvGrpSpPr/>
              <p:nvPr/>
            </p:nvGrpSpPr>
            <p:grpSpPr>
              <a:xfrm>
                <a:off x="285480" y="4486320"/>
                <a:ext cx="8501040" cy="293040"/>
                <a:chOff x="285480" y="4486320"/>
                <a:chExt cx="8501040" cy="293040"/>
              </a:xfrm>
            </p:grpSpPr>
            <p:cxnSp>
              <p:nvCxnSpPr>
                <p:cNvPr id="618" name="AutoShape 5"/>
                <p:cNvCxnSpPr/>
                <p:nvPr/>
              </p:nvCxnSpPr>
              <p:spPr>
                <a:xfrm>
                  <a:off x="285480" y="4591080"/>
                  <a:ext cx="850140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19" name="Oval 7"/>
                <p:cNvSpPr/>
                <p:nvPr/>
              </p:nvSpPr>
              <p:spPr>
                <a:xfrm>
                  <a:off x="5929200" y="4494240"/>
                  <a:ext cx="285480" cy="285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Oval 6"/>
                <p:cNvSpPr/>
                <p:nvPr/>
              </p:nvSpPr>
              <p:spPr>
                <a:xfrm>
                  <a:off x="2857320" y="4486320"/>
                  <a:ext cx="275760" cy="266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8"/>
              <p:cNvGrpSpPr/>
              <p:nvPr/>
            </p:nvGrpSpPr>
            <p:grpSpPr>
              <a:xfrm>
                <a:off x="554400" y="4071240"/>
                <a:ext cx="2444400" cy="446400"/>
                <a:chOff x="554400" y="4071240"/>
                <a:chExt cx="2444400" cy="446400"/>
              </a:xfrm>
            </p:grpSpPr>
            <p:cxnSp>
              <p:nvCxnSpPr>
                <p:cNvPr id="622" name="AutoShape 9"/>
                <p:cNvCxnSpPr/>
                <p:nvPr/>
              </p:nvCxnSpPr>
              <p:spPr>
                <a:xfrm flipV="1">
                  <a:off x="2998080" y="4071240"/>
                  <a:ext cx="1080" cy="4467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23" name="AutoShape 10"/>
                <p:cNvCxnSpPr/>
                <p:nvPr/>
              </p:nvCxnSpPr>
              <p:spPr>
                <a:xfrm flipH="1">
                  <a:off x="554400" y="4071600"/>
                  <a:ext cx="244404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624" name="Group 11"/>
              <p:cNvGrpSpPr/>
              <p:nvPr/>
            </p:nvGrpSpPr>
            <p:grpSpPr>
              <a:xfrm>
                <a:off x="6049800" y="4071240"/>
                <a:ext cx="2461680" cy="446400"/>
                <a:chOff x="6049800" y="4071240"/>
                <a:chExt cx="2461680" cy="446400"/>
              </a:xfrm>
            </p:grpSpPr>
            <p:cxnSp>
              <p:nvCxnSpPr>
                <p:cNvPr id="625" name="AutoShape 12"/>
                <p:cNvCxnSpPr/>
                <p:nvPr/>
              </p:nvCxnSpPr>
              <p:spPr>
                <a:xfrm flipH="1" flipV="1">
                  <a:off x="6049800" y="4071240"/>
                  <a:ext cx="1080" cy="4467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26" name="AutoShape 13"/>
                <p:cNvCxnSpPr/>
                <p:nvPr/>
              </p:nvCxnSpPr>
              <p:spPr>
                <a:xfrm>
                  <a:off x="6050520" y="4071600"/>
                  <a:ext cx="24613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cxnSp>
            <p:nvCxnSpPr>
              <p:cNvPr id="627" name="AutoShape 14"/>
              <p:cNvCxnSpPr/>
              <p:nvPr/>
            </p:nvCxnSpPr>
            <p:spPr>
              <a:xfrm flipH="1">
                <a:off x="6133320" y="4400280"/>
                <a:ext cx="187200" cy="19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8" name="AutoShape 15"/>
              <p:cNvCxnSpPr/>
              <p:nvPr/>
            </p:nvCxnSpPr>
            <p:spPr>
              <a:xfrm flipH="1">
                <a:off x="6319440" y="4400280"/>
                <a:ext cx="187560" cy="19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9" name="AutoShape 16"/>
              <p:cNvCxnSpPr/>
              <p:nvPr/>
            </p:nvCxnSpPr>
            <p:spPr>
              <a:xfrm flipH="1">
                <a:off x="6507000" y="4400280"/>
                <a:ext cx="187200" cy="19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0" name="AutoShape 17"/>
              <p:cNvCxnSpPr/>
              <p:nvPr/>
            </p:nvCxnSpPr>
            <p:spPr>
              <a:xfrm flipH="1">
                <a:off x="6693840" y="4400280"/>
                <a:ext cx="187200" cy="19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1" name="AutoShape 18"/>
              <p:cNvCxnSpPr/>
              <p:nvPr/>
            </p:nvCxnSpPr>
            <p:spPr>
              <a:xfrm flipH="1">
                <a:off x="6879960" y="4400280"/>
                <a:ext cx="187560" cy="19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2" name="AutoShape 19"/>
              <p:cNvCxnSpPr/>
              <p:nvPr/>
            </p:nvCxnSpPr>
            <p:spPr>
              <a:xfrm flipH="1">
                <a:off x="7067520" y="4400280"/>
                <a:ext cx="187200" cy="19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3" name="AutoShape 20"/>
              <p:cNvCxnSpPr/>
              <p:nvPr/>
            </p:nvCxnSpPr>
            <p:spPr>
              <a:xfrm flipH="1">
                <a:off x="7254000" y="4400280"/>
                <a:ext cx="187200" cy="19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4" name="AutoShape 21"/>
              <p:cNvCxnSpPr/>
              <p:nvPr/>
            </p:nvCxnSpPr>
            <p:spPr>
              <a:xfrm flipH="1">
                <a:off x="7440480" y="4400280"/>
                <a:ext cx="187560" cy="19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5" name="AutoShape 22"/>
              <p:cNvCxnSpPr/>
              <p:nvPr/>
            </p:nvCxnSpPr>
            <p:spPr>
              <a:xfrm flipH="1">
                <a:off x="7628040" y="4400280"/>
                <a:ext cx="187200" cy="19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6" name="AutoShape 23"/>
              <p:cNvCxnSpPr/>
              <p:nvPr/>
            </p:nvCxnSpPr>
            <p:spPr>
              <a:xfrm flipH="1">
                <a:off x="7814520" y="4400280"/>
                <a:ext cx="187200" cy="19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7" name="AutoShape 24"/>
              <p:cNvCxnSpPr/>
              <p:nvPr/>
            </p:nvCxnSpPr>
            <p:spPr>
              <a:xfrm flipH="1">
                <a:off x="8001000" y="4400280"/>
                <a:ext cx="187560" cy="19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8" name="AutoShape 25"/>
              <p:cNvCxnSpPr/>
              <p:nvPr/>
            </p:nvCxnSpPr>
            <p:spPr>
              <a:xfrm flipH="1">
                <a:off x="8188200" y="4400280"/>
                <a:ext cx="187200" cy="19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9" name="AutoShape 26"/>
              <p:cNvCxnSpPr/>
              <p:nvPr/>
            </p:nvCxnSpPr>
            <p:spPr>
              <a:xfrm flipH="1">
                <a:off x="8375040" y="4400280"/>
                <a:ext cx="187200" cy="19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0" name="AutoShape 28"/>
              <p:cNvCxnSpPr/>
              <p:nvPr/>
            </p:nvCxnSpPr>
            <p:spPr>
              <a:xfrm>
                <a:off x="2651760" y="4349160"/>
                <a:ext cx="127440" cy="24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1" name="AutoShape 29"/>
              <p:cNvCxnSpPr/>
              <p:nvPr/>
            </p:nvCxnSpPr>
            <p:spPr>
              <a:xfrm>
                <a:off x="2487600" y="4349160"/>
                <a:ext cx="127440" cy="24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2" name="AutoShape 30"/>
              <p:cNvCxnSpPr/>
              <p:nvPr/>
            </p:nvCxnSpPr>
            <p:spPr>
              <a:xfrm>
                <a:off x="2327400" y="4349160"/>
                <a:ext cx="127440" cy="24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3" name="AutoShape 31"/>
              <p:cNvCxnSpPr/>
              <p:nvPr/>
            </p:nvCxnSpPr>
            <p:spPr>
              <a:xfrm>
                <a:off x="2163600" y="4349160"/>
                <a:ext cx="127440" cy="24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4" name="AutoShape 32"/>
              <p:cNvCxnSpPr/>
              <p:nvPr/>
            </p:nvCxnSpPr>
            <p:spPr>
              <a:xfrm>
                <a:off x="2003400" y="4349160"/>
                <a:ext cx="127440" cy="24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5" name="AutoShape 33"/>
              <p:cNvCxnSpPr/>
              <p:nvPr/>
            </p:nvCxnSpPr>
            <p:spPr>
              <a:xfrm>
                <a:off x="1838880" y="4349160"/>
                <a:ext cx="127440" cy="24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6" name="AutoShape 34"/>
              <p:cNvCxnSpPr/>
              <p:nvPr/>
            </p:nvCxnSpPr>
            <p:spPr>
              <a:xfrm>
                <a:off x="1679040" y="4349160"/>
                <a:ext cx="127440" cy="24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7" name="AutoShape 35"/>
              <p:cNvCxnSpPr/>
              <p:nvPr/>
            </p:nvCxnSpPr>
            <p:spPr>
              <a:xfrm>
                <a:off x="1528200" y="4349160"/>
                <a:ext cx="127440" cy="24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8" name="AutoShape 36"/>
              <p:cNvCxnSpPr/>
              <p:nvPr/>
            </p:nvCxnSpPr>
            <p:spPr>
              <a:xfrm>
                <a:off x="1364040" y="4349160"/>
                <a:ext cx="127440" cy="24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9" name="AutoShape 37"/>
              <p:cNvCxnSpPr/>
              <p:nvPr/>
            </p:nvCxnSpPr>
            <p:spPr>
              <a:xfrm>
                <a:off x="1203840" y="4349160"/>
                <a:ext cx="127440" cy="24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50" name="AutoShape 38"/>
              <p:cNvCxnSpPr/>
              <p:nvPr/>
            </p:nvCxnSpPr>
            <p:spPr>
              <a:xfrm>
                <a:off x="1039680" y="4349160"/>
                <a:ext cx="127440" cy="24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51" name="AutoShape 39"/>
              <p:cNvCxnSpPr/>
              <p:nvPr/>
            </p:nvCxnSpPr>
            <p:spPr>
              <a:xfrm>
                <a:off x="879840" y="4349160"/>
                <a:ext cx="127440" cy="24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52" name="AutoShape 40"/>
              <p:cNvCxnSpPr/>
              <p:nvPr/>
            </p:nvCxnSpPr>
            <p:spPr>
              <a:xfrm>
                <a:off x="715320" y="4349160"/>
                <a:ext cx="127440" cy="24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653" name="Text Box 42"/>
            <p:cNvSpPr/>
            <p:nvPr/>
          </p:nvSpPr>
          <p:spPr>
            <a:xfrm>
              <a:off x="5715000" y="4772520"/>
              <a:ext cx="1025640" cy="748080"/>
            </a:xfrm>
            <a:prstGeom prst="rect">
              <a:avLst/>
            </a:prstGeom>
            <a:solidFill>
              <a:srgbClr val="fbe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Прямоугольник 42"/>
          <p:cNvSpPr/>
          <p:nvPr/>
        </p:nvSpPr>
        <p:spPr>
          <a:xfrm>
            <a:off x="285840" y="1643040"/>
            <a:ext cx="8643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Выяснить, принадлежит ли  некоторое число  заштрихованной области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43"/>
          <p:cNvSpPr/>
          <p:nvPr/>
        </p:nvSpPr>
        <p:spPr>
          <a:xfrm>
            <a:off x="1214280" y="14292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Номер слайда 4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BCFA-B318-4F91-99EF-4A2285D0BB56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7" name=""/>
          <p:cNvGraphicFramePr/>
          <p:nvPr/>
        </p:nvGraphicFramePr>
        <p:xfrm>
          <a:off x="357120" y="2071800"/>
          <a:ext cx="8786880" cy="300024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  <a:gridCol w="2928960"/>
              </a:tblGrid>
              <a:tr h="30002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№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8" name="Рисунок 1" descr="Дз1.JPG"/>
          <p:cNvPicPr/>
          <p:nvPr/>
        </p:nvPicPr>
        <p:blipFill>
          <a:blip r:embed="rId1"/>
          <a:srcRect l="6653" t="4535" r="0" b="7937"/>
          <a:stretch/>
        </p:blipFill>
        <p:spPr>
          <a:xfrm>
            <a:off x="500040" y="2714760"/>
            <a:ext cx="2629080" cy="1928520"/>
          </a:xfrm>
          <a:prstGeom prst="rect">
            <a:avLst/>
          </a:prstGeom>
          <a:ln w="0">
            <a:noFill/>
          </a:ln>
        </p:spPr>
      </p:pic>
      <p:pic>
        <p:nvPicPr>
          <p:cNvPr id="659" name="Рисунок 0" descr="Дз3.JPG"/>
          <p:cNvPicPr/>
          <p:nvPr/>
        </p:nvPicPr>
        <p:blipFill>
          <a:blip r:embed="rId2"/>
          <a:srcRect l="6658" t="3401" r="0" b="0"/>
          <a:stretch/>
        </p:blipFill>
        <p:spPr>
          <a:xfrm>
            <a:off x="6429240" y="2643120"/>
            <a:ext cx="2500560" cy="2041560"/>
          </a:xfrm>
          <a:prstGeom prst="rect">
            <a:avLst/>
          </a:prstGeom>
          <a:ln w="0">
            <a:noFill/>
          </a:ln>
        </p:spPr>
      </p:pic>
      <p:pic>
        <p:nvPicPr>
          <p:cNvPr id="660" name="Рисунок 2" descr="Дз2.JPG"/>
          <p:cNvPicPr/>
          <p:nvPr/>
        </p:nvPicPr>
        <p:blipFill>
          <a:blip r:embed="rId3"/>
          <a:srcRect l="6835" t="3856" r="0" b="0"/>
          <a:stretch/>
        </p:blipFill>
        <p:spPr>
          <a:xfrm>
            <a:off x="3429000" y="2643120"/>
            <a:ext cx="2643120" cy="214812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4"/>
          <p:cNvSpPr/>
          <p:nvPr/>
        </p:nvSpPr>
        <p:spPr>
          <a:xfrm>
            <a:off x="0" y="8280"/>
            <a:ext cx="914400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инадлежит ли точка с координатами (х;у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закрашенной обла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Запишите условный опера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0" y="5362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3» - одна задач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4» -две любые задач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«5» при решении тре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5710-FB9A-4C3A-9EAE-C17E2DDADC05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285840" y="1214280"/>
            <a:ext cx="868680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спеет ли спортсмен преодолеть расстояние в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м, если А часов он ехал на велосипеде со скоростью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V1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км/ч, В часов шел пешком со скоростью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V2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км/ч.</a:t>
            </a:r>
            <a:endParaRPr b="0" lang="en-US" sz="2800" spc="-1" strike="noStrike">
              <a:solidFill>
                <a:srgbClr val="4e3b3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16" name="Номер слайда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3759-E9E3-4DEB-8355-7AFA2844AE7C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rcRect l="5304" t="25719" r="7144" b="34292"/>
          <a:stretch/>
        </p:blipFill>
        <p:spPr>
          <a:xfrm>
            <a:off x="2214720" y="2928960"/>
            <a:ext cx="4714560" cy="1285920"/>
          </a:xfrm>
          <a:prstGeom prst="rect">
            <a:avLst/>
          </a:prstGeom>
          <a:ln w="0">
            <a:noFill/>
          </a:ln>
        </p:spPr>
      </p:pic>
      <p:sp>
        <p:nvSpPr>
          <p:cNvPr id="518" name="TextBox 5"/>
          <p:cNvSpPr/>
          <p:nvPr/>
        </p:nvSpPr>
        <p:spPr>
          <a:xfrm>
            <a:off x="357120" y="4572000"/>
            <a:ext cx="83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*V1+B*V2&gt;=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WRITELN (‘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WRITELN (‘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УСПЕ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6"/>
          <p:cNvSpPr/>
          <p:nvPr/>
        </p:nvSpPr>
        <p:spPr>
          <a:xfrm>
            <a:off x="6500880" y="55008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"/>
          <p:cNvSpPr/>
          <p:nvPr/>
        </p:nvSpPr>
        <p:spPr>
          <a:xfrm>
            <a:off x="357120" y="3571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оверка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3"/>
          <p:cNvSpPr/>
          <p:nvPr/>
        </p:nvSpPr>
        <p:spPr>
          <a:xfrm>
            <a:off x="357120" y="3571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Найдите значение числа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Прямоугольник 4" descr=""/>
          <p:cNvPicPr/>
          <p:nvPr/>
        </p:nvPicPr>
        <p:blipFill>
          <a:blip r:embed="rId1"/>
          <a:stretch/>
        </p:blipFill>
        <p:spPr>
          <a:xfrm>
            <a:off x="7143840" y="5102280"/>
            <a:ext cx="1298520" cy="1116000"/>
          </a:xfrm>
          <a:prstGeom prst="rect">
            <a:avLst/>
          </a:prstGeom>
          <a:ln w="0">
            <a:noFill/>
          </a:ln>
        </p:spPr>
      </p:pic>
      <p:grpSp>
        <p:nvGrpSpPr>
          <p:cNvPr id="523" name="Группа 45"/>
          <p:cNvGrpSpPr/>
          <p:nvPr/>
        </p:nvGrpSpPr>
        <p:grpSpPr>
          <a:xfrm>
            <a:off x="1214280" y="1143000"/>
            <a:ext cx="5857920" cy="5281560"/>
            <a:chOff x="1214280" y="1143000"/>
            <a:chExt cx="5857920" cy="5281560"/>
          </a:xfrm>
        </p:grpSpPr>
        <p:grpSp>
          <p:nvGrpSpPr>
            <p:cNvPr id="524" name="Group 22"/>
            <p:cNvGrpSpPr/>
            <p:nvPr/>
          </p:nvGrpSpPr>
          <p:grpSpPr>
            <a:xfrm>
              <a:off x="1214280" y="1143000"/>
              <a:ext cx="5857920" cy="5281560"/>
              <a:chOff x="1214280" y="1143000"/>
              <a:chExt cx="5857920" cy="5281560"/>
            </a:xfrm>
          </p:grpSpPr>
          <p:sp>
            <p:nvSpPr>
              <p:cNvPr id="525" name="AutoShape 23"/>
              <p:cNvSpPr/>
              <p:nvPr/>
            </p:nvSpPr>
            <p:spPr>
              <a:xfrm>
                <a:off x="2917800" y="1143000"/>
                <a:ext cx="2286000" cy="565920"/>
              </a:xfrm>
              <a:prstGeom prst="flowChartTermina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НАЧАЛ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24"/>
              <p:cNvSpPr/>
              <p:nvPr/>
            </p:nvSpPr>
            <p:spPr>
              <a:xfrm>
                <a:off x="2917800" y="2061360"/>
                <a:ext cx="2286000" cy="530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А:= 2345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AutoShape 25"/>
              <p:cNvSpPr/>
              <p:nvPr/>
            </p:nvSpPr>
            <p:spPr>
              <a:xfrm>
                <a:off x="2571480" y="2928960"/>
                <a:ext cx="2952720" cy="86544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А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&gt;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=234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8" name="AutoShape 26"/>
              <p:cNvCxnSpPr/>
              <p:nvPr/>
            </p:nvCxnSpPr>
            <p:spPr>
              <a:xfrm>
                <a:off x="4061160" y="1708560"/>
                <a:ext cx="1080" cy="353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9" name="AutoShape 27"/>
              <p:cNvCxnSpPr/>
              <p:nvPr/>
            </p:nvCxnSpPr>
            <p:spPr>
              <a:xfrm>
                <a:off x="4061160" y="2592360"/>
                <a:ext cx="1080" cy="336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30" name="AutoShape 28"/>
              <p:cNvCxnSpPr/>
              <p:nvPr/>
            </p:nvCxnSpPr>
            <p:spPr>
              <a:xfrm>
                <a:off x="2356920" y="3357360"/>
                <a:ext cx="1080" cy="62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31" name="AutoShape 29"/>
              <p:cNvCxnSpPr/>
              <p:nvPr/>
            </p:nvCxnSpPr>
            <p:spPr>
              <a:xfrm>
                <a:off x="5500080" y="3357360"/>
                <a:ext cx="286200" cy="2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2" name="AutoShape 30"/>
              <p:cNvCxnSpPr/>
              <p:nvPr/>
            </p:nvCxnSpPr>
            <p:spPr>
              <a:xfrm>
                <a:off x="2356920" y="3357360"/>
                <a:ext cx="250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3" name="AutoShape 31"/>
              <p:cNvCxnSpPr/>
              <p:nvPr/>
            </p:nvCxnSpPr>
            <p:spPr>
              <a:xfrm>
                <a:off x="5785920" y="3357360"/>
                <a:ext cx="1080" cy="62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34" name="Rectangle 32"/>
              <p:cNvSpPr/>
              <p:nvPr/>
            </p:nvSpPr>
            <p:spPr>
              <a:xfrm>
                <a:off x="1214280" y="3982680"/>
                <a:ext cx="2571840" cy="530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А: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A MOD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3"/>
              <p:cNvSpPr/>
              <p:nvPr/>
            </p:nvSpPr>
            <p:spPr>
              <a:xfrm>
                <a:off x="4330800" y="3982680"/>
                <a:ext cx="2741400" cy="530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А: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A DIV 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36" name="AutoShape 34"/>
              <p:cNvCxnSpPr/>
              <p:nvPr/>
            </p:nvCxnSpPr>
            <p:spPr>
              <a:xfrm>
                <a:off x="2356920" y="4499640"/>
                <a:ext cx="1080" cy="237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7" name="AutoShape 35"/>
              <p:cNvCxnSpPr/>
              <p:nvPr/>
            </p:nvCxnSpPr>
            <p:spPr>
              <a:xfrm>
                <a:off x="5785920" y="4499640"/>
                <a:ext cx="1080" cy="237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8" name="AutoShape 36"/>
              <p:cNvCxnSpPr/>
              <p:nvPr/>
            </p:nvCxnSpPr>
            <p:spPr>
              <a:xfrm>
                <a:off x="2357280" y="4713840"/>
                <a:ext cx="3430080" cy="2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39" name="AutoShape 37"/>
              <p:cNvCxnSpPr/>
              <p:nvPr/>
            </p:nvCxnSpPr>
            <p:spPr>
              <a:xfrm>
                <a:off x="4060440" y="4750200"/>
                <a:ext cx="1440" cy="336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40" name="AutoShape 38"/>
              <p:cNvSpPr/>
              <p:nvPr/>
            </p:nvSpPr>
            <p:spPr>
              <a:xfrm>
                <a:off x="2500200" y="5072040"/>
                <a:ext cx="3143520" cy="425160"/>
              </a:xfrm>
              <a:prstGeom prst="flowChartInputOutpu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</a:rPr>
                  <a:t>ВЫВОД   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1" name="AutoShape 39"/>
              <p:cNvCxnSpPr/>
              <p:nvPr/>
            </p:nvCxnSpPr>
            <p:spPr>
              <a:xfrm>
                <a:off x="4059360" y="5510880"/>
                <a:ext cx="1080" cy="353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42" name="AutoShape 40"/>
              <p:cNvSpPr/>
              <p:nvPr/>
            </p:nvSpPr>
            <p:spPr>
              <a:xfrm>
                <a:off x="2928600" y="5858640"/>
                <a:ext cx="2286000" cy="565920"/>
              </a:xfrm>
              <a:prstGeom prst="flowChartTermina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КОНЕЦ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TextBox 43"/>
            <p:cNvSpPr/>
            <p:nvPr/>
          </p:nvSpPr>
          <p:spPr>
            <a:xfrm>
              <a:off x="2142720" y="292896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b050"/>
                  </a:solidFill>
                  <a:latin typeface="Cambria"/>
                </a:rPr>
                <a:t>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44"/>
            <p:cNvSpPr/>
            <p:nvPr/>
          </p:nvSpPr>
          <p:spPr>
            <a:xfrm>
              <a:off x="5286240" y="292896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ambria"/>
                </a:rPr>
                <a:t>Н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Номер слайда 2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BD15-54A0-4DEB-B1D7-F109990F74A5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3"/>
          <p:cNvSpPr/>
          <p:nvPr/>
        </p:nvSpPr>
        <p:spPr>
          <a:xfrm>
            <a:off x="142920" y="214200"/>
            <a:ext cx="90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Расположите элементы условного опера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в правильном поряд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5"/>
          <p:cNvSpPr/>
          <p:nvPr/>
        </p:nvSpPr>
        <p:spPr>
          <a:xfrm>
            <a:off x="142920" y="1357200"/>
            <a:ext cx="8786880" cy="857520"/>
          </a:xfrm>
          <a:prstGeom prst="rect">
            <a:avLst/>
          </a:prstGeom>
          <a:solidFill>
            <a:srgbClr val="f9daa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6"/>
          <p:cNvSpPr/>
          <p:nvPr/>
        </p:nvSpPr>
        <p:spPr>
          <a:xfrm>
            <a:off x="8001000" y="492912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7"/>
          <p:cNvSpPr/>
          <p:nvPr/>
        </p:nvSpPr>
        <p:spPr>
          <a:xfrm>
            <a:off x="1000080" y="29289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7072200" y="2857680"/>
            <a:ext cx="15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9"/>
          <p:cNvSpPr/>
          <p:nvPr/>
        </p:nvSpPr>
        <p:spPr>
          <a:xfrm>
            <a:off x="1071720" y="50007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СЛОВИ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0"/>
          <p:cNvSpPr/>
          <p:nvPr/>
        </p:nvSpPr>
        <p:spPr>
          <a:xfrm>
            <a:off x="3643200" y="37148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МАНДА 1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1"/>
          <p:cNvSpPr/>
          <p:nvPr/>
        </p:nvSpPr>
        <p:spPr>
          <a:xfrm>
            <a:off x="4357800" y="49291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МАНДА 2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2"/>
          <p:cNvSpPr/>
          <p:nvPr/>
        </p:nvSpPr>
        <p:spPr>
          <a:xfrm>
            <a:off x="6929280" y="57862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1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597F-FFA5-4044-A614-EEFB694A5362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C -0.0019 -0.01551 -0.00435 -0.02847 -0.00833 -0.04259 C -0.01129 -0.05347 -0.01146 -0.06458 -0.01632 -0.0743 C -0.01997 -0.09259 -0.01459 -0.07014 -0.02171 -0.0868 C -0.02256 -0.08865 -0.02239 -0.09143 -0.02326 -0.09375 C -0.0243 -0.09745 -0.02569 -0.10069 -0.02725 -0.10416 C -0.03576 -0.12222 -0.04583 -0.13865 -0.05555 -0.15532 C -0.05642 -0.15671 -0.05833 -0.15648 -0.05954 -0.15717 C -0.0644 -0.15995 -0.06874 -0.16227 -0.07309 -0.16597 C -0.11476 -0.16389 -0.11771 -0.16296 -0.1665 -0.16597 C -0.17257 -0.16852 -0.175 -0.16898 -0.18004 -0.17315 C -0.18716 -0.17893 -0.1915 -0.1875 -0.19896 -0.19259 C -0.20226 -0.20486 -0.20886 -0.21504 -0.21407 -0.22592 C -0.21771 -0.2449 -0.22414 -0.26273 -0.23004 -0.28078 C -0.23282 -0.28819 -0.23403 -0.29699 -0.2382 -0.3037 C -0.24306 -0.31134 -0.24914 -0.31759 -0.25435 -0.32477 C -0.26042 -0.33264 -0.26997 -0.33356 -0.27744 -0.33727 C -0.28577 -0.34097 -0.29358 -0.34629 -0.30191 -0.34953 C -0.3165 -0.35509 -0.33178 -0.35602 -0.34653 -0.36018 C -0.36719 -0.35903 -0.38803 -0.3581 -0.40886 -0.35648 C -0.42691 -0.35509 -0.44289 -0.32893 -0.46007 -0.32129 C -0.46962 -0.32199 -0.47917 -0.32176 -0.48855 -0.32315 C -0.49341 -0.32384 -0.50382 -0.33125 -0.50886 -0.33356 C -0.51546 -0.33634 -0.5224 -0.33796 -0.529 -0.34051 C -0.53334 -0.34444 -0.5375 -0.34745 -0.54254 -0.34953 C -0.55035 -0.35625 -0.55816 -0.36157 -0.56685 -0.36528 C -0.59046 -0.38403 -0.61997 -0.38842 -0.64688 -0.39352 C -0.67362 -0.40555 -0.69862 -0.39791 -0.72813 -0.39699 C -0.74671 -0.3956 -0.77032 -0.3875 -0.7849 -0.40578 C -0.78664 -0.41365 -0.79046 -0.4199 -0.79289 -0.42708 C -0.79844 -0.44352 -0.80296 -0.45555 -0.81181 -0.46967 C -0.81285 -0.47106 -0.81337 -0.47338 -0.81459 -0.47477 C -0.81563 -0.47592 -0.81737 -0.47569 -0.81858 -0.47662 C -0.81997 -0.47754 -0.82136 -0.4787 -0.82257 -0.48009 C -0.83369 -0.4919 -0.83976 -0.50278 -0.85504 -0.50278 E">
                                      <p:cBhvr>
                                        <p:cTn id="35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21 -1.48148E-006 C -0.02796 -0.00162 -0.02171 -0.00347 -0.01546 -0.00555 C -0.01007 -0.00972 -0.00486 -0.0125 0.00157 -0.01458 C 0.01146 -0.02199 0.01667 -0.02917 0.02518 -0.03819 C 0.02796 -0.04815 0.0349 -0.06157 0.04028 -0.07037 C 0.04323 -0.08055 0.0448 -0.08333 0.04185 -0.0956 C 0.04028 -0.10185 0.03195 -0.10532 0.0283 -0.1081 C 0.02049 -0.11342 0.01337 -0.11805 0.00469 -0.12222 C 0.00018 -0.12454 -0.00486 -0.12592 -0.00885 -0.12963 C -0.01216 -0.1331 -0.01893 -0.14028 -0.01893 -0.14004 C -0.02674 -0.16551 -0.01424 -0.19792 0.00643 -0.21227 C 0.01198 -0.21597 0.01806 -0.21805 0.02344 -0.22129 C 0.03455 -0.22754 0.04462 -0.23588 0.05695 -0.23889 C 0.06667 -0.24583 0.07935 -0.24838 0.09098 -0.25162 C 0.10122 -0.25879 0.08941 -0.25162 0.10435 -0.25694 C 0.11025 -0.25903 0.11546 -0.26227 0.12119 -0.26412 C 0.12813 -0.26852 0.13525 -0.27176 0.14167 -0.27685 C 0.15105 -0.28449 0.15921 -0.29398 0.16841 -0.30185 C 0.17327 -0.30995 0.17796 -0.31852 0.18212 -0.32708 C 0.18594 -0.33542 0.18733 -0.34375 0.19219 -0.35208 C 0.19514 -0.36412 0.19792 -0.37592 0.20105 -0.38796 C 0.20001 -0.39259 0.20001 -0.39768 0.19896 -0.40231 C 0.19705 -0.40949 0.19063 -0.41065 0.1856 -0.41296 C 0.17327 -0.41852 0.16129 -0.42153 0.14844 -0.42384 C 0.13178 -0.4331 0.10938 -0.43287 0.09098 -0.43657 C 0.07605 -0.43958 0.05921 -0.44213 0.04514 -0.44722 C 0.03421 -0.45092 0.02431 -0.45671 0.0132 -0.45972 C 0.00712 -0.46389 4.9999999999998E-006 -0.46805 -0.00694 -0.47037 C -0.01041 -0.47292 -0.01372 -0.47523 -0.01719 -0.47778 C -0.01893 -0.47893 -0.0224 -0.48125 -0.0224 -0.48102 C -0.0323 -0.49768 -0.01875 -0.47847 -0.03073 -0.48842 C -0.0323 -0.48981 -0.03247 -0.49236 -0.03421 -0.49398 C -0.03716 -0.49722 -0.04046 -0.49792 -0.04428 -0.4993 C -0.04931 -0.50324 -0.04913 -0.50092 -0.04913 -0.50417 E">
                                      <p:cBhvr>
                                        <p:cTn id="39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C 0.00799 -0.0037 0.01615 -0.00717 0.02431 -0.00972 C 0.03073 -0.01412 0.02865 -0.01342 0.03542 -0.01527 C 0.0408 -0.01666 0.05174 -0.01921 0.05174 -0.01875 C 0.06042 -0.02338 0.06945 -0.02731 0.07761 -0.03426 C 0.07882 -0.03518 0.09289 -0.05023 0.09514 -0.05115 C 0.10191 -0.05439 0.10678 -0.05972 0.11164 -0.06666 C 0.11684 -0.08171 0.11806 -0.09722 0.11962 -0.11389 C 0.12032 -0.12083 0.12101 -0.13194 0.12379 -0.13842 C 0.12987 -0.15185 0.12796 -0.15301 0.13872 -0.16296 C 0.1415 -0.16551 0.14688 -0.17083 0.14688 -0.1706 C 0.14966 -0.18102 0.14566 -0.17893 0.14289 -0.18773 C 0.14167 -0.19143 0.14011 -0.19907 0.14011 -0.19884 C 0.13959 -0.20347 0.13872 -0.21227 0.13872 -0.21203 E">
                                      <p:cBhvr>
                                        <p:cTn id="43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-0.01574 C -0.02222 -0.01967 -0.01875 -0.0243 -0.01441 -0.02824 C -0.01059 -0.03565 -0.00694 -0.04167 -0.00486 -0.05 C -0.00434 -0.05648 -0.00347 -0.06319 -0.00347 -0.06967 C -0.00347 -0.09676 -0.00365 -0.12384 -0.00486 -0.15092 C -0.00503 -0.15393 -0.01042 -0.16366 -0.01163 -0.16528 C -0.01875 -0.17592 -0.02708 -0.18611 -0.03594 -0.19421 C -0.03906 -0.20602 -0.04566 -0.21643 -0.05087 -0.22662 C -0.05226 -0.2294 -0.05312 -0.23889 -0.05347 -0.24097 C -0.0526 -0.26018 -0.05486 -0.26736 -0.04809 -0.28055 C -0.04462 -0.29444 -0.04965 -0.27824 -0.04271 -0.28958 C -0.03837 -0.29653 -0.04132 -0.30764 -0.04132 -0.31667 E">
                                      <p:cBhvr>
                                        <p:cTn id="47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-0.00602 C 0.00278 -0.0162 -0.01701 -0.03009 -0.02621 -0.03125 C -0.03472 -0.03241 -0.0434 -0.03241 -0.05191 -0.0331 C -0.06267 -0.03472 -0.07413 -0.03704 -0.08437 -0.04213 C -0.09271 -0.0463 -0.09948 -0.05486 -0.10729 -0.06019 C -0.11111 -0.06736 -0.11666 -0.07338 -0.12222 -0.07824 C -0.12621 -0.08634 -0.13472 -0.09074 -0.14114 -0.09607 C -0.14791 -0.11042 -0.13923 -0.09445 -0.14791 -0.10347 C -0.15087 -0.10648 -0.1533 -0.11065 -0.1559 -0.11412 C -0.15816 -0.11713 -0.16406 -0.1213 -0.16406 -0.12107 C -0.16823 -0.12963 -0.17465 -0.13218 -0.17899 -0.1412 C -0.18368 -0.1507 -0.18923 -0.15857 -0.19375 -0.16829 C -0.19514 -0.19884 -0.1901 -0.19028 -0.19791 -0.2007 E">
                                      <p:cBhvr>
                                        <p:cTn id="51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81481E-006 C 0.01841 -0.02291 0.03612 -0.04861 0.05382 -0.07384 C 0.06198 -0.08541 0.07101 -0.09675 0.07778 -0.11064 C 0.08542 -0.12569 0.09358 -0.14143 0.09966 -0.15833 C 0.10348 -0.16851 0.10504 -0.17824 0.10921 -0.18773 C 0.11077 -0.1993 0.11355 -0.2081 0.11632 -0.21875 C 0.12032 -0.23263 0.12223 -0.24745 0.1257 -0.26111 C 0.12744 -0.26666 0.13021 -0.27685 0.1323 -0.28287 C 0.13351 -0.28796 0.13421 -0.29259 0.13525 -0.29791 C 0.1356 -0.29976 0.13577 -0.30138 0.13629 -0.30324 C 0.13889 -0.31273 0.1382 -0.30439 0.14046 -0.31597 C 0.14289 -0.32777 0.14584 -0.33773 0.14879 -0.34884 C 0.15157 -0.35925 0.15191 -0.36921 0.15608 -0.37847 C 0.1573 -0.38495 0.15782 -0.39074 0.15938 -0.39722 C 0.1606 -0.4125 0.16233 -0.41921 0.16962 -0.42777 C 0.17344 -0.4368 0.18455 -0.45231 0.19063 -0.45555 C 0.19358 -0.46064 0.19636 -0.46458 0.20001 -0.46828 C 0.20087 -0.475 0.20105 -0.4824 0.20313 -0.48865 C 0.20348 -0.4905 0.20556 -0.49375 0.20556 -0.49351 E">
                                      <p:cBhvr>
                                        <p:cTn id="55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55556E-006 C 0.00451 -0.01712 0.01475 -0.02754 0.02239 -0.04212 C 0.03072 -0.05786 0.03871 -0.0743 0.04739 -0.08957 C 0.05208 -0.09791 0.05555 -0.10763 0.06059 -0.11573 C 0.0684 -0.12846 0.07847 -0.13934 0.08559 -0.15277 C 0.08854 -0.15832 0.09114 -0.16411 0.0934 -0.17013 C 0.09427 -0.17244 0.09496 -0.17499 0.096 -0.17731 C 0.09826 -0.1817 0.10173 -0.18518 0.10399 -0.18957 C 0.10954 -0.20022 0.11354 -0.2118 0.1184 -0.22291 C 0.1217 -0.23031 0.12239 -0.22846 0.125 -0.23518 C 0.13402 -0.25948 0.14132 -0.28564 0.15399 -0.30717 C 0.15781 -0.32221 0.16579 -0.33332 0.171 -0.34744 C 0.17604 -0.3611 0.17951 -0.37592 0.1842 -0.38957 C 0.18802 -0.40092 0.19322 -0.4111 0.196 -0.42291 C 0.19826 -0.44906 0.19947 -0.4486 0.19739 -0.4824 C 0.19687 -0.48981 0.19236 -0.49791 0.18958 -0.50346 C 0.18611 -0.51041 0.1842 -0.52522 0.18298 -0.53332 C 0.17968 -0.55485 0.17934 -0.57777 0.16458 -0.59119 C 0.16302 -0.59698 0.16197 -0.603 0.16059 -0.60879 C 0.16007 -0.61064 0.15972 -0.61226 0.1592 -0.61411 C 0.15885 -0.61596 0.15798 -0.61944 0.15798 -0.61944 E">
                                      <p:cBhvr>
                                        <p:cTn id="59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3"/>
          <p:cNvSpPr/>
          <p:nvPr/>
        </p:nvSpPr>
        <p:spPr>
          <a:xfrm>
            <a:off x="714240" y="214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н фрагмент программы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найдите значение переменных А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и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Прямоугольник 4" descr=""/>
          <p:cNvPicPr/>
          <p:nvPr/>
        </p:nvPicPr>
        <p:blipFill>
          <a:blip r:embed="rId1"/>
          <a:stretch/>
        </p:blipFill>
        <p:spPr>
          <a:xfrm>
            <a:off x="1225440" y="4675320"/>
            <a:ext cx="3249720" cy="1109520"/>
          </a:xfrm>
          <a:prstGeom prst="rect">
            <a:avLst/>
          </a:prstGeom>
          <a:ln w="0">
            <a:noFill/>
          </a:ln>
        </p:spPr>
      </p:pic>
      <p:sp>
        <p:nvSpPr>
          <p:cNvPr id="558" name="TextBox 8"/>
          <p:cNvSpPr/>
          <p:nvPr/>
        </p:nvSpPr>
        <p:spPr>
          <a:xfrm>
            <a:off x="5715000" y="15001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3"/>
          <p:cNvSpPr/>
          <p:nvPr/>
        </p:nvSpPr>
        <p:spPr>
          <a:xfrm>
            <a:off x="1571760" y="1714680"/>
            <a:ext cx="621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A:=11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B:= 34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IF  A&gt;B  THEN  A:=A*B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ELSE B:=B+A;</a:t>
            </a: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22F1-4449-4346-8DFB-556491221C52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Box 3"/>
          <p:cNvSpPr/>
          <p:nvPr/>
        </p:nvSpPr>
        <p:spPr>
          <a:xfrm>
            <a:off x="714240" y="214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н фрагмент программы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найдите значение переменных А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и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Прямоугольник 4" descr=""/>
          <p:cNvPicPr/>
          <p:nvPr/>
        </p:nvPicPr>
        <p:blipFill>
          <a:blip r:embed="rId1"/>
          <a:stretch/>
        </p:blipFill>
        <p:spPr>
          <a:xfrm>
            <a:off x="1219320" y="4675320"/>
            <a:ext cx="2431800" cy="1109520"/>
          </a:xfrm>
          <a:prstGeom prst="rect">
            <a:avLst/>
          </a:prstGeom>
          <a:ln w="0">
            <a:noFill/>
          </a:ln>
        </p:spPr>
      </p:pic>
      <p:sp>
        <p:nvSpPr>
          <p:cNvPr id="563" name="TextBox 8"/>
          <p:cNvSpPr/>
          <p:nvPr/>
        </p:nvSpPr>
        <p:spPr>
          <a:xfrm>
            <a:off x="5715000" y="15001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3"/>
          <p:cNvSpPr/>
          <p:nvPr/>
        </p:nvSpPr>
        <p:spPr>
          <a:xfrm>
            <a:off x="785880" y="1714680"/>
            <a:ext cx="77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A:=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70</a:t>
            </a: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B:= 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IF  A&gt;B  THEN  A:=A  DIV  B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ELSE  B:=A  MOD  B;</a:t>
            </a: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D8CA-001B-4565-8A01-479797210422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0" y="7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Выяснить, является 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некоторое число решением систе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38"/>
              <p:cNvSpPr txBox="1"/>
              <p:nvPr/>
            </p:nvSpPr>
            <p:spPr>
              <a:xfrm>
                <a:off x="3357720" y="1143000"/>
                <a:ext cx="192852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69" name="Picture 40" descr=""/>
          <p:cNvPicPr/>
          <p:nvPr/>
        </p:nvPicPr>
        <p:blipFill>
          <a:blip r:embed="rId1"/>
          <a:srcRect l="0" t="47667" r="0" b="0"/>
          <a:stretch/>
        </p:blipFill>
        <p:spPr>
          <a:xfrm>
            <a:off x="357120" y="2857680"/>
            <a:ext cx="8429760" cy="2065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70" name="Object 41"/>
              <p:cNvSpPr txBox="1"/>
              <p:nvPr/>
            </p:nvSpPr>
            <p:spPr>
              <a:xfrm>
                <a:off x="2500200" y="5214960"/>
                <a:ext cx="33069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E162-44A9-4611-8960-D1C8743124D3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7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Выяснить, является 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некоторое число решением систе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0" descr=""/>
          <p:cNvPicPr/>
          <p:nvPr/>
        </p:nvPicPr>
        <p:blipFill>
          <a:blip r:embed="rId1"/>
          <a:srcRect l="0" t="47667" r="0" b="0"/>
          <a:stretch/>
        </p:blipFill>
        <p:spPr>
          <a:xfrm>
            <a:off x="357120" y="2857680"/>
            <a:ext cx="8429760" cy="2065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75" name="Object 3"/>
              <p:cNvSpPr txBox="1"/>
              <p:nvPr/>
            </p:nvSpPr>
            <p:spPr>
              <a:xfrm>
                <a:off x="2500200" y="5214960"/>
                <a:ext cx="33069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TextBox 6"/>
          <p:cNvSpPr/>
          <p:nvPr/>
        </p:nvSpPr>
        <p:spPr>
          <a:xfrm>
            <a:off x="2643120" y="135720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2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7"/>
          <p:cNvSpPr/>
          <p:nvPr/>
        </p:nvSpPr>
        <p:spPr>
          <a:xfrm>
            <a:off x="4286160" y="12859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8"/>
          <p:cNvSpPr/>
          <p:nvPr/>
        </p:nvSpPr>
        <p:spPr>
          <a:xfrm>
            <a:off x="3786120" y="1285920"/>
            <a:ext cx="18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Номер слайда 9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79EB-9AD0-41C4-91F5-32EC00ECEAFB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Прямоугольник 8"/>
          <p:cNvSpPr/>
          <p:nvPr/>
        </p:nvSpPr>
        <p:spPr>
          <a:xfrm>
            <a:off x="3786120" y="1285920"/>
            <a:ext cx="18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0" y="7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Выяснить, является 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некоторое число решением систе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0" descr=""/>
          <p:cNvPicPr/>
          <p:nvPr/>
        </p:nvPicPr>
        <p:blipFill>
          <a:blip r:embed="rId1"/>
          <a:srcRect l="0" t="47667" r="0" b="0"/>
          <a:stretch/>
        </p:blipFill>
        <p:spPr>
          <a:xfrm>
            <a:off x="357120" y="2857680"/>
            <a:ext cx="8429760" cy="2065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4" name="Object 2"/>
              <p:cNvSpPr txBox="1"/>
              <p:nvPr/>
            </p:nvSpPr>
            <p:spPr>
              <a:xfrm>
                <a:off x="2500200" y="5214960"/>
                <a:ext cx="33069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TextBox 6"/>
          <p:cNvSpPr/>
          <p:nvPr/>
        </p:nvSpPr>
        <p:spPr>
          <a:xfrm>
            <a:off x="1714680" y="1357200"/>
            <a:ext cx="70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CB23-CDE9-40DE-A621-6FE6AAA0A246}" type="slidenum">
              <a:rPr b="0" lang="ru-RU" sz="1200" spc="-1" strike="noStrike">
                <a:solidFill>
                  <a:srgbClr val="d38e27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6:20:57Z</dcterms:created>
  <dc:creator>XTreme</dc:creator>
  <dc:description/>
  <dc:language>en-US</dc:language>
  <cp:lastModifiedBy>Admin</cp:lastModifiedBy>
  <dcterms:modified xsi:type="dcterms:W3CDTF">2013-11-10T12:27:07Z</dcterms:modified>
  <cp:revision>40</cp:revision>
  <dc:subject/>
  <dc:title>Слайд 1</dc:title>
</cp:coreProperties>
</file>