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1.png" ContentType="image/png"/>
  <Override PartName="/ppt/media/image10.png" ContentType="image/png"/>
  <Override PartName="/ppt/media/image6.jpeg" ContentType="image/jpeg"/>
  <Override PartName="/ppt/media/image27.jpeg" ContentType="image/jpe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5.jpeg" ContentType="image/jpeg"/>
  <Override PartName="/ppt/media/image4.jpeg" ContentType="image/jpeg"/>
  <Override PartName="/ppt/media/image3.png" ContentType="image/png"/>
  <Override PartName="/ppt/media/image26.png" ContentType="image/png"/>
  <Override PartName="/ppt/media/image22.png" ContentType="image/png"/>
  <Override PartName="/ppt/media/image21.png" ContentType="image/png"/>
  <Override PartName="/ppt/media/image19.wmf" ContentType="image/x-wmf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jpeg" ContentType="image/jpeg"/>
  <Override PartName="/ppt/media/image25.wmf" ContentType="image/x-wmf"/>
  <Override PartName="/ppt/media/image23.jpeg" ContentType="image/jpeg"/>
  <Override PartName="/ppt/media/image24.png" ContentType="image/png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7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8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dt" idx="19"/>
          </p:nvPr>
        </p:nvSpPr>
        <p:spPr>
          <a:xfrm>
            <a:off x="3884760" y="-36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Calibri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sldImg"/>
          </p:nvPr>
        </p:nvSpPr>
        <p:spPr>
          <a:xfrm>
            <a:off x="1142640" y="685800"/>
            <a:ext cx="4568760" cy="3425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 type="sldNum" idx="20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Calibri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2A4C14-9458-4080-9D59-47D505E5F805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8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8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8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8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9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9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6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6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6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6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MS Gothic"/>
              </a:rPr>
              <a:t>В завершение повторите предлагаемые действия и их преимущества.  Говорите убежденно и уверенно, и вы продадите свои иде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5E2145-DA91-41F8-B1D3-314238E5CBA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464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3960"/>
            <a:ext cx="7464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49A5C3-0D58-47E0-864D-5C1835A79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248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281840" y="1599840"/>
            <a:ext cx="364248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2CE697-2000-4063-8856-976B3038D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3A3FFF-C2BC-4E4B-B836-C8E31354D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7464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FE0D5A-191C-4AD0-B6BE-C3576C0CA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281840" y="1599840"/>
            <a:ext cx="364248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6840" y="414396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4A419D-E444-4DB1-80A1-3A487FDAA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248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281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281840" y="414396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06400F-58CB-4525-B8A8-3731568C8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281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56840" y="4143960"/>
            <a:ext cx="7464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3DC9BF-F2AF-4D7B-949A-3ED0388EB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464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56840" y="4143960"/>
            <a:ext cx="7464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98AD2A-29B5-48FE-8382-8A02D0AFB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281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6840" y="414396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281840" y="414396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6BAC77-CB1A-4BDE-A0C9-CC3E4BCDA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2980800" y="159984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5504760" y="159984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56840" y="414396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3" name="PlaceHolder 6"/>
          <p:cNvSpPr>
            <a:spLocks noGrp="1"/>
          </p:cNvSpPr>
          <p:nvPr>
            <p:ph/>
          </p:nvPr>
        </p:nvSpPr>
        <p:spPr>
          <a:xfrm>
            <a:off x="2980800" y="414396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4" name="PlaceHolder 7"/>
          <p:cNvSpPr>
            <a:spLocks noGrp="1"/>
          </p:cNvSpPr>
          <p:nvPr>
            <p:ph/>
          </p:nvPr>
        </p:nvSpPr>
        <p:spPr>
          <a:xfrm>
            <a:off x="5504760" y="414396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18A671-C143-4BCF-88DB-E1D57B49E8A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1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396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1840" y="414396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6244A7-00B5-47AE-84BA-0A6B76C7B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0800" y="159984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4760" y="159984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396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0800" y="414396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4760" y="414396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083567-4A78-48D4-BAF3-99AE5FEA360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F0BD12-7142-4CE9-85B4-7B92A00DC15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464600" cy="48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349DA8-1629-4CAD-91E0-F2B746A3E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4646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4F75E6-9D9E-44E3-86A3-7B781A88E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248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1840" y="1599840"/>
            <a:ext cx="364248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6A4CD0-B41C-42F0-9A12-C0BD805CC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08A1EE-BC8E-488E-BA0C-B5D94BD8D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7464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0B953B-1238-4C04-991B-867DAFDFE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1840" y="1599840"/>
            <a:ext cx="364248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396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A97319-A34C-4E34-AF32-B76B532B9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464600" cy="48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B11D1F-E7C2-4278-89C7-4EA2B8FA0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248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1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1840" y="414396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844507-4ED6-43BF-84F1-84513402B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1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3960"/>
            <a:ext cx="7464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B4BAC2-28DF-4614-BF6E-27E02F94A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464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3960"/>
            <a:ext cx="7464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CD3F3A-8F3A-45AD-8C25-FFF743A10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1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396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1840" y="414396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7185C4-D83A-45D7-85A7-104573772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0800" y="159984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4760" y="159984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396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0800" y="414396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4760" y="414396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2944A5-BE23-4853-98D1-57EF4609220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501E4-7721-46FE-819B-62223108A97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464600" cy="48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0A8D6-5BBB-4613-B824-597591E1A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4646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0A1F3-13A1-414F-9FDA-3C26F86FD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248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1840" y="1599840"/>
            <a:ext cx="364248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A0E80-189C-4818-B36E-6810B6ECC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19DDE-AF43-4BB4-9D17-E9C91FF4B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4646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F0A33C-F5B9-4B6A-81A0-164265437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7464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2BBE9-3A2C-43CE-9561-34D973900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1840" y="1599840"/>
            <a:ext cx="364248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396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D55AB-AA84-4154-9772-DCB605227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248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1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1840" y="414396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5FB2E-5DA1-4B3C-BAA9-1FEF05EBD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1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3960"/>
            <a:ext cx="7464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9F153-3F7E-4512-9F46-CF5FA1E96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464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3960"/>
            <a:ext cx="7464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498E0-B2C9-4F29-9970-91C33B633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1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396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1840" y="414396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84BA7-C794-41A7-8969-D3D1D55C4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0800" y="159984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4760" y="159984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396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0800" y="414396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4760" y="414396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211B4-CC1B-4C9A-8299-0AD10BB003E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82252C8-40E0-4798-A130-3EA1C9FFC0B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464600" cy="48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300A85-650E-4954-A708-A92285800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4646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0278F5C-BFDA-45EE-BB2E-521841FE0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248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1840" y="1599840"/>
            <a:ext cx="364248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B79E8D-FE6B-4105-8D17-0D5037CB7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248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1840" y="1599840"/>
            <a:ext cx="364248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4AC97B4-ED19-41C8-990F-C1A2E8143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A2C7E22-CAB3-43A4-B786-27C3C7EC1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7464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1B0B19-3CC2-453B-81F4-56A27A58F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1840" y="1599840"/>
            <a:ext cx="364248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396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49850CE-919F-4A32-A6DC-A3FE9F44F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248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1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1840" y="414396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EC54611-3911-4D78-84E1-839710AC7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1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3960"/>
            <a:ext cx="7464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400E37-280A-4D79-B857-48CD7B148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464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3960"/>
            <a:ext cx="7464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D3E5084-0764-498B-B6D4-AFDD8A493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1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396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1840" y="414396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90A2EA-A698-4F31-AA8A-343D0AFA1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0800" y="159984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4760" y="159984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396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0800" y="414396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4760" y="414396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73BAC1E-1398-4985-8575-D8B7A2C7353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348878F-3F20-4FEF-B12F-4DDB0802550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BFB040-C805-4BE8-85B5-54D80261E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464600" cy="48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5B5703C-584B-4DFD-B8D3-9DB5E3A6E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4646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21DF449-BA78-42CC-8D30-45B14C19B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248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1840" y="1599840"/>
            <a:ext cx="364248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BD074DE-6BE6-4FF3-9012-2ED255B47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E027EAA-CE0F-4312-9417-18B8ACCED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7464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728B557-B83A-4917-9858-7BE4D1C71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1840" y="1599840"/>
            <a:ext cx="364248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396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551058B-E735-4C6F-963E-16D488130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248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1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1840" y="414396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E548E02-424A-47A5-A21E-2349F386C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1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3960"/>
            <a:ext cx="7464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E539F8A-C392-46C0-B7D1-690026892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464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3960"/>
            <a:ext cx="7464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BF80110-3A4C-4542-9B02-7FEAB47D8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1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396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1840" y="414396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CFD50D2-61A1-4AD5-A55C-5E1476B43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7464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D7673A-8A1D-42C7-A8D2-B5405BEDE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0800" y="159984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4760" y="159984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396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0800" y="414396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4760" y="414396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004A485-A1F2-4F22-91A7-9FCF2415A43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4C2B49-FB09-4BBA-8663-0E8954A2FE0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464600" cy="48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2F7328-D1F5-4706-A405-B00268FA5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4646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D34566-87CC-4956-BE54-A91DE3615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248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1840" y="1599840"/>
            <a:ext cx="364248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7C8477-B8D1-4C52-BDF2-7A070860E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B611B5-D70B-46F4-99BB-179D7F0A3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7464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D222BF-A1CC-4327-9C05-F527205CA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1840" y="1599840"/>
            <a:ext cx="364248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396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1C8D8C-C6A1-45FC-89E6-56AE91365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248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1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1840" y="414396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698703-FF46-409C-9EFB-14F233E58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1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3960"/>
            <a:ext cx="7464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112345-8E49-43A6-9B90-276A94501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1840" y="1599840"/>
            <a:ext cx="364248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396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5B96CB-4350-48F3-ABB9-FEBED2079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464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3960"/>
            <a:ext cx="7464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90D60D-885A-46FC-A291-28D54E8C8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1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396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1840" y="414396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100670-6BFA-4E1B-804A-FC819E398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0800" y="159984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4760" y="159984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396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0800" y="414396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4760" y="414396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D3589E-2642-4AFB-80DC-47FB40178EE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CD3F4F6-AB4E-4FCF-9C23-D833AF8B810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464600" cy="48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DA8622B-F2BA-4A40-AABA-ED725945E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4646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224874D-62F5-46AE-8E57-07B053DB8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248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1840" y="1599840"/>
            <a:ext cx="364248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C9587CA-72D7-407F-A61E-CACCFBBD6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116FE82-011A-480C-B29E-514121745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7464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D7101C6-7B33-483D-AEAC-E1F7C3C91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1840" y="1599840"/>
            <a:ext cx="364248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396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9D940A1-1BD5-4A04-8C68-5C760C947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248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1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1840" y="414396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516482-CA36-41DD-9A23-AECD27A38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248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1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1840" y="414396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300A7C9-DA66-4D10-9ED9-00B2B7633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1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3960"/>
            <a:ext cx="7464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842CD3A-DEF8-4D6C-BF76-9359539F6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464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3960"/>
            <a:ext cx="7464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DA60945-9CBA-4FA2-826B-7373F9A28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1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396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1840" y="414396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84EEACC-0DC8-41E3-B262-24AF07E59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0800" y="159984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4760" y="159984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396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0800" y="414396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4760" y="414396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82990F3-C148-440F-8107-4093677E620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3257753-14E7-4820-A40F-CE5BBE8CBE9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464600" cy="48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77CB190-6A58-4769-A9E1-083E929A2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4646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D7B7D06-E88E-470D-BB39-FBD148FCA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248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281840" y="1599840"/>
            <a:ext cx="364248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9E42785-A5AF-4BCE-BA87-A01F3883B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EB75E4E-67FE-495F-8A04-B6188CA5C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1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3960"/>
            <a:ext cx="7464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D5A670-634C-4F2C-AAB6-D5D4F0614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7464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21EAF36-1E00-4B26-8234-6F381967F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281840" y="1599840"/>
            <a:ext cx="364248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6840" y="414396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BF13B88-A9F7-4B5F-976B-64D5B8EDF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248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281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281840" y="414396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A410412-08C3-4D6D-AA93-8FDF91F96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281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6840" y="4143960"/>
            <a:ext cx="7464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90DF8B0-C8C8-44F0-B232-3CCFAA7BA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464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56840" y="4143960"/>
            <a:ext cx="7464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3A1D93B-3E8A-40CC-8CAC-F3BBE150A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281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6840" y="414396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281840" y="414396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4DB75BD-60F1-411E-B4DE-2B885F599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2980800" y="159984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5504760" y="159984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56840" y="414396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6" name="PlaceHolder 6"/>
          <p:cNvSpPr>
            <a:spLocks noGrp="1"/>
          </p:cNvSpPr>
          <p:nvPr>
            <p:ph/>
          </p:nvPr>
        </p:nvSpPr>
        <p:spPr>
          <a:xfrm>
            <a:off x="2980800" y="414396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7" name="PlaceHolder 7"/>
          <p:cNvSpPr>
            <a:spLocks noGrp="1"/>
          </p:cNvSpPr>
          <p:nvPr>
            <p:ph/>
          </p:nvPr>
        </p:nvSpPr>
        <p:spPr>
          <a:xfrm>
            <a:off x="5504760" y="414396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507561D-02F9-4572-BCE0-A784F13A633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FDB755-D8B9-46A6-9D03-2119BE3F6A5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464600" cy="48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C5E4F8-DD67-41AA-BE41-77EE44B1B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4646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B7CE43-F72D-4455-83C5-3C167BA39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763120" y="0"/>
            <a:ext cx="144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4646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-2700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6480" indent="-27144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4400" indent="-18108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59080" indent="-179640">
              <a:spcBef>
                <a:spcPts val="601"/>
              </a:spcBef>
              <a:buClr>
                <a:srgbClr val="fec3ae"/>
              </a:buClr>
              <a:buSzPct val="68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59080" indent="-17964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59080" indent="-17964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8786880" y="266760"/>
            <a:ext cx="200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  <a:ea typeface="Lucida Sans Unicode"/>
              </a:rPr>
              <a:t>10.12.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 rot="5400000">
            <a:off x="6992280" y="3689280"/>
            <a:ext cx="32004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0"/>
            <a:ext cx="144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0"/>
            <a:ext cx="144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"/>
          <p:cNvSpPr/>
          <p:nvPr/>
        </p:nvSpPr>
        <p:spPr>
          <a:xfrm>
            <a:off x="8915400" y="0"/>
            <a:ext cx="144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2"/>
          </p:nvPr>
        </p:nvSpPr>
        <p:spPr>
          <a:xfrm>
            <a:off x="8129160" y="5733720"/>
            <a:ext cx="606600" cy="5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04C17D-CE32-4C86-AF23-D149542B5165}" type="slidenum">
              <a:rPr b="1" lang="ru-RU" sz="1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"/>
          <p:cNvSpPr/>
          <p:nvPr/>
        </p:nvSpPr>
        <p:spPr>
          <a:xfrm>
            <a:off x="106200" y="0"/>
            <a:ext cx="180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"/>
          <p:cNvSpPr/>
          <p:nvPr/>
        </p:nvSpPr>
        <p:spPr>
          <a:xfrm>
            <a:off x="914400" y="0"/>
            <a:ext cx="1440" cy="6858000"/>
          </a:xfrm>
          <a:prstGeom prst="line">
            <a:avLst/>
          </a:prstGeom>
          <a:ln w="57240">
            <a:solidFill>
              <a:srgbClr val="ffe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"/>
          <p:cNvSpPr/>
          <p:nvPr/>
        </p:nvSpPr>
        <p:spPr>
          <a:xfrm>
            <a:off x="853920" y="0"/>
            <a:ext cx="180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"/>
          <p:cNvSpPr/>
          <p:nvPr/>
        </p:nvSpPr>
        <p:spPr>
          <a:xfrm>
            <a:off x="1727280" y="0"/>
            <a:ext cx="1440" cy="6858000"/>
          </a:xfrm>
          <a:prstGeom prst="line">
            <a:avLst/>
          </a:prstGeom>
          <a:ln w="284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"/>
          <p:cNvSpPr/>
          <p:nvPr/>
        </p:nvSpPr>
        <p:spPr>
          <a:xfrm>
            <a:off x="1066680" y="0"/>
            <a:ext cx="180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"/>
          <p:cNvSpPr/>
          <p:nvPr/>
        </p:nvSpPr>
        <p:spPr>
          <a:xfrm>
            <a:off x="9113760" y="0"/>
            <a:ext cx="180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4646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-2700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6480" indent="-27144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4400" indent="-18108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59080" indent="-179640">
              <a:spcBef>
                <a:spcPts val="601"/>
              </a:spcBef>
              <a:buClr>
                <a:srgbClr val="fec3ae"/>
              </a:buClr>
              <a:buSzPct val="68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59080" indent="-17964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59080" indent="-17964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3"/>
          </p:nvPr>
        </p:nvSpPr>
        <p:spPr>
          <a:xfrm>
            <a:off x="9097560" y="222120"/>
            <a:ext cx="2282760" cy="3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  <a:ea typeface="Lucida Sans Unicode"/>
              </a:rPr>
              <a:t>10.12.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rot="5400000">
            <a:off x="7079760" y="4143240"/>
            <a:ext cx="36576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4"/>
          </p:nvPr>
        </p:nvSpPr>
        <p:spPr>
          <a:xfrm>
            <a:off x="1325160" y="4928760"/>
            <a:ext cx="6066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441C8D2-EF24-43F2-A94C-A704204E15BE}" type="slidenum">
              <a:rPr b="1" lang="ru-RU" sz="1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8763120" y="0"/>
            <a:ext cx="144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"/>
          <p:cNvSpPr/>
          <p:nvPr/>
        </p:nvSpPr>
        <p:spPr>
          <a:xfrm>
            <a:off x="76320" y="0"/>
            <a:ext cx="144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"/>
          <p:cNvSpPr/>
          <p:nvPr/>
        </p:nvSpPr>
        <p:spPr>
          <a:xfrm>
            <a:off x="8991720" y="0"/>
            <a:ext cx="144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"/>
          <p:cNvSpPr/>
          <p:nvPr/>
        </p:nvSpPr>
        <p:spPr>
          <a:xfrm>
            <a:off x="8915400" y="0"/>
            <a:ext cx="144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4646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-2700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6480" indent="-27144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4400" indent="-18108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59080" indent="-179640">
              <a:spcBef>
                <a:spcPts val="601"/>
              </a:spcBef>
              <a:buClr>
                <a:srgbClr val="fec3ae"/>
              </a:buClr>
              <a:buSzPct val="68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59080" indent="-17964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59080" indent="-17964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5"/>
          </p:nvPr>
        </p:nvSpPr>
        <p:spPr>
          <a:xfrm>
            <a:off x="8786880" y="266760"/>
            <a:ext cx="200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  <a:ea typeface="Lucida Sans Unicode"/>
              </a:rPr>
              <a:t>10.12.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6"/>
          </p:nvPr>
        </p:nvSpPr>
        <p:spPr>
          <a:xfrm>
            <a:off x="8129160" y="5733720"/>
            <a:ext cx="606600" cy="5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2207902-619B-49EB-95D5-EC849E10F32C}" type="slidenum">
              <a:rPr b="1" lang="ru-RU" sz="1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5400000">
            <a:off x="6992280" y="3689280"/>
            <a:ext cx="32004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"/>
          <p:cNvSpPr/>
          <p:nvPr/>
        </p:nvSpPr>
        <p:spPr>
          <a:xfrm>
            <a:off x="106200" y="0"/>
            <a:ext cx="180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"/>
          <p:cNvSpPr/>
          <p:nvPr/>
        </p:nvSpPr>
        <p:spPr>
          <a:xfrm>
            <a:off x="914400" y="0"/>
            <a:ext cx="1440" cy="6858000"/>
          </a:xfrm>
          <a:prstGeom prst="line">
            <a:avLst/>
          </a:prstGeom>
          <a:ln w="57240">
            <a:solidFill>
              <a:srgbClr val="ffe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"/>
          <p:cNvSpPr/>
          <p:nvPr/>
        </p:nvSpPr>
        <p:spPr>
          <a:xfrm>
            <a:off x="853920" y="0"/>
            <a:ext cx="180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"/>
          <p:cNvSpPr/>
          <p:nvPr/>
        </p:nvSpPr>
        <p:spPr>
          <a:xfrm>
            <a:off x="1727280" y="0"/>
            <a:ext cx="1440" cy="6858000"/>
          </a:xfrm>
          <a:prstGeom prst="line">
            <a:avLst/>
          </a:prstGeom>
          <a:ln w="284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"/>
          <p:cNvSpPr/>
          <p:nvPr/>
        </p:nvSpPr>
        <p:spPr>
          <a:xfrm>
            <a:off x="1066680" y="0"/>
            <a:ext cx="180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"/>
          <p:cNvSpPr/>
          <p:nvPr/>
        </p:nvSpPr>
        <p:spPr>
          <a:xfrm>
            <a:off x="9097920" y="0"/>
            <a:ext cx="180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4646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-2700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6480" indent="-27144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4400" indent="-18108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59080" indent="-179640">
              <a:spcBef>
                <a:spcPts val="601"/>
              </a:spcBef>
              <a:buClr>
                <a:srgbClr val="fec3ae"/>
              </a:buClr>
              <a:buSzPct val="68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59080" indent="-17964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59080" indent="-17964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7"/>
          </p:nvPr>
        </p:nvSpPr>
        <p:spPr>
          <a:xfrm>
            <a:off x="9096120" y="217440"/>
            <a:ext cx="2282760" cy="3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fff39d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fff39d"/>
                </a:solidFill>
                <a:latin typeface="Times New Roman"/>
                <a:ea typeface="Lucida Sans Unicode"/>
              </a:rPr>
              <a:t>10.12.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rot="5400000">
            <a:off x="7079760" y="4140000"/>
            <a:ext cx="36576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sldNum" idx="8"/>
          </p:nvPr>
        </p:nvSpPr>
        <p:spPr>
          <a:xfrm>
            <a:off x="1339920" y="4928760"/>
            <a:ext cx="60624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12E65AD-283C-4457-845C-E17C1ADEF2A0}" type="slidenum">
              <a:rPr b="1" lang="ru-RU" sz="1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8763120" y="0"/>
            <a:ext cx="144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"/>
          <p:cNvSpPr/>
          <p:nvPr/>
        </p:nvSpPr>
        <p:spPr>
          <a:xfrm>
            <a:off x="76320" y="0"/>
            <a:ext cx="144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"/>
          <p:cNvSpPr/>
          <p:nvPr/>
        </p:nvSpPr>
        <p:spPr>
          <a:xfrm>
            <a:off x="8991720" y="0"/>
            <a:ext cx="144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"/>
          <p:cNvSpPr/>
          <p:nvPr/>
        </p:nvSpPr>
        <p:spPr>
          <a:xfrm>
            <a:off x="8915400" y="0"/>
            <a:ext cx="144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4646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-2700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6480" indent="-27144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4400" indent="-18108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59080" indent="-179640">
              <a:spcBef>
                <a:spcPts val="601"/>
              </a:spcBef>
              <a:buClr>
                <a:srgbClr val="fec3ae"/>
              </a:buClr>
              <a:buSzPct val="68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59080" indent="-17964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59080" indent="-17964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9"/>
          </p:nvPr>
        </p:nvSpPr>
        <p:spPr>
          <a:xfrm>
            <a:off x="8786880" y="266760"/>
            <a:ext cx="200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  <a:ea typeface="Lucida Sans Unicode"/>
              </a:rPr>
              <a:t>10.12.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0"/>
          </p:nvPr>
        </p:nvSpPr>
        <p:spPr>
          <a:xfrm>
            <a:off x="8129160" y="5733720"/>
            <a:ext cx="606600" cy="5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5BD7EE7-92D2-4DDA-AB5D-7D664ED47A4F}" type="slidenum">
              <a:rPr b="1" lang="ru-RU" sz="1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rot="5400000">
            <a:off x="6992280" y="3689280"/>
            <a:ext cx="32004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8763120" y="0"/>
            <a:ext cx="144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"/>
          <p:cNvSpPr/>
          <p:nvPr/>
        </p:nvSpPr>
        <p:spPr>
          <a:xfrm>
            <a:off x="6248520" y="0"/>
            <a:ext cx="144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"/>
          <p:cNvSpPr/>
          <p:nvPr/>
        </p:nvSpPr>
        <p:spPr>
          <a:xfrm>
            <a:off x="6192720" y="0"/>
            <a:ext cx="180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"/>
          <p:cNvSpPr/>
          <p:nvPr/>
        </p:nvSpPr>
        <p:spPr>
          <a:xfrm>
            <a:off x="8991720" y="0"/>
            <a:ext cx="144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"/>
          <p:cNvSpPr/>
          <p:nvPr/>
        </p:nvSpPr>
        <p:spPr>
          <a:xfrm>
            <a:off x="8915400" y="0"/>
            <a:ext cx="144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4646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-2700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6480" indent="-27144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4400" indent="-18108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59080" indent="-179640">
              <a:spcBef>
                <a:spcPts val="601"/>
              </a:spcBef>
              <a:buClr>
                <a:srgbClr val="fec3ae"/>
              </a:buClr>
              <a:buSzPct val="68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59080" indent="-17964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59080" indent="-17964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1"/>
          </p:nvPr>
        </p:nvSpPr>
        <p:spPr>
          <a:xfrm>
            <a:off x="8786880" y="266760"/>
            <a:ext cx="200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  <a:ea typeface="Lucida Sans Unicode"/>
              </a:rPr>
              <a:t>10.12.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2"/>
          </p:nvPr>
        </p:nvSpPr>
        <p:spPr>
          <a:xfrm>
            <a:off x="8129160" y="5733720"/>
            <a:ext cx="606600" cy="5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83DDC80-9E5C-4960-A191-52AE4FDEC11A}" type="slidenum">
              <a:rPr b="1" lang="ru-RU" sz="1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rot="5400000">
            <a:off x="6992280" y="3689280"/>
            <a:ext cx="32004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8763120" y="0"/>
            <a:ext cx="144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"/>
          <p:cNvSpPr/>
          <p:nvPr/>
        </p:nvSpPr>
        <p:spPr>
          <a:xfrm>
            <a:off x="8991720" y="0"/>
            <a:ext cx="144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"/>
          <p:cNvSpPr/>
          <p:nvPr/>
        </p:nvSpPr>
        <p:spPr>
          <a:xfrm>
            <a:off x="8915400" y="0"/>
            <a:ext cx="144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"/>
          <p:cNvSpPr/>
          <p:nvPr/>
        </p:nvSpPr>
        <p:spPr>
          <a:xfrm>
            <a:off x="6248520" y="0"/>
            <a:ext cx="144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"/>
          <p:cNvSpPr/>
          <p:nvPr/>
        </p:nvSpPr>
        <p:spPr>
          <a:xfrm>
            <a:off x="6192720" y="0"/>
            <a:ext cx="180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4646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-2700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6480" indent="-27144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4400" indent="-18108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59080" indent="-179640">
              <a:spcBef>
                <a:spcPts val="601"/>
              </a:spcBef>
              <a:buClr>
                <a:srgbClr val="fec3ae"/>
              </a:buClr>
              <a:buSzPct val="68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59080" indent="-17964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59080" indent="-17964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3"/>
          </p:nvPr>
        </p:nvSpPr>
        <p:spPr>
          <a:xfrm>
            <a:off x="8786880" y="266760"/>
            <a:ext cx="200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  <a:ea typeface="Lucida Sans Unicode"/>
              </a:rPr>
              <a:t>10.12.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14"/>
          </p:nvPr>
        </p:nvSpPr>
        <p:spPr>
          <a:xfrm>
            <a:off x="8129160" y="5733720"/>
            <a:ext cx="606600" cy="5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580AD3A-09A0-4E76-9E39-AD4651EB4FA9}" type="slidenum">
              <a:rPr b="1" lang="ru-RU" sz="1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 rot="5400000">
            <a:off x="6992280" y="3689280"/>
            <a:ext cx="32004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8763120" y="0"/>
            <a:ext cx="144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2" name=""/>
          <p:cNvSpPr/>
          <p:nvPr/>
        </p:nvSpPr>
        <p:spPr>
          <a:xfrm>
            <a:off x="76320" y="0"/>
            <a:ext cx="144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3" name=""/>
          <p:cNvSpPr/>
          <p:nvPr/>
        </p:nvSpPr>
        <p:spPr>
          <a:xfrm>
            <a:off x="8991720" y="0"/>
            <a:ext cx="144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4" name="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5" name=""/>
          <p:cNvSpPr/>
          <p:nvPr/>
        </p:nvSpPr>
        <p:spPr>
          <a:xfrm>
            <a:off x="8915400" y="0"/>
            <a:ext cx="144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6" name="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4646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-2700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6480" indent="-27144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4400" indent="-18108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59080" indent="-179640">
              <a:spcBef>
                <a:spcPts val="601"/>
              </a:spcBef>
              <a:buClr>
                <a:srgbClr val="fec3ae"/>
              </a:buClr>
              <a:buSzPct val="68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59080" indent="-17964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59080" indent="-17964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 type="dt" idx="15"/>
          </p:nvPr>
        </p:nvSpPr>
        <p:spPr>
          <a:xfrm>
            <a:off x="8786880" y="266760"/>
            <a:ext cx="200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  <a:ea typeface="Lucida Sans Unicode"/>
              </a:rPr>
              <a:t>10.12.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rot="5400000">
            <a:off x="6992280" y="3689280"/>
            <a:ext cx="32004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sldNum" idx="16"/>
          </p:nvPr>
        </p:nvSpPr>
        <p:spPr>
          <a:xfrm>
            <a:off x="8129160" y="5733720"/>
            <a:ext cx="606600" cy="5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8D433F3-DB2C-4AE4-9BF8-E06070073B3D}" type="slidenum">
              <a:rPr b="1" lang="en-US" sz="1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/>
          <p:nvPr/>
        </p:nvSpPr>
        <p:spPr>
          <a:xfrm>
            <a:off x="8763120" y="0"/>
            <a:ext cx="144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9" name=""/>
          <p:cNvSpPr/>
          <p:nvPr/>
        </p:nvSpPr>
        <p:spPr>
          <a:xfrm>
            <a:off x="76320" y="0"/>
            <a:ext cx="144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0" name=""/>
          <p:cNvSpPr/>
          <p:nvPr/>
        </p:nvSpPr>
        <p:spPr>
          <a:xfrm>
            <a:off x="8991720" y="0"/>
            <a:ext cx="144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1" name="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2" name=""/>
          <p:cNvSpPr/>
          <p:nvPr/>
        </p:nvSpPr>
        <p:spPr>
          <a:xfrm>
            <a:off x="8915400" y="0"/>
            <a:ext cx="144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3" name="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4646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-2700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6480" indent="-27144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4400" indent="-18108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59080" indent="-179640">
              <a:spcBef>
                <a:spcPts val="601"/>
              </a:spcBef>
              <a:buClr>
                <a:srgbClr val="fec3ae"/>
              </a:buClr>
              <a:buSzPct val="68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59080" indent="-17964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59080" indent="-17964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 type="dt" idx="17"/>
          </p:nvPr>
        </p:nvSpPr>
        <p:spPr>
          <a:xfrm>
            <a:off x="8786880" y="266760"/>
            <a:ext cx="200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  <a:ea typeface="Lucida Sans Unicode"/>
              </a:rPr>
              <a:t>10.12.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 rot="5400000">
            <a:off x="6992280" y="3689280"/>
            <a:ext cx="32004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 type="sldNum" idx="18"/>
          </p:nvPr>
        </p:nvSpPr>
        <p:spPr>
          <a:xfrm>
            <a:off x="8129160" y="5733720"/>
            <a:ext cx="606600" cy="5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52FE206-7E5F-432A-A9B4-51B5F71F3254}" type="slidenum">
              <a:rPr b="1" lang="en-US" sz="1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97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wmf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97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97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97.xml"/><Relationship Id="rId4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4" name=""/>
          <p:cNvGrpSpPr/>
          <p:nvPr/>
        </p:nvGrpSpPr>
        <p:grpSpPr>
          <a:xfrm>
            <a:off x="1225440" y="463680"/>
            <a:ext cx="7772400" cy="1584360"/>
            <a:chOff x="1225440" y="463680"/>
            <a:chExt cx="7772400" cy="1584360"/>
          </a:xfrm>
        </p:grpSpPr>
        <p:pic>
          <p:nvPicPr>
            <p:cNvPr id="455" name="" descr=""/>
            <p:cNvPicPr/>
            <p:nvPr/>
          </p:nvPicPr>
          <p:blipFill>
            <a:blip r:embed="rId1"/>
            <a:stretch/>
          </p:blipFill>
          <p:spPr>
            <a:xfrm>
              <a:off x="1225440" y="463680"/>
              <a:ext cx="7772400" cy="158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6" name=""/>
            <p:cNvSpPr/>
            <p:nvPr/>
          </p:nvSpPr>
          <p:spPr>
            <a:xfrm>
              <a:off x="1225440" y="463680"/>
              <a:ext cx="777240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pic>
        <p:nvPicPr>
          <p:cNvPr id="457" name="" descr=""/>
          <p:cNvPicPr/>
          <p:nvPr/>
        </p:nvPicPr>
        <p:blipFill>
          <a:blip r:embed="rId2"/>
          <a:stretch/>
        </p:blipFill>
        <p:spPr>
          <a:xfrm>
            <a:off x="6172200" y="3143160"/>
            <a:ext cx="2971800" cy="3714840"/>
          </a:xfrm>
          <a:prstGeom prst="rect">
            <a:avLst/>
          </a:prstGeom>
          <a:ln w="0">
            <a:noFill/>
          </a:ln>
        </p:spPr>
      </p:pic>
      <p:sp>
        <p:nvSpPr>
          <p:cNvPr id="458" name=""/>
          <p:cNvSpPr/>
          <p:nvPr/>
        </p:nvSpPr>
        <p:spPr>
          <a:xfrm>
            <a:off x="1857240" y="22860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575f6d"/>
                </a:solidFill>
                <a:latin typeface="Century Schoolbook"/>
              </a:rPr>
              <a:t>«Основные типы химический реакций»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9" name=""/>
          <p:cNvSpPr/>
          <p:nvPr/>
        </p:nvSpPr>
        <p:spPr>
          <a:xfrm>
            <a:off x="1214280" y="5214960"/>
            <a:ext cx="5643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Учитель химии МБОУ СОШ №31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Поленкова Ирина Валерьевна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Краснодарский край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Курганинский район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п.Светлая Заря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0" name=""/>
          <p:cNvSpPr/>
          <p:nvPr/>
        </p:nvSpPr>
        <p:spPr>
          <a:xfrm>
            <a:off x="132552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C8065E-2161-4906-A7A8-A3BCB22DE518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2000" fill="hold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" dur="2000" fill="hold"/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4" name=""/>
          <p:cNvGrpSpPr/>
          <p:nvPr/>
        </p:nvGrpSpPr>
        <p:grpSpPr>
          <a:xfrm>
            <a:off x="36360" y="225360"/>
            <a:ext cx="8180640" cy="927000"/>
            <a:chOff x="36360" y="225360"/>
            <a:chExt cx="8180640" cy="927000"/>
          </a:xfrm>
        </p:grpSpPr>
        <p:pic>
          <p:nvPicPr>
            <p:cNvPr id="545" name="" descr=""/>
            <p:cNvPicPr/>
            <p:nvPr/>
          </p:nvPicPr>
          <p:blipFill>
            <a:blip r:embed="rId1"/>
            <a:stretch/>
          </p:blipFill>
          <p:spPr>
            <a:xfrm>
              <a:off x="36360" y="225360"/>
              <a:ext cx="8180640" cy="92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6" name=""/>
            <p:cNvSpPr/>
            <p:nvPr/>
          </p:nvSpPr>
          <p:spPr>
            <a:xfrm>
              <a:off x="36360" y="225360"/>
              <a:ext cx="8180640" cy="92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sp>
        <p:nvSpPr>
          <p:cNvPr id="547" name=""/>
          <p:cNvSpPr/>
          <p:nvPr/>
        </p:nvSpPr>
        <p:spPr>
          <a:xfrm>
            <a:off x="428760" y="1571760"/>
            <a:ext cx="835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Определите тип приведенных ниже реакций: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8" name=""/>
          <p:cNvSpPr/>
          <p:nvPr/>
        </p:nvSpPr>
        <p:spPr>
          <a:xfrm>
            <a:off x="285840" y="2428920"/>
            <a:ext cx="8429400" cy="36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Schoolbook"/>
              </a:rPr>
              <a:t>H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Century Schoolbook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Century Schoolbook"/>
              </a:rPr>
              <a:t> + Br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Century Schoolbook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Century Schoolbook"/>
              </a:rPr>
              <a:t> = 2HBr . . . . . . . . . . . . . . . . .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Schoolbook"/>
              </a:rPr>
              <a:t>Fe + 2HCl = FeCl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Century Schoolbook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Century Schoolbook"/>
              </a:rPr>
              <a:t> + H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Century Schoolbook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Century Schoolbook"/>
              </a:rPr>
              <a:t>↑ .. . . . . . . . . .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Schoolbook"/>
              </a:rPr>
              <a:t>Ca(OH)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Century Schoolbook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Century Schoolbook"/>
              </a:rPr>
              <a:t> + 2HBr = CaBr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Century Schoolbook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Century Schoolbook"/>
              </a:rPr>
              <a:t> + 2H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Century Schoolbook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Century Schoolbook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Schoolbook"/>
              </a:rPr>
              <a:t>                                   </a:t>
            </a:r>
            <a:r>
              <a:rPr b="1" lang="en-US" sz="3600" spc="-1" strike="noStrike">
                <a:solidFill>
                  <a:srgbClr val="000000"/>
                </a:solidFill>
                <a:latin typeface="Century Schoolbook"/>
              </a:rPr>
              <a:t>. . . . . . . . . . . . . .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9" name="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49FBF0-EA9C-4190-8AAB-6D8E222666BE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wedge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dur="indefinite" fill="hold">
                      <p:stCondLst>
                        <p:cond delay="indefinite"/>
                      </p:stCondLst>
                      <p:childTnLst>
                        <p:par>
                          <p:cTn id="15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2" dur="2000" fill="hold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0" name=""/>
          <p:cNvGrpSpPr/>
          <p:nvPr/>
        </p:nvGrpSpPr>
        <p:grpSpPr>
          <a:xfrm>
            <a:off x="36360" y="225360"/>
            <a:ext cx="8826480" cy="927000"/>
            <a:chOff x="36360" y="225360"/>
            <a:chExt cx="8826480" cy="927000"/>
          </a:xfrm>
        </p:grpSpPr>
        <p:pic>
          <p:nvPicPr>
            <p:cNvPr id="551" name="" descr=""/>
            <p:cNvPicPr/>
            <p:nvPr/>
          </p:nvPicPr>
          <p:blipFill>
            <a:blip r:embed="rId1"/>
            <a:stretch/>
          </p:blipFill>
          <p:spPr>
            <a:xfrm>
              <a:off x="36360" y="225360"/>
              <a:ext cx="8826480" cy="92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2" name=""/>
            <p:cNvSpPr/>
            <p:nvPr/>
          </p:nvSpPr>
          <p:spPr>
            <a:xfrm>
              <a:off x="36360" y="225360"/>
              <a:ext cx="8826480" cy="92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sp>
        <p:nvSpPr>
          <p:cNvPr id="553" name=""/>
          <p:cNvSpPr/>
          <p:nvPr/>
        </p:nvSpPr>
        <p:spPr>
          <a:xfrm>
            <a:off x="285840" y="1285920"/>
            <a:ext cx="8572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Расставьте коэффициенты в схемах реакций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4" name=""/>
          <p:cNvSpPr/>
          <p:nvPr/>
        </p:nvSpPr>
        <p:spPr>
          <a:xfrm>
            <a:off x="571680" y="2643120"/>
            <a:ext cx="8001000" cy="30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Schoolbook"/>
              </a:rPr>
              <a:t>Al +   HBr =   AlBr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Century Schoolbook"/>
              </a:rPr>
              <a:t>3</a:t>
            </a:r>
            <a:r>
              <a:rPr b="1" lang="en-US" sz="3600" spc="-1" strike="noStrike">
                <a:solidFill>
                  <a:srgbClr val="000000"/>
                </a:solidFill>
                <a:latin typeface="Century Schoolbook"/>
              </a:rPr>
              <a:t> +   H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Century Schoolbook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Century Schoolbook"/>
              </a:rPr>
              <a:t>↑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Schoolbook"/>
              </a:rPr>
              <a:t>H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Century Schoolbook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Century Schoolbook"/>
              </a:rPr>
              <a:t>S +   I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Century Schoolbook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Century Schoolbook"/>
              </a:rPr>
              <a:t> =   HI +   S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Schoolbook"/>
              </a:rPr>
              <a:t>Cu(NO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Century Schoolbook"/>
              </a:rPr>
              <a:t>3</a:t>
            </a:r>
            <a:r>
              <a:rPr b="1" lang="en-US" sz="3600" spc="-1" strike="noStrike">
                <a:solidFill>
                  <a:srgbClr val="000000"/>
                </a:solidFill>
                <a:latin typeface="Century Schoolbook"/>
              </a:rPr>
              <a:t>)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Century Schoolbook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Century Schoolbook"/>
              </a:rPr>
              <a:t>  =   CuO +   NO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Century Schoolbook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Century Schoolbook"/>
              </a:rPr>
              <a:t>↑ +   O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Century Schoolbook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5" name="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4C06C5-6A4F-4E3E-9252-A2F87211634B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wedge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dur="indefinite" fill="hold">
                      <p:stCondLst>
                        <p:cond delay="indefinite"/>
                      </p:stCondLst>
                      <p:childTnLst>
                        <p:par>
                          <p:cTn id="16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9" dur="2000" fill="hold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"/>
          <p:cNvSpPr/>
          <p:nvPr/>
        </p:nvSpPr>
        <p:spPr>
          <a:xfrm>
            <a:off x="642960" y="1282680"/>
            <a:ext cx="742932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700" spc="-1" strike="noStrike">
                <a:solidFill>
                  <a:srgbClr val="575f6d"/>
                </a:solidFill>
                <a:latin typeface="Century Schoolbook"/>
              </a:rPr>
              <a:t>ОПРЕДЕЛИТЕ ПРИЗНАК ХИМИЧЕСКОЙ РЕАКЦИИ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1"/>
          <a:stretch/>
        </p:blipFill>
        <p:spPr>
          <a:xfrm>
            <a:off x="274680" y="281160"/>
            <a:ext cx="8174160" cy="92520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1500120" y="2214720"/>
            <a:ext cx="5929560" cy="4446360"/>
          </a:xfrm>
          <a:prstGeom prst="roundRect">
            <a:avLst>
              <a:gd name="adj" fmla="val 32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9" name="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B2EA02-C39C-4651-AF9E-8A3F236F5EEB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wedge/>
  </p:transition>
  <p:timing>
    <p:tnLst>
      <p:par>
        <p:cTn id="170" dur="indefinite" restart="never" fill="hold">
          <p:childTnLst>
            <p:seq>
              <p:cTn id="171" dur="indefinite" nodeType="mainSeq">
                <p:childTnLst>
                  <p:par>
                    <p:cTn id="172" dur="indefinite" fill="hold">
                      <p:stCondLst>
                        <p:cond delay="indefinite"/>
                      </p:stCondLst>
                      <p:childTnLst>
                        <p:par>
                          <p:cTn id="17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2000" fill="hold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"/>
          <p:cNvSpPr/>
          <p:nvPr/>
        </p:nvSpPr>
        <p:spPr>
          <a:xfrm>
            <a:off x="642960" y="1285920"/>
            <a:ext cx="7429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900" spc="-1" strike="noStrike">
                <a:solidFill>
                  <a:srgbClr val="575f6d"/>
                </a:solidFill>
                <a:latin typeface="Century Schoolbook"/>
              </a:rPr>
              <a:t>ОПРЕДЕЛИТЕ ПРИЗНАК ХИМИЧЕСКОЙ РЕАКЦИИ</a:t>
            </a:r>
            <a:endParaRPr b="0" lang="en-US" sz="29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561" name="" descr=""/>
          <p:cNvPicPr/>
          <p:nvPr/>
        </p:nvPicPr>
        <p:blipFill>
          <a:blip r:embed="rId1"/>
          <a:stretch/>
        </p:blipFill>
        <p:spPr>
          <a:xfrm>
            <a:off x="274680" y="281160"/>
            <a:ext cx="8174160" cy="925200"/>
          </a:xfrm>
          <a:prstGeom prst="rect">
            <a:avLst/>
          </a:prstGeom>
          <a:ln w="0">
            <a:noFill/>
          </a:ln>
        </p:spPr>
      </p:pic>
      <p:sp>
        <p:nvSpPr>
          <p:cNvPr id="562" name=""/>
          <p:cNvSpPr/>
          <p:nvPr/>
        </p:nvSpPr>
        <p:spPr>
          <a:xfrm>
            <a:off x="1357200" y="2214720"/>
            <a:ext cx="5881680" cy="4411440"/>
          </a:xfrm>
          <a:prstGeom prst="roundRect">
            <a:avLst>
              <a:gd name="adj" fmla="val 32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3" name="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B44139-9300-4311-8CB0-575F0ED57607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wedge/>
  </p:transition>
  <p:timing>
    <p:tnLst>
      <p:par>
        <p:cTn id="177" dur="indefinite" restart="never" fill="hold">
          <p:childTnLst>
            <p:seq>
              <p:cTn id="178" dur="indefinite" nodeType="mainSeq">
                <p:childTnLst>
                  <p:par>
                    <p:cTn id="179" dur="indefinite" fill="hold">
                      <p:stCondLst>
                        <p:cond delay="indefinite"/>
                      </p:stCondLst>
                      <p:childTnLst>
                        <p:par>
                          <p:cTn id="18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3" dur="2000" fill="hold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4" name="" descr=""/>
          <p:cNvPicPr/>
          <p:nvPr/>
        </p:nvPicPr>
        <p:blipFill>
          <a:blip r:embed="rId1"/>
          <a:stretch/>
        </p:blipFill>
        <p:spPr>
          <a:xfrm>
            <a:off x="420840" y="353880"/>
            <a:ext cx="8173800" cy="925560"/>
          </a:xfrm>
          <a:prstGeom prst="rect">
            <a:avLst/>
          </a:prstGeom>
          <a:ln w="0">
            <a:noFill/>
          </a:ln>
        </p:spPr>
      </p:pic>
      <p:grpSp>
        <p:nvGrpSpPr>
          <p:cNvPr id="565" name=""/>
          <p:cNvGrpSpPr/>
          <p:nvPr/>
        </p:nvGrpSpPr>
        <p:grpSpPr>
          <a:xfrm>
            <a:off x="642960" y="1500120"/>
            <a:ext cx="7716960" cy="4748400"/>
            <a:chOff x="642960" y="1500120"/>
            <a:chExt cx="7716960" cy="4748400"/>
          </a:xfrm>
        </p:grpSpPr>
        <p:sp>
          <p:nvSpPr>
            <p:cNvPr id="566" name=""/>
            <p:cNvSpPr/>
            <p:nvPr/>
          </p:nvSpPr>
          <p:spPr>
            <a:xfrm>
              <a:off x="642960" y="1500120"/>
              <a:ext cx="3571920" cy="790560"/>
            </a:xfrm>
            <a:prstGeom prst="rect">
              <a:avLst/>
            </a:prstGeom>
            <a:solidFill>
              <a:srgbClr val="f2e8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Century Schoolbook"/>
                </a:rPr>
                <a:t>Уравнение реакции</a:t>
              </a: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4214880" y="1500120"/>
              <a:ext cx="1071360" cy="790560"/>
            </a:xfrm>
            <a:prstGeom prst="rect">
              <a:avLst/>
            </a:prstGeom>
            <a:solidFill>
              <a:srgbClr val="f2e8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Century Schoolbook"/>
                </a:rPr>
                <a:t>Соединения</a:t>
              </a: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5286240" y="1500120"/>
              <a:ext cx="1000440" cy="790560"/>
            </a:xfrm>
            <a:prstGeom prst="rect">
              <a:avLst/>
            </a:prstGeom>
            <a:solidFill>
              <a:srgbClr val="f2e8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Century Schoolbook"/>
                </a:rPr>
                <a:t>Разложения</a:t>
              </a: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6286680" y="1500120"/>
              <a:ext cx="928440" cy="790560"/>
            </a:xfrm>
            <a:prstGeom prst="rect">
              <a:avLst/>
            </a:prstGeom>
            <a:solidFill>
              <a:srgbClr val="f2e8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Century Schoolbook"/>
                </a:rPr>
                <a:t>Обмена</a:t>
              </a: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7215120" y="1500120"/>
              <a:ext cx="1143000" cy="790560"/>
            </a:xfrm>
            <a:prstGeom prst="rect">
              <a:avLst/>
            </a:prstGeom>
            <a:solidFill>
              <a:srgbClr val="f2e8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Century Schoolbook"/>
                </a:rPr>
                <a:t>Замещения</a:t>
              </a: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642960" y="2290680"/>
              <a:ext cx="3571920" cy="792360"/>
            </a:xfrm>
            <a:prstGeom prst="rect">
              <a:avLst/>
            </a:prstGeom>
            <a:solidFill>
              <a:srgbClr val="e5cd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Century Schoolbook"/>
                </a:rPr>
                <a:t>Mg + 2HCl = MgCl</a:t>
              </a:r>
              <a:r>
                <a:rPr b="0" lang="ru-RU" sz="2000" spc="-1" strike="noStrike" baseline="-25000">
                  <a:solidFill>
                    <a:srgbClr val="000000"/>
                  </a:solidFill>
                  <a:latin typeface="Century Schoolbook"/>
                </a:rPr>
                <a:t>2</a:t>
              </a:r>
              <a:r>
                <a:rPr b="0" lang="ru-RU" sz="2000" spc="-1" strike="noStrike">
                  <a:solidFill>
                    <a:srgbClr val="000000"/>
                  </a:solidFill>
                  <a:latin typeface="Century Schoolbook"/>
                </a:rPr>
                <a:t> + H</a:t>
              </a:r>
              <a:r>
                <a:rPr b="0" lang="ru-RU" sz="2000" spc="-1" strike="noStrike" baseline="-25000">
                  <a:solidFill>
                    <a:srgbClr val="000000"/>
                  </a:solidFill>
                  <a:latin typeface="Century Schoolbook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4214880" y="2290680"/>
              <a:ext cx="1071360" cy="792360"/>
            </a:xfrm>
            <a:prstGeom prst="rect">
              <a:avLst/>
            </a:prstGeom>
            <a:solidFill>
              <a:srgbClr val="e5cd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entury Schoolbook"/>
                </a:rPr>
                <a:t>А</a:t>
              </a: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5286240" y="2290680"/>
              <a:ext cx="1000440" cy="792360"/>
            </a:xfrm>
            <a:prstGeom prst="rect">
              <a:avLst/>
            </a:prstGeom>
            <a:solidFill>
              <a:srgbClr val="e5cd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entury Schoolbook"/>
                </a:rPr>
                <a:t>Р</a:t>
              </a: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6286680" y="2290680"/>
              <a:ext cx="928440" cy="792360"/>
            </a:xfrm>
            <a:prstGeom prst="rect">
              <a:avLst/>
            </a:prstGeom>
            <a:solidFill>
              <a:srgbClr val="e5cd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entury Schoolbook"/>
                </a:rPr>
                <a:t>Ц</a:t>
              </a: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7215120" y="2290680"/>
              <a:ext cx="1143000" cy="792360"/>
            </a:xfrm>
            <a:prstGeom prst="rect">
              <a:avLst/>
            </a:prstGeom>
            <a:solidFill>
              <a:srgbClr val="e5cd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entury Schoolbook"/>
                </a:rPr>
                <a:t>Х</a:t>
              </a: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642960" y="3083040"/>
              <a:ext cx="3571920" cy="790560"/>
            </a:xfrm>
            <a:prstGeom prst="rect">
              <a:avLst/>
            </a:prstGeom>
            <a:solidFill>
              <a:srgbClr val="f2e8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Century Schoolbook"/>
                </a:rPr>
                <a:t>2Fe(OH)</a:t>
              </a:r>
              <a:r>
                <a:rPr b="0" lang="ru-RU" sz="2000" spc="-1" strike="noStrike" baseline="-25000">
                  <a:solidFill>
                    <a:srgbClr val="000000"/>
                  </a:solidFill>
                  <a:latin typeface="Century Schoolbook"/>
                </a:rPr>
                <a:t>3</a:t>
              </a:r>
              <a:r>
                <a:rPr b="0" lang="ru-RU" sz="2000" spc="-1" strike="noStrike">
                  <a:solidFill>
                    <a:srgbClr val="000000"/>
                  </a:solidFill>
                  <a:latin typeface="Century Schoolbook"/>
                </a:rPr>
                <a:t> = Fe</a:t>
              </a:r>
              <a:r>
                <a:rPr b="0" lang="ru-RU" sz="2000" spc="-1" strike="noStrike" baseline="-25000">
                  <a:solidFill>
                    <a:srgbClr val="000000"/>
                  </a:solidFill>
                  <a:latin typeface="Century Schoolbook"/>
                </a:rPr>
                <a:t>2</a:t>
              </a:r>
              <a:r>
                <a:rPr b="0" lang="ru-RU" sz="2000" spc="-1" strike="noStrike">
                  <a:solidFill>
                    <a:srgbClr val="000000"/>
                  </a:solidFill>
                  <a:latin typeface="Century Schoolbook"/>
                </a:rPr>
                <a:t>O</a:t>
              </a:r>
              <a:r>
                <a:rPr b="0" lang="ru-RU" sz="2000" spc="-1" strike="noStrike" baseline="-25000">
                  <a:solidFill>
                    <a:srgbClr val="000000"/>
                  </a:solidFill>
                  <a:latin typeface="Century Schoolbook"/>
                </a:rPr>
                <a:t>3</a:t>
              </a:r>
              <a:r>
                <a:rPr b="0" lang="ru-RU" sz="2000" spc="-1" strike="noStrike">
                  <a:solidFill>
                    <a:srgbClr val="000000"/>
                  </a:solidFill>
                  <a:latin typeface="Century Schoolbook"/>
                </a:rPr>
                <a:t> + 3H</a:t>
              </a:r>
              <a:r>
                <a:rPr b="0" lang="ru-RU" sz="2000" spc="-1" strike="noStrike" baseline="-25000">
                  <a:solidFill>
                    <a:srgbClr val="000000"/>
                  </a:solidFill>
                  <a:latin typeface="Century Schoolbook"/>
                </a:rPr>
                <a:t>2</a:t>
              </a:r>
              <a:r>
                <a:rPr b="0" lang="ru-RU" sz="2000" spc="-1" strike="noStrike">
                  <a:solidFill>
                    <a:srgbClr val="000000"/>
                  </a:solidFill>
                  <a:latin typeface="Century Schoolbook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4214880" y="3083040"/>
              <a:ext cx="1071360" cy="790560"/>
            </a:xfrm>
            <a:prstGeom prst="rect">
              <a:avLst/>
            </a:prstGeom>
            <a:solidFill>
              <a:srgbClr val="f2e8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entury Schoolbook"/>
                </a:rPr>
                <a:t>У</a:t>
              </a: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5286240" y="3083040"/>
              <a:ext cx="1000440" cy="790560"/>
            </a:xfrm>
            <a:prstGeom prst="rect">
              <a:avLst/>
            </a:prstGeom>
            <a:solidFill>
              <a:srgbClr val="f2e8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entury Schoolbook"/>
                </a:rPr>
                <a:t>И</a:t>
              </a: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6286680" y="3083040"/>
              <a:ext cx="928440" cy="790560"/>
            </a:xfrm>
            <a:prstGeom prst="rect">
              <a:avLst/>
            </a:prstGeom>
            <a:solidFill>
              <a:srgbClr val="f2e8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entury Schoolbook"/>
                </a:rPr>
                <a:t>К</a:t>
              </a: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7215120" y="3083040"/>
              <a:ext cx="1143000" cy="790560"/>
            </a:xfrm>
            <a:prstGeom prst="rect">
              <a:avLst/>
            </a:prstGeom>
            <a:solidFill>
              <a:srgbClr val="f2e8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entury Schoolbook"/>
                </a:rPr>
                <a:t>Щ</a:t>
              </a: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642960" y="3873600"/>
              <a:ext cx="3571920" cy="790560"/>
            </a:xfrm>
            <a:prstGeom prst="rect">
              <a:avLst/>
            </a:prstGeom>
            <a:solidFill>
              <a:srgbClr val="e5cd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Century Schoolbook"/>
                </a:rPr>
                <a:t>2Ca + O</a:t>
              </a:r>
              <a:r>
                <a:rPr b="0" lang="ru-RU" sz="2000" spc="-1" strike="noStrike" baseline="-25000">
                  <a:solidFill>
                    <a:srgbClr val="000000"/>
                  </a:solidFill>
                  <a:latin typeface="Century Schoolbook"/>
                </a:rPr>
                <a:t>2</a:t>
              </a:r>
              <a:r>
                <a:rPr b="0" lang="ru-RU" sz="2000" spc="-1" strike="noStrike">
                  <a:solidFill>
                    <a:srgbClr val="000000"/>
                  </a:solidFill>
                  <a:latin typeface="Century Schoolbook"/>
                </a:rPr>
                <a:t> = 2CaO</a:t>
              </a:r>
              <a:endParaRPr b="0" lang="en-US" sz="20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14880" y="3873600"/>
              <a:ext cx="1071360" cy="790560"/>
            </a:xfrm>
            <a:prstGeom prst="rect">
              <a:avLst/>
            </a:prstGeom>
            <a:solidFill>
              <a:srgbClr val="e5cd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entury Schoolbook"/>
                </a:rPr>
                <a:t>М</a:t>
              </a: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86240" y="3873600"/>
              <a:ext cx="1000440" cy="790560"/>
            </a:xfrm>
            <a:prstGeom prst="rect">
              <a:avLst/>
            </a:prstGeom>
            <a:solidFill>
              <a:srgbClr val="e5cd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entury Schoolbook"/>
                </a:rPr>
                <a:t>О</a:t>
              </a: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6286680" y="3873600"/>
              <a:ext cx="928440" cy="790560"/>
            </a:xfrm>
            <a:prstGeom prst="rect">
              <a:avLst/>
            </a:prstGeom>
            <a:solidFill>
              <a:srgbClr val="e5cd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entury Schoolbook"/>
                </a:rPr>
                <a:t>Л</a:t>
              </a: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7215120" y="3873600"/>
              <a:ext cx="1143000" cy="790560"/>
            </a:xfrm>
            <a:prstGeom prst="rect">
              <a:avLst/>
            </a:prstGeom>
            <a:solidFill>
              <a:srgbClr val="e5cd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entury Schoolbook"/>
                </a:rPr>
                <a:t>Е</a:t>
              </a: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42960" y="4664160"/>
              <a:ext cx="3571920" cy="792000"/>
            </a:xfrm>
            <a:prstGeom prst="rect">
              <a:avLst/>
            </a:prstGeom>
            <a:solidFill>
              <a:srgbClr val="f2e8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entury Schoolbook"/>
                </a:rPr>
                <a:t>K</a:t>
              </a:r>
              <a:r>
                <a:rPr b="0" lang="ru-RU" sz="2000" spc="-1" strike="noStrike" baseline="-25000">
                  <a:solidFill>
                    <a:srgbClr val="000000"/>
                  </a:solidFill>
                  <a:latin typeface="Century Schoolbook"/>
                </a:rPr>
                <a:t>3</a:t>
              </a:r>
              <a:r>
                <a:rPr b="0" lang="en-US" sz="2000" spc="-1" strike="noStrike">
                  <a:solidFill>
                    <a:srgbClr val="000000"/>
                  </a:solidFill>
                  <a:latin typeface="Century Schoolbook"/>
                </a:rPr>
                <a:t>PO</a:t>
              </a:r>
              <a:r>
                <a:rPr b="0" lang="ru-RU" sz="2000" spc="-1" strike="noStrike" baseline="-25000">
                  <a:solidFill>
                    <a:srgbClr val="000000"/>
                  </a:solidFill>
                  <a:latin typeface="Century Schoolbook"/>
                </a:rPr>
                <a:t>4</a:t>
              </a:r>
              <a:r>
                <a:rPr b="0" lang="ru-RU" sz="2000" spc="-1" strike="noStrike">
                  <a:solidFill>
                    <a:srgbClr val="000000"/>
                  </a:solidFill>
                  <a:latin typeface="Century Schoolbook"/>
                </a:rPr>
                <a:t> + 3</a:t>
              </a:r>
              <a:r>
                <a:rPr b="0" lang="en-US" sz="2000" spc="-1" strike="noStrike">
                  <a:solidFill>
                    <a:srgbClr val="000000"/>
                  </a:solidFill>
                  <a:latin typeface="Century Schoolbook"/>
                </a:rPr>
                <a:t>AgNO</a:t>
              </a:r>
              <a:r>
                <a:rPr b="0" lang="ru-RU" sz="2000" spc="-1" strike="noStrike" baseline="-25000">
                  <a:solidFill>
                    <a:srgbClr val="000000"/>
                  </a:solidFill>
                  <a:latin typeface="Century Schoolbook"/>
                </a:rPr>
                <a:t>3</a:t>
              </a:r>
              <a:r>
                <a:rPr b="0" lang="ru-RU" sz="2000" spc="-1" strike="noStrike">
                  <a:solidFill>
                    <a:srgbClr val="000000"/>
                  </a:solidFill>
                  <a:latin typeface="Century Schoolbook"/>
                </a:rPr>
                <a:t> = </a:t>
              </a:r>
              <a:r>
                <a:rPr b="0" lang="en-US" sz="2000" spc="-1" strike="noStrike">
                  <a:solidFill>
                    <a:srgbClr val="000000"/>
                  </a:solidFill>
                  <a:latin typeface="Century Schoolbook"/>
                </a:rPr>
                <a:t>Ag</a:t>
              </a:r>
              <a:r>
                <a:rPr b="0" lang="ru-RU" sz="2000" spc="-1" strike="noStrike" baseline="-25000">
                  <a:solidFill>
                    <a:srgbClr val="000000"/>
                  </a:solidFill>
                  <a:latin typeface="Century Schoolbook"/>
                </a:rPr>
                <a:t>3</a:t>
              </a:r>
              <a:r>
                <a:rPr b="0" lang="en-US" sz="2000" spc="-1" strike="noStrike">
                  <a:solidFill>
                    <a:srgbClr val="000000"/>
                  </a:solidFill>
                  <a:latin typeface="Century Schoolbook"/>
                </a:rPr>
                <a:t>PO</a:t>
              </a:r>
              <a:r>
                <a:rPr b="0" lang="ru-RU" sz="2000" spc="-1" strike="noStrike" baseline="-25000">
                  <a:solidFill>
                    <a:srgbClr val="000000"/>
                  </a:solidFill>
                  <a:latin typeface="Century Schoolbook"/>
                </a:rPr>
                <a:t>4</a:t>
              </a:r>
              <a:r>
                <a:rPr b="0" lang="ru-RU" sz="2000" spc="-1" strike="noStrike">
                  <a:solidFill>
                    <a:srgbClr val="000000"/>
                  </a:solidFill>
                  <a:latin typeface="Century Schoolbook"/>
                </a:rPr>
                <a:t> + 3</a:t>
              </a:r>
              <a:r>
                <a:rPr b="0" lang="en-US" sz="2000" spc="-1" strike="noStrike">
                  <a:solidFill>
                    <a:srgbClr val="000000"/>
                  </a:solidFill>
                  <a:latin typeface="Century Schoolbook"/>
                </a:rPr>
                <a:t>KNO</a:t>
              </a:r>
              <a:r>
                <a:rPr b="0" lang="ru-RU" sz="2000" spc="-1" strike="noStrike" baseline="-25000">
                  <a:solidFill>
                    <a:srgbClr val="000000"/>
                  </a:solidFill>
                  <a:latin typeface="Century Schoolbook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4214880" y="4664160"/>
              <a:ext cx="1071360" cy="792000"/>
            </a:xfrm>
            <a:prstGeom prst="rect">
              <a:avLst/>
            </a:prstGeom>
            <a:solidFill>
              <a:srgbClr val="f2e8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entury Schoolbook"/>
                </a:rPr>
                <a:t>Е</a:t>
              </a: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5286240" y="4664160"/>
              <a:ext cx="1000440" cy="792000"/>
            </a:xfrm>
            <a:prstGeom prst="rect">
              <a:avLst/>
            </a:prstGeom>
            <a:solidFill>
              <a:srgbClr val="f2e8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entury Schoolbook"/>
                </a:rPr>
                <a:t>С</a:t>
              </a: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6286680" y="4664160"/>
              <a:ext cx="928440" cy="792000"/>
            </a:xfrm>
            <a:prstGeom prst="rect">
              <a:avLst/>
            </a:prstGeom>
            <a:solidFill>
              <a:srgbClr val="f2e8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entury Schoolbook"/>
                </a:rPr>
                <a:t>И</a:t>
              </a: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7215120" y="4664160"/>
              <a:ext cx="1143000" cy="792000"/>
            </a:xfrm>
            <a:prstGeom prst="rect">
              <a:avLst/>
            </a:prstGeom>
            <a:solidFill>
              <a:srgbClr val="f2e8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entury Schoolbook"/>
                </a:rPr>
                <a:t>Ь</a:t>
              </a: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642960" y="5456160"/>
              <a:ext cx="3571920" cy="790560"/>
            </a:xfrm>
            <a:prstGeom prst="rect">
              <a:avLst/>
            </a:prstGeom>
            <a:solidFill>
              <a:srgbClr val="e5cd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Century Schoolbook"/>
                </a:rPr>
                <a:t>2HgO = 2Hg + O</a:t>
              </a:r>
              <a:r>
                <a:rPr b="0" lang="ru-RU" sz="2000" spc="-1" strike="noStrike" baseline="-25000">
                  <a:solidFill>
                    <a:srgbClr val="000000"/>
                  </a:solidFill>
                  <a:latin typeface="Century Schoolbook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214880" y="5456160"/>
              <a:ext cx="1071360" cy="790560"/>
            </a:xfrm>
            <a:prstGeom prst="rect">
              <a:avLst/>
            </a:prstGeom>
            <a:solidFill>
              <a:srgbClr val="e5cd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entury Schoolbook"/>
                </a:rPr>
                <a:t>Б</a:t>
              </a: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5286240" y="5456160"/>
              <a:ext cx="1000440" cy="790560"/>
            </a:xfrm>
            <a:prstGeom prst="rect">
              <a:avLst/>
            </a:prstGeom>
            <a:solidFill>
              <a:srgbClr val="e5cd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entury Schoolbook"/>
                </a:rPr>
                <a:t>Я</a:t>
              </a: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6286680" y="5456160"/>
              <a:ext cx="928440" cy="790560"/>
            </a:xfrm>
            <a:prstGeom prst="rect">
              <a:avLst/>
            </a:prstGeom>
            <a:solidFill>
              <a:srgbClr val="e5cd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entury Schoolbook"/>
                </a:rPr>
                <a:t>Г</a:t>
              </a: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7215120" y="5456160"/>
              <a:ext cx="1143000" cy="790560"/>
            </a:xfrm>
            <a:prstGeom prst="rect">
              <a:avLst/>
            </a:prstGeom>
            <a:solidFill>
              <a:srgbClr val="e5cd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entury Schoolbook"/>
                </a:rPr>
                <a:t>А</a:t>
              </a: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4214880" y="1500120"/>
              <a:ext cx="1440" cy="4746600"/>
            </a:xfrm>
            <a:prstGeom prst="line">
              <a:avLst/>
            </a:prstGeom>
            <a:ln w="12600">
              <a:solidFill>
                <a:srgbClr val="b32c1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5286240" y="1500120"/>
              <a:ext cx="1800" cy="4746600"/>
            </a:xfrm>
            <a:prstGeom prst="line">
              <a:avLst/>
            </a:prstGeom>
            <a:ln w="12600">
              <a:solidFill>
                <a:srgbClr val="b32c1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6286680" y="1500120"/>
              <a:ext cx="1440" cy="4746600"/>
            </a:xfrm>
            <a:prstGeom prst="line">
              <a:avLst/>
            </a:prstGeom>
            <a:ln w="12600">
              <a:solidFill>
                <a:srgbClr val="b32c1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7215120" y="1500120"/>
              <a:ext cx="1800" cy="4746600"/>
            </a:xfrm>
            <a:prstGeom prst="line">
              <a:avLst/>
            </a:prstGeom>
            <a:ln w="12600">
              <a:solidFill>
                <a:srgbClr val="b32c1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42960" y="2290680"/>
              <a:ext cx="7715160" cy="1800"/>
            </a:xfrm>
            <a:prstGeom prst="line">
              <a:avLst/>
            </a:prstGeom>
            <a:ln w="12600">
              <a:solidFill>
                <a:srgbClr val="b32c1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642960" y="3083040"/>
              <a:ext cx="7715160" cy="1440"/>
            </a:xfrm>
            <a:prstGeom prst="line">
              <a:avLst/>
            </a:prstGeom>
            <a:ln w="12600">
              <a:solidFill>
                <a:srgbClr val="b32c1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642960" y="3873600"/>
              <a:ext cx="7715160" cy="1440"/>
            </a:xfrm>
            <a:prstGeom prst="line">
              <a:avLst/>
            </a:prstGeom>
            <a:ln w="12600">
              <a:solidFill>
                <a:srgbClr val="b32c1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642960" y="4664160"/>
              <a:ext cx="7715160" cy="1440"/>
            </a:xfrm>
            <a:prstGeom prst="line">
              <a:avLst/>
            </a:prstGeom>
            <a:ln w="12600">
              <a:solidFill>
                <a:srgbClr val="b32c1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42960" y="5456160"/>
              <a:ext cx="7715160" cy="1800"/>
            </a:xfrm>
            <a:prstGeom prst="line">
              <a:avLst/>
            </a:prstGeom>
            <a:ln w="12600">
              <a:solidFill>
                <a:srgbClr val="b32c1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642960" y="1500120"/>
              <a:ext cx="1440" cy="4746600"/>
            </a:xfrm>
            <a:prstGeom prst="line">
              <a:avLst/>
            </a:prstGeom>
            <a:ln w="12600">
              <a:solidFill>
                <a:srgbClr val="b32c1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8358120" y="1500120"/>
              <a:ext cx="1800" cy="4746600"/>
            </a:xfrm>
            <a:prstGeom prst="line">
              <a:avLst/>
            </a:prstGeom>
            <a:ln w="12600">
              <a:solidFill>
                <a:srgbClr val="b32c1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642960" y="1500120"/>
              <a:ext cx="7715160" cy="1800"/>
            </a:xfrm>
            <a:prstGeom prst="line">
              <a:avLst/>
            </a:prstGeom>
            <a:ln w="12600">
              <a:solidFill>
                <a:srgbClr val="b32c1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642960" y="6246720"/>
              <a:ext cx="7715160" cy="1800"/>
            </a:xfrm>
            <a:prstGeom prst="line">
              <a:avLst/>
            </a:prstGeom>
            <a:ln w="12600">
              <a:solidFill>
                <a:srgbClr val="b32c1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pic>
        <p:nvPicPr>
          <p:cNvPr id="609" name="" descr=""/>
          <p:cNvPicPr/>
          <p:nvPr/>
        </p:nvPicPr>
        <p:blipFill>
          <a:blip r:embed="rId2"/>
          <a:stretch/>
        </p:blipFill>
        <p:spPr>
          <a:xfrm>
            <a:off x="579600" y="828720"/>
            <a:ext cx="7941960" cy="4584600"/>
          </a:xfrm>
          <a:prstGeom prst="rect">
            <a:avLst/>
          </a:prstGeom>
          <a:ln w="0">
            <a:noFill/>
          </a:ln>
        </p:spPr>
      </p:pic>
      <p:sp>
        <p:nvSpPr>
          <p:cNvPr id="610" name="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1B26C5-1ED0-400E-9E34-4DCFB33EBB93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wedge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dur="indefinite" fill="hold">
                      <p:stCondLst>
                        <p:cond delay="indefinite"/>
                      </p:stCondLst>
                      <p:childTnLst>
                        <p:par>
                          <p:cTn id="18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90" dur="2000" fill="hold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dur="indefinite" fill="hold">
                      <p:stCondLst>
                        <p:cond delay="indefinite"/>
                      </p:stCondLst>
                      <p:childTnLst>
                        <p:par>
                          <p:cTn id="19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2000" fill="hold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1" name=""/>
          <p:cNvGrpSpPr/>
          <p:nvPr/>
        </p:nvGrpSpPr>
        <p:grpSpPr>
          <a:xfrm>
            <a:off x="66600" y="133200"/>
            <a:ext cx="8723520" cy="793800"/>
            <a:chOff x="66600" y="133200"/>
            <a:chExt cx="8723520" cy="793800"/>
          </a:xfrm>
        </p:grpSpPr>
        <p:pic>
          <p:nvPicPr>
            <p:cNvPr id="612" name="" descr=""/>
            <p:cNvPicPr/>
            <p:nvPr/>
          </p:nvPicPr>
          <p:blipFill>
            <a:blip r:embed="rId1"/>
            <a:stretch/>
          </p:blipFill>
          <p:spPr>
            <a:xfrm>
              <a:off x="66600" y="133200"/>
              <a:ext cx="8723520" cy="79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3" name=""/>
            <p:cNvSpPr/>
            <p:nvPr/>
          </p:nvSpPr>
          <p:spPr>
            <a:xfrm>
              <a:off x="66600" y="133200"/>
              <a:ext cx="8723520" cy="79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sp>
        <p:nvSpPr>
          <p:cNvPr id="614" name=""/>
          <p:cNvSpPr/>
          <p:nvPr/>
        </p:nvSpPr>
        <p:spPr>
          <a:xfrm>
            <a:off x="642960" y="1214280"/>
            <a:ext cx="7543800" cy="31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70000" indent="-270000">
              <a:spcBef>
                <a:spcPts val="601"/>
              </a:spcBef>
              <a:tabLst>
                <a:tab algn="l" pos="0"/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entury Schoolbook"/>
              </a:rPr>
              <a:t>1. </a:t>
            </a:r>
            <a:r>
              <a:rPr b="0" lang="en-US" sz="5400" spc="-1" strike="noStrike">
                <a:solidFill>
                  <a:srgbClr val="000000"/>
                </a:solidFill>
                <a:latin typeface="Century Schoolbook"/>
              </a:rPr>
              <a:t>2NaCl = 2Na + Cl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entury Schoolbook"/>
              </a:rPr>
              <a:t>2. CaO + CO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2 </a:t>
            </a:r>
            <a:r>
              <a:rPr b="0" lang="en-US" sz="5400" spc="-1" strike="noStrike">
                <a:solidFill>
                  <a:srgbClr val="000000"/>
                </a:solidFill>
                <a:latin typeface="Century Schoolbook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Century Schoolbook"/>
              </a:rPr>
              <a:t>CaCO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entury Schoolbook"/>
              </a:rPr>
              <a:t>3. C + O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2</a:t>
            </a:r>
            <a:r>
              <a:rPr b="0" lang="en-US" sz="5400" spc="-1" strike="noStrike">
                <a:solidFill>
                  <a:srgbClr val="000000"/>
                </a:solidFill>
                <a:latin typeface="Century Schoolbook"/>
              </a:rPr>
              <a:t> =CO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5" name=""/>
          <p:cNvSpPr/>
          <p:nvPr/>
        </p:nvSpPr>
        <p:spPr>
          <a:xfrm>
            <a:off x="838080" y="4500720"/>
            <a:ext cx="7467840" cy="1719720"/>
          </a:xfrm>
          <a:prstGeom prst="rect">
            <a:avLst/>
          </a:prstGeom>
          <a:solidFill>
            <a:srgbClr val="feb6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entury Schoolbook"/>
              </a:rPr>
              <a:t>Ответ: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2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entury Schoolbook"/>
              </a:rPr>
              <a:t>2NaCl = 2Na + Cl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6" name="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9FCF48-A086-4B47-90AA-18F2ED711F93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dur="indefinite" fill="hold">
                      <p:stCondLst>
                        <p:cond delay="0"/>
                      </p:stCondLst>
                      <p:childTnLst>
                        <p:par>
                          <p:cTn id="19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0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203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206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dur="indefinite" fill="hold">
                            <p:stCondLst>
                              <p:cond delay="1500"/>
                            </p:stCondLst>
                            <p:childTnLst>
                              <p:par>
                                <p:cTn id="209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dur="indefinite" fill="hold">
                      <p:stCondLst>
                        <p:cond delay="indefinite"/>
                      </p:stCondLst>
                      <p:childTnLst>
                        <p:par>
                          <p:cTn id="2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7" name=""/>
          <p:cNvGrpSpPr/>
          <p:nvPr/>
        </p:nvGrpSpPr>
        <p:grpSpPr>
          <a:xfrm>
            <a:off x="66600" y="133200"/>
            <a:ext cx="8656560" cy="793800"/>
            <a:chOff x="66600" y="133200"/>
            <a:chExt cx="8656560" cy="793800"/>
          </a:xfrm>
        </p:grpSpPr>
        <p:pic>
          <p:nvPicPr>
            <p:cNvPr id="618" name="" descr=""/>
            <p:cNvPicPr/>
            <p:nvPr/>
          </p:nvPicPr>
          <p:blipFill>
            <a:blip r:embed="rId1"/>
            <a:stretch/>
          </p:blipFill>
          <p:spPr>
            <a:xfrm>
              <a:off x="66600" y="133200"/>
              <a:ext cx="8656560" cy="79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9" name=""/>
            <p:cNvSpPr/>
            <p:nvPr/>
          </p:nvSpPr>
          <p:spPr>
            <a:xfrm>
              <a:off x="66600" y="133200"/>
              <a:ext cx="8656560" cy="79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sp>
        <p:nvSpPr>
          <p:cNvPr id="620" name=""/>
          <p:cNvSpPr/>
          <p:nvPr/>
        </p:nvSpPr>
        <p:spPr>
          <a:xfrm>
            <a:off x="457200" y="1295280"/>
            <a:ext cx="800100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70000" indent="-270000">
              <a:spcBef>
                <a:spcPts val="601"/>
              </a:spcBef>
              <a:tabLst>
                <a:tab algn="l" pos="0"/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entury Schoolbook"/>
              </a:rPr>
              <a:t>1.</a:t>
            </a:r>
            <a:r>
              <a:rPr b="0" lang="en-US" sz="5400" spc="-1" strike="noStrike">
                <a:solidFill>
                  <a:srgbClr val="000000"/>
                </a:solidFill>
                <a:latin typeface="Century Schoolbook"/>
              </a:rPr>
              <a:t>2CuO + C = 2Cu + O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entury Schoolbook"/>
              </a:rPr>
              <a:t>2. 2NO + O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2</a:t>
            </a:r>
            <a:r>
              <a:rPr b="0" lang="en-US" sz="5400" spc="-1" strike="noStrike">
                <a:solidFill>
                  <a:srgbClr val="000000"/>
                </a:solidFill>
                <a:latin typeface="Century Schoolbook"/>
              </a:rPr>
              <a:t> = 2NO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entury Schoolbook"/>
              </a:rPr>
              <a:t>3. Mg +H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2</a:t>
            </a:r>
            <a:r>
              <a:rPr b="0" lang="en-US" sz="5400" spc="-1" strike="noStrike">
                <a:solidFill>
                  <a:srgbClr val="000000"/>
                </a:solidFill>
                <a:latin typeface="Century Schoolbook"/>
              </a:rPr>
              <a:t>S = MgS + H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1" name=""/>
          <p:cNvSpPr/>
          <p:nvPr/>
        </p:nvSpPr>
        <p:spPr>
          <a:xfrm>
            <a:off x="533520" y="4495680"/>
            <a:ext cx="8001000" cy="1465560"/>
          </a:xfrm>
          <a:prstGeom prst="rect">
            <a:avLst/>
          </a:prstGeom>
          <a:solidFill>
            <a:srgbClr val="feb6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entury Schoolbook"/>
              </a:rPr>
              <a:t>Ответ: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entury Schoolbook"/>
              </a:rPr>
              <a:t>2NO + O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2</a:t>
            </a:r>
            <a:r>
              <a:rPr b="0" lang="en-US" sz="5400" spc="-1" strike="noStrike">
                <a:solidFill>
                  <a:srgbClr val="000000"/>
                </a:solidFill>
                <a:latin typeface="Century Schoolbook"/>
              </a:rPr>
              <a:t> = 2NO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2" name="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4969EE-F576-4826-B44B-E5DFC996F4BF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dur="indefinite" fill="hold">
                      <p:stCondLst>
                        <p:cond delay="0"/>
                      </p:stCondLst>
                      <p:childTnLst>
                        <p:par>
                          <p:cTn id="2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224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dur="indefinite" fill="hold">
                            <p:stCondLst>
                              <p:cond delay="1500"/>
                            </p:stCondLst>
                            <p:childTnLst>
                              <p:par>
                                <p:cTn id="230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dur="indefinite" fill="hold">
                      <p:stCondLst>
                        <p:cond delay="indefinite"/>
                      </p:stCondLst>
                      <p:childTnLst>
                        <p:par>
                          <p:cTn id="23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4" dur="indefinite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3" name=""/>
          <p:cNvGrpSpPr/>
          <p:nvPr/>
        </p:nvGrpSpPr>
        <p:grpSpPr>
          <a:xfrm>
            <a:off x="-6480" y="133200"/>
            <a:ext cx="8729640" cy="720720"/>
            <a:chOff x="-6480" y="133200"/>
            <a:chExt cx="8729640" cy="720720"/>
          </a:xfrm>
        </p:grpSpPr>
        <p:pic>
          <p:nvPicPr>
            <p:cNvPr id="624" name="" descr=""/>
            <p:cNvPicPr/>
            <p:nvPr/>
          </p:nvPicPr>
          <p:blipFill>
            <a:blip r:embed="rId1"/>
            <a:stretch/>
          </p:blipFill>
          <p:spPr>
            <a:xfrm>
              <a:off x="-6480" y="133200"/>
              <a:ext cx="8729640" cy="72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5" name=""/>
            <p:cNvSpPr/>
            <p:nvPr/>
          </p:nvSpPr>
          <p:spPr>
            <a:xfrm>
              <a:off x="-6480" y="133200"/>
              <a:ext cx="8729640" cy="7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sp>
        <p:nvSpPr>
          <p:cNvPr id="626" name=""/>
          <p:cNvSpPr/>
          <p:nvPr/>
        </p:nvSpPr>
        <p:spPr>
          <a:xfrm>
            <a:off x="428760" y="1714680"/>
            <a:ext cx="8143920" cy="30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0000" indent="-270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0" lang="ru-RU" sz="4200" spc="-1" strike="noStrike">
                <a:solidFill>
                  <a:srgbClr val="d2611c"/>
                </a:solidFill>
                <a:latin typeface="Times New Roman"/>
                <a:ea typeface="Times New Roman"/>
              </a:rPr>
              <a:t>Жилец из квартиры №26 решил помочь освободиться жильцу из квартиры №29 из его хлорида, но при этом сам попал в западню.</a:t>
            </a:r>
            <a:endParaRPr b="0" lang="en-US" sz="42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7" name="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F08144-B169-46C3-A4B7-C91490AE514F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628" name="" descr=""/>
          <p:cNvPicPr/>
          <p:nvPr/>
        </p:nvPicPr>
        <p:blipFill>
          <a:blip r:embed="rId2"/>
          <a:stretch/>
        </p:blipFill>
        <p:spPr>
          <a:xfrm>
            <a:off x="357120" y="4143240"/>
            <a:ext cx="2908440" cy="2322720"/>
          </a:xfrm>
          <a:prstGeom prst="rect">
            <a:avLst/>
          </a:prstGeom>
          <a:ln w="0">
            <a:noFill/>
          </a:ln>
        </p:spPr>
      </p:pic>
      <p:pic>
        <p:nvPicPr>
          <p:cNvPr id="629" name="" descr=""/>
          <p:cNvPicPr/>
          <p:nvPr/>
        </p:nvPicPr>
        <p:blipFill>
          <a:blip r:embed="rId3"/>
          <a:stretch/>
        </p:blipFill>
        <p:spPr>
          <a:xfrm>
            <a:off x="6286680" y="4500720"/>
            <a:ext cx="2214360" cy="221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dur="indefinite" fill="hold">
                      <p:stCondLst>
                        <p:cond delay="indefinite"/>
                      </p:stCondLst>
                      <p:childTnLst>
                        <p:par>
                          <p:cTn id="24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 fill="hold"/>
                                        <p:tgtEl>
                                          <p:spTgt spid="6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dur="indefinite" fill="hold">
                      <p:stCondLst>
                        <p:cond delay="indefinite"/>
                      </p:stCondLst>
                      <p:childTnLst>
                        <p:par>
                          <p:cTn id="24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 fill="hold"/>
                                        <p:tgtEl>
                                          <p:spTgt spid="6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0" name=""/>
          <p:cNvGrpSpPr/>
          <p:nvPr/>
        </p:nvGrpSpPr>
        <p:grpSpPr>
          <a:xfrm>
            <a:off x="-19080" y="-6480"/>
            <a:ext cx="8761320" cy="927360"/>
            <a:chOff x="-19080" y="-6480"/>
            <a:chExt cx="8761320" cy="927360"/>
          </a:xfrm>
        </p:grpSpPr>
        <p:pic>
          <p:nvPicPr>
            <p:cNvPr id="631" name="" descr=""/>
            <p:cNvPicPr/>
            <p:nvPr/>
          </p:nvPicPr>
          <p:blipFill>
            <a:blip r:embed="rId1"/>
            <a:stretch/>
          </p:blipFill>
          <p:spPr>
            <a:xfrm>
              <a:off x="-19080" y="-6480"/>
              <a:ext cx="8761320" cy="92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-19080" y="-6480"/>
              <a:ext cx="8761320" cy="92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34B26B-8879-4F7E-A629-882EA704FB35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4" name=""/>
          <p:cNvSpPr/>
          <p:nvPr/>
        </p:nvSpPr>
        <p:spPr>
          <a:xfrm>
            <a:off x="285840" y="5715000"/>
            <a:ext cx="678636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 + CuCl</a:t>
            </a:r>
            <a:r>
              <a:rPr b="0" lang="en-US" sz="4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FeCl</a:t>
            </a:r>
            <a:r>
              <a:rPr b="0" lang="en-US" sz="4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Cu</a:t>
            </a:r>
            <a:endParaRPr b="0" lang="en-US" sz="4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635" name="" descr=""/>
          <p:cNvPicPr/>
          <p:nvPr/>
        </p:nvPicPr>
        <p:blipFill>
          <a:blip r:embed="rId2"/>
          <a:stretch/>
        </p:blipFill>
        <p:spPr>
          <a:xfrm>
            <a:off x="1143000" y="2500200"/>
            <a:ext cx="1571760" cy="2251080"/>
          </a:xfrm>
          <a:prstGeom prst="rect">
            <a:avLst/>
          </a:prstGeom>
          <a:ln w="0">
            <a:noFill/>
          </a:ln>
        </p:spPr>
      </p:pic>
      <p:cxnSp>
        <p:nvCxnSpPr>
          <p:cNvPr id="636" name=""/>
          <p:cNvCxnSpPr/>
          <p:nvPr/>
        </p:nvCxnSpPr>
        <p:spPr>
          <a:xfrm>
            <a:off x="1928520" y="4428720"/>
            <a:ext cx="786600" cy="396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37" name=""/>
          <p:cNvSpPr/>
          <p:nvPr/>
        </p:nvSpPr>
        <p:spPr>
          <a:xfrm>
            <a:off x="2786040" y="4214880"/>
            <a:ext cx="1571760" cy="642960"/>
          </a:xfrm>
          <a:prstGeom prst="rect">
            <a:avLst/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8" name=""/>
          <p:cNvSpPr/>
          <p:nvPr/>
        </p:nvSpPr>
        <p:spPr>
          <a:xfrm flipH="1" flipV="1">
            <a:off x="1996560" y="1496880"/>
            <a:ext cx="1792440" cy="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9" name=""/>
          <p:cNvSpPr/>
          <p:nvPr/>
        </p:nvSpPr>
        <p:spPr>
          <a:xfrm flipV="1">
            <a:off x="1998720" y="1496520"/>
            <a:ext cx="1440" cy="2079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40" name=""/>
          <p:cNvSpPr/>
          <p:nvPr/>
        </p:nvSpPr>
        <p:spPr>
          <a:xfrm>
            <a:off x="1928880" y="3286080"/>
            <a:ext cx="214200" cy="500040"/>
          </a:xfrm>
          <a:prstGeom prst="flowChartCollate">
            <a:avLst/>
          </a:prstGeom>
          <a:solidFill>
            <a:srgbClr val="ffffff"/>
          </a:solidFill>
          <a:ln w="25560">
            <a:solidFill>
              <a:srgbClr val="777c8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641" name="" descr=""/>
          <p:cNvPicPr/>
          <p:nvPr/>
        </p:nvPicPr>
        <p:blipFill>
          <a:blip r:embed="rId3"/>
          <a:stretch/>
        </p:blipFill>
        <p:spPr>
          <a:xfrm>
            <a:off x="5857920" y="142920"/>
            <a:ext cx="3111480" cy="20718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dur="indefinite" fill="hold">
                      <p:stCondLst>
                        <p:cond delay="indefinite"/>
                      </p:stCondLst>
                      <p:childTnLst>
                        <p:par>
                          <p:cTn id="25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4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6" dur="500" fill="hold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2" name=""/>
          <p:cNvGrpSpPr/>
          <p:nvPr/>
        </p:nvGrpSpPr>
        <p:grpSpPr>
          <a:xfrm>
            <a:off x="-19080" y="-6480"/>
            <a:ext cx="8761320" cy="927360"/>
            <a:chOff x="-19080" y="-6480"/>
            <a:chExt cx="8761320" cy="927360"/>
          </a:xfrm>
        </p:grpSpPr>
        <p:pic>
          <p:nvPicPr>
            <p:cNvPr id="643" name="" descr=""/>
            <p:cNvPicPr/>
            <p:nvPr/>
          </p:nvPicPr>
          <p:blipFill>
            <a:blip r:embed="rId1"/>
            <a:stretch/>
          </p:blipFill>
          <p:spPr>
            <a:xfrm>
              <a:off x="-19080" y="-6480"/>
              <a:ext cx="8761320" cy="92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4" name=""/>
            <p:cNvSpPr/>
            <p:nvPr/>
          </p:nvSpPr>
          <p:spPr>
            <a:xfrm>
              <a:off x="-19080" y="-6480"/>
              <a:ext cx="8761320" cy="92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sp>
        <p:nvSpPr>
          <p:cNvPr id="645" name="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E6BF46-2DB2-42AA-93D4-42DAA70D9768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646" name="" descr=""/>
          <p:cNvPicPr/>
          <p:nvPr/>
        </p:nvPicPr>
        <p:blipFill>
          <a:blip r:embed="rId2"/>
          <a:stretch/>
        </p:blipFill>
        <p:spPr>
          <a:xfrm>
            <a:off x="6357960" y="4143240"/>
            <a:ext cx="2500200" cy="2524320"/>
          </a:xfrm>
          <a:prstGeom prst="rect">
            <a:avLst/>
          </a:prstGeom>
          <a:ln w="0">
            <a:noFill/>
          </a:ln>
        </p:spPr>
      </p:pic>
      <p:sp>
        <p:nvSpPr>
          <p:cNvPr id="647" name=""/>
          <p:cNvSpPr/>
          <p:nvPr/>
        </p:nvSpPr>
        <p:spPr>
          <a:xfrm>
            <a:off x="285840" y="2225520"/>
            <a:ext cx="75009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1. цинк + хлороводород =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2. калий + сера = сульфид калия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3. кислород + водород =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гидроксид натрия + серная кислота =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алюминий + кислород =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wedge/>
  </p:transition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dur="indefinite" fill="hold">
                      <p:stCondLst>
                        <p:cond delay="indefinite"/>
                      </p:stCondLst>
                      <p:childTnLst>
                        <p:par>
                          <p:cTn id="26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3" dur="3000" fill="hold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1" name=""/>
          <p:cNvGrpSpPr/>
          <p:nvPr/>
        </p:nvGrpSpPr>
        <p:grpSpPr>
          <a:xfrm>
            <a:off x="-407880" y="-92160"/>
            <a:ext cx="9131040" cy="1244520"/>
            <a:chOff x="-407880" y="-92160"/>
            <a:chExt cx="9131040" cy="1244520"/>
          </a:xfrm>
        </p:grpSpPr>
        <p:pic>
          <p:nvPicPr>
            <p:cNvPr id="462" name="" descr=""/>
            <p:cNvPicPr/>
            <p:nvPr/>
          </p:nvPicPr>
          <p:blipFill>
            <a:blip r:embed="rId1"/>
            <a:stretch/>
          </p:blipFill>
          <p:spPr>
            <a:xfrm>
              <a:off x="-407880" y="-92160"/>
              <a:ext cx="9131040" cy="124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3" name=""/>
            <p:cNvSpPr/>
            <p:nvPr/>
          </p:nvSpPr>
          <p:spPr>
            <a:xfrm>
              <a:off x="-407880" y="-92160"/>
              <a:ext cx="9131040" cy="124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pic>
        <p:nvPicPr>
          <p:cNvPr id="464" name="" descr=""/>
          <p:cNvPicPr/>
          <p:nvPr/>
        </p:nvPicPr>
        <p:blipFill>
          <a:blip r:embed="rId2">
            <a:lum bright="40000"/>
          </a:blip>
          <a:stretch/>
        </p:blipFill>
        <p:spPr>
          <a:xfrm>
            <a:off x="5857920" y="2768760"/>
            <a:ext cx="3141720" cy="3924000"/>
          </a:xfrm>
          <a:prstGeom prst="rect">
            <a:avLst/>
          </a:prstGeom>
          <a:ln w="0">
            <a:noFill/>
          </a:ln>
        </p:spPr>
      </p:pic>
      <p:sp>
        <p:nvSpPr>
          <p:cNvPr id="465" name=""/>
          <p:cNvSpPr/>
          <p:nvPr/>
        </p:nvSpPr>
        <p:spPr>
          <a:xfrm>
            <a:off x="45720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0000" indent="-2700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овторить и обобщить знания учащихся о химических реакциях, признаках и типах химических реакций;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закрепить навыки составления химических уравнений и расстановки коэффициентов;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развивать память, устойчивое внимание, самостоятельное мышление, умение слушать и слышать другого человека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6" name="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C23F49-3643-4B49-B464-02E631A384BB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fill="hold">
                      <p:stCondLst>
                        <p:cond delay="indefinite"/>
                      </p:stCondLst>
                      <p:childTnLst>
                        <p:par>
                          <p:cTn id="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dur="indefinite" fill="hold">
                            <p:stCondLst>
                              <p:cond delay="2000"/>
                            </p:stCondLst>
                            <p:childTnLst>
                              <p:par>
                                <p:cTn id="20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4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4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dur="indefinite" fill="hold">
                            <p:stCondLst>
                              <p:cond delay="4000"/>
                            </p:stCondLst>
                            <p:childTnLst>
                              <p:par>
                                <p:cTn id="25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4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4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8" name=""/>
          <p:cNvGrpSpPr/>
          <p:nvPr/>
        </p:nvGrpSpPr>
        <p:grpSpPr>
          <a:xfrm>
            <a:off x="133200" y="-6480"/>
            <a:ext cx="8609040" cy="927360"/>
            <a:chOff x="133200" y="-6480"/>
            <a:chExt cx="8609040" cy="927360"/>
          </a:xfrm>
        </p:grpSpPr>
        <p:pic>
          <p:nvPicPr>
            <p:cNvPr id="649" name="" descr=""/>
            <p:cNvPicPr/>
            <p:nvPr/>
          </p:nvPicPr>
          <p:blipFill>
            <a:blip r:embed="rId1"/>
            <a:stretch/>
          </p:blipFill>
          <p:spPr>
            <a:xfrm>
              <a:off x="133200" y="-6480"/>
              <a:ext cx="8609040" cy="92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0" name=""/>
            <p:cNvSpPr/>
            <p:nvPr/>
          </p:nvSpPr>
          <p:spPr>
            <a:xfrm>
              <a:off x="133200" y="-6480"/>
              <a:ext cx="8609040" cy="92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sp>
        <p:nvSpPr>
          <p:cNvPr id="651" name="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834CF7-E8F2-4E78-91D8-ACF2191672C2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652" name="" descr=""/>
          <p:cNvPicPr/>
          <p:nvPr/>
        </p:nvPicPr>
        <p:blipFill>
          <a:blip r:embed="rId2"/>
          <a:stretch/>
        </p:blipFill>
        <p:spPr>
          <a:xfrm>
            <a:off x="214200" y="3286080"/>
            <a:ext cx="4478400" cy="3365640"/>
          </a:xfrm>
          <a:prstGeom prst="rect">
            <a:avLst/>
          </a:prstGeom>
          <a:ln w="0">
            <a:noFill/>
          </a:ln>
        </p:spPr>
      </p:pic>
      <p:sp>
        <p:nvSpPr>
          <p:cNvPr id="653" name=""/>
          <p:cNvSpPr/>
          <p:nvPr/>
        </p:nvSpPr>
        <p:spPr>
          <a:xfrm>
            <a:off x="4429080" y="1357200"/>
            <a:ext cx="3929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9840" indent="-339840">
              <a:buClr>
                <a:srgbClr val="000000"/>
              </a:buClr>
              <a:buFont typeface="Century Schoolbook"/>
              <a:buAutoNum type="arabicPeriod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entury Schoolbook"/>
              </a:rPr>
              <a:t>§ 32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339840" indent="-339840">
              <a:buClr>
                <a:srgbClr val="000000"/>
              </a:buClr>
              <a:buFont typeface="Century Schoolbook"/>
              <a:buAutoNum type="arabicPeriod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entury Schoolbook"/>
              </a:rPr>
              <a:t>Повторить §25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339840" indent="-339840">
              <a:buClr>
                <a:srgbClr val="000000"/>
              </a:buClr>
              <a:buFont typeface="Century Schoolbook"/>
              <a:buAutoNum type="arabicPeriod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entury Schoolbook"/>
              </a:rPr>
              <a:t>Карточки.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7" name="" descr=""/>
          <p:cNvPicPr/>
          <p:nvPr/>
        </p:nvPicPr>
        <p:blipFill>
          <a:blip r:embed="rId1"/>
          <a:stretch/>
        </p:blipFill>
        <p:spPr>
          <a:xfrm>
            <a:off x="55440" y="2316240"/>
            <a:ext cx="2557440" cy="4487760"/>
          </a:xfrm>
          <a:prstGeom prst="rect">
            <a:avLst/>
          </a:prstGeom>
          <a:ln w="0">
            <a:noFill/>
          </a:ln>
        </p:spPr>
      </p:pic>
      <p:pic>
        <p:nvPicPr>
          <p:cNvPr id="468" name="" descr=""/>
          <p:cNvPicPr/>
          <p:nvPr/>
        </p:nvPicPr>
        <p:blipFill>
          <a:blip r:embed="rId2">
            <a:lum bright="10000"/>
          </a:blip>
          <a:stretch/>
        </p:blipFill>
        <p:spPr>
          <a:xfrm>
            <a:off x="5886360" y="0"/>
            <a:ext cx="3257640" cy="4071960"/>
          </a:xfrm>
          <a:prstGeom prst="rect">
            <a:avLst/>
          </a:prstGeom>
          <a:ln w="0">
            <a:noFill/>
          </a:ln>
        </p:spPr>
      </p:pic>
      <p:grpSp>
        <p:nvGrpSpPr>
          <p:cNvPr id="469" name=""/>
          <p:cNvGrpSpPr/>
          <p:nvPr/>
        </p:nvGrpSpPr>
        <p:grpSpPr>
          <a:xfrm>
            <a:off x="231840" y="1785960"/>
            <a:ext cx="8491320" cy="3432240"/>
            <a:chOff x="231840" y="1785960"/>
            <a:chExt cx="8491320" cy="3432240"/>
          </a:xfrm>
        </p:grpSpPr>
        <p:pic>
          <p:nvPicPr>
            <p:cNvPr id="470" name="" descr=""/>
            <p:cNvPicPr/>
            <p:nvPr/>
          </p:nvPicPr>
          <p:blipFill>
            <a:blip r:embed="rId3"/>
            <a:stretch/>
          </p:blipFill>
          <p:spPr>
            <a:xfrm>
              <a:off x="231840" y="1785960"/>
              <a:ext cx="8491320" cy="343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1" name=""/>
            <p:cNvSpPr/>
            <p:nvPr/>
          </p:nvSpPr>
          <p:spPr>
            <a:xfrm>
              <a:off x="231840" y="1785960"/>
              <a:ext cx="8491320" cy="343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sp>
        <p:nvSpPr>
          <p:cNvPr id="472" name="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D58CF6-4DE1-4380-9F3B-85238B93B312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"/>
          <p:cNvSpPr/>
          <p:nvPr/>
        </p:nvSpPr>
        <p:spPr>
          <a:xfrm>
            <a:off x="142920" y="0"/>
            <a:ext cx="8615160" cy="1143000"/>
          </a:xfrm>
          <a:prstGeom prst="rect">
            <a:avLst/>
          </a:prstGeom>
          <a:solidFill>
            <a:srgbClr val="feb6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000" spc="-1" strike="noStrike">
                <a:solidFill>
                  <a:srgbClr val="0070c0"/>
                </a:solidFill>
                <a:latin typeface="Century Schoolbook"/>
              </a:rPr>
              <a:t>ОСНОВНЫЕ ЧЕТЫРЕ ТИПА ХИМИЧЕСКИХ РЕАКЦИЙ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74" name=""/>
          <p:cNvSpPr/>
          <p:nvPr/>
        </p:nvSpPr>
        <p:spPr>
          <a:xfrm>
            <a:off x="457200" y="2286000"/>
            <a:ext cx="7467480" cy="37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arenR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_____________________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а) 2Р + 3Сl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Century Schoolbook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 = 2РСl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Century Schoolbook"/>
              </a:rPr>
              <a:t>3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б) РСl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Century Schoolbook"/>
              </a:rPr>
              <a:t>3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 + Сl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Century Schoolbook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 = РСl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Century Schoolbook"/>
              </a:rPr>
              <a:t>5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в) Fе + 2FеСl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Century Schoolbook"/>
              </a:rPr>
              <a:t>3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 = 3FеСl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Century Schoolbook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75" name=""/>
          <p:cNvSpPr/>
          <p:nvPr/>
        </p:nvSpPr>
        <p:spPr>
          <a:xfrm>
            <a:off x="857160" y="2214720"/>
            <a:ext cx="442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entury Schoolbook"/>
              </a:rPr>
              <a:t>С О Е Д И Н Е Н И Я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76" name="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90D640-A4B6-42BB-B4E6-47D704478455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dur="indefinite" fill="hold">
                      <p:stCondLst>
                        <p:cond delay="indefinite"/>
                      </p:stCondLst>
                      <p:childTnLst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" dur="500" fill="hold"/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" dur="500" fill="hold"/>
                                        <p:tgtEl>
                                          <p:spTgt spid="4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" dur="500" fill="hold"/>
                                        <p:tgtEl>
                                          <p:spTgt spid="4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 fill="hold"/>
                                        <p:tgtEl>
                                          <p:spTgt spid="4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dur="indefinite" fill="hold">
                      <p:stCondLst>
                        <p:cond delay="indefinite"/>
                      </p:stCondLst>
                      <p:childTnLst>
                        <p:par>
                          <p:cTn id="4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 fill="hold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"/>
          <p:cNvSpPr/>
          <p:nvPr/>
        </p:nvSpPr>
        <p:spPr>
          <a:xfrm>
            <a:off x="457200" y="1928880"/>
            <a:ext cx="7467480" cy="371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0000" indent="-270000">
              <a:spcBef>
                <a:spcPts val="601"/>
              </a:spcBef>
              <a:tabLst>
                <a:tab algn="l" pos="0"/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2)  _________________________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а)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2HgO = 2Hg + 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entury Schoolbook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б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) 2A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entury Schoolbook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O = 4Ag + 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entury Schoolbook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в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) Fe(OH)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entury Schoolbook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= FeO + 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entury Schoolbook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78" name=""/>
          <p:cNvSpPr/>
          <p:nvPr/>
        </p:nvSpPr>
        <p:spPr>
          <a:xfrm>
            <a:off x="142920" y="0"/>
            <a:ext cx="8643960" cy="1143000"/>
          </a:xfrm>
          <a:prstGeom prst="rect">
            <a:avLst/>
          </a:prstGeom>
          <a:solidFill>
            <a:srgbClr val="feb6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000" spc="-1" strike="noStrike">
                <a:solidFill>
                  <a:srgbClr val="0070c0"/>
                </a:solidFill>
                <a:latin typeface="Century Schoolbook"/>
              </a:rPr>
              <a:t>ОСНОВНЫЕ ЧЕТЫРЕ ТИПА ХИМИЧЕСКИХ РЕАКЦИЙ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79" name=""/>
          <p:cNvSpPr/>
          <p:nvPr/>
        </p:nvSpPr>
        <p:spPr>
          <a:xfrm>
            <a:off x="1000080" y="1857240"/>
            <a:ext cx="442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entury Schoolbook"/>
              </a:rPr>
              <a:t>Р А З Л О Ж Е Н И Я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0" name="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2043B1-9281-48BC-9C3F-4AF4A5FF447A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dur="indefinite" fill="hold">
                      <p:stCondLst>
                        <p:cond delay="indefinite"/>
                      </p:stCondLst>
                      <p:childTnLst>
                        <p:par>
                          <p:cTn id="5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 fill="hold"/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" dur="500" fill="hold"/>
                                        <p:tgtEl>
                                          <p:spTgt spid="4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" dur="500" fill="hold"/>
                                        <p:tgtEl>
                                          <p:spTgt spid="4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" dur="500" fill="hold"/>
                                        <p:tgtEl>
                                          <p:spTgt spid="4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dur="indefinite" fill="hold">
                      <p:stCondLst>
                        <p:cond delay="indefinite"/>
                      </p:stCondLst>
                      <p:childTnLst>
                        <p:par>
                          <p:cTn id="6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 fill="hold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"/>
          <p:cNvSpPr/>
          <p:nvPr/>
        </p:nvSpPr>
        <p:spPr>
          <a:xfrm>
            <a:off x="457200" y="2000160"/>
            <a:ext cx="746748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0000" indent="-270000">
              <a:spcBef>
                <a:spcPts val="601"/>
              </a:spcBef>
              <a:tabLst>
                <a:tab algn="l" pos="0"/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3) __________________________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а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) 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entury Schoolbook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+ CuO = Cu + 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entury Schoolbook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б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) C + FeO = Fe + CO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в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) Zn + 2HCl = Z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entury Schoolbook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Cl + 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entury Schoolbook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↑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2" name=""/>
          <p:cNvSpPr/>
          <p:nvPr/>
        </p:nvSpPr>
        <p:spPr>
          <a:xfrm>
            <a:off x="142920" y="0"/>
            <a:ext cx="8643960" cy="1143000"/>
          </a:xfrm>
          <a:prstGeom prst="rect">
            <a:avLst/>
          </a:prstGeom>
          <a:solidFill>
            <a:srgbClr val="feb6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000" spc="-1" strike="noStrike">
                <a:solidFill>
                  <a:srgbClr val="0070c0"/>
                </a:solidFill>
                <a:latin typeface="Century Schoolbook"/>
              </a:rPr>
              <a:t>ОСНОВНЫЕ ЧЕТЫРЕ ТИПА ХИМИЧЕСКИХ РЕАКЦИЙ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3" name=""/>
          <p:cNvSpPr/>
          <p:nvPr/>
        </p:nvSpPr>
        <p:spPr>
          <a:xfrm>
            <a:off x="1071720" y="1928880"/>
            <a:ext cx="442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entury Schoolbook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Century Schoolbook"/>
              </a:rPr>
              <a:t>З А М Е Щ Е Н И Я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4" name="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7D1B61-A330-4262-85D4-1E287773475C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dur="indefinite" fill="hold">
                      <p:stCondLst>
                        <p:cond delay="indefinite"/>
                      </p:stCondLst>
                      <p:childTnLst>
                        <p:par>
                          <p:cTn id="7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" dur="500" fill="hold"/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500" fill="hold"/>
                                        <p:tgtEl>
                                          <p:spTgt spid="4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" dur="500" fill="hold"/>
                                        <p:tgtEl>
                                          <p:spTgt spid="4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" dur="500" fill="hold"/>
                                        <p:tgtEl>
                                          <p:spTgt spid="4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dur="indefinite" fill="hold">
                      <p:stCondLst>
                        <p:cond delay="indefinite"/>
                      </p:stCondLst>
                      <p:childTnLst>
                        <p:par>
                          <p:cTn id="8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 fill="hold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"/>
          <p:cNvSpPr/>
          <p:nvPr/>
        </p:nvSpPr>
        <p:spPr>
          <a:xfrm>
            <a:off x="457200" y="1928880"/>
            <a:ext cx="74674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0000" indent="-270000">
              <a:spcBef>
                <a:spcPts val="601"/>
              </a:spcBef>
              <a:tabLst>
                <a:tab algn="l" pos="0"/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4) ____________________________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а)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MgO + 2HF = Mg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entury Schoolbook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+ 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entury Schoolbook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б)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NaOH + HN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entury Schoolbook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= NaN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entury Schoolbook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+ 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entury Schoolbook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в)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Ca(OH)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entury Schoolbook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+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entury Schoolbook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C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entury Schoolbook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= CaC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entury Schoolbook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↓ + 2KOH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6" name=""/>
          <p:cNvSpPr/>
          <p:nvPr/>
        </p:nvSpPr>
        <p:spPr>
          <a:xfrm>
            <a:off x="142920" y="0"/>
            <a:ext cx="8643960" cy="1143000"/>
          </a:xfrm>
          <a:prstGeom prst="rect">
            <a:avLst/>
          </a:prstGeom>
          <a:solidFill>
            <a:srgbClr val="feb6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000" spc="-1" strike="noStrike">
                <a:solidFill>
                  <a:srgbClr val="0070c0"/>
                </a:solidFill>
                <a:latin typeface="Century Schoolbook"/>
              </a:rPr>
              <a:t>ОСНОВНЫЕ ЧЕТЫРЕ ТИПА ХИМИЧЕСКИХ РЕАКЦИЙ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7" name=""/>
          <p:cNvSpPr/>
          <p:nvPr/>
        </p:nvSpPr>
        <p:spPr>
          <a:xfrm>
            <a:off x="1285920" y="1857240"/>
            <a:ext cx="442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entury Schoolbook"/>
              </a:rPr>
              <a:t>О Б М Е Н А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8" name="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3B9996-3EB6-4A4F-9C69-8C13EEF567CC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dur="indefinite" fill="hold">
                      <p:stCondLst>
                        <p:cond delay="indefinite"/>
                      </p:stCondLst>
                      <p:childTnLst>
                        <p:par>
                          <p:cTn id="9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" dur="500" fill="hold"/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1" dur="500" fill="hold"/>
                                        <p:tgtEl>
                                          <p:spTgt spid="4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" dur="500" fill="hold"/>
                                        <p:tgtEl>
                                          <p:spTgt spid="4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7" dur="500" fill="hold"/>
                                        <p:tgtEl>
                                          <p:spTgt spid="4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dur="indefinite" fill="hold">
                      <p:stCondLst>
                        <p:cond delay="indefinite"/>
                      </p:stCondLst>
                      <p:childTnLst>
                        <p:par>
                          <p:cTn id="10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 fill="hold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9" name=""/>
          <p:cNvGrpSpPr/>
          <p:nvPr/>
        </p:nvGrpSpPr>
        <p:grpSpPr>
          <a:xfrm>
            <a:off x="237960" y="268200"/>
            <a:ext cx="8552160" cy="738360"/>
            <a:chOff x="237960" y="268200"/>
            <a:chExt cx="8552160" cy="738360"/>
          </a:xfrm>
        </p:grpSpPr>
        <p:pic>
          <p:nvPicPr>
            <p:cNvPr id="490" name="" descr=""/>
            <p:cNvPicPr/>
            <p:nvPr/>
          </p:nvPicPr>
          <p:blipFill>
            <a:blip r:embed="rId1"/>
            <a:stretch/>
          </p:blipFill>
          <p:spPr>
            <a:xfrm>
              <a:off x="237960" y="268200"/>
              <a:ext cx="8552160" cy="7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1" name=""/>
            <p:cNvSpPr/>
            <p:nvPr/>
          </p:nvSpPr>
          <p:spPr>
            <a:xfrm>
              <a:off x="237960" y="268200"/>
              <a:ext cx="8552160" cy="73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sp>
        <p:nvSpPr>
          <p:cNvPr id="492" name=""/>
          <p:cNvSpPr/>
          <p:nvPr/>
        </p:nvSpPr>
        <p:spPr>
          <a:xfrm>
            <a:off x="500040" y="1500120"/>
            <a:ext cx="2247840" cy="48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0000" indent="-270000">
              <a:spcBef>
                <a:spcPts val="601"/>
              </a:spcBef>
              <a:tabLst>
                <a:tab algn="l" pos="0"/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Определите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тип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химической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реакции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grpSp>
        <p:nvGrpSpPr>
          <p:cNvPr id="493" name=""/>
          <p:cNvGrpSpPr/>
          <p:nvPr/>
        </p:nvGrpSpPr>
        <p:grpSpPr>
          <a:xfrm>
            <a:off x="3048120" y="1600200"/>
            <a:ext cx="5240160" cy="4330800"/>
            <a:chOff x="3048120" y="1600200"/>
            <a:chExt cx="5240160" cy="4330800"/>
          </a:xfrm>
        </p:grpSpPr>
        <p:sp>
          <p:nvSpPr>
            <p:cNvPr id="494" name=""/>
            <p:cNvSpPr/>
            <p:nvPr/>
          </p:nvSpPr>
          <p:spPr>
            <a:xfrm>
              <a:off x="3048120" y="1600200"/>
              <a:ext cx="2465280" cy="432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До реакции:</a:t>
              </a:r>
              <a:endParaRPr b="0" lang="en-US" sz="2800" spc="-1" strike="noStrike">
                <a:solidFill>
                  <a:srgbClr val="000000"/>
                </a:solidFill>
                <a:latin typeface="Century Schoolbook"/>
              </a:endParaRPr>
            </a:p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513400" y="1600200"/>
              <a:ext cx="2773440" cy="432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После реакции:</a:t>
              </a:r>
              <a:endParaRPr b="0" lang="en-US" sz="2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5513400" y="1600200"/>
              <a:ext cx="1440" cy="432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3048120" y="1600200"/>
              <a:ext cx="1440" cy="4329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8286840" y="1600200"/>
              <a:ext cx="1440" cy="4329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048120" y="1600200"/>
              <a:ext cx="523872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8120" y="5929200"/>
              <a:ext cx="523872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grpSp>
        <p:nvGrpSpPr>
          <p:cNvPr id="501" name=""/>
          <p:cNvGrpSpPr/>
          <p:nvPr/>
        </p:nvGrpSpPr>
        <p:grpSpPr>
          <a:xfrm>
            <a:off x="3505320" y="2362320"/>
            <a:ext cx="1447560" cy="838080"/>
            <a:chOff x="3505320" y="2362320"/>
            <a:chExt cx="1447560" cy="838080"/>
          </a:xfrm>
        </p:grpSpPr>
        <p:sp>
          <p:nvSpPr>
            <p:cNvPr id="502" name=""/>
            <p:cNvSpPr/>
            <p:nvPr/>
          </p:nvSpPr>
          <p:spPr>
            <a:xfrm>
              <a:off x="3505320" y="2362320"/>
              <a:ext cx="990360" cy="838080"/>
            </a:xfrm>
            <a:prstGeom prst="ellipse">
              <a:avLst/>
            </a:prstGeom>
            <a:solidFill>
              <a:srgbClr val="fe863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4419720" y="2514600"/>
              <a:ext cx="533160" cy="533520"/>
            </a:xfrm>
            <a:prstGeom prst="ellipse">
              <a:avLst/>
            </a:prstGeom>
            <a:solidFill>
              <a:srgbClr val="3b435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grpSp>
        <p:nvGrpSpPr>
          <p:cNvPr id="504" name=""/>
          <p:cNvGrpSpPr/>
          <p:nvPr/>
        </p:nvGrpSpPr>
        <p:grpSpPr>
          <a:xfrm>
            <a:off x="5943600" y="2895480"/>
            <a:ext cx="990720" cy="1600200"/>
            <a:chOff x="5943600" y="2895480"/>
            <a:chExt cx="990720" cy="1600200"/>
          </a:xfrm>
        </p:grpSpPr>
        <p:sp>
          <p:nvSpPr>
            <p:cNvPr id="505" name=""/>
            <p:cNvSpPr/>
            <p:nvPr/>
          </p:nvSpPr>
          <p:spPr>
            <a:xfrm>
              <a:off x="5943600" y="2895480"/>
              <a:ext cx="990720" cy="838440"/>
            </a:xfrm>
            <a:prstGeom prst="ellipse">
              <a:avLst/>
            </a:prstGeom>
            <a:solidFill>
              <a:srgbClr val="fe863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5943600" y="3657600"/>
              <a:ext cx="990720" cy="838080"/>
            </a:xfrm>
            <a:prstGeom prst="ellipse">
              <a:avLst/>
            </a:prstGeom>
            <a:solidFill>
              <a:srgbClr val="fe863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grpSp>
        <p:nvGrpSpPr>
          <p:cNvPr id="507" name=""/>
          <p:cNvGrpSpPr/>
          <p:nvPr/>
        </p:nvGrpSpPr>
        <p:grpSpPr>
          <a:xfrm>
            <a:off x="7467480" y="3124080"/>
            <a:ext cx="533520" cy="1067040"/>
            <a:chOff x="7467480" y="3124080"/>
            <a:chExt cx="533520" cy="1067040"/>
          </a:xfrm>
        </p:grpSpPr>
        <p:sp>
          <p:nvSpPr>
            <p:cNvPr id="508" name=""/>
            <p:cNvSpPr/>
            <p:nvPr/>
          </p:nvSpPr>
          <p:spPr>
            <a:xfrm>
              <a:off x="7467480" y="3124080"/>
              <a:ext cx="533520" cy="533520"/>
            </a:xfrm>
            <a:prstGeom prst="ellipse">
              <a:avLst/>
            </a:prstGeom>
            <a:solidFill>
              <a:srgbClr val="3b435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7467480" y="3657600"/>
              <a:ext cx="533520" cy="533520"/>
            </a:xfrm>
            <a:prstGeom prst="ellipse">
              <a:avLst/>
            </a:prstGeom>
            <a:solidFill>
              <a:srgbClr val="3b435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grpSp>
        <p:nvGrpSpPr>
          <p:cNvPr id="510" name=""/>
          <p:cNvGrpSpPr/>
          <p:nvPr/>
        </p:nvGrpSpPr>
        <p:grpSpPr>
          <a:xfrm>
            <a:off x="3505320" y="3886200"/>
            <a:ext cx="1447560" cy="838080"/>
            <a:chOff x="3505320" y="3886200"/>
            <a:chExt cx="1447560" cy="838080"/>
          </a:xfrm>
        </p:grpSpPr>
        <p:sp>
          <p:nvSpPr>
            <p:cNvPr id="511" name=""/>
            <p:cNvSpPr/>
            <p:nvPr/>
          </p:nvSpPr>
          <p:spPr>
            <a:xfrm>
              <a:off x="3505320" y="3886200"/>
              <a:ext cx="990360" cy="838080"/>
            </a:xfrm>
            <a:prstGeom prst="ellipse">
              <a:avLst/>
            </a:prstGeom>
            <a:solidFill>
              <a:srgbClr val="fe863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4419720" y="4038480"/>
              <a:ext cx="533160" cy="533520"/>
            </a:xfrm>
            <a:prstGeom prst="ellipse">
              <a:avLst/>
            </a:prstGeom>
            <a:solidFill>
              <a:srgbClr val="3b435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sp>
        <p:nvSpPr>
          <p:cNvPr id="513" name=""/>
          <p:cNvSpPr/>
          <p:nvPr/>
        </p:nvSpPr>
        <p:spPr>
          <a:xfrm>
            <a:off x="4419720" y="320040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entury Schoolbook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4" name=""/>
          <p:cNvSpPr/>
          <p:nvPr/>
        </p:nvSpPr>
        <p:spPr>
          <a:xfrm>
            <a:off x="6934320" y="327672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entury Schoolbook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5" name="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61BA4E-780B-429C-AF6C-DD9318D13EF2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wedge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dur="indefinite" fill="hold">
                      <p:stCondLst>
                        <p:cond delay="0"/>
                      </p:stCondLst>
                      <p:childTnLst>
                        <p:par>
                          <p:cTn id="1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dur="indefinite" fill="hold">
                      <p:stCondLst>
                        <p:cond delay="indefinite"/>
                      </p:stCondLst>
                      <p:childTnLst>
                        <p:par>
                          <p:cTn id="1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dur="indefinite" fill="hold">
                      <p:stCondLst>
                        <p:cond delay="indefinite"/>
                      </p:stCondLst>
                      <p:childTnLst>
                        <p:par>
                          <p:cTn id="1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7" dur="2000" fill="hold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0" dur="2000" fill="hold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3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6" dur="2000" fill="hold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6" name=""/>
          <p:cNvGrpSpPr/>
          <p:nvPr/>
        </p:nvGrpSpPr>
        <p:grpSpPr>
          <a:xfrm>
            <a:off x="36360" y="225360"/>
            <a:ext cx="8686800" cy="927000"/>
            <a:chOff x="36360" y="225360"/>
            <a:chExt cx="8686800" cy="927000"/>
          </a:xfrm>
        </p:grpSpPr>
        <p:pic>
          <p:nvPicPr>
            <p:cNvPr id="517" name="" descr=""/>
            <p:cNvPicPr/>
            <p:nvPr/>
          </p:nvPicPr>
          <p:blipFill>
            <a:blip r:embed="rId1"/>
            <a:stretch/>
          </p:blipFill>
          <p:spPr>
            <a:xfrm>
              <a:off x="36360" y="225360"/>
              <a:ext cx="8686800" cy="92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8" name=""/>
            <p:cNvSpPr/>
            <p:nvPr/>
          </p:nvSpPr>
          <p:spPr>
            <a:xfrm>
              <a:off x="36360" y="225360"/>
              <a:ext cx="8686800" cy="92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grpSp>
        <p:nvGrpSpPr>
          <p:cNvPr id="519" name=""/>
          <p:cNvGrpSpPr/>
          <p:nvPr/>
        </p:nvGrpSpPr>
        <p:grpSpPr>
          <a:xfrm>
            <a:off x="609480" y="1600200"/>
            <a:ext cx="7821720" cy="4473720"/>
            <a:chOff x="609480" y="1600200"/>
            <a:chExt cx="7821720" cy="4473720"/>
          </a:xfrm>
        </p:grpSpPr>
        <p:sp>
          <p:nvSpPr>
            <p:cNvPr id="520" name=""/>
            <p:cNvSpPr/>
            <p:nvPr/>
          </p:nvSpPr>
          <p:spPr>
            <a:xfrm>
              <a:off x="609480" y="1600200"/>
              <a:ext cx="3905280" cy="447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До реакции:</a:t>
              </a:r>
              <a:endParaRPr b="0" lang="en-US" sz="2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514760" y="1600200"/>
              <a:ext cx="3915000" cy="447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После реакции:</a:t>
              </a:r>
              <a:endParaRPr b="0" lang="en-US" sz="2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4514760" y="1600200"/>
              <a:ext cx="1800" cy="447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609480" y="1600200"/>
              <a:ext cx="1800" cy="4471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8429760" y="1600200"/>
              <a:ext cx="1440" cy="4471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609480" y="1600200"/>
              <a:ext cx="78202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609480" y="6072120"/>
              <a:ext cx="782028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sp>
        <p:nvSpPr>
          <p:cNvPr id="527" name=""/>
          <p:cNvSpPr/>
          <p:nvPr/>
        </p:nvSpPr>
        <p:spPr>
          <a:xfrm>
            <a:off x="1692360" y="2349360"/>
            <a:ext cx="1295280" cy="1152720"/>
          </a:xfrm>
          <a:prstGeom prst="ellipse">
            <a:avLst/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grpSp>
        <p:nvGrpSpPr>
          <p:cNvPr id="528" name=""/>
          <p:cNvGrpSpPr/>
          <p:nvPr/>
        </p:nvGrpSpPr>
        <p:grpSpPr>
          <a:xfrm>
            <a:off x="2771640" y="4221000"/>
            <a:ext cx="914400" cy="1347840"/>
            <a:chOff x="2771640" y="4221000"/>
            <a:chExt cx="914400" cy="1347840"/>
          </a:xfrm>
        </p:grpSpPr>
        <p:sp>
          <p:nvSpPr>
            <p:cNvPr id="529" name=""/>
            <p:cNvSpPr/>
            <p:nvPr/>
          </p:nvSpPr>
          <p:spPr>
            <a:xfrm>
              <a:off x="2771640" y="4654440"/>
              <a:ext cx="914400" cy="914400"/>
            </a:xfrm>
            <a:prstGeom prst="ellipse">
              <a:avLst/>
            </a:prstGeom>
            <a:solidFill>
              <a:srgbClr val="3b435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2916360" y="4221000"/>
              <a:ext cx="576000" cy="576360"/>
            </a:xfrm>
            <a:prstGeom prst="ellipse">
              <a:avLst/>
            </a:prstGeom>
            <a:solidFill>
              <a:srgbClr val="fcb5a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grpSp>
        <p:nvGrpSpPr>
          <p:cNvPr id="531" name=""/>
          <p:cNvGrpSpPr/>
          <p:nvPr/>
        </p:nvGrpSpPr>
        <p:grpSpPr>
          <a:xfrm>
            <a:off x="1042920" y="4221000"/>
            <a:ext cx="914400" cy="1347840"/>
            <a:chOff x="1042920" y="4221000"/>
            <a:chExt cx="914400" cy="1347840"/>
          </a:xfrm>
        </p:grpSpPr>
        <p:sp>
          <p:nvSpPr>
            <p:cNvPr id="532" name=""/>
            <p:cNvSpPr/>
            <p:nvPr/>
          </p:nvSpPr>
          <p:spPr>
            <a:xfrm>
              <a:off x="1042920" y="4654440"/>
              <a:ext cx="914400" cy="914400"/>
            </a:xfrm>
            <a:prstGeom prst="ellipse">
              <a:avLst/>
            </a:prstGeom>
            <a:solidFill>
              <a:srgbClr val="3b435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1187280" y="4221000"/>
              <a:ext cx="576360" cy="576360"/>
            </a:xfrm>
            <a:prstGeom prst="ellipse">
              <a:avLst/>
            </a:prstGeom>
            <a:solidFill>
              <a:srgbClr val="fcb5a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grpSp>
        <p:nvGrpSpPr>
          <p:cNvPr id="534" name=""/>
          <p:cNvGrpSpPr/>
          <p:nvPr/>
        </p:nvGrpSpPr>
        <p:grpSpPr>
          <a:xfrm>
            <a:off x="5724360" y="4581360"/>
            <a:ext cx="1778040" cy="914400"/>
            <a:chOff x="5724360" y="4581360"/>
            <a:chExt cx="1778040" cy="914400"/>
          </a:xfrm>
        </p:grpSpPr>
        <p:sp>
          <p:nvSpPr>
            <p:cNvPr id="535" name=""/>
            <p:cNvSpPr/>
            <p:nvPr/>
          </p:nvSpPr>
          <p:spPr>
            <a:xfrm>
              <a:off x="5724360" y="4581360"/>
              <a:ext cx="914400" cy="914400"/>
            </a:xfrm>
            <a:prstGeom prst="ellipse">
              <a:avLst/>
            </a:prstGeom>
            <a:solidFill>
              <a:srgbClr val="3b435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6588000" y="4581360"/>
              <a:ext cx="914400" cy="914400"/>
            </a:xfrm>
            <a:prstGeom prst="ellipse">
              <a:avLst/>
            </a:prstGeom>
            <a:solidFill>
              <a:srgbClr val="3b435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grpSp>
        <p:nvGrpSpPr>
          <p:cNvPr id="537" name=""/>
          <p:cNvGrpSpPr/>
          <p:nvPr/>
        </p:nvGrpSpPr>
        <p:grpSpPr>
          <a:xfrm>
            <a:off x="5651640" y="2349360"/>
            <a:ext cx="2016000" cy="1440000"/>
            <a:chOff x="5651640" y="2349360"/>
            <a:chExt cx="2016000" cy="1440000"/>
          </a:xfrm>
        </p:grpSpPr>
        <p:sp>
          <p:nvSpPr>
            <p:cNvPr id="538" name=""/>
            <p:cNvSpPr/>
            <p:nvPr/>
          </p:nvSpPr>
          <p:spPr>
            <a:xfrm>
              <a:off x="5651640" y="3213000"/>
              <a:ext cx="576000" cy="576360"/>
            </a:xfrm>
            <a:prstGeom prst="ellipse">
              <a:avLst/>
            </a:prstGeom>
            <a:solidFill>
              <a:srgbClr val="fcb5a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7091280" y="3068640"/>
              <a:ext cx="576360" cy="576360"/>
            </a:xfrm>
            <a:prstGeom prst="ellipse">
              <a:avLst/>
            </a:prstGeom>
            <a:solidFill>
              <a:srgbClr val="fcb5a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938920" y="2349360"/>
              <a:ext cx="1295280" cy="1152720"/>
            </a:xfrm>
            <a:prstGeom prst="ellipse">
              <a:avLst/>
            </a:prstGeom>
            <a:solidFill>
              <a:srgbClr val="fe863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sp>
        <p:nvSpPr>
          <p:cNvPr id="541" name=""/>
          <p:cNvSpPr/>
          <p:nvPr/>
        </p:nvSpPr>
        <p:spPr>
          <a:xfrm>
            <a:off x="2057400" y="365760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entury Schoolbook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2" name=""/>
          <p:cNvSpPr/>
          <p:nvPr/>
        </p:nvSpPr>
        <p:spPr>
          <a:xfrm>
            <a:off x="6400800" y="365760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entury Schoolbook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3" name="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C559AE-87CE-40B4-83A0-F177C930979F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wedge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dur="indefinite" fill="hold">
                      <p:stCondLst>
                        <p:cond delay="indefinite"/>
                      </p:stCondLst>
                      <p:childTnLst>
                        <p:par>
                          <p:cTn id="14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3" dur="2000" fill="hold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6" dur="2000" fill="hold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9" dur="2000" fill="hold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2" dur="2000" fill="hold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5" dur="2000" fill="hold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Школа</dc:creator>
  <dc:description/>
  <dc:language>en-US</dc:language>
  <cp:lastModifiedBy>Школа</cp:lastModifiedBy>
  <cp:revision>0</cp:revision>
  <dc:subject/>
  <dc:title>Урок химии</dc:title>
</cp:coreProperties>
</file>