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3F23-4BBC-4051-8770-57E3D2312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E3CF-12B5-4AED-81A2-DBDEF167F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47A1-1ABC-4952-BE18-A0C1277CD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40E9-7FE1-4C6F-94CD-BC955A050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1F990-0ADE-41FC-86E0-F2D6D69F0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9462E-CD95-417C-B05E-D12E4BE67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2F75A-969C-4F6A-ABA7-C80525592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6DD7B-903C-4097-ACBC-82DD80541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D6CF4-77FF-45A7-B683-FF92F3C4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0ABB1-2C69-41A0-ADAE-4BCEE5239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99354-1B2E-4AEE-A0E5-9FE2AF1A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ACF5-A32B-4FC8-8745-40185FB97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ADC5A-ACCE-42FF-ADBF-A82AF146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E60EB-FD05-40BF-B534-2EAFE8F2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63333-0CEB-4CBE-BE73-7C49476C8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5756B-6D07-4D45-AC1C-755E50B69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02F60-FD97-4EA5-BA7A-E3385A0C5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299C-D765-460B-A544-53B69AF3C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00B0-7E86-4B39-A5D5-8A7F60B71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08D6-7D59-4979-9867-14F5AD7A5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AD6E-3EF4-4E27-A123-FC10EE9EA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F3D1-1D85-4D8E-ABE7-870FEA34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AF5D-3B1D-42CA-9A16-24BB7C85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BB98-EE1E-4FC7-A76A-001E9F7C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0A58C-21CF-4215-94C6-32FD365D791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9D4A5-FC9D-497B-ACFF-4E602CCA1D5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Нефтяные фракции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932360" y="4437000"/>
            <a:ext cx="374976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ыполнила ученица 10Б класса Долгополая Екатерин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 rot="408000">
            <a:off x="1476000" y="3357720"/>
            <a:ext cx="223848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Нефть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68360" y="2781000"/>
            <a:ext cx="82137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ефть представляет собой сложную смесь жидких органических веществ, в которых растворены различные твердые углеводороды и смолистые вещества. Разделение сложных смесей на более простые или в пределе – на индивидуальные компоненты называется фракционированием. Методы разделения базируются на различии физических, поверхностных и химических свойств разделяемых компонентов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6" descr=""/>
          <p:cNvPicPr/>
          <p:nvPr/>
        </p:nvPicPr>
        <p:blipFill>
          <a:blip r:embed="rId1"/>
          <a:stretch/>
        </p:blipFill>
        <p:spPr>
          <a:xfrm rot="21387000">
            <a:off x="4859280" y="189000"/>
            <a:ext cx="266400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87280" y="47592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При перегонке нефти разделяются на фракции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32000" y="1988640"/>
            <a:ext cx="54007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Газолиновая фракция бензинов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Лигроиновая фракция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Керосиновая фракция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Газойлевая фракция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Мазут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 rot="21113400">
            <a:off x="5508720" y="342864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Газолиновая фракци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- собираемая от 40 до 200 °С, содержит углеводороды от С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12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до С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11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24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При дальнейшей перегонке выделенной фракции получают газолин (tкип = 40–70 °С), бензин (tкип = 70–120 °С) – авиационный, автомобильный и т.д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6227640" y="4940280"/>
            <a:ext cx="237996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Лигроиновая фракци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080800" y="1916280"/>
            <a:ext cx="673884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- собираемая в пределах от 150 до 250 °С, содержит углеводороды от С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18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до С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14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30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Лигроин применяется как горючее для тракторов. Большие количества лигроина перерабатывают в бензин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 rot="20992800">
            <a:off x="250560" y="2923920"/>
            <a:ext cx="1657080" cy="1657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 rot="21282000">
            <a:off x="971280" y="4869000"/>
            <a:ext cx="2232000" cy="174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Керосиновая фракци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692000" y="17002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- включает углеводороды от С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12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26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до С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18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38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с температурой кипения от 180 до 300 °С. Керосин после очистки используется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 качестве горючего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для тракторов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реактивных самолетов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и ракет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539640" y="3429000"/>
            <a:ext cx="252576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Газойлевая фракци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71280" y="1989000"/>
            <a:ext cx="7313400" cy="29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бирается при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&gt; 275 °С, включает углеводороды от С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3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8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до С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9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40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, по-другому называется дизельным топливом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6588000" y="3933720"/>
            <a:ext cx="1905120" cy="2543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"/>
          <p:cNvPicPr/>
          <p:nvPr/>
        </p:nvPicPr>
        <p:blipFill>
          <a:blip r:embed="rId2"/>
          <a:stretch/>
        </p:blipFill>
        <p:spPr>
          <a:xfrm>
            <a:off x="1979640" y="4508640"/>
            <a:ext cx="285732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Мазут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6560" y="1916280"/>
            <a:ext cx="7783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- содержит углеводороды с большим числом атомов углерода (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18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38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– C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50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102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, при нагревании разлагается, получают соляровые масла, смазочные масла, вазелин. Из некоторых сортов нефти получают парафин. После отгонки летучих компонентов из мазута остается гудрон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3T16:31:23Z</dcterms:created>
  <dc:creator>Nik</dc:creator>
  <dc:description/>
  <dc:language>en-US</dc:language>
  <cp:lastModifiedBy>Учитель</cp:lastModifiedBy>
  <dcterms:modified xsi:type="dcterms:W3CDTF">2012-11-29T05:14:33Z</dcterms:modified>
  <cp:revision>11</cp:revision>
  <dc:subject/>
  <dc:title>Нефтяные фракции</dc:title>
</cp:coreProperties>
</file>