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8.gif" ContentType="image/gi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7C8-BB11-4F61-9AB7-9F6D17D6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7CF-2161-482D-88F0-419114E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A25BC-8231-40CC-B44A-ED9D0C3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997C-F258-433B-A0CE-B1A8167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6BD8A-50D4-4510-9D1F-F42E02B2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A7AD8-4D67-4EA5-880D-D3D9F06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106E9-A277-4416-A8BC-9FE0C0C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934F7-1905-425B-8FC3-413BC51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3619-5B9C-460B-9787-40C7A30F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BDCA-FC8C-420A-A424-1C453BE7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70A3A-EB3D-4466-89C2-5E560F02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EBBE4-7C5D-4833-A1FE-2E8F6AAA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BA6-300B-4AA1-99B6-395A25F6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07B80-7BD9-4C18-BF3B-D670422A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3108A-65AD-4030-A96B-CE284DC2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2AD1B-C86E-4F42-A3D6-C396ABC3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451BB-6196-4979-BD40-55007F49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79900-1A73-4DF0-970C-AA6C15CE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F1B8D-E767-4DF7-A97A-4529DA1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E2CD5-1FBE-4BDB-B02A-80325A4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81272-3B2F-4DEC-B21F-5D87404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AEFA-B653-4358-B1BF-033F39A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8E61A-89ED-45AB-AF1B-AD7748BC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36F-90B7-47C8-995F-75F3B35E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CF68E-8AB2-4125-9B61-CE6D03C6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51DD-F07C-4451-AA1C-BDE05108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B192-0BDB-4729-9746-DE140ED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31BD-DA01-4592-B585-9AC9C8D8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A95-8AB4-46B8-ABB6-1CF5AA5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A842-5A0E-4A77-AF61-A3DD231F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E4EF-C939-4C18-A7D6-09E96FE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3EC-0A4F-4566-8907-4E40680C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FC3-D7EF-4966-B286-8BAFE6EB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ECD5-EF96-4262-8130-57F06A6A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3366-D25C-40CB-92B0-90E4C010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24C7-E9B3-4472-A4D6-37AE4EA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0F2-3510-4A5C-9A7E-6EA3A9C0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C31C-5D4B-4B36-BE00-63105E71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F506-C8F3-4069-A8C8-A783B541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2C1D-15DF-456B-A022-6FE1488B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A491-8DA4-45B1-8725-434DCC3E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EDBB-134A-4DB7-B851-C7499E2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03D1-F808-4B36-8278-5CC0755F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1CE-F4DB-4F84-8C9B-2538CA36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C40A-E8FE-4863-9072-AD5A8FFB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B491-A580-42EF-8FF0-12D4FFB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6C41-C48D-43CF-8F0A-418C699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DA1F-0840-419C-BB7F-68BEED6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3D05-235B-4692-91E7-C61452C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943A-B0C6-4D05-B860-4CDB8425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0747-E019-420E-B564-3C563F1F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BC17-4432-4432-8F1E-40511F22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D072-F701-472C-91B6-596FBFFD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4E0D-8A51-4AA3-8D98-E64D9538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462-0470-4456-BF82-8C1F85C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ED71-78FF-482A-98ED-EAFF3423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F77D-CE34-4F0E-8F6B-B7266B74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DE4E-8387-4DA4-A75B-E7062845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3974-B2BD-497A-BEE8-AF5752A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4157-0F09-4429-B7C0-B4A6BB04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E3CC-9F80-4636-8621-79777FB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8C8E-9C95-41F9-B309-409C263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A30C-9E39-4579-B8DE-C804FB81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DEABF-06D6-4A41-BB3B-E4AF0712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DB48-7BA5-4399-80BC-12927E34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C8A-2992-4869-ADA4-2FF5D765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99627-8F02-4226-908D-A137129A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E0AED-71C8-4462-8977-7A9F3DB4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2512-4A3E-426C-8CFD-EDA9B5E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6CFD-B984-4193-BA12-B918A826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05CC-90AA-4832-B2F4-50C66FEC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6FF0-2619-4B4E-812B-8AEC7B7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0137-CE8E-4EB6-BA6B-DB11C7F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DEAA-E68B-48B9-A85C-A9CFE9C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6133-561E-405F-9E3D-6FAE91F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616C-93AE-41A5-B2A5-FB338659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5F3-7109-452F-AD0A-94334B36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E458-FAD2-4E9D-BC99-1FC0E1F4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B98D-35B5-4360-A476-E9007908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3DDB-25F4-41CC-9016-0C7472FD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2FDB-5DAC-4502-9A17-74E8969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22F11-EA28-4345-A048-8CEE5382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D3F7-89CB-4FB0-ACC0-CB54A1E9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AE1E-D302-4A5A-9A3C-461F1F7E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8A3A1-4D54-4F3A-9F8D-04EC69A2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6AB5-B846-44D8-B705-E2CF0B0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B3A9-3CCE-4808-A765-812C5C8A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802-BB3D-42A2-85FA-2C2494A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8C89-4036-4159-B9C4-2454297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6C04-3B11-4EA8-94BC-C24CB6C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86A5-CFF4-4B5C-8C93-4E309020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4C800-52BB-422C-A98E-6E72A964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EDD1-1873-4AF1-B6C4-0D9E32C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290A-6C48-427B-9A95-E6CD0E6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C7D5-D02B-486D-8FCA-4BC3A2A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F2E33-0144-4668-9A92-9131987F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53F93-0AC5-497A-B171-6DFEBD8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C6876-F28A-451D-A2D1-76E32F6A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9C5-5454-4A6F-A138-979F062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0D04-2500-4866-9C89-BE23FB2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11474-16AE-47A4-9225-58EF33C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2AD0-9B2C-4D76-A9BA-987D47B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E5212-AE71-4387-BA27-C210D7F9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29DEC-7088-432D-8E25-AD90F137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719B-E193-49DA-8491-BF7DC200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D115-6A70-419A-8973-B480DB9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0155C-A224-44C7-AE15-2BD19CEA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C90D3-73C6-48FB-855C-7CEEC69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996F8-1672-4CAA-A327-3CB6048A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D58-1211-46D8-AA6F-8D37EE2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0BB79-7752-4F9C-AFCD-17256AB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E53A4-C8CF-4DFE-AD9D-3CB2534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CB083-E241-43C6-8970-13D951E7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7C80-04CC-4B53-B016-51F7AE5C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ECFD-E094-423E-A9AF-7A2B41B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017D3-282E-47F1-99F7-DA5C0A56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1293-D6DB-4BC0-9D31-F48109EE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B6CB-E6F6-4EAA-BCC0-4B86A674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3DE77-8714-41EB-96F4-DE612530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D2D86-2450-47CB-A6BA-B7518E4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6946-3FD4-4ADF-A380-2807DF37AAC0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804-C278-4D59-BA41-3580A0890B4F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03b"/>
            </a:gs>
            <a:gs pos="100000">
              <a:srgbClr val="6f718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3539-FAE9-4E57-B7AB-D128D6DC809E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03b"/>
            </a:gs>
            <a:gs pos="100000">
              <a:srgbClr val="6f718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E2D-5FE1-46E1-86D9-10A786AC6280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1AF3-8CF5-43CD-9279-F2855946DC9C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5BA-425D-404C-B166-54466839896F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B36-B7AE-460B-B00C-F72925F4BE9E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441-0687-4975-82DF-2DFB126E2ACD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4FB-21F8-4FA0-98ED-26E5233CE9F8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297fd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f8fa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a66a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DDA5-615D-459F-88BD-E1EB9EA0E08A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ffff00"/>
                </a:solidFill>
                <a:uFillTx/>
                <a:latin typeface="Times New Roman"/>
              </a:rPr>
              <a:t>Тема: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-181440" y="1341000"/>
            <a:ext cx="9433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700" spc="-1" strike="noStrike">
                <a:solidFill>
                  <a:srgbClr val="66ff66"/>
                </a:solidFill>
                <a:latin typeface="Times New Roman"/>
              </a:rPr>
              <a:t>КИСЛОТЫ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260280" y="4292640"/>
            <a:ext cx="54021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Учитель хими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МБОУ СОШ №7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Сергиенк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Валентина Леонидовн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Franklin Gothic Book"/>
              </a:rPr>
              <a:t>О  С  Т  Ы  Л  К  И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ffff00"/>
                </a:solidFill>
                <a:uFillTx/>
                <a:latin typeface="Times New Roman"/>
              </a:rPr>
              <a:t>Тема урока: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-181440" y="1341000"/>
            <a:ext cx="9720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700" spc="-1" strike="noStrike">
                <a:solidFill>
                  <a:srgbClr val="ffff00"/>
                </a:solidFill>
                <a:latin typeface="Times New Roman"/>
              </a:rPr>
              <a:t>КИСЛОТЫ</a:t>
            </a:r>
            <a:endParaRPr b="0" lang="en-US" sz="1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4" descr="ТЕТКА"/>
          <p:cNvPicPr/>
          <p:nvPr/>
        </p:nvPicPr>
        <p:blipFill>
          <a:blip r:embed="rId1"/>
          <a:stretch/>
        </p:blipFill>
        <p:spPr>
          <a:xfrm>
            <a:off x="4716360" y="3141720"/>
            <a:ext cx="4194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Franklin Gothic Book"/>
              </a:rPr>
              <a:t>Задачи урока: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нать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пределение, состав,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лассификацию, номенклатур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ис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ме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пределять кислоты среди друг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еществ, классифициров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ислоты, определять валент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ислотных остат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Развивать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нимание, мышление и пам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42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6"/>
          <p:cNvPicPr/>
          <p:nvPr/>
        </p:nvPicPr>
        <p:blipFill>
          <a:blip r:embed="rId1"/>
          <a:stretch/>
        </p:blipFill>
        <p:spPr>
          <a:xfrm>
            <a:off x="5076720" y="1341360"/>
            <a:ext cx="3719520" cy="5040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КИСЛОТЫ В КУЛИНАРИИ</a:t>
            </a:r>
            <a:r>
              <a:rPr b="1" i="1" lang="ru-RU" sz="36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95280" y="263700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Уксусная и лимон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кис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J0254477"/>
          <p:cNvPicPr/>
          <p:nvPr/>
        </p:nvPicPr>
        <p:blipFill>
          <a:blip r:embed="rId2"/>
          <a:stretch/>
        </p:blipFill>
        <p:spPr>
          <a:xfrm>
            <a:off x="539640" y="4653000"/>
            <a:ext cx="2087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596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КИСЛОТЫ  В МЕДИЦИНЕ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68" name="Picture 3" descr="P1040635"/>
          <p:cNvPicPr/>
          <p:nvPr/>
        </p:nvPicPr>
        <p:blipFill>
          <a:blip r:embed="rId1"/>
          <a:stretch/>
        </p:blipFill>
        <p:spPr>
          <a:xfrm>
            <a:off x="179280" y="1916280"/>
            <a:ext cx="4680000" cy="42480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"/>
          <p:cNvSpPr/>
          <p:nvPr/>
        </p:nvSpPr>
        <p:spPr>
          <a:xfrm>
            <a:off x="5003640" y="2492280"/>
            <a:ext cx="39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Аскорбинова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ацетилсалицил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и дру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5" descr="J0286856"/>
          <p:cNvPicPr/>
          <p:nvPr/>
        </p:nvPicPr>
        <p:blipFill>
          <a:blip r:embed="rId2"/>
          <a:stretch/>
        </p:blipFill>
        <p:spPr>
          <a:xfrm>
            <a:off x="7020000" y="260280"/>
            <a:ext cx="19796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Соляная кислота, находящаяся в желудке, помогает переваривать пищ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Молочная кислота образуется в мышцах при физической нагруз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4" descr="PE01981_"/>
          <p:cNvPicPr/>
          <p:nvPr/>
        </p:nvPicPr>
        <p:blipFill>
          <a:blip r:embed="rId1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10"/>
          <p:cNvPicPr/>
          <p:nvPr/>
        </p:nvPicPr>
        <p:blipFill>
          <a:blip r:embed="rId2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КИСЛОТЫ СОДЕРЖАТСЯ В ОРГАНИЗМАХ ЖИВОТНЫХ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Franklin Gothic Book"/>
              </a:rPr>
              <a:t>Получение водорода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1916280"/>
            <a:ext cx="896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Zn + 2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Cl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→ ZnCl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+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↑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ля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Zn +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→ ZnSO</a:t>
            </a:r>
            <a:r>
              <a:rPr b="1" lang="en-US" sz="40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↑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р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2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Organization Chart 2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79" name="_s2052"/>
            <p:cNvCxnSpPr>
              <a:stCxn id="480" idx="3"/>
              <a:endCxn id="481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2" name="_s2053"/>
            <p:cNvCxnSpPr>
              <a:stCxn id="483" idx="3"/>
              <a:endCxn id="484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5" name="_s2054"/>
            <p:cNvCxnSpPr>
              <a:stCxn id="484" idx="0"/>
              <a:endCxn id="486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7" name="_s2055"/>
            <p:cNvCxnSpPr>
              <a:stCxn id="481" idx="0"/>
              <a:endCxn id="486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86" name="_s2056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_s2057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_s2058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_s2059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_s2060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402920" y="404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Ребенок – </a:t>
            </a:r>
            <a:r>
              <a:rPr b="1" lang="ru-RU" sz="3000" spc="-1" strike="noStrike" u="sng">
                <a:solidFill>
                  <a:srgbClr val="ffff00"/>
                </a:solidFill>
                <a:uFillTx/>
                <a:latin typeface="Arial"/>
              </a:rPr>
              <a:t>не кувшин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который надо </a:t>
            </a:r>
            <a:r>
              <a:rPr b="1" lang="ru-RU" sz="3000" spc="-1" strike="noStrike" u="sng">
                <a:solidFill>
                  <a:srgbClr val="ffff00"/>
                </a:solidFill>
                <a:uFillTx/>
                <a:latin typeface="Arial"/>
              </a:rPr>
              <a:t>наполнить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ru-RU" sz="3000" spc="-1" strike="noStrike" u="sng">
                <a:solidFill>
                  <a:srgbClr val="ffff00"/>
                </a:solidFill>
                <a:uFillTx/>
                <a:latin typeface="Arial"/>
              </a:rPr>
              <a:t>лампада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, котор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надо </a:t>
            </a:r>
            <a:r>
              <a:rPr b="1" lang="ru-RU" sz="3000" spc="-1" strike="noStrike" u="sng">
                <a:solidFill>
                  <a:srgbClr val="ffff00"/>
                </a:solidFill>
                <a:uFillTx/>
                <a:latin typeface="Arial"/>
              </a:rPr>
              <a:t>зажеч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редневековые гуманис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Organization Chart 2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89" name="_s3076"/>
            <p:cNvCxnSpPr>
              <a:stCxn id="490" idx="3"/>
              <a:endCxn id="491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2" name="_s3077"/>
            <p:cNvCxnSpPr>
              <a:stCxn id="493" idx="3"/>
              <a:endCxn id="494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5" name="_s3078"/>
            <p:cNvCxnSpPr>
              <a:stCxn id="494" idx="0"/>
              <a:endCxn id="496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7" name="_s3079"/>
            <p:cNvCxnSpPr>
              <a:stCxn id="491" idx="0"/>
              <a:endCxn id="496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96" name="_s3080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_s3081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_s3082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_s3083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_s3084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Organization Chart 2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99" name="_s4100"/>
            <p:cNvCxnSpPr>
              <a:stCxn id="500" idx="3"/>
              <a:endCxn id="501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02" name="_s4101"/>
            <p:cNvCxnSpPr>
              <a:stCxn id="503" idx="3"/>
              <a:endCxn id="504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05" name="_s4102"/>
            <p:cNvCxnSpPr>
              <a:stCxn id="504" idx="0"/>
              <a:endCxn id="506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07" name="_s4103"/>
            <p:cNvCxnSpPr>
              <a:stCxn id="501" idx="0"/>
              <a:endCxn id="506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06" name="_s4104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_s4105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_s4106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_s4107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_s4108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Organization Chart 2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509" name="_s5124"/>
            <p:cNvCxnSpPr>
              <a:stCxn id="510" idx="3"/>
              <a:endCxn id="511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2" name="_s5125"/>
            <p:cNvCxnSpPr>
              <a:stCxn id="513" idx="3"/>
              <a:endCxn id="514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5" name="_s5126"/>
            <p:cNvCxnSpPr>
              <a:stCxn id="514" idx="0"/>
              <a:endCxn id="516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7" name="_s5127"/>
            <p:cNvCxnSpPr>
              <a:stCxn id="511" idx="0"/>
              <a:endCxn id="516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16" name="_s5128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_s5129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_s5130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_s5131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_s5132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неМеО</a:t>
              </a:r>
              <a:endParaRPr b="0" lang="en-US" sz="4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Organization Chart 2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519" name="_s6148"/>
            <p:cNvCxnSpPr>
              <a:stCxn id="520" idx="3"/>
              <a:endCxn id="521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22" name="_s6149"/>
            <p:cNvCxnSpPr>
              <a:stCxn id="523" idx="3"/>
              <a:endCxn id="524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25" name="_s6150"/>
            <p:cNvCxnSpPr>
              <a:stCxn id="524" idx="0"/>
              <a:endCxn id="526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27" name="_s6151"/>
            <p:cNvCxnSpPr>
              <a:stCxn id="521" idx="0"/>
              <a:endCxn id="526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26" name="_s6152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_s6153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_s6154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_s6155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МеО</a:t>
              </a:r>
              <a:endParaRPr b="0" lang="en-US" sz="4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_s6156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неМеО</a:t>
              </a:r>
              <a:endParaRPr b="0" lang="en-US" sz="4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540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кажите выигрышный путь которому соответствуют формулы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ислотных окси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835280" y="1341360"/>
          <a:ext cx="6192720" cy="5399280"/>
        </p:xfrm>
        <a:graphic>
          <a:graphicData uri="http://schemas.openxmlformats.org/drawingml/2006/table">
            <a:tbl>
              <a:tblPr/>
              <a:tblGrid>
                <a:gridCol w="2063520"/>
                <a:gridCol w="2065320"/>
                <a:gridCol w="2063880"/>
              </a:tblGrid>
              <a:tr h="113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Li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u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l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7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B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324000" y="0"/>
            <a:ext cx="8540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окажите выигрышный путь которому соответствуют формулы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ислотных окси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835280" y="1341360"/>
          <a:ext cx="6192720" cy="5221440"/>
        </p:xfrm>
        <a:graphic>
          <a:graphicData uri="http://schemas.openxmlformats.org/drawingml/2006/table">
            <a:tbl>
              <a:tblPr/>
              <a:tblGrid>
                <a:gridCol w="2063520"/>
                <a:gridCol w="2065320"/>
                <a:gridCol w="2063880"/>
              </a:tblGrid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Li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u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l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7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B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C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 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Franklin Gothic Book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Franklin Gothic Book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O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Franklin Gothic Book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O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6600"/>
                </a:solidFill>
                <a:latin typeface="Franklin Gothic Book"/>
              </a:rPr>
              <a:t>Классификация неорганических веществ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31" name="Organization Chart 3"/>
          <p:cNvGrpSpPr/>
          <p:nvPr/>
        </p:nvGrpSpPr>
        <p:grpSpPr>
          <a:xfrm>
            <a:off x="250920" y="1606680"/>
            <a:ext cx="8496000" cy="5228280"/>
            <a:chOff x="250920" y="1606680"/>
            <a:chExt cx="8496000" cy="5228280"/>
          </a:xfrm>
        </p:grpSpPr>
        <p:cxnSp>
          <p:nvCxnSpPr>
            <p:cNvPr id="432" name="_s1028"/>
            <p:cNvCxnSpPr>
              <a:stCxn id="433" idx="1"/>
              <a:endCxn id="434" idx="2"/>
            </p:cNvCxnSpPr>
            <p:nvPr/>
          </p:nvCxnSpPr>
          <p:spPr>
            <a:xfrm rot="10800000">
              <a:off x="6622200" y="4008240"/>
              <a:ext cx="303840" cy="2331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5" name="_s1029"/>
            <p:cNvCxnSpPr>
              <a:stCxn id="436" idx="3"/>
              <a:endCxn id="434" idx="2"/>
            </p:cNvCxnSpPr>
            <p:nvPr/>
          </p:nvCxnSpPr>
          <p:spPr>
            <a:xfrm flipV="1">
              <a:off x="6319440" y="4008600"/>
              <a:ext cx="303840" cy="2331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7" name="_s1030"/>
            <p:cNvCxnSpPr>
              <a:stCxn id="438" idx="1"/>
              <a:endCxn id="434" idx="2"/>
            </p:cNvCxnSpPr>
            <p:nvPr/>
          </p:nvCxnSpPr>
          <p:spPr>
            <a:xfrm rot="10800000">
              <a:off x="6622200" y="4008240"/>
              <a:ext cx="303840" cy="918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9" name="_s1031"/>
            <p:cNvCxnSpPr>
              <a:stCxn id="440" idx="3"/>
              <a:endCxn id="434" idx="2"/>
            </p:cNvCxnSpPr>
            <p:nvPr/>
          </p:nvCxnSpPr>
          <p:spPr>
            <a:xfrm flipV="1">
              <a:off x="6319440" y="4008600"/>
              <a:ext cx="303840" cy="918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1" name="_s1032"/>
            <p:cNvCxnSpPr>
              <a:stCxn id="442" idx="0"/>
              <a:endCxn id="443" idx="2"/>
            </p:cNvCxnSpPr>
            <p:nvPr/>
          </p:nvCxnSpPr>
          <p:spPr>
            <a:xfrm flipV="1" rot="16200000">
              <a:off x="2541960" y="3688560"/>
              <a:ext cx="423720" cy="1062720"/>
            </a:xfrm>
            <a:prstGeom prst="bentConnector3">
              <a:avLst>
                <a:gd name="adj1" fmla="val 2704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4" name="_s1033"/>
            <p:cNvCxnSpPr>
              <a:stCxn id="445" idx="0"/>
              <a:endCxn id="443" idx="2"/>
            </p:cNvCxnSpPr>
            <p:nvPr/>
          </p:nvCxnSpPr>
          <p:spPr>
            <a:xfrm flipH="1" flipV="1" rot="5400000">
              <a:off x="1479960" y="3688920"/>
              <a:ext cx="423720" cy="1062360"/>
            </a:xfrm>
            <a:prstGeom prst="bentConnector3">
              <a:avLst>
                <a:gd name="adj1" fmla="val 2704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6" name="_s1034"/>
            <p:cNvCxnSpPr>
              <a:stCxn id="434" idx="0"/>
              <a:endCxn id="447" idx="2"/>
            </p:cNvCxnSpPr>
            <p:nvPr/>
          </p:nvCxnSpPr>
          <p:spPr>
            <a:xfrm flipV="1" rot="16200000">
              <a:off x="5311800" y="1708200"/>
              <a:ext cx="423000" cy="219852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8" name="_s1035"/>
            <p:cNvCxnSpPr>
              <a:stCxn id="443" idx="0"/>
              <a:endCxn id="447" idx="2"/>
            </p:cNvCxnSpPr>
            <p:nvPr/>
          </p:nvCxnSpPr>
          <p:spPr>
            <a:xfrm flipH="1" flipV="1" rot="5400000">
              <a:off x="3112560" y="1706400"/>
              <a:ext cx="423000" cy="220248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47" name="_s1036"/>
            <p:cNvSpPr/>
            <p:nvPr/>
          </p:nvSpPr>
          <p:spPr>
            <a:xfrm>
              <a:off x="3512520" y="160668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Неорганически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_s1037"/>
            <p:cNvSpPr/>
            <p:nvPr/>
          </p:nvSpPr>
          <p:spPr>
            <a:xfrm>
              <a:off x="1312560" y="301896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Простые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_s1038"/>
            <p:cNvSpPr/>
            <p:nvPr/>
          </p:nvSpPr>
          <p:spPr>
            <a:xfrm>
              <a:off x="5712480" y="301896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Сложные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_s1039"/>
            <p:cNvSpPr/>
            <p:nvPr/>
          </p:nvSpPr>
          <p:spPr>
            <a:xfrm>
              <a:off x="250920" y="443232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Металлы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_s1040"/>
            <p:cNvSpPr/>
            <p:nvPr/>
          </p:nvSpPr>
          <p:spPr>
            <a:xfrm>
              <a:off x="2374920" y="443232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Неметаллы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_s1041"/>
            <p:cNvSpPr/>
            <p:nvPr/>
          </p:nvSpPr>
          <p:spPr>
            <a:xfrm>
              <a:off x="4498920" y="443232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_s1042"/>
            <p:cNvSpPr/>
            <p:nvPr/>
          </p:nvSpPr>
          <p:spPr>
            <a:xfrm>
              <a:off x="6926400" y="4432320"/>
              <a:ext cx="18205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Кислоты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_s1043"/>
            <p:cNvSpPr/>
            <p:nvPr/>
          </p:nvSpPr>
          <p:spPr>
            <a:xfrm>
              <a:off x="4500720" y="5844960"/>
              <a:ext cx="181836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_s1044"/>
            <p:cNvSpPr/>
            <p:nvPr/>
          </p:nvSpPr>
          <p:spPr>
            <a:xfrm>
              <a:off x="6926400" y="5844960"/>
              <a:ext cx="181800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Соли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Franklin Gothic Book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4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Franklin Gothic Book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Franklin Gothic Book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Franklin Gothic Book"/>
              </a:rPr>
              <a:t>4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H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baseline="-25000">
                <a:solidFill>
                  <a:srgbClr val="ff3399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Arial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Arial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H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Franklin Gothic Book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 </a:t>
            </a:r>
            <a:r>
              <a:rPr b="0" lang="en-US" sz="7200" spc="-1" strike="noStrike">
                <a:solidFill>
                  <a:srgbClr val="ffff00"/>
                </a:solidFill>
                <a:latin typeface="Franklin Gothic Book"/>
              </a:rPr>
              <a:t>H</a:t>
            </a:r>
            <a:r>
              <a:rPr b="0" lang="en-US" sz="7200" spc="-1" strike="noStrike">
                <a:solidFill>
                  <a:srgbClr val="ff3399"/>
                </a:solidFill>
                <a:latin typeface="Franklin Gothic Book"/>
              </a:rPr>
              <a:t>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Franklin Gothic Boo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4920" y="3284280"/>
            <a:ext cx="8496360" cy="28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00"/>
                </a:solidFill>
                <a:latin typeface="Franklin Gothic Book"/>
              </a:rPr>
              <a:t>H</a:t>
            </a:r>
            <a:r>
              <a:rPr b="0" lang="en-US" sz="6500" spc="-1" strike="noStrike">
                <a:solidFill>
                  <a:srgbClr val="ff0000"/>
                </a:solidFill>
                <a:latin typeface="Franklin Gothic Book"/>
              </a:rPr>
              <a:t>NO</a:t>
            </a:r>
            <a:r>
              <a:rPr b="0" lang="ru-RU" sz="6500" spc="-1" strike="noStrike" baseline="-25000">
                <a:solidFill>
                  <a:srgbClr val="ff0000"/>
                </a:solidFill>
                <a:latin typeface="Franklin Gothic Book"/>
              </a:rPr>
              <a:t>2</a:t>
            </a:r>
            <a:br>
              <a:rPr sz="6500"/>
            </a:br>
            <a:br>
              <a:rPr sz="6500"/>
            </a:br>
            <a:br>
              <a:rPr sz="6500"/>
            </a:br>
            <a:r>
              <a:rPr b="0" lang="ru-RU" sz="4900" spc="-1" strike="noStrike">
                <a:solidFill>
                  <a:srgbClr val="ff0000"/>
                </a:solidFill>
                <a:latin typeface="Franklin Gothic Book"/>
              </a:rPr>
              <a:t>кислотные остатки</a:t>
            </a:r>
            <a:br>
              <a:rPr sz="6500"/>
            </a:br>
            <a:endParaRPr b="0" lang="en-US" sz="4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1405080" y="-171360"/>
            <a:ext cx="556128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9520" indent="-35568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7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7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6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1650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 flipV="1">
            <a:off x="5076720" y="3789360"/>
            <a:ext cx="0" cy="151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Line 6"/>
          <p:cNvSpPr/>
          <p:nvPr/>
        </p:nvSpPr>
        <p:spPr>
          <a:xfrm flipV="1">
            <a:off x="5219640" y="3357360"/>
            <a:ext cx="1873440" cy="18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Line 7"/>
          <p:cNvSpPr/>
          <p:nvPr/>
        </p:nvSpPr>
        <p:spPr>
          <a:xfrm flipH="1" flipV="1">
            <a:off x="2556000" y="3284640"/>
            <a:ext cx="223200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Кислоты 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1268280"/>
            <a:ext cx="9325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сложные вещества, состоящие из одного или нескольких </a:t>
            </a: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атомов водорода</a:t>
            </a: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кислотного остатк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484000" y="2997000"/>
            <a:ext cx="41943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81240" indent="-348120" algn="ctr">
              <a:lnSpc>
                <a:spcPct val="6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7500" spc="-1" strike="noStrike" baseline="-25000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175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148360" y="1915920"/>
            <a:ext cx="1008000" cy="71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6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03640" y="2060280"/>
            <a:ext cx="50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484000" y="2997000"/>
            <a:ext cx="41943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81240" indent="-348120" algn="ctr">
              <a:lnSpc>
                <a:spcPct val="6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7500" spc="-1" strike="noStrike" baseline="-25000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175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67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69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71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4415040" cy="176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ff00"/>
                </a:solidFill>
                <a:latin typeface="Times New Roman"/>
              </a:rPr>
              <a:t>Подчеркните кислотный остаток в молекулах кислот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400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N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Si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79280" y="4652640"/>
            <a:ext cx="86630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2200" spc="-1" strike="noStrike" baseline="60000">
                <a:solidFill>
                  <a:srgbClr val="00ff00"/>
                </a:solidFill>
                <a:latin typeface="Arial"/>
              </a:rPr>
              <a:t>_______                ________           _________               __________           _____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7435800" y="39996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5438880" y="21924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4788000" y="1052640"/>
            <a:ext cx="419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5616720" cy="176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ff00"/>
                </a:solidFill>
                <a:latin typeface="Times New Roman"/>
              </a:rPr>
              <a:t>Определите валентность кислотных остатков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N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Si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; H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0" y="4723920"/>
            <a:ext cx="91440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8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Arial"/>
              </a:rPr>
              <a:t>_______                ________ 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Arial"/>
              </a:rPr>
              <a:t>  _________               __________ 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Arial"/>
              </a:rPr>
              <a:t>   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Arial"/>
              </a:rPr>
              <a:t> 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7451640" y="181080"/>
            <a:ext cx="100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5506920" y="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4788000" y="900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6084720" y="3500280"/>
            <a:ext cx="7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7885080" y="3500280"/>
            <a:ext cx="1258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4284720" y="342900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539640" y="34290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2556000" y="3429000"/>
            <a:ext cx="7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613080" y="549360"/>
            <a:ext cx="626436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оставьте формулы кислот по известным кислотным остаткам</a:t>
            </a:r>
            <a:br>
              <a:rPr sz="29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4000" y="256536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 →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→</a:t>
            </a:r>
            <a:r>
              <a:rPr b="1" lang="ru-RU" sz="3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I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SiO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→</a:t>
            </a:r>
            <a:r>
              <a:rPr b="1" lang="ru-RU" sz="3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ClO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 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MnO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 →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NO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I)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7451640" y="181080"/>
            <a:ext cx="100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5580000" y="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4788000" y="80964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2448000" y="256536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C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2376360" y="306864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3024360" y="357336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2879640" y="414972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2952720" y="465300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Cl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12"/>
          <p:cNvSpPr/>
          <p:nvPr/>
        </p:nvSpPr>
        <p:spPr>
          <a:xfrm>
            <a:off x="3311640" y="522936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M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2735280" y="5805360"/>
            <a:ext cx="147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0" y="26028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Franklin Gothic Book"/>
              </a:rPr>
              <a:t>Классификация кисл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250560" y="2276280"/>
            <a:ext cx="482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.  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о числу атомов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дород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1763640" y="371628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одно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1763640" y="443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двух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1763640" y="515772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трех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ние.</a:t>
            </a: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 Разделите кислоты по числу атомов водород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06" name="Organization Chart 4"/>
          <p:cNvGrpSpPr/>
          <p:nvPr/>
        </p:nvGrpSpPr>
        <p:grpSpPr>
          <a:xfrm>
            <a:off x="684360" y="2847960"/>
            <a:ext cx="7632360" cy="4009680"/>
            <a:chOff x="684360" y="2847960"/>
            <a:chExt cx="7632360" cy="4009680"/>
          </a:xfrm>
        </p:grpSpPr>
        <p:cxnSp>
          <p:nvCxnSpPr>
            <p:cNvPr id="607" name="_s7172"/>
            <p:cNvCxnSpPr>
              <a:stCxn id="608" idx="1"/>
              <a:endCxn id="609" idx="2"/>
            </p:cNvCxnSpPr>
            <p:nvPr/>
          </p:nvCxnSpPr>
          <p:spPr>
            <a:xfrm rot="10800000">
              <a:off x="4499640" y="4026600"/>
              <a:ext cx="273240" cy="2595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0" name="_s7173"/>
            <p:cNvCxnSpPr>
              <a:stCxn id="611" idx="1"/>
              <a:endCxn id="609" idx="2"/>
            </p:cNvCxnSpPr>
            <p:nvPr/>
          </p:nvCxnSpPr>
          <p:spPr>
            <a:xfrm rot="10800000">
              <a:off x="4499640" y="4026600"/>
              <a:ext cx="273240" cy="18860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2" name="_s7174"/>
            <p:cNvCxnSpPr>
              <a:stCxn id="613" idx="1"/>
              <a:endCxn id="609" idx="2"/>
            </p:cNvCxnSpPr>
            <p:nvPr/>
          </p:nvCxnSpPr>
          <p:spPr>
            <a:xfrm rot="10800000">
              <a:off x="4499640" y="4026600"/>
              <a:ext cx="273240" cy="1178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4" name="_s7175"/>
            <p:cNvCxnSpPr>
              <a:stCxn id="615" idx="1"/>
              <a:endCxn id="609" idx="2"/>
            </p:cNvCxnSpPr>
            <p:nvPr/>
          </p:nvCxnSpPr>
          <p:spPr>
            <a:xfrm rot="10800000">
              <a:off x="4499640" y="4026600"/>
              <a:ext cx="273240" cy="472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6" name="_s7176"/>
            <p:cNvCxnSpPr>
              <a:stCxn id="617" idx="3"/>
              <a:endCxn id="618" idx="2"/>
            </p:cNvCxnSpPr>
            <p:nvPr/>
          </p:nvCxnSpPr>
          <p:spPr>
            <a:xfrm flipV="1">
              <a:off x="2319480" y="4026600"/>
              <a:ext cx="273240" cy="2596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9" name="_s7177"/>
            <p:cNvCxnSpPr>
              <a:stCxn id="620" idx="3"/>
              <a:endCxn id="618" idx="2"/>
            </p:cNvCxnSpPr>
            <p:nvPr/>
          </p:nvCxnSpPr>
          <p:spPr>
            <a:xfrm flipV="1">
              <a:off x="2319480" y="4026600"/>
              <a:ext cx="273240" cy="1887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1" name="_s7178"/>
            <p:cNvCxnSpPr>
              <a:stCxn id="622" idx="3"/>
              <a:endCxn id="618" idx="2"/>
            </p:cNvCxnSpPr>
            <p:nvPr/>
          </p:nvCxnSpPr>
          <p:spPr>
            <a:xfrm flipV="1">
              <a:off x="2319480" y="4026960"/>
              <a:ext cx="273240" cy="11800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3" name="_s7179"/>
            <p:cNvCxnSpPr>
              <a:stCxn id="624" idx="3"/>
              <a:endCxn id="618" idx="2"/>
            </p:cNvCxnSpPr>
            <p:nvPr/>
          </p:nvCxnSpPr>
          <p:spPr>
            <a:xfrm flipV="1">
              <a:off x="2319480" y="4026960"/>
              <a:ext cx="273240" cy="473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5" name="_s7180"/>
            <p:cNvCxnSpPr>
              <a:stCxn id="626" idx="0"/>
              <a:endCxn id="627" idx="2"/>
            </p:cNvCxnSpPr>
            <p:nvPr/>
          </p:nvCxnSpPr>
          <p:spPr>
            <a:xfrm flipV="1">
              <a:off x="7499160" y="4026600"/>
              <a:ext cx="2160" cy="236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8" name="_s7181"/>
            <p:cNvCxnSpPr>
              <a:stCxn id="627" idx="0"/>
              <a:endCxn id="629" idx="2"/>
            </p:cNvCxnSpPr>
            <p:nvPr/>
          </p:nvCxnSpPr>
          <p:spPr>
            <a:xfrm flipV="1" rot="16200000">
              <a:off x="6153840" y="2210040"/>
              <a:ext cx="236520" cy="2453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30" name="_s7182"/>
            <p:cNvCxnSpPr>
              <a:stCxn id="609" idx="0"/>
              <a:endCxn id="629" idx="2"/>
            </p:cNvCxnSpPr>
            <p:nvPr/>
          </p:nvCxnSpPr>
          <p:spPr>
            <a:xfrm flipH="1" flipV="1" rot="5400000">
              <a:off x="4654800" y="3164400"/>
              <a:ext cx="236520" cy="545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31" name="_s7183"/>
            <p:cNvCxnSpPr>
              <a:stCxn id="618" idx="0"/>
              <a:endCxn id="629" idx="2"/>
            </p:cNvCxnSpPr>
            <p:nvPr/>
          </p:nvCxnSpPr>
          <p:spPr>
            <a:xfrm flipH="1" flipV="1" rot="5400000">
              <a:off x="3700800" y="2210400"/>
              <a:ext cx="236520" cy="2453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29" name="_s7184"/>
            <p:cNvSpPr/>
            <p:nvPr/>
          </p:nvSpPr>
          <p:spPr>
            <a:xfrm>
              <a:off x="4227840" y="28479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_s7185"/>
            <p:cNvSpPr/>
            <p:nvPr/>
          </p:nvSpPr>
          <p:spPr>
            <a:xfrm>
              <a:off x="177444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ДНО-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_s7186"/>
            <p:cNvSpPr/>
            <p:nvPr/>
          </p:nvSpPr>
          <p:spPr>
            <a:xfrm>
              <a:off x="368280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ДВУХ-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_s7187"/>
            <p:cNvSpPr/>
            <p:nvPr/>
          </p:nvSpPr>
          <p:spPr>
            <a:xfrm>
              <a:off x="668124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ТРЕХ-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_s7188"/>
            <p:cNvSpPr/>
            <p:nvPr/>
          </p:nvSpPr>
          <p:spPr>
            <a:xfrm>
              <a:off x="6681240" y="426312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_s7189"/>
            <p:cNvSpPr/>
            <p:nvPr/>
          </p:nvSpPr>
          <p:spPr>
            <a:xfrm>
              <a:off x="684360" y="426312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_s7190"/>
            <p:cNvSpPr/>
            <p:nvPr/>
          </p:nvSpPr>
          <p:spPr>
            <a:xfrm>
              <a:off x="684360" y="497088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_s7191"/>
            <p:cNvSpPr/>
            <p:nvPr/>
          </p:nvSpPr>
          <p:spPr>
            <a:xfrm>
              <a:off x="685800" y="5678280"/>
              <a:ext cx="16336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_s7192"/>
            <p:cNvSpPr/>
            <p:nvPr/>
          </p:nvSpPr>
          <p:spPr>
            <a:xfrm>
              <a:off x="684360" y="638604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_s7193"/>
            <p:cNvSpPr/>
            <p:nvPr/>
          </p:nvSpPr>
          <p:spPr>
            <a:xfrm>
              <a:off x="4773240" y="4263120"/>
              <a:ext cx="163548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_s7194"/>
            <p:cNvSpPr/>
            <p:nvPr/>
          </p:nvSpPr>
          <p:spPr>
            <a:xfrm>
              <a:off x="4773240" y="497088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_s7195"/>
            <p:cNvSpPr/>
            <p:nvPr/>
          </p:nvSpPr>
          <p:spPr>
            <a:xfrm>
              <a:off x="4773240" y="567828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_s7196"/>
            <p:cNvSpPr/>
            <p:nvPr/>
          </p:nvSpPr>
          <p:spPr>
            <a:xfrm>
              <a:off x="4773240" y="638604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P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; HCl; H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S; HN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; H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: HBr; H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; H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; HCl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; H</a:t>
            </a:r>
            <a:r>
              <a:rPr b="1" lang="ru-RU" sz="33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SiO</a:t>
            </a:r>
            <a:r>
              <a:rPr b="1" lang="en-US" sz="33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00ff00"/>
                </a:solidFill>
                <a:latin typeface="Arial"/>
              </a:rPr>
              <a:t>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Franklin Gothic Book"/>
              </a:rPr>
              <a:t>Классификация кисл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0" y="2923920"/>
            <a:ext cx="5508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 наличию в кислотном остатке атомо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ислоро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1763640" y="422100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1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бес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ислород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1763640" y="4797360"/>
            <a:ext cx="73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2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кислородо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держащи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ние.</a:t>
            </a: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 Разделите кислоты по наличию атомов кислород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41" name="Organization Chart 4"/>
          <p:cNvGrpSpPr/>
          <p:nvPr/>
        </p:nvGrpSpPr>
        <p:grpSpPr>
          <a:xfrm>
            <a:off x="611280" y="2205000"/>
            <a:ext cx="7632000" cy="4009680"/>
            <a:chOff x="611280" y="2205000"/>
            <a:chExt cx="7632000" cy="4009680"/>
          </a:xfrm>
        </p:grpSpPr>
        <p:cxnSp>
          <p:nvCxnSpPr>
            <p:cNvPr id="642" name="_s8196"/>
            <p:cNvCxnSpPr>
              <a:stCxn id="643" idx="1"/>
              <a:endCxn id="644" idx="2"/>
            </p:cNvCxnSpPr>
            <p:nvPr/>
          </p:nvCxnSpPr>
          <p:spPr>
            <a:xfrm rot="10800000">
              <a:off x="5700600" y="3636360"/>
              <a:ext cx="363960" cy="2291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5" name="_s8197"/>
            <p:cNvCxnSpPr>
              <a:stCxn id="646" idx="1"/>
              <a:endCxn id="644" idx="2"/>
            </p:cNvCxnSpPr>
            <p:nvPr/>
          </p:nvCxnSpPr>
          <p:spPr>
            <a:xfrm rot="10800000">
              <a:off x="5700600" y="3636360"/>
              <a:ext cx="363960" cy="14328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7" name="_s8198"/>
            <p:cNvCxnSpPr>
              <a:stCxn id="648" idx="1"/>
              <a:endCxn id="644" idx="2"/>
            </p:cNvCxnSpPr>
            <p:nvPr/>
          </p:nvCxnSpPr>
          <p:spPr>
            <a:xfrm rot="10800000">
              <a:off x="5700600" y="3636360"/>
              <a:ext cx="363960" cy="573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9" name="_s8199"/>
            <p:cNvCxnSpPr>
              <a:stCxn id="650" idx="3"/>
              <a:endCxn id="651" idx="2"/>
            </p:cNvCxnSpPr>
            <p:nvPr/>
          </p:nvCxnSpPr>
          <p:spPr>
            <a:xfrm flipV="1">
              <a:off x="2792160" y="3636720"/>
              <a:ext cx="363960" cy="2291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52" name="_s8200"/>
            <p:cNvCxnSpPr>
              <a:stCxn id="653" idx="3"/>
              <a:endCxn id="651" idx="2"/>
            </p:cNvCxnSpPr>
            <p:nvPr/>
          </p:nvCxnSpPr>
          <p:spPr>
            <a:xfrm flipV="1">
              <a:off x="2792160" y="3636360"/>
              <a:ext cx="363960" cy="1434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54" name="_s8201"/>
            <p:cNvCxnSpPr>
              <a:stCxn id="655" idx="3"/>
              <a:endCxn id="651" idx="2"/>
            </p:cNvCxnSpPr>
            <p:nvPr/>
          </p:nvCxnSpPr>
          <p:spPr>
            <a:xfrm flipV="1">
              <a:off x="2792160" y="3636360"/>
              <a:ext cx="363960" cy="573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56" name="_s8202"/>
            <p:cNvCxnSpPr>
              <a:stCxn id="644" idx="0"/>
              <a:endCxn id="657" idx="2"/>
            </p:cNvCxnSpPr>
            <p:nvPr/>
          </p:nvCxnSpPr>
          <p:spPr>
            <a:xfrm flipV="1" rot="16200000">
              <a:off x="4920840" y="2283840"/>
              <a:ext cx="286920" cy="1273320"/>
            </a:xfrm>
            <a:prstGeom prst="bentConnector3">
              <a:avLst>
                <a:gd name="adj1" fmla="val 399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58" name="_s8203"/>
            <p:cNvCxnSpPr>
              <a:stCxn id="651" idx="0"/>
              <a:endCxn id="657" idx="2"/>
            </p:cNvCxnSpPr>
            <p:nvPr/>
          </p:nvCxnSpPr>
          <p:spPr>
            <a:xfrm flipH="1" flipV="1" rot="5400000">
              <a:off x="3648960" y="2284200"/>
              <a:ext cx="286920" cy="1272960"/>
            </a:xfrm>
            <a:prstGeom prst="bentConnector3">
              <a:avLst>
                <a:gd name="adj1" fmla="val 399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57" name="_s8204"/>
            <p:cNvSpPr/>
            <p:nvPr/>
          </p:nvSpPr>
          <p:spPr>
            <a:xfrm>
              <a:off x="3337560" y="220500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_s8205"/>
            <p:cNvSpPr/>
            <p:nvPr/>
          </p:nvSpPr>
          <p:spPr>
            <a:xfrm>
              <a:off x="2065320" y="306396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ес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_s8206"/>
            <p:cNvSpPr/>
            <p:nvPr/>
          </p:nvSpPr>
          <p:spPr>
            <a:xfrm>
              <a:off x="4610520" y="306396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ислород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держащ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_s8207"/>
            <p:cNvSpPr/>
            <p:nvPr/>
          </p:nvSpPr>
          <p:spPr>
            <a:xfrm>
              <a:off x="611280" y="392328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_s8208"/>
            <p:cNvSpPr/>
            <p:nvPr/>
          </p:nvSpPr>
          <p:spPr>
            <a:xfrm>
              <a:off x="611280" y="478260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_s8209"/>
            <p:cNvSpPr/>
            <p:nvPr/>
          </p:nvSpPr>
          <p:spPr>
            <a:xfrm>
              <a:off x="613440" y="5641920"/>
              <a:ext cx="217908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_s8210"/>
            <p:cNvSpPr/>
            <p:nvPr/>
          </p:nvSpPr>
          <p:spPr>
            <a:xfrm>
              <a:off x="6064920" y="392328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_s8211"/>
            <p:cNvSpPr/>
            <p:nvPr/>
          </p:nvSpPr>
          <p:spPr>
            <a:xfrm>
              <a:off x="6064920" y="478260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_s8212"/>
            <p:cNvSpPr/>
            <p:nvPr/>
          </p:nvSpPr>
          <p:spPr>
            <a:xfrm>
              <a:off x="6064920" y="564192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; HCl; HN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; HB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Получение кислот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61" name="Organization Chart 3"/>
          <p:cNvGrpSpPr/>
          <p:nvPr/>
        </p:nvGrpSpPr>
        <p:grpSpPr>
          <a:xfrm>
            <a:off x="2411280" y="1052640"/>
            <a:ext cx="4248000" cy="2237400"/>
            <a:chOff x="2411280" y="1052640"/>
            <a:chExt cx="4248000" cy="2237400"/>
          </a:xfrm>
        </p:grpSpPr>
        <p:cxnSp>
          <p:nvCxnSpPr>
            <p:cNvPr id="662" name="_s9220"/>
            <p:cNvCxnSpPr>
              <a:stCxn id="663" idx="0"/>
              <a:endCxn id="664" idx="2"/>
            </p:cNvCxnSpPr>
            <p:nvPr/>
          </p:nvCxnSpPr>
          <p:spPr>
            <a:xfrm flipV="1" rot="16200000">
              <a:off x="4882320" y="1598760"/>
              <a:ext cx="448200" cy="1144440"/>
            </a:xfrm>
            <a:prstGeom prst="bentConnector3">
              <a:avLst>
                <a:gd name="adj1" fmla="val 2548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65" name="_s9221"/>
            <p:cNvCxnSpPr>
              <a:stCxn id="666" idx="0"/>
              <a:endCxn id="664" idx="2"/>
            </p:cNvCxnSpPr>
            <p:nvPr/>
          </p:nvCxnSpPr>
          <p:spPr>
            <a:xfrm flipH="1" flipV="1" rot="5400000">
              <a:off x="3739320" y="1599120"/>
              <a:ext cx="448200" cy="1144080"/>
            </a:xfrm>
            <a:prstGeom prst="bentConnector3">
              <a:avLst>
                <a:gd name="adj1" fmla="val 2548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64" name="_s9222"/>
            <p:cNvSpPr/>
            <p:nvPr/>
          </p:nvSpPr>
          <p:spPr>
            <a:xfrm>
              <a:off x="3554640" y="105264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_s9223"/>
            <p:cNvSpPr/>
            <p:nvPr/>
          </p:nvSpPr>
          <p:spPr>
            <a:xfrm>
              <a:off x="2411280" y="239508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ес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_s9224"/>
            <p:cNvSpPr/>
            <p:nvPr/>
          </p:nvSpPr>
          <p:spPr>
            <a:xfrm>
              <a:off x="4698720" y="239508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ислород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держащ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Line 10"/>
          <p:cNvSpPr/>
          <p:nvPr/>
        </p:nvSpPr>
        <p:spPr>
          <a:xfrm flipV="1">
            <a:off x="3348000" y="3428640"/>
            <a:ext cx="0" cy="10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Line 11"/>
          <p:cNvSpPr/>
          <p:nvPr/>
        </p:nvSpPr>
        <p:spPr>
          <a:xfrm flipV="1">
            <a:off x="5867280" y="3428640"/>
            <a:ext cx="0" cy="10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1042920" y="4724280"/>
            <a:ext cx="37432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еМе + Н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Oval 13"/>
          <p:cNvSpPr/>
          <p:nvPr/>
        </p:nvSpPr>
        <p:spPr>
          <a:xfrm>
            <a:off x="4859280" y="4724280"/>
            <a:ext cx="37432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еМеО + Н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Franklin Gothic Book"/>
              </a:rPr>
              <a:t>Получение кисл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Взаимодействие кислотных оксидов с вод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Взаимодействие водорода с неметалл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+ Cl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716360" y="2708280"/>
            <a:ext cx="244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ClO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708360" y="4797360"/>
            <a:ext cx="2232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C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500720" y="2708280"/>
            <a:ext cx="64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276720" y="4797360"/>
            <a:ext cx="647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420"/>
                            </p:stCondLst>
                            <p:childTnLst>
                              <p:par>
                                <p:cTn id="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60948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457200" y="5335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ческие свойства кисло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324000" y="4005360"/>
            <a:ext cx="8820000" cy="262908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угольная кислота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сернистая кислота</a:t>
            </a:r>
            <a:r>
              <a:rPr b="0" lang="ru-RU" sz="3200" spc="-1" strike="noStrike">
                <a:solidFill>
                  <a:srgbClr val="9454c3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accbf9"/>
                </a:solidFill>
                <a:latin typeface="Times New Roman"/>
              </a:rPr>
              <a:t>В свободном виде не существуют, распадаются на газ и вод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395280" y="549360"/>
            <a:ext cx="8305920" cy="209016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Cl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с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ляная кислота</a:t>
            </a:r>
            <a:r>
              <a:rPr b="0" lang="ru-RU" sz="3200" spc="-1" strike="noStrike">
                <a:solidFill>
                  <a:srgbClr val="9454c3"/>
                </a:solidFill>
                <a:latin typeface="Times New Roman"/>
              </a:rPr>
              <a:t>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ерная кислота     </a:t>
            </a:r>
            <a:r>
              <a:rPr b="0" lang="ru-RU" sz="3200" spc="-1" strike="noStrike">
                <a:solidFill>
                  <a:srgbClr val="9454c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accbf9"/>
                </a:solidFill>
                <a:latin typeface="Times New Roman"/>
                <a:ea typeface="Times New Roman"/>
              </a:rPr>
              <a:t>жидкости</a:t>
            </a:r>
            <a:r>
              <a:rPr b="0" i="1" lang="ru-RU" sz="3200" spc="-1" strike="noStrike">
                <a:solidFill>
                  <a:srgbClr val="accbf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ccbf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454c3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N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зотная кислота</a:t>
            </a:r>
            <a:r>
              <a:rPr b="0" lang="ru-RU" sz="3600" spc="-1" strike="noStrike">
                <a:solidFill>
                  <a:srgbClr val="accbf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324000" y="2492280"/>
            <a:ext cx="8640720" cy="155448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 кремниевая кислота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accbf9"/>
                </a:solidFill>
                <a:latin typeface="Times New Roman"/>
                <a:ea typeface="Times New Roman"/>
              </a:rPr>
              <a:t>тверд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ccbf9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accbf9"/>
                </a:solidFill>
                <a:latin typeface="Times New Roman"/>
                <a:ea typeface="Times New Roman"/>
              </a:rPr>
              <a:t>вещество</a:t>
            </a:r>
            <a:r>
              <a:rPr b="0" lang="ru-RU" sz="3200" spc="-1" strike="noStrike">
                <a:solidFill>
                  <a:srgbClr val="9454c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AutoShape 8"/>
          <p:cNvSpPr/>
          <p:nvPr/>
        </p:nvSpPr>
        <p:spPr>
          <a:xfrm>
            <a:off x="4859280" y="692280"/>
            <a:ext cx="217440" cy="180000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6227640" y="2708280"/>
            <a:ext cx="71640" cy="431640"/>
          </a:xfrm>
          <a:custGeom>
            <a:avLst/>
            <a:gdLst>
              <a:gd name="textAreaLeft" fmla="*/ 0 w 71640"/>
              <a:gd name="textAreaRight" fmla="*/ 2592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ff00"/>
                </a:solidFill>
                <a:latin typeface="Franklin Gothic Book"/>
              </a:rPr>
              <a:t>Индикаторы</a:t>
            </a:r>
            <a:endParaRPr b="0" lang="en-US" sz="10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680" y="1600200"/>
            <a:ext cx="85406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76920" indent="-34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щества, дающие </a:t>
            </a:r>
            <a:r>
              <a:rPr b="1" lang="ru-RU" sz="4000" spc="-1" strike="noStrike">
                <a:solidFill>
                  <a:srgbClr val="ff0707"/>
                </a:solidFill>
                <a:latin typeface="Arial"/>
              </a:rPr>
              <a:t>цветные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имические  реакции в зависимости от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реды раств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3276720" y="4292640"/>
            <a:ext cx="5659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Лакму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Метилоран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Фенолфтале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7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395280" y="170028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Franklin Gothic Book"/>
              </a:rPr>
              <a:t>Распознавание кислот</a:t>
            </a: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Franklin Gothic Book"/>
              </a:rPr>
              <a:t>индикаторам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0" name="AutoShape 4"/>
          <p:cNvSpPr/>
          <p:nvPr/>
        </p:nvSpPr>
        <p:spPr>
          <a:xfrm rot="5400000">
            <a:off x="6819840" y="4991040"/>
            <a:ext cx="457200" cy="533520"/>
          </a:xfrm>
          <a:prstGeom prst="flowChartDelay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1" name="Group 5"/>
          <p:cNvGrpSpPr/>
          <p:nvPr/>
        </p:nvGrpSpPr>
        <p:grpSpPr>
          <a:xfrm>
            <a:off x="6705720" y="3200400"/>
            <a:ext cx="753840" cy="2327400"/>
            <a:chOff x="6705720" y="3200400"/>
            <a:chExt cx="753840" cy="2327400"/>
          </a:xfrm>
        </p:grpSpPr>
        <p:sp>
          <p:nvSpPr>
            <p:cNvPr id="692" name="Freeform 6"/>
            <p:cNvSpPr/>
            <p:nvPr/>
          </p:nvSpPr>
          <p:spPr>
            <a:xfrm>
              <a:off x="7237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93" name="Group 7"/>
            <p:cNvGrpSpPr/>
            <p:nvPr/>
          </p:nvGrpSpPr>
          <p:grpSpPr>
            <a:xfrm>
              <a:off x="6705720" y="3200400"/>
              <a:ext cx="753840" cy="2327400"/>
              <a:chOff x="6705720" y="3200400"/>
              <a:chExt cx="753840" cy="2327400"/>
            </a:xfrm>
          </p:grpSpPr>
          <p:sp>
            <p:nvSpPr>
              <p:cNvPr id="694" name="Freeform 8"/>
              <p:cNvSpPr/>
              <p:nvPr/>
            </p:nvSpPr>
            <p:spPr>
              <a:xfrm>
                <a:off x="6772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5" name="Freeform 9"/>
              <p:cNvSpPr/>
              <p:nvPr/>
            </p:nvSpPr>
            <p:spPr>
              <a:xfrm>
                <a:off x="6705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6" name="Freeform 10"/>
              <p:cNvSpPr/>
              <p:nvPr/>
            </p:nvSpPr>
            <p:spPr>
              <a:xfrm>
                <a:off x="6772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7" name="Freeform 11"/>
              <p:cNvSpPr/>
              <p:nvPr/>
            </p:nvSpPr>
            <p:spPr>
              <a:xfrm>
                <a:off x="7010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8" name="Freeform 12"/>
              <p:cNvSpPr/>
              <p:nvPr/>
            </p:nvSpPr>
            <p:spPr>
              <a:xfrm>
                <a:off x="7010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9" name="Freeform 13"/>
              <p:cNvSpPr/>
              <p:nvPr/>
            </p:nvSpPr>
            <p:spPr>
              <a:xfrm>
                <a:off x="6991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0" name="Freeform 14"/>
              <p:cNvSpPr/>
              <p:nvPr/>
            </p:nvSpPr>
            <p:spPr>
              <a:xfrm>
                <a:off x="7008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1" name="Freeform 15"/>
              <p:cNvSpPr/>
              <p:nvPr/>
            </p:nvSpPr>
            <p:spPr>
              <a:xfrm>
                <a:off x="7008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2" name="Freeform 16"/>
              <p:cNvSpPr/>
              <p:nvPr/>
            </p:nvSpPr>
            <p:spPr>
              <a:xfrm>
                <a:off x="7007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3" name="Freeform 17"/>
              <p:cNvSpPr/>
              <p:nvPr/>
            </p:nvSpPr>
            <p:spPr>
              <a:xfrm>
                <a:off x="7007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04" name="AutoShape 18"/>
          <p:cNvSpPr/>
          <p:nvPr/>
        </p:nvSpPr>
        <p:spPr>
          <a:xfrm rot="5400000">
            <a:off x="2171160" y="4914720"/>
            <a:ext cx="457200" cy="53316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5" name="Group 19"/>
          <p:cNvGrpSpPr/>
          <p:nvPr/>
        </p:nvGrpSpPr>
        <p:grpSpPr>
          <a:xfrm>
            <a:off x="2057400" y="3200400"/>
            <a:ext cx="753840" cy="2327400"/>
            <a:chOff x="2057400" y="3200400"/>
            <a:chExt cx="753840" cy="2327400"/>
          </a:xfrm>
        </p:grpSpPr>
        <p:sp>
          <p:nvSpPr>
            <p:cNvPr id="706" name="Freeform 20"/>
            <p:cNvSpPr/>
            <p:nvPr/>
          </p:nvSpPr>
          <p:spPr>
            <a:xfrm>
              <a:off x="258912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07" name="Group 21"/>
            <p:cNvGrpSpPr/>
            <p:nvPr/>
          </p:nvGrpSpPr>
          <p:grpSpPr>
            <a:xfrm>
              <a:off x="2057400" y="3200400"/>
              <a:ext cx="753840" cy="2327400"/>
              <a:chOff x="2057400" y="3200400"/>
              <a:chExt cx="753840" cy="2327400"/>
            </a:xfrm>
          </p:grpSpPr>
          <p:sp>
            <p:nvSpPr>
              <p:cNvPr id="708" name="Freeform 22"/>
              <p:cNvSpPr/>
              <p:nvPr/>
            </p:nvSpPr>
            <p:spPr>
              <a:xfrm>
                <a:off x="212400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Freeform 23"/>
              <p:cNvSpPr/>
              <p:nvPr/>
            </p:nvSpPr>
            <p:spPr>
              <a:xfrm>
                <a:off x="205740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Freeform 24"/>
              <p:cNvSpPr/>
              <p:nvPr/>
            </p:nvSpPr>
            <p:spPr>
              <a:xfrm>
                <a:off x="212400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Freeform 25"/>
              <p:cNvSpPr/>
              <p:nvPr/>
            </p:nvSpPr>
            <p:spPr>
              <a:xfrm>
                <a:off x="236196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Freeform 26"/>
              <p:cNvSpPr/>
              <p:nvPr/>
            </p:nvSpPr>
            <p:spPr>
              <a:xfrm>
                <a:off x="236196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Freeform 27"/>
              <p:cNvSpPr/>
              <p:nvPr/>
            </p:nvSpPr>
            <p:spPr>
              <a:xfrm>
                <a:off x="234288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Freeform 28"/>
              <p:cNvSpPr/>
              <p:nvPr/>
            </p:nvSpPr>
            <p:spPr>
              <a:xfrm>
                <a:off x="236052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Freeform 29"/>
              <p:cNvSpPr/>
              <p:nvPr/>
            </p:nvSpPr>
            <p:spPr>
              <a:xfrm>
                <a:off x="236052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Freeform 30"/>
              <p:cNvSpPr/>
              <p:nvPr/>
            </p:nvSpPr>
            <p:spPr>
              <a:xfrm>
                <a:off x="235908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Freeform 31"/>
              <p:cNvSpPr/>
              <p:nvPr/>
            </p:nvSpPr>
            <p:spPr>
              <a:xfrm>
                <a:off x="235908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18" name="AutoShape 32"/>
          <p:cNvSpPr/>
          <p:nvPr/>
        </p:nvSpPr>
        <p:spPr>
          <a:xfrm>
            <a:off x="1523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ebb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33"/>
          <p:cNvSpPr/>
          <p:nvPr/>
        </p:nvSpPr>
        <p:spPr>
          <a:xfrm>
            <a:off x="6156360" y="2637000"/>
            <a:ext cx="1066680" cy="3808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4285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34"/>
          <p:cNvSpPr/>
          <p:nvPr/>
        </p:nvSpPr>
        <p:spPr>
          <a:xfrm>
            <a:off x="3809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4285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35"/>
          <p:cNvSpPr/>
          <p:nvPr/>
        </p:nvSpPr>
        <p:spPr>
          <a:xfrm rot="5400000">
            <a:off x="4533840" y="4991040"/>
            <a:ext cx="457200" cy="533520"/>
          </a:xfrm>
          <a:prstGeom prst="flowChartDelay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22" name="Group 36"/>
          <p:cNvGrpSpPr/>
          <p:nvPr/>
        </p:nvGrpSpPr>
        <p:grpSpPr>
          <a:xfrm>
            <a:off x="4419720" y="3200400"/>
            <a:ext cx="753840" cy="2327400"/>
            <a:chOff x="4419720" y="3200400"/>
            <a:chExt cx="753840" cy="2327400"/>
          </a:xfrm>
        </p:grpSpPr>
        <p:sp>
          <p:nvSpPr>
            <p:cNvPr id="723" name="Freeform 37"/>
            <p:cNvSpPr/>
            <p:nvPr/>
          </p:nvSpPr>
          <p:spPr>
            <a:xfrm>
              <a:off x="4951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24" name="Group 38"/>
            <p:cNvGrpSpPr/>
            <p:nvPr/>
          </p:nvGrpSpPr>
          <p:grpSpPr>
            <a:xfrm>
              <a:off x="4419720" y="3200400"/>
              <a:ext cx="753840" cy="2327400"/>
              <a:chOff x="4419720" y="3200400"/>
              <a:chExt cx="753840" cy="2327400"/>
            </a:xfrm>
          </p:grpSpPr>
          <p:sp>
            <p:nvSpPr>
              <p:cNvPr id="725" name="Freeform 39"/>
              <p:cNvSpPr/>
              <p:nvPr/>
            </p:nvSpPr>
            <p:spPr>
              <a:xfrm>
                <a:off x="4486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40"/>
              <p:cNvSpPr/>
              <p:nvPr/>
            </p:nvSpPr>
            <p:spPr>
              <a:xfrm>
                <a:off x="4419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41"/>
              <p:cNvSpPr/>
              <p:nvPr/>
            </p:nvSpPr>
            <p:spPr>
              <a:xfrm>
                <a:off x="4486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42"/>
              <p:cNvSpPr/>
              <p:nvPr/>
            </p:nvSpPr>
            <p:spPr>
              <a:xfrm>
                <a:off x="4724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43"/>
              <p:cNvSpPr/>
              <p:nvPr/>
            </p:nvSpPr>
            <p:spPr>
              <a:xfrm>
                <a:off x="4724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44"/>
              <p:cNvSpPr/>
              <p:nvPr/>
            </p:nvSpPr>
            <p:spPr>
              <a:xfrm>
                <a:off x="4705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Freeform 45"/>
              <p:cNvSpPr/>
              <p:nvPr/>
            </p:nvSpPr>
            <p:spPr>
              <a:xfrm>
                <a:off x="4722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Freeform 46"/>
              <p:cNvSpPr/>
              <p:nvPr/>
            </p:nvSpPr>
            <p:spPr>
              <a:xfrm>
                <a:off x="4722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Freeform 47"/>
              <p:cNvSpPr/>
              <p:nvPr/>
            </p:nvSpPr>
            <p:spPr>
              <a:xfrm>
                <a:off x="4721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Freeform 48"/>
              <p:cNvSpPr/>
              <p:nvPr/>
            </p:nvSpPr>
            <p:spPr>
              <a:xfrm>
                <a:off x="4721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35" name="Text Box 49"/>
          <p:cNvSpPr/>
          <p:nvPr/>
        </p:nvSpPr>
        <p:spPr>
          <a:xfrm>
            <a:off x="13716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км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Text Box 50"/>
          <p:cNvSpPr/>
          <p:nvPr/>
        </p:nvSpPr>
        <p:spPr>
          <a:xfrm>
            <a:off x="3419640" y="198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илоран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51"/>
          <p:cNvSpPr/>
          <p:nvPr/>
        </p:nvSpPr>
        <p:spPr>
          <a:xfrm>
            <a:off x="5796000" y="205740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лфтале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Text Box 52"/>
          <p:cNvSpPr/>
          <p:nvPr/>
        </p:nvSpPr>
        <p:spPr>
          <a:xfrm>
            <a:off x="1295280" y="5638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Text Box 53"/>
          <p:cNvSpPr/>
          <p:nvPr/>
        </p:nvSpPr>
        <p:spPr>
          <a:xfrm>
            <a:off x="1828800" y="5486400"/>
            <a:ext cx="1066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Text Box 54"/>
          <p:cNvSpPr/>
          <p:nvPr/>
        </p:nvSpPr>
        <p:spPr>
          <a:xfrm>
            <a:off x="4267080" y="5486400"/>
            <a:ext cx="1067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Text Box 55"/>
          <p:cNvSpPr/>
          <p:nvPr/>
        </p:nvSpPr>
        <p:spPr>
          <a:xfrm>
            <a:off x="6629400" y="5486400"/>
            <a:ext cx="99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24285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324000" y="1125360"/>
          <a:ext cx="8642160" cy="5121360"/>
        </p:xfrm>
        <a:graphic>
          <a:graphicData uri="http://schemas.openxmlformats.org/drawingml/2006/table">
            <a:tbl>
              <a:tblPr/>
              <a:tblGrid>
                <a:gridCol w="3673440"/>
                <a:gridCol w="496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ОРМУЛА КИСЛ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АЗВАНИЕ КИСЛ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F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тороводородная (плавикова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Cl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оводородная (соляная)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B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м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од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3" name="Text Box 27"/>
          <p:cNvSpPr/>
          <p:nvPr/>
        </p:nvSpPr>
        <p:spPr>
          <a:xfrm>
            <a:off x="179280" y="18900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Названия кислот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250920" y="189000"/>
          <a:ext cx="8642160" cy="54864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N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з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нис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о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i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емние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сфо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5" name="Picture 25" descr="J0205364"/>
          <p:cNvPicPr/>
          <p:nvPr/>
        </p:nvPicPr>
        <p:blipFill>
          <a:blip r:embed="rId1"/>
          <a:stretch/>
        </p:blipFill>
        <p:spPr>
          <a:xfrm>
            <a:off x="6804000" y="505764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00"/>
                </a:solidFill>
                <a:latin typeface="Franklin Gothic Book"/>
              </a:rPr>
              <a:t>Что </a:t>
            </a:r>
            <a:br>
              <a:rPr sz="9000"/>
            </a:br>
            <a:r>
              <a:rPr b="1" lang="ru-RU" sz="9000" spc="-1" strike="noStrike">
                <a:solidFill>
                  <a:srgbClr val="ffff00"/>
                </a:solidFill>
                <a:latin typeface="Franklin Gothic Book"/>
              </a:rPr>
              <a:t>запомнили?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0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00"/>
                </a:solidFill>
                <a:latin typeface="Franklin Gothic Book"/>
              </a:rPr>
              <a:t>Что</a:t>
            </a:r>
            <a:br>
              <a:rPr sz="9000"/>
            </a:br>
            <a:r>
              <a:rPr b="1" lang="ru-RU" sz="9000" spc="-1" strike="noStrike">
                <a:solidFill>
                  <a:srgbClr val="ffff00"/>
                </a:solidFill>
                <a:latin typeface="Franklin Gothic Book"/>
              </a:rPr>
              <a:t>поняли?</a:t>
            </a:r>
            <a:endParaRPr b="0" lang="en-US" sz="9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00"/>
                </a:solidFill>
                <a:latin typeface="Franklin Gothic Book"/>
              </a:rPr>
              <a:t>Чему </a:t>
            </a:r>
            <a:br>
              <a:rPr sz="9000"/>
            </a:br>
            <a:r>
              <a:rPr b="1" lang="ru-RU" sz="9000" spc="-1" strike="noStrike">
                <a:solidFill>
                  <a:srgbClr val="ffff00"/>
                </a:solidFill>
                <a:latin typeface="Franklin Gothic Book"/>
              </a:rPr>
              <a:t>научились?</a:t>
            </a:r>
            <a:endParaRPr b="0" lang="en-US" sz="9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0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468360" y="765000"/>
            <a:ext cx="82440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1. Найди группу формул кисло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HCl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                                                                       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      H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HBr     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HCl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Cl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900000" y="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Закрепл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250920" y="2852640"/>
            <a:ext cx="849780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. Выберите формулу «третьего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лишнего» вещества в каждом ряд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Cl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      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   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aO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5920" cy="314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707"/>
                </a:solidFill>
                <a:latin typeface="Franklin Gothic Book"/>
              </a:rPr>
              <a:t>3.</a:t>
            </a:r>
            <a:r>
              <a:rPr b="1" lang="ru-RU" sz="4300" spc="-1" strike="noStrike" u="sng">
                <a:solidFill>
                  <a:srgbClr val="ff0707"/>
                </a:solidFill>
                <a:uFillTx/>
                <a:latin typeface="Franklin Gothic Book"/>
              </a:rPr>
              <a:t> Даны вещества:</a:t>
            </a:r>
            <a:br>
              <a:rPr sz="43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O, NaOH, 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Ca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HCl, Cu(OH)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HN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BaO, 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,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Al(OH)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AgN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NaSi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Al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78920" y="3500280"/>
            <a:ext cx="8541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629dd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00"/>
                </a:solidFill>
                <a:latin typeface="Arial"/>
              </a:rPr>
              <a:t>Из предложенного списка выберите кислот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629dd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00"/>
                </a:solidFill>
                <a:latin typeface="Arial"/>
              </a:rPr>
              <a:t>Проклассифицируйте и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629dd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00"/>
                </a:solidFill>
                <a:latin typeface="Arial"/>
              </a:rPr>
              <a:t>Определите валентность кислотных остат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127,4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84,-10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Franklin Gothic Book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100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§ 34, 3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100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готовиться к химическому диктанту по названиям кисл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1001"/>
              </a:spcBef>
              <a:buClr>
                <a:srgbClr val="629dd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 листа-упражнения выполнить задания №1, №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Franklin Gothic Book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59:12Z</dcterms:created>
  <dc:creator>1</dc:creator>
  <dc:description/>
  <dc:language>en-US</dc:language>
  <cp:lastModifiedBy>дс</cp:lastModifiedBy>
  <dcterms:modified xsi:type="dcterms:W3CDTF">2012-12-12T23:37:25Z</dcterms:modified>
  <cp:revision>8</cp:revision>
  <dc:subject/>
  <dc:title>Слайд 1</dc:title>
</cp:coreProperties>
</file>