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620CD-8A13-489F-827A-EEE14554F9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7B19F-599B-41F8-AC4E-36E9D87FA5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094D5-BE28-4B6A-9A8B-9A4431B5DA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D4A7F-6007-4853-A450-E971E1C265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A0857-DE3E-4838-A5B2-49F953C74E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0CED8-C412-4992-8B85-30CDC1B00D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B23AF-616A-476E-8890-3421A412EA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0B12E-136E-4CA0-9D8A-F410E1C2CF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C2A31-CBBD-4673-931F-401D108C2C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B3DD3-A038-45D7-8004-11AFC72265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67F69-893B-4B5B-877B-1F4B547C20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4FB7F-3D75-4AC3-B580-4C069333DF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C4165-9CD0-46A7-B075-E4660CEBD9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AAF0E-55D6-4000-A3E2-9164B330B8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8BE51-9B82-4F02-81EA-4ABD255D4D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3EEA-9EBC-46A8-9C1A-8195B82C07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95E0-75D4-4E1C-B015-28C8DA80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5CEA-06EC-495E-8FF6-4D4D714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C8E3-5543-45D4-A38A-6173844E6B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D5EDF-7B05-4CCE-A6ED-571F21FD91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4BD2F-7E78-4AE0-BF32-549BACAD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19274-0BFD-4A80-96DA-E22FF519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49C1D-CB0F-4D48-95FD-4B2FEDF9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97AFA-A25A-4137-935E-205492A3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7DA6A-7F33-43C3-A402-6231A88A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DB71D-1BBD-40C1-9FEF-79B88F76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C588-2F20-455E-ADB1-27B26967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8B8D4-4BD4-40AE-9C43-DD7E5B20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170E2-7AA9-467D-B082-BBBCC623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4BCEA-F23C-4FD6-8DC3-F4182C64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4C4CD-991B-4761-B8B6-5E9BA5F9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B2133-D0A9-4EAC-B710-E648AE6F9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8F5D-59C7-4B45-8362-93D6646C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4E93-B1C4-46F0-BC4B-57224B6F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1EB4-8729-4472-BB3A-9D8800BA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032D-E721-4E12-84EB-21185541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3FAA-D69F-4CD0-965C-66F28032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AF5D-3E4B-435A-8B73-89BB0374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C4EF-3954-4592-9720-955040FB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5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1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048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8DFF8F-E389-4A74-A2A3-0C623D73295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65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 fontScale="96000"/>
          </a:bodyPr>
          <a:p>
            <a:pPr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1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048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46C548-D9EA-4B42-A308-064DD84D3CA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900000" y="2670120"/>
            <a:ext cx="705672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entury Gothic"/>
              </a:rPr>
              <a:t>Тема: «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Э</a:t>
            </a:r>
            <a:r>
              <a:rPr b="1" lang="ru-RU" sz="3600" spc="-1" strike="noStrike">
                <a:solidFill>
                  <a:srgbClr val="17375e"/>
                </a:solidFill>
                <a:latin typeface="Century Gothic"/>
              </a:rPr>
              <a:t>то интер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3600" spc="-1" strike="noStrike">
                <a:solidFill>
                  <a:srgbClr val="17375e"/>
                </a:solidFill>
                <a:latin typeface="Century Gothic"/>
              </a:rPr>
              <a:t>сн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2324160" y="9460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__ __ __ __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28560" y="285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Какой знак в конце предлож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250920" y="1979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Обезьяна запускает в дырочку лап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642960" y="-12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Сколько слов в предложении? Сосчит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5229360" y="1044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642960" y="558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Расставь надстрочные знаки. Какое главн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3071880" y="3429000"/>
            <a:ext cx="2571840" cy="28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2967120" y="9460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__ __ __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28560" y="285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Какой знак в конце предлож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250920" y="1979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Набирает полную лапку ри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642960" y="-12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Сколько слов в предложении? Сосчит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5364000" y="1044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642960" y="558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Расставь надстрочные знаки. Какое главн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000240" y="3643200"/>
            <a:ext cx="1905120" cy="23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936800" y="946080"/>
            <a:ext cx="77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__ __ __ __ __ __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628560" y="285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Какой знак в конце предлож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179280" y="22017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Но вытащить лапку из тыквы не мож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42960" y="-12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Сколько слов в предложении? Сосчит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6178680" y="1044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642960" y="558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Расставь надстрочные знаки. Какое главн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3071880" y="3429000"/>
            <a:ext cx="2571840" cy="28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2338560" y="946080"/>
            <a:ext cx="77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__ __ __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628560" y="285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Какой знак в конце предлож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179280" y="197964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Приходят люди и забирают себе обезья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642960" y="-12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Сколько слов в предложении? Сосчит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5072040" y="1044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642960" y="558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Расставь надстрочные знаки. Какое главн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1500120" y="371484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4857840" y="39290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322200" y="333360"/>
            <a:ext cx="88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1. Что можно сделать из тыкв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00040" y="71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тветь на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285840" y="1001880"/>
            <a:ext cx="877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Times New Roman"/>
              </a:rPr>
              <a:t>Из тыквы можно сварить кашу, сделать посуду, музыкальные инструменты, ловушку для обезь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214200" y="27082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2. Куда можно спрятать одежду в дождливую погод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295200" y="3922560"/>
            <a:ext cx="877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Times New Roman"/>
              </a:rPr>
              <a:t>В дождливую погоду прячут одежду в тык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250920" y="500076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3. В какой стране на тыкву ловят обезья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324000" y="6059520"/>
            <a:ext cx="87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Times New Roman"/>
              </a:rPr>
              <a:t>В Инд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322200" y="690480"/>
            <a:ext cx="88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5. Расскажи, как на тыкву ловят обезь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500040" y="71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тветь на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334800" y="1415880"/>
            <a:ext cx="877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Times New Roman"/>
              </a:rPr>
              <a:t>В тыкве делают дырочку и насыпают рис. Обезьяна набирает полную лапку риса. Но вытащить лапку из тыкву не мож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1798560" cy="134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357120" y="3857760"/>
            <a:ext cx="2000160" cy="1409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3429000" y="4933800"/>
            <a:ext cx="1800360" cy="1924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071880" y="285840"/>
            <a:ext cx="2066760" cy="1590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5"/>
          <a:stretch/>
        </p:blipFill>
        <p:spPr>
          <a:xfrm>
            <a:off x="3000240" y="2214720"/>
            <a:ext cx="2143440" cy="234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6"/>
          <a:stretch/>
        </p:blipFill>
        <p:spPr>
          <a:xfrm>
            <a:off x="6000840" y="3500280"/>
            <a:ext cx="2643120" cy="164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6143760" y="642960"/>
            <a:ext cx="2361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365120" y="946080"/>
            <a:ext cx="77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__ __ __ __ __ __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628560" y="285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Какой знак в конце предлож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428760" y="2279520"/>
            <a:ext cx="82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О тыкве можно рассказать много интерес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42960" y="-12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Сколько слов в предложении? Сосчит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4857840" y="1044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42960" y="558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Расставь надстрочные знаки. Какое главн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3571920" y="3429000"/>
            <a:ext cx="361152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2008080" y="946080"/>
            <a:ext cx="77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__ __ __ __ __ __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28560" y="285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Какой знак в конце предлож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50920" y="1979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Из тыквы готовят вкусные блюда, например, каш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42960" y="-12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Сколько слов в предложении? Сосчит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6072120" y="1044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642960" y="558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Расставь надстрочные знаки. Какое главн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3143160" y="3500280"/>
            <a:ext cx="256248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1714680" y="9460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__ __ __ __ __ 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628560" y="285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Какой знак в конце предлож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250920" y="1979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В Азии из тыквы делают посу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642960" y="-12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Сколько слов в предложении? Сосчит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5386320" y="1044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42960" y="558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Расставь надстрочные знаки. Какое главн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1643040" y="385776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2"/>
          <a:stretch/>
        </p:blipFill>
        <p:spPr>
          <a:xfrm>
            <a:off x="5143680" y="3500280"/>
            <a:ext cx="206676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1928880" y="946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__ __ __ __ __ __ __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628560" y="285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Какой знак в конце предлож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250920" y="18572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В дождливую погоду прячут одеж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в тык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642960" y="-12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Сколько слов в предложении? Сосчит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6157800" y="1044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642960" y="558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Расставь надстрочные знаки. Какое главн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395520" y="94608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__ __ __ __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628560" y="285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Какой знак в конце предлож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50920" y="1979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Из тыквы делают музыкальные инструме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42960" y="-12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Сколько слов в предложении? Сосчит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6516720" y="1044720"/>
            <a:ext cx="9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642960" y="558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Расставь надстрочные знаки. Какое главн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1714680" y="4143240"/>
            <a:ext cx="2428560" cy="18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5143680" y="3714840"/>
            <a:ext cx="243828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2227320" y="946080"/>
            <a:ext cx="41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__ __ __ __ __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628560" y="285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Какой знак в конце предлож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250920" y="1979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В Индии на тыкву ловят обезь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42960" y="-12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Сколько слов в предложении? Сосчит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5800680" y="1044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558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Расставь надстрочные знаки. Какое главн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3071880" y="3429000"/>
            <a:ext cx="2571840" cy="28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714240" y="946080"/>
            <a:ext cx="56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__ __ __ __ __ __ __ __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28560" y="2858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Какой знак в конце предлож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250920" y="1979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В тыкве делают дырочку и насыпают в неё ри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642960" y="-12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Сколько слов в предложении? Сосчит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5800680" y="1044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642960" y="558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Times New Roman"/>
              </a:rPr>
              <a:t>Расставь надстрочные знаки. Какое главн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428920" y="3571920"/>
            <a:ext cx="3851280" cy="24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STYA</cp:lastModifiedBy>
  <dcterms:modified xsi:type="dcterms:W3CDTF">2013-02-08T15:33:37Z</dcterms:modified>
  <cp:revision>61</cp:revision>
  <dc:subject/>
  <dc:title>Слайд 1</dc:title>
</cp:coreProperties>
</file>