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6DC1-E197-4BE6-BB0D-3523FCF83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8FD2-F9FA-43BC-9B24-288BB05F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D45B-7C3E-46D4-A2A8-C52369A5D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E417-C7F0-44B8-905A-5C8B296D6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55D6-7445-47E7-93B1-FA16573E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B981-9833-40F7-AFAA-478E7967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E808-19B2-4B50-8B2C-2E884EFF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B43B-3B8E-45E8-AF86-3D708726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DD9C-A21B-4A21-8146-E5B0B66E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0B2F-1572-451E-BC9B-E8487801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E9DE-098C-4BDA-93BB-CB0A00E0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FEC5-11BB-4031-8FA5-283ADCEC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21FE-25BC-43DD-A551-55C5F44F3B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928800" y="217800"/>
            <a:ext cx="700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Муниципаль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«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Средняя общеобразовательная школа №1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г.Ворку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5" descr=""/>
          <p:cNvPicPr/>
          <p:nvPr/>
        </p:nvPicPr>
        <p:blipFill>
          <a:blip r:embed="rId1"/>
          <a:stretch/>
        </p:blipFill>
        <p:spPr>
          <a:xfrm>
            <a:off x="328680" y="2109960"/>
            <a:ext cx="8272440" cy="19382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3"/>
          <p:cNvSpPr/>
          <p:nvPr/>
        </p:nvSpPr>
        <p:spPr>
          <a:xfrm>
            <a:off x="1428840" y="5075640"/>
            <a:ext cx="314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готов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ель мате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розова Раиса Аркад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357120" y="785880"/>
          <a:ext cx="7000920" cy="5608440"/>
        </p:xfrm>
        <a:graphic>
          <a:graphicData uri="http://schemas.openxmlformats.org/drawingml/2006/table">
            <a:tbl>
              <a:tblPr/>
              <a:tblGrid>
                <a:gridCol w="3500640"/>
                <a:gridCol w="3500280"/>
              </a:tblGrid>
              <a:tr h="5608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 вариан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)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)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)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)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)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)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)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)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)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052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II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 вариан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52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)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52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)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52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)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52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)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52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)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52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)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52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)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52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)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52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)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71" name="Object 18"/>
              <p:cNvSpPr txBox="1"/>
              <p:nvPr/>
            </p:nvSpPr>
            <p:spPr>
              <a:xfrm>
                <a:off x="1214280" y="1428840"/>
                <a:ext cx="13716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17"/>
              <p:cNvSpPr txBox="1"/>
              <p:nvPr/>
            </p:nvSpPr>
            <p:spPr>
              <a:xfrm>
                <a:off x="1285920" y="2000160"/>
                <a:ext cx="11462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16"/>
              <p:cNvSpPr txBox="1"/>
              <p:nvPr/>
            </p:nvSpPr>
            <p:spPr>
              <a:xfrm>
                <a:off x="1214280" y="2643120"/>
                <a:ext cx="11289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15"/>
              <p:cNvSpPr txBox="1"/>
              <p:nvPr/>
            </p:nvSpPr>
            <p:spPr>
              <a:xfrm>
                <a:off x="1357200" y="3000240"/>
                <a:ext cx="100008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14"/>
              <p:cNvSpPr txBox="1"/>
              <p:nvPr/>
            </p:nvSpPr>
            <p:spPr>
              <a:xfrm>
                <a:off x="1285920" y="3571920"/>
                <a:ext cx="10825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13"/>
              <p:cNvSpPr txBox="1"/>
              <p:nvPr/>
            </p:nvSpPr>
            <p:spPr>
              <a:xfrm>
                <a:off x="1285920" y="4143240"/>
                <a:ext cx="97632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12"/>
              <p:cNvSpPr txBox="1"/>
              <p:nvPr/>
            </p:nvSpPr>
            <p:spPr>
              <a:xfrm>
                <a:off x="1214280" y="4714920"/>
                <a:ext cx="13575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11"/>
              <p:cNvSpPr txBox="1"/>
              <p:nvPr/>
            </p:nvSpPr>
            <p:spPr>
              <a:xfrm>
                <a:off x="1214280" y="5429160"/>
                <a:ext cx="10144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10"/>
              <p:cNvSpPr txBox="1"/>
              <p:nvPr/>
            </p:nvSpPr>
            <p:spPr>
              <a:xfrm>
                <a:off x="1285920" y="5929200"/>
                <a:ext cx="10144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9"/>
              <p:cNvSpPr txBox="1"/>
              <p:nvPr/>
            </p:nvSpPr>
            <p:spPr>
              <a:xfrm>
                <a:off x="4500720" y="1428840"/>
                <a:ext cx="164592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8"/>
              <p:cNvSpPr txBox="1"/>
              <p:nvPr/>
            </p:nvSpPr>
            <p:spPr>
              <a:xfrm>
                <a:off x="4572000" y="2000160"/>
                <a:ext cx="16016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7"/>
              <p:cNvSpPr txBox="1"/>
              <p:nvPr/>
            </p:nvSpPr>
            <p:spPr>
              <a:xfrm>
                <a:off x="4500720" y="2571840"/>
                <a:ext cx="16430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6"/>
              <p:cNvSpPr txBox="1"/>
              <p:nvPr/>
            </p:nvSpPr>
            <p:spPr>
              <a:xfrm>
                <a:off x="4500720" y="3000240"/>
                <a:ext cx="104616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5"/>
              <p:cNvSpPr txBox="1"/>
              <p:nvPr/>
            </p:nvSpPr>
            <p:spPr>
              <a:xfrm>
                <a:off x="4572000" y="3571920"/>
                <a:ext cx="12366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4"/>
              <p:cNvSpPr txBox="1"/>
              <p:nvPr/>
            </p:nvSpPr>
            <p:spPr>
              <a:xfrm>
                <a:off x="4786200" y="4214880"/>
                <a:ext cx="92880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3"/>
              <p:cNvSpPr txBox="1"/>
              <p:nvPr/>
            </p:nvSpPr>
            <p:spPr>
              <a:xfrm>
                <a:off x="4643280" y="4714920"/>
                <a:ext cx="128592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2"/>
              <p:cNvSpPr txBox="1"/>
              <p:nvPr/>
            </p:nvSpPr>
            <p:spPr>
              <a:xfrm>
                <a:off x="4643280" y="5429160"/>
                <a:ext cx="10144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1"/>
              <p:cNvSpPr txBox="1"/>
              <p:nvPr/>
            </p:nvSpPr>
            <p:spPr>
              <a:xfrm>
                <a:off x="4643280" y="5929200"/>
                <a:ext cx="10144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Rectangle 19"/>
          <p:cNvSpPr/>
          <p:nvPr/>
        </p:nvSpPr>
        <p:spPr>
          <a:xfrm>
            <a:off x="2301840" y="1440"/>
            <a:ext cx="444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Самостоятельн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Users\Гость\Desktop\МОРОЗОВА\Линейное уравнение с одной переменной\Морозова Р.А. Линейное уравнение с одной переменной (2)\фон.jpg"/>
          <p:cNvPicPr/>
          <p:nvPr/>
        </p:nvPicPr>
        <p:blipFill>
          <a:blip r:embed="rId1"/>
          <a:stretch/>
        </p:blipFill>
        <p:spPr>
          <a:xfrm>
            <a:off x="-304920" y="-223920"/>
            <a:ext cx="9753840" cy="73058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"/>
          <p:cNvSpPr/>
          <p:nvPr/>
        </p:nvSpPr>
        <p:spPr>
          <a:xfrm>
            <a:off x="214200" y="1521720"/>
            <a:ext cx="7358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 читается распределительный закон умножения относительно сложения? Запишите этот закон с помощью букв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 раскрыть скобки, перед которыми стоит знак «+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 раскрыть скобки, перед которыми стоит знак «-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ие свойства уравнения вы зна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2"/>
          <p:cNvSpPr/>
          <p:nvPr/>
        </p:nvSpPr>
        <p:spPr>
          <a:xfrm>
            <a:off x="928800" y="0"/>
            <a:ext cx="807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шение этой задачи сводится к решению линейного урав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1"/>
              <p:cNvSpPr txBox="1"/>
              <p:nvPr/>
            </p:nvSpPr>
            <p:spPr>
              <a:xfrm>
                <a:off x="571680" y="1643040"/>
                <a:ext cx="355572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3"/>
              <p:cNvSpPr txBox="1"/>
              <p:nvPr/>
            </p:nvSpPr>
            <p:spPr>
              <a:xfrm>
                <a:off x="571680" y="2571840"/>
                <a:ext cx="244620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5"/>
              <p:cNvSpPr txBox="1"/>
              <p:nvPr/>
            </p:nvSpPr>
            <p:spPr>
              <a:xfrm>
                <a:off x="571680" y="3500280"/>
                <a:ext cx="2219040" cy="100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7"/>
              <p:cNvSpPr txBox="1"/>
              <p:nvPr/>
            </p:nvSpPr>
            <p:spPr>
              <a:xfrm>
                <a:off x="500040" y="4500720"/>
                <a:ext cx="236556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9"/>
              <p:cNvSpPr txBox="1"/>
              <p:nvPr/>
            </p:nvSpPr>
            <p:spPr>
              <a:xfrm>
                <a:off x="500040" y="5500800"/>
                <a:ext cx="15368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11"/>
              <p:cNvSpPr txBox="1"/>
              <p:nvPr/>
            </p:nvSpPr>
            <p:spPr>
              <a:xfrm>
                <a:off x="5072040" y="1571760"/>
                <a:ext cx="185580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: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5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13"/>
              <p:cNvSpPr txBox="1"/>
              <p:nvPr/>
            </p:nvSpPr>
            <p:spPr>
              <a:xfrm>
                <a:off x="5072040" y="2786040"/>
                <a:ext cx="114300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Rectangle 15"/>
          <p:cNvSpPr/>
          <p:nvPr/>
        </p:nvSpPr>
        <p:spPr>
          <a:xfrm>
            <a:off x="5000760" y="3502440"/>
            <a:ext cx="28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вет: 9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3071880" y="1725840"/>
            <a:ext cx="3000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x=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5x=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34x=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2x-4=2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"/>
          <p:cNvSpPr/>
          <p:nvPr/>
        </p:nvSpPr>
        <p:spPr>
          <a:xfrm>
            <a:off x="857160" y="4429080"/>
            <a:ext cx="5429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6 (а, в, д, ж, и)  №137 (а, в, д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учебни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2441880" y="430200"/>
            <a:ext cx="384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2396880" y="2576160"/>
            <a:ext cx="3827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.8, №136 (б, г, е, з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№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37 (б, г, е), №1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9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C:\Users\Гость\Desktop\img4.jpg"/>
          <p:cNvPicPr/>
          <p:nvPr/>
        </p:nvPicPr>
        <p:blipFill>
          <a:blip r:embed="rId1"/>
          <a:stretch/>
        </p:blipFill>
        <p:spPr>
          <a:xfrm>
            <a:off x="1357200" y="1785960"/>
            <a:ext cx="564372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Прямоугольник 3" descr=""/>
          <p:cNvPicPr/>
          <p:nvPr/>
        </p:nvPicPr>
        <p:blipFill>
          <a:blip r:embed="rId1"/>
          <a:stretch/>
        </p:blipFill>
        <p:spPr>
          <a:xfrm>
            <a:off x="1066680" y="2614680"/>
            <a:ext cx="663912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714240" y="1375200"/>
            <a:ext cx="7358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33cc"/>
                </a:solidFill>
                <a:uFillTx/>
                <a:latin typeface="Times New Roman"/>
                <a:ea typeface="Calibri"/>
              </a:rPr>
              <a:t>Образовательные цел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вторить понятия, связанные с уравнением, вопрос о количестве и качестве корней линейного уравнения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ься решить уравнения, сводящиеся к линейным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1071720" y="2224440"/>
            <a:ext cx="8072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Calibri"/>
                <a:ea typeface="Calibri"/>
              </a:rPr>
              <a:t>	</a:t>
            </a:r>
            <a:r>
              <a:rPr b="1" i="1" lang="ru-RU" sz="3600" spc="-1" strike="noStrike">
                <a:solidFill>
                  <a:srgbClr val="0033cc"/>
                </a:solidFill>
                <a:latin typeface="Calibri"/>
                <a:ea typeface="Calibri"/>
              </a:rPr>
              <a:t>«Смелы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3600" spc="-1" strike="noStrike">
                <a:solidFill>
                  <a:srgbClr val="0033cc"/>
                </a:solidFill>
                <a:latin typeface="Calibri"/>
                <a:ea typeface="Calibri"/>
              </a:rPr>
              <a:t>мысли играют роль передовых шашек в игре; они гибнут, но обеспечивают побед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И.В.Гет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500040" y="2078640"/>
            <a:ext cx="77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Calibri"/>
                <a:ea typeface="Calibri"/>
              </a:rPr>
              <a:t>	</a:t>
            </a:r>
            <a:r>
              <a:rPr b="1" i="1" lang="ru-RU" sz="3600" spc="-1" strike="noStrike">
                <a:solidFill>
                  <a:srgbClr val="0033cc"/>
                </a:solidFill>
                <a:latin typeface="Calibri"/>
                <a:ea typeface="Calibri"/>
              </a:rPr>
              <a:t>«Счет и вычисления – основа порядка в голове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И.Г.Песталоцц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" name="Object 4"/>
              <p:cNvSpPr txBox="1"/>
              <p:nvPr/>
            </p:nvSpPr>
            <p:spPr>
              <a:xfrm>
                <a:off x="5572080" y="1357200"/>
                <a:ext cx="103500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3"/>
              <p:cNvSpPr txBox="1"/>
              <p:nvPr/>
            </p:nvSpPr>
            <p:spPr>
              <a:xfrm>
                <a:off x="5429160" y="2571840"/>
                <a:ext cx="153684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Object 2"/>
              <p:cNvSpPr txBox="1"/>
              <p:nvPr/>
            </p:nvSpPr>
            <p:spPr>
              <a:xfrm>
                <a:off x="5500800" y="3714840"/>
                <a:ext cx="121428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1"/>
              <p:cNvSpPr txBox="1"/>
              <p:nvPr/>
            </p:nvSpPr>
            <p:spPr>
              <a:xfrm>
                <a:off x="5786280" y="4929120"/>
                <a:ext cx="121464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" name="Rectangle 5"/>
          <p:cNvSpPr/>
          <p:nvPr/>
        </p:nvSpPr>
        <p:spPr>
          <a:xfrm>
            <a:off x="642960" y="1220400"/>
            <a:ext cx="3357720" cy="64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6 : 0,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8 : 0,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-18 : 0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49 : (-0,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1,2 : 0,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-0,9 : (-0,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0" y="847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4357800" y="1785960"/>
            <a:ext cx="4786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0"/>
          <p:cNvSpPr/>
          <p:nvPr/>
        </p:nvSpPr>
        <p:spPr>
          <a:xfrm>
            <a:off x="4862520" y="1428840"/>
            <a:ext cx="8589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1"/>
          <p:cNvSpPr/>
          <p:nvPr/>
        </p:nvSpPr>
        <p:spPr>
          <a:xfrm>
            <a:off x="3061080" y="285840"/>
            <a:ext cx="308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тная рабо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2"/>
          <p:cNvSpPr/>
          <p:nvPr/>
        </p:nvSpPr>
        <p:spPr>
          <a:xfrm>
            <a:off x="3580920" y="142920"/>
            <a:ext cx="187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ы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2"/>
              <p:cNvSpPr txBox="1"/>
              <p:nvPr/>
            </p:nvSpPr>
            <p:spPr>
              <a:xfrm>
                <a:off x="5857920" y="1214280"/>
                <a:ext cx="571320" cy="16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1"/>
              <p:cNvSpPr txBox="1"/>
              <p:nvPr/>
            </p:nvSpPr>
            <p:spPr>
              <a:xfrm>
                <a:off x="5786280" y="2714760"/>
                <a:ext cx="85752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Rectangle 3"/>
          <p:cNvSpPr/>
          <p:nvPr/>
        </p:nvSpPr>
        <p:spPr>
          <a:xfrm>
            <a:off x="1285920" y="1521720"/>
            <a:ext cx="3357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60;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2) 20;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3) -20;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4) -70;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5) 2;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6) 4,5;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5072040" y="1450440"/>
            <a:ext cx="2500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7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8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9) 49;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10) 25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214200" y="2000160"/>
            <a:ext cx="265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1"/>
              <p:cNvSpPr txBox="1"/>
              <p:nvPr/>
            </p:nvSpPr>
            <p:spPr>
              <a:xfrm>
                <a:off x="1428840" y="2071800"/>
                <a:ext cx="15872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Rectangle 3"/>
          <p:cNvSpPr/>
          <p:nvPr/>
        </p:nvSpPr>
        <p:spPr>
          <a:xfrm>
            <a:off x="142920" y="1451880"/>
            <a:ext cx="8715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ьте какое-либо уравн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да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Calibri"/>
              </a:rPr>
              <a:t>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, корнем которого является число 3; 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берите какое-либо значение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а,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и котором корнем уравнения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ax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=15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является положительное число; отрицательное число. Можно ли подобрать тако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значение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а,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и котором корен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вен 0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Users\Гость\Desktop\МОРОЗОВА\Линейное уравнение с одной переменной\Морозова Р.А. Линейное уравнение с одной переменной (2)\фон.jpg"/>
          <p:cNvPicPr/>
          <p:nvPr/>
        </p:nvPicPr>
        <p:blipFill>
          <a:blip r:embed="rId1"/>
          <a:stretch/>
        </p:blipFill>
        <p:spPr>
          <a:xfrm>
            <a:off x="-428760" y="-785880"/>
            <a:ext cx="9753840" cy="73058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"/>
          <p:cNvSpPr/>
          <p:nvPr/>
        </p:nvSpPr>
        <p:spPr>
          <a:xfrm>
            <a:off x="0" y="73368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Линейные уравнения с одним неизвестным умели решать еще в Древнем Вавилоне и в Египте более чем 4 тысячи лет назад. Приведем, например, задачу из папируса Ринда (его называют также папирусом Ахмеса), хранящегося в Британском музее и относящегося в периоду 2000 – 1700 гг. до н.э.: «Найти число, если известно, что от прибавления к нем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1"/>
              <p:cNvSpPr txBox="1"/>
              <p:nvPr/>
            </p:nvSpPr>
            <p:spPr>
              <a:xfrm>
                <a:off x="4143240" y="4071960"/>
                <a:ext cx="35748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" name="Rectangle 3"/>
          <p:cNvSpPr/>
          <p:nvPr/>
        </p:nvSpPr>
        <p:spPr>
          <a:xfrm>
            <a:off x="0" y="3978000"/>
            <a:ext cx="7500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его и вычит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полученной суммы ее трети получится число 10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2714760" y="1873440"/>
            <a:ext cx="40719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4(x+7)=3-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2x+5=2(x+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3(x+2)+x=6+4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4T10:39:58Z</dcterms:created>
  <dc:creator>Гость</dc:creator>
  <dc:description/>
  <dc:language>en-US</dc:language>
  <cp:lastModifiedBy>Гость</cp:lastModifiedBy>
  <dcterms:modified xsi:type="dcterms:W3CDTF">2015-02-25T09:24:24Z</dcterms:modified>
  <cp:revision>12</cp:revision>
  <dc:subject/>
  <dc:title>Слайд 1</dc:title>
</cp:coreProperties>
</file>