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9.wmf" ContentType="image/x-wmf"/>
  <Override PartName="/ppt/media/image15.wmf" ContentType="image/x-wmf"/>
  <Override PartName="/ppt/media/image7.png" ContentType="image/png"/>
  <Override PartName="/ppt/media/image1.jpeg" ContentType="image/jpeg"/>
  <Override PartName="/ppt/media/image3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23.wmf" ContentType="image/x-wmf"/>
  <Override PartName="/ppt/media/image9.jpeg" ContentType="image/jpeg"/>
  <Override PartName="/ppt/media/image5.png" ContentType="image/png"/>
  <Override PartName="/ppt/media/image13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5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4.wmf" ContentType="image/x-wmf"/>
  <Override PartName="/ppt/media/image26.wmf" ContentType="image/x-wmf"/>
  <Override PartName="/ppt/media/image27.wmf" ContentType="image/x-wmf"/>
  <Override PartName="/ppt/media/image30.png" ContentType="image/png"/>
  <Override PartName="/ppt/media/image2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90F4-F651-4C90-A273-68BF4EF2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6399-E9A7-4D7C-AAC0-BDA06340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4139A-B304-4788-A07F-466E69B5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DAE11-5182-428A-B719-5C71F56E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2D67D-F06D-401A-B5EE-F149787D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B7E82-609D-4EFF-9749-D61564B1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1D899-22F9-449B-B32C-4985E669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22899-D7C1-4EAC-B506-E2FD5F2C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08CCB-BBAA-4A35-9123-F9FAFB30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3B4DF-B96A-41C8-9435-BE71A649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1C40B-B0F0-4196-A183-E018700B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8061-47BB-4E72-92F9-1E12CFA9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9BB-7CCA-41FD-A869-651E397F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A90D-C91D-4441-9749-9EC7F04A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1845-8336-4B28-B885-94DB56D9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3B4E-AB17-47E1-A220-E0D8C2F3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685F-D72C-411E-899F-D068A205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DFE4-A1CA-420F-BD83-3A97DECD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98E5-E010-4EF7-A9D4-28682DA9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2B65-3C0E-4681-9F0E-4B4B2E2B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3F2C-326E-4A5D-B5A5-E0FD9AAC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655B-0E7B-4D25-B6CE-49389236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3B8B-F106-401D-8368-5A68DE90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1F6B-0212-4DEB-909D-BE322456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7445-F631-4FD5-949C-026974DF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B17E-3EBB-4E18-A48D-A47F5D75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B0808-25BB-49C3-B23D-D74495D2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01C4C-CC19-45F3-BD66-66EB4604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FDB26-D82C-4588-95EC-8A9784E8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852699-5CE0-4853-A5C3-58365C66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45CBC-3682-4C36-BD2F-0C7DDD71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D21-200C-47EE-B9D5-329CC206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1A302-3E1E-4A61-A90B-CFB03087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C79B66-A6BA-4123-8902-1EBECC9C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3917A-EADD-481A-8DB2-78081BBE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6B382-2251-4401-8A46-9146F764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165FD-C35D-4734-9A81-40D87FF2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376F7-30AD-4DC0-A3BB-B2C898EC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43F0A-D7FE-41B4-9B06-23639EFD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B5C669-E647-4C8B-9CA5-5FCB7BCE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C21BB3-2AB5-4B95-8D8A-845FE8B3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BFE6D5-458F-4AD3-9D11-0CEBC60B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909-2638-485E-99E9-40882B90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7C0EE0-5CBD-4092-9C34-C6F21700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9D38D4-77DB-481C-A868-2D674452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6CDC23-97A9-431F-A87D-C2651D9E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90E13D-CE9F-40AA-8A1B-95B8B2E4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E49D6C-4103-4661-B781-03B32113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5C7470-0C72-4032-9135-2A84C8BC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A69C38-DF53-41B0-9A89-154D1A14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BB9561-3983-4990-9FFB-7CF961F9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04E63E-618A-47A5-B988-D2FA0AE5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6A0870-7678-4683-B221-56ECE181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DC04-733C-455E-B319-FCA24835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B5C2B8-16B6-42AE-B7A1-54E73D10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7F1A02-5A52-4048-BD57-963542F7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08BBA-7936-4224-936E-68298125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685224-1839-4485-BD51-F90ABB3A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67813-01CE-43EB-992D-A4507BF4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2C0723-6C5D-4BCE-A9FF-C88F3FCD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673FF-D39F-46A3-838E-D571F52D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06CBC-C047-44F6-AEAC-4BE7FE71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8B95F3-7EA4-4D6A-9253-7F15C5EE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932B28-A47D-47CA-84A8-976A92A8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05A6-E889-4EDE-BFAE-AE700B2C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2D20FE-80C4-40EE-93F8-F1A13156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A376A-8742-479E-BEF2-044BE9CF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EC602-DEB5-4A58-842E-C84EB0D2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CC60E-36E8-4741-A136-C939CA14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B548E-AF32-4AEE-931B-ED519CF8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59A92-7420-409A-8FBE-95B5A480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33DE4-CD39-4979-AB83-A1EA242E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5EE1C-94BB-4584-95E6-9D25E2F1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70B06-1C88-4894-BA24-5E937905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C674D-A338-4471-8B26-606D493D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7DA-953B-421F-A3C2-0DE86652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DC17C-1CD2-4C35-BC9B-9A9E962A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9146D-5F72-47F0-940E-84AB2B03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8586B-475A-4F6E-BE4B-A31BC030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300D78-F6EB-492F-A329-71EB3CAD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F877FB-AAA9-438F-A0AB-C3CEAD32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1519FE-FA80-4F70-A675-94F8735C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1202B9-DCA3-4D8B-999D-91975010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D819DF-A9C1-4C2F-B56A-D3D2AF75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21F235-C8B2-42B5-9F5A-BBD49438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DE932B-7AC2-4E77-9F2C-8DDA8977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C3E4-E091-41D5-BF12-4FC9BAB2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A02A0A-23E6-408F-B3BA-FBE39F31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27690F-1CB3-4D41-BAC6-B9574D24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92A320-688E-486E-A55C-9BD163FE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2E7DDA-BAC2-4FA7-B2F8-05549245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A51988-DBB0-4F98-9507-785B13C1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6BEAE-D9F0-4C4A-8C18-EC1A4348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F4C36-50C7-41CD-96AB-611157FD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BE953-6E29-4741-ACC9-10C02A26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CE979-C00B-4910-8CCA-DE592592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9B709-2C34-4D36-9A8D-EE74525B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973C-5848-43C8-97C2-F3898416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A4E29-712D-48EB-95F3-DB08A17E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3EF2B-7BF3-4E51-9369-79977428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DF944-225D-48AC-93BA-71792E9C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716B0-6CB4-4602-8A71-977AA90E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A89A0-F114-4A7D-BB79-5BE2BC60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05350-3D29-4D16-9DE9-390ECD85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478F8-229F-4AF6-9E1E-F18D4F1B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140D2-6FA8-4309-9255-72D8C2D9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215D8-33ED-43C4-9DEC-A7C7FE59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65978-ABD6-487E-B94C-E7630CA4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2E5A-809A-4B97-9390-CC40CF369C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8F54-962B-4353-B39B-CFB9804AB2ED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CE77-BC42-4192-A4B7-0B485018E84B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7FA8-DC74-4EBC-BDC4-709228A5E9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6930-4DDC-43CE-BDA6-BB8994A9D83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22D8-ADEA-4C94-8D3C-5F5B3FE768A1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69F1-4C40-48A4-B8CA-F647214947D3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04BB-38CD-46F2-B4F8-09CE924981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2A4A-1639-4B21-99D6-15A705445B2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ebddc3"/>
                </a:solidFill>
                <a:latin typeface="Calibri"/>
              </a:rPr>
              <a:t>ПЕДАГОГИЧЕСКИЙ СОВЕТ</a:t>
            </a:r>
            <a:br>
              <a:rPr sz="2900"/>
            </a:br>
            <a:r>
              <a:rPr b="1" lang="en-US" sz="2900" spc="-1" strike="noStrike">
                <a:solidFill>
                  <a:srgbClr val="ebddc3"/>
                </a:solidFill>
                <a:latin typeface="Calibri"/>
              </a:rPr>
              <a:t>ПО ВОСПИТАТЕЛЬНОЙ РАБОТЕ</a:t>
            </a:r>
            <a:br>
              <a:rPr sz="2900"/>
            </a:br>
            <a:br>
              <a:rPr sz="2500"/>
            </a:br>
            <a:r>
              <a:rPr b="1" lang="en-US" sz="2500" spc="-1" strike="noStrike">
                <a:solidFill>
                  <a:srgbClr val="e6dedb"/>
                </a:solidFill>
                <a:latin typeface="Calibri"/>
              </a:rPr>
              <a:t>«МОНИТОРИНГ ВОСПИТАТЕЛЬНОЙ СИСТЕМЫ, </a:t>
            </a:r>
            <a:br>
              <a:rPr sz="2500"/>
            </a:br>
            <a:r>
              <a:rPr b="1" lang="en-US" sz="2500" spc="-1" strike="noStrike">
                <a:solidFill>
                  <a:srgbClr val="e6dedb"/>
                </a:solidFill>
                <a:latin typeface="Calibri"/>
              </a:rPr>
              <a:t>КАК ФАКТОР ПОВЫШЕНИЯ КАЧЕСТВА ОБРАЗОВАТЕЛЬНОЙ ДЕЯТЕЛЬНОСТИ ШКОЛЫ»</a:t>
            </a:r>
            <a:br>
              <a:rPr sz="4000"/>
            </a:br>
            <a:endParaRPr b="0" lang="en-US" sz="25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59092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"/>
          <p:cNvSpPr/>
          <p:nvPr/>
        </p:nvSpPr>
        <p:spPr>
          <a:xfrm>
            <a:off x="533520" y="380880"/>
            <a:ext cx="8001000" cy="9144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Мониторинг в образовании</a:t>
            </a:r>
            <a:r>
              <a:rPr b="1" lang="en-US" sz="1600" spc="-1" strike="noStrike">
                <a:solidFill>
                  <a:srgbClr val="f7b615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— это постоянное наблюдение за каким-либ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цессом с целью выявления его соответствия желаемо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зультату или первоначальным предположения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5"/>
          <p:cNvSpPr/>
          <p:nvPr/>
        </p:nvSpPr>
        <p:spPr>
          <a:xfrm>
            <a:off x="7696080" y="1219320"/>
            <a:ext cx="885960" cy="1295280"/>
          </a:xfrm>
          <a:custGeom>
            <a:avLst/>
            <a:gdLst>
              <a:gd name="textAreaLeft" fmla="*/ 118440 w 885960"/>
              <a:gd name="textAreaRight" fmla="*/ 767520 w 88596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1219320" y="1447920"/>
            <a:ext cx="6476760" cy="1447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явление и решение профессиональных проблем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де мы, как воспитатели, методис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администрация не доработали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то нужно предпринять для решения пробле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кую помощь необходимо оказа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7"/>
          <p:cNvSpPr/>
          <p:nvPr/>
        </p:nvSpPr>
        <p:spPr>
          <a:xfrm>
            <a:off x="609480" y="2133720"/>
            <a:ext cx="609840" cy="2361960"/>
          </a:xfrm>
          <a:custGeom>
            <a:avLst/>
            <a:gdLst>
              <a:gd name="textAreaLeft" fmla="*/ 81720 w 609840"/>
              <a:gd name="textAreaRight" fmla="*/ 528120 w 609840"/>
              <a:gd name="textAreaTop" fmla="*/ 413280 h 2361960"/>
              <a:gd name="textAreaBottom" fmla="*/ 171252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1219320" y="3200400"/>
            <a:ext cx="7391160" cy="1676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слеживание динамики изменений (каким был, каким стал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н позволяет преврат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ниторинг процесса обучения и воспитания из инструмен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нешнего контроля в инструмент управ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чебно-воспитательным процесс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3"/>
          <p:cNvSpPr/>
          <p:nvPr/>
        </p:nvSpPr>
        <p:spPr>
          <a:xfrm>
            <a:off x="228600" y="5257800"/>
            <a:ext cx="2514600" cy="12193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остигается ли ц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чебно-воспитатель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4"/>
          <p:cNvSpPr/>
          <p:nvPr/>
        </p:nvSpPr>
        <p:spPr>
          <a:xfrm>
            <a:off x="2895480" y="5257800"/>
            <a:ext cx="3124440" cy="1219320"/>
          </a:xfrm>
          <a:custGeom>
            <a:avLst/>
            <a:gdLst>
              <a:gd name="textAreaLeft" fmla="*/ 0 w 3124440"/>
              <a:gd name="textAreaRight" fmla="*/ 3124800 w 312444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уществует 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ложительная дина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 развитии личности учащих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 сравнению с результ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дыдущих 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5"/>
          <p:cNvSpPr/>
          <p:nvPr/>
        </p:nvSpPr>
        <p:spPr>
          <a:xfrm>
            <a:off x="6172200" y="5257800"/>
            <a:ext cx="2743200" cy="121932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уществуют 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дпосы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вершенствования рабо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8047"/>
                </a:solidFill>
                <a:latin typeface="Calibri"/>
              </a:rPr>
              <a:t>Мониторинг образовательной деятельности в школе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457200" y="1219320"/>
          <a:ext cx="8229600" cy="4916520"/>
        </p:xfrm>
        <a:graphic>
          <a:graphicData uri="http://schemas.openxmlformats.org/drawingml/2006/table">
            <a:tbl>
              <a:tblPr/>
              <a:tblGrid>
                <a:gridCol w="2209680"/>
                <a:gridCol w="601992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СПЕКТЫ ИЗ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Создание условий для развития личности ученик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вень подготовки дошкольника к обучению в шк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Социальный портрет семей и уровень воспитательной активности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Уровень адаптации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дровое обеспечение учебно-воспитательного проце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Состояние отдельных направлений учебно-воспитательной работы в шк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Наличие необходимых программ и анализ их 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териально-техническое обеспечение учебно-воспитательного проце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Эффективность уроков, воспитательных мероприят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Удовлетворенность обучающихся школьной жизн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Удовлетворенность родителей результатами воспитания и обучения своего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Уровень психологической атмосферы в класс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Уровень воспитанности учащихся (личностный рос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ещаемость учащихся (пропуски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8047"/>
                </a:solidFill>
                <a:latin typeface="Calibri"/>
              </a:rPr>
              <a:t>Мониторинг образовательной деятельности в школе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457200" y="1219320"/>
          <a:ext cx="8229600" cy="546732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СПЕКТЫ ИЗ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Сформированность познавательного и творческого потенциалов личност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Количество учащихся, занятых в системе дополнительного образования и занятость во внеурочное вре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Уровень познавательной мотивации шк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ученность и качество знаний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ичество учащихся, оставленных на повторный год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ичество учащихся, награжденных медал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зультаты выпускных экзаменов, в т.ч. в форме ЕГЭ, ГИ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Профориентационные склонности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Результативность участия школьников в конкурсах, конференциях, фестивалях научно-исследовательских и реферативных работ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зультативность участия школьников в предметных олимпиад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Познавательные способности шк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Психофизиологические особенности (темперамент, ведущая модальность, каналы восприятия 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Результативность участия школьников в творческих конкурсах, смотрах и фестивалях, социальном проектировании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8047"/>
                </a:solidFill>
                <a:latin typeface="Calibri"/>
              </a:rPr>
              <a:t>Мониторинг образовательной деятельности в школе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457200" y="1219320"/>
          <a:ext cx="8229600" cy="5559480"/>
        </p:xfrm>
        <a:graphic>
          <a:graphicData uri="http://schemas.openxmlformats.org/drawingml/2006/table">
            <a:tbl>
              <a:tblPr/>
              <a:tblGrid>
                <a:gridCol w="2971800"/>
                <a:gridCol w="5257800"/>
              </a:tblGrid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СПЕКТЫ ИЗ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Сформированность нравственного и эстетического потенциалов личност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Степень влияния общешкольных, классных дел и классных часов на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Уровень воспитанности учащихся (личностный рос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Социальная активность учащихся (ведение экранов успеш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Склонность к отклоняющемуся поведению (выявление и учёт группы риска «ВКК»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Количество учащихся, состоящих на ВШУ и учете в КДНиЗ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шний вид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дение дневник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Сформированность физического потенциала личност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Количество учащихся, занимающихся в спортивных секци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Результативность участие школьников в спортивных состязаниях и соревнованиях (спартакиа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Состояние здоровья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ват учащихся горячи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ичество пропусков уроков по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Динамика случаев травматизма в образовательном учрежден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Сформированность коммуникативного потенциала личност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Уровень развития классного коллект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Степень конфликтности и степень сплоченности кла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Социомет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206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Участие в конкурсе «Лучший класс год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d8047"/>
                </a:solidFill>
                <a:latin typeface="Calibri"/>
              </a:rPr>
              <a:t>Система дополнительного образования </a:t>
            </a:r>
            <a:br>
              <a:rPr sz="2900"/>
            </a:br>
            <a:r>
              <a:rPr b="1" lang="en-US" sz="2900" spc="-1" strike="noStrike">
                <a:solidFill>
                  <a:srgbClr val="dd8047"/>
                </a:solidFill>
                <a:latin typeface="Calibri"/>
              </a:rPr>
              <a:t>и внеурочной занятости</a:t>
            </a:r>
            <a:endParaRPr b="0" lang="en-US" sz="29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515200" cy="299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7" name="Object 5"/>
          <p:cNvGraphicFramePr/>
          <p:nvPr/>
        </p:nvGraphicFramePr>
        <p:xfrm>
          <a:off x="2971800" y="3200400"/>
          <a:ext cx="5791320" cy="3429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6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3200400"/>
                    <a:ext cx="57913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Calibri"/>
              </a:rPr>
              <a:t>Семейная диагностика</a:t>
            </a:r>
            <a:br>
              <a:rPr sz="3200"/>
            </a:br>
            <a:r>
              <a:rPr b="1" lang="en-US" sz="2400" spc="-1" strike="noStrike">
                <a:solidFill>
                  <a:srgbClr val="dd8047"/>
                </a:solidFill>
                <a:latin typeface="Calibri"/>
              </a:rPr>
              <a:t>Удовлетворенность родителей школой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d8047"/>
                </a:solidFill>
                <a:latin typeface="Calibri"/>
              </a:rPr>
              <a:t>Психологическая атмосфера в школе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0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8047"/>
                </a:solidFill>
                <a:latin typeface="Calibri"/>
              </a:rPr>
              <a:t>Психологическая атмосфера в класс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5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818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d8047"/>
                </a:solidFill>
                <a:latin typeface="Calibri"/>
              </a:rPr>
              <a:t>Социальный портрет семей</a:t>
            </a:r>
            <a:endParaRPr b="0" lang="en-US" sz="29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75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4114800" cy="2514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" descr=""/>
          <p:cNvPicPr/>
          <p:nvPr/>
        </p:nvPicPr>
        <p:blipFill>
          <a:blip r:embed="rId2"/>
          <a:stretch/>
        </p:blipFill>
        <p:spPr>
          <a:xfrm>
            <a:off x="4648320" y="1066680"/>
            <a:ext cx="4267080" cy="2438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4114800" cy="23623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"/>
          <p:cNvPicPr/>
          <p:nvPr/>
        </p:nvPicPr>
        <p:blipFill>
          <a:blip r:embed="rId4"/>
          <a:stretch/>
        </p:blipFill>
        <p:spPr>
          <a:xfrm>
            <a:off x="4648320" y="3886200"/>
            <a:ext cx="426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8047"/>
                </a:solidFill>
                <a:latin typeface="Calibri"/>
              </a:rPr>
              <a:t>Социальный портрет семей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80" name="Picture 4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896080" cy="24382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" descr=""/>
          <p:cNvPicPr/>
          <p:nvPr/>
        </p:nvPicPr>
        <p:blipFill>
          <a:blip r:embed="rId2"/>
          <a:stretch/>
        </p:blipFill>
        <p:spPr>
          <a:xfrm>
            <a:off x="1600200" y="4191120"/>
            <a:ext cx="589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Горизонтальный свиток 11"/>
          <p:cNvSpPr/>
          <p:nvPr/>
        </p:nvSpPr>
        <p:spPr>
          <a:xfrm>
            <a:off x="228600" y="152280"/>
            <a:ext cx="8458200" cy="12193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1697c"/>
              </a:gs>
              <a:gs pos="100000">
                <a:srgbClr val="8fb6d7"/>
              </a:gs>
            </a:gsLst>
            <a:lin ang="5400000"/>
          </a:gra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Мониторинг является объективной потребностью развития любой системы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Содержимое 10" descr=""/>
          <p:cNvPicPr/>
          <p:nvPr/>
        </p:nvPicPr>
        <p:blipFill>
          <a:blip r:embed="rId1"/>
          <a:stretch/>
        </p:blipFill>
        <p:spPr>
          <a:xfrm>
            <a:off x="4595760" y="987480"/>
            <a:ext cx="4376880" cy="6029280"/>
          </a:xfrm>
          <a:prstGeom prst="rect">
            <a:avLst/>
          </a:prstGeom>
          <a:ln w="0">
            <a:noFill/>
          </a:ln>
        </p:spPr>
      </p:pic>
      <p:sp>
        <p:nvSpPr>
          <p:cNvPr id="398" name="Выноска со стрелкой вниз 5"/>
          <p:cNvSpPr/>
          <p:nvPr/>
        </p:nvSpPr>
        <p:spPr>
          <a:xfrm>
            <a:off x="228600" y="1676520"/>
            <a:ext cx="3886200" cy="1143000"/>
          </a:xfrm>
          <a:prstGeom prst="downArrowCallout">
            <a:avLst>
              <a:gd name="adj1" fmla="val 24999"/>
              <a:gd name="adj2" fmla="val 24996"/>
              <a:gd name="adj3" fmla="val 25000"/>
              <a:gd name="adj4" fmla="val 64977"/>
            </a:avLst>
          </a:prstGeom>
          <a:gradFill rotWithShape="0">
            <a:gsLst>
              <a:gs pos="0">
                <a:srgbClr val="51697c"/>
              </a:gs>
              <a:gs pos="100000">
                <a:srgbClr val="8fb6d7"/>
              </a:gs>
            </a:gsLst>
            <a:lin ang="5400000"/>
          </a:gra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6"/>
          <p:cNvSpPr/>
          <p:nvPr/>
        </p:nvSpPr>
        <p:spPr>
          <a:xfrm>
            <a:off x="228600" y="2895480"/>
            <a:ext cx="3886200" cy="335304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304920" y="2864520"/>
            <a:ext cx="3809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ение основных тенденций развития воспитательной системы школы, совершенствование технологии мониторинга качества ВС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дрение модели мониторинга качества воспитательной системы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01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8047"/>
                </a:solidFill>
                <a:latin typeface="Calibri"/>
              </a:rPr>
              <a:t>Участие в юнармейской спартакиаде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380880" y="1828800"/>
          <a:ext cx="8458200" cy="3809880"/>
        </p:xfrm>
        <a:graphic>
          <a:graphicData uri="http://schemas.openxmlformats.org/drawingml/2006/table">
            <a:tbl>
              <a:tblPr/>
              <a:tblGrid>
                <a:gridCol w="3505320"/>
                <a:gridCol w="1295280"/>
                <a:gridCol w="1219320"/>
                <a:gridCol w="1219320"/>
                <a:gridCol w="1218960"/>
              </a:tblGrid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-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-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-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-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аницы ист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кий стрел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отр песни и стро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енизированное троебор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опасное колес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89114d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9114d"/>
                          </a:solidFill>
                          <a:latin typeface="Arial"/>
                          <a:ea typeface="Arial"/>
                        </a:rPr>
                        <a:t>Итоговое мест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89114d"/>
                          </a:solidFill>
                          <a:latin typeface="Arial"/>
                          <a:ea typeface="Arial"/>
                        </a:rPr>
                        <a:t>1-2</a:t>
                      </a:r>
                      <a:r>
                        <a:rPr b="1" lang="en-US" sz="1800" spc="-1" strike="noStrike">
                          <a:solidFill>
                            <a:srgbClr val="89114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89114d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89114d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89114d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8047"/>
                </a:solidFill>
                <a:latin typeface="Calibri"/>
              </a:rPr>
              <a:t>Участие в спартакиаде школьников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457200" y="1676520"/>
          <a:ext cx="8229600" cy="4497120"/>
        </p:xfrm>
        <a:graphic>
          <a:graphicData uri="http://schemas.openxmlformats.org/drawingml/2006/table">
            <a:tbl>
              <a:tblPr/>
              <a:tblGrid>
                <a:gridCol w="3276720"/>
                <a:gridCol w="1295280"/>
                <a:gridCol w="1219320"/>
                <a:gridCol w="1218960"/>
                <a:gridCol w="12193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-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-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-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-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утб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нн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о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скетб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лейб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ы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гкая атле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иповка ю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ни-футбо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89114d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9114d"/>
                          </a:solidFill>
                          <a:latin typeface="Arial"/>
                          <a:ea typeface="Arial"/>
                        </a:rPr>
                        <a:t>Итоговое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9114d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9114d"/>
                          </a:solidFill>
                          <a:latin typeface="Arial"/>
                          <a:ea typeface="Arial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9114d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d8047"/>
                </a:solidFill>
                <a:latin typeface="Calibri"/>
              </a:rPr>
              <a:t>Активность учащихся </a:t>
            </a:r>
            <a:br>
              <a:rPr sz="2900"/>
            </a:br>
            <a:r>
              <a:rPr b="1" lang="en-US" sz="2900" spc="-1" strike="noStrike">
                <a:solidFill>
                  <a:srgbClr val="dd8047"/>
                </a:solidFill>
                <a:latin typeface="Calibri"/>
              </a:rPr>
              <a:t>во внеурочной деятельности</a:t>
            </a:r>
            <a:endParaRPr b="0" lang="en-US" sz="2900" spc="-1" strike="noStrike">
              <a:solidFill>
                <a:srgbClr val="775f55"/>
              </a:solidFill>
              <a:latin typeface="Calibri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457200" y="1752480"/>
          <a:ext cx="8229600" cy="4525920"/>
        </p:xfrm>
        <a:graphic>
          <a:graphicData uri="http://schemas.openxmlformats.org/drawingml/2006/table">
            <a:tbl>
              <a:tblPr/>
              <a:tblGrid>
                <a:gridCol w="3276720"/>
                <a:gridCol w="1295280"/>
                <a:gridCol w="1219320"/>
                <a:gridCol w="1218960"/>
                <a:gridCol w="121932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-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-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-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-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ват школьниками кружками эстетического направления всеми учреждениями досуг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ичество активно принимающих участие в общешкольных и сельских праздниках, конкурсах, фестиваля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астие в выставках эстетического на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ичество школьников, посетивших худ.выставки, театры,кинотеатры,музе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43%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 (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7 призовы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 3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24 призовы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9%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 (19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3 призовы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3%)</a:t>
                      </a: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 (2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2 призовы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8047"/>
                </a:solidFill>
                <a:latin typeface="Calibri"/>
              </a:rPr>
              <a:t>Участие в социальном проектировании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228600" y="1676520"/>
          <a:ext cx="8686800" cy="4817880"/>
        </p:xfrm>
        <a:graphic>
          <a:graphicData uri="http://schemas.openxmlformats.org/drawingml/2006/table">
            <a:tbl>
              <a:tblPr/>
              <a:tblGrid>
                <a:gridCol w="1738440"/>
                <a:gridCol w="1736640"/>
                <a:gridCol w="1736640"/>
                <a:gridCol w="1736640"/>
                <a:gridCol w="173844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Количество реализованных соц.проектов в школе</a:t>
                      </a:r>
                      <a:r>
                        <a:rPr b="0" i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Участие в краевых, районных конкурсах</a:t>
                      </a:r>
                      <a:r>
                        <a:rPr b="0" i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Результативность участ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(призовые мес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Не участвовали в социальном</a:t>
                      </a:r>
                      <a:r>
                        <a:rPr b="1" i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i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роектировании</a:t>
                      </a:r>
                      <a:r>
                        <a:rPr b="0" i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-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9114d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-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9114d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-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9114d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-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9114d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-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d8047"/>
                </a:solidFill>
                <a:latin typeface="Calibri"/>
              </a:rPr>
              <a:t>Историко-краеведческое направление</a:t>
            </a:r>
            <a:endParaRPr b="0" lang="en-US" sz="2900" spc="-1" strike="noStrike">
              <a:solidFill>
                <a:srgbClr val="775f55"/>
              </a:solidFill>
              <a:latin typeface="Calibri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33520" y="1828800"/>
          <a:ext cx="8153280" cy="4446720"/>
        </p:xfrm>
        <a:graphic>
          <a:graphicData uri="http://schemas.openxmlformats.org/drawingml/2006/table">
            <a:tbl>
              <a:tblPr/>
              <a:tblGrid>
                <a:gridCol w="5333760"/>
                <a:gridCol w="1447920"/>
                <a:gridCol w="1371600"/>
              </a:tblGrid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раметры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-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ичество участников районной историко - краеведческой конференции, в том числе призер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(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(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ичество участников районного туристско - краеведческого слета, в том числе призер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(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(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ичество школьников, посетивших районный краеведческий муз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ичество школьников, посетивших краевые музе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55d7e"/>
                </a:solidFill>
                <a:latin typeface="Calibri"/>
              </a:rPr>
              <a:t>Количество приглашенных работников социальной сферы, РОВД на встречи с детьми и их родителями по предупреждению правонарушений</a:t>
            </a:r>
            <a:r>
              <a:rPr b="1" lang="en-US" sz="1300" spc="-1" strike="noStrike">
                <a:solidFill>
                  <a:srgbClr val="dd8047"/>
                </a:solidFill>
                <a:latin typeface="Calibri"/>
              </a:rPr>
              <a:t>:</a:t>
            </a:r>
            <a:endParaRPr b="0" lang="en-US" sz="1300" spc="-1" strike="noStrike">
              <a:solidFill>
                <a:srgbClr val="775f55"/>
              </a:solidFill>
              <a:latin typeface="Calibri"/>
            </a:endParaRPr>
          </a:p>
        </p:txBody>
      </p:sp>
      <p:graphicFrame>
        <p:nvGraphicFramePr>
          <p:cNvPr id="494" name="Object 3"/>
          <p:cNvGraphicFramePr/>
          <p:nvPr/>
        </p:nvGraphicFramePr>
        <p:xfrm>
          <a:off x="1793880" y="152280"/>
          <a:ext cx="5708520" cy="27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3880" y="152280"/>
                    <a:ext cx="57085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 txBox="1"/>
          <p:nvPr/>
        </p:nvSpPr>
        <p:spPr>
          <a:xfrm>
            <a:off x="457200" y="3352680"/>
            <a:ext cx="40384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009-2010 уч.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ьник ТПМ Латышев Н.А. в 10 классах+ общешкольное род.собр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пектор ПДН г.Новоалтайска Ярошевич Е.В. в 2 классах+ дети ВШ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ник РОВД Лаптев С.Н. в 2 кла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полковник МЧС Шадрин В.А. в 2 кла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.педагог Чечикова Л.А. в 5 кла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ст КДН Гунькина Г.Е.-общешкольное род.собр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пектор ПДН РОВД Кротова О.В.- инд.беседы в детьми ВШУ+ общешкольное род.собр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ский психоневролог Горбунов А.В.- общешкольное род.собр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пектор ГИБДД Литвиненко В.И. в 3 кла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пектор ГИБДД Зауральский В.А. в 2 кла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105520" y="3352680"/>
            <a:ext cx="40384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010-2011 уч.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пектор ГИБДД Астанин А.В., Бусова Н.В. (профилактика ДТП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ьник ТПМ с. Озёрки Латышев Н.А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стковый Кинчин А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салин В.А., (закон №99 по Алт.кр., профилактика ДТП, наркотики, закон, ответственность, права и обязанности несовершеннолетних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пектор ПДН Кротова О.В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иссия КДНиЗП Гунькина Г.Е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пектор по опеке Калашникова С.В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лог Пономарёва А.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d8047"/>
                </a:solidFill>
                <a:latin typeface="Calibri"/>
              </a:rPr>
              <a:t>Личностный рост выпускников школы</a:t>
            </a:r>
            <a:endParaRPr b="0" lang="en-US" sz="29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895720" cy="27432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"/>
          <p:cNvPicPr/>
          <p:nvPr/>
        </p:nvPicPr>
        <p:blipFill>
          <a:blip r:embed="rId2"/>
          <a:stretch/>
        </p:blipFill>
        <p:spPr>
          <a:xfrm>
            <a:off x="1676520" y="4038480"/>
            <a:ext cx="5895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8047"/>
                </a:solidFill>
                <a:latin typeface="Calibri"/>
              </a:rPr>
              <a:t>Личностный рост выпускников школы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896080" cy="27432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"/>
          <p:cNvPicPr/>
          <p:nvPr/>
        </p:nvPicPr>
        <p:blipFill>
          <a:blip r:embed="rId2"/>
          <a:stretch/>
        </p:blipFill>
        <p:spPr>
          <a:xfrm>
            <a:off x="1600200" y="4114800"/>
            <a:ext cx="5896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8047"/>
                </a:solidFill>
                <a:latin typeface="Calibri"/>
              </a:rPr>
              <a:t>Личностный рост выпускников школы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896080" cy="27432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5" descr=""/>
          <p:cNvPicPr/>
          <p:nvPr/>
        </p:nvPicPr>
        <p:blipFill>
          <a:blip r:embed="rId2"/>
          <a:stretch/>
        </p:blipFill>
        <p:spPr>
          <a:xfrm>
            <a:off x="1523880" y="4114800"/>
            <a:ext cx="5896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Схема 2" descr=""/>
          <p:cNvPicPr/>
          <p:nvPr/>
        </p:nvPicPr>
        <p:blipFill>
          <a:blip r:embed="rId1"/>
          <a:stretch/>
        </p:blipFill>
        <p:spPr>
          <a:xfrm>
            <a:off x="444600" y="2408400"/>
            <a:ext cx="8181720" cy="41940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3"/>
          <p:cNvSpPr/>
          <p:nvPr/>
        </p:nvSpPr>
        <p:spPr>
          <a:xfrm>
            <a:off x="380880" y="457200"/>
            <a:ext cx="8458200" cy="1523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2700000"/>
          </a:gra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ачество образования  - уровень достижения поставленных целей, соответствие стандартам и степень удовлетворения ожиданий потреб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d8047"/>
                </a:solidFill>
                <a:latin typeface="Calibri"/>
              </a:rPr>
              <a:t>Личностный рост выпускников школы</a:t>
            </a:r>
            <a:endParaRPr b="0" lang="en-US" sz="29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8957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8047"/>
                </a:solidFill>
                <a:latin typeface="Calibri"/>
              </a:rPr>
              <a:t>Матрица отслеживания </a:t>
            </a:r>
            <a:br>
              <a:rPr sz="2200"/>
            </a:br>
            <a:r>
              <a:rPr b="1" lang="en-US" sz="2200" spc="-1" strike="noStrike">
                <a:solidFill>
                  <a:srgbClr val="dd8047"/>
                </a:solidFill>
                <a:latin typeface="Calibri"/>
              </a:rPr>
              <a:t>качества воспитательной системы</a:t>
            </a:r>
            <a:endParaRPr b="0" lang="en-US" sz="2200" spc="-1" strike="noStrike">
              <a:solidFill>
                <a:srgbClr val="775f55"/>
              </a:solidFill>
              <a:latin typeface="Calibri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457200" y="1676520"/>
          <a:ext cx="8458200" cy="4935240"/>
        </p:xfrm>
        <a:graphic>
          <a:graphicData uri="http://schemas.openxmlformats.org/drawingml/2006/table">
            <a:tbl>
              <a:tblPr/>
              <a:tblGrid>
                <a:gridCol w="384120"/>
                <a:gridCol w="1216080"/>
                <a:gridCol w="1523880"/>
                <a:gridCol w="3657600"/>
                <a:gridCol w="167652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Месяц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Ключевая тема 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Учен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Семь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етвер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нтябр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030a0"/>
                          </a:solidFill>
                          <a:latin typeface="Arial"/>
                          <a:ea typeface="Arial"/>
                        </a:rPr>
                        <a:t>«Я и школа»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еурочная занятость и доп. образ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.портрет семьи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ктябр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довлетворённость школьной жизнью. Мотивация обучения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свещение родителей, инд.работа с семьё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четвер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ябр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030a0"/>
                          </a:solidFill>
                          <a:latin typeface="Arial"/>
                          <a:ea typeface="Arial"/>
                        </a:rPr>
                        <a:t>«Я и мой класс»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ассный руководитель  глазами воспитанника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кабр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иометрия. Уровень взаимоотношений в коллективе, между учащимися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вень взаимоотношений в семье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свещение родителей, инд.работа с семьё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четвер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нвар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030a0"/>
                          </a:solidFill>
                          <a:latin typeface="Arial"/>
                          <a:ea typeface="Arial"/>
                        </a:rPr>
                        <a:t>«Во мне взрослеет гражданин»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еурочная занятость и доп. образование (повторная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витие основных психических процессов, коммуникативных навыков и д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вра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вень ученического самоуправления. Самоаттестация ученического коллектив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довлетворённость школьной жизнью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р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вень отношения к ЗОЖ (в т.ч к наркотикам, алкоголю, табаку)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свещение родителей, инд.работа с семьё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четвер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р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030a0"/>
                          </a:solidFill>
                          <a:latin typeface="Arial"/>
                          <a:ea typeface="Arial"/>
                        </a:rPr>
                        <a:t>«Я + Большой мир»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следование жизненных ценностей (4,6,8,10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ориентационные исследования (9,10,11)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вень воспитанности  (1-4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чностный рост (5,7,9,11)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свещение родителей, инд.работа с семьё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d8047"/>
                </a:solidFill>
                <a:latin typeface="Calibri"/>
              </a:rPr>
              <a:t>РЕШЕНИЕ</a:t>
            </a:r>
            <a:br>
              <a:rPr sz="2500"/>
            </a:br>
            <a:r>
              <a:rPr b="1" lang="en-US" sz="2500" spc="-1" strike="noStrike">
                <a:solidFill>
                  <a:srgbClr val="dd8047"/>
                </a:solidFill>
                <a:latin typeface="Calibri"/>
              </a:rPr>
              <a:t>педагогического совета</a:t>
            </a:r>
            <a:endParaRPr b="0" lang="en-US" sz="25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533520" y="16765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Calibri"/>
              </a:rPr>
              <a:t>1) Утвердить ПОЛОЖЕНИЕ о мониторинге образовательной деятельност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Calibri"/>
              </a:rPr>
              <a:t>2) Внедрить  МОДЕЛЬ мониторинга качества воспитательной системы школы, приняв за основу разработанную матрицу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Calibri"/>
              </a:rPr>
              <a:t>3) Утвердить циклограмму проведения классных часов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Calibri"/>
              </a:rPr>
              <a:t>1-я неделя каждого месяца – классные рабочие собрания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Calibri"/>
              </a:rPr>
              <a:t>2-я неделя – «Уроки духовно-нравственного здоровья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Calibri"/>
              </a:rPr>
              <a:t>3-я  неделя – тематический классный час по ключевой теме месяца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Calibri"/>
              </a:rPr>
              <a:t>4-я неделя -  диагностика воспитательного процесса (тесты, анкеты, тренинги по ключевой теме четверти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Calibri"/>
              </a:rPr>
              <a:t>4) Классным руководителям начальных классов с 1 класса для всех учащихся ввести портфолио, согласно требованиям ФГОС и образовательной программы начального общего образовани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Calibri"/>
              </a:rPr>
              <a:t>5) Классным руководителям продолжить работу по развитию и становлению воспитательной системы класса,  целевые ориентиры которой направлены на воспитание социально-адаптированной личности выпускника с отслеживанием их личностного рост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Calibri"/>
              </a:rPr>
              <a:t>6) Ежегодно в анализе работы классного руководителя (май) отражать результаты диагностики и мониторинга воспитательной системы класса в соответствии с «Матрицей отслеживания качества воспитательной системы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WordArt 3" descr=""/>
          <p:cNvPicPr/>
          <p:nvPr/>
        </p:nvPicPr>
        <p:blipFill>
          <a:blip r:embed="rId1"/>
          <a:stretch/>
        </p:blipFill>
        <p:spPr>
          <a:xfrm>
            <a:off x="-533520" y="1143000"/>
            <a:ext cx="94489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d8047"/>
                </a:solidFill>
                <a:latin typeface="Calibri"/>
              </a:rPr>
              <a:t>Модель школьной системы</a:t>
            </a:r>
            <a:br>
              <a:rPr sz="2500"/>
            </a:br>
            <a:r>
              <a:rPr b="1" lang="en-US" sz="2500" spc="-1" strike="noStrike">
                <a:solidFill>
                  <a:srgbClr val="dd8047"/>
                </a:solidFill>
                <a:latin typeface="Calibri"/>
              </a:rPr>
              <a:t> управления образовательным процессом</a:t>
            </a:r>
            <a:endParaRPr b="0" lang="en-US" sz="25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4" name="Oval 12"/>
          <p:cNvSpPr/>
          <p:nvPr/>
        </p:nvSpPr>
        <p:spPr>
          <a:xfrm>
            <a:off x="2133720" y="1295280"/>
            <a:ext cx="5105160" cy="541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дминистрация, уч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1"/>
          <p:cNvSpPr/>
          <p:nvPr/>
        </p:nvSpPr>
        <p:spPr>
          <a:xfrm>
            <a:off x="3505320" y="2057400"/>
            <a:ext cx="236196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457200" y="1828800"/>
            <a:ext cx="23623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а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ики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553080" y="1905120"/>
            <a:ext cx="243864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риал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нфра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ад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6"/>
          <p:cNvSpPr/>
          <p:nvPr/>
        </p:nvSpPr>
        <p:spPr>
          <a:xfrm>
            <a:off x="2819520" y="3200400"/>
            <a:ext cx="35812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4649"/>
                </a:solidFill>
                <a:latin typeface="Arial"/>
                <a:ea typeface="Times New Roman"/>
              </a:rPr>
              <a:t>Образовательны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6324480" y="3352680"/>
            <a:ext cx="26672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Выход выпуск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380880" y="3352680"/>
            <a:ext cx="251460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Вход первокласс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AutoShape 8"/>
          <p:cNvCxnSpPr/>
          <p:nvPr/>
        </p:nvCxnSpPr>
        <p:spPr>
          <a:xfrm flipH="1" flipV="1">
            <a:off x="5790960" y="2514240"/>
            <a:ext cx="76248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AutoShape 7"/>
          <p:cNvCxnSpPr/>
          <p:nvPr/>
        </p:nvCxnSpPr>
        <p:spPr>
          <a:xfrm flipV="1">
            <a:off x="2819520" y="2514240"/>
            <a:ext cx="70020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3" name="AutoShape 1"/>
          <p:cNvSpPr/>
          <p:nvPr/>
        </p:nvSpPr>
        <p:spPr>
          <a:xfrm>
            <a:off x="457200" y="3886200"/>
            <a:ext cx="1847880" cy="2478240"/>
          </a:xfrm>
          <a:prstGeom prst="upArrow">
            <a:avLst>
              <a:gd name="adj1" fmla="val 50000"/>
              <a:gd name="adj2" fmla="val 43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Готовность к школьной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4"/>
          <p:cNvSpPr/>
          <p:nvPr/>
        </p:nvSpPr>
        <p:spPr>
          <a:xfrm>
            <a:off x="2819520" y="4419720"/>
            <a:ext cx="3657600" cy="2133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e4649"/>
                </a:solidFill>
                <a:latin typeface="Arial"/>
                <a:ea typeface="Times New Roman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e4649"/>
                </a:solidFill>
                <a:latin typeface="Arial"/>
                <a:ea typeface="Times New Roman"/>
              </a:rPr>
              <a:t>Доп.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e4649"/>
                </a:solidFill>
                <a:latin typeface="Arial"/>
                <a:ea typeface="Times New Roman"/>
              </a:rPr>
              <a:t>Социал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e4649"/>
                </a:solidFill>
                <a:latin typeface="Arial"/>
                <a:ea typeface="Times New Roman"/>
              </a:rPr>
              <a:t>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e4649"/>
                </a:solidFill>
                <a:latin typeface="Arial"/>
                <a:ea typeface="Times New Roman"/>
              </a:rPr>
              <a:t>Безопас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6172200" y="3809880"/>
            <a:ext cx="2819520" cy="2629080"/>
          </a:xfrm>
          <a:prstGeom prst="upArrow">
            <a:avLst>
              <a:gd name="adj1" fmla="val 50000"/>
              <a:gd name="adj2" fmla="val 288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Результативность непосредств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(итоговая аттестау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Результативность опосредова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(судьба выпускн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4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Схема 3" descr=""/>
          <p:cNvPicPr/>
          <p:nvPr/>
        </p:nvPicPr>
        <p:blipFill>
          <a:blip r:embed="rId1"/>
          <a:stretch/>
        </p:blipFill>
        <p:spPr>
          <a:xfrm>
            <a:off x="219240" y="291960"/>
            <a:ext cx="8705520" cy="2318040"/>
          </a:xfrm>
          <a:prstGeom prst="rect">
            <a:avLst/>
          </a:prstGeom>
          <a:ln w="0">
            <a:noFill/>
          </a:ln>
        </p:spPr>
      </p:pic>
      <p:sp>
        <p:nvSpPr>
          <p:cNvPr id="419" name="Стрелка вправо с вырезом 4"/>
          <p:cNvSpPr/>
          <p:nvPr/>
        </p:nvSpPr>
        <p:spPr>
          <a:xfrm>
            <a:off x="1600200" y="1981080"/>
            <a:ext cx="3263760" cy="484200"/>
          </a:xfrm>
          <a:custGeom>
            <a:avLst/>
            <a:gdLst>
              <a:gd name="textAreaLeft" fmla="*/ 120960 w 3263760"/>
              <a:gd name="textAreaRight" fmla="*/ 3142800 w 3263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998" y="5400"/>
                </a:lnTo>
                <a:lnTo>
                  <a:pt x="19998" y="0"/>
                </a:lnTo>
                <a:lnTo>
                  <a:pt x="21600" y="10800"/>
                </a:lnTo>
                <a:lnTo>
                  <a:pt x="19998" y="21600"/>
                </a:lnTo>
                <a:lnTo>
                  <a:pt x="19998" y="16200"/>
                </a:lnTo>
                <a:lnTo>
                  <a:pt x="0" y="16200"/>
                </a:lnTo>
                <a:lnTo>
                  <a:pt x="801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16200000"/>
          </a:gra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Выноска со стрелкой вниз 7"/>
          <p:cNvSpPr/>
          <p:nvPr/>
        </p:nvSpPr>
        <p:spPr>
          <a:xfrm>
            <a:off x="304920" y="2819520"/>
            <a:ext cx="3276360" cy="2209680"/>
          </a:xfrm>
          <a:prstGeom prst="downArrowCallout">
            <a:avLst>
              <a:gd name="adj1" fmla="val 25003"/>
              <a:gd name="adj2" fmla="val 25000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При каких условиях воспитание будет успешным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Улыбающееся лицо 8"/>
          <p:cNvSpPr/>
          <p:nvPr/>
        </p:nvSpPr>
        <p:spPr>
          <a:xfrm>
            <a:off x="1676520" y="4267080"/>
            <a:ext cx="533160" cy="5335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6200000"/>
          </a:gra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10"/>
          <p:cNvSpPr/>
          <p:nvPr/>
        </p:nvSpPr>
        <p:spPr>
          <a:xfrm>
            <a:off x="304920" y="5105520"/>
            <a:ext cx="3276360" cy="15238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воспитание будет успеш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сли оно систем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Схема 11" descr=""/>
          <p:cNvPicPr/>
          <p:nvPr/>
        </p:nvPicPr>
        <p:blipFill>
          <a:blip r:embed="rId2"/>
          <a:stretch/>
        </p:blipFill>
        <p:spPr>
          <a:xfrm>
            <a:off x="4352760" y="2895480"/>
            <a:ext cx="43768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Содержимое 9" descr=""/>
          <p:cNvPicPr/>
          <p:nvPr/>
        </p:nvPicPr>
        <p:blipFill>
          <a:blip r:embed="rId1"/>
          <a:stretch/>
        </p:blipFill>
        <p:spPr>
          <a:xfrm>
            <a:off x="298440" y="1384200"/>
            <a:ext cx="4206960" cy="51260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647960" y="10666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Невозможность создать системную оценку качества воспитания без проектирования адекватной модели в школе, обеспечивающей этот процес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4040280" cy="8683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ВЕДУЩЕЕ ПРОТИВОРЕЧ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647960" y="228600"/>
            <a:ext cx="4041720" cy="914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АКТУАЛЬНОСТЬ ПРОБЛ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Выгнутая вправо стрелка 14"/>
          <p:cNvSpPr/>
          <p:nvPr/>
        </p:nvSpPr>
        <p:spPr>
          <a:xfrm>
            <a:off x="7924680" y="3429000"/>
            <a:ext cx="914400" cy="1905120"/>
          </a:xfrm>
          <a:custGeom>
            <a:avLst/>
            <a:gdLst>
              <a:gd name="textAreaLeft" fmla="*/ 122400 w 914400"/>
              <a:gd name="textAreaRight" fmla="*/ 792000 w 914400"/>
              <a:gd name="textAreaTop" fmla="*/ 390600 h 1905120"/>
              <a:gd name="textAreaBottom" fmla="*/ 140040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56" stAng="-5400000" swAng="5400000"/>
                <a:lnTo>
                  <a:pt x="21600" y="11448"/>
                </a:lnTo>
                <a:arcTo wR="21600" hR="8856" stAng="0" swAng="3467951"/>
                <a:lnTo>
                  <a:pt x="5400" y="21319"/>
                </a:lnTo>
                <a:lnTo>
                  <a:pt x="0" y="19008"/>
                </a:lnTo>
                <a:lnTo>
                  <a:pt x="5400" y="16135"/>
                </a:lnTo>
                <a:lnTo>
                  <a:pt x="5400" y="17431"/>
                </a:lnTo>
                <a:arcTo wR="21600" hR="8856" stAng="3467951" swAng="-3259697"/>
                <a:lnTo>
                  <a:pt x="21367" y="10152"/>
                </a:lnTo>
                <a:arcTo wR="21600" hR="8856" stAng="-208254" swAng="-5191746"/>
                <a:close/>
              </a:path>
              <a:path fill="darkenLess" w="21600" h="21600">
                <a:moveTo>
                  <a:pt x="0" y="0"/>
                </a:moveTo>
                <a:arcTo wR="21600" hR="8856" stAng="-5400000" swAng="5400000"/>
                <a:lnTo>
                  <a:pt x="21600" y="11448"/>
                </a:lnTo>
                <a:arcTo wR="21600" hR="8856" stAng="0" swAng="-208254"/>
                <a:lnTo>
                  <a:pt x="21367" y="10152"/>
                </a:lnTo>
                <a:arcTo wR="21600" hR="8856" stAng="-208254" swAng="-5191746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5"/>
          <p:cNvSpPr/>
          <p:nvPr/>
        </p:nvSpPr>
        <p:spPr>
          <a:xfrm>
            <a:off x="4724280" y="3962520"/>
            <a:ext cx="3200400" cy="2286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внедрение модели мониторинга качества воспитательной системы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077320" cy="7920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5b22"/>
                </a:solidFill>
                <a:latin typeface="Calibri"/>
              </a:rPr>
              <a:t>ЧТО ТАКОЕ      </a:t>
            </a:r>
            <a:r>
              <a:rPr b="1" lang="en-US" sz="3600" spc="-1" strike="noStrike">
                <a:solidFill>
                  <a:srgbClr val="89114d"/>
                </a:solidFill>
                <a:latin typeface="Calibri"/>
              </a:rPr>
              <a:t>М О Н И Т О Р И Н Г </a:t>
            </a:r>
            <a:r>
              <a:rPr b="1" lang="en-US" sz="3200" spc="-1" strike="noStrike">
                <a:solidFill>
                  <a:srgbClr val="b95b22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Англ. «следить», «вести наблюдение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Скругленный прямоугольник 8"/>
          <p:cNvSpPr/>
          <p:nvPr/>
        </p:nvSpPr>
        <p:spPr>
          <a:xfrm>
            <a:off x="533520" y="2057400"/>
            <a:ext cx="75438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Выгнутая вправо стрелка 9"/>
          <p:cNvSpPr/>
          <p:nvPr/>
        </p:nvSpPr>
        <p:spPr>
          <a:xfrm>
            <a:off x="8077320" y="838080"/>
            <a:ext cx="884160" cy="2286000"/>
          </a:xfrm>
          <a:custGeom>
            <a:avLst/>
            <a:gdLst>
              <a:gd name="textAreaLeft" fmla="*/ 118440 w 884160"/>
              <a:gd name="textAreaRight" fmla="*/ 765720 w 884160"/>
              <a:gd name="textAreaTop" fmla="*/ 488520 h 2286000"/>
              <a:gd name="textAreaBottom" fmla="*/ 16869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34" stAng="-5400000" swAng="5400000"/>
                <a:lnTo>
                  <a:pt x="21600" y="11322"/>
                </a:lnTo>
                <a:arcTo wR="21600" hR="9234" stAng="0" swAng="3532065"/>
                <a:lnTo>
                  <a:pt x="5400" y="21307"/>
                </a:lnTo>
                <a:lnTo>
                  <a:pt x="0" y="19511"/>
                </a:lnTo>
                <a:lnTo>
                  <a:pt x="5400" y="17129"/>
                </a:lnTo>
                <a:lnTo>
                  <a:pt x="5400" y="18174"/>
                </a:lnTo>
                <a:arcTo wR="21600" hR="9234" stAng="3532065" swAng="-3364966"/>
                <a:lnTo>
                  <a:pt x="21461" y="10278"/>
                </a:lnTo>
                <a:arcTo wR="21600" hR="9234" stAng="-167098" swAng="-5232902"/>
                <a:close/>
              </a:path>
              <a:path fill="darkenLess" w="21600" h="21600">
                <a:moveTo>
                  <a:pt x="0" y="0"/>
                </a:moveTo>
                <a:arcTo wR="21600" hR="9234" stAng="-5400000" swAng="5400000"/>
                <a:lnTo>
                  <a:pt x="21600" y="11322"/>
                </a:lnTo>
                <a:arcTo wR="21600" hR="9234" stAng="0" swAng="-167098"/>
                <a:lnTo>
                  <a:pt x="21461" y="10278"/>
                </a:lnTo>
                <a:arcTo wR="21600" hR="9234" stAng="-167098" swAng="-5232902"/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85800" y="226080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оянное наблюдение  за каким-либо процесс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 целью выявления его соответствия желаемому результату  или первоначальным предположен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Выгнутая вверх стрелка 12"/>
          <p:cNvSpPr/>
          <p:nvPr/>
        </p:nvSpPr>
        <p:spPr>
          <a:xfrm>
            <a:off x="152280" y="3429000"/>
            <a:ext cx="1216080" cy="731880"/>
          </a:xfrm>
          <a:custGeom>
            <a:avLst/>
            <a:gdLst>
              <a:gd name="textAreaLeft" fmla="*/ 235440 w 1216080"/>
              <a:gd name="textAreaRight" fmla="*/ 889200 w 121608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63" hR="21600" stAng="10800000" swAng="5400000"/>
                <a:lnTo>
                  <a:pt x="11613" y="0"/>
                </a:lnTo>
                <a:arcTo wR="8363" hR="21600" stAng="-5400000" swAng="3377999"/>
                <a:lnTo>
                  <a:pt x="21334" y="16200"/>
                </a:lnTo>
                <a:lnTo>
                  <a:pt x="18350" y="21600"/>
                </a:lnTo>
                <a:lnTo>
                  <a:pt x="14834" y="16200"/>
                </a:lnTo>
                <a:lnTo>
                  <a:pt x="16459" y="16200"/>
                </a:lnTo>
                <a:arcTo wR="8363" hR="21600" stAng="-2022001" swAng="-3114862"/>
                <a:lnTo>
                  <a:pt x="9988" y="412"/>
                </a:lnTo>
                <a:arcTo wR="8363" hR="21600" stAng="-5663137" swAng="-5136863"/>
                <a:close/>
              </a:path>
              <a:path fill="darkenLess" w="21600" h="21600">
                <a:moveTo>
                  <a:pt x="0" y="21600"/>
                </a:moveTo>
                <a:arcTo wR="8363" hR="21600" stAng="10800000" swAng="5400000"/>
                <a:lnTo>
                  <a:pt x="8363" y="0"/>
                </a:lnTo>
                <a:arcTo wR="8363" hR="21600" stAng="-5400000" swAng="263137"/>
                <a:lnTo>
                  <a:pt x="9988" y="412"/>
                </a:lnTo>
                <a:arcTo wR="8363" hR="21600" stAng="-5663137" swAng="-5136863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5b22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Выгнутая вверх стрелка 14"/>
          <p:cNvSpPr/>
          <p:nvPr/>
        </p:nvSpPr>
        <p:spPr>
          <a:xfrm>
            <a:off x="3124080" y="3886200"/>
            <a:ext cx="1216080" cy="731880"/>
          </a:xfrm>
          <a:custGeom>
            <a:avLst/>
            <a:gdLst>
              <a:gd name="textAreaLeft" fmla="*/ 235440 w 1216080"/>
              <a:gd name="textAreaRight" fmla="*/ 889200 w 121608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63" hR="21600" stAng="10800000" swAng="5400000"/>
                <a:lnTo>
                  <a:pt x="11613" y="0"/>
                </a:lnTo>
                <a:arcTo wR="8363" hR="21600" stAng="-5400000" swAng="3377999"/>
                <a:lnTo>
                  <a:pt x="21334" y="16200"/>
                </a:lnTo>
                <a:lnTo>
                  <a:pt x="18350" y="21600"/>
                </a:lnTo>
                <a:lnTo>
                  <a:pt x="14834" y="16200"/>
                </a:lnTo>
                <a:lnTo>
                  <a:pt x="16459" y="16200"/>
                </a:lnTo>
                <a:arcTo wR="8363" hR="21600" stAng="-2022001" swAng="-3114862"/>
                <a:lnTo>
                  <a:pt x="9988" y="412"/>
                </a:lnTo>
                <a:arcTo wR="8363" hR="21600" stAng="-5663137" swAng="-5136863"/>
                <a:close/>
              </a:path>
              <a:path fill="darkenLess" w="21600" h="21600">
                <a:moveTo>
                  <a:pt x="0" y="21600"/>
                </a:moveTo>
                <a:arcTo wR="8363" hR="21600" stAng="10800000" swAng="5400000"/>
                <a:lnTo>
                  <a:pt x="8363" y="0"/>
                </a:lnTo>
                <a:arcTo wR="8363" hR="21600" stAng="-5400000" swAng="263137"/>
                <a:lnTo>
                  <a:pt x="9988" y="412"/>
                </a:lnTo>
                <a:arcTo wR="8363" hR="21600" stAng="-5663137" swAng="-5136863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5b22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Выгнутая вверх стрелка 15"/>
          <p:cNvSpPr/>
          <p:nvPr/>
        </p:nvSpPr>
        <p:spPr>
          <a:xfrm>
            <a:off x="6324480" y="4724280"/>
            <a:ext cx="1216080" cy="731880"/>
          </a:xfrm>
          <a:custGeom>
            <a:avLst/>
            <a:gdLst>
              <a:gd name="textAreaLeft" fmla="*/ 235440 w 1216080"/>
              <a:gd name="textAreaRight" fmla="*/ 889200 w 121608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63" hR="21600" stAng="10800000" swAng="5400000"/>
                <a:lnTo>
                  <a:pt x="11613" y="0"/>
                </a:lnTo>
                <a:arcTo wR="8363" hR="21600" stAng="-5400000" swAng="3377999"/>
                <a:lnTo>
                  <a:pt x="21334" y="16200"/>
                </a:lnTo>
                <a:lnTo>
                  <a:pt x="18350" y="21600"/>
                </a:lnTo>
                <a:lnTo>
                  <a:pt x="14834" y="16200"/>
                </a:lnTo>
                <a:lnTo>
                  <a:pt x="16459" y="16200"/>
                </a:lnTo>
                <a:arcTo wR="8363" hR="21600" stAng="-2022001" swAng="-3114862"/>
                <a:lnTo>
                  <a:pt x="9988" y="412"/>
                </a:lnTo>
                <a:arcTo wR="8363" hR="21600" stAng="-5663137" swAng="-5136863"/>
                <a:close/>
              </a:path>
              <a:path fill="darkenLess" w="21600" h="21600">
                <a:moveTo>
                  <a:pt x="0" y="21600"/>
                </a:moveTo>
                <a:arcTo wR="8363" hR="21600" stAng="10800000" swAng="5400000"/>
                <a:lnTo>
                  <a:pt x="8363" y="0"/>
                </a:lnTo>
                <a:arcTo wR="8363" hR="21600" stAng="-5400000" swAng="263137"/>
                <a:lnTo>
                  <a:pt x="9988" y="412"/>
                </a:lnTo>
                <a:arcTo wR="8363" hR="21600" stAng="-5663137" swAng="-5136863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5b22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16"/>
          <p:cNvSpPr/>
          <p:nvPr/>
        </p:nvSpPr>
        <p:spPr>
          <a:xfrm>
            <a:off x="762120" y="4191120"/>
            <a:ext cx="190476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) НУЖНО ЛИ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17"/>
          <p:cNvSpPr/>
          <p:nvPr/>
        </p:nvSpPr>
        <p:spPr>
          <a:xfrm>
            <a:off x="3733920" y="4648320"/>
            <a:ext cx="213336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) КОМУ ЭТО НУЖ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18"/>
          <p:cNvSpPr/>
          <p:nvPr/>
        </p:nvSpPr>
        <p:spPr>
          <a:xfrm>
            <a:off x="6858000" y="5486400"/>
            <a:ext cx="2057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) ЗАЧЕМ ЭТО НУЖ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504960" y="380520"/>
            <a:ext cx="4800600" cy="129564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txBody>
          <a:bodyPr anchor="ctr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ыяснить, насколько организованный в школе процесс воспитания способствует позитивным изменениям в личности ребе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Прямоугольник 8"/>
          <p:cNvSpPr/>
          <p:nvPr/>
        </p:nvSpPr>
        <p:spPr>
          <a:xfrm>
            <a:off x="228600" y="380880"/>
            <a:ext cx="2286000" cy="12956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ЦЕЛЬ МОНИТОРИН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трелка вправо с вырезом 9"/>
          <p:cNvSpPr/>
          <p:nvPr/>
        </p:nvSpPr>
        <p:spPr>
          <a:xfrm>
            <a:off x="2514600" y="685800"/>
            <a:ext cx="977760" cy="838080"/>
          </a:xfrm>
          <a:custGeom>
            <a:avLst/>
            <a:gdLst>
              <a:gd name="textAreaLeft" fmla="*/ 209520 w 977760"/>
              <a:gd name="textAreaRight" fmla="*/ 768240 w 9777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343" y="5400"/>
                </a:lnTo>
                <a:lnTo>
                  <a:pt x="12343" y="0"/>
                </a:lnTo>
                <a:lnTo>
                  <a:pt x="21600" y="10800"/>
                </a:lnTo>
                <a:lnTo>
                  <a:pt x="12343" y="21600"/>
                </a:lnTo>
                <a:lnTo>
                  <a:pt x="12343" y="16200"/>
                </a:lnTo>
                <a:lnTo>
                  <a:pt x="0" y="16200"/>
                </a:lnTo>
                <a:lnTo>
                  <a:pt x="462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Выгнутая вправо стрелка 11"/>
          <p:cNvSpPr/>
          <p:nvPr/>
        </p:nvSpPr>
        <p:spPr>
          <a:xfrm rot="546000">
            <a:off x="8172000" y="1581120"/>
            <a:ext cx="846360" cy="1623960"/>
          </a:xfrm>
          <a:custGeom>
            <a:avLst/>
            <a:gdLst>
              <a:gd name="textAreaLeft" fmla="*/ 113400 w 846360"/>
              <a:gd name="textAreaRight" fmla="*/ 732960 w 846360"/>
              <a:gd name="textAreaTop" fmla="*/ 326520 h 1623960"/>
              <a:gd name="textAreaBottom" fmla="*/ 119160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90" stAng="-5400000" swAng="5400000"/>
                <a:lnTo>
                  <a:pt x="21600" y="11503"/>
                </a:lnTo>
                <a:arcTo wR="21600" hR="8690" stAng="0" swAng="3438500"/>
                <a:lnTo>
                  <a:pt x="5400" y="21324"/>
                </a:lnTo>
                <a:lnTo>
                  <a:pt x="0" y="18787"/>
                </a:lnTo>
                <a:lnTo>
                  <a:pt x="5400" y="15697"/>
                </a:lnTo>
                <a:lnTo>
                  <a:pt x="5400" y="17104"/>
                </a:lnTo>
                <a:arcTo wR="21600" hR="8690" stAng="3438500" swAng="-3211986"/>
                <a:lnTo>
                  <a:pt x="21315" y="10097"/>
                </a:lnTo>
                <a:arcTo wR="21600" hR="8690" stAng="-226514" swAng="-5173486"/>
                <a:close/>
              </a:path>
              <a:path fill="darkenLess" w="21600" h="21600">
                <a:moveTo>
                  <a:pt x="0" y="0"/>
                </a:moveTo>
                <a:arcTo wR="21600" hR="8690" stAng="-5400000" swAng="5400000"/>
                <a:lnTo>
                  <a:pt x="21600" y="11503"/>
                </a:lnTo>
                <a:arcTo wR="21600" hR="8690" stAng="0" swAng="-226514"/>
                <a:lnTo>
                  <a:pt x="21315" y="10097"/>
                </a:lnTo>
                <a:arcTo wR="21600" hR="8690" stAng="-226514" swAng="-5173486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12"/>
          <p:cNvSpPr/>
          <p:nvPr/>
        </p:nvSpPr>
        <p:spPr>
          <a:xfrm>
            <a:off x="3581280" y="2133720"/>
            <a:ext cx="4496040" cy="13716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ыяснить, в первую очередь, для того, чтобы обнаружить и решить наиболее острые проблемы организации процесса воспитания, чтобы анализировать, обобщать и распространять позитивный опыт воспит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Выгнутая влево стрелка 13"/>
          <p:cNvSpPr/>
          <p:nvPr/>
        </p:nvSpPr>
        <p:spPr>
          <a:xfrm>
            <a:off x="609480" y="2590920"/>
            <a:ext cx="2971800" cy="3581280"/>
          </a:xfrm>
          <a:custGeom>
            <a:avLst/>
            <a:gdLst>
              <a:gd name="textAreaLeft" fmla="*/ 398160 w 2971800"/>
              <a:gd name="textAreaRight" fmla="*/ 2573640 w 2971800"/>
              <a:gd name="textAreaTop" fmla="*/ 616680 h 3581280"/>
              <a:gd name="textAreaBottom" fmla="*/ 259308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40" stAng="-5400000" swAng="-5400000"/>
                <a:lnTo>
                  <a:pt x="0" y="11920"/>
                </a:lnTo>
                <a:arcTo wR="21600" hR="7440" stAng="10800000" swAng="-3188554"/>
                <a:lnTo>
                  <a:pt x="16200" y="21364"/>
                </a:lnTo>
                <a:lnTo>
                  <a:pt x="21600" y="17119"/>
                </a:lnTo>
                <a:lnTo>
                  <a:pt x="16200" y="12402"/>
                </a:lnTo>
                <a:lnTo>
                  <a:pt x="16200" y="14643"/>
                </a:lnTo>
                <a:arcTo wR="21600" hR="7440" stAng="7611446" swAng="2816161"/>
                <a:lnTo>
                  <a:pt x="1002" y="9680"/>
                </a:lnTo>
                <a:arcTo wR="21600" hR="7440" stAng="-10427607" swAng="5027607"/>
                <a:close/>
              </a:path>
              <a:path fill="darkenLess" w="21600" h="21600">
                <a:moveTo>
                  <a:pt x="21600" y="0"/>
                </a:moveTo>
                <a:arcTo wR="21600" hR="7440" stAng="-5400000" swAng="-5400000"/>
                <a:lnTo>
                  <a:pt x="0" y="7440"/>
                </a:lnTo>
                <a:arcTo wR="21600" hR="7440" stAng="10800000" swAng="-372393"/>
                <a:lnTo>
                  <a:pt x="1002" y="9680"/>
                </a:lnTo>
                <a:arcTo wR="21600" hR="7440" stAng="-10427607" swAng="5027607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Овал 14"/>
          <p:cNvSpPr/>
          <p:nvPr/>
        </p:nvSpPr>
        <p:spPr>
          <a:xfrm>
            <a:off x="3581280" y="3962520"/>
            <a:ext cx="4876920" cy="2514600"/>
          </a:xfrm>
          <a:prstGeom prst="ellipse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что именно необходимо изучать в процессе мониторинга воспитания, каков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Calibri"/>
              </a:rPr>
              <a:t>предме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этого мониторинга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ольник 1"/>
          <p:cNvSpPr/>
          <p:nvPr/>
        </p:nvSpPr>
        <p:spPr>
          <a:xfrm>
            <a:off x="152280" y="304920"/>
            <a:ext cx="8686800" cy="9144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оспитание</a:t>
            </a:r>
            <a:r>
              <a:rPr b="1" lang="ru-RU" sz="1800" spc="-1" strike="noStrike">
                <a:solidFill>
                  <a:srgbClr val="b95b22"/>
                </a:solidFill>
                <a:latin typeface="Calibri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то управление процессом формирования и развития личности ребенка через создание для этого благоприятны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Л.И. Новикова, В.А. Караковский, Н.Л. Селиванова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Схема 2" descr=""/>
          <p:cNvPicPr/>
          <p:nvPr/>
        </p:nvPicPr>
        <p:blipFill>
          <a:blip r:embed="rId1"/>
          <a:stretch/>
        </p:blipFill>
        <p:spPr>
          <a:xfrm>
            <a:off x="311040" y="1682640"/>
            <a:ext cx="86569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05:28:33Z</dcterms:created>
  <dc:creator>1</dc:creator>
  <dc:description/>
  <dc:language>en-US</dc:language>
  <cp:lastModifiedBy>1</cp:lastModifiedBy>
  <dcterms:modified xsi:type="dcterms:W3CDTF">2015-02-25T03:06:48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