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1BCF-3BA6-40BC-BD2E-0EC7C08F3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871C-FFD9-4C0E-B3D2-C9C632CB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2636-E1E3-4C05-87DB-32BD1898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B110-B498-407B-94CF-89B6E724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C4C-EF61-4007-ACDA-BC2BF849A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828E-8065-4646-8467-F78CAD9B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D96-A9C4-4D9D-9210-931583D3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A86E-3A06-464B-9475-1A4BD5C9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0D9-B1D1-4A36-B683-5DBA229CB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D4C1-7549-48A4-81E0-F102DCDC2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F346-F728-4D85-95A1-03A99793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35A5-3AA1-48B1-82DA-A9BB86BBF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DC090-BADB-4CC0-8BAF-17F2D591F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4920" y="2781360"/>
            <a:ext cx="821844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Black"/>
              </a:rPr>
              <a:t>В гости к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ороговор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шки бегали по крышке,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уп мешать мешали мышки.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шки сушек насушили, мышки кошек пригласил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63680" y="0"/>
            <a:ext cx="5956200" cy="64533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87280" y="776520"/>
            <a:ext cx="705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Маленький рос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длинный хвост, 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Серая шубка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острые зубк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20800" cy="1914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435560"/>
            <a:ext cx="5400720" cy="24224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3527280" cy="2478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5757840" y="3573360"/>
            <a:ext cx="3386160" cy="2371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5470560" y="0"/>
            <a:ext cx="3673440" cy="27558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4360" y="611280"/>
            <a:ext cx="7848360" cy="56894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2489040" cy="239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88000" y="1557360"/>
            <a:ext cx="4032000" cy="2685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116000" y="3860640"/>
            <a:ext cx="3151080" cy="24307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55640" y="1066680"/>
            <a:ext cx="7813800" cy="5791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ышка полевк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515160"/>
            <a:ext cx="826920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ва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ышонк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у пригорка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ли маленькую норку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 четыре кладовых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запаса зерновых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ак работали – старались,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Чуть без лапок не остались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чень твердая земл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 пригорке возле пн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Жаль, что люди для мышат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е придумали лопат.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В. Чемодан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16:05:37Z</dcterms:created>
  <dc:creator>Администратор</dc:creator>
  <dc:description/>
  <dc:language>en-US</dc:language>
  <cp:lastModifiedBy>1</cp:lastModifiedBy>
  <dcterms:modified xsi:type="dcterms:W3CDTF">2013-08-21T17:10:02Z</dcterms:modified>
  <cp:revision>15</cp:revision>
  <dc:subject/>
  <dc:title>Первая  Медицинская Помощь</dc:title>
</cp:coreProperties>
</file>