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136-1EDF-4B00-BBAB-55BFF1C3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E40-2CF9-4F95-9BD7-1F2F603E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6C6-6E3D-42BE-BF40-E4926EEA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87E-7B58-4746-A660-C647C680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A47-598F-4ED7-94BC-30C8DB9B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FFD-369C-4FED-9012-3B657786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A38-01CA-49C7-886E-311934A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872-23CC-4797-9C3D-1C185513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9B0-02E5-4D35-82F7-C58560AB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8E8-9C39-44DC-8477-850FAFBB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331-9D0E-4313-8BB6-1E5AFB9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B27-364B-4423-B6B9-56789F1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0F3C-1EDA-475C-84A0-AC4F15BD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x-wall.ru/f/4/les_tropinka_derevya_paporotniki_2560x1600.jpg" TargetMode="External"/><Relationship Id="rId3" Type="http://schemas.openxmlformats.org/officeDocument/2006/relationships/hyperlink" Target="http://www.aerodinamica.ru/images/&#1042;&#1086;&#1088;&#1086;&#1090;&#1072;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4760" y="33480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Обходская основная общеобразовате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енского муниципального района Нижегор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Путешеств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в царств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обыкновенных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39760" y="4267080"/>
            <a:ext cx="668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ок математики в 6 классе по теме «Дробные выраж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800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готовила: 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машова Н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8720" y="5791320"/>
            <a:ext cx="125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.Об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http://x-wall.ru/f/4/les_tropinka_derevya_paporotniki_2560x16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http://www.moscowmap.ru/_public/article-img/park-russkikh-skazok-poyavitsya-v-novoy-moskve-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1040" y="380880"/>
            <a:ext cx="83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арство Обыкновен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http://img1.liveinternet.ru/images/attach/b/4/103/511/103511897_PolyanaskazokvYAlteIzbushkanakurihnozhka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http://lifeupper.ru/diafilms/vovka/28.jpg"/>
          <p:cNvPicPr/>
          <p:nvPr/>
        </p:nvPicPr>
        <p:blipFill>
          <a:blip r:embed="rId2"/>
          <a:srcRect l="4160" t="0" r="3069" b="25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sovetskiy.3dn.ru/2/vovka.v.tridev.tsarstve.0-03-4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http://www.krasfun.ru/images/2011/6/cbeaf_castel_13.jpg"/>
          <p:cNvPicPr/>
          <p:nvPr/>
        </p:nvPicPr>
        <p:blipFill>
          <a:blip r:embed="rId2"/>
          <a:srcRect l="0" t="0" r="0" b="4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5480" y="628560"/>
            <a:ext cx="77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ртинки для оформления взяты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9360" y="1447920"/>
            <a:ext cx="795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x-wall.ru/f/4/les_tropinka_derevya_paporotniki_2560x1600.jp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560" y="2208600"/>
            <a:ext cx="79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erodinamica.ru/images/%D0%92%D0%BE%D1%80%D0%BE%D1%82%D0%B0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7360" y="4114080"/>
            <a:ext cx="60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6-tub-ru.yandex.net/i?id=130989997-31-72&amp;n=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6640" y="2742480"/>
            <a:ext cx="55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.mail.ru/mail/landysh-silver/451/i-723.jpg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560" y="3504600"/>
            <a:ext cx="68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afilmy.su/uploads/posts/2011-09/1314902636_p_0033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6280" y="502848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krasfun.ru/images/2011/6/cbeaf_castel_13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14-03-19T15:52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