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79D-751C-4497-9CFE-D91B7220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EAE-08DA-49D1-909A-4CC7699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9D5-775A-44E3-A063-F759DA05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EA7-9BCC-4594-82FE-E760A462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8DCF-B93E-422E-9BED-FBD02F2E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4354-67C8-4F1F-87C0-76297A37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D3E8-391B-4CD8-91F9-64603660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794C-1416-492B-BA0A-86346B83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B607-695E-4B86-9DC7-A9150E20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2ADD-CCDB-4F62-8E41-30DB86D3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4C4B-D02C-4B89-BB25-63C617F6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1F3-7C84-4BE9-A520-E7540CD1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16E2-423B-4CD3-A2C5-73169DC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B3A2-E1B2-424D-B353-9EC75AB6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DBF8-1DE1-4434-AAAE-CA85C74A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3D58-866D-4D68-801F-118FECEB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A19F-874E-4A6F-B1AC-E97025AE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30E-C098-4121-A91F-0657D9EA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171-7290-4018-A06C-AEF49CAB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167-B577-4C0D-AB3E-1EFB899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7CB-3028-493F-98B9-E1A65B12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781-126A-4B5D-84EE-7ADCA5D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BD9-1908-4603-BFCE-ED86679F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9DD-95CB-49A3-87E5-6AF6DE1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94B8-66F4-46F9-8375-03CE42832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05F3-88FE-4850-A2F8-91AE9899F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рока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енение пищи в ротовой полости. Размельчение пищи за счет жевательных дви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Типы, строение и функции зуб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Слюнные железы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ка изучения деятельности слюнных желе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Регуляция слюноотд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Язык, его роль в пищеварении в ротовой пол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4360" y="333360"/>
            <a:ext cx="77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: "Пищеварение в ротовой полости"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476360" y="404640"/>
            <a:ext cx="4276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юнные железы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3311640" cy="2880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58920" y="2997360"/>
            <a:ext cx="165744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708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колоуш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4797360"/>
            <a:ext cx="230508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522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ъязыч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4941720"/>
            <a:ext cx="86364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92560" y="5516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нижнечелюс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176560" y="404640"/>
            <a:ext cx="4790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бака с фистулой слюнной железы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482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619280" y="404640"/>
            <a:ext cx="576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ула зубов взрослого человека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190400" y="306864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2735280" cy="4105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flipV="1">
            <a:off x="3635280" y="1341360"/>
            <a:ext cx="1728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851280" y="1341000"/>
            <a:ext cx="1512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140360" y="1557000"/>
            <a:ext cx="936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2276640"/>
            <a:ext cx="10792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27640" y="2421000"/>
            <a:ext cx="936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27640" y="2781360"/>
            <a:ext cx="1152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643280" y="2997000"/>
            <a:ext cx="1008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572000" y="2997360"/>
            <a:ext cx="1152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933720"/>
            <a:ext cx="1008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4149720"/>
            <a:ext cx="1008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00720" y="4365360"/>
            <a:ext cx="11509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284720" y="4868640"/>
            <a:ext cx="1224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4797360"/>
            <a:ext cx="10810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40360" y="5300640"/>
            <a:ext cx="12952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5516640"/>
            <a:ext cx="129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445000"/>
            <a:ext cx="107928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4000" y="100008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28560" y="128916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03800" y="2081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ые кор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5080" y="27288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льшие кор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000" y="402444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льшие кор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19800" y="460044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ые кор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17280" y="51768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86720" y="5681520"/>
            <a:ext cx="8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835280" y="476280"/>
            <a:ext cx="4546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нутреннее строение зуба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2808360" cy="38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2268000" y="148428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2276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14842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268000" y="234936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000" y="306864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360" y="2349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3213000"/>
            <a:ext cx="11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68000" y="450864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321300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2920" y="15764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258444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е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35924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788000" y="1412640"/>
            <a:ext cx="1655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24560" y="119700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м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32360" y="2276640"/>
            <a:ext cx="151128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52920" y="22240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н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2924280"/>
            <a:ext cx="165744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80200" y="299736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ль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4365720"/>
            <a:ext cx="122400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51480" y="429264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4941720"/>
            <a:ext cx="28728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627280" y="5661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5321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р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5084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7280" y="5661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43440" y="539280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овеносные сосу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Чистить зубы перед сном и утром зубной пастой или порош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еды необходимо прополаскивать р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 в коем случае не следует грызть твердые предм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льзя после приема горячей пищи пить холодную воду или есть морожен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следует перегрызать нитки зуб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 Большой вред зубам и деснам наносит никотин, выделяющийся во время кур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619280" y="404640"/>
            <a:ext cx="5334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 ухода за зубами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332000" y="476280"/>
            <a:ext cx="6002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щепление крахмала в ротовой полости.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453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/З Текст стр. 152-15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 выбор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ставить кроссворд по этой теме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исать пословицы и  поговорки связанные с пищеварением в ротовой пол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адки о органах ротовой пол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0:28:11Z</dcterms:created>
  <dc:creator>Вилена</dc:creator>
  <dc:description/>
  <dc:language>en-US</dc:language>
  <cp:lastModifiedBy>Вилена</cp:lastModifiedBy>
  <dcterms:modified xsi:type="dcterms:W3CDTF">2008-03-16T16:19:11Z</dcterms:modified>
  <cp:revision>6</cp:revision>
  <dc:subject/>
  <dc:title>Слайд 1</dc:title>
</cp:coreProperties>
</file>