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4.gif" ContentType="image/gif"/>
  <Override PartName="/ppt/media/image1.jpeg" ContentType="image/jpeg"/>
  <Override PartName="/ppt/media/image20.gif" ContentType="image/gif"/>
  <Override PartName="/ppt/media/image19.png" ContentType="image/png"/>
  <Override PartName="/ppt/media/image18.wmf" ContentType="image/x-wmf"/>
  <Override PartName="/ppt/media/image15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EC4-14D3-4F5B-AC06-0833D5DF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433-7419-4B24-99D6-4BD3B98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8F2-8107-4832-A9C5-640D67E4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221-BB7C-43D9-A57B-F3570662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2BB-97E3-4F73-9ABD-CAB27C89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BC6-A29F-40AE-8297-80C566A6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834-2E31-4440-B636-14EAA78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03D-082C-4EFD-97BF-AA1BCD03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1FD-B5C4-44D4-A055-8284570E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CD7-9960-453C-9D14-C582D0E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9EC-52F9-4590-B651-05E8B63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D5F-69F3-4A79-BF9B-AAE9DEEA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C806-4BD4-4F9E-B273-AEE5E1C9CC05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audio" Target="file:///tmp/home/.config/libreoffice/4/user/gallery/&#1040;&#1074;&#1090;&#1086;&#1084;&#1086;&#1073;&#1080;&#1083;&#1080;.wav" TargetMode="External"/><Relationship Id="rId8" Type="http://schemas.microsoft.com/office/2007/relationships/media" Target="file:///tmp/home/.config/libreoffice/4/user/gallery/&#1040;&#1074;&#1090;&#1086;&#1084;&#1086;&#1073;&#1080;&#1083;&#1080;.wav" TargetMode="Externa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658800"/>
            <a:ext cx="74372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ПОДВЕДЁМ ИТОГ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074240" y="1812960"/>
            <a:ext cx="774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годня на уроке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Я узна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годня на уроке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Я научил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Constantia"/>
              </a:rPr>
              <a:t>Перевод баллов в оценку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балла –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аллов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баллов – 2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балл </a:t>
            </a:r>
            <a:r>
              <a:rPr b="0" lang="ru-RU" sz="3200" spc="-1" strike="noStrike">
                <a:solidFill>
                  <a:srgbClr val="33cc33"/>
                </a:solidFill>
                <a:latin typeface="Constantia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баллов – 1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баллов </a:t>
            </a:r>
            <a:r>
              <a:rPr b="0" lang="ru-RU" sz="3200" spc="-1" strike="noStrike">
                <a:solidFill>
                  <a:srgbClr val="800080"/>
                </a:solidFill>
                <a:latin typeface="Constantia"/>
              </a:rPr>
              <a:t>«3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 уровень - 319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 уровень – 318, 320(г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 уровень – 317, 328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7"/>
          <p:cNvSpPr txBox="1"/>
          <p:nvPr/>
        </p:nvSpPr>
        <p:spPr>
          <a:xfrm>
            <a:off x="395280" y="1989000"/>
            <a:ext cx="8064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нкции в пословицах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1f497d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«Как аукнется, так и откликнется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Picture 4" descr="SO00289_"/>
          <p:cNvPicPr/>
          <p:nvPr/>
        </p:nvPicPr>
        <p:blipFill>
          <a:blip r:embed="rId2"/>
          <a:stretch/>
        </p:blipFill>
        <p:spPr>
          <a:xfrm>
            <a:off x="7524720" y="1773360"/>
            <a:ext cx="1436760" cy="2232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PE00272_"/>
          <p:cNvPicPr/>
          <p:nvPr/>
        </p:nvPicPr>
        <p:blipFill>
          <a:blip r:embed="rId3"/>
          <a:stretch/>
        </p:blipFill>
        <p:spPr>
          <a:xfrm>
            <a:off x="0" y="4525920"/>
            <a:ext cx="2071800" cy="2332080"/>
          </a:xfrm>
          <a:prstGeom prst="rect">
            <a:avLst/>
          </a:prstGeom>
          <a:ln w="0">
            <a:noFill/>
          </a:ln>
        </p:spPr>
      </p:pic>
      <p:sp>
        <p:nvSpPr>
          <p:cNvPr id="154" name="Line 9"/>
          <p:cNvSpPr/>
          <p:nvPr/>
        </p:nvSpPr>
        <p:spPr>
          <a:xfrm flipV="1">
            <a:off x="4284720" y="2420640"/>
            <a:ext cx="0" cy="338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2556000" y="3933720"/>
            <a:ext cx="396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H="1">
            <a:off x="2700000" y="2349360"/>
            <a:ext cx="3095640" cy="324036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572000" y="522936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-ответ на пост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716360" y="479736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-поступки(добрые, зл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588000" y="37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4140360" y="1989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«Чем дальше в лес, тем больше дров.»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4356000" y="2060640"/>
            <a:ext cx="3167280" cy="1546200"/>
            <a:chOff x="4356000" y="2060640"/>
            <a:chExt cx="3167280" cy="1546200"/>
          </a:xfrm>
        </p:grpSpPr>
        <p:sp>
          <p:nvSpPr>
            <p:cNvPr id="163" name="Text Box 4"/>
            <p:cNvSpPr/>
            <p:nvPr/>
          </p:nvSpPr>
          <p:spPr>
            <a:xfrm>
              <a:off x="4356000" y="206064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Где х – расстояние в ле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4427640" y="2781360"/>
              <a:ext cx="30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Где у – количество др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8"/>
          <p:cNvSpPr/>
          <p:nvPr/>
        </p:nvSpPr>
        <p:spPr>
          <a:xfrm>
            <a:off x="900000" y="4076640"/>
            <a:ext cx="308772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2268360" y="2637000"/>
            <a:ext cx="0" cy="28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468360" y="2060640"/>
            <a:ext cx="0" cy="381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68360" y="2060640"/>
            <a:ext cx="3806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4284720" y="2060640"/>
            <a:ext cx="0" cy="381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68360" y="5877000"/>
            <a:ext cx="3806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3708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124000" y="234936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9" descr="SO02067_"/>
          <p:cNvPicPr/>
          <p:nvPr/>
        </p:nvPicPr>
        <p:blipFill>
          <a:blip r:embed="rId2"/>
          <a:stretch/>
        </p:blipFill>
        <p:spPr>
          <a:xfrm>
            <a:off x="5580000" y="3213000"/>
            <a:ext cx="3076560" cy="3468960"/>
          </a:xfrm>
          <a:prstGeom prst="rect">
            <a:avLst/>
          </a:prstGeom>
          <a:ln w="0">
            <a:noFill/>
          </a:ln>
        </p:spPr>
      </p:pic>
      <p:sp>
        <p:nvSpPr>
          <p:cNvPr id="174" name="Line 30"/>
          <p:cNvSpPr/>
          <p:nvPr/>
        </p:nvSpPr>
        <p:spPr>
          <a:xfrm flipH="1">
            <a:off x="2268360" y="2708280"/>
            <a:ext cx="1151280" cy="136836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« Кто любит трудиться, тому есть чем гордиться.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76" name="Прямая со стрелкой 6"/>
          <p:cNvCxnSpPr/>
          <p:nvPr/>
        </p:nvCxnSpPr>
        <p:spPr>
          <a:xfrm flipV="1">
            <a:off x="2049840" y="2420280"/>
            <a:ext cx="2520" cy="3359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Прямая со стрелкой 8"/>
          <p:cNvCxnSpPr/>
          <p:nvPr/>
        </p:nvCxnSpPr>
        <p:spPr>
          <a:xfrm>
            <a:off x="1142640" y="5143680"/>
            <a:ext cx="478692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TextBox 9"/>
          <p:cNvSpPr/>
          <p:nvPr/>
        </p:nvSpPr>
        <p:spPr>
          <a:xfrm>
            <a:off x="1571760" y="2000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о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5786280" y="5214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 стрелкой 12"/>
          <p:cNvCxnSpPr/>
          <p:nvPr/>
        </p:nvCxnSpPr>
        <p:spPr>
          <a:xfrm flipV="1">
            <a:off x="2050920" y="2565000"/>
            <a:ext cx="2501280" cy="2572560"/>
          </a:xfrm>
          <a:prstGeom prst="straightConnector1">
            <a:avLst/>
          </a:prstGeom>
          <a:ln w="57240">
            <a:solidFill>
              <a:srgbClr val="c0504d"/>
            </a:solidFill>
            <a:miter/>
          </a:ln>
        </p:spPr>
      </p:cxnSp>
      <p:pic>
        <p:nvPicPr>
          <p:cNvPr id="181" name="Picture 11" descr="AG00038_"/>
          <p:cNvPicPr/>
          <p:nvPr/>
        </p:nvPicPr>
        <p:blipFill>
          <a:blip r:embed="rId2"/>
          <a:stretch/>
        </p:blipFill>
        <p:spPr>
          <a:xfrm>
            <a:off x="5580000" y="2349360"/>
            <a:ext cx="324324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68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68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6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68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« Что на уме, то на языке.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83" name="Group 13"/>
          <p:cNvGrpSpPr/>
          <p:nvPr/>
        </p:nvGrpSpPr>
        <p:grpSpPr>
          <a:xfrm>
            <a:off x="2124000" y="2205000"/>
            <a:ext cx="5500800" cy="3929040"/>
            <a:chOff x="2124000" y="2205000"/>
            <a:chExt cx="5500800" cy="3929040"/>
          </a:xfrm>
        </p:grpSpPr>
        <p:cxnSp>
          <p:nvCxnSpPr>
            <p:cNvPr id="184" name="Прямая со стрелкой 4"/>
            <p:cNvCxnSpPr/>
            <p:nvPr/>
          </p:nvCxnSpPr>
          <p:spPr>
            <a:xfrm flipH="1" flipV="1">
              <a:off x="3266640" y="2561760"/>
              <a:ext cx="72000" cy="35726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Прямая со стрелкой 6"/>
            <p:cNvCxnSpPr/>
            <p:nvPr/>
          </p:nvCxnSpPr>
          <p:spPr>
            <a:xfrm>
              <a:off x="2124000" y="5562720"/>
              <a:ext cx="492984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" name="TextBox 7"/>
            <p:cNvSpPr/>
            <p:nvPr/>
          </p:nvSpPr>
          <p:spPr>
            <a:xfrm>
              <a:off x="2766960" y="220500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язы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8"/>
            <p:cNvSpPr/>
            <p:nvPr/>
          </p:nvSpPr>
          <p:spPr>
            <a:xfrm>
              <a:off x="6838920" y="563400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у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ая соединительная линия 10"/>
            <p:cNvSpPr/>
            <p:nvPr/>
          </p:nvSpPr>
          <p:spPr>
            <a:xfrm flipV="1">
              <a:off x="3337560" y="3348000"/>
              <a:ext cx="2000520" cy="2214720"/>
            </a:xfrm>
            <a:prstGeom prst="line">
              <a:avLst/>
            </a:prstGeom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Соединительная линия уступом 12"/>
            <p:cNvCxnSpPr/>
            <p:nvPr/>
          </p:nvCxnSpPr>
          <p:spPr>
            <a:xfrm>
              <a:off x="3337920" y="4919760"/>
              <a:ext cx="1143720" cy="6433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c0504d"/>
              </a:solidFill>
              <a:miter/>
            </a:ln>
          </p:spPr>
        </p:cxnSp>
        <p:cxnSp>
          <p:nvCxnSpPr>
            <p:cNvPr id="190" name="Соединительная линия уступом 14"/>
            <p:cNvCxnSpPr/>
            <p:nvPr/>
          </p:nvCxnSpPr>
          <p:spPr>
            <a:xfrm>
              <a:off x="3338280" y="4348080"/>
              <a:ext cx="2215440" cy="1215360"/>
            </a:xfrm>
            <a:prstGeom prst="bentConnector3">
              <a:avLst>
                <a:gd name="adj1" fmla="val 49991"/>
              </a:avLst>
            </a:prstGeom>
            <a:ln w="57240">
              <a:solidFill>
                <a:srgbClr val="c0504d"/>
              </a:solidFill>
              <a:miter/>
            </a:ln>
          </p:spPr>
        </p:cxnSp>
        <p:sp>
          <p:nvSpPr>
            <p:cNvPr id="191" name="Овал 15"/>
            <p:cNvSpPr/>
            <p:nvPr/>
          </p:nvSpPr>
          <p:spPr>
            <a:xfrm>
              <a:off x="3838320" y="4848120"/>
              <a:ext cx="142920" cy="142920"/>
            </a:xfrm>
            <a:prstGeom prst="ellipse">
              <a:avLst/>
            </a:prstGeom>
            <a:solidFill>
              <a:srgbClr val="4f81bd"/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Овал 16"/>
            <p:cNvSpPr/>
            <p:nvPr/>
          </p:nvSpPr>
          <p:spPr>
            <a:xfrm>
              <a:off x="4338360" y="42768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18" descr="J0285792"/>
          <p:cNvPicPr/>
          <p:nvPr/>
        </p:nvPicPr>
        <p:blipFill>
          <a:blip r:embed="rId2"/>
          <a:stretch/>
        </p:blipFill>
        <p:spPr>
          <a:xfrm>
            <a:off x="6819840" y="1989000"/>
            <a:ext cx="191628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3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5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772400" cy="1628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«Без труда не вынешь и рыбки из пруда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200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Х-количество  затраченного    труд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-количество  полученного  продукт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4" descr="J0297725"/>
          <p:cNvPicPr/>
          <p:nvPr/>
        </p:nvPicPr>
        <p:blipFill>
          <a:blip r:embed="rId2"/>
          <a:stretch/>
        </p:blipFill>
        <p:spPr>
          <a:xfrm>
            <a:off x="5292720" y="3646440"/>
            <a:ext cx="3527280" cy="2935440"/>
          </a:xfrm>
          <a:prstGeom prst="rect">
            <a:avLst/>
          </a:prstGeom>
          <a:ln w="0">
            <a:noFill/>
          </a:ln>
        </p:spPr>
      </p:pic>
      <p:sp>
        <p:nvSpPr>
          <p:cNvPr id="197" name="Line 6"/>
          <p:cNvSpPr/>
          <p:nvPr/>
        </p:nvSpPr>
        <p:spPr>
          <a:xfrm flipV="1">
            <a:off x="2643120" y="3332160"/>
            <a:ext cx="0" cy="32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785880" y="507204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714760" y="30718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572000" y="4786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 flipV="1">
            <a:off x="2643120" y="3344760"/>
            <a:ext cx="1800360" cy="1727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«В одно ухо влетело, в другое вылетело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Line 4"/>
          <p:cNvSpPr/>
          <p:nvPr/>
        </p:nvSpPr>
        <p:spPr>
          <a:xfrm flipV="1">
            <a:off x="2484360" y="2420640"/>
            <a:ext cx="0" cy="28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1619280" y="4797360"/>
            <a:ext cx="40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248436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V="1">
            <a:off x="2484360" y="2707920"/>
            <a:ext cx="2087640" cy="208908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700360" y="19162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-количество потерян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292720" y="40053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-количество получен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644560" y="1071720"/>
            <a:ext cx="321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у = 2 х +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88440" y="221472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269440" y="2143080"/>
            <a:ext cx="403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185000" y="2143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494720" y="221472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031440" y="2071800"/>
            <a:ext cx="31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0 +3 =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214800" y="307188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(0 ;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531360" y="4429080"/>
            <a:ext cx="11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2198160" y="4357800"/>
            <a:ext cx="40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у = 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     +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1549080" y="442908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4113720" y="4429080"/>
            <a:ext cx="5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141240" y="428616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= 4+3 =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458880" y="5429160"/>
            <a:ext cx="17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(2 ;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357120" y="35712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рав  значение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аргумента), можно легко вычислить значение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фун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0.0044 L 0.30538 -0.00602 E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1 0.00671 L 0.27621 0.00671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«Ум хорошо, а два лучше»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Line 4"/>
          <p:cNvSpPr/>
          <p:nvPr/>
        </p:nvSpPr>
        <p:spPr>
          <a:xfrm flipV="1">
            <a:off x="2340000" y="1844280"/>
            <a:ext cx="0" cy="352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1619280" y="4724280"/>
            <a:ext cx="46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3203640" y="3789360"/>
            <a:ext cx="21744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0" y="1628640"/>
            <a:ext cx="23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-количество идей, замы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508720" y="4292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-количество 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4"/>
          <p:cNvSpPr/>
          <p:nvPr/>
        </p:nvSpPr>
        <p:spPr>
          <a:xfrm>
            <a:off x="3924360" y="2924280"/>
            <a:ext cx="217440" cy="215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>
            <a:off x="2340000" y="39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327672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3348000" y="4005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234000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3"/>
          <p:cNvSpPr/>
          <p:nvPr/>
        </p:nvSpPr>
        <p:spPr>
          <a:xfrm>
            <a:off x="4067280" y="3141720"/>
            <a:ext cx="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3203640" y="47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392436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2" descr="J0200279"/>
          <p:cNvPicPr/>
          <p:nvPr/>
        </p:nvPicPr>
        <p:blipFill>
          <a:blip r:embed="rId2"/>
          <a:stretch/>
        </p:blipFill>
        <p:spPr>
          <a:xfrm>
            <a:off x="6276960" y="1484280"/>
            <a:ext cx="242244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У русского народа, как у любого другого, существует бесчисленное множество пословиц ,поговорок, загадок. Они создавались и накапливались народом в течении многовековой его истории они отражают его жизнь, условия труда ,культуру и т.д.и являются его духовным достоянием. Они отражают взаимосвязи существующие между различными жизненными категориями(объектами) т.е.фактически являются отражениями функциональных зависимостей и доказывают ,что функция - это сама жизнь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4" descr=""/>
          <p:cNvPicPr/>
          <p:nvPr/>
        </p:nvPicPr>
        <p:blipFill>
          <a:blip r:embed="rId2"/>
          <a:stretch/>
        </p:blipFill>
        <p:spPr>
          <a:xfrm>
            <a:off x="1547640" y="884160"/>
            <a:ext cx="6548760" cy="2779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01b1848c8c3bd904634b7622259b2e7f.gif"/>
          <p:cNvPicPr/>
          <p:nvPr/>
        </p:nvPicPr>
        <p:blipFill>
          <a:blip r:embed="rId3"/>
          <a:stretch/>
        </p:blipFill>
        <p:spPr>
          <a:xfrm>
            <a:off x="3500280" y="40719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57120" y="35712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афиком линейной функции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y = kx + b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является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прямая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28760" y="1428840"/>
          <a:ext cx="8072280" cy="1158840"/>
        </p:xfrm>
        <a:graphic>
          <a:graphicData uri="http://schemas.openxmlformats.org/drawingml/2006/table">
            <a:tbl>
              <a:tblPr/>
              <a:tblGrid>
                <a:gridCol w="1346040"/>
                <a:gridCol w="1344600"/>
                <a:gridCol w="1346400"/>
                <a:gridCol w="1344600"/>
                <a:gridCol w="1346040"/>
                <a:gridCol w="1344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Прямоугольник 3"/>
          <p:cNvSpPr/>
          <p:nvPr/>
        </p:nvSpPr>
        <p:spPr>
          <a:xfrm>
            <a:off x="280080" y="3143160"/>
            <a:ext cx="25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y = 3x +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346560" y="2643120"/>
            <a:ext cx="4797360" cy="4214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139480" y="200016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507204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7"/>
          <p:cNvSpPr/>
          <p:nvPr/>
        </p:nvSpPr>
        <p:spPr>
          <a:xfrm>
            <a:off x="5429160" y="471492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564372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9"/>
          <p:cNvSpPr/>
          <p:nvPr/>
        </p:nvSpPr>
        <p:spPr>
          <a:xfrm>
            <a:off x="600084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0"/>
          <p:cNvSpPr/>
          <p:nvPr/>
        </p:nvSpPr>
        <p:spPr>
          <a:xfrm>
            <a:off x="6286680" y="464328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570120" y="207180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495324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 flipH="1">
            <a:off x="6357960" y="192888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7632000" y="20001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8"/>
          <p:cNvSpPr/>
          <p:nvPr/>
        </p:nvSpPr>
        <p:spPr>
          <a:xfrm flipH="1">
            <a:off x="4857480" y="2714760"/>
            <a:ext cx="1428840" cy="414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8.33333E-007 0.19953 E">
                                      <p:cBhvr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00313 0.08033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4.44444E-006 -0.0419 E">
                                      <p:cBhvr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4.72222E-006 -0.16111 E">
                                      <p:cBhvr>
                                        <p:cTn id="15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0226 -0.28727 E">
                                      <p:cBhvr>
                                        <p:cTn id="17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143000" y="50004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Через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две  точки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можно  провести только 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одну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прямую  ли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264312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5715000" y="30718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5"/>
          <p:cNvSpPr/>
          <p:nvPr/>
        </p:nvSpPr>
        <p:spPr>
          <a:xfrm flipV="1">
            <a:off x="357120" y="2214720"/>
            <a:ext cx="8286840" cy="264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71680" y="54291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построения графика линейной функции достаточно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двух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точ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8" name="Прямоугольник 4"/>
          <p:cNvSpPr/>
          <p:nvPr/>
        </p:nvSpPr>
        <p:spPr>
          <a:xfrm>
            <a:off x="-123120" y="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-2х 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995400" y="92880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63944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1049760" y="164304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17190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9"/>
          <p:cNvSpPr/>
          <p:nvPr/>
        </p:nvSpPr>
        <p:spPr>
          <a:xfrm>
            <a:off x="55008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0"/>
          <p:cNvSpPr/>
          <p:nvPr/>
        </p:nvSpPr>
        <p:spPr>
          <a:xfrm>
            <a:off x="4643280" y="121428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2"/>
          <p:cNvSpPr/>
          <p:nvPr/>
        </p:nvSpPr>
        <p:spPr>
          <a:xfrm flipH="1" flipV="1">
            <a:off x="4285800" y="428760"/>
            <a:ext cx="3000600" cy="60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070000" y="357120"/>
            <a:ext cx="7074000" cy="621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0" y="100008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-84240" y="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2х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997920" y="9288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63640" y="92880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851760" y="1571760"/>
            <a:ext cx="6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1791000" y="157176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5500800" y="5429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9"/>
          <p:cNvSpPr/>
          <p:nvPr/>
        </p:nvSpPr>
        <p:spPr>
          <a:xfrm>
            <a:off x="6715080" y="2928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3"/>
          <p:cNvSpPr/>
          <p:nvPr/>
        </p:nvSpPr>
        <p:spPr>
          <a:xfrm flipV="1">
            <a:off x="5142960" y="428760"/>
            <a:ext cx="2928600" cy="5929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gin.gif"/>
          <p:cNvPicPr/>
          <p:nvPr/>
        </p:nvPicPr>
        <p:blipFill>
          <a:blip r:embed="rId2"/>
          <a:stretch/>
        </p:blipFill>
        <p:spPr>
          <a:xfrm>
            <a:off x="-500040" y="2000160"/>
            <a:ext cx="45720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97" name="Выноска-облако 4"/>
          <p:cNvGrpSpPr/>
          <p:nvPr/>
        </p:nvGrpSpPr>
        <p:grpSpPr>
          <a:xfrm>
            <a:off x="1474920" y="-12600"/>
            <a:ext cx="7480080" cy="3120840"/>
            <a:chOff x="1474920" y="-12600"/>
            <a:chExt cx="7480080" cy="3120840"/>
          </a:xfrm>
        </p:grpSpPr>
        <p:pic>
          <p:nvPicPr>
            <p:cNvPr id="98" name="Выноска-облако 4" descr=""/>
            <p:cNvPicPr/>
            <p:nvPr/>
          </p:nvPicPr>
          <p:blipFill>
            <a:blip r:embed="rId3"/>
            <a:stretch/>
          </p:blipFill>
          <p:spPr>
            <a:xfrm>
              <a:off x="1474920" y="-12600"/>
              <a:ext cx="748008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523960" y="372960"/>
              <a:ext cx="4853160" cy="16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17375e"/>
                  </a:solidFill>
                  <a:latin typeface="Constantia"/>
                </a:rPr>
                <a:t>Совет: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6"/>
          <p:cNvSpPr/>
          <p:nvPr/>
        </p:nvSpPr>
        <p:spPr>
          <a:xfrm>
            <a:off x="3357720" y="3214800"/>
            <a:ext cx="535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график линейной функции был построен точно, можно взять дополнительную то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7803_1"/>
          <p:cNvPicPr/>
          <p:nvPr/>
        </p:nvPicPr>
        <p:blipFill>
          <a:blip r:embed="rId2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47631big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otor_max_250_0025"/>
          <p:cNvPicPr/>
          <p:nvPr/>
        </p:nvPicPr>
        <p:blipFill>
          <a:blip r:embed="rId4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ZP3199"/>
          <p:cNvPicPr/>
          <p:nvPr/>
        </p:nvPicPr>
        <p:blipFill>
          <a:blip r:embed="rId5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ZP3299"/>
          <p:cNvPicPr/>
          <p:nvPr/>
        </p:nvPicPr>
        <p:blipFill>
          <a:blip r:embed="rId6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309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31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321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9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36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36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314440" y="857160"/>
            <a:ext cx="6829560" cy="60008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37520" y="0"/>
            <a:ext cx="25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-3х + </a:t>
            </a:r>
            <a:r>
              <a:rPr b="0" lang="en-US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07172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5" name="Прямоугольник 4"/>
          <p:cNvSpPr/>
          <p:nvPr/>
        </p:nvSpPr>
        <p:spPr>
          <a:xfrm>
            <a:off x="-71640" y="24289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х + </a:t>
            </a:r>
            <a:r>
              <a:rPr b="0" lang="en-US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-83160" y="464328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у = 2х + </a:t>
            </a:r>
            <a:r>
              <a:rPr b="0" lang="en-US" sz="4000" spc="-1" strike="noStrike">
                <a:solidFill>
                  <a:srgbClr val="cc00cc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3214800"/>
          <a:ext cx="2428920" cy="134136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5286240"/>
          <a:ext cx="2428920" cy="134172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8"/>
          <p:cNvSpPr/>
          <p:nvPr/>
        </p:nvSpPr>
        <p:spPr>
          <a:xfrm>
            <a:off x="890280" y="1071720"/>
            <a:ext cx="5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98676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783800" y="10717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1782000" y="17859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2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4"/>
          <p:cNvSpPr/>
          <p:nvPr/>
        </p:nvSpPr>
        <p:spPr>
          <a:xfrm>
            <a:off x="5214960" y="857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5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6"/>
          <p:cNvSpPr/>
          <p:nvPr/>
        </p:nvSpPr>
        <p:spPr>
          <a:xfrm>
            <a:off x="6429240" y="1285920"/>
            <a:ext cx="142920" cy="142920"/>
          </a:xfrm>
          <a:prstGeom prst="ellips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7"/>
          <p:cNvSpPr/>
          <p:nvPr/>
        </p:nvSpPr>
        <p:spPr>
          <a:xfrm>
            <a:off x="6000840" y="12859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8"/>
          <p:cNvSpPr/>
          <p:nvPr/>
        </p:nvSpPr>
        <p:spPr>
          <a:xfrm>
            <a:off x="5643720" y="2071800"/>
            <a:ext cx="142560" cy="1429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20"/>
          <p:cNvSpPr/>
          <p:nvPr/>
        </p:nvSpPr>
        <p:spPr>
          <a:xfrm flipH="1" flipV="1">
            <a:off x="5336640" y="877680"/>
            <a:ext cx="1878120" cy="5979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928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92664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1774080" y="321480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1785960" y="39290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7"/>
          <p:cNvSpPr/>
          <p:nvPr/>
        </p:nvSpPr>
        <p:spPr>
          <a:xfrm flipV="1">
            <a:off x="2357280" y="999720"/>
            <a:ext cx="4500720" cy="442908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8"/>
          <p:cNvSpPr/>
          <p:nvPr/>
        </p:nvSpPr>
        <p:spPr>
          <a:xfrm>
            <a:off x="107100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9"/>
          <p:cNvSpPr/>
          <p:nvPr/>
        </p:nvSpPr>
        <p:spPr>
          <a:xfrm>
            <a:off x="99792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1809720" y="52862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1"/>
          <p:cNvSpPr/>
          <p:nvPr/>
        </p:nvSpPr>
        <p:spPr>
          <a:xfrm>
            <a:off x="1785960" y="60008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33"/>
          <p:cNvSpPr/>
          <p:nvPr/>
        </p:nvSpPr>
        <p:spPr>
          <a:xfrm flipV="1">
            <a:off x="3357720" y="928800"/>
            <a:ext cx="2928960" cy="59292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5137560" y="1428840"/>
            <a:ext cx="5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36"/>
          <p:cNvCxnSpPr/>
          <p:nvPr/>
        </p:nvCxnSpPr>
        <p:spPr>
          <a:xfrm flipH="1" flipV="1">
            <a:off x="2571480" y="499320"/>
            <a:ext cx="271512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Прямая со стрелкой 38"/>
          <p:cNvCxnSpPr>
            <a:endCxn id="115" idx="3"/>
          </p:cNvCxnSpPr>
          <p:nvPr/>
        </p:nvCxnSpPr>
        <p:spPr>
          <a:xfrm flipH="1">
            <a:off x="1996200" y="2070720"/>
            <a:ext cx="3218760" cy="711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Прямая со стрелкой 40"/>
          <p:cNvCxnSpPr/>
          <p:nvPr/>
        </p:nvCxnSpPr>
        <p:spPr>
          <a:xfrm flipH="1">
            <a:off x="2214360" y="2071440"/>
            <a:ext cx="3072240" cy="307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6:44:02Z</dcterms:created>
  <dc:creator>3</dc:creator>
  <dc:description/>
  <dc:language>en-US</dc:language>
  <cp:lastModifiedBy>Zver</cp:lastModifiedBy>
  <dcterms:modified xsi:type="dcterms:W3CDTF">2010-10-20T21:03:23Z</dcterms:modified>
  <cp:revision>33</cp:revision>
  <dc:subject/>
  <dc:title>Слайд 1</dc:title>
</cp:coreProperties>
</file>