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030-229E-4CEE-BEDA-CF9EFE55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F15-687F-4C52-8EB8-D8C6E1D9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5DC-3FD3-4E4D-BD2F-D8534EA2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423-E594-45C6-B624-A2DC0500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1D58-AAF6-477C-9DFF-708487BA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D11D-2B57-48D1-8284-2208F2D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8C67-E87E-4CE8-9B80-7CF77079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6291-3574-4506-A7EE-188B8A8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5761-90A1-4280-91CB-6D21641A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AADC-88CA-4000-BCC5-717FB9BA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7D5D-4B7E-44B0-B3CF-9C5A082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7F5-8F06-4403-8AEF-9614E235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58F-842C-492E-AF5B-397F26AC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B73D-D4D2-4F57-B916-D6CD975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971-5207-4B7B-95C8-7CE85155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617-BA53-4EDF-A603-DA88828C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8832-E4AA-46C3-AC67-503D41C7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CA40D-5FD6-4B5D-A7B8-C2A16A18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9CE2A-CC46-4910-A1CC-4CCCD64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DACC6-8DF8-4D85-80BE-580BFE2D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28445-25CB-40BC-A4FE-44302A7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BC80A-37CF-4CA5-B86F-A33301B9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FCB-8764-47E1-8BB4-BD38CA79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4063A-D5BF-4591-AC50-C6D5653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A4F31-57CA-4D3D-B36C-9CF6299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91D94-4440-4C57-A427-1AB3D33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C10D6-9CF0-4128-A9C3-1757D58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75AF1-A4D9-4D25-9E20-CF64518C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3C40C-855E-427E-A17A-C4BEB4FF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BA4F3-9765-45F3-91F9-ABCBF2CE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715B-8E88-4690-99DC-BBBEB177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3C01-C084-4E48-B555-CC94D80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AE49-283C-4707-955F-3FBF7A1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44A-7868-4557-BE72-9A8F5682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746E-BB52-49CB-9EEF-25F0340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6491-CF95-48FD-A7A0-3A8DF450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09ED-8B6F-4B29-A89A-25ABC67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0288F-173A-42F2-AAAD-3CE7987E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2E6F-A66B-4E5E-B0A9-72AB849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CEEE-FD07-4BD3-B868-5E901A2C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A95D-2EE2-40D5-80CF-5434F6E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6225-41E3-44C5-BD92-C00433E1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285C-9D1B-4FB5-8801-344CA368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1FD83-FC59-4F6D-AE32-4EB3817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23C-C491-4F92-92C6-00615C5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F19F8-2ADE-40A1-A546-EAEDEDC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C8147-7A87-439C-8562-A446CF37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4431B-AD70-400D-B650-7D7B910A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C655E-DEF4-44E6-8D27-24E4D5AD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88AE9-F06A-4297-9F3D-BC78A6B8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C6D8D-7AD5-4366-81C6-A2609E8E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1965C-6E02-4944-A658-6F4AE6B0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512DE-7F15-4570-9604-BF9EBE5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A12D3-78DB-4383-B47C-C5DE8FFC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184A6-9361-4C5B-A311-E899EB7E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A3D-D2A7-4D67-8F03-5FC6EFCF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83E5B-4D24-4049-9901-78CA2B03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36105-8AE1-42AC-A02E-39E8348E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21177-A8D0-4AE3-84CF-B50369F3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0654B-80F4-40FC-A746-2701A5AD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72ACE-B868-4D9A-92F5-528AE851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945CA-61C3-44D2-8185-F276631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A87CF-1318-4343-949A-487FCBF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C5D0F-77E9-4115-85B6-EC4B486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1305B-096B-4A35-A250-B557FA8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C3268-CA02-4611-B076-6949552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AE5-5981-4F74-BF61-CB7B66DD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BA443-440E-45B3-A47A-11A3B538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FB399-FBBD-4A07-BE8B-F3A1FBAB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A2B3D-81EB-40A8-B37A-FF920DDE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B9147-6B2C-4078-9542-18496EA3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C72AF-10F5-4D1E-825D-67E28DB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34775-402D-492B-BBE9-BBF1A6C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99498-316E-4484-8D4E-7216AD7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C8C3C-705E-4AF0-A3A3-B639EDD0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20D3C-0583-4D63-9108-DB9DFBB2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AE652-999B-43A7-B19B-B90BFE9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94A-E50E-4B4E-A4DF-56E5F63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CC472-0483-476F-A9FF-F953E4A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F8041-2BD9-4B0A-9D27-B36AB3B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43BC9-A24B-4310-BF55-82784946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67BE1-86EA-482C-92EC-90397B6A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D9496-CD15-4807-8397-C8E10469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B46-EACD-4AFC-AE7B-C9DC78E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CF8F-95E8-4F05-BB02-705159CFE2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A038-4DEB-40B6-8C9B-0410D28AA4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F73B-BA1A-4538-8A59-F0850C5DAE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A18A-60B6-40AF-899C-9939865978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5D5A-EA86-469F-8D5A-3CECC4B885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F0F-5A6F-4C5B-8DE2-6F3ECD1DA3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D13-0EE9-4A46-B3F5-B10AFA191F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61722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ПРАВ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ОБЯЗАННОСТ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86040" y="5428800"/>
            <a:ext cx="6215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Атаманова Юлия Юр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АОУ «СОШ №15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ород Губаха, Перм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571920" y="20001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ЕСЛИ УЧЕНИК ИСПОРТИЛ ДОБРЫЕ ОТНОШЕНИЯ С УЧИТЕЛЕМ, МОГУТ ЛИ ЕГО ОТЧИСЛИТЬ ИЗ КЛАССА (ШКОЛЫ)?</a:t>
            </a:r>
            <a:r>
              <a:rPr b="0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1599840"/>
            <a:ext cx="856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Испорченные с учителем отношения - это не повод для отчисления ученика из класса и, тем более, школы. Перевод учащегося из одного класса параллели в другой производится только с согласия родителей или по их просьбе. Напомню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Calibri"/>
              </a:rPr>
              <a:t>в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, что мнение ребенка, достигшего десятилетнего возраста, обязательно должно быть учтено при решении вопроса, затрагивающего его интересы. А исключить из школы можно только за совершение противоправных действий, грубых и неоднократных нарушений Устава школы и только того, кому уже исполнилось четырнадцать лет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Verdana"/>
                <a:ea typeface="Calibri"/>
              </a:rPr>
              <a:t>ИМЕЕТ ЛИ ПРАВО УЧЕНИК НА ПЕРЕВОД ИЗ КЛАССА В КЛАСС?</a:t>
            </a:r>
            <a:r>
              <a:rPr b="0" lang="ru-RU" sz="2900" spc="-1" strike="noStrike">
                <a:solidFill>
                  <a:srgbClr val="ff0000"/>
                </a:solidFill>
                <a:latin typeface="Verdana"/>
                <a:ea typeface="Calibri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Да. Такой перевод осуществляется по письменному заявлению родителей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842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КТО МОЖЕТ ПЕРЕВЕСТИ УЧЕНИКА ИЗ КЛАССА В ДРУГОЙ КЛАСС ПАРАЛЛЕЛИ ИЛИ ИЗ ГРУППЫ В ГРУППУ?</a:t>
            </a:r>
            <a:r>
              <a:rPr b="0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3840" y="1557360"/>
            <a:ext cx="8624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Вопрос о переводе из класса в класс или из группы в группу (по иностранному языку) решается только директором школы с согласия или по заявлению родителей учащегося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835280" y="3757680"/>
            <a:ext cx="4321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ИМЕЕТ ЛИ ПРАВО ШКОЛА ВВОДИТЬ ПЛАТНЫЕ ОБРАЗОВАТЕЛЬНЫЕ УСЛУГИ?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Право организовывать платные дополнительные образовательные услуги школе предоставлено Законом Российской Федерации «Об образовании». Это могут быть различные кружки, спортивные секции, студии, курсы, занятия в которых не предусмотрены школьной программой. Вы имеете право воспользоваться этими услугами. Именно право, а не обязанность. Наша школа может оказывать платные образовательные услуги, так как имеет на это разрешение (лицензию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4500"/>
                </a:solidFill>
                <a:latin typeface="Verdana"/>
                <a:ea typeface="Times New Roman"/>
              </a:rPr>
              <a:t>ОБЯЗАНЫ ЛИ УЧИТЕЛЯ ЗАНИМАТЬСЯ ДОПОЛНИТЕЛЬНО С НЕУСПЕВАЮЩИМИ УЧАЩИМИСЯ ИЛИ ТЕМИ, КТО ПРОПУСКАЛ УРОКИ ПО БОЛЕЗНИ?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564000" y="1699920"/>
            <a:ext cx="5472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Заниматься дополнительно с неуспевающими или теми, кто пропустил уроки по болезни, - право, а не обязанность учител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Эта работа учителю не оплачивается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92160" y="3716280"/>
            <a:ext cx="3790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360" y="1412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ОБЯЗАН ЛИ УЧАЩИЙСЯ СИДЕТЬ В СПОРТИВНОМ ЗАЛЕ НА УРОКЕ ФИЗКУЛЬТУРЫ, ЕСЛИ ОН ОСВОБОЖДЕН ОТ ЗАНЯТИЙ ПО СОСТОЯНИЮ ЗДОРОВЬЯ НА НЕСКОЛЬКО ДНЕЙ И ИМЕЕТ ПОДТВЕРЖДАЮЩУЮ ЭТО МЕДИЦИНСКУЮ СПРАВКУ?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263700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Учащийся освобождается от занятий физической культурой, а не от присутствия на уроке. Школа несет ответственность за жизнь и здоровье учащихся в период пребывания их в школе, то есть в течение времени, отведенного на все уроки в данный день в соответствии с расписанием. Поэтому просто так разрешать ученику уходить с уроков неизвестно куда нельзя. Этот вопрос решается директором школы по заявлению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родителей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МОЖЕТ ЛИ УЧЕНИК ПОСЕЩАТЬ УРОКИ ДРУГОГО УЧИТЕЛЯ ПО ПРЕДМЕТУ?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Теоретически может. Но вот как сделать это практически, не пропуская уроков по расписанию в своем классе, посещение которых обязательно? Кроме того, необходимо получить согласие на это у самого учителя и директора школы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8000" y="980640"/>
            <a:ext cx="90360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ИМЕЕТ ЛИ ПРАВО УЧИТЕЛЬ ПОСТАВИТЬ УЧЕНИКУ ОЦЕНКУ «2» ЗА ТО, ЧТО ОН НЕ БЫЛ НА УРОКАХ? 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Любая оценка - показатель уровня знаний ученика по предмету, поэтому поставить двойку за отсутствие на уроке учитель не имеет права. Но если ученик пропустил урок без уважительных причин, а на уроке была проверочная работа, то оценка «2» может быть выставлена за фактически невыполненную работу.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560" y="333000"/>
            <a:ext cx="86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СУЩЕСТВУЕТ ЛИ ОЦЕНКА ПО ПОВЕДЕНИЮ? 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1280" y="1267920"/>
            <a:ext cx="81468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Официальной оценки по поведению в настоящее время нет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346480" y="2565360"/>
            <a:ext cx="396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ДОЛЖЕН ЛИ УЧИТЕЛЬ СООБЩАТЬ РОДИТЕЛЯМ О ПРОСТУПКАХ УЧЕНИКА, ДОПУЩЕННЫХ ИМ В ШКОЛЕ? 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1557360"/>
            <a:ext cx="8758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Родители ученика на основании закона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 Родители имеют преимущественное право на воспитание своих детей перед другими людьми. Из этого следует, что сообщать о проступках детей родителям учителя обязан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29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АНКЕТИРОВАНИЕ "КАКИЕ ВЫ РОДИТЕЛИ?"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3840" y="285480"/>
            <a:ext cx="8929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Часто ли мы задумываемся над тем, хорошие ли мы родители и справляемся ли с нашими обязанностями воспитателей?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так, какие мы родители? Проверьте себя, ответив на вопросы (да, нет, иногда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ледите ли вы за статьями в журналах, программами телевидения и радио по вопросам воспитания? Читаете ли время от времени книги на эту тему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аш ребенок совершил поступок. Задумываетесь ли вы в этом случае, не является ли его поведение результатом вашего воспитания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динодушны ли вы с вашим супругом в воспитании детей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спользуете ли вы форму запрета или приказа только тогда, когда это действительно необходимо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сли ребенок предлагает вам свою помощь, примете ли вы ее, когда это действительно необходимо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читаете ли вы, что последовательность есть один из основных педагогических принципов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7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знаете ли вы, что спорт и физкультура имеют большое значение для гармоничного развития ребенка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8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ознаете ли вы, что среда, окружающая ребенка, оказывает на него существенное влияние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9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Сумеете ли вы не приказать своему ребенку, а попросить его о чем-либо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10.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Неприятно ли вам отделываться от ребенка фразой типа: "У меня нет времени"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ли "Подожди, пока я закончу работу?"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entury Schoolbook"/>
              </a:rPr>
              <a:t>РЕЗУЛЬТАТ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713880"/>
            <a:ext cx="79725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 кажды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ложительны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ответ запишите себ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очка, за ответ "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ногд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" -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 за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рицательны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енее 6 очков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 настоящем воспитании вы имеет довольно смутное представление. И хотя говорят, что начать никогда не поздно, советуем вам не уповать на эту поговорку, а, не мешкая, заняться улучшением своих знаний в этой об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т 7 до 14 очков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 не делаете крупных ошибок в воспитании, но все же вам есть, над чем задуматься. А начать можно с того, что ближайший выходной полностью посвятить детям, забыв на время приятелей и производственные проблемы. И будьте уверены, дети вас полностью за это вознаградя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олее 15 очков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 вполне справляетесь со своими родительскими обязанностями. И тем не менее не удастся ли еще кое-что немного улучшит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0920" y="-1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ahoma"/>
              </a:rPr>
              <a:t>КАКИЕ ВЫ РОДИТЕЛИ?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9640" y="692280"/>
            <a:ext cx="746784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ы — родители —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скатели, хвал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ы — родители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щатели, любит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разреш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упители, дар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гда вы не род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 просто восхитител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если вы — родители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чатели, стыд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 если вы — родите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гатели, серд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лять — неотпуска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акозапретите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, знаете, родител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 просто крокодители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435640" y="6237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М. Шварц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АМЯТКА ДЛЯ РОДИТЕЛЕЙ</a:t>
            </a:r>
            <a:br>
              <a:rPr sz="2900"/>
            </a:b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СОЗДАНИЕ БЛАГОПРИЯТНОЙ СЕМЕЙНОЙ АТМОСФЕРЫ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2920" y="85680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Помните: от того, как родители разбудят ребенка, зависит его психологический настрой на весь ден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Время для ночного отдыха каждому требуется сугубо индивидуально. Показатель один - чтобы ребенок выспался и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Если у родителей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учитесь встречать детей после уроков. Не стоит первым задавать вопрос: «Какие оценки ты сегодня получил?», лучше задать ней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КАКИЕ ПРАВА ДОЛЖНА ПРЕДОСТАВЛЯТЬ УЧЕНИКАМ ШКОЛА? 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79280" y="765000"/>
            <a:ext cx="89647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взаимоотношения учащегося и школы строятся на основе Закона Российской Федерации «Об образовании» и Устава школы. В соответствии с этими нормативными актами, Конституцией Российской Федерации, другими законами, - нормами международного права каждый учащийся обладает правами н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важение своего человеческого достоинства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олучение бесплатного среднего образова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частие в управлении школой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выражение своего мнения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олучение дополнительных (в том числе платных) образовательных услуг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свободное посещение мероприятий, не предусмотренных учебным планом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выбор вместе с родителями формы получения образова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еревод в другое образовательное учреждение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Verdana"/>
                <a:ea typeface="Calibri"/>
              </a:rPr>
              <a:t>КАКОВЫ ПРАВА И ОБЯЗАННОСТИ КЛАССНОГО РУКОВОДИТЕЛЯ ПО ОТНОШЕНИЮ К УЧАЩИМСЯ КЛАССА?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лассный руководитель - не опекун, не нянька, не затейник. Он - представитель школы в ее взаимоотношениях с родителями. Классный руководитель сообщает им обо всех событиях, происходящих в школе и классе. Именно классный руководитель информирует родителей об успехах в учебе, пропущенных уроках, поведении, взаимоотношениях с товарищами и еще о многом другом, что связано с жизнью в школе. Классный руководитель организует учебную деятельность класса, отвечает за заполнение классного журнала, он имеет право проводить классные и родительские собрания, приглашать на беседу родителей, вести записи в дневнике и даже приходить домой для бесед с ребенком и его родителям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МОЖЕТ ЛИ УЧИТЕЛЬ ВМЕШИВАТЬСЯ В ЛИЧНУЮ ЖИЗНЬ УЧЕНИКА?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7640" y="836640"/>
            <a:ext cx="9001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т. У каждого гражданина России, в том числе и ученика школы, есть право на неприкосновенность личной жизни. Это одно из самых основных прав человека, оно зафиксировано в статье 23 Конституции Российской Федерации. Но что считать личной жизнью ученика? Это вопрос посложнее. Некоторые думают, что это не только жизнь вне стен школы, но и отношение к учебе, выполнению домашних заданий, поведение на уроках и т. д., забывая при этом, что существуют конституционная обязанность учиться, требования Закона «Об образовании» и Устава школы, которые необходимо выполнять. Ни в одном законе нет указания на то, что считать личной жизнью человека. Закон лишь устанавливает пределы неприкосновенности личной жизни, называя недопустимым разглашение личной и семейной тайны, нарушение тайны переписки, телефонных переговоров. Принято относить к личной жизни человека его семейные отношения, дружеские связи, симпатии и антипатии, привязанности, увлечения. В эти сферы жизни ученика учитель вторгаться не должен. А вот поделиться своими наблюдениями и сомнениями с родителями - его право и обязанность, так как в школе именно учитель отвечает за жизнь, здоровье и воспитание ученик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Verdana"/>
                <a:ea typeface="Calibri"/>
              </a:rPr>
              <a:t>МОЖЕТ ЛИ УЧИТЕЛЬ ЧИТАТЬ ОТОБРАННЫЕ У ДЕТЕЙ ЗАПИСКИ?</a:t>
            </a:r>
            <a:r>
              <a:rPr b="0" lang="ru-RU" sz="2900" spc="-1" strike="noStrike">
                <a:solidFill>
                  <a:srgbClr val="ff0000"/>
                </a:solidFill>
                <a:latin typeface="Verdana"/>
                <a:ea typeface="Calibri"/>
              </a:rPr>
              <a:t>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052640"/>
            <a:ext cx="8856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бенок, как любой гражданин России, имеет право на личную тайну. Это право также зафиксировано в Конституции и является одним из основных прав человека. Поэтому не только учитель, но и другие люди, например, одноклассники, не имеют права читать чужие записки и, тем более, разглашать их содержание. Но, чтобы записка попала в руки тому, кому она адресована, вероятно, не следует злоупотреблять терпением учителя и пытаться передавать ее на уроке или бросать через весь класс. Ведь это - прямое нарушение дисциплины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ИМЕЕТ ЛИ ПРАВО КЛАССНЫЙ РУКОВОДИТЕЛЬ ЗАСТАВЛЯТЬ УЧЕНИКОВ ХОДИТЬ С КЛАССОМ В ТЕАТР? 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8000" y="1600200"/>
            <a:ext cx="8928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Классный руководитель не имеет права принуждать учеников к посещению театра, музея, зоопарка и других подобных учреждений. В Законе Российской Федерации «Об образовании» говорится, что учащиеся гражданских (не военных) образовательных учреждений имеют право на свободное посещение мероприятий, не предусмотренных учебным планом и расписанием занятий. Учебным планом в данном случае называется официальный документ, утвержденный администрацией школы, в котором содержатся перечень всех предметов, преподаваемых в школе, и количество отведенных на эти предметы часов учебного времени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МОЖЕТ ЛИ КЛАССНЫЙ РУКОВОДИТЕЛЬ ОБЯЗАТЬ УЧЕНИКА БЫТЬ ОТВЕТСТВЕННЫМ ЗА ЧТО-ЛИБО В КЛАССЕ, НАПРИМЕР, НОШЕНИЕ КЛАССНОГО ЖУРНАЛА, ПРОТИВ ЕГО ВОЛИ?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78920" y="1989000"/>
            <a:ext cx="8363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То, что выходит за рамки образовательной программы школы, в том числе и привлечение учащихся к труду, без согласия учеников и их родителей не разрешается. Отвечать за дежурство, носить классный журнал, организовывать внеучебные мероприятия учащиеся могут только при их согласии и при согласии их родителей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4176720" cy="3529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4500"/>
                </a:solidFill>
                <a:latin typeface="Verdana"/>
                <a:ea typeface="Calibri"/>
              </a:rPr>
              <a:t>ОБЯЗАН ЛИ УЧАЩИЙСЯ ЗАНИМАТЬСЯ УБОРКОЙ ТЕРРИТОРИИ ШКОЛЫ? 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8920" y="1600200"/>
            <a:ext cx="4753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В Уставе школы в разделе Обязанности учащихся есть пункт об обязательности участия в самообслуживающем труде, к которому относятся и разовые «генеральные» уборки школы и её территории.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4:28:59Z</dcterms:created>
  <dc:creator>Admin</dc:creator>
  <dc:description/>
  <dc:language>en-US</dc:language>
  <cp:lastModifiedBy>User</cp:lastModifiedBy>
  <dcterms:modified xsi:type="dcterms:W3CDTF">2014-10-20T12:07:58Z</dcterms:modified>
  <cp:revision>14</cp:revision>
  <dc:subject/>
  <dc:title>ПРАВА  И  ОБЯЗАННОСТИ</dc:title>
</cp:coreProperties>
</file>