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5BF2-6839-4B7E-B067-B159F3BFA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B12A-B00F-49C2-AFDF-2D0E06434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9592-AE96-425A-A001-C0CF60A4B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D758-672B-4034-B4D5-DEFC6026E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66178-3007-4002-915D-56D1A2D74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0E8A8-7149-4896-B047-2F657DED8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E12FD-B87D-4704-96D9-F1709646D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25C31-6945-42FC-839F-FE1FE60DC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FF20C-DD0A-4A72-9D60-2811B9F2E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10884-8C38-4D96-9EC8-303B3A95C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0774B-6848-48EE-9D77-51CF128EC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9B4F-1B37-4120-85A7-2DC520F26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010B9-1E8F-4586-9DC8-1C996F95F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82A29-309D-4B90-A522-DC87C6851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331A2-74D7-46E1-B662-8C4446A4E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179E9-5D55-47FA-BEF7-3A0837F1A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DAC6E-ED7D-4A68-B876-DB817B676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0E364B-CC89-40A3-BE73-01D23142D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4C548D-8064-4582-A37A-34858F3FD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D89810-E23C-4502-8CFE-31ED6C3BE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246E94-B59E-4DEC-9EF8-C7A9CE988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C9783C-8585-4F83-B98A-C8665380B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5B9F-999D-4CAB-A31D-7D346EBC1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001094-59DD-4D67-A4AC-B1BEEA9BE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CE896A-17CF-4019-A7DE-2A352E6B3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CB6B42-19C4-4A5F-8EF7-978974806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B68F9E-EE58-4720-8328-474826EA1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3A59D0-A935-45AA-9CC8-B1ED89BB1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C88BF7-F85C-45A8-8783-B0E39B3C6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5DA015-FA24-4A99-A3AD-45967680C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D38D91-71D7-4259-ACBD-C653236BE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900115-EE98-4E30-B666-D5A748C8C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1E63CF-3DCE-4111-A271-513DCAE10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E1DD-BE67-4059-972B-707D7FDD0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D36822-4DAB-466C-83F5-85B2EE6B3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3C9937-1F0A-46CD-8C76-9377412A4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CCDB4D-DB0D-42E5-97F7-A04A81968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896EAB-BCC3-4102-9E4A-97A652BAD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C9D3A2-991F-4119-8D4A-39E87F7AF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DCD448-C29C-40BE-858A-F89139238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0A8E67-3714-42A6-B60E-C6ED5DF1E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E3825E-5C1F-46FC-BC82-FF9B8FD99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8523DA-9A34-4325-8916-51D8C1705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7351-1382-4B66-A6DA-E4680B7F7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7B14-F537-48A1-A957-7F61FD52C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16EA-CD3F-4951-8D7D-40D51C341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467E-C4AD-4EF6-AEDB-0FB6F7040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1F3A-9067-4664-8AF2-98329D082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3720" y="-21600"/>
            <a:ext cx="2869920" cy="3275640"/>
            <a:chOff x="6273720" y="-21600"/>
            <a:chExt cx="2869920" cy="327564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5040" y="2829600"/>
                <a:ext cx="2448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61200" y="177300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48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3720" y="-21600"/>
              <a:ext cx="2869920" cy="2269080"/>
              <a:chOff x="6273720" y="-21600"/>
              <a:chExt cx="2869920" cy="226908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3720" y="-21600"/>
                <a:ext cx="2867400" cy="2269080"/>
                <a:chOff x="6273720" y="-21600"/>
                <a:chExt cx="2867400" cy="226908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5040" y="842760"/>
                  <a:ext cx="1064160" cy="1141560"/>
                  <a:chOff x="7835040" y="842760"/>
                  <a:chExt cx="1064160" cy="114156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1240" y="113256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40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4920" y="1601280"/>
                    <a:ext cx="47484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40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40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40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40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40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7560" y="695880"/>
                  <a:ext cx="1303560" cy="669600"/>
                  <a:chOff x="7837560" y="695880"/>
                  <a:chExt cx="1303560" cy="66960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600" y="824400"/>
                    <a:ext cx="86004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40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49000" y="1030680"/>
                    <a:ext cx="46152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40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680" y="657720"/>
                  <a:ext cx="1223280" cy="417600"/>
                  <a:chOff x="7852680" y="657720"/>
                  <a:chExt cx="1223280" cy="41760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520" y="709920"/>
                    <a:ext cx="792000" cy="162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40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5680" y="796320"/>
                    <a:ext cx="42516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40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2120" y="632880"/>
                  <a:ext cx="1106280" cy="184320"/>
                  <a:chOff x="7872120" y="632880"/>
                  <a:chExt cx="110628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3200" y="648360"/>
                    <a:ext cx="7203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40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40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480" y="419400"/>
                  <a:ext cx="983880" cy="327240"/>
                  <a:chOff x="7845480" y="419400"/>
                  <a:chExt cx="983880" cy="32724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440" y="565200"/>
                    <a:ext cx="6336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40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2960" y="456480"/>
                    <a:ext cx="34056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40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7960" y="905760"/>
                  <a:ext cx="1063440" cy="1141560"/>
                  <a:chOff x="6537960" y="905760"/>
                  <a:chExt cx="1063440" cy="114156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2120" y="1195200"/>
                    <a:ext cx="88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40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7040" y="1665360"/>
                    <a:ext cx="47376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40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480"/>
                  <a:ext cx="1265760" cy="1051920"/>
                  <a:chOff x="6303960" y="861480"/>
                  <a:chExt cx="1265760" cy="105192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2240" y="1112400"/>
                    <a:ext cx="9302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40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520" y="1515600"/>
                    <a:ext cx="49896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40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5960" y="826920"/>
                  <a:ext cx="1288440" cy="828360"/>
                  <a:chOff x="6285960" y="826920"/>
                  <a:chExt cx="1288440" cy="82836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640" y="1016280"/>
                    <a:ext cx="890280" cy="15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40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4400" y="1319400"/>
                    <a:ext cx="477360" cy="242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40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3720" y="787320"/>
                  <a:ext cx="1302840" cy="668880"/>
                  <a:chOff x="6273720" y="787320"/>
                  <a:chExt cx="1302840" cy="66888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0400" y="915840"/>
                    <a:ext cx="860400" cy="169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40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3600" y="1121760"/>
                    <a:ext cx="46152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40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520" y="749520"/>
                  <a:ext cx="1223280" cy="415800"/>
                  <a:chOff x="6338520" y="749520"/>
                  <a:chExt cx="1223280" cy="41580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2240" y="801720"/>
                    <a:ext cx="792000" cy="159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40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2920" y="888840"/>
                    <a:ext cx="425160" cy="2487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40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440" y="722880"/>
                  <a:ext cx="1106640" cy="184320"/>
                  <a:chOff x="6436440" y="722880"/>
                  <a:chExt cx="110664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1280" y="738360"/>
                    <a:ext cx="72036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40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40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40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40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40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40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2520" y="221760"/>
                  <a:ext cx="901440" cy="628200"/>
                  <a:chOff x="6752520" y="221760"/>
                  <a:chExt cx="901440" cy="62820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1240" y="573120"/>
                    <a:ext cx="635400" cy="109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40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1240" y="302040"/>
                    <a:ext cx="34092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40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40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40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40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40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480" y="-21600"/>
                  <a:ext cx="466200" cy="809280"/>
                  <a:chOff x="7287480" y="-21600"/>
                  <a:chExt cx="466200" cy="80928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2480" y="459720"/>
                    <a:ext cx="54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40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4160" y="59760"/>
                    <a:ext cx="29340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40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2920" y="272520"/>
                  <a:ext cx="963720" cy="462240"/>
                  <a:chOff x="7792920" y="272520"/>
                  <a:chExt cx="963720" cy="46224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400" y="509040"/>
                    <a:ext cx="63180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40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398800" y="329400"/>
                    <a:ext cx="3376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40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480" y="136440"/>
                  <a:ext cx="916560" cy="604440"/>
                  <a:chOff x="7737480" y="136440"/>
                  <a:chExt cx="916560" cy="60444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400" y="470520"/>
                    <a:ext cx="63324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40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4760" y="212760"/>
                    <a:ext cx="33876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40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40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40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5480" y="-11520"/>
                  <a:ext cx="497160" cy="791280"/>
                  <a:chOff x="7665480" y="-11520"/>
                  <a:chExt cx="497160" cy="79128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3880" y="465840"/>
                    <a:ext cx="54468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40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7240" y="77760"/>
                    <a:ext cx="291240" cy="147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40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40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40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endParaRPr b="0" lang="en-US" sz="40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600" bIns="21600" anchor="ctr">
                    <a:noAutofit/>
                  </a:bodyPr>
                  <a:p>
                    <a:endParaRPr b="0" lang="en-US" sz="40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0760" y="929880"/>
                  <a:ext cx="913680" cy="1248840"/>
                  <a:chOff x="6710760" y="929880"/>
                  <a:chExt cx="913680" cy="124884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7640" y="1256760"/>
                    <a:ext cx="8863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40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2920" y="1787040"/>
                    <a:ext cx="475560" cy="25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40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4600" y="979200"/>
                  <a:ext cx="617400" cy="1248120"/>
                  <a:chOff x="7014600" y="979200"/>
                  <a:chExt cx="617400" cy="124812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90840" y="1308240"/>
                    <a:ext cx="82008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40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5160" y="1851840"/>
                    <a:ext cx="43776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40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2680" y="1001160"/>
                  <a:ext cx="362880" cy="1217880"/>
                  <a:chOff x="7312680" y="1001160"/>
                  <a:chExt cx="362880" cy="121788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5560" y="132804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40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3280" y="1878120"/>
                    <a:ext cx="420840" cy="225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40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40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40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800" y="956160"/>
                  <a:ext cx="732600" cy="1262160"/>
                  <a:chOff x="7786800" y="956160"/>
                  <a:chExt cx="732600" cy="126216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7320" y="1289880"/>
                    <a:ext cx="84636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40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80200" y="184032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40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7280" y="1005120"/>
                  <a:ext cx="509760" cy="1242360"/>
                  <a:chOff x="7757280" y="1005120"/>
                  <a:chExt cx="509760" cy="124236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960" y="1351080"/>
                    <a:ext cx="82044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40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2200" y="1907280"/>
                    <a:ext cx="44100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40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520" y="1058760"/>
                  <a:ext cx="290160" cy="1155960"/>
                  <a:chOff x="7733520" y="1058760"/>
                  <a:chExt cx="290160" cy="115596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3600" y="1377360"/>
                    <a:ext cx="75384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40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3200" y="1900440"/>
                    <a:ext cx="405720" cy="19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40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240" y="1077840"/>
                  <a:ext cx="276840" cy="1131480"/>
                  <a:chOff x="7500240" y="1077840"/>
                  <a:chExt cx="27684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2760" y="1401120"/>
                    <a:ext cx="736920" cy="95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40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8360" y="1929240"/>
                    <a:ext cx="394920" cy="151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40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0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3240" y="948960"/>
                <a:ext cx="1088640" cy="118080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0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0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3760" y="759240"/>
                <a:ext cx="63468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0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716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0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0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0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4160" y="765720"/>
                <a:ext cx="51408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0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7720" y="605880"/>
                <a:ext cx="73008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0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588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0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480" y="1102320"/>
                <a:ext cx="223560" cy="4266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0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0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10400" y="159480"/>
                <a:ext cx="947160" cy="118080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0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88800" cy="118044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0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0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0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0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0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7600" cy="545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0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2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0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0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0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3AE4C-758C-4D62-837D-2DB79C2F34F7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77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78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4197E-6B49-41EE-B3FA-18CFB2BDCD9E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Group 2"/>
          <p:cNvGrpSpPr/>
          <p:nvPr/>
        </p:nvGrpSpPr>
        <p:grpSpPr>
          <a:xfrm>
            <a:off x="2010960" y="245520"/>
            <a:ext cx="6896160" cy="5451840"/>
            <a:chOff x="2010960" y="245520"/>
            <a:chExt cx="6896160" cy="5451840"/>
          </a:xfrm>
        </p:grpSpPr>
        <p:grpSp>
          <p:nvGrpSpPr>
            <p:cNvPr id="221" name="Group 3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222" name="Oval 4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23" name="Oval 5"/>
              <p:cNvSpPr/>
              <p:nvPr/>
            </p:nvSpPr>
            <p:spPr>
              <a:xfrm>
                <a:off x="3822840" y="1265760"/>
                <a:ext cx="230400" cy="1317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224" name="Group 6"/>
            <p:cNvGrpSpPr/>
            <p:nvPr/>
          </p:nvGrpSpPr>
          <p:grpSpPr>
            <a:xfrm>
              <a:off x="2010960" y="245520"/>
              <a:ext cx="6896160" cy="5451840"/>
              <a:chOff x="2010960" y="245520"/>
              <a:chExt cx="6896160" cy="5451840"/>
            </a:xfrm>
          </p:grpSpPr>
          <p:grpSp>
            <p:nvGrpSpPr>
              <p:cNvPr id="225" name="Group 7"/>
              <p:cNvGrpSpPr/>
              <p:nvPr/>
            </p:nvGrpSpPr>
            <p:grpSpPr>
              <a:xfrm>
                <a:off x="2010960" y="245520"/>
                <a:ext cx="6891120" cy="5451840"/>
                <a:chOff x="2010960" y="245520"/>
                <a:chExt cx="6891120" cy="5451840"/>
              </a:xfrm>
            </p:grpSpPr>
            <p:grpSp>
              <p:nvGrpSpPr>
                <p:cNvPr id="226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227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Oval 10"/>
                  <p:cNvSpPr/>
                  <p:nvPr/>
                </p:nvSpPr>
                <p:spPr>
                  <a:xfrm>
                    <a:off x="5109480" y="2234880"/>
                    <a:ext cx="713160" cy="500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9" name="Group 11"/>
                <p:cNvGrpSpPr/>
                <p:nvPr/>
              </p:nvGrpSpPr>
              <p:grpSpPr>
                <a:xfrm>
                  <a:off x="2010960" y="245520"/>
                  <a:ext cx="6891120" cy="5451840"/>
                  <a:chOff x="2010960" y="245520"/>
                  <a:chExt cx="6891120" cy="5451840"/>
                </a:xfrm>
              </p:grpSpPr>
              <p:grpSp>
                <p:nvGrpSpPr>
                  <p:cNvPr id="230" name="Group 12"/>
                  <p:cNvGrpSpPr/>
                  <p:nvPr/>
                </p:nvGrpSpPr>
                <p:grpSpPr>
                  <a:xfrm>
                    <a:off x="5761440" y="2322360"/>
                    <a:ext cx="2558520" cy="2742840"/>
                    <a:chOff x="5761440" y="2322360"/>
                    <a:chExt cx="2558520" cy="2742840"/>
                  </a:xfrm>
                </p:grpSpPr>
                <p:sp>
                  <p:nvSpPr>
                    <p:cNvPr id="231" name="Freeform 13"/>
                    <p:cNvSpPr/>
                    <p:nvPr/>
                  </p:nvSpPr>
                  <p:spPr>
                    <a:xfrm rot="2711400">
                      <a:off x="5583600" y="3020040"/>
                      <a:ext cx="21276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4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2" name="Freeform 14"/>
                    <p:cNvSpPr/>
                    <p:nvPr/>
                  </p:nvSpPr>
                  <p:spPr>
                    <a:xfrm rot="2711400">
                      <a:off x="7134480" y="4146120"/>
                      <a:ext cx="11390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4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3" name="Group 15"/>
                  <p:cNvGrpSpPr/>
                  <p:nvPr/>
                </p:nvGrpSpPr>
                <p:grpSpPr>
                  <a:xfrm>
                    <a:off x="5787720" y="2148120"/>
                    <a:ext cx="3040200" cy="2530080"/>
                    <a:chOff x="5787720" y="2148120"/>
                    <a:chExt cx="3040200" cy="2530080"/>
                  </a:xfrm>
                </p:grpSpPr>
                <p:sp>
                  <p:nvSpPr>
                    <p:cNvPr id="234" name="Freeform 16"/>
                    <p:cNvSpPr/>
                    <p:nvPr/>
                  </p:nvSpPr>
                  <p:spPr>
                    <a:xfrm rot="2103600">
                      <a:off x="5707080" y="2751840"/>
                      <a:ext cx="2236680" cy="425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4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5" name="Freeform 17"/>
                    <p:cNvSpPr/>
                    <p:nvPr/>
                  </p:nvSpPr>
                  <p:spPr>
                    <a:xfrm rot="2103600">
                      <a:off x="7541640" y="3720960"/>
                      <a:ext cx="120204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4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6" name="Group 18"/>
                  <p:cNvGrpSpPr/>
                  <p:nvPr/>
                </p:nvGrpSpPr>
                <p:grpSpPr>
                  <a:xfrm>
                    <a:off x="5775840" y="2065680"/>
                    <a:ext cx="3096720" cy="1992240"/>
                    <a:chOff x="5775840" y="2065680"/>
                    <a:chExt cx="3096720" cy="1992240"/>
                  </a:xfrm>
                </p:grpSpPr>
                <p:sp>
                  <p:nvSpPr>
                    <p:cNvPr id="237" name="Freeform 19"/>
                    <p:cNvSpPr/>
                    <p:nvPr/>
                  </p:nvSpPr>
                  <p:spPr>
                    <a:xfrm rot="1582800">
                      <a:off x="5747400" y="2521440"/>
                      <a:ext cx="21394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4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8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4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9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240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4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1" name="Freeform 23"/>
                    <p:cNvSpPr/>
                    <p:nvPr/>
                  </p:nvSpPr>
                  <p:spPr>
                    <a:xfrm rot="1080000">
                      <a:off x="7718040" y="2772720"/>
                      <a:ext cx="1110600" cy="64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4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2" name="Group 24"/>
                  <p:cNvGrpSpPr/>
                  <p:nvPr/>
                </p:nvGrpSpPr>
                <p:grpSpPr>
                  <a:xfrm>
                    <a:off x="5806080" y="1879560"/>
                    <a:ext cx="2940120" cy="1002240"/>
                    <a:chOff x="5806080" y="1879560"/>
                    <a:chExt cx="2940120" cy="1002240"/>
                  </a:xfrm>
                </p:grpSpPr>
                <p:sp>
                  <p:nvSpPr>
                    <p:cNvPr id="243" name="Freeform 25"/>
                    <p:cNvSpPr/>
                    <p:nvPr/>
                  </p:nvSpPr>
                  <p:spPr>
                    <a:xfrm rot="463200">
                      <a:off x="5823000" y="2005560"/>
                      <a:ext cx="19065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4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4" name="Freeform 26"/>
                    <p:cNvSpPr/>
                    <p:nvPr/>
                  </p:nvSpPr>
                  <p:spPr>
                    <a:xfrm rot="463200">
                      <a:off x="7687080" y="2212920"/>
                      <a:ext cx="102312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4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5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46" name="Freeform 28"/>
                    <p:cNvSpPr/>
                    <p:nvPr/>
                  </p:nvSpPr>
                  <p:spPr>
                    <a:xfrm rot="21515400">
                      <a:off x="5854320" y="185256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4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7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4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8" name="Group 30"/>
                  <p:cNvGrpSpPr/>
                  <p:nvPr/>
                </p:nvGrpSpPr>
                <p:grpSpPr>
                  <a:xfrm>
                    <a:off x="5788440" y="1303920"/>
                    <a:ext cx="2364120" cy="786960"/>
                    <a:chOff x="5788440" y="1303920"/>
                    <a:chExt cx="2364120" cy="786960"/>
                  </a:xfrm>
                </p:grpSpPr>
                <p:sp>
                  <p:nvSpPr>
                    <p:cNvPr id="249" name="Freeform 31"/>
                    <p:cNvSpPr/>
                    <p:nvPr/>
                  </p:nvSpPr>
                  <p:spPr>
                    <a:xfrm rot="20797200">
                      <a:off x="5798520" y="1652400"/>
                      <a:ext cx="1519200" cy="26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4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0" name="Freeform 32"/>
                    <p:cNvSpPr/>
                    <p:nvPr/>
                  </p:nvSpPr>
                  <p:spPr>
                    <a:xfrm rot="20797200">
                      <a:off x="7298640" y="1392480"/>
                      <a:ext cx="81648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4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1" name="Group 33"/>
                  <p:cNvGrpSpPr/>
                  <p:nvPr/>
                </p:nvGrpSpPr>
                <p:grpSpPr>
                  <a:xfrm>
                    <a:off x="2646360" y="2473920"/>
                    <a:ext cx="2556720" cy="2741760"/>
                    <a:chOff x="2646360" y="2473920"/>
                    <a:chExt cx="2556720" cy="2741760"/>
                  </a:xfrm>
                </p:grpSpPr>
                <p:sp>
                  <p:nvSpPr>
                    <p:cNvPr id="252" name="Freeform 34"/>
                    <p:cNvSpPr/>
                    <p:nvPr/>
                  </p:nvSpPr>
                  <p:spPr>
                    <a:xfrm flipH="1" rot="18888600">
                      <a:off x="3253680" y="3170880"/>
                      <a:ext cx="212580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4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Freeform 35"/>
                    <p:cNvSpPr/>
                    <p:nvPr/>
                  </p:nvSpPr>
                  <p:spPr>
                    <a:xfrm flipH="1" rot="18888600">
                      <a:off x="2691360" y="4295520"/>
                      <a:ext cx="114156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4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Group 36"/>
                  <p:cNvGrpSpPr/>
                  <p:nvPr/>
                </p:nvGrpSpPr>
                <p:grpSpPr>
                  <a:xfrm>
                    <a:off x="2085120" y="2365920"/>
                    <a:ext cx="3040200" cy="2530800"/>
                    <a:chOff x="2085120" y="2365920"/>
                    <a:chExt cx="3040200" cy="2530800"/>
                  </a:xfrm>
                </p:grpSpPr>
                <p:sp>
                  <p:nvSpPr>
                    <p:cNvPr id="255" name="Freeform 37"/>
                    <p:cNvSpPr/>
                    <p:nvPr/>
                  </p:nvSpPr>
                  <p:spPr>
                    <a:xfrm flipH="1" rot="19496400">
                      <a:off x="2966400" y="2970000"/>
                      <a:ext cx="2238480" cy="428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4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Freeform 38"/>
                    <p:cNvSpPr/>
                    <p:nvPr/>
                  </p:nvSpPr>
                  <p:spPr>
                    <a:xfrm flipH="1" rot="19496400">
                      <a:off x="2168280" y="3940200"/>
                      <a:ext cx="1202760" cy="672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4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Group 39"/>
                  <p:cNvGrpSpPr/>
                  <p:nvPr/>
                </p:nvGrpSpPr>
                <p:grpSpPr>
                  <a:xfrm>
                    <a:off x="2040840" y="2283840"/>
                    <a:ext cx="3096360" cy="1992240"/>
                    <a:chOff x="2040840" y="2283840"/>
                    <a:chExt cx="3096360" cy="1992240"/>
                  </a:xfrm>
                </p:grpSpPr>
                <p:sp>
                  <p:nvSpPr>
                    <p:cNvPr id="258" name="Freeform 40"/>
                    <p:cNvSpPr/>
                    <p:nvPr/>
                  </p:nvSpPr>
                  <p:spPr>
                    <a:xfrm flipH="1" rot="20017200">
                      <a:off x="3024360" y="2739600"/>
                      <a:ext cx="2140200" cy="37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4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Freeform 41"/>
                    <p:cNvSpPr/>
                    <p:nvPr/>
                  </p:nvSpPr>
                  <p:spPr>
                    <a:xfrm flipH="1" rot="20017200">
                      <a:off x="2111040" y="3464640"/>
                      <a:ext cx="1150200" cy="586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4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Group 42"/>
                  <p:cNvGrpSpPr/>
                  <p:nvPr/>
                </p:nvGrpSpPr>
                <p:grpSpPr>
                  <a:xfrm>
                    <a:off x="2010960" y="2188440"/>
                    <a:ext cx="3134520" cy="1608120"/>
                    <a:chOff x="2010960" y="2188440"/>
                    <a:chExt cx="3134520" cy="1608120"/>
                  </a:xfrm>
                </p:grpSpPr>
                <p:sp>
                  <p:nvSpPr>
                    <p:cNvPr id="261" name="Freeform 43"/>
                    <p:cNvSpPr/>
                    <p:nvPr/>
                  </p:nvSpPr>
                  <p:spPr>
                    <a:xfrm flipH="1" rot="20520000">
                      <a:off x="3063960" y="2497680"/>
                      <a:ext cx="206820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4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Freeform 44"/>
                    <p:cNvSpPr/>
                    <p:nvPr/>
                  </p:nvSpPr>
                  <p:spPr>
                    <a:xfrm flipH="1" rot="20520000">
                      <a:off x="2084400" y="2989080"/>
                      <a:ext cx="1111680" cy="651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4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Group 45"/>
                  <p:cNvGrpSpPr/>
                  <p:nvPr/>
                </p:nvGrpSpPr>
                <p:grpSpPr>
                  <a:xfrm>
                    <a:off x="2166480" y="2097720"/>
                    <a:ext cx="2940840" cy="1002240"/>
                    <a:chOff x="2166480" y="2097720"/>
                    <a:chExt cx="2940840" cy="1002240"/>
                  </a:xfrm>
                </p:grpSpPr>
                <p:sp>
                  <p:nvSpPr>
                    <p:cNvPr id="264" name="Freeform 46"/>
                    <p:cNvSpPr/>
                    <p:nvPr/>
                  </p:nvSpPr>
                  <p:spPr>
                    <a:xfrm flipH="1" rot="21136800">
                      <a:off x="3183120" y="2223720"/>
                      <a:ext cx="1906560" cy="38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4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Freeform 47"/>
                    <p:cNvSpPr/>
                    <p:nvPr/>
                  </p:nvSpPr>
                  <p:spPr>
                    <a:xfrm flipH="1" rot="21136800">
                      <a:off x="2202120" y="2430360"/>
                      <a:ext cx="102276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4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Group 48"/>
                  <p:cNvGrpSpPr/>
                  <p:nvPr/>
                </p:nvGrpSpPr>
                <p:grpSpPr>
                  <a:xfrm>
                    <a:off x="2403720" y="2033640"/>
                    <a:ext cx="2658960" cy="446040"/>
                    <a:chOff x="2403720" y="2033640"/>
                    <a:chExt cx="2658960" cy="446040"/>
                  </a:xfrm>
                </p:grpSpPr>
                <p:sp>
                  <p:nvSpPr>
                    <p:cNvPr id="267" name="Freeform 49"/>
                    <p:cNvSpPr/>
                    <p:nvPr/>
                  </p:nvSpPr>
                  <p:spPr>
                    <a:xfrm flipH="1" rot="84600">
                      <a:off x="3328200" y="2071440"/>
                      <a:ext cx="1731240" cy="267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4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3024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4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Group 51"/>
                  <p:cNvGrpSpPr/>
                  <p:nvPr/>
                </p:nvGrpSpPr>
                <p:grpSpPr>
                  <a:xfrm>
                    <a:off x="2760480" y="1522440"/>
                    <a:ext cx="2364840" cy="787320"/>
                    <a:chOff x="2760480" y="1522440"/>
                    <a:chExt cx="2364840" cy="787320"/>
                  </a:xfrm>
                </p:grpSpPr>
                <p:sp>
                  <p:nvSpPr>
                    <p:cNvPr id="270" name="Freeform 52"/>
                    <p:cNvSpPr/>
                    <p:nvPr/>
                  </p:nvSpPr>
                  <p:spPr>
                    <a:xfrm flipH="1" rot="802800">
                      <a:off x="3595680" y="1872360"/>
                      <a:ext cx="15192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4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9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4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Group 54"/>
                  <p:cNvGrpSpPr/>
                  <p:nvPr/>
                </p:nvGrpSpPr>
                <p:grpSpPr>
                  <a:xfrm>
                    <a:off x="2887200" y="1236600"/>
                    <a:ext cx="2324880" cy="1083960"/>
                    <a:chOff x="2887200" y="1236600"/>
                    <a:chExt cx="2324880" cy="1083960"/>
                  </a:xfrm>
                </p:grpSpPr>
                <p:sp>
                  <p:nvSpPr>
                    <p:cNvPr id="273" name="Freeform 55"/>
                    <p:cNvSpPr/>
                    <p:nvPr/>
                  </p:nvSpPr>
                  <p:spPr>
                    <a:xfrm flipH="1" rot="1278000">
                      <a:off x="3694680" y="1787400"/>
                      <a:ext cx="1520280" cy="265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4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4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Group 57"/>
                  <p:cNvGrpSpPr/>
                  <p:nvPr/>
                </p:nvGrpSpPr>
                <p:grpSpPr>
                  <a:xfrm>
                    <a:off x="3161520" y="831240"/>
                    <a:ext cx="2169720" cy="1507680"/>
                    <a:chOff x="3161520" y="831240"/>
                    <a:chExt cx="2169720" cy="1507680"/>
                  </a:xfrm>
                </p:grpSpPr>
                <p:sp>
                  <p:nvSpPr>
                    <p:cNvPr id="276" name="Freeform 58"/>
                    <p:cNvSpPr/>
                    <p:nvPr/>
                  </p:nvSpPr>
                  <p:spPr>
                    <a:xfrm flipH="1" rot="2028600">
                      <a:off x="3866040" y="1672920"/>
                      <a:ext cx="1519200" cy="265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4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Freeform 59"/>
                    <p:cNvSpPr/>
                    <p:nvPr/>
                  </p:nvSpPr>
                  <p:spPr>
                    <a:xfrm flipH="1" rot="2028600">
                      <a:off x="3207600" y="1023120"/>
                      <a:ext cx="816120" cy="415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4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Group 60"/>
                  <p:cNvGrpSpPr/>
                  <p:nvPr/>
                </p:nvGrpSpPr>
                <p:grpSpPr>
                  <a:xfrm>
                    <a:off x="3437280" y="436320"/>
                    <a:ext cx="1987560" cy="1831320"/>
                    <a:chOff x="3437280" y="436320"/>
                    <a:chExt cx="1987560" cy="1831320"/>
                  </a:xfrm>
                </p:grpSpPr>
                <p:sp>
                  <p:nvSpPr>
                    <p:cNvPr id="279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4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Freeform 62"/>
                    <p:cNvSpPr/>
                    <p:nvPr/>
                  </p:nvSpPr>
                  <p:spPr>
                    <a:xfrm flipH="1" rot="2664600">
                      <a:off x="3464280" y="666360"/>
                      <a:ext cx="82836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4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Group 63"/>
                  <p:cNvGrpSpPr/>
                  <p:nvPr/>
                </p:nvGrpSpPr>
                <p:grpSpPr>
                  <a:xfrm>
                    <a:off x="4027320" y="335160"/>
                    <a:ext cx="1461240" cy="1886400"/>
                    <a:chOff x="4027320" y="335160"/>
                    <a:chExt cx="1461240" cy="1886400"/>
                  </a:xfrm>
                </p:grpSpPr>
                <p:sp>
                  <p:nvSpPr>
                    <p:cNvPr id="282" name="Freeform 64"/>
                    <p:cNvSpPr/>
                    <p:nvPr/>
                  </p:nvSpPr>
                  <p:spPr>
                    <a:xfrm flipH="1" rot="3474000">
                      <a:off x="4336920" y="1443240"/>
                      <a:ext cx="1357200" cy="265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4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Freeform 65"/>
                    <p:cNvSpPr/>
                    <p:nvPr/>
                  </p:nvSpPr>
                  <p:spPr>
                    <a:xfrm flipH="1" rot="3474000">
                      <a:off x="4032720" y="545760"/>
                      <a:ext cx="7275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4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4" name="Group 66"/>
                  <p:cNvGrpSpPr/>
                  <p:nvPr/>
                </p:nvGrpSpPr>
                <p:grpSpPr>
                  <a:xfrm>
                    <a:off x="4448160" y="245520"/>
                    <a:ext cx="1122120" cy="1946160"/>
                    <a:chOff x="4448160" y="245520"/>
                    <a:chExt cx="1122120" cy="1946160"/>
                  </a:xfrm>
                </p:grpSpPr>
                <p:sp>
                  <p:nvSpPr>
                    <p:cNvPr id="285" name="Freeform 67"/>
                    <p:cNvSpPr/>
                    <p:nvPr/>
                  </p:nvSpPr>
                  <p:spPr>
                    <a:xfrm flipH="1" rot="4126800">
                      <a:off x="4554720" y="1400760"/>
                      <a:ext cx="130896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4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6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4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7" name="Group 69"/>
                  <p:cNvGrpSpPr/>
                  <p:nvPr/>
                </p:nvGrpSpPr>
                <p:grpSpPr>
                  <a:xfrm>
                    <a:off x="5661720" y="952560"/>
                    <a:ext cx="2317320" cy="1111680"/>
                    <a:chOff x="5661720" y="952560"/>
                    <a:chExt cx="2317320" cy="1111680"/>
                  </a:xfrm>
                </p:grpSpPr>
                <p:sp>
                  <p:nvSpPr>
                    <p:cNvPr id="288" name="Freeform 70"/>
                    <p:cNvSpPr/>
                    <p:nvPr/>
                  </p:nvSpPr>
                  <p:spPr>
                    <a:xfrm rot="20274000">
                      <a:off x="5655600" y="1523160"/>
                      <a:ext cx="15188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4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9" name="Freeform 71"/>
                    <p:cNvSpPr/>
                    <p:nvPr/>
                  </p:nvSpPr>
                  <p:spPr>
                    <a:xfrm rot="20274000">
                      <a:off x="7113960" y="1090440"/>
                      <a:ext cx="816120" cy="419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4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0" name="Group 72"/>
                  <p:cNvGrpSpPr/>
                  <p:nvPr/>
                </p:nvGrpSpPr>
                <p:grpSpPr>
                  <a:xfrm>
                    <a:off x="5529600" y="626400"/>
                    <a:ext cx="2199600" cy="1450800"/>
                    <a:chOff x="5529600" y="626400"/>
                    <a:chExt cx="2199600" cy="1450800"/>
                  </a:xfrm>
                </p:grpSpPr>
                <p:sp>
                  <p:nvSpPr>
                    <p:cNvPr id="291" name="Freeform 73"/>
                    <p:cNvSpPr/>
                    <p:nvPr/>
                  </p:nvSpPr>
                  <p:spPr>
                    <a:xfrm rot="19678800">
                      <a:off x="5484240" y="1429560"/>
                      <a:ext cx="15188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4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2" name="Freeform 74"/>
                    <p:cNvSpPr/>
                    <p:nvPr/>
                  </p:nvSpPr>
                  <p:spPr>
                    <a:xfrm rot="19678800">
                      <a:off x="6864120" y="810720"/>
                      <a:ext cx="816120" cy="417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4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93" name="Freeform 75"/>
                  <p:cNvSpPr/>
                  <p:nvPr/>
                </p:nvSpPr>
                <p:spPr>
                  <a:xfrm flipH="1" rot="4578600">
                    <a:off x="4766400" y="1467000"/>
                    <a:ext cx="126468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40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4" name="Freeform 76"/>
                  <p:cNvSpPr/>
                  <p:nvPr/>
                </p:nvSpPr>
                <p:spPr>
                  <a:xfrm flipH="1" rot="4578600">
                    <a:off x="479196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40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95" name="Group 77"/>
                  <p:cNvGrpSpPr/>
                  <p:nvPr/>
                </p:nvGrpSpPr>
                <p:grpSpPr>
                  <a:xfrm>
                    <a:off x="5355720" y="269640"/>
                    <a:ext cx="1196640" cy="1901160"/>
                    <a:chOff x="5355720" y="269640"/>
                    <a:chExt cx="1196640" cy="1901160"/>
                  </a:xfrm>
                </p:grpSpPr>
                <p:sp>
                  <p:nvSpPr>
                    <p:cNvPr id="296" name="Freeform 78"/>
                    <p:cNvSpPr/>
                    <p:nvPr/>
                  </p:nvSpPr>
                  <p:spPr>
                    <a:xfrm rot="17742000">
                      <a:off x="5086440" y="1418400"/>
                      <a:ext cx="131040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4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7" name="Freeform 79"/>
                    <p:cNvSpPr/>
                    <p:nvPr/>
                  </p:nvSpPr>
                  <p:spPr>
                    <a:xfrm rot="17742000">
                      <a:off x="5887080" y="484920"/>
                      <a:ext cx="70308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4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8" name="Group 80"/>
                  <p:cNvGrpSpPr/>
                  <p:nvPr/>
                </p:nvGrpSpPr>
                <p:grpSpPr>
                  <a:xfrm>
                    <a:off x="5347080" y="388080"/>
                    <a:ext cx="1892520" cy="1797480"/>
                    <a:chOff x="5347080" y="388080"/>
                    <a:chExt cx="1892520" cy="1797480"/>
                  </a:xfrm>
                </p:grpSpPr>
                <p:sp>
                  <p:nvSpPr>
                    <p:cNvPr id="299" name="Freeform 81"/>
                    <p:cNvSpPr/>
                    <p:nvPr/>
                  </p:nvSpPr>
                  <p:spPr>
                    <a:xfrm rot="18822600">
                      <a:off x="5247000" y="1388520"/>
                      <a:ext cx="1425960" cy="33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4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0" name="Freeform 82"/>
                    <p:cNvSpPr/>
                    <p:nvPr/>
                  </p:nvSpPr>
                  <p:spPr>
                    <a:xfrm rot="18822600">
                      <a:off x="6401880" y="583920"/>
                      <a:ext cx="766440" cy="524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4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1" name="Group 83"/>
                  <p:cNvGrpSpPr/>
                  <p:nvPr/>
                </p:nvGrpSpPr>
                <p:grpSpPr>
                  <a:xfrm>
                    <a:off x="5458320" y="292680"/>
                    <a:ext cx="426960" cy="1795680"/>
                    <a:chOff x="5458320" y="292680"/>
                    <a:chExt cx="426960" cy="1795680"/>
                  </a:xfrm>
                </p:grpSpPr>
                <p:sp>
                  <p:nvSpPr>
                    <p:cNvPr id="302" name="Freeform 84"/>
                    <p:cNvSpPr/>
                    <p:nvPr/>
                  </p:nvSpPr>
                  <p:spPr>
                    <a:xfrm rot="16696200">
                      <a:off x="5007600" y="1445400"/>
                      <a:ext cx="117576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4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3" name="Freeform 85"/>
                    <p:cNvSpPr/>
                    <p:nvPr/>
                  </p:nvSpPr>
                  <p:spPr>
                    <a:xfrm rot="16696200">
                      <a:off x="5441400" y="533160"/>
                      <a:ext cx="631080" cy="167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4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4" name="Group 86"/>
                  <p:cNvGrpSpPr/>
                  <p:nvPr/>
                </p:nvGrpSpPr>
                <p:grpSpPr>
                  <a:xfrm>
                    <a:off x="3063240" y="2530440"/>
                    <a:ext cx="2195640" cy="3003120"/>
                    <a:chOff x="3063240" y="2530440"/>
                    <a:chExt cx="2195640" cy="3003120"/>
                  </a:xfrm>
                </p:grpSpPr>
                <p:sp>
                  <p:nvSpPr>
                    <p:cNvPr id="305" name="Freeform 87"/>
                    <p:cNvSpPr/>
                    <p:nvPr/>
                  </p:nvSpPr>
                  <p:spPr>
                    <a:xfrm flipH="1" rot="18336000">
                      <a:off x="3418560" y="3314880"/>
                      <a:ext cx="212796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4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6" name="Freeform 88"/>
                    <p:cNvSpPr/>
                    <p:nvPr/>
                  </p:nvSpPr>
                  <p:spPr>
                    <a:xfrm flipH="1" rot="18336000">
                      <a:off x="3070440" y="4592160"/>
                      <a:ext cx="11390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4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7" name="Group 89"/>
                  <p:cNvGrpSpPr/>
                  <p:nvPr/>
                </p:nvGrpSpPr>
                <p:grpSpPr>
                  <a:xfrm>
                    <a:off x="3791160" y="2650320"/>
                    <a:ext cx="1483200" cy="2999880"/>
                    <a:chOff x="3791160" y="2650320"/>
                    <a:chExt cx="1483200" cy="2999880"/>
                  </a:xfrm>
                </p:grpSpPr>
                <p:sp>
                  <p:nvSpPr>
                    <p:cNvPr id="308" name="Freeform 90"/>
                    <p:cNvSpPr/>
                    <p:nvPr/>
                  </p:nvSpPr>
                  <p:spPr>
                    <a:xfrm flipH="1" rot="17543400">
                      <a:off x="3737520" y="3440160"/>
                      <a:ext cx="196740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4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9" name="Freeform 91"/>
                    <p:cNvSpPr/>
                    <p:nvPr/>
                  </p:nvSpPr>
                  <p:spPr>
                    <a:xfrm flipH="1" rot="17543400">
                      <a:off x="3742200" y="4746240"/>
                      <a:ext cx="1055880" cy="601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4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0" name="Group 92"/>
                  <p:cNvGrpSpPr/>
                  <p:nvPr/>
                </p:nvGrpSpPr>
                <p:grpSpPr>
                  <a:xfrm>
                    <a:off x="4508280" y="2703240"/>
                    <a:ext cx="875160" cy="2926800"/>
                    <a:chOff x="4508280" y="2703240"/>
                    <a:chExt cx="875160" cy="2926800"/>
                  </a:xfrm>
                </p:grpSpPr>
                <p:sp>
                  <p:nvSpPr>
                    <p:cNvPr id="311" name="Freeform 93"/>
                    <p:cNvSpPr/>
                    <p:nvPr/>
                  </p:nvSpPr>
                  <p:spPr>
                    <a:xfrm flipH="1" rot="16870800">
                      <a:off x="4085640" y="3488760"/>
                      <a:ext cx="1887480" cy="347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4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2" name="Freeform 94"/>
                    <p:cNvSpPr/>
                    <p:nvPr/>
                  </p:nvSpPr>
                  <p:spPr>
                    <a:xfrm flipH="1" rot="16870800">
                      <a:off x="4367880" y="4808160"/>
                      <a:ext cx="1011600" cy="545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4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3" name="Group 95"/>
                  <p:cNvGrpSpPr/>
                  <p:nvPr/>
                </p:nvGrpSpPr>
                <p:grpSpPr>
                  <a:xfrm>
                    <a:off x="5677200" y="2482920"/>
                    <a:ext cx="2281320" cy="2953080"/>
                    <a:chOff x="5677200" y="2482920"/>
                    <a:chExt cx="2281320" cy="2953080"/>
                  </a:xfrm>
                </p:grpSpPr>
                <p:sp>
                  <p:nvSpPr>
                    <p:cNvPr id="314" name="Freeform 96"/>
                    <p:cNvSpPr/>
                    <p:nvPr/>
                  </p:nvSpPr>
                  <p:spPr>
                    <a:xfrm rot="3144000">
                      <a:off x="5415120" y="3250440"/>
                      <a:ext cx="212796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4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5" name="Freeform 97"/>
                    <p:cNvSpPr/>
                    <p:nvPr/>
                  </p:nvSpPr>
                  <p:spPr>
                    <a:xfrm rot="3144000">
                      <a:off x="6802200" y="4499280"/>
                      <a:ext cx="113940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4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6" name="Group 98"/>
                  <p:cNvGrpSpPr/>
                  <p:nvPr/>
                </p:nvGrpSpPr>
                <p:grpSpPr>
                  <a:xfrm>
                    <a:off x="5648760" y="2593080"/>
                    <a:ext cx="1757520" cy="3032640"/>
                    <a:chOff x="5648760" y="2593080"/>
                    <a:chExt cx="1757520" cy="3032640"/>
                  </a:xfrm>
                </p:grpSpPr>
                <p:sp>
                  <p:nvSpPr>
                    <p:cNvPr id="317" name="Freeform 99"/>
                    <p:cNvSpPr/>
                    <p:nvPr/>
                  </p:nvSpPr>
                  <p:spPr>
                    <a:xfrm rot="3745200">
                      <a:off x="5266080" y="3395160"/>
                      <a:ext cx="2033640" cy="36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4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8" name="Freeform 100"/>
                    <p:cNvSpPr/>
                    <p:nvPr/>
                  </p:nvSpPr>
                  <p:spPr>
                    <a:xfrm rot="3745200">
                      <a:off x="6351840" y="4719240"/>
                      <a:ext cx="109080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4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9" name="Group 101"/>
                  <p:cNvGrpSpPr/>
                  <p:nvPr/>
                </p:nvGrpSpPr>
                <p:grpSpPr>
                  <a:xfrm>
                    <a:off x="5576040" y="2710800"/>
                    <a:ext cx="1225440" cy="2986560"/>
                    <a:chOff x="5576040" y="2710800"/>
                    <a:chExt cx="1225440" cy="2986560"/>
                  </a:xfrm>
                </p:grpSpPr>
                <p:sp>
                  <p:nvSpPr>
                    <p:cNvPr id="320" name="Freeform 102"/>
                    <p:cNvSpPr/>
                    <p:nvPr/>
                  </p:nvSpPr>
                  <p:spPr>
                    <a:xfrm rot="4286400">
                      <a:off x="5047200" y="3542040"/>
                      <a:ext cx="1972080" cy="30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4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1" name="Freeform 103"/>
                    <p:cNvSpPr/>
                    <p:nvPr/>
                  </p:nvSpPr>
                  <p:spPr>
                    <a:xfrm rot="4286400">
                      <a:off x="5877720" y="4881960"/>
                      <a:ext cx="1059480" cy="47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4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2" name="Group 104"/>
                  <p:cNvGrpSpPr/>
                  <p:nvPr/>
                </p:nvGrpSpPr>
                <p:grpSpPr>
                  <a:xfrm>
                    <a:off x="5521680" y="2840760"/>
                    <a:ext cx="696960" cy="2777400"/>
                    <a:chOff x="5521680" y="2840760"/>
                    <a:chExt cx="696960" cy="2777400"/>
                  </a:xfrm>
                </p:grpSpPr>
                <p:sp>
                  <p:nvSpPr>
                    <p:cNvPr id="323" name="Freeform 105"/>
                    <p:cNvSpPr/>
                    <p:nvPr/>
                  </p:nvSpPr>
                  <p:spPr>
                    <a:xfrm rot="4898400">
                      <a:off x="4897080" y="3607560"/>
                      <a:ext cx="18122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4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4" name="Freeform 106"/>
                    <p:cNvSpPr/>
                    <p:nvPr/>
                  </p:nvSpPr>
                  <p:spPr>
                    <a:xfrm rot="4898400">
                      <a:off x="5425920" y="4864320"/>
                      <a:ext cx="97308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4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5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326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4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7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4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328" name="Group 110"/>
              <p:cNvGrpSpPr/>
              <p:nvPr/>
            </p:nvGrpSpPr>
            <p:grpSpPr>
              <a:xfrm>
                <a:off x="2175480" y="682560"/>
                <a:ext cx="6731640" cy="4521240"/>
                <a:chOff x="2175480" y="682560"/>
                <a:chExt cx="6731640" cy="4521240"/>
              </a:xfrm>
            </p:grpSpPr>
            <p:grpSp>
              <p:nvGrpSpPr>
                <p:cNvPr id="329" name="Group 111"/>
                <p:cNvGrpSpPr/>
                <p:nvPr/>
              </p:nvGrpSpPr>
              <p:grpSpPr>
                <a:xfrm>
                  <a:off x="2175480" y="682560"/>
                  <a:ext cx="6731640" cy="4521240"/>
                  <a:chOff x="2175480" y="682560"/>
                  <a:chExt cx="6731640" cy="4521240"/>
                </a:xfrm>
              </p:grpSpPr>
              <p:sp>
                <p:nvSpPr>
                  <p:cNvPr id="330" name="Arc 112"/>
                  <p:cNvSpPr/>
                  <p:nvPr/>
                </p:nvSpPr>
                <p:spPr>
                  <a:xfrm flipV="1">
                    <a:off x="5742720" y="857880"/>
                    <a:ext cx="3164400" cy="25239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40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1" name="Arc 113"/>
                  <p:cNvSpPr/>
                  <p:nvPr/>
                </p:nvSpPr>
                <p:spPr>
                  <a:xfrm flipH="1">
                    <a:off x="2561400" y="2270520"/>
                    <a:ext cx="248508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40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Arc 114"/>
                  <p:cNvSpPr/>
                  <p:nvPr/>
                </p:nvSpPr>
                <p:spPr>
                  <a:xfrm>
                    <a:off x="5820120" y="1752840"/>
                    <a:ext cx="1757520" cy="29343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40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3" name="Arc 115"/>
                  <p:cNvSpPr/>
                  <p:nvPr/>
                </p:nvSpPr>
                <p:spPr>
                  <a:xfrm flipH="1">
                    <a:off x="2175480" y="1297800"/>
                    <a:ext cx="3132000" cy="29343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40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4" name="Arc 116"/>
                  <p:cNvSpPr/>
                  <p:nvPr/>
                </p:nvSpPr>
                <p:spPr>
                  <a:xfrm flipH="1">
                    <a:off x="3057120" y="682560"/>
                    <a:ext cx="228132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40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5" name="Arc 117"/>
                  <p:cNvSpPr/>
                  <p:nvPr/>
                </p:nvSpPr>
                <p:spPr>
                  <a:xfrm>
                    <a:off x="5492520" y="1875960"/>
                    <a:ext cx="94284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40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6" name="Freeform 118"/>
                  <p:cNvSpPr/>
                  <p:nvPr/>
                </p:nvSpPr>
                <p:spPr>
                  <a:xfrm flipH="1">
                    <a:off x="43048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40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7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40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8" name="Group 120"/>
            <p:cNvGrpSpPr/>
            <p:nvPr/>
          </p:nvGrpSpPr>
          <p:grpSpPr>
            <a:xfrm>
              <a:off x="2342880" y="712800"/>
              <a:ext cx="6410160" cy="4708080"/>
              <a:chOff x="2342880" y="712800"/>
              <a:chExt cx="6410160" cy="4708080"/>
            </a:xfrm>
          </p:grpSpPr>
          <p:sp>
            <p:nvSpPr>
              <p:cNvPr id="339" name="Freeform 121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0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40" name="Arc 122"/>
              <p:cNvSpPr/>
              <p:nvPr/>
            </p:nvSpPr>
            <p:spPr>
              <a:xfrm flipH="1">
                <a:off x="3383280" y="2579760"/>
                <a:ext cx="2613960" cy="28411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0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41" name="Arc 123"/>
              <p:cNvSpPr/>
              <p:nvPr/>
            </p:nvSpPr>
            <p:spPr>
              <a:xfrm flipH="1">
                <a:off x="3644640" y="2122200"/>
                <a:ext cx="1536120" cy="293400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0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42" name="Arc 124"/>
              <p:cNvSpPr/>
              <p:nvPr/>
            </p:nvSpPr>
            <p:spPr>
              <a:xfrm flipH="1">
                <a:off x="2342520" y="1738800"/>
                <a:ext cx="2930040" cy="293400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0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43" name="Arc 125"/>
              <p:cNvSpPr/>
              <p:nvPr/>
            </p:nvSpPr>
            <p:spPr>
              <a:xfrm>
                <a:off x="5586480" y="2150640"/>
                <a:ext cx="46980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0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44" name="Arc 126"/>
              <p:cNvSpPr/>
              <p:nvPr/>
            </p:nvSpPr>
            <p:spPr>
              <a:xfrm>
                <a:off x="5709960" y="2136960"/>
                <a:ext cx="123768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0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45" name="Freeform 127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0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46" name="Freeform 128"/>
              <p:cNvSpPr/>
              <p:nvPr/>
            </p:nvSpPr>
            <p:spPr>
              <a:xfrm flipV="1" rot="19660800">
                <a:off x="5223600" y="2947320"/>
                <a:ext cx="544680" cy="10339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0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47" name="Freeform 129"/>
              <p:cNvSpPr/>
              <p:nvPr/>
            </p:nvSpPr>
            <p:spPr>
              <a:xfrm flipH="1">
                <a:off x="2686320" y="338400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0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48" name="Freeform 130"/>
              <p:cNvSpPr/>
              <p:nvPr/>
            </p:nvSpPr>
            <p:spPr>
              <a:xfrm flipH="1">
                <a:off x="3317400" y="1398240"/>
                <a:ext cx="85680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0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49" name="Freeform 131"/>
              <p:cNvSpPr/>
              <p:nvPr/>
            </p:nvSpPr>
            <p:spPr>
              <a:xfrm>
                <a:off x="7511400" y="3107880"/>
                <a:ext cx="1241640" cy="1972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0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50" name="Freeform 132"/>
              <p:cNvSpPr/>
              <p:nvPr/>
            </p:nvSpPr>
            <p:spPr>
              <a:xfrm>
                <a:off x="6865200" y="2109960"/>
                <a:ext cx="187308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0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51" name="Freeform 133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0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52" name="Freeform 134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0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8669E-8E23-44B8-8D5F-586F925B4FE4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39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9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1CABE-1E7C-48D9-A898-B1B7DF339365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МОУ- сош с.Рекорд Краснокутского района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Саратовской област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   учитель математики Куанова Л.Я.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403280" y="2205000"/>
            <a:ext cx="6478560" cy="389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Arial Black"/>
              </a:rPr>
              <a:t>ВНЕКЛАССНОЕ МЕРОПРИЯТИЕ </a:t>
            </a:r>
            <a:br>
              <a:rPr sz="3600"/>
            </a:br>
            <a:r>
              <a:rPr b="1" lang="ru-RU" sz="3600" spc="-1" strike="noStrike">
                <a:solidFill>
                  <a:srgbClr val="ffcc00"/>
                </a:solidFill>
                <a:latin typeface="Arial Black"/>
              </a:rPr>
              <a:t>ПО МАТЕМАТИКЕ, </a:t>
            </a:r>
            <a:br>
              <a:rPr sz="3600"/>
            </a:br>
            <a:r>
              <a:rPr b="1" lang="ru-RU" sz="3600" spc="-1" strike="noStrike">
                <a:solidFill>
                  <a:srgbClr val="ffcc00"/>
                </a:solidFill>
                <a:latin typeface="Arial Black"/>
              </a:rPr>
              <a:t>ПОСВЯЩЕННОЕ 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Arial Black"/>
              </a:rPr>
              <a:t>ДНЮ ПОБЕДЫ </a:t>
            </a:r>
            <a:br>
              <a:rPr sz="3600"/>
            </a:br>
            <a:r>
              <a:rPr b="1" lang="ru-RU" sz="3600" spc="-1" strike="noStrike">
                <a:solidFill>
                  <a:srgbClr val="ffcc00"/>
                </a:solidFill>
                <a:latin typeface="Arial Black"/>
              </a:rPr>
              <a:t>«НАМ НЕ ДАНО ЗАБЫТЬ»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/>
          </p:nvPr>
        </p:nvSpPr>
        <p:spPr>
          <a:xfrm>
            <a:off x="51055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Михаи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Всеволодович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Келдыш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55" name="Picture 4" descr="Келдыш"/>
          <p:cNvPicPr/>
          <p:nvPr/>
        </p:nvPicPr>
        <p:blipFill>
          <a:blip r:embed="rId1"/>
          <a:stretch/>
        </p:blipFill>
        <p:spPr>
          <a:xfrm>
            <a:off x="468360" y="620640"/>
            <a:ext cx="3725640" cy="52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/>
          </p:nvPr>
        </p:nvSpPr>
        <p:spPr>
          <a:xfrm>
            <a:off x="51055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Алексей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Николаевич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Крылов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57" name="Picture 4" descr="Крылов"/>
          <p:cNvPicPr/>
          <p:nvPr/>
        </p:nvPicPr>
        <p:blipFill>
          <a:blip r:embed="rId1"/>
          <a:srcRect l="2461" t="6207" r="0" b="10691"/>
          <a:stretch/>
        </p:blipFill>
        <p:spPr>
          <a:xfrm>
            <a:off x="569880" y="690480"/>
            <a:ext cx="3997440" cy="47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Picture 4" descr="начало"/>
          <p:cNvPicPr/>
          <p:nvPr/>
        </p:nvPicPr>
        <p:blipFill>
          <a:blip r:embed="rId1"/>
          <a:stretch/>
        </p:blipFill>
        <p:spPr>
          <a:xfrm>
            <a:off x="468360" y="476280"/>
            <a:ext cx="7916760" cy="59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Picture 4" descr="война1"/>
          <p:cNvPicPr/>
          <p:nvPr/>
        </p:nvPicPr>
        <p:blipFill>
          <a:blip r:embed="rId1"/>
          <a:stretch/>
        </p:blipFill>
        <p:spPr>
          <a:xfrm>
            <a:off x="755640" y="692280"/>
            <a:ext cx="7466040" cy="55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Picture 5" descr="ww2_photos_9"/>
          <p:cNvPicPr/>
          <p:nvPr/>
        </p:nvPicPr>
        <p:blipFill>
          <a:blip r:embed="rId1"/>
          <a:stretch/>
        </p:blipFill>
        <p:spPr>
          <a:xfrm>
            <a:off x="684360" y="404640"/>
            <a:ext cx="7759440" cy="58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4" descr="berlin"/>
          <p:cNvPicPr/>
          <p:nvPr/>
        </p:nvPicPr>
        <p:blipFill>
          <a:blip r:embed="rId1"/>
          <a:stretch/>
        </p:blipFill>
        <p:spPr>
          <a:xfrm>
            <a:off x="1692360" y="260280"/>
            <a:ext cx="582120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Picture 4" descr="8"/>
          <p:cNvPicPr/>
          <p:nvPr/>
        </p:nvPicPr>
        <p:blipFill>
          <a:blip r:embed="rId1"/>
          <a:stretch/>
        </p:blipFill>
        <p:spPr>
          <a:xfrm>
            <a:off x="324000" y="189000"/>
            <a:ext cx="3456000" cy="239688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5" descr="10"/>
          <p:cNvPicPr/>
          <p:nvPr/>
        </p:nvPicPr>
        <p:blipFill>
          <a:blip r:embed="rId2"/>
          <a:stretch/>
        </p:blipFill>
        <p:spPr>
          <a:xfrm>
            <a:off x="4716360" y="189000"/>
            <a:ext cx="3527640" cy="265752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6" descr="7"/>
          <p:cNvPicPr/>
          <p:nvPr/>
        </p:nvPicPr>
        <p:blipFill>
          <a:blip r:embed="rId3"/>
          <a:stretch/>
        </p:blipFill>
        <p:spPr>
          <a:xfrm>
            <a:off x="506520" y="2941560"/>
            <a:ext cx="3240000" cy="324000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7" descr="15"/>
          <p:cNvPicPr/>
          <p:nvPr/>
        </p:nvPicPr>
        <p:blipFill>
          <a:blip r:embed="rId4"/>
          <a:stretch/>
        </p:blipFill>
        <p:spPr>
          <a:xfrm>
            <a:off x="4392720" y="2987640"/>
            <a:ext cx="4174920" cy="31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Picture 4" descr="вечный огонь"/>
          <p:cNvPicPr/>
          <p:nvPr/>
        </p:nvPicPr>
        <p:blipFill>
          <a:blip r:embed="rId1"/>
          <a:stretch/>
        </p:blipFill>
        <p:spPr>
          <a:xfrm>
            <a:off x="971640" y="907920"/>
            <a:ext cx="6769080" cy="50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Picture 4" descr="вечный огонь"/>
          <p:cNvPicPr/>
          <p:nvPr/>
        </p:nvPicPr>
        <p:blipFill>
          <a:blip r:embed="rId1"/>
          <a:stretch/>
        </p:blipFill>
        <p:spPr>
          <a:xfrm>
            <a:off x="468360" y="404640"/>
            <a:ext cx="8008920" cy="59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/>
          </p:nvPr>
        </p:nvSpPr>
        <p:spPr>
          <a:xfrm>
            <a:off x="324000" y="62064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6000" spc="-1" strike="noStrike">
                <a:solidFill>
                  <a:srgbClr val="ffffff"/>
                </a:solidFill>
                <a:latin typeface="Tahoma"/>
              </a:rPr>
              <a:t>Вклад советских математиков 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ahoma"/>
              </a:rPr>
              <a:t>в разгром немецко-фашистских захватчиков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/>
          </p:nvPr>
        </p:nvSpPr>
        <p:spPr>
          <a:xfrm>
            <a:off x="6108480" y="1600200"/>
            <a:ext cx="30351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Линник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Юрий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Владимирович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43" name="Picture 4" descr="Линник"/>
          <p:cNvPicPr/>
          <p:nvPr/>
        </p:nvPicPr>
        <p:blipFill>
          <a:blip r:embed="rId1"/>
          <a:stretch/>
        </p:blipFill>
        <p:spPr>
          <a:xfrm>
            <a:off x="395280" y="907920"/>
            <a:ext cx="496872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Picture 4" descr="Ляпунов"/>
          <p:cNvPicPr/>
          <p:nvPr/>
        </p:nvPicPr>
        <p:blipFill>
          <a:blip r:embed="rId1"/>
          <a:stretch/>
        </p:blipFill>
        <p:spPr>
          <a:xfrm>
            <a:off x="324000" y="260280"/>
            <a:ext cx="4711680" cy="591048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/>
          </p:nvPr>
        </p:nvSpPr>
        <p:spPr>
          <a:xfrm>
            <a:off x="5533920" y="1600200"/>
            <a:ext cx="3610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Ляпунов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Алексей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Андреевич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/>
          </p:nvPr>
        </p:nvSpPr>
        <p:spPr>
          <a:xfrm>
            <a:off x="51055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Алексей Васильевич Погорелов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47" name="Picture 5" descr="G:\AleksejPogorelov.jpg"/>
          <p:cNvPicPr/>
          <p:nvPr/>
        </p:nvPicPr>
        <p:blipFill>
          <a:blip r:embed="rId1"/>
          <a:stretch/>
        </p:blipFill>
        <p:spPr>
          <a:xfrm>
            <a:off x="468360" y="692280"/>
            <a:ext cx="417492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/>
          </p:nvPr>
        </p:nvSpPr>
        <p:spPr>
          <a:xfrm>
            <a:off x="51055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Андрей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Николаевич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Колмогоров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49" name="Picture 4" descr="Колмогоров"/>
          <p:cNvPicPr/>
          <p:nvPr/>
        </p:nvPicPr>
        <p:blipFill>
          <a:blip r:embed="rId1"/>
          <a:stretch/>
        </p:blipFill>
        <p:spPr>
          <a:xfrm>
            <a:off x="539640" y="1052640"/>
            <a:ext cx="4287960" cy="47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/>
          </p:nvPr>
        </p:nvSpPr>
        <p:spPr>
          <a:xfrm>
            <a:off x="5821200" y="1600200"/>
            <a:ext cx="3322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Лаврентьев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Михаил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Алексеевич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51" name="Picture 4" descr="лаврентьев"/>
          <p:cNvPicPr/>
          <p:nvPr/>
        </p:nvPicPr>
        <p:blipFill>
          <a:blip r:embed="rId1"/>
          <a:stretch/>
        </p:blipFill>
        <p:spPr>
          <a:xfrm>
            <a:off x="468360" y="549360"/>
            <a:ext cx="481176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/>
          </p:nvPr>
        </p:nvSpPr>
        <p:spPr>
          <a:xfrm>
            <a:off x="51055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Николай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Гурьевич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Четаев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53" name="Picture 4" descr="Четаев"/>
          <p:cNvPicPr/>
          <p:nvPr/>
        </p:nvPicPr>
        <p:blipFill>
          <a:blip r:embed="rId1"/>
          <a:srcRect l="0" t="0" r="0" b="17566"/>
          <a:stretch/>
        </p:blipFill>
        <p:spPr>
          <a:xfrm>
            <a:off x="539640" y="692280"/>
            <a:ext cx="402912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4T08:09:17Z</dcterms:created>
  <dc:creator>User</dc:creator>
  <dc:description/>
  <dc:language>en-US</dc:language>
  <cp:lastModifiedBy>User</cp:lastModifiedBy>
  <dcterms:modified xsi:type="dcterms:W3CDTF">2014-01-30T10:00:08Z</dcterms:modified>
  <cp:revision>13</cp:revision>
  <dc:subject/>
  <dc:title>МОУ- сош с.Рекорд Краснокутского района Саратовской области</dc:title>
</cp:coreProperties>
</file>