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5.png" ContentType="image/png"/>
  <Override PartName="/ppt/media/image54.jpeg" ContentType="image/jpeg"/>
  <Override PartName="/ppt/media/image33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69.png" ContentType="image/png"/>
  <Override PartName="/ppt/media/image18.jpeg" ContentType="image/jpeg"/>
  <Override PartName="/ppt/media/image20.png" ContentType="image/png"/>
  <Override PartName="/ppt/media/image57.png" ContentType="image/png"/>
  <Override PartName="/ppt/media/image51.jpeg" ContentType="image/jpeg"/>
  <Override PartName="/ppt/media/image19.jpeg" ContentType="image/jpeg"/>
  <Override PartName="/ppt/media/image32.jpeg" ContentType="image/jpeg"/>
  <Override PartName="/ppt/media/image70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68.png" ContentType="image/png"/>
  <Override PartName="/ppt/media/image1.png" ContentType="image/png"/>
  <Override PartName="/ppt/media/image67.png" ContentType="image/png"/>
  <Override PartName="/ppt/media/image30.png" ContentType="image/png"/>
  <Override PartName="/ppt/media/image38.png" ContentType="image/png"/>
  <Override PartName="/ppt/media/image66.png" ContentType="image/png"/>
  <Override PartName="/ppt/media/image59.png" ContentType="image/png"/>
  <Override PartName="/ppt/media/image22.png" ContentType="image/png"/>
  <Override PartName="/ppt/media/image24.jpeg" ContentType="image/jpeg"/>
  <Override PartName="/ppt/media/image61.png" ContentType="image/png"/>
  <Override PartName="/ppt/media/image60.jpeg" ContentType="image/jpeg"/>
  <Override PartName="/ppt/media/image64.png" ContentType="image/png"/>
  <Override PartName="/ppt/media/image16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15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6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FAF-88CA-45E0-BF85-AD93CB6564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133-A3AF-4D57-AA24-3E506CB53A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7D59-138B-4491-BF7B-AF2DBA3A22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6EE-216E-42A7-980A-7340C903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B3D-1BA8-4264-91EB-55A71A9F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FAD-E147-4DB6-96F2-7FF528C3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5EA-9C7D-4369-A658-C3A1C621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A0281-1A28-46BE-A0A5-60300EDB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22AFF-BFC7-4122-A22B-44F6E26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F4DBD-AB3C-4354-BF28-8E07E2E0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E459-2BF0-48E7-9007-DEDDB4B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26274-B1E3-47E4-B034-2B495F73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BA6A2-011A-42A7-852F-54969EA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F14FE-9A9F-467E-BC77-67C8BEB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43E-A92F-4866-A584-0D57CB2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49E24-5B37-4C01-A9CD-B9A70A4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4F7B-A00E-4275-B6A6-D64A4AF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61D9A-335C-4659-8AAE-3C10ED68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F7D2C-F39F-4690-BB6C-A1870755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05EC-322D-473A-BEF3-CEF0AB4C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592-EFB9-4E4A-8B19-A72EBD68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E78-8F45-4BDF-B0EF-8EEC5737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ADE-F069-498C-9798-7880FD3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980-A471-4FB3-A84C-54BE43DA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EAE-14D8-4BBA-A526-65C2C49E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73A-8F86-4D20-A1EF-2E01F8C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A79-CEF5-4D05-B8B3-91AE13B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C954-D5ED-43ED-A58C-E4C45488F8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4C43-8C38-4203-A4FD-95536A948CA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slide" Target="slide22.xml"/><Relationship Id="rId7" Type="http://schemas.openxmlformats.org/officeDocument/2006/relationships/image" Target="../media/image36.png"/><Relationship Id="rId8" Type="http://schemas.openxmlformats.org/officeDocument/2006/relationships/slide" Target="slide15.xml"/><Relationship Id="rId9" Type="http://schemas.openxmlformats.org/officeDocument/2006/relationships/image" Target="../media/image36.png"/><Relationship Id="rId10" Type="http://schemas.openxmlformats.org/officeDocument/2006/relationships/slide" Target="slide19.xml"/><Relationship Id="rId11" Type="http://schemas.openxmlformats.org/officeDocument/2006/relationships/image" Target="../media/image36.png"/><Relationship Id="rId12" Type="http://schemas.openxmlformats.org/officeDocument/2006/relationships/slide" Target="slide23.xml"/><Relationship Id="rId13" Type="http://schemas.openxmlformats.org/officeDocument/2006/relationships/image" Target="../media/image36.png"/><Relationship Id="rId14" Type="http://schemas.openxmlformats.org/officeDocument/2006/relationships/slide" Target="slide12.xml"/><Relationship Id="rId15" Type="http://schemas.openxmlformats.org/officeDocument/2006/relationships/image" Target="../media/image36.png"/><Relationship Id="rId16" Type="http://schemas.openxmlformats.org/officeDocument/2006/relationships/slide" Target="slide13.xml"/><Relationship Id="rId17" Type="http://schemas.openxmlformats.org/officeDocument/2006/relationships/image" Target="../media/image36.png"/><Relationship Id="rId18" Type="http://schemas.openxmlformats.org/officeDocument/2006/relationships/slide" Target="slide14.xml"/><Relationship Id="rId19" Type="http://schemas.openxmlformats.org/officeDocument/2006/relationships/slide" Target="slide14.xml"/><Relationship Id="rId20" Type="http://schemas.openxmlformats.org/officeDocument/2006/relationships/image" Target="../media/image36.png"/><Relationship Id="rId21" Type="http://schemas.openxmlformats.org/officeDocument/2006/relationships/slide" Target="slide16.xml"/><Relationship Id="rId22" Type="http://schemas.openxmlformats.org/officeDocument/2006/relationships/image" Target="../media/image36.png"/><Relationship Id="rId23" Type="http://schemas.openxmlformats.org/officeDocument/2006/relationships/slide" Target="slide17.xml"/><Relationship Id="rId24" Type="http://schemas.openxmlformats.org/officeDocument/2006/relationships/image" Target="../media/image36.png"/><Relationship Id="rId25" Type="http://schemas.openxmlformats.org/officeDocument/2006/relationships/slide" Target="slide18.xml"/><Relationship Id="rId26" Type="http://schemas.openxmlformats.org/officeDocument/2006/relationships/slide" Target="slide18.xml"/><Relationship Id="rId27" Type="http://schemas.openxmlformats.org/officeDocument/2006/relationships/image" Target="../media/image36.png"/><Relationship Id="rId28" Type="http://schemas.openxmlformats.org/officeDocument/2006/relationships/slide" Target="slide20.xml"/><Relationship Id="rId29" Type="http://schemas.openxmlformats.org/officeDocument/2006/relationships/image" Target="../media/image36.png"/><Relationship Id="rId30" Type="http://schemas.openxmlformats.org/officeDocument/2006/relationships/slide" Target="slide21.xml"/><Relationship Id="rId31" Type="http://schemas.openxmlformats.org/officeDocument/2006/relationships/image" Target="../media/image37.png"/><Relationship Id="rId32" Type="http://schemas.openxmlformats.org/officeDocument/2006/relationships/slide" Target="slide24.xml"/><Relationship Id="rId33" Type="http://schemas.openxmlformats.org/officeDocument/2006/relationships/image" Target="../media/image36.png"/><Relationship Id="rId34" Type="http://schemas.openxmlformats.org/officeDocument/2006/relationships/slide" Target="slide25.xml"/><Relationship Id="rId35" Type="http://schemas.openxmlformats.org/officeDocument/2006/relationships/image" Target="../media/image36.png"/><Relationship Id="rId36" Type="http://schemas.openxmlformats.org/officeDocument/2006/relationships/slide" Target="slide26.xml"/><Relationship Id="rId37" Type="http://schemas.openxmlformats.org/officeDocument/2006/relationships/image" Target="../media/image36.png"/><Relationship Id="rId38" Type="http://schemas.openxmlformats.org/officeDocument/2006/relationships/slide" Target="slide11.xml"/><Relationship Id="rId39" Type="http://schemas.openxmlformats.org/officeDocument/2006/relationships/slide" Target="slide2.xml"/><Relationship Id="rId40" Type="http://schemas.openxmlformats.org/officeDocument/2006/relationships/image" Target="../media/image38.png"/><Relationship Id="rId41" Type="http://schemas.openxmlformats.org/officeDocument/2006/relationships/image" Target="../media/image39.png"/><Relationship Id="rId42" Type="http://schemas.openxmlformats.org/officeDocument/2006/relationships/image" Target="../media/image40.png"/><Relationship Id="rId4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1.png"/><Relationship Id="rId4" Type="http://schemas.openxmlformats.org/officeDocument/2006/relationships/image" Target="../media/image46.png"/><Relationship Id="rId5" Type="http://schemas.openxmlformats.org/officeDocument/2006/relationships/slide" Target="slide10.xml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png"/><Relationship Id="rId3" Type="http://schemas.openxmlformats.org/officeDocument/2006/relationships/image" Target="../media/image49.png"/><Relationship Id="rId4" Type="http://schemas.openxmlformats.org/officeDocument/2006/relationships/slide" Target="slide10.xm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png"/><Relationship Id="rId3" Type="http://schemas.openxmlformats.org/officeDocument/2006/relationships/slide" Target="slide10.xml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slide" Target="slide10.xml"/><Relationship Id="rId4" Type="http://schemas.openxmlformats.org/officeDocument/2006/relationships/hyperlink" Target="http://images.yandex.ru/yandsearch?source=wiz&amp;fp=0&amp;img_url=http%3A%2F%2Ftrueslant.com%2Fmichaelshermer%2Ffiles%2F2010%2F03%2Fs_full-moon.jpg&amp;text=&#1083;&#1091;&#1085;&#1072;&amp;noreask=1&amp;pos=10&amp;lr=2&amp;rpt=simage&amp;nojs=1" TargetMode="External"/><Relationship Id="rId5" Type="http://schemas.openxmlformats.org/officeDocument/2006/relationships/image" Target="../media/image54.jpe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56.jpeg"/><Relationship Id="rId4" Type="http://schemas.openxmlformats.org/officeDocument/2006/relationships/slide" Target="slide10.xml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58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55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59.png"/><Relationship Id="rId4" Type="http://schemas.openxmlformats.org/officeDocument/2006/relationships/slide" Target="slide10.xml"/><Relationship Id="rId5" Type="http://schemas.openxmlformats.org/officeDocument/2006/relationships/hyperlink" Target="http://ped-kopilka.ru/images/7(343).jpg" TargetMode="External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7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10.xml"/><Relationship Id="rId3" Type="http://schemas.openxmlformats.org/officeDocument/2006/relationships/image" Target="../media/image61.png"/><Relationship Id="rId4" Type="http://schemas.openxmlformats.org/officeDocument/2006/relationships/image" Target="../media/image46.png"/><Relationship Id="rId5" Type="http://schemas.openxmlformats.org/officeDocument/2006/relationships/hyperlink" Target="http://img1.liveinternet.ru/images/attach/c/1/56/92/56092207_Tereshkova.jpg" TargetMode="External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61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6.pn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image" Target="../media/image67.png"/><Relationship Id="rId4" Type="http://schemas.openxmlformats.org/officeDocument/2006/relationships/image" Target="../media/image66.png"/><Relationship Id="rId5" Type="http://schemas.openxmlformats.org/officeDocument/2006/relationships/image" Target="../media/image4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46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verigel.sk/!picd/obrazy/i005568.jpg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image" Target="../media/image23.jpeg"/><Relationship Id="rId6" Type="http://schemas.openxmlformats.org/officeDocument/2006/relationships/hyperlink" Target="http://uh.ru/files/a/4/2816/images/chellenger1.jpg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www.wallcoo.com/cartoon/Space_image_space_and_satellite/images/Space%20Satellite%20CG%20art%20images%20EF07%23SI0251.JPG" TargetMode="External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.xml"/><Relationship Id="rId3" Type="http://schemas.openxmlformats.org/officeDocument/2006/relationships/image" Target="../media/image31.jpeg"/><Relationship Id="rId4" Type="http://schemas.openxmlformats.org/officeDocument/2006/relationships/hyperlink" Target="http://origami-blog.net/wp-content/uploads/2013/07/Origami-raketa.jpg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4" descr=""/>
          <p:cNvPicPr/>
          <p:nvPr/>
        </p:nvPicPr>
        <p:blipFill>
          <a:blip r:embed="rId1"/>
          <a:stretch/>
        </p:blipFill>
        <p:spPr>
          <a:xfrm>
            <a:off x="171360" y="1231920"/>
            <a:ext cx="8601120" cy="3120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484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школы №1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язкин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4-конечная звезда 5"/>
          <p:cNvGrpSpPr/>
          <p:nvPr/>
        </p:nvGrpSpPr>
        <p:grpSpPr>
          <a:xfrm>
            <a:off x="1463760" y="609480"/>
            <a:ext cx="1511280" cy="1511280"/>
            <a:chOff x="1463760" y="609480"/>
            <a:chExt cx="1511280" cy="1511280"/>
          </a:xfrm>
        </p:grpSpPr>
        <p:pic>
          <p:nvPicPr>
            <p:cNvPr id="132" name="4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1463760" y="609480"/>
              <a:ext cx="15112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21444000">
              <a:off x="2139480" y="12837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34" name="4-конечная звезда 6"/>
          <p:cNvGrpSpPr/>
          <p:nvPr/>
        </p:nvGrpSpPr>
        <p:grpSpPr>
          <a:xfrm>
            <a:off x="7516800" y="4065480"/>
            <a:ext cx="736560" cy="860400"/>
            <a:chOff x="7516800" y="4065480"/>
            <a:chExt cx="736560" cy="860400"/>
          </a:xfrm>
        </p:grpSpPr>
        <p:pic>
          <p:nvPicPr>
            <p:cNvPr id="135" name="4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7516800" y="4065480"/>
              <a:ext cx="7365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845480" y="4449600"/>
              <a:ext cx="777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37" name="4-конечная звезда 7"/>
          <p:cNvGrpSpPr/>
          <p:nvPr/>
        </p:nvGrpSpPr>
        <p:grpSpPr>
          <a:xfrm>
            <a:off x="4406760" y="3333600"/>
            <a:ext cx="1049400" cy="1177920"/>
            <a:chOff x="4406760" y="3333600"/>
            <a:chExt cx="1049400" cy="1177920"/>
          </a:xfrm>
        </p:grpSpPr>
        <p:pic>
          <p:nvPicPr>
            <p:cNvPr id="138" name="4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4406760" y="3333600"/>
              <a:ext cx="10494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879800" y="3860640"/>
              <a:ext cx="103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40" name="4-конечная звезда 8"/>
          <p:cNvGrpSpPr/>
          <p:nvPr/>
        </p:nvGrpSpPr>
        <p:grpSpPr>
          <a:xfrm>
            <a:off x="6066000" y="384120"/>
            <a:ext cx="901440" cy="1047960"/>
            <a:chOff x="6066000" y="384120"/>
            <a:chExt cx="901440" cy="1047960"/>
          </a:xfrm>
        </p:grpSpPr>
        <p:pic>
          <p:nvPicPr>
            <p:cNvPr id="141" name="4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066000" y="384120"/>
              <a:ext cx="9014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478560" y="857160"/>
              <a:ext cx="76320" cy="1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43" name="4-конечная звезда 9"/>
          <p:cNvSpPr/>
          <p:nvPr/>
        </p:nvSpPr>
        <p:spPr>
          <a:xfrm>
            <a:off x="2556000" y="4292640"/>
            <a:ext cx="5760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44" name="4-конечная звезда 10"/>
          <p:cNvGrpSpPr/>
          <p:nvPr/>
        </p:nvGrpSpPr>
        <p:grpSpPr>
          <a:xfrm>
            <a:off x="7643880" y="2687760"/>
            <a:ext cx="1055520" cy="1122120"/>
            <a:chOff x="7643880" y="2687760"/>
            <a:chExt cx="1055520" cy="1122120"/>
          </a:xfrm>
        </p:grpSpPr>
        <p:pic>
          <p:nvPicPr>
            <p:cNvPr id="145" name="4-конечная звезда 10" descr=""/>
            <p:cNvPicPr/>
            <p:nvPr/>
          </p:nvPicPr>
          <p:blipFill>
            <a:blip r:embed="rId6"/>
            <a:stretch/>
          </p:blipFill>
          <p:spPr>
            <a:xfrm>
              <a:off x="7643880" y="2687760"/>
              <a:ext cx="10555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132760" y="3203640"/>
              <a:ext cx="81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06472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Игра «НАША ВСЕЛЕНН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4640" y="1529640"/>
            <a:ext cx="3653640" cy="70236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08000" y="2421000"/>
            <a:ext cx="3887640" cy="1008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космос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08000" y="3429000"/>
            <a:ext cx="381636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космонавты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108000" y="4508640"/>
            <a:ext cx="3887640" cy="936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Космические корабл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7093080" y="3500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6" action="ppaction://hlinksldjump"/>
              </a:rPr>
              <a:t>4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995640" y="2492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8" action="ppaction://hlinksldjump"/>
              </a:rPr>
              <a:t>1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3995640" y="3500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0" action="ppaction://hlinksldjump"/>
              </a:rPr>
              <a:t>1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4067280" y="4508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2" action="ppaction://hlinksldjump"/>
              </a:rPr>
              <a:t>1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5148360" y="1484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4" action="ppaction://hlinksldjump"/>
              </a:rPr>
              <a:t>2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6156360" y="1484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6" action="ppaction://hlinksldjump"/>
              </a:rPr>
              <a:t>3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7164360" y="1484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8" action="ppaction://hlinksldjump"/>
              </a:rPr>
              <a:t>4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19" action="ppaction://hlinksldjump"/>
              </a:rPr>
              <a:t>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5076720" y="2492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21" action="ppaction://hlinksldjump"/>
              </a:rPr>
              <a:t>2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6084720" y="249228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23" action="ppaction://hlinksldjump"/>
              </a:rPr>
              <a:t>3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7093080" y="2492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25" action="ppaction://hlinksldjump"/>
              </a:rPr>
              <a:t>4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26" action="ppaction://hlinksldjump"/>
              </a:rPr>
              <a:t>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5076720" y="3500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28" action="ppaction://hlinksldjump"/>
              </a:rPr>
              <a:t>2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6084720" y="3500280"/>
            <a:ext cx="1008360" cy="86364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30" action="ppaction://hlinksldjump"/>
              </a:rPr>
              <a:t>3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5076720" y="4508640"/>
            <a:ext cx="1079640" cy="86508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32" action="ppaction://hlinksldjump"/>
              </a:rPr>
              <a:t>2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6156360" y="4508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34" action="ppaction://hlinksldjump"/>
              </a:rPr>
              <a:t>3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7164360" y="450864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36" action="ppaction://hlinksldjump"/>
              </a:rPr>
              <a:t>4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4067280" y="1484280"/>
            <a:ext cx="1008000" cy="86364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Bookman Old Style"/>
                <a:hlinkClick r:id="rId38" action="ppaction://hlinksldjump"/>
              </a:rPr>
              <a:t>10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8" name="Управляющая кнопка: настраиваемая 22">
            <a:hlinkClick r:id="" action="ppaction://hlinkshowjump?jump=lastslide"/>
          </p:cNvPr>
          <p:cNvSpPr/>
          <p:nvPr/>
        </p:nvSpPr>
        <p:spPr>
          <a:xfrm>
            <a:off x="8172360" y="5805360"/>
            <a:ext cx="576360" cy="370080"/>
          </a:xfrm>
          <a:custGeom>
            <a:avLst/>
            <a:gdLst>
              <a:gd name="textAreaLeft" fmla="*/ 23760 w 576360"/>
              <a:gd name="textAreaRight" fmla="*/ 552600 w 57636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33628" h="21600">
                <a:moveTo>
                  <a:pt x="0" y="0"/>
                </a:moveTo>
                <a:lnTo>
                  <a:pt x="33628" y="0"/>
                </a:lnTo>
                <a:lnTo>
                  <a:pt x="33628" y="21600"/>
                </a:lnTo>
                <a:lnTo>
                  <a:pt x="0" y="21600"/>
                </a:lnTo>
                <a:close/>
              </a:path>
              <a:path fill="lightenLess" w="33628" h="21600">
                <a:moveTo>
                  <a:pt x="0" y="0"/>
                </a:moveTo>
                <a:lnTo>
                  <a:pt x="33628" y="0"/>
                </a:lnTo>
                <a:lnTo>
                  <a:pt x="32228" y="1400"/>
                </a:lnTo>
                <a:lnTo>
                  <a:pt x="1400" y="1400"/>
                </a:lnTo>
                <a:close/>
              </a:path>
              <a:path fill="darken" w="33628" h="21600">
                <a:moveTo>
                  <a:pt x="33628" y="0"/>
                </a:moveTo>
                <a:lnTo>
                  <a:pt x="33628" y="21600"/>
                </a:lnTo>
                <a:lnTo>
                  <a:pt x="32228" y="20200"/>
                </a:lnTo>
                <a:lnTo>
                  <a:pt x="32228" y="1400"/>
                </a:lnTo>
                <a:close/>
              </a:path>
              <a:path fill="darkenLess" w="33628" h="21600">
                <a:moveTo>
                  <a:pt x="33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28" y="20200"/>
                </a:lnTo>
                <a:close/>
              </a:path>
              <a:path fill="lighten" w="33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9" name="Управляющая кнопка: домой 24">
            <a:hlinkClick r:id="rId39" action="ppaction://hlinksldjump"/>
          </p:cNvPr>
          <p:cNvSpPr/>
          <p:nvPr/>
        </p:nvSpPr>
        <p:spPr>
          <a:xfrm>
            <a:off x="7308720" y="5805360"/>
            <a:ext cx="792360" cy="370080"/>
          </a:xfrm>
          <a:custGeom>
            <a:avLst/>
            <a:gdLst>
              <a:gd name="textAreaLeft" fmla="*/ 23760 w 792360"/>
              <a:gd name="textAreaRight" fmla="*/ 768600 w 79236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46223" h="21600">
                <a:moveTo>
                  <a:pt x="0" y="0"/>
                </a:moveTo>
                <a:lnTo>
                  <a:pt x="46223" y="0"/>
                </a:lnTo>
                <a:lnTo>
                  <a:pt x="46223" y="21600"/>
                </a:lnTo>
                <a:lnTo>
                  <a:pt x="0" y="21600"/>
                </a:lnTo>
                <a:close/>
              </a:path>
              <a:path fill="lightenLess" w="46223" h="21600">
                <a:moveTo>
                  <a:pt x="0" y="0"/>
                </a:moveTo>
                <a:lnTo>
                  <a:pt x="46223" y="0"/>
                </a:lnTo>
                <a:lnTo>
                  <a:pt x="44823" y="1400"/>
                </a:lnTo>
                <a:lnTo>
                  <a:pt x="1400" y="1400"/>
                </a:lnTo>
                <a:close/>
              </a:path>
              <a:path fill="darken" w="46223" h="21600">
                <a:moveTo>
                  <a:pt x="46223" y="0"/>
                </a:moveTo>
                <a:lnTo>
                  <a:pt x="46223" y="21600"/>
                </a:lnTo>
                <a:lnTo>
                  <a:pt x="44823" y="20200"/>
                </a:lnTo>
                <a:lnTo>
                  <a:pt x="44823" y="1400"/>
                </a:lnTo>
                <a:close/>
              </a:path>
              <a:path fill="darkenLess" w="46223" h="21600">
                <a:moveTo>
                  <a:pt x="46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23" y="20200"/>
                </a:lnTo>
                <a:close/>
              </a:path>
              <a:path fill="lighten" w="46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23" h="21600">
                <a:moveTo>
                  <a:pt x="23111" y="3837"/>
                </a:moveTo>
                <a:lnTo>
                  <a:pt x="25688" y="6448"/>
                </a:lnTo>
                <a:lnTo>
                  <a:pt x="25688" y="4707"/>
                </a:lnTo>
                <a:lnTo>
                  <a:pt x="27463" y="4707"/>
                </a:lnTo>
                <a:lnTo>
                  <a:pt x="27463" y="8224"/>
                </a:lnTo>
                <a:lnTo>
                  <a:pt x="30074" y="10800"/>
                </a:lnTo>
                <a:lnTo>
                  <a:pt x="28421" y="10800"/>
                </a:lnTo>
                <a:lnTo>
                  <a:pt x="28421" y="17989"/>
                </a:lnTo>
                <a:lnTo>
                  <a:pt x="17802" y="17989"/>
                </a:lnTo>
                <a:lnTo>
                  <a:pt x="17802" y="10800"/>
                </a:lnTo>
                <a:lnTo>
                  <a:pt x="16148" y="10800"/>
                </a:lnTo>
                <a:close/>
              </a:path>
              <a:path fill="darkenLess" w="46223" h="21600">
                <a:moveTo>
                  <a:pt x="25688" y="6448"/>
                </a:moveTo>
                <a:lnTo>
                  <a:pt x="25688" y="4707"/>
                </a:lnTo>
                <a:lnTo>
                  <a:pt x="27463" y="4707"/>
                </a:lnTo>
                <a:lnTo>
                  <a:pt x="27463" y="8224"/>
                </a:lnTo>
                <a:close/>
              </a:path>
              <a:path fill="darkenLess" w="46223" h="21600">
                <a:moveTo>
                  <a:pt x="22189" y="14299"/>
                </a:moveTo>
                <a:lnTo>
                  <a:pt x="24034" y="14299"/>
                </a:lnTo>
                <a:lnTo>
                  <a:pt x="24034" y="17989"/>
                </a:lnTo>
                <a:lnTo>
                  <a:pt x="28421" y="17989"/>
                </a:lnTo>
                <a:lnTo>
                  <a:pt x="28421" y="10800"/>
                </a:lnTo>
                <a:lnTo>
                  <a:pt x="17802" y="10800"/>
                </a:lnTo>
                <a:lnTo>
                  <a:pt x="17802" y="17989"/>
                </a:lnTo>
                <a:lnTo>
                  <a:pt x="22189" y="17989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30" name="4-конечная звезда 26"/>
          <p:cNvGrpSpPr/>
          <p:nvPr/>
        </p:nvGrpSpPr>
        <p:grpSpPr>
          <a:xfrm>
            <a:off x="7991640" y="743040"/>
            <a:ext cx="1390320" cy="1390680"/>
            <a:chOff x="7991640" y="743040"/>
            <a:chExt cx="1390320" cy="1390680"/>
          </a:xfrm>
        </p:grpSpPr>
        <p:pic>
          <p:nvPicPr>
            <p:cNvPr id="231" name="4-конечная звезда 26" descr=""/>
            <p:cNvPicPr/>
            <p:nvPr/>
          </p:nvPicPr>
          <p:blipFill>
            <a:blip r:embed="rId40"/>
            <a:stretch/>
          </p:blipFill>
          <p:spPr>
            <a:xfrm>
              <a:off x="7991640" y="743040"/>
              <a:ext cx="13903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8613720" y="136512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33" name="4-конечная звезда 28"/>
          <p:cNvGrpSpPr/>
          <p:nvPr/>
        </p:nvGrpSpPr>
        <p:grpSpPr>
          <a:xfrm>
            <a:off x="8047080" y="2309760"/>
            <a:ext cx="1279440" cy="1281240"/>
            <a:chOff x="8047080" y="2309760"/>
            <a:chExt cx="1279440" cy="1281240"/>
          </a:xfrm>
        </p:grpSpPr>
        <p:pic>
          <p:nvPicPr>
            <p:cNvPr id="234" name="4-конечная звезда 28" descr=""/>
            <p:cNvPicPr/>
            <p:nvPr/>
          </p:nvPicPr>
          <p:blipFill>
            <a:blip r:embed="rId41"/>
            <a:stretch/>
          </p:blipFill>
          <p:spPr>
            <a:xfrm>
              <a:off x="8047080" y="2309760"/>
              <a:ext cx="127944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 rot="1701000">
              <a:off x="8605800" y="286812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236" name="4-конечная звезда 29"/>
          <p:cNvGrpSpPr/>
          <p:nvPr/>
        </p:nvGrpSpPr>
        <p:grpSpPr>
          <a:xfrm>
            <a:off x="7991640" y="3767040"/>
            <a:ext cx="1390320" cy="1390680"/>
            <a:chOff x="7991640" y="3767040"/>
            <a:chExt cx="1390320" cy="1390680"/>
          </a:xfrm>
        </p:grpSpPr>
        <p:pic>
          <p:nvPicPr>
            <p:cNvPr id="237" name="4-конечная звезда 29" descr=""/>
            <p:cNvPicPr/>
            <p:nvPr/>
          </p:nvPicPr>
          <p:blipFill>
            <a:blip r:embed="rId42"/>
            <a:stretch/>
          </p:blipFill>
          <p:spPr>
            <a:xfrm>
              <a:off x="7991640" y="3767040"/>
              <a:ext cx="13903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8605800" y="43815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"/>
          <p:cNvSpPr/>
          <p:nvPr/>
        </p:nvSpPr>
        <p:spPr>
          <a:xfrm>
            <a:off x="3564000" y="6021360"/>
            <a:ext cx="230328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24"/>
                </a:solidFill>
                <a:latin typeface="Arial"/>
              </a:rPr>
              <a:t>108 минут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0624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1835280" y="2637000"/>
            <a:ext cx="6624360" cy="2233440"/>
          </a:xfrm>
          <a:prstGeom prst="wedgeRoundRectCallout">
            <a:avLst>
              <a:gd name="adj1" fmla="val 38041"/>
              <a:gd name="adj2" fmla="val -113754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Сколько времени длился первый космический полет?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056000" y="440640"/>
            <a:ext cx="1440720" cy="648360"/>
          </a:xfrm>
          <a:prstGeom prst="rect">
            <a:avLst/>
          </a:prstGeom>
          <a:blipFill rotWithShape="0">
            <a:blip r:embed="rId3"/>
            <a:stretch/>
          </a:blipFill>
          <a:ln w="255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AutoShape 10">
            <a:hlinkClick r:id="rId4" action="ppaction://hlinksldjump"/>
          </p:cNvPr>
          <p:cNvSpPr/>
          <p:nvPr/>
        </p:nvSpPr>
        <p:spPr>
          <a:xfrm>
            <a:off x="7667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10640" y="1717920"/>
            <a:ext cx="6344640" cy="2961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e3e3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e3e3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235280" y="370800"/>
            <a:ext cx="1308600" cy="857880"/>
          </a:xfrm>
          <a:prstGeom prst="rect">
            <a:avLst/>
          </a:prstGeom>
          <a:blipFill rotWithShape="0">
            <a:blip r:embed="rId2"/>
            <a:stretch/>
          </a:blipFill>
          <a:ln w="255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45164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2268360" y="5877000"/>
            <a:ext cx="496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Академик С.П.Короле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2" name="AutoShape 14">
            <a:hlinkClick r:id="rId5" action="ppaction://hlinksldjump"/>
          </p:cNvPr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179280" y="1628640"/>
            <a:ext cx="6264360" cy="3888000"/>
          </a:xfrm>
          <a:prstGeom prst="wedgeRoundRectCallout">
            <a:avLst>
              <a:gd name="adj1" fmla="val 57305"/>
              <a:gd name="adj2" fmla="val -73685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Bookman Old Style"/>
              </a:rPr>
              <a:t>Назовите выдающегося конструктора ракет, с именем которого связаны первые наши победы в освоении космоса?</a:t>
            </a:r>
            <a:r>
              <a:rPr b="1" lang="en-US" sz="36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54" name="Picture 20" descr=""/>
          <p:cNvPicPr/>
          <p:nvPr/>
        </p:nvPicPr>
        <p:blipFill>
          <a:blip r:embed="rId7"/>
          <a:stretch/>
        </p:blipFill>
        <p:spPr>
          <a:xfrm>
            <a:off x="6505560" y="2060640"/>
            <a:ext cx="2638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9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64054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11280" y="1773360"/>
            <a:ext cx="6192720" cy="3240000"/>
          </a:xfrm>
          <a:prstGeom prst="wedgeRoundRectCallout">
            <a:avLst>
              <a:gd name="adj1" fmla="val 56870"/>
              <a:gd name="adj2" fmla="val -77291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Кто из ученых нашей страны является основоположником космонавтики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340000" y="5734080"/>
            <a:ext cx="38876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К.Э.Циолковский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0" name="AutoShape 12">
            <a:hlinkClick r:id="rId4" action="ppaction://hlinksldjump"/>
          </p:cNvPr>
          <p:cNvSpPr/>
          <p:nvPr/>
        </p:nvSpPr>
        <p:spPr>
          <a:xfrm>
            <a:off x="7380360" y="5661000"/>
            <a:ext cx="1008000" cy="863640"/>
          </a:xfrm>
          <a:custGeom>
            <a:avLst/>
            <a:gdLst>
              <a:gd name="textAreaLeft" fmla="*/ 55800 w 1008000"/>
              <a:gd name="textAreaRight" fmla="*/ 952200 w 1008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9" h="21600">
                <a:moveTo>
                  <a:pt x="1260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9" h="21600">
                <a:moveTo>
                  <a:pt x="13710" y="14281"/>
                </a:moveTo>
                <a:lnTo>
                  <a:pt x="13710" y="12323"/>
                </a:lnTo>
                <a:cubicBezTo>
                  <a:pt x="13710" y="11496"/>
                  <a:pt x="14041" y="10800"/>
                  <a:pt x="14641" y="10800"/>
                </a:cubicBezTo>
                <a:cubicBezTo>
                  <a:pt x="15773" y="10800"/>
                  <a:pt x="16669" y="9434"/>
                  <a:pt x="16669" y="7849"/>
                </a:cubicBezTo>
                <a:cubicBezTo>
                  <a:pt x="16669" y="5534"/>
                  <a:pt x="14815" y="3794"/>
                  <a:pt x="12605" y="3794"/>
                </a:cubicBezTo>
                <a:cubicBezTo>
                  <a:pt x="10394" y="3794"/>
                  <a:pt x="8723" y="5534"/>
                  <a:pt x="8723" y="7849"/>
                </a:cubicBezTo>
                <a:lnTo>
                  <a:pt x="10577" y="7849"/>
                </a:lnTo>
                <a:cubicBezTo>
                  <a:pt x="10577" y="6709"/>
                  <a:pt x="11499" y="5821"/>
                  <a:pt x="12605" y="5821"/>
                </a:cubicBezTo>
                <a:cubicBezTo>
                  <a:pt x="13710" y="5821"/>
                  <a:pt x="14641" y="6709"/>
                  <a:pt x="14641" y="7849"/>
                </a:cubicBezTo>
                <a:cubicBezTo>
                  <a:pt x="14641" y="8589"/>
                  <a:pt x="14171" y="9320"/>
                  <a:pt x="13710" y="9320"/>
                </a:cubicBezTo>
                <a:cubicBezTo>
                  <a:pt x="12605" y="9320"/>
                  <a:pt x="11499" y="10800"/>
                  <a:pt x="11499" y="12323"/>
                </a:cubicBezTo>
                <a:lnTo>
                  <a:pt x="11499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61" name="Picture 14" descr="http://school23.klasna.com/uploads/editor/24/13410/sitepage_115/images/ciolkovskiy.jpg"/>
          <p:cNvPicPr/>
          <p:nvPr/>
        </p:nvPicPr>
        <p:blipFill>
          <a:blip r:embed="rId5"/>
          <a:stretch/>
        </p:blipFill>
        <p:spPr>
          <a:xfrm>
            <a:off x="6804000" y="2205000"/>
            <a:ext cx="2340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11280" y="260280"/>
            <a:ext cx="423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c24"/>
                </a:solidFill>
                <a:latin typeface="Arial"/>
              </a:rPr>
              <a:t>Тема: История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042920" y="5805360"/>
            <a:ext cx="47530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4 октября 1957 г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7" name="AutoShape 10">
            <a:hlinkClick r:id="rId3" action="ppaction://hlinksldjump"/>
          </p:cNvPr>
          <p:cNvSpPr/>
          <p:nvPr/>
        </p:nvSpPr>
        <p:spPr>
          <a:xfrm>
            <a:off x="759636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68" name="Рисунок 12" descr="C:\Documents and Settings\User\Local Settings\Temporary Internet Files\Content.Word\firstSputnik.png"/>
          <p:cNvPicPr/>
          <p:nvPr/>
        </p:nvPicPr>
        <p:blipFill>
          <a:blip r:embed="rId4"/>
          <a:stretch/>
        </p:blipFill>
        <p:spPr>
          <a:xfrm>
            <a:off x="6153120" y="2421000"/>
            <a:ext cx="2990880" cy="202860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5"/>
          <p:cNvSpPr/>
          <p:nvPr/>
        </p:nvSpPr>
        <p:spPr>
          <a:xfrm>
            <a:off x="755640" y="1557360"/>
            <a:ext cx="5400720" cy="3382920"/>
          </a:xfrm>
          <a:prstGeom prst="wedgeRoundRectCallout">
            <a:avLst>
              <a:gd name="adj1" fmla="val 73481"/>
              <a:gd name="adj2" fmla="val -68416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Какая дата стала началом космической эры?</a:t>
            </a:r>
            <a:r>
              <a:rPr b="1" lang="en-US" sz="4400" spc="-1" strike="noStrike">
                <a:solidFill>
                  <a:srgbClr val="fcfc24"/>
                </a:solidFill>
                <a:latin typeface="Bookman Old Style"/>
              </a:rPr>
              <a:t> 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2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Луна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5" name="AutoShape 9">
            <a:hlinkClick r:id="rId3" action="ppaction://hlinksldjump"/>
          </p:cNvPr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76" name="Picture 11" descr="http://im3-tub-ru.yandex.net/i?id=139894681-29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3716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6"/>
          <p:cNvSpPr/>
          <p:nvPr/>
        </p:nvSpPr>
        <p:spPr>
          <a:xfrm>
            <a:off x="324000" y="242100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Как называется  спутник Земли?</a:t>
            </a: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0" name="Text Box 6"/>
          <p:cNvSpPr/>
          <p:nvPr/>
        </p:nvSpPr>
        <p:spPr>
          <a:xfrm>
            <a:off x="611280" y="4762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82" name="Рисунок 11" descr="C:\Documents and Settings\User\Local Settings\Temporary Internet Files\Content.Word\gal_02_clouds_lrg[1].jpg"/>
          <p:cNvPicPr/>
          <p:nvPr/>
        </p:nvPicPr>
        <p:blipFill>
          <a:blip r:embed="rId3"/>
          <a:stretch/>
        </p:blipFill>
        <p:spPr>
          <a:xfrm>
            <a:off x="250920" y="5013360"/>
            <a:ext cx="2089080" cy="1557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"/>
          <p:cNvSpPr/>
          <p:nvPr/>
        </p:nvSpPr>
        <p:spPr>
          <a:xfrm>
            <a:off x="3709440" y="6021360"/>
            <a:ext cx="1645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Венера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4" name="AutoShape 10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0" y="1268280"/>
            <a:ext cx="8317080" cy="4176720"/>
          </a:xfrm>
          <a:prstGeom prst="wedgeEllipseCallout">
            <a:avLst>
              <a:gd name="adj1" fmla="val 39745"/>
              <a:gd name="adj2" fmla="val -6687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fc24"/>
                </a:solidFill>
                <a:latin typeface="Bookman Old Style"/>
              </a:rPr>
              <a:t>Какая планета известна под именем утренней или вечерней звезды?</a:t>
            </a: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689040" y="61740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0" y="1557360"/>
            <a:ext cx="7885080" cy="3960720"/>
          </a:xfrm>
          <a:prstGeom prst="wedgeEllipseCallout">
            <a:avLst>
              <a:gd name="adj1" fmla="val 43634"/>
              <a:gd name="adj2" fmla="val -58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Можно ли отличить планету от звезды невооруженным взглядом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79280" y="5734080"/>
            <a:ext cx="6093000" cy="10688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Звезды мерцают, а планеты светят ровным светом.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2" name="AutoShape 10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615960" y="549360"/>
            <a:ext cx="360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Тема: Космос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7380360" y="333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324000" y="2421000"/>
            <a:ext cx="6769080" cy="3024000"/>
          </a:xfrm>
          <a:prstGeom prst="wedgeEllipseCallout">
            <a:avLst>
              <a:gd name="adj1" fmla="val 52393"/>
              <a:gd name="adj2" fmla="val -10181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c24"/>
                </a:solidFill>
                <a:latin typeface="Bookman Old Style"/>
              </a:rPr>
              <a:t>К каким звездам относится наше Солнце?</a:t>
            </a: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2268360" y="5805360"/>
            <a:ext cx="4102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Arial"/>
              </a:rPr>
              <a:t>Желтый карлик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AutoShape 11">
            <a:hlinkClick r:id="rId4" action="ppaction://hlinksldjump"/>
          </p:cNvPr>
          <p:cNvSpPr/>
          <p:nvPr/>
        </p:nvSpPr>
        <p:spPr>
          <a:xfrm>
            <a:off x="7956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 rot="10800000">
            <a:off x="394920" y="1627920"/>
            <a:ext cx="6048360" cy="2808360"/>
          </a:xfrm>
          <a:prstGeom prst="wedgeRectCallout">
            <a:avLst>
              <a:gd name="adj1" fmla="val -60055"/>
              <a:gd name="adj2" fmla="val 7221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c24"/>
                </a:solidFill>
                <a:latin typeface="Bookman Old Style"/>
              </a:rPr>
              <a:t>Кто побывал в космосе до человека и как звали первых посланцев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79280" y="4941720"/>
            <a:ext cx="7344000" cy="15562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Bookman Old Style"/>
              </a:rPr>
              <a:t>Собаки: Лайка, Белка, Стрелка, Пчелка, Мушка, Звездочка, Чернушка, Уголек, Ветерок - 9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7" name="AutoShape 9">
            <a:hlinkClick r:id="rId4" action="ppaction://hlinksldjump"/>
          </p:cNvPr>
          <p:cNvSpPr/>
          <p:nvPr/>
        </p:nvSpPr>
        <p:spPr>
          <a:xfrm>
            <a:off x="795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08" name="Picture 11" descr="http://ped-kopilka.ru/images/7(343)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16720" y="242100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3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WordArt 4" descr=""/>
          <p:cNvPicPr/>
          <p:nvPr/>
        </p:nvPicPr>
        <p:blipFill>
          <a:blip r:embed="rId1"/>
          <a:stretch/>
        </p:blipFill>
        <p:spPr>
          <a:xfrm>
            <a:off x="2335320" y="542880"/>
            <a:ext cx="4211640" cy="579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ень космонав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Представление коман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Разми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Метеоритный дож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Космические худож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8" action="ppaction://hlinksldjump"/>
              </a:rPr>
              <a:t>Конструкторы рак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9" action="ppaction://hlinksldjump"/>
              </a:rPr>
              <a:t>Игра «Наша Вселенна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10" action="ppaction://hlinksldjump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756800" y="5589720"/>
            <a:ext cx="498420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Bookman Old Style"/>
              </a:rPr>
              <a:t>Валентина Терешкова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3" name="AutoShape 10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4" name="AutoShape 2"/>
          <p:cNvSpPr/>
          <p:nvPr/>
        </p:nvSpPr>
        <p:spPr>
          <a:xfrm rot="10800000">
            <a:off x="323640" y="2204640"/>
            <a:ext cx="6048360" cy="2664000"/>
          </a:xfrm>
          <a:prstGeom prst="wedgeRectCallout">
            <a:avLst>
              <a:gd name="adj1" fmla="val -59791"/>
              <a:gd name="adj2" fmla="val 9064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c24"/>
                </a:solidFill>
                <a:latin typeface="Bookman Old Style"/>
              </a:rPr>
              <a:t>Кто из женщин-космонавтов в 1963 году впервые побывала в космосе? 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709308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16" name="Picture 12" descr="http://img1.liveinternet.ru/images/attach/c/1/56/92/56092207_Tereshkov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170028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470520" y="33336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7164360" y="54936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AutoShape 2"/>
          <p:cNvSpPr/>
          <p:nvPr/>
        </p:nvSpPr>
        <p:spPr>
          <a:xfrm rot="10800000">
            <a:off x="468000" y="2133000"/>
            <a:ext cx="6048360" cy="2663640"/>
          </a:xfrm>
          <a:prstGeom prst="wedgeRectCallout">
            <a:avLst>
              <a:gd name="adj1" fmla="val -59527"/>
              <a:gd name="adj2" fmla="val 929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то из космонавтов первым вышел в открытый космос? 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01040" y="5589720"/>
            <a:ext cx="697788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Алексей Леонов 18 марта 1965г.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24" name="Picture 12" descr="http://www.grinchevskiy.ru/rvo/012007/img/41.jpg"/>
          <p:cNvPicPr/>
          <p:nvPr/>
        </p:nvPicPr>
        <p:blipFill>
          <a:blip r:embed="rId4"/>
          <a:stretch/>
        </p:blipFill>
        <p:spPr>
          <a:xfrm>
            <a:off x="6394320" y="1773360"/>
            <a:ext cx="2749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378360" y="274680"/>
            <a:ext cx="44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Тема: Космонавты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680400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 rot="10800000">
            <a:off x="-360" y="2204280"/>
            <a:ext cx="6156360" cy="3095640"/>
          </a:xfrm>
          <a:prstGeom prst="wedgeRectCallout">
            <a:avLst>
              <a:gd name="adj1" fmla="val -59935"/>
              <a:gd name="adj2" fmla="val 8743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Bookman Old Style"/>
              </a:rPr>
              <a:t>Открытое пребывание на Луне длилось 62 минуты 16 секунд. Как звали первого астронавта, прилетевшего на Луну  20-21 июля 1969 года?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971640" y="6021360"/>
            <a:ext cx="561636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Verdana"/>
              </a:rPr>
              <a:t>Нил Армстронг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31" name="Picture 11" descr="http://www.theposhreview.com/wp-content/uploads/2009/08/poshiconneilart.jpg"/>
          <p:cNvPicPr/>
          <p:nvPr/>
        </p:nvPicPr>
        <p:blipFill>
          <a:blip r:embed="rId4"/>
          <a:stretch/>
        </p:blipFill>
        <p:spPr>
          <a:xfrm>
            <a:off x="6084720" y="1700280"/>
            <a:ext cx="3059280" cy="440352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9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3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0" name="AutoShape 2"/>
          <p:cNvSpPr/>
          <p:nvPr/>
        </p:nvSpPr>
        <p:spPr>
          <a:xfrm>
            <a:off x="7596360" y="620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324000" y="1773360"/>
            <a:ext cx="6121080" cy="3456000"/>
          </a:xfrm>
          <a:prstGeom prst="wedgeRoundRectCallout">
            <a:avLst>
              <a:gd name="adj1" fmla="val 63564"/>
              <a:gd name="adj2" fmla="val -73472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Как называется одежда, которая необходима для выхода в космос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419640" y="5877000"/>
            <a:ext cx="295272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Скафандр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3" name="AutoShape 13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3"/>
          <p:cNvSpPr/>
          <p:nvPr/>
        </p:nvSpPr>
        <p:spPr>
          <a:xfrm>
            <a:off x="378360" y="2746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7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95280" y="2060640"/>
            <a:ext cx="6121440" cy="3456000"/>
          </a:xfrm>
          <a:prstGeom prst="wedgeRoundRectCallout">
            <a:avLst>
              <a:gd name="adj1" fmla="val 62398"/>
              <a:gd name="adj2" fmla="val -73425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В чем хранятся продукты в космических кораблях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279240" y="6093000"/>
            <a:ext cx="1523520" cy="5205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В тубах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324000" y="1700280"/>
            <a:ext cx="7272360" cy="3672000"/>
          </a:xfrm>
          <a:prstGeom prst="wedgeRoundRectCallout">
            <a:avLst>
              <a:gd name="adj1" fmla="val 45592"/>
              <a:gd name="adj2" fmla="val -6223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c24"/>
                </a:solidFill>
                <a:latin typeface="Bookman Old Style"/>
              </a:rPr>
              <a:t>Могут ли космонавту пригодится гантели для занятий физическими упражнениями?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896400" y="5877000"/>
            <a:ext cx="5095440" cy="5814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fc24"/>
                </a:solidFill>
                <a:latin typeface="Arial"/>
              </a:rPr>
              <a:t>Нет, т.к. они теряют ве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397440" y="26028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Arial"/>
              </a:rPr>
              <a:t>Тема: Космические корабл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7380360" y="404640"/>
            <a:ext cx="1368360" cy="1224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24000" y="1628640"/>
            <a:ext cx="6121080" cy="3814920"/>
          </a:xfrm>
          <a:prstGeom prst="wedgeRoundRectCallout">
            <a:avLst>
              <a:gd name="adj1" fmla="val 63564"/>
              <a:gd name="adj2" fmla="val -67476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c24"/>
                </a:solidFill>
                <a:latin typeface="Bookman Old Style"/>
              </a:rPr>
              <a:t>Когда космонавт ложится спать, он привязывает свой спальный мешок и закрывает свое лицо сеткой. Почему? 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95280" y="5589720"/>
            <a:ext cx="7056360" cy="8254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евесомость. Чтобы не вдохнуть частицы, которые могут случайно оказаться в отсеке.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8101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WordArt 5" descr=""/>
          <p:cNvPicPr/>
          <p:nvPr/>
        </p:nvPicPr>
        <p:blipFill>
          <a:blip r:embed="rId2"/>
          <a:stretch/>
        </p:blipFill>
        <p:spPr>
          <a:xfrm>
            <a:off x="1219320" y="658800"/>
            <a:ext cx="6394320" cy="344340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6"/>
          <p:cNvSpPr/>
          <p:nvPr/>
        </p:nvSpPr>
        <p:spPr>
          <a:xfrm>
            <a:off x="8388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8" name="AutoShape 7">
            <a:hlinkClick r:id="" action="ppaction://hlinkshowjump?jump=previousslide"/>
          </p:cNvPr>
          <p:cNvSpPr/>
          <p:nvPr/>
        </p:nvSpPr>
        <p:spPr>
          <a:xfrm>
            <a:off x="7812000" y="6364440"/>
            <a:ext cx="538200" cy="493560"/>
          </a:xfrm>
          <a:custGeom>
            <a:avLst/>
            <a:gdLst>
              <a:gd name="textAreaLeft" fmla="*/ 31680 w 538200"/>
              <a:gd name="textAreaRight" fmla="*/ 506520 w 53820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3552" h="21600">
                <a:moveTo>
                  <a:pt x="0" y="0"/>
                </a:moveTo>
                <a:lnTo>
                  <a:pt x="23552" y="0"/>
                </a:lnTo>
                <a:lnTo>
                  <a:pt x="23552" y="21600"/>
                </a:lnTo>
                <a:lnTo>
                  <a:pt x="0" y="21600"/>
                </a:lnTo>
                <a:close/>
              </a:path>
              <a:path fill="lightenLess" w="23552" h="21600">
                <a:moveTo>
                  <a:pt x="0" y="0"/>
                </a:moveTo>
                <a:lnTo>
                  <a:pt x="23552" y="0"/>
                </a:lnTo>
                <a:lnTo>
                  <a:pt x="22152" y="1400"/>
                </a:lnTo>
                <a:lnTo>
                  <a:pt x="1400" y="1400"/>
                </a:lnTo>
                <a:close/>
              </a:path>
              <a:path fill="darken" w="23552" h="21600">
                <a:moveTo>
                  <a:pt x="23552" y="0"/>
                </a:moveTo>
                <a:lnTo>
                  <a:pt x="23552" y="21600"/>
                </a:lnTo>
                <a:lnTo>
                  <a:pt x="22152" y="20200"/>
                </a:lnTo>
                <a:lnTo>
                  <a:pt x="22152" y="1400"/>
                </a:lnTo>
                <a:close/>
              </a:path>
              <a:path fill="darkenLess" w="23552" h="21600">
                <a:moveTo>
                  <a:pt x="23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2" y="20200"/>
                </a:lnTo>
                <a:close/>
              </a:path>
              <a:path fill="lighten" w="23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2" h="21600">
                <a:moveTo>
                  <a:pt x="4770" y="10800"/>
                </a:moveTo>
                <a:lnTo>
                  <a:pt x="18783" y="3794"/>
                </a:lnTo>
                <a:lnTo>
                  <a:pt x="18783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7093080" y="635472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9609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  <a:path fill="darken" w="26216" h="21600">
                <a:moveTo>
                  <a:pt x="6102" y="3794"/>
                </a:moveTo>
                <a:lnTo>
                  <a:pt x="7764" y="3794"/>
                </a:lnTo>
                <a:lnTo>
                  <a:pt x="7764" y="17806"/>
                </a:lnTo>
                <a:lnTo>
                  <a:pt x="6102" y="17806"/>
                </a:lnTo>
                <a:close/>
              </a:path>
            </a:pathLst>
          </a:custGeom>
          <a:solidFill>
            <a:srgbClr val="3399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WordArt 5" descr="День космонавтики"/>
          <p:cNvPicPr/>
          <p:nvPr/>
        </p:nvPicPr>
        <p:blipFill>
          <a:blip r:embed="rId1"/>
          <a:stretch/>
        </p:blipFill>
        <p:spPr>
          <a:xfrm>
            <a:off x="2620800" y="615960"/>
            <a:ext cx="4127760" cy="5731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>
            <a:hlinkClick r:id="rId2" action="ppaction://hlinksldjump"/>
          </p:cNvPr>
          <p:cNvSpPr/>
          <p:nvPr/>
        </p:nvSpPr>
        <p:spPr>
          <a:xfrm>
            <a:off x="7524720" y="530064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3856" y="3837"/>
                </a:moveTo>
                <a:lnTo>
                  <a:pt x="16432" y="6448"/>
                </a:ln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lnTo>
                  <a:pt x="20819" y="10800"/>
                </a:lnTo>
                <a:lnTo>
                  <a:pt x="19165" y="10800"/>
                </a:lnTo>
                <a:lnTo>
                  <a:pt x="19165" y="17989"/>
                </a:lnTo>
                <a:lnTo>
                  <a:pt x="8547" y="17989"/>
                </a:lnTo>
                <a:lnTo>
                  <a:pt x="8547" y="10800"/>
                </a:lnTo>
                <a:lnTo>
                  <a:pt x="6893" y="10800"/>
                </a:lnTo>
                <a:close/>
              </a:path>
              <a:path fill="darkenLess" w="27712" h="21600">
                <a:moveTo>
                  <a:pt x="16432" y="6448"/>
                </a:moveTo>
                <a:lnTo>
                  <a:pt x="16432" y="4707"/>
                </a:lnTo>
                <a:lnTo>
                  <a:pt x="18208" y="4707"/>
                </a:lnTo>
                <a:lnTo>
                  <a:pt x="18208" y="8224"/>
                </a:lnTo>
                <a:close/>
              </a:path>
              <a:path fill="darkenLess" w="27712" h="21600">
                <a:moveTo>
                  <a:pt x="12933" y="14299"/>
                </a:moveTo>
                <a:lnTo>
                  <a:pt x="14779" y="14299"/>
                </a:lnTo>
                <a:lnTo>
                  <a:pt x="14779" y="17989"/>
                </a:lnTo>
                <a:lnTo>
                  <a:pt x="19165" y="17989"/>
                </a:lnTo>
                <a:lnTo>
                  <a:pt x="19165" y="10800"/>
                </a:lnTo>
                <a:lnTo>
                  <a:pt x="8547" y="10800"/>
                </a:lnTo>
                <a:lnTo>
                  <a:pt x="8547" y="17989"/>
                </a:lnTo>
                <a:lnTo>
                  <a:pt x="12933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1" name="AutoShape 7">
            <a:hlinkClick r:id="" action="ppaction://hlinkshowjump?jump=previousslide"/>
          </p:cNvPr>
          <p:cNvSpPr/>
          <p:nvPr/>
        </p:nvSpPr>
        <p:spPr>
          <a:xfrm>
            <a:off x="6732720" y="5300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AutoShape 8">
            <a:hlinkClick r:id="" action="ppaction://hlinkshowjump?jump=nextslide"/>
          </p:cNvPr>
          <p:cNvSpPr/>
          <p:nvPr/>
        </p:nvSpPr>
        <p:spPr>
          <a:xfrm>
            <a:off x="8388360" y="5300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3824"/>
                </a:moveTo>
                <a:lnTo>
                  <a:pt x="17806" y="10831"/>
                </a:lnTo>
                <a:lnTo>
                  <a:pt x="3794" y="17837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1871640" cy="253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309708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15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1155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5" descr="космос, марс, планета"/>
          <p:cNvPicPr/>
          <p:nvPr/>
        </p:nvPicPr>
        <p:blipFill>
          <a:blip r:embed="rId1"/>
          <a:stretch/>
        </p:blipFill>
        <p:spPr>
          <a:xfrm>
            <a:off x="5076720" y="4508640"/>
            <a:ext cx="1887480" cy="117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1260878297_1"/>
          <p:cNvPicPr/>
          <p:nvPr/>
        </p:nvPicPr>
        <p:blipFill>
          <a:blip r:embed="rId2"/>
          <a:stretch/>
        </p:blipFill>
        <p:spPr>
          <a:xfrm>
            <a:off x="6818400" y="1125360"/>
            <a:ext cx="2325600" cy="201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ANd9GcSUg8a5MtdIlWLruKy95gpVbwcZrjuOEQ8IkhRk3TSEKYdl3Nmuaw"/>
          <p:cNvPicPr/>
          <p:nvPr/>
        </p:nvPicPr>
        <p:blipFill>
          <a:blip r:embed="rId3"/>
          <a:stretch/>
        </p:blipFill>
        <p:spPr>
          <a:xfrm>
            <a:off x="0" y="3933720"/>
            <a:ext cx="1438200" cy="208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ANd9GcTJ8ehDvw52fz2xsT8GN1ng4_tealorREF6nbfDBbMKG42wa-5WmQ"/>
          <p:cNvPicPr/>
          <p:nvPr/>
        </p:nvPicPr>
        <p:blipFill>
          <a:blip r:embed="rId4"/>
          <a:stretch/>
        </p:blipFill>
        <p:spPr>
          <a:xfrm>
            <a:off x="3635280" y="1773360"/>
            <a:ext cx="1838520" cy="2495520"/>
          </a:xfrm>
          <a:prstGeom prst="rect">
            <a:avLst/>
          </a:prstGeom>
          <a:ln w="0">
            <a:noFill/>
          </a:ln>
        </p:spPr>
      </p:pic>
      <p:pic>
        <p:nvPicPr>
          <p:cNvPr id="159" name="WordArt 4" descr=""/>
          <p:cNvPicPr/>
          <p:nvPr/>
        </p:nvPicPr>
        <p:blipFill>
          <a:blip r:embed="rId5"/>
          <a:stretch/>
        </p:blipFill>
        <p:spPr>
          <a:xfrm>
            <a:off x="2041560" y="615960"/>
            <a:ext cx="5041800" cy="573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5">
            <a:hlinkClick r:id="rId6" action="ppaction://hlinksldjump"/>
          </p:cNvPr>
          <p:cNvSpPr/>
          <p:nvPr/>
        </p:nvSpPr>
        <p:spPr>
          <a:xfrm>
            <a:off x="7093080" y="5805360"/>
            <a:ext cx="574560" cy="611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611280"/>
              <a:gd name="textAreaBottom" fmla="*/ 574200 h 611280"/>
            </a:gdLst>
            <a:ahLst/>
            <a:rect l="textAreaLeft" t="textAreaTop" r="textAreaRight" b="textAreaBottom"/>
            <a:pathLst>
              <a:path w="21600" h="22980">
                <a:moveTo>
                  <a:pt x="0" y="0"/>
                </a:moveTo>
                <a:lnTo>
                  <a:pt x="21600" y="0"/>
                </a:lnTo>
                <a:lnTo>
                  <a:pt x="21600" y="22980"/>
                </a:lnTo>
                <a:lnTo>
                  <a:pt x="0" y="22980"/>
                </a:lnTo>
                <a:close/>
              </a:path>
              <a:path fill="lightenLess" w="21600" h="22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80">
                <a:moveTo>
                  <a:pt x="21600" y="0"/>
                </a:moveTo>
                <a:lnTo>
                  <a:pt x="21600" y="22980"/>
                </a:lnTo>
                <a:lnTo>
                  <a:pt x="20200" y="21580"/>
                </a:lnTo>
                <a:lnTo>
                  <a:pt x="20200" y="1400"/>
                </a:lnTo>
                <a:close/>
              </a:path>
              <a:path fill="darkenLess" w="21600" h="22980">
                <a:moveTo>
                  <a:pt x="21600" y="22980"/>
                </a:moveTo>
                <a:lnTo>
                  <a:pt x="0" y="22980"/>
                </a:lnTo>
                <a:lnTo>
                  <a:pt x="1400" y="21580"/>
                </a:lnTo>
                <a:lnTo>
                  <a:pt x="20200" y="21580"/>
                </a:lnTo>
                <a:close/>
              </a:path>
              <a:path fill="lighten" w="21600" h="22980">
                <a:moveTo>
                  <a:pt x="0" y="22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80"/>
                </a:lnTo>
                <a:close/>
              </a:path>
              <a:path fill="darken" w="21600" h="22980">
                <a:moveTo>
                  <a:pt x="10800" y="4527"/>
                </a:moveTo>
                <a:lnTo>
                  <a:pt x="13376" y="7138"/>
                </a:lnTo>
                <a:lnTo>
                  <a:pt x="13376" y="5397"/>
                </a:lnTo>
                <a:lnTo>
                  <a:pt x="15152" y="5397"/>
                </a:lnTo>
                <a:lnTo>
                  <a:pt x="15152" y="8913"/>
                </a:lnTo>
                <a:lnTo>
                  <a:pt x="17763" y="11490"/>
                </a:lnTo>
                <a:lnTo>
                  <a:pt x="16109" y="11490"/>
                </a:lnTo>
                <a:lnTo>
                  <a:pt x="16109" y="18679"/>
                </a:lnTo>
                <a:lnTo>
                  <a:pt x="5491" y="18679"/>
                </a:lnTo>
                <a:lnTo>
                  <a:pt x="5491" y="11490"/>
                </a:lnTo>
                <a:lnTo>
                  <a:pt x="3837" y="11490"/>
                </a:lnTo>
                <a:close/>
              </a:path>
              <a:path fill="darkenLess" w="21600" h="22980">
                <a:moveTo>
                  <a:pt x="13376" y="7138"/>
                </a:moveTo>
                <a:lnTo>
                  <a:pt x="13376" y="5397"/>
                </a:lnTo>
                <a:lnTo>
                  <a:pt x="15152" y="5397"/>
                </a:lnTo>
                <a:lnTo>
                  <a:pt x="15152" y="8913"/>
                </a:lnTo>
                <a:close/>
              </a:path>
              <a:path fill="darkenLess" w="21600" h="22980">
                <a:moveTo>
                  <a:pt x="9877" y="14989"/>
                </a:moveTo>
                <a:lnTo>
                  <a:pt x="11723" y="14989"/>
                </a:lnTo>
                <a:lnTo>
                  <a:pt x="11723" y="18679"/>
                </a:lnTo>
                <a:lnTo>
                  <a:pt x="16109" y="18679"/>
                </a:lnTo>
                <a:lnTo>
                  <a:pt x="16109" y="11490"/>
                </a:lnTo>
                <a:lnTo>
                  <a:pt x="5491" y="11490"/>
                </a:lnTo>
                <a:lnTo>
                  <a:pt x="5491" y="18679"/>
                </a:lnTo>
                <a:lnTo>
                  <a:pt x="9877" y="186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AutoShape 6">
            <a:hlinkClick r:id="" action="ppaction://hlinkshowjump?jump=previousslide"/>
          </p:cNvPr>
          <p:cNvSpPr/>
          <p:nvPr/>
        </p:nvSpPr>
        <p:spPr>
          <a:xfrm>
            <a:off x="6443640" y="5805360"/>
            <a:ext cx="504720" cy="6098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09840"/>
              <a:gd name="textAreaBottom" fmla="*/ 577440 h 609840"/>
            </a:gdLst>
            <a:ahLst/>
            <a:rect l="textAreaLeft" t="textAreaTop" r="textAreaRight" b="textAreaBottom"/>
            <a:pathLst>
              <a:path w="21600" h="26096">
                <a:moveTo>
                  <a:pt x="0" y="0"/>
                </a:moveTo>
                <a:lnTo>
                  <a:pt x="21600" y="0"/>
                </a:lnTo>
                <a:lnTo>
                  <a:pt x="21600" y="26096"/>
                </a:lnTo>
                <a:lnTo>
                  <a:pt x="0" y="26096"/>
                </a:lnTo>
                <a:close/>
              </a:path>
              <a:path fill="lightenLess" w="21600" h="260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96">
                <a:moveTo>
                  <a:pt x="21600" y="0"/>
                </a:moveTo>
                <a:lnTo>
                  <a:pt x="21600" y="26096"/>
                </a:lnTo>
                <a:lnTo>
                  <a:pt x="20200" y="24696"/>
                </a:lnTo>
                <a:lnTo>
                  <a:pt x="20200" y="1400"/>
                </a:lnTo>
                <a:close/>
              </a:path>
              <a:path fill="darkenLess" w="21600" h="26096">
                <a:moveTo>
                  <a:pt x="21600" y="26096"/>
                </a:moveTo>
                <a:lnTo>
                  <a:pt x="0" y="26096"/>
                </a:lnTo>
                <a:lnTo>
                  <a:pt x="1400" y="24696"/>
                </a:lnTo>
                <a:lnTo>
                  <a:pt x="20200" y="24696"/>
                </a:lnTo>
                <a:close/>
              </a:path>
              <a:path fill="lighten" w="21600" h="26096">
                <a:moveTo>
                  <a:pt x="0" y="260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96"/>
                </a:lnTo>
                <a:close/>
              </a:path>
              <a:path fill="darken" w="21600" h="26096">
                <a:moveTo>
                  <a:pt x="3794" y="13048"/>
                </a:moveTo>
                <a:lnTo>
                  <a:pt x="17806" y="6041"/>
                </a:lnTo>
                <a:lnTo>
                  <a:pt x="17806" y="2005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AutoShape 7">
            <a:hlinkClick r:id="" action="ppaction://hlinkshowjump?jump=nextslide"/>
          </p:cNvPr>
          <p:cNvSpPr/>
          <p:nvPr/>
        </p:nvSpPr>
        <p:spPr>
          <a:xfrm>
            <a:off x="7812000" y="580536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7"/>
          <a:stretch/>
        </p:blipFill>
        <p:spPr>
          <a:xfrm>
            <a:off x="0" y="0"/>
            <a:ext cx="1979640" cy="1932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5556240" y="2637000"/>
            <a:ext cx="259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Марс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ценко Дмитрий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иков Андрей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форова Елена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ёв Вадим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1403280" y="2637000"/>
            <a:ext cx="27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осток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анечникова Юлия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дырева Юлия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а Мария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ценко Алёна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32000" y="1484280"/>
            <a:ext cx="7354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планеты вместе с Землёй вращаются вокруг Солн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WordArt 4" descr=""/>
          <p:cNvPicPr/>
          <p:nvPr/>
        </p:nvPicPr>
        <p:blipFill>
          <a:blip r:embed="rId1"/>
          <a:stretch/>
        </p:blipFill>
        <p:spPr>
          <a:xfrm>
            <a:off x="2908440" y="615960"/>
            <a:ext cx="3498840" cy="5540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>
            <a:hlinkClick r:id="rId2" action="ppaction://hlinksldjump"/>
          </p:cNvPr>
          <p:cNvSpPr/>
          <p:nvPr/>
        </p:nvSpPr>
        <p:spPr>
          <a:xfrm>
            <a:off x="7524720" y="6281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10800" y="7443"/>
                </a:moveTo>
                <a:lnTo>
                  <a:pt x="13376" y="10054"/>
                </a:ln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lnTo>
                  <a:pt x="17763" y="14406"/>
                </a:lnTo>
                <a:lnTo>
                  <a:pt x="16109" y="14406"/>
                </a:lnTo>
                <a:lnTo>
                  <a:pt x="16109" y="21595"/>
                </a:lnTo>
                <a:lnTo>
                  <a:pt x="5491" y="21595"/>
                </a:lnTo>
                <a:lnTo>
                  <a:pt x="5491" y="14406"/>
                </a:lnTo>
                <a:lnTo>
                  <a:pt x="3837" y="14406"/>
                </a:lnTo>
                <a:close/>
              </a:path>
              <a:path fill="darkenLess" w="21600" h="28812">
                <a:moveTo>
                  <a:pt x="13376" y="10054"/>
                </a:moveTo>
                <a:lnTo>
                  <a:pt x="13376" y="8313"/>
                </a:lnTo>
                <a:lnTo>
                  <a:pt x="15152" y="8313"/>
                </a:lnTo>
                <a:lnTo>
                  <a:pt x="15152" y="11830"/>
                </a:lnTo>
                <a:close/>
              </a:path>
              <a:path fill="darkenLess" w="21600" h="28812">
                <a:moveTo>
                  <a:pt x="9877" y="17905"/>
                </a:moveTo>
                <a:lnTo>
                  <a:pt x="11723" y="17905"/>
                </a:lnTo>
                <a:lnTo>
                  <a:pt x="11723" y="21595"/>
                </a:lnTo>
                <a:lnTo>
                  <a:pt x="16109" y="21595"/>
                </a:lnTo>
                <a:lnTo>
                  <a:pt x="16109" y="14406"/>
                </a:lnTo>
                <a:lnTo>
                  <a:pt x="5491" y="14406"/>
                </a:lnTo>
                <a:lnTo>
                  <a:pt x="5491" y="21595"/>
                </a:lnTo>
                <a:lnTo>
                  <a:pt x="9877" y="2159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9" name="AutoShape 6">
            <a:hlinkClick r:id="" action="ppaction://hlinkshowjump?jump=previousslide"/>
          </p:cNvPr>
          <p:cNvSpPr/>
          <p:nvPr/>
        </p:nvSpPr>
        <p:spPr>
          <a:xfrm>
            <a:off x="6877080" y="628164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AutoShape 7">
            <a:hlinkClick r:id="" action="ppaction://hlinkshowjump?jump=next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3794"/>
                </a:moveTo>
                <a:lnTo>
                  <a:pt x="18418" y="10800"/>
                </a:lnTo>
                <a:lnTo>
                  <a:pt x="44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3168720" cy="2566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4"/>
          <a:stretch/>
        </p:blipFill>
        <p:spPr>
          <a:xfrm>
            <a:off x="4140360" y="2781360"/>
            <a:ext cx="40687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8289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Метеориты – осколки других мир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е не сгорели в атмосфере, а долетели до Земли    (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амый тяжёлый из найденных метеоритов – Гоба .Его масса 66т. (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олнце меньше, чем Земля (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Древние греки называли Солнце богом Гелиосом, Апполоном или Фебом, а наши предки-славяне – Ярилом (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WordArt 4" descr=""/>
          <p:cNvPicPr/>
          <p:nvPr/>
        </p:nvPicPr>
        <p:blipFill>
          <a:blip r:embed="rId1"/>
          <a:stretch/>
        </p:blipFill>
        <p:spPr>
          <a:xfrm>
            <a:off x="2481120" y="542880"/>
            <a:ext cx="4419720" cy="5796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rId2" action="ppaction://hlinksldjump"/>
          </p:cNvPr>
          <p:cNvSpPr/>
          <p:nvPr/>
        </p:nvSpPr>
        <p:spPr>
          <a:xfrm>
            <a:off x="7451640" y="5950080"/>
            <a:ext cx="682560" cy="566640"/>
          </a:xfrm>
          <a:custGeom>
            <a:avLst/>
            <a:gdLst>
              <a:gd name="textAreaLeft" fmla="*/ 36720 w 682560"/>
              <a:gd name="textAreaRight" fmla="*/ 645840 w 6825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16" h="21600">
                <a:moveTo>
                  <a:pt x="0" y="0"/>
                </a:moveTo>
                <a:lnTo>
                  <a:pt x="26016" y="0"/>
                </a:lnTo>
                <a:lnTo>
                  <a:pt x="26016" y="21600"/>
                </a:lnTo>
                <a:lnTo>
                  <a:pt x="0" y="21600"/>
                </a:lnTo>
                <a:close/>
              </a:path>
              <a:path fill="lightenLess" w="26016" h="21600">
                <a:moveTo>
                  <a:pt x="0" y="0"/>
                </a:moveTo>
                <a:lnTo>
                  <a:pt x="26016" y="0"/>
                </a:lnTo>
                <a:lnTo>
                  <a:pt x="24616" y="1400"/>
                </a:lnTo>
                <a:lnTo>
                  <a:pt x="1400" y="1400"/>
                </a:lnTo>
                <a:close/>
              </a:path>
              <a:path fill="darken" w="26016" h="21600">
                <a:moveTo>
                  <a:pt x="26016" y="0"/>
                </a:moveTo>
                <a:lnTo>
                  <a:pt x="26016" y="21600"/>
                </a:lnTo>
                <a:lnTo>
                  <a:pt x="24616" y="20200"/>
                </a:lnTo>
                <a:lnTo>
                  <a:pt x="24616" y="1400"/>
                </a:lnTo>
                <a:close/>
              </a:path>
              <a:path fill="darkenLess" w="26016" h="21600">
                <a:moveTo>
                  <a:pt x="2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16" y="20200"/>
                </a:lnTo>
                <a:close/>
              </a:path>
              <a:path fill="lighten" w="2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16" h="21600">
                <a:moveTo>
                  <a:pt x="13008" y="3837"/>
                </a:moveTo>
                <a:lnTo>
                  <a:pt x="15584" y="6448"/>
                </a:lnTo>
                <a:lnTo>
                  <a:pt x="15584" y="4707"/>
                </a:lnTo>
                <a:lnTo>
                  <a:pt x="17360" y="4707"/>
                </a:lnTo>
                <a:lnTo>
                  <a:pt x="17360" y="8224"/>
                </a:lnTo>
                <a:lnTo>
                  <a:pt x="19971" y="10800"/>
                </a:lnTo>
                <a:lnTo>
                  <a:pt x="18317" y="10800"/>
                </a:lnTo>
                <a:lnTo>
                  <a:pt x="18317" y="17989"/>
                </a:lnTo>
                <a:lnTo>
                  <a:pt x="7699" y="17989"/>
                </a:lnTo>
                <a:lnTo>
                  <a:pt x="7699" y="10800"/>
                </a:lnTo>
                <a:lnTo>
                  <a:pt x="6045" y="10800"/>
                </a:lnTo>
                <a:close/>
              </a:path>
              <a:path fill="darkenLess" w="26016" h="21600">
                <a:moveTo>
                  <a:pt x="15584" y="6448"/>
                </a:moveTo>
                <a:lnTo>
                  <a:pt x="15584" y="4707"/>
                </a:lnTo>
                <a:lnTo>
                  <a:pt x="17360" y="4707"/>
                </a:lnTo>
                <a:lnTo>
                  <a:pt x="17360" y="8224"/>
                </a:lnTo>
                <a:close/>
              </a:path>
              <a:path fill="darkenLess" w="26016" h="21600">
                <a:moveTo>
                  <a:pt x="12085" y="14299"/>
                </a:moveTo>
                <a:lnTo>
                  <a:pt x="13931" y="14299"/>
                </a:lnTo>
                <a:lnTo>
                  <a:pt x="13931" y="17989"/>
                </a:lnTo>
                <a:lnTo>
                  <a:pt x="18317" y="17989"/>
                </a:lnTo>
                <a:lnTo>
                  <a:pt x="18317" y="10800"/>
                </a:lnTo>
                <a:lnTo>
                  <a:pt x="7699" y="10800"/>
                </a:lnTo>
                <a:lnTo>
                  <a:pt x="7699" y="17989"/>
                </a:lnTo>
                <a:lnTo>
                  <a:pt x="12085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6" name="AutoShape 6">
            <a:hlinkClick r:id="" action="ppaction://hlinkshowjump?jump=previousslide"/>
          </p:cNvPr>
          <p:cNvSpPr/>
          <p:nvPr/>
        </p:nvSpPr>
        <p:spPr>
          <a:xfrm>
            <a:off x="6877080" y="5950080"/>
            <a:ext cx="503280" cy="603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03000"/>
              <a:gd name="textAreaBottom" fmla="*/ 570600 h 603000"/>
            </a:gdLst>
            <a:ahLst/>
            <a:rect l="textAreaLeft" t="textAreaTop" r="textAreaRight" b="textAreaBottom"/>
            <a:pathLst>
              <a:path w="21600" h="25877">
                <a:moveTo>
                  <a:pt x="0" y="0"/>
                </a:moveTo>
                <a:lnTo>
                  <a:pt x="21600" y="0"/>
                </a:lnTo>
                <a:lnTo>
                  <a:pt x="21600" y="25877"/>
                </a:lnTo>
                <a:lnTo>
                  <a:pt x="0" y="25877"/>
                </a:lnTo>
                <a:close/>
              </a:path>
              <a:path fill="lightenLess" w="21600" h="258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77">
                <a:moveTo>
                  <a:pt x="21600" y="0"/>
                </a:moveTo>
                <a:lnTo>
                  <a:pt x="21600" y="25877"/>
                </a:lnTo>
                <a:lnTo>
                  <a:pt x="20200" y="24477"/>
                </a:lnTo>
                <a:lnTo>
                  <a:pt x="20200" y="1400"/>
                </a:lnTo>
                <a:close/>
              </a:path>
              <a:path fill="darkenLess" w="21600" h="25877">
                <a:moveTo>
                  <a:pt x="21600" y="25877"/>
                </a:moveTo>
                <a:lnTo>
                  <a:pt x="0" y="25877"/>
                </a:lnTo>
                <a:lnTo>
                  <a:pt x="1400" y="24477"/>
                </a:lnTo>
                <a:lnTo>
                  <a:pt x="20200" y="24477"/>
                </a:lnTo>
                <a:close/>
              </a:path>
              <a:path fill="lighten" w="21600" h="25877">
                <a:moveTo>
                  <a:pt x="0" y="258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77"/>
                </a:lnTo>
                <a:close/>
              </a:path>
              <a:path fill="darken" w="21600" h="25877">
                <a:moveTo>
                  <a:pt x="3794" y="12938"/>
                </a:moveTo>
                <a:lnTo>
                  <a:pt x="17806" y="5932"/>
                </a:lnTo>
                <a:lnTo>
                  <a:pt x="17806" y="1994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7" name="AutoShape 7">
            <a:hlinkClick r:id="" action="ppaction://hlinkshowjump?jump=nextslide"/>
          </p:cNvPr>
          <p:cNvSpPr/>
          <p:nvPr/>
        </p:nvSpPr>
        <p:spPr>
          <a:xfrm>
            <a:off x="8317080" y="5877000"/>
            <a:ext cx="468000" cy="718920"/>
          </a:xfrm>
          <a:custGeom>
            <a:avLst/>
            <a:gdLst>
              <a:gd name="textAreaLeft" fmla="*/ 30240 w 468000"/>
              <a:gd name="textAreaRight" fmla="*/ 437760 w 468000"/>
              <a:gd name="textAreaTop" fmla="*/ 30240 h 718920"/>
              <a:gd name="textAreaBottom" fmla="*/ 688680 h 718920"/>
            </a:gdLst>
            <a:ahLst/>
            <a:rect l="textAreaLeft" t="textAreaTop" r="textAreaRight" b="textAreaBottom"/>
            <a:pathLst>
              <a:path w="21600" h="33172">
                <a:moveTo>
                  <a:pt x="0" y="0"/>
                </a:moveTo>
                <a:lnTo>
                  <a:pt x="21600" y="0"/>
                </a:lnTo>
                <a:lnTo>
                  <a:pt x="21600" y="33172"/>
                </a:lnTo>
                <a:lnTo>
                  <a:pt x="0" y="33172"/>
                </a:lnTo>
                <a:close/>
              </a:path>
              <a:path fill="lightenLess" w="21600" h="331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172">
                <a:moveTo>
                  <a:pt x="21600" y="0"/>
                </a:moveTo>
                <a:lnTo>
                  <a:pt x="21600" y="33172"/>
                </a:lnTo>
                <a:lnTo>
                  <a:pt x="20200" y="31772"/>
                </a:lnTo>
                <a:lnTo>
                  <a:pt x="20200" y="1400"/>
                </a:lnTo>
                <a:close/>
              </a:path>
              <a:path fill="darkenLess" w="21600" h="33172">
                <a:moveTo>
                  <a:pt x="21600" y="33172"/>
                </a:moveTo>
                <a:lnTo>
                  <a:pt x="0" y="33172"/>
                </a:lnTo>
                <a:lnTo>
                  <a:pt x="1400" y="31772"/>
                </a:lnTo>
                <a:lnTo>
                  <a:pt x="20200" y="31772"/>
                </a:lnTo>
                <a:close/>
              </a:path>
              <a:path fill="lighten" w="21600" h="33172">
                <a:moveTo>
                  <a:pt x="0" y="331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772"/>
                </a:lnTo>
                <a:close/>
              </a:path>
              <a:path fill="darken" w="21600" h="33172">
                <a:moveTo>
                  <a:pt x="3794" y="9580"/>
                </a:moveTo>
                <a:lnTo>
                  <a:pt x="17806" y="16586"/>
                </a:lnTo>
                <a:lnTo>
                  <a:pt x="3794" y="23592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78" name="WordArt 4" descr=""/>
          <p:cNvPicPr/>
          <p:nvPr/>
        </p:nvPicPr>
        <p:blipFill>
          <a:blip r:embed="rId3"/>
          <a:stretch/>
        </p:blipFill>
        <p:spPr>
          <a:xfrm>
            <a:off x="2481120" y="542880"/>
            <a:ext cx="4419720" cy="579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>
            <a:off x="4932360" y="1989000"/>
            <a:ext cx="914400" cy="914400"/>
          </a:xfrm>
          <a:prstGeom prst="sun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7451640" y="3068640"/>
            <a:ext cx="914400" cy="914400"/>
          </a:xfrm>
          <a:prstGeom prst="sun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6948360" y="5229360"/>
            <a:ext cx="914400" cy="914400"/>
          </a:xfrm>
          <a:prstGeom prst="sun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>
            <a:off x="6443640" y="3716280"/>
            <a:ext cx="914400" cy="914400"/>
          </a:xfrm>
          <a:prstGeom prst="sun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4" descr="http://www.sverigel.sk/!picd/obrazy/i0055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789360"/>
            <a:ext cx="5219640" cy="30686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6732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хи о космосе и космонав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смическая заряд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WordArt 4" descr=""/>
          <p:cNvPicPr/>
          <p:nvPr/>
        </p:nvPicPr>
        <p:blipFill>
          <a:blip r:embed="rId3"/>
          <a:stretch/>
        </p:blipFill>
        <p:spPr>
          <a:xfrm>
            <a:off x="1468440" y="542880"/>
            <a:ext cx="3998880" cy="6764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>
            <a:hlinkClick r:id="rId4" action="ppaction://hlinksldjump"/>
          </p:cNvPr>
          <p:cNvSpPr/>
          <p:nvPr/>
        </p:nvSpPr>
        <p:spPr>
          <a:xfrm>
            <a:off x="7308720" y="5805360"/>
            <a:ext cx="648000" cy="68292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82920"/>
              <a:gd name="textAreaBottom" fmla="*/ 641160 h 682920"/>
            </a:gdLst>
            <a:ahLst/>
            <a:rect l="textAreaLeft" t="textAreaTop" r="textAreaRight" b="textAreaBottom"/>
            <a:pathLst>
              <a:path w="21600" h="22763">
                <a:moveTo>
                  <a:pt x="0" y="0"/>
                </a:moveTo>
                <a:lnTo>
                  <a:pt x="21600" y="0"/>
                </a:lnTo>
                <a:lnTo>
                  <a:pt x="21600" y="22763"/>
                </a:lnTo>
                <a:lnTo>
                  <a:pt x="0" y="22763"/>
                </a:lnTo>
                <a:close/>
              </a:path>
              <a:path fill="lightenLess" w="21600" h="22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3">
                <a:moveTo>
                  <a:pt x="21600" y="0"/>
                </a:moveTo>
                <a:lnTo>
                  <a:pt x="21600" y="22763"/>
                </a:lnTo>
                <a:lnTo>
                  <a:pt x="20200" y="21363"/>
                </a:lnTo>
                <a:lnTo>
                  <a:pt x="20200" y="1400"/>
                </a:lnTo>
                <a:close/>
              </a:path>
              <a:path fill="darkenLess" w="21600" h="22763">
                <a:moveTo>
                  <a:pt x="21600" y="22763"/>
                </a:moveTo>
                <a:lnTo>
                  <a:pt x="0" y="22763"/>
                </a:lnTo>
                <a:lnTo>
                  <a:pt x="1400" y="21363"/>
                </a:lnTo>
                <a:lnTo>
                  <a:pt x="20200" y="21363"/>
                </a:lnTo>
                <a:close/>
              </a:path>
              <a:path fill="lighten" w="21600" h="22763">
                <a:moveTo>
                  <a:pt x="0" y="22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3"/>
                </a:lnTo>
                <a:close/>
              </a:path>
              <a:path fill="darken" w="21600" h="22763">
                <a:moveTo>
                  <a:pt x="10800" y="4419"/>
                </a:moveTo>
                <a:lnTo>
                  <a:pt x="13376" y="7030"/>
                </a:lnTo>
                <a:lnTo>
                  <a:pt x="13376" y="5289"/>
                </a:lnTo>
                <a:lnTo>
                  <a:pt x="15152" y="5289"/>
                </a:lnTo>
                <a:lnTo>
                  <a:pt x="15152" y="8805"/>
                </a:lnTo>
                <a:lnTo>
                  <a:pt x="17763" y="11382"/>
                </a:lnTo>
                <a:lnTo>
                  <a:pt x="16109" y="11382"/>
                </a:lnTo>
                <a:lnTo>
                  <a:pt x="16109" y="18571"/>
                </a:lnTo>
                <a:lnTo>
                  <a:pt x="5491" y="18571"/>
                </a:lnTo>
                <a:lnTo>
                  <a:pt x="5491" y="11382"/>
                </a:lnTo>
                <a:lnTo>
                  <a:pt x="3837" y="11382"/>
                </a:lnTo>
                <a:close/>
              </a:path>
              <a:path fill="darkenLess" w="21600" h="22763">
                <a:moveTo>
                  <a:pt x="13376" y="7030"/>
                </a:moveTo>
                <a:lnTo>
                  <a:pt x="13376" y="5289"/>
                </a:lnTo>
                <a:lnTo>
                  <a:pt x="15152" y="5289"/>
                </a:lnTo>
                <a:lnTo>
                  <a:pt x="15152" y="8805"/>
                </a:lnTo>
                <a:close/>
              </a:path>
              <a:path fill="darkenLess" w="21600" h="22763">
                <a:moveTo>
                  <a:pt x="9877" y="14881"/>
                </a:moveTo>
                <a:lnTo>
                  <a:pt x="11723" y="14881"/>
                </a:lnTo>
                <a:lnTo>
                  <a:pt x="11723" y="18571"/>
                </a:lnTo>
                <a:lnTo>
                  <a:pt x="16109" y="18571"/>
                </a:lnTo>
                <a:lnTo>
                  <a:pt x="16109" y="11382"/>
                </a:lnTo>
                <a:lnTo>
                  <a:pt x="5491" y="11382"/>
                </a:lnTo>
                <a:lnTo>
                  <a:pt x="5491" y="18571"/>
                </a:lnTo>
                <a:lnTo>
                  <a:pt x="9877" y="1857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>
            <a:off x="6732720" y="5805360"/>
            <a:ext cx="466560" cy="5749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74920"/>
              <a:gd name="textAreaBottom" fmla="*/ 544680 h 574920"/>
            </a:gdLst>
            <a:ahLst/>
            <a:rect l="textAreaLeft" t="textAreaTop" r="textAreaRight" b="textAreaBottom"/>
            <a:pathLst>
              <a:path w="21600" h="26613">
                <a:moveTo>
                  <a:pt x="0" y="0"/>
                </a:moveTo>
                <a:lnTo>
                  <a:pt x="21600" y="0"/>
                </a:lnTo>
                <a:lnTo>
                  <a:pt x="21600" y="26613"/>
                </a:lnTo>
                <a:lnTo>
                  <a:pt x="0" y="26613"/>
                </a:lnTo>
                <a:close/>
              </a:path>
              <a:path fill="lightenLess" w="21600" h="26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613">
                <a:moveTo>
                  <a:pt x="21600" y="0"/>
                </a:moveTo>
                <a:lnTo>
                  <a:pt x="21600" y="26613"/>
                </a:lnTo>
                <a:lnTo>
                  <a:pt x="20200" y="25213"/>
                </a:lnTo>
                <a:lnTo>
                  <a:pt x="20200" y="1400"/>
                </a:lnTo>
                <a:close/>
              </a:path>
              <a:path fill="darkenLess" w="21600" h="26613">
                <a:moveTo>
                  <a:pt x="21600" y="26613"/>
                </a:moveTo>
                <a:lnTo>
                  <a:pt x="0" y="26613"/>
                </a:lnTo>
                <a:lnTo>
                  <a:pt x="1400" y="25213"/>
                </a:lnTo>
                <a:lnTo>
                  <a:pt x="20200" y="25213"/>
                </a:lnTo>
                <a:close/>
              </a:path>
              <a:path fill="lighten" w="21600" h="26613">
                <a:moveTo>
                  <a:pt x="0" y="26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213"/>
                </a:lnTo>
                <a:close/>
              </a:path>
              <a:path fill="darken" w="21600" h="26613">
                <a:moveTo>
                  <a:pt x="3794" y="13306"/>
                </a:moveTo>
                <a:lnTo>
                  <a:pt x="17806" y="6300"/>
                </a:lnTo>
                <a:lnTo>
                  <a:pt x="17806" y="2031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8" name="AutoShape 7">
            <a:hlinkClick r:id="" action="ppaction://hlinkshowjump?jump=nextslide"/>
          </p:cNvPr>
          <p:cNvSpPr/>
          <p:nvPr/>
        </p:nvSpPr>
        <p:spPr>
          <a:xfrm>
            <a:off x="8101080" y="5805360"/>
            <a:ext cx="539640" cy="648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48000"/>
              <a:gd name="textAreaBottom" fmla="*/ 613080 h 648000"/>
            </a:gdLst>
            <a:ahLst/>
            <a:rect l="textAreaLeft" t="textAreaTop" r="textAreaRight" b="textAreaBottom"/>
            <a:pathLst>
              <a:path w="21600" h="25934">
                <a:moveTo>
                  <a:pt x="0" y="0"/>
                </a:moveTo>
                <a:lnTo>
                  <a:pt x="21600" y="0"/>
                </a:lnTo>
                <a:lnTo>
                  <a:pt x="21600" y="25934"/>
                </a:lnTo>
                <a:lnTo>
                  <a:pt x="0" y="25934"/>
                </a:lnTo>
                <a:close/>
              </a:path>
              <a:path fill="lightenLess" w="21600" h="259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34">
                <a:moveTo>
                  <a:pt x="21600" y="0"/>
                </a:moveTo>
                <a:lnTo>
                  <a:pt x="21600" y="25934"/>
                </a:lnTo>
                <a:lnTo>
                  <a:pt x="20200" y="24534"/>
                </a:lnTo>
                <a:lnTo>
                  <a:pt x="20200" y="1400"/>
                </a:lnTo>
                <a:close/>
              </a:path>
              <a:path fill="darkenLess" w="21600" h="25934">
                <a:moveTo>
                  <a:pt x="21600" y="25934"/>
                </a:moveTo>
                <a:lnTo>
                  <a:pt x="0" y="25934"/>
                </a:lnTo>
                <a:lnTo>
                  <a:pt x="1400" y="24534"/>
                </a:lnTo>
                <a:lnTo>
                  <a:pt x="20200" y="24534"/>
                </a:lnTo>
                <a:close/>
              </a:path>
              <a:path fill="lighten" w="21600" h="25934">
                <a:moveTo>
                  <a:pt x="0" y="259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34"/>
                </a:lnTo>
                <a:close/>
              </a:path>
              <a:path fill="darken" w="21600" h="25934">
                <a:moveTo>
                  <a:pt x="3794" y="5961"/>
                </a:moveTo>
                <a:lnTo>
                  <a:pt x="17806" y="12967"/>
                </a:lnTo>
                <a:lnTo>
                  <a:pt x="3794" y="19974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9" name="Picture 20" descr="http://www.motto.net.ua/large/201307/55280.jpg"/>
          <p:cNvPicPr/>
          <p:nvPr/>
        </p:nvPicPr>
        <p:blipFill>
          <a:blip r:embed="rId5"/>
          <a:stretch/>
        </p:blipFill>
        <p:spPr>
          <a:xfrm>
            <a:off x="0" y="3789360"/>
            <a:ext cx="4572000" cy="306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2" descr="http://uh.ru/files/a/4/2816/images/chellenger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1332000" cy="1700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http://www.wallcoo.com/cartoon/Space_image_space_and_satellite/images/Space%20Satellite%20CG%20art%20images%20EF07%23SI0251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80000" y="0"/>
            <a:ext cx="3456000" cy="185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8856720" cy="44643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меты, пожалуй, одно из красивейших явлений в Космосе. Ядро этого небесного тела состоит из замороженной воды и  газа, смешанных с частицами пыли и камня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вост кометы -  самая эффектная ее ча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ждые 76 лет  около Земли появляется комета Галлея. Последний раз её наблюдали в 1986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каком году комета Галлея появится около Земли в следующ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рисуйте, какой вы представляете комету Галл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WordArt 4" descr=""/>
          <p:cNvPicPr/>
          <p:nvPr/>
        </p:nvPicPr>
        <p:blipFill>
          <a:blip r:embed="rId1"/>
          <a:stretch/>
        </p:blipFill>
        <p:spPr>
          <a:xfrm>
            <a:off x="1901880" y="542880"/>
            <a:ext cx="5175360" cy="5796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759636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16346" y="3837"/>
                </a:moveTo>
                <a:lnTo>
                  <a:pt x="18922" y="6448"/>
                </a:ln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lnTo>
                  <a:pt x="23309" y="10800"/>
                </a:lnTo>
                <a:lnTo>
                  <a:pt x="21655" y="10800"/>
                </a:lnTo>
                <a:lnTo>
                  <a:pt x="21655" y="17989"/>
                </a:lnTo>
                <a:lnTo>
                  <a:pt x="11036" y="17989"/>
                </a:lnTo>
                <a:lnTo>
                  <a:pt x="11036" y="10800"/>
                </a:lnTo>
                <a:lnTo>
                  <a:pt x="9383" y="10800"/>
                </a:lnTo>
                <a:close/>
              </a:path>
              <a:path fill="darkenLess" w="32691" h="21600">
                <a:moveTo>
                  <a:pt x="18922" y="6448"/>
                </a:moveTo>
                <a:lnTo>
                  <a:pt x="18922" y="4707"/>
                </a:lnTo>
                <a:lnTo>
                  <a:pt x="20697" y="4707"/>
                </a:lnTo>
                <a:lnTo>
                  <a:pt x="20697" y="8224"/>
                </a:lnTo>
                <a:close/>
              </a:path>
              <a:path fill="darkenLess" w="32691" h="21600">
                <a:moveTo>
                  <a:pt x="15423" y="14299"/>
                </a:moveTo>
                <a:lnTo>
                  <a:pt x="17268" y="14299"/>
                </a:lnTo>
                <a:lnTo>
                  <a:pt x="17268" y="17989"/>
                </a:lnTo>
                <a:lnTo>
                  <a:pt x="21655" y="17989"/>
                </a:lnTo>
                <a:lnTo>
                  <a:pt x="21655" y="10800"/>
                </a:lnTo>
                <a:lnTo>
                  <a:pt x="11036" y="10800"/>
                </a:lnTo>
                <a:lnTo>
                  <a:pt x="11036" y="17989"/>
                </a:lnTo>
                <a:lnTo>
                  <a:pt x="15423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</p:cNvPr>
          <p:cNvSpPr/>
          <p:nvPr/>
        </p:nvSpPr>
        <p:spPr>
          <a:xfrm flipH="1">
            <a:off x="8243280" y="6537240"/>
            <a:ext cx="431640" cy="320760"/>
          </a:xfrm>
          <a:custGeom>
            <a:avLst/>
            <a:gdLst>
              <a:gd name="textAreaLeft" fmla="*/ 20520 w 431640"/>
              <a:gd name="textAreaRight" fmla="*/ 411120 w 43164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10800"/>
                </a:moveTo>
                <a:lnTo>
                  <a:pt x="21536" y="3794"/>
                </a:lnTo>
                <a:lnTo>
                  <a:pt x="2153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6" name="AutoShape 7">
            <a:hlinkClick r:id="" action="ppaction://hlinkshowjump?jump=previousslide"/>
          </p:cNvPr>
          <p:cNvSpPr/>
          <p:nvPr/>
        </p:nvSpPr>
        <p:spPr>
          <a:xfrm>
            <a:off x="7020000" y="6537240"/>
            <a:ext cx="431640" cy="320760"/>
          </a:xfrm>
          <a:custGeom>
            <a:avLst/>
            <a:gdLst>
              <a:gd name="textAreaLeft" fmla="*/ 20520 w 431640"/>
              <a:gd name="textAreaRight" fmla="*/ 411120 w 43164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29058" h="21600">
                <a:moveTo>
                  <a:pt x="0" y="0"/>
                </a:moveTo>
                <a:lnTo>
                  <a:pt x="29058" y="0"/>
                </a:lnTo>
                <a:lnTo>
                  <a:pt x="29058" y="21600"/>
                </a:lnTo>
                <a:lnTo>
                  <a:pt x="0" y="21600"/>
                </a:lnTo>
                <a:close/>
              </a:path>
              <a:path fill="lightenLess" w="29058" h="21600">
                <a:moveTo>
                  <a:pt x="0" y="0"/>
                </a:moveTo>
                <a:lnTo>
                  <a:pt x="29058" y="0"/>
                </a:lnTo>
                <a:lnTo>
                  <a:pt x="27658" y="1400"/>
                </a:lnTo>
                <a:lnTo>
                  <a:pt x="1400" y="1400"/>
                </a:lnTo>
                <a:close/>
              </a:path>
              <a:path fill="darken" w="29058" h="21600">
                <a:moveTo>
                  <a:pt x="29058" y="0"/>
                </a:moveTo>
                <a:lnTo>
                  <a:pt x="29058" y="21600"/>
                </a:lnTo>
                <a:lnTo>
                  <a:pt x="27658" y="20200"/>
                </a:lnTo>
                <a:lnTo>
                  <a:pt x="27658" y="1400"/>
                </a:lnTo>
                <a:close/>
              </a:path>
              <a:path fill="darkenLess" w="29058" h="21600">
                <a:moveTo>
                  <a:pt x="29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58" y="20200"/>
                </a:lnTo>
                <a:close/>
              </a:path>
              <a:path fill="lighten" w="29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058" h="21600">
                <a:moveTo>
                  <a:pt x="7523" y="10800"/>
                </a:moveTo>
                <a:lnTo>
                  <a:pt x="21536" y="3794"/>
                </a:lnTo>
                <a:lnTo>
                  <a:pt x="2153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44944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03eddccff2e3a1efd63c9d9b22e996aa"/>
          <p:cNvPicPr/>
          <p:nvPr/>
        </p:nvPicPr>
        <p:blipFill>
          <a:blip r:embed="rId4"/>
          <a:stretch/>
        </p:blipFill>
        <p:spPr>
          <a:xfrm>
            <a:off x="0" y="0"/>
            <a:ext cx="1619280" cy="118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5"/>
          <a:stretch/>
        </p:blipFill>
        <p:spPr>
          <a:xfrm>
            <a:off x="5940360" y="4292640"/>
            <a:ext cx="283680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402920" y="2276280"/>
            <a:ext cx="525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ите ракету в технике ориг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WordArt 4" descr=""/>
          <p:cNvPicPr/>
          <p:nvPr/>
        </p:nvPicPr>
        <p:blipFill>
          <a:blip r:embed="rId1"/>
          <a:stretch/>
        </p:blipFill>
        <p:spPr>
          <a:xfrm>
            <a:off x="2189160" y="182520"/>
            <a:ext cx="4334040" cy="10065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>
            <a:hlinkClick r:id="rId2" action="ppaction://hlinksldjump"/>
          </p:cNvPr>
          <p:cNvSpPr/>
          <p:nvPr/>
        </p:nvSpPr>
        <p:spPr>
          <a:xfrm>
            <a:off x="6948360" y="6481800"/>
            <a:ext cx="755640" cy="752400"/>
          </a:xfrm>
          <a:custGeom>
            <a:avLst/>
            <a:gdLst>
              <a:gd name="textAreaLeft" fmla="*/ 48600 w 755640"/>
              <a:gd name="textAreaRight" fmla="*/ 707040 w 755640"/>
              <a:gd name="textAreaTop" fmla="*/ 48600 h 752400"/>
              <a:gd name="textAreaBottom" fmla="*/ 703800 h 75240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10846" y="3837"/>
                </a:moveTo>
                <a:lnTo>
                  <a:pt x="13423" y="6448"/>
                </a:lnTo>
                <a:lnTo>
                  <a:pt x="13423" y="4707"/>
                </a:lnTo>
                <a:lnTo>
                  <a:pt x="15198" y="4707"/>
                </a:lnTo>
                <a:lnTo>
                  <a:pt x="15198" y="8224"/>
                </a:lnTo>
                <a:lnTo>
                  <a:pt x="17809" y="10800"/>
                </a:lnTo>
                <a:lnTo>
                  <a:pt x="16156" y="10800"/>
                </a:lnTo>
                <a:lnTo>
                  <a:pt x="16156" y="17989"/>
                </a:lnTo>
                <a:lnTo>
                  <a:pt x="5537" y="17989"/>
                </a:lnTo>
                <a:lnTo>
                  <a:pt x="5537" y="10800"/>
                </a:lnTo>
                <a:lnTo>
                  <a:pt x="3884" y="10800"/>
                </a:lnTo>
                <a:close/>
              </a:path>
              <a:path fill="darkenLess" w="21693" h="21600">
                <a:moveTo>
                  <a:pt x="13423" y="6448"/>
                </a:moveTo>
                <a:lnTo>
                  <a:pt x="13423" y="4707"/>
                </a:lnTo>
                <a:lnTo>
                  <a:pt x="15198" y="4707"/>
                </a:lnTo>
                <a:lnTo>
                  <a:pt x="15198" y="8224"/>
                </a:lnTo>
                <a:close/>
              </a:path>
              <a:path fill="darkenLess" w="21693" h="21600">
                <a:moveTo>
                  <a:pt x="9924" y="14299"/>
                </a:moveTo>
                <a:lnTo>
                  <a:pt x="11769" y="14299"/>
                </a:lnTo>
                <a:lnTo>
                  <a:pt x="11769" y="17989"/>
                </a:lnTo>
                <a:lnTo>
                  <a:pt x="16156" y="17989"/>
                </a:lnTo>
                <a:lnTo>
                  <a:pt x="16156" y="10800"/>
                </a:lnTo>
                <a:lnTo>
                  <a:pt x="5537" y="10800"/>
                </a:lnTo>
                <a:lnTo>
                  <a:pt x="5537" y="17989"/>
                </a:lnTo>
                <a:lnTo>
                  <a:pt x="9924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AutoShape 6">
            <a:hlinkClick r:id="" action="ppaction://hlinkshowjump?jump=previousslide"/>
          </p:cNvPr>
          <p:cNvSpPr/>
          <p:nvPr/>
        </p:nvSpPr>
        <p:spPr>
          <a:xfrm>
            <a:off x="5724360" y="6335640"/>
            <a:ext cx="1043280" cy="10447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4720"/>
              <a:gd name="textAreaBottom" fmla="*/ 977400 h 10447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4" name="AutoShape 7">
            <a:hlinkClick r:id="" action="ppaction://hlinkshowjump?jump=nextslide"/>
          </p:cNvPr>
          <p:cNvSpPr/>
          <p:nvPr/>
        </p:nvSpPr>
        <p:spPr>
          <a:xfrm>
            <a:off x="7885080" y="6335640"/>
            <a:ext cx="1042920" cy="10447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4720"/>
              <a:gd name="textAreaBottom" fmla="*/ 977400 h 104472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05" name="Рисунок 7" descr="i_140"/>
          <p:cNvPicPr/>
          <p:nvPr/>
        </p:nvPicPr>
        <p:blipFill>
          <a:blip r:embed="rId3"/>
          <a:stretch/>
        </p:blipFill>
        <p:spPr>
          <a:xfrm>
            <a:off x="539640" y="1125360"/>
            <a:ext cx="1409760" cy="42483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Оригами ракет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1268280"/>
            <a:ext cx="266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7:56:42Z</dcterms:created>
  <dc:creator>Курсы</dc:creator>
  <dc:description/>
  <dc:language>en-US</dc:language>
  <cp:lastModifiedBy>ser</cp:lastModifiedBy>
  <dcterms:modified xsi:type="dcterms:W3CDTF">2014-04-18T10:21:59Z</dcterms:modified>
  <cp:revision>112</cp:revision>
  <dc:subject/>
  <dc:title>Слайд 1</dc:title>
</cp:coreProperties>
</file>