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90520" y="878040"/>
            <a:ext cx="447192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100" spc="-1" strike="noStrike">
              <a:solidFill>
                <a:srgbClr val="000000"/>
              </a:solidFill>
              <a:latin typeface="Times New Roman"/>
              <a:ea typeface="Lucida Sans Unicode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A198D-85FE-4CAA-BF58-A1E0CDDDF8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2E6F-0280-445E-8705-DE58022C86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41ED-CB3A-490A-BBAC-E16F08E2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9BAE3-EB9B-49D2-9365-A7CD848E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20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936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20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936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98585-D8AA-4AB5-815D-11F9087ACC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37E9A-5C73-4968-952C-3B44A08195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C79B9-F490-48B1-A0A1-168CD4C6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6EBAB-BA76-4FD7-9E94-95F88D10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1589A-96E6-429B-B231-18842EC9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6BF85-5F73-45EC-99AA-BCFFD7BC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9FE0D-FAA5-415C-BDAD-0D365AA7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D1848-F9BE-4ED7-AD04-8E8A5DF3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D3C3-6985-464E-9C74-85605A6E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3D98C-334C-4F89-ADEF-9C09033D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B297D-AEBB-49FD-A63C-868E1674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A0C24-EBA1-4536-9C27-71AA161D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51512-2977-41EE-89AC-EE934A17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20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936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20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936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7B148-39BE-4288-8348-39B40139CF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0360-B67B-4EAC-BC3B-5DC5023F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020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9360" y="190620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020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9360" y="4161960"/>
            <a:ext cx="2513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F2C0B-0D84-4769-96C5-581E0D02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1E1B-6C62-41B2-93E0-C2AFE345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7BE6-D154-4031-BF56-BA48C751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9AED-4535-40C6-AAF4-C7D9A277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416196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42FAC-B3FF-4E28-9EE5-EA3D4149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5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73D4-A5A5-4097-8CC4-8CAC667D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1600"/>
            <a:ext cx="2130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4134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680" y="6411600"/>
            <a:ext cx="75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9EA2F4-CDCA-4E16-9456-A5650BB51C1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6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048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924680" y="6416640"/>
            <a:ext cx="75888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910E04-4E30-4AF5-ADDC-943128C9218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5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"/>
          <p:cNvGrpSpPr/>
          <p:nvPr/>
        </p:nvGrpSpPr>
        <p:grpSpPr>
          <a:xfrm>
            <a:off x="907920" y="1133640"/>
            <a:ext cx="8239320" cy="2070000"/>
            <a:chOff x="907920" y="1133640"/>
            <a:chExt cx="8239320" cy="2070000"/>
          </a:xfrm>
        </p:grpSpPr>
        <p:pic>
          <p:nvPicPr>
            <p:cNvPr id="129" name="Picture 2" descr=""/>
            <p:cNvPicPr/>
            <p:nvPr/>
          </p:nvPicPr>
          <p:blipFill>
            <a:blip r:embed="rId1"/>
            <a:stretch/>
          </p:blipFill>
          <p:spPr>
            <a:xfrm>
              <a:off x="907920" y="1133640"/>
              <a:ext cx="823932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3"/>
            <p:cNvSpPr/>
            <p:nvPr/>
          </p:nvSpPr>
          <p:spPr>
            <a:xfrm>
              <a:off x="907920" y="1133640"/>
              <a:ext cx="8239320" cy="20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Text Box 4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"/>
          <p:cNvGrpSpPr/>
          <p:nvPr/>
        </p:nvGrpSpPr>
        <p:grpSpPr>
          <a:xfrm>
            <a:off x="450720" y="268200"/>
            <a:ext cx="8329680" cy="1155960"/>
            <a:chOff x="450720" y="268200"/>
            <a:chExt cx="8329680" cy="1155960"/>
          </a:xfrm>
        </p:grpSpPr>
        <p:pic>
          <p:nvPicPr>
            <p:cNvPr id="133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329680" cy="11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3"/>
            <p:cNvSpPr/>
            <p:nvPr/>
          </p:nvSpPr>
          <p:spPr>
            <a:xfrm>
              <a:off x="450720" y="268200"/>
              <a:ext cx="8329680" cy="11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Text Box 4"/>
          <p:cNvSpPr/>
          <p:nvPr/>
        </p:nvSpPr>
        <p:spPr>
          <a:xfrm>
            <a:off x="914400" y="1785960"/>
            <a:ext cx="82296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0200" indent="-324000">
              <a:lnSpc>
                <a:spcPct val="100000"/>
              </a:lnSpc>
              <a:spcBef>
                <a:spcPts val="901"/>
              </a:spcBef>
              <a:buClr>
                <a:srgbClr val="0e594d"/>
              </a:buClr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ю классную руководительницу зовут Наталья Геннадьевна. Она очень добрая, умная. Наталья Геннадьевна нас очень хорошо учит, она так объясняет материал, чтобы всем было понятно. У неё есть талант всё объяснять спокойно. Она к нам приветлива и мы стараемся её не огорчать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29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400" spc="-1" strike="noStrike">
                <a:solidFill>
                  <a:srgbClr val="333333"/>
                </a:solidFill>
                <a:latin typeface="Arial"/>
              </a:rPr>
              <a:t>Мой любимый класс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73160" y="1599840"/>
            <a:ext cx="4016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Я учусь в гимназии и очень горжусь этим.В нашей школе сильные учителя, они  дают высокий уровень знаний. Я отличница, меня радуют мои достижения. У нас ответственные учителя, они   каждый месяц проводят различные конкурсы.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79280" y="1800360"/>
            <a:ext cx="4324320" cy="4147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400" y="502920"/>
            <a:ext cx="426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ff3333"/>
                </a:solidFill>
                <a:latin typeface="Franklin Gothic Medium"/>
              </a:rPr>
              <a:t>Мой класс — весёлый и дружный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4068720" cy="3672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"/>
          <p:cNvPicPr/>
          <p:nvPr/>
        </p:nvPicPr>
        <p:blipFill>
          <a:blip r:embed="rId2"/>
          <a:stretch/>
        </p:blipFill>
        <p:spPr>
          <a:xfrm>
            <a:off x="4859280" y="0"/>
            <a:ext cx="4105440" cy="3860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3"/>
          <a:stretch/>
        </p:blipFill>
        <p:spPr>
          <a:xfrm>
            <a:off x="4932360" y="3933720"/>
            <a:ext cx="3780000" cy="2725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520" y="474480"/>
            <a:ext cx="78087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4716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7e0021"/>
                </a:solidFill>
                <a:latin typeface="Courier New"/>
              </a:rPr>
              <a:t>Мои достижения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539640" y="1960560"/>
            <a:ext cx="4137120" cy="4156200"/>
            <a:chOff x="539640" y="1960560"/>
            <a:chExt cx="4137120" cy="4156200"/>
          </a:xfrm>
        </p:grpSpPr>
        <p:pic>
          <p:nvPicPr>
            <p:cNvPr id="145" name="Picture 3" descr=""/>
            <p:cNvPicPr/>
            <p:nvPr/>
          </p:nvPicPr>
          <p:blipFill>
            <a:blip r:embed="rId1"/>
            <a:stretch/>
          </p:blipFill>
          <p:spPr>
            <a:xfrm>
              <a:off x="539640" y="1960560"/>
              <a:ext cx="4137120" cy="41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4"/>
            <p:cNvSpPr/>
            <p:nvPr/>
          </p:nvSpPr>
          <p:spPr>
            <a:xfrm>
              <a:off x="539640" y="1960560"/>
              <a:ext cx="4137120" cy="41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Text Box 5"/>
          <p:cNvSpPr/>
          <p:nvPr/>
        </p:nvSpPr>
        <p:spPr>
          <a:xfrm>
            <a:off x="4786200" y="2025720"/>
            <a:ext cx="385308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700b8"/>
                </a:solidFill>
                <a:latin typeface="Arial"/>
                <a:ea typeface="Lucida Sans Unicode"/>
              </a:rPr>
              <a:t>Я  участвую  во всех конкурсах и занимаю различные  места.  Я буду стремиться ещё к большим высотам, надеюсь у меня всё получится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450720" y="268200"/>
            <a:ext cx="8240760" cy="1157400"/>
            <a:chOff x="450720" y="268200"/>
            <a:chExt cx="8240760" cy="1157400"/>
          </a:xfrm>
        </p:grpSpPr>
        <p:pic>
          <p:nvPicPr>
            <p:cNvPr id="149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0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3"/>
            <p:cNvSpPr/>
            <p:nvPr/>
          </p:nvSpPr>
          <p:spPr>
            <a:xfrm>
              <a:off x="450720" y="268200"/>
              <a:ext cx="82407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Мои любимые предметы – математика, русский язык, информатика, английский язык, изобразительное искусство, технология, литература и физкультура. Я люблю почти все предметы, в  каждом из них есть, что - то особенное, интересное, увлекательн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WordArt 2"/>
          <p:cNvSpPr txBox="1"/>
          <p:nvPr/>
        </p:nvSpPr>
        <p:spPr>
          <a:xfrm>
            <a:off x="1800360" y="2340000"/>
            <a:ext cx="504000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1420" dir="2700000" blurRad="0" rotWithShape="0">
                    <a:srgbClr val="808080"/>
                  </a:outerShdw>
                </a:effectLst>
                <a:latin typeface="Times New Roman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1420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3:49:47Z</dcterms:created>
  <dc:creator>Doc</dc:creator>
  <dc:description/>
  <dc:language>en-US</dc:language>
  <cp:lastModifiedBy>Наталья</cp:lastModifiedBy>
  <dcterms:modified xsi:type="dcterms:W3CDTF">2014-11-08T14:47:10Z</dcterms:modified>
  <cp:revision>9</cp:revision>
  <dc:subject/>
  <dc:title>Я гимназистка</dc:title>
</cp:coreProperties>
</file>