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3063-08E7-487F-8F9B-6FA61E8D8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8CC3-7A43-4137-986A-8DE801808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8785-46B1-4DA8-8A90-E73DD74C4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CE71-8376-4A44-9250-903996CC8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08D82-9C47-4A7A-A647-875EA99D4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525FC-93FD-40CC-BD73-35B61B4BF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26596-D116-485C-A5F4-61E3D3E92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39F68-567A-4CC8-8D61-1E2C0D034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07AD6-187B-45DE-91BE-78BAB04C7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F23F7-D101-49F0-B4F9-179702533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61939-9834-442F-8F8A-3A1B7D60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C21C-578C-4D25-8CC0-22BE84704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7368F-D0F6-4A96-8280-1ED47736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5A01C-EF02-4885-B1EE-60618884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C4EF2-0BBD-4F01-A70C-DFE09C9F4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1FBA7-53E9-4446-833E-17C756AB0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E7917-4076-43D0-8564-D63784B6B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9C60-2A36-495C-8094-E735F07A6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85CA-15AA-4574-9E2D-B4A4641A4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841B-0311-455A-A044-A89A1D970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B448-847D-4478-B704-CCFFBA04C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D666-BA47-4CE4-B79D-A2480278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72E2-C300-4974-A507-00F88414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8D9A-9B9E-469F-804F-CC6B7F5A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68837-F7D7-46B7-B1EE-ED98C5A0503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64C95-17D8-45D0-9598-B271A6A3102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Рисунок1"/>
          <p:cNvPicPr/>
          <p:nvPr/>
        </p:nvPicPr>
        <p:blipFill>
          <a:blip r:embed="rId1"/>
          <a:stretch/>
        </p:blipFill>
        <p:spPr>
          <a:xfrm>
            <a:off x="3124080" y="380880"/>
            <a:ext cx="2743200" cy="1981440"/>
          </a:xfrm>
          <a:prstGeom prst="rect">
            <a:avLst/>
          </a:prstGeom>
          <a:ln w="0">
            <a:noFill/>
          </a:ln>
        </p:spPr>
      </p:pic>
      <p:sp>
        <p:nvSpPr>
          <p:cNvPr id="121" name="WordArt 6"/>
          <p:cNvSpPr txBox="1"/>
          <p:nvPr/>
        </p:nvSpPr>
        <p:spPr>
          <a:xfrm>
            <a:off x="228600" y="2666880"/>
            <a:ext cx="8620200" cy="25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Как правильно написать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безударное личное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окончание глагола?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2"/>
          <p:cNvSpPr txBox="1"/>
          <p:nvPr/>
        </p:nvSpPr>
        <p:spPr>
          <a:xfrm>
            <a:off x="990720" y="304920"/>
            <a:ext cx="743904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Impact"/>
              </a:rPr>
              <a:t>Окончания глаголов I и II спряжения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Impact"/>
              </a:rPr>
              <a:t>Русские народные промыслы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Impact"/>
              <a:ea typeface="Impact"/>
            </a:endParaRPr>
          </a:p>
        </p:txBody>
      </p:sp>
      <p:pic>
        <p:nvPicPr>
          <p:cNvPr id="123" name="Picture 5" descr="653"/>
          <p:cNvPicPr/>
          <p:nvPr/>
        </p:nvPicPr>
        <p:blipFill>
          <a:blip r:embed="rId1"/>
          <a:stretch/>
        </p:blipFill>
        <p:spPr>
          <a:xfrm>
            <a:off x="2666880" y="3581280"/>
            <a:ext cx="3886200" cy="2813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0_2474a_c6b56a7b_XL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2"/>
          <p:cNvSpPr txBox="1"/>
          <p:nvPr/>
        </p:nvSpPr>
        <p:spPr>
          <a:xfrm>
            <a:off x="1181160" y="304920"/>
            <a:ext cx="6629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але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6" name="Picture 6" descr="161"/>
          <p:cNvPicPr/>
          <p:nvPr/>
        </p:nvPicPr>
        <p:blipFill>
          <a:blip r:embed="rId3"/>
          <a:stretch/>
        </p:blipFill>
        <p:spPr>
          <a:xfrm>
            <a:off x="380880" y="1219320"/>
            <a:ext cx="3733920" cy="2512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paleh_mini_watermark"/>
          <p:cNvPicPr/>
          <p:nvPr/>
        </p:nvPicPr>
        <p:blipFill>
          <a:blip r:embed="rId4"/>
          <a:stretch/>
        </p:blipFill>
        <p:spPr>
          <a:xfrm>
            <a:off x="4952880" y="1219320"/>
            <a:ext cx="3276720" cy="26035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f_16054719"/>
          <p:cNvPicPr/>
          <p:nvPr/>
        </p:nvPicPr>
        <p:blipFill>
          <a:blip r:embed="rId5"/>
          <a:stretch/>
        </p:blipFill>
        <p:spPr>
          <a:xfrm>
            <a:off x="2590920" y="3962520"/>
            <a:ext cx="4190760" cy="2531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своих работах они часто изображают своё знаменитое село, сцены из крестьянской жизни. Но чаще всего палехские мастера любят изображать героев русских народных сказок и былин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WordArt 4"/>
          <p:cNvSpPr txBox="1"/>
          <p:nvPr/>
        </p:nvSpPr>
        <p:spPr>
          <a:xfrm>
            <a:off x="1219320" y="685800"/>
            <a:ext cx="6629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але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1" name="Picture 5" descr="be8e16e2c7a2cabb2dbeaf7b2ec_prev"/>
          <p:cNvPicPr/>
          <p:nvPr/>
        </p:nvPicPr>
        <p:blipFill>
          <a:blip r:embed="rId3"/>
          <a:stretch/>
        </p:blipFill>
        <p:spPr>
          <a:xfrm>
            <a:off x="4952880" y="4038480"/>
            <a:ext cx="3486240" cy="2517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520"/>
          <p:cNvPicPr/>
          <p:nvPr/>
        </p:nvPicPr>
        <p:blipFill>
          <a:blip r:embed="rId1"/>
          <a:stretch/>
        </p:blipFill>
        <p:spPr>
          <a:xfrm>
            <a:off x="1676520" y="304920"/>
            <a:ext cx="5556240" cy="6324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истратор</cp:lastModifiedBy>
  <dcterms:modified xsi:type="dcterms:W3CDTF">2014-12-22T06:24:30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