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7F5-D8EF-47DA-8F0B-5A60F997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35CD-72CC-4B04-AA6B-7C978694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BCB-46F9-40CF-8C49-17BD878C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782-D0DB-4217-9134-3C35F70F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FB83-F5BC-4445-A6ED-033D6D77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3FD5-B04D-45D0-A571-186FF62B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0DF9-B099-4E35-923E-55CED9BC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811A-E7D7-4B26-A261-F8EAB011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87C6-577B-4D8F-8A65-598C46E5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84A3-389D-4B03-AC6D-0E21E437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B2AE-2E8D-44A1-9593-A213C893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F34-34B0-41BB-B88C-6261A55C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E920-E8D4-4BF0-909E-CA94A4B6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4AD1-4ED3-400D-8816-0988769B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90C6-D250-4346-BE4F-BCA3EA4A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7404-13BD-492D-8047-173A7776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4B48-D16D-4DCE-937F-CAABF12E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6166-E609-49B4-B799-C8C9CA17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0EA3-A9DD-4A23-BEFB-534CE56D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A014-2113-4AAA-B6FF-CE74BE61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EB2-C356-4F61-8C4A-D4243A0B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F680-CDF0-41BE-8978-48138484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CDF-F24C-4B5B-A6A7-55351F21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83B-4F95-4F03-AF07-40C968B6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0BC1-F1EC-4CE0-A4D9-86BC03DFCC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88FD-FE09-4B75-AF7F-857A84B08BC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228600" y="380880"/>
            <a:ext cx="8182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 всём мире знают русский самова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304920" y="1371600"/>
            <a:ext cx="3543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го родина - Тула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304920" y="2362320"/>
            <a:ext cx="8448480" cy="1152360"/>
            <a:chOff x="304920" y="2362320"/>
            <a:chExt cx="8448480" cy="1152360"/>
          </a:xfrm>
        </p:grpSpPr>
        <p:sp>
          <p:nvSpPr>
            <p:cNvPr id="123" name="WordArt 6"/>
            <p:cNvSpPr txBox="1"/>
            <p:nvPr/>
          </p:nvSpPr>
          <p:spPr>
            <a:xfrm>
              <a:off x="304920" y="2362320"/>
              <a:ext cx="84484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ервый самовар изготовил в 1778 году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4" name="WordArt 7"/>
            <p:cNvSpPr txBox="1"/>
            <p:nvPr/>
          </p:nvSpPr>
          <p:spPr>
            <a:xfrm>
              <a:off x="304920" y="3048120"/>
              <a:ext cx="45147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мастер Назар Лисицын.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25" name="WordArt 8"/>
          <p:cNvSpPr txBox="1"/>
          <p:nvPr/>
        </p:nvSpPr>
        <p:spPr>
          <a:xfrm>
            <a:off x="304920" y="4114800"/>
            <a:ext cx="84484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ульский самовар проживёт ещё много лет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26" name="Group 12"/>
          <p:cNvGrpSpPr/>
          <p:nvPr/>
        </p:nvGrpSpPr>
        <p:grpSpPr>
          <a:xfrm>
            <a:off x="304920" y="5181480"/>
            <a:ext cx="8381880" cy="1295640"/>
            <a:chOff x="304920" y="5181480"/>
            <a:chExt cx="8381880" cy="1295640"/>
          </a:xfrm>
        </p:grpSpPr>
        <p:sp>
          <p:nvSpPr>
            <p:cNvPr id="127" name="WordArt 9"/>
            <p:cNvSpPr txBox="1"/>
            <p:nvPr/>
          </p:nvSpPr>
          <p:spPr>
            <a:xfrm>
              <a:off x="304920" y="5181480"/>
              <a:ext cx="83818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 народе говорят:"В Тулу со своим самоваром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8" name="WordArt 10"/>
            <p:cNvSpPr txBox="1"/>
            <p:nvPr/>
          </p:nvSpPr>
          <p:spPr>
            <a:xfrm>
              <a:off x="304920" y="6019920"/>
              <a:ext cx="23144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не ездят".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4"/>
          <p:cNvPicPr/>
          <p:nvPr/>
        </p:nvPicPr>
        <p:blipFill>
          <a:blip r:embed="rId1"/>
          <a:stretch/>
        </p:blipFill>
        <p:spPr>
          <a:xfrm>
            <a:off x="1219320" y="1600200"/>
            <a:ext cx="6019560" cy="451476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685800" y="0"/>
            <a:ext cx="78487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оробейн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31" name="korobeiniki.mp3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64285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762120" y="304920"/>
            <a:ext cx="7572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разеологические обороты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WordArt 8"/>
          <p:cNvSpPr txBox="1"/>
          <p:nvPr/>
        </p:nvSpPr>
        <p:spPr>
          <a:xfrm>
            <a:off x="1981080" y="1523880"/>
            <a:ext cx="5010120" cy="440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дит сложа руки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ьёт баклуши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люёт в потолок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убы заговаривает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рочит голову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читаешь ворон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V010"/>
          <p:cNvPicPr/>
          <p:nvPr/>
        </p:nvPicPr>
        <p:blipFill>
          <a:blip r:embed="rId1"/>
          <a:stretch/>
        </p:blipFill>
        <p:spPr>
          <a:xfrm>
            <a:off x="6254640" y="1066680"/>
            <a:ext cx="2889360" cy="29718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2"/>
          <p:cNvSpPr txBox="1"/>
          <p:nvPr/>
        </p:nvSpPr>
        <p:spPr>
          <a:xfrm>
            <a:off x="118116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ж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Picture 3" descr="1559"/>
          <p:cNvPicPr/>
          <p:nvPr/>
        </p:nvPicPr>
        <p:blipFill>
          <a:blip r:embed="rId4"/>
          <a:stretch/>
        </p:blipFill>
        <p:spPr>
          <a:xfrm>
            <a:off x="2438280" y="1066680"/>
            <a:ext cx="3810240" cy="5791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V006"/>
          <p:cNvPicPr/>
          <p:nvPr/>
        </p:nvPicPr>
        <p:blipFill>
          <a:blip r:embed="rId5"/>
          <a:stretch/>
        </p:blipFill>
        <p:spPr>
          <a:xfrm>
            <a:off x="0" y="3809880"/>
            <a:ext cx="2728800" cy="304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4-12-22T06:26:25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