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038-29B1-4A74-A54F-F130D00D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95F-0115-469D-AC68-5CF144BA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F19-58F8-4484-96AC-C092ECAA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0E0-11F4-4102-ADED-7E800944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1E8E-018D-4B52-A11B-66555A52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C6A3-7253-4690-B322-0C895E9F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5BBD-6E44-4D3C-B3AF-CBECAF60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FD40-51A7-415A-9016-D8C8EA4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D350-9983-444E-9889-08925193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EE07-E70F-4DA4-B261-C5E3B00A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2570-A8EF-4B96-9EF4-64FBEC85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E31-2A71-412A-8827-E186BA45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D97A-F600-4B19-A700-6CA1CCE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1301-4DE3-48B1-8D50-7BECA62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7766-FCB8-4B29-9124-63A96D1C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F36-372A-41BC-962F-DC5602D6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8FF1-9ABE-47B6-8B32-FB9DE89B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173-AF57-4E75-9FB1-98E7B55E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490-CA19-4E34-AFCF-FEEAF610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FDC-E5A5-443D-9D21-469912AE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352-807D-4239-9CAF-9712E3C6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CBC-4634-4CCF-B278-D46C6080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096-0F76-45F1-B145-C9860C6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FED-A8D2-44C6-8527-A2DB32FA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CFCF-6FFD-46ED-8099-2AFB3D20A2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550F-F752-44CB-AC6E-94D3AB4124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510petrov9"/>
          <p:cNvPicPr/>
          <p:nvPr/>
        </p:nvPicPr>
        <p:blipFill>
          <a:blip r:embed="rId1"/>
          <a:stretch/>
        </p:blipFill>
        <p:spPr>
          <a:xfrm>
            <a:off x="1523880" y="914400"/>
            <a:ext cx="6172200" cy="46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1181160" y="304920"/>
            <a:ext cx="7467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ные  промысл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Picture 5" descr="scrn_big_1"/>
          <p:cNvPicPr/>
          <p:nvPr/>
        </p:nvPicPr>
        <p:blipFill>
          <a:blip r:embed="rId3"/>
          <a:stretch/>
        </p:blipFill>
        <p:spPr>
          <a:xfrm>
            <a:off x="4800600" y="1600200"/>
            <a:ext cx="1349280" cy="198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4243"/>
          <p:cNvPicPr/>
          <p:nvPr/>
        </p:nvPicPr>
        <p:blipFill>
          <a:blip r:embed="rId4"/>
          <a:stretch/>
        </p:blipFill>
        <p:spPr>
          <a:xfrm>
            <a:off x="6248520" y="4572000"/>
            <a:ext cx="241776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"/>
          <p:cNvPicPr/>
          <p:nvPr/>
        </p:nvPicPr>
        <p:blipFill>
          <a:blip r:embed="rId5"/>
          <a:stretch/>
        </p:blipFill>
        <p:spPr>
          <a:xfrm>
            <a:off x="2647800" y="1523880"/>
            <a:ext cx="15462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5"/>
          <p:cNvPicPr/>
          <p:nvPr/>
        </p:nvPicPr>
        <p:blipFill>
          <a:blip r:embed="rId6"/>
          <a:stretch/>
        </p:blipFill>
        <p:spPr>
          <a:xfrm>
            <a:off x="533520" y="4495680"/>
            <a:ext cx="2228760" cy="19814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9"/>
          <p:cNvSpPr txBox="1"/>
          <p:nvPr/>
        </p:nvSpPr>
        <p:spPr>
          <a:xfrm>
            <a:off x="1066680" y="15238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жель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0"/>
          <p:cNvSpPr txBox="1"/>
          <p:nvPr/>
        </p:nvSpPr>
        <p:spPr>
          <a:xfrm>
            <a:off x="6477120" y="1600200"/>
            <a:ext cx="1752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лхов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айд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WordArt 11"/>
          <p:cNvSpPr txBox="1"/>
          <p:nvPr/>
        </p:nvSpPr>
        <p:spPr>
          <a:xfrm>
            <a:off x="2819520" y="5943600"/>
            <a:ext cx="14572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хлом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2"/>
          <p:cNvSpPr txBox="1"/>
          <p:nvPr/>
        </p:nvSpPr>
        <p:spPr>
          <a:xfrm>
            <a:off x="3886200" y="4114800"/>
            <a:ext cx="240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одетска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спис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4-12-22T06:29:4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