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CEE-4554-4850-B5E4-5F974535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370-9883-4CFC-8DE5-67CCA30A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ACB-569A-4AC7-8932-FEEE4C2B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ED8-0A53-4D70-8F94-F859F7F1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0F4C-BF20-40A9-8392-A92636F2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F99A-B83E-4727-BE79-A58A5C1B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BECE-7D79-49DF-94AF-C7A1B792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2699-211D-4AE0-9D07-D30786A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7DF2-AF18-4B60-926C-13AB15D0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32D2-726F-4162-AFB0-4DB3B0DA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CA2D-4965-4CCF-9EF0-21B8E99D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EB9-D506-4828-A6CE-D7F17DCF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40DA-FB10-4D7F-9C89-5454C2D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CE47-489B-4FA7-A4BF-B3FD8F2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B9AF-43A2-4E08-B0F1-4F0FFA33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CEBA-2211-46DD-BB72-DEE85BF5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9804-04F8-405F-803A-DADD3B61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66E-500B-480B-AAB0-8D4035CE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D55-6F23-4272-9459-DF73BFF5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F7B-004D-44C0-AE9D-9E4C22B3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87D-2F31-4C15-98C2-8E330A0F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C23-E78D-4A7D-B7D0-62825CC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33B-0B85-41A1-BF76-A5C8989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167-1B6A-41B4-B583-7B18E6C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11F5-B6BC-40E7-8F5A-610D00093D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2869-5AE7-44FD-BCCD-C38651BB13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DSC00982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840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7"/>
          <p:cNvSpPr txBox="1"/>
          <p:nvPr/>
        </p:nvSpPr>
        <p:spPr>
          <a:xfrm>
            <a:off x="533520" y="304920"/>
            <a:ext cx="7848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ые россыпи Рус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18116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ные  промыс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3" name="Group 18"/>
          <p:cNvGrpSpPr/>
          <p:nvPr/>
        </p:nvGrpSpPr>
        <p:grpSpPr>
          <a:xfrm>
            <a:off x="838080" y="990720"/>
            <a:ext cx="2810160" cy="2820960"/>
            <a:chOff x="838080" y="990720"/>
            <a:chExt cx="2810160" cy="2820960"/>
          </a:xfrm>
        </p:grpSpPr>
        <p:pic>
          <p:nvPicPr>
            <p:cNvPr id="124" name="Picture 10" descr="053_image"/>
            <p:cNvPicPr/>
            <p:nvPr/>
          </p:nvPicPr>
          <p:blipFill>
            <a:blip r:embed="rId3"/>
            <a:stretch/>
          </p:blipFill>
          <p:spPr>
            <a:xfrm>
              <a:off x="914400" y="990720"/>
              <a:ext cx="270504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WordArt 14"/>
            <p:cNvSpPr txBox="1"/>
            <p:nvPr/>
          </p:nvSpPr>
          <p:spPr>
            <a:xfrm>
              <a:off x="838080" y="3276720"/>
              <a:ext cx="2810160" cy="53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логодские кружев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26" name="Group 20"/>
          <p:cNvGrpSpPr/>
          <p:nvPr/>
        </p:nvGrpSpPr>
        <p:grpSpPr>
          <a:xfrm>
            <a:off x="609480" y="4038480"/>
            <a:ext cx="2895840" cy="2667240"/>
            <a:chOff x="609480" y="4038480"/>
            <a:chExt cx="2895840" cy="2667240"/>
          </a:xfrm>
        </p:grpSpPr>
        <p:pic>
          <p:nvPicPr>
            <p:cNvPr id="127" name="Picture 12" descr="1248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289584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15"/>
            <p:cNvSpPr txBox="1"/>
            <p:nvPr/>
          </p:nvSpPr>
          <p:spPr>
            <a:xfrm>
              <a:off x="838080" y="6095880"/>
              <a:ext cx="26244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алехская шкатул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29" name="Group 19"/>
          <p:cNvGrpSpPr/>
          <p:nvPr/>
        </p:nvGrpSpPr>
        <p:grpSpPr>
          <a:xfrm>
            <a:off x="5257800" y="914400"/>
            <a:ext cx="3124080" cy="2743200"/>
            <a:chOff x="5257800" y="914400"/>
            <a:chExt cx="3124080" cy="2743200"/>
          </a:xfrm>
        </p:grpSpPr>
        <p:pic>
          <p:nvPicPr>
            <p:cNvPr id="130" name="Picture 13" descr="55"/>
            <p:cNvPicPr/>
            <p:nvPr/>
          </p:nvPicPr>
          <p:blipFill>
            <a:blip r:embed="rId5"/>
            <a:stretch/>
          </p:blipFill>
          <p:spPr>
            <a:xfrm>
              <a:off x="5257800" y="914400"/>
              <a:ext cx="312408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WordArt 16"/>
            <p:cNvSpPr txBox="1"/>
            <p:nvPr/>
          </p:nvSpPr>
          <p:spPr>
            <a:xfrm>
              <a:off x="5562720" y="3124080"/>
              <a:ext cx="2552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загорская матрёш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32" name="Group 21"/>
          <p:cNvGrpSpPr/>
          <p:nvPr/>
        </p:nvGrpSpPr>
        <p:grpSpPr>
          <a:xfrm>
            <a:off x="5715000" y="3733920"/>
            <a:ext cx="2228760" cy="2971800"/>
            <a:chOff x="5715000" y="3733920"/>
            <a:chExt cx="2228760" cy="2971800"/>
          </a:xfrm>
        </p:grpSpPr>
        <p:pic>
          <p:nvPicPr>
            <p:cNvPr id="133" name="Picture 11" descr="342"/>
            <p:cNvPicPr/>
            <p:nvPr/>
          </p:nvPicPr>
          <p:blipFill>
            <a:blip r:embed="rId6"/>
            <a:stretch/>
          </p:blipFill>
          <p:spPr>
            <a:xfrm>
              <a:off x="5715000" y="3733920"/>
              <a:ext cx="21621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WordArt 17"/>
            <p:cNvSpPr txBox="1"/>
            <p:nvPr/>
          </p:nvSpPr>
          <p:spPr>
            <a:xfrm>
              <a:off x="5715000" y="6172200"/>
              <a:ext cx="2228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хохломская роспис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118116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ные промыс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12" descr="V006"/>
          <p:cNvPicPr/>
          <p:nvPr/>
        </p:nvPicPr>
        <p:blipFill>
          <a:blip r:embed="rId3"/>
          <a:stretch/>
        </p:blipFill>
        <p:spPr>
          <a:xfrm>
            <a:off x="838080" y="990720"/>
            <a:ext cx="2455920" cy="27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2664"/>
          <p:cNvPicPr/>
          <p:nvPr/>
        </p:nvPicPr>
        <p:blipFill>
          <a:blip r:embed="rId4"/>
          <a:stretch/>
        </p:blipFill>
        <p:spPr>
          <a:xfrm>
            <a:off x="8380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303529"/>
          <p:cNvPicPr/>
          <p:nvPr/>
        </p:nvPicPr>
        <p:blipFill>
          <a:blip r:embed="rId5"/>
          <a:stretch/>
        </p:blipFill>
        <p:spPr>
          <a:xfrm>
            <a:off x="5477040" y="990720"/>
            <a:ext cx="1952640" cy="2590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518"/>
          <p:cNvPicPr/>
          <p:nvPr/>
        </p:nvPicPr>
        <p:blipFill>
          <a:blip r:embed="rId6"/>
          <a:stretch/>
        </p:blipFill>
        <p:spPr>
          <a:xfrm>
            <a:off x="5029200" y="4114800"/>
            <a:ext cx="3008160" cy="232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1181160" y="304920"/>
            <a:ext cx="6629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сский дом, украшенный резьб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5" descr="Ростов (8)"/>
          <p:cNvPicPr/>
          <p:nvPr/>
        </p:nvPicPr>
        <p:blipFill>
          <a:blip r:embed="rId3"/>
          <a:stretch/>
        </p:blipFill>
        <p:spPr>
          <a:xfrm>
            <a:off x="12193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118116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хломская росп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Picture 7" descr="341"/>
          <p:cNvPicPr/>
          <p:nvPr/>
        </p:nvPicPr>
        <p:blipFill>
          <a:blip r:embed="rId3"/>
          <a:stretch/>
        </p:blipFill>
        <p:spPr>
          <a:xfrm>
            <a:off x="914400" y="3505320"/>
            <a:ext cx="2455920" cy="3162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H170"/>
          <p:cNvPicPr/>
          <p:nvPr/>
        </p:nvPicPr>
        <p:blipFill>
          <a:blip r:embed="rId4"/>
          <a:stretch/>
        </p:blipFill>
        <p:spPr>
          <a:xfrm>
            <a:off x="5867280" y="3429000"/>
            <a:ext cx="2678400" cy="3124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xoxloma"/>
          <p:cNvPicPr/>
          <p:nvPr/>
        </p:nvPicPr>
        <p:blipFill>
          <a:blip r:embed="rId5"/>
          <a:stretch/>
        </p:blipFill>
        <p:spPr>
          <a:xfrm>
            <a:off x="2438280" y="1066680"/>
            <a:ext cx="3819600" cy="267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Рисунок1"/>
          <p:cNvPicPr/>
          <p:nvPr/>
        </p:nvPicPr>
        <p:blipFill>
          <a:blip r:embed="rId1"/>
          <a:stretch/>
        </p:blipFill>
        <p:spPr>
          <a:xfrm>
            <a:off x="3124080" y="3808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4"/>
          <p:cNvSpPr txBox="1"/>
          <p:nvPr/>
        </p:nvSpPr>
        <p:spPr>
          <a:xfrm>
            <a:off x="304920" y="2819520"/>
            <a:ext cx="8410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такое неопределённая форма глагола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457200" y="3962520"/>
            <a:ext cx="6105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какие вопросы отвечают глаголы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определенной формы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9e4382d4be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2-22T06:22:5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