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E3E-BA61-4F86-B123-8A4D1576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AF1-C6D0-47BD-AFE6-DD44D20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D9A-F23C-47B4-8488-B90C07BA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DDE-B987-4FD7-8F44-2AD60DB3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A7C-F087-48F3-AFCD-1FE3325E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3E1-0028-4CE1-A744-78E48A84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17C-E501-41DB-90D0-09B367E2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08CE-841C-4D5E-A937-80AF585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12BB-BD97-4DE2-916B-E7A10A5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BB91-4279-476C-B8E2-949B2DAA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C476-2E78-4ECA-BCE7-1A4DF30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348-D61A-4857-B224-DAF93E43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B24-CEE7-413D-8422-09C327F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0582-0FC9-4189-8205-E0ED43B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1CFD-9A9E-4AED-9404-A9436B9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221-BD1B-4CDF-B341-181D565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715-FACF-48CC-9D92-EFEC641A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5B0-E07E-4728-B51E-B8B35BD2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132-FF7D-4D4F-8CEA-EE2CE7F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412-D811-4BE4-A9A5-A455E15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4C1-FC55-4120-80BC-9A5F37D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D38-8C16-4613-9058-FA1D314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4C5-1860-4148-88B9-1B2428B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F9B-5333-4994-ACD9-8C46CBB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0BBC-196D-4713-8A65-BC2C62A9CC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21D-15D2-47D3-93DF-4B1594D76E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18116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рё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3" descr="55"/>
          <p:cNvPicPr/>
          <p:nvPr/>
        </p:nvPicPr>
        <p:blipFill>
          <a:blip r:embed="rId3"/>
          <a:stretch/>
        </p:blipFill>
        <p:spPr>
          <a:xfrm>
            <a:off x="1676520" y="1828800"/>
            <a:ext cx="5333760" cy="389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2-22T06:34:5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