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95D-C80F-4295-97ED-80D6B7FF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4DF-007B-44E2-B82D-A41F9D4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F4D-FE5C-4633-8DBD-48DDF865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39D-D0C9-41D3-AE84-935DCD45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AA0-EAEB-496C-ABFC-C3D724BD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9D-354D-4CFC-A5F8-7E2D66E3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773-10EE-4F12-8EF1-88869CC8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CDF-3491-4585-A598-DA94E39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806-D1B5-49BE-BCE2-4D80A071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A10-9708-4BA8-B260-DEC1A12B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50DE-D93B-484F-A15B-BCF1A8AD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6BE-0FAA-4F0E-B764-9DCB97A5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60C-DCC9-4CB1-BDC6-AAC95290AF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F5A8-3776-4F37-AF62-C5494241A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hyperlink" Target="http://festival.1september.ru/files/articles/60/6009/600910/Image5228.jp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Прямоугольник 6"/>
          <p:cNvGrpSpPr/>
          <p:nvPr/>
        </p:nvGrpSpPr>
        <p:grpSpPr>
          <a:xfrm>
            <a:off x="-19080" y="1487520"/>
            <a:ext cx="7175520" cy="950760"/>
            <a:chOff x="-19080" y="1487520"/>
            <a:chExt cx="7175520" cy="950760"/>
          </a:xfrm>
        </p:grpSpPr>
        <p:pic>
          <p:nvPicPr>
            <p:cNvPr id="43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-19080" y="1487520"/>
              <a:ext cx="71755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150336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Урок письма в 1 классе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Прямоугольник 8"/>
          <p:cNvSpPr/>
          <p:nvPr/>
        </p:nvSpPr>
        <p:spPr>
          <a:xfrm>
            <a:off x="2932200" y="2257560"/>
            <a:ext cx="3997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EB18-3E80-40AD-8B8F-ABBFE562D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876240" y="2790720"/>
            <a:ext cx="55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исьмо слов и предлож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 изученными буквам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149720" y="4902120"/>
            <a:ext cx="3301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5062680" y="4671000"/>
            <a:ext cx="33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лаксина Людмила Николаевн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ОУ гимназия №12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 Тамб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2"/>
          <a:stretch/>
        </p:blipFill>
        <p:spPr>
          <a:xfrm>
            <a:off x="2335320" y="914400"/>
            <a:ext cx="35244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466560" y="230652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10AE-97A6-4543-9469-11A692539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86704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1222200" y="5967360"/>
            <a:ext cx="70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http://festival.1september.ru/files/articles/60/6009/600910/Image522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63c1"/>
                </a:solidFill>
                <a:latin typeface="Arial"/>
              </a:rPr>
              <a:t>Грамоте учиться – всегда пригод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2271600" y="1058760"/>
            <a:ext cx="63817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8" descr=""/>
          <p:cNvPicPr/>
          <p:nvPr/>
        </p:nvPicPr>
        <p:blipFill>
          <a:blip r:embed="rId4"/>
          <a:stretch/>
        </p:blipFill>
        <p:spPr>
          <a:xfrm>
            <a:off x="2090880" y="792000"/>
            <a:ext cx="7010280" cy="835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9"/>
          <p:cNvSpPr/>
          <p:nvPr/>
        </p:nvSpPr>
        <p:spPr>
          <a:xfrm>
            <a:off x="355680" y="1839960"/>
            <a:ext cx="8132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кулина Г.А. Интеллектуальное развитие младших школьников на уроках обучения грамоте: Пособие для учителя – М.: Гуманит. изд. центр ВЛАДОС,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stival.1september.ru/files/articles/60/6009/600910/Image5228.jpg Грамоте учиться – всегда пригод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vkpass.ru/razdeli/samodelniy/samodelniy-kostyum-fei/141681.ht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aby-ko.com.ua/products/2576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ыж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ecycleboom.livejournal.com/4580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нь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480960" y="2144880"/>
            <a:ext cx="457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2AF0-013E-4F54-9F9B-A8E2D3B60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123\Desktop\mountains_1600x1200.jpg"/>
          <p:cNvPicPr/>
          <p:nvPr/>
        </p:nvPicPr>
        <p:blipFill>
          <a:blip r:embed="rId2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Заголовок 1" descr=""/>
          <p:cNvPicPr/>
          <p:nvPr/>
        </p:nvPicPr>
        <p:blipFill>
          <a:blip r:embed="rId3"/>
          <a:stretch/>
        </p:blipFill>
        <p:spPr>
          <a:xfrm>
            <a:off x="390600" y="225360"/>
            <a:ext cx="83628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485640" y="1998720"/>
            <a:ext cx="8196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8DFF-C73D-42CC-AF63-FE26D3EF9A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976320" y="2255760"/>
            <a:ext cx="59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о    у     р     ы     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  л   м     н     д     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    б     р     з     с     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764-8468-466B-92CB-CE3FAF123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1833480" y="1720800"/>
            <a:ext cx="58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кетб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88488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C04-AD58-4F4E-9060-79ED6B8BF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885960" y="2286000"/>
            <a:ext cx="90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ы х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 учит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мног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ит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2060640" y="785880"/>
            <a:ext cx="3024000" cy="9032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274680" y="2522520"/>
            <a:ext cx="483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новые, кленовы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швы двухметровы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поставил две ноги 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большим снегам беги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1789200" y="4780080"/>
            <a:ext cx="16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ыж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4673520" y="2122560"/>
            <a:ext cx="4070520" cy="294948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ECE0-7749-4D4A-B2D4-125CCE601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/>
          <p:cNvPicPr/>
          <p:nvPr/>
        </p:nvPicPr>
        <p:blipFill>
          <a:blip r:embed="rId2"/>
          <a:stretch/>
        </p:blipFill>
        <p:spPr>
          <a:xfrm>
            <a:off x="2103480" y="817560"/>
            <a:ext cx="3022560" cy="9018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366840" y="2192400"/>
            <a:ext cx="482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и новые подруж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лестящи, и лег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льду со мной резвят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роза не боя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2284920" y="458784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нь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4967280" y="1711440"/>
            <a:ext cx="3714840" cy="371628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7122-25C5-466D-A02D-A2238484E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4" descr=""/>
          <p:cNvPicPr/>
          <p:nvPr/>
        </p:nvPicPr>
        <p:blipFill>
          <a:blip r:embed="rId2"/>
          <a:stretch/>
        </p:blipFill>
        <p:spPr>
          <a:xfrm>
            <a:off x="2103480" y="817560"/>
            <a:ext cx="3022560" cy="9018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466560" y="2306520"/>
            <a:ext cx="377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ерёвочку кон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ку я тащ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с горки быстро 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 лечу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378440" y="482616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н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4329000" y="1909800"/>
            <a:ext cx="4397400" cy="2805120"/>
          </a:xfrm>
          <a:prstGeom prst="rect">
            <a:avLst/>
          </a:prstGeom>
          <a:ln w="0">
            <a:noFill/>
          </a:ln>
        </p:spPr>
      </p:pic>
      <p:sp>
        <p:nvSpPr>
          <p:cNvPr id="82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EAA6-7070-4010-8FAF-1A6F3CDA7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Прямоугольник 6"/>
          <p:cNvGrpSpPr/>
          <p:nvPr/>
        </p:nvGrpSpPr>
        <p:grpSpPr>
          <a:xfrm>
            <a:off x="341280" y="55440"/>
            <a:ext cx="6858000" cy="5175360"/>
            <a:chOff x="341280" y="55440"/>
            <a:chExt cx="6858000" cy="5175360"/>
          </a:xfrm>
        </p:grpSpPr>
        <p:pic>
          <p:nvPicPr>
            <p:cNvPr id="85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41280" y="55440"/>
              <a:ext cx="6858000" cy="51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20506200">
              <a:off x="755640" y="938520"/>
              <a:ext cx="60238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МОЛОДЦЫ!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ДО СВИДАНИЯ!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ДО НОВЫХ ВСТРЕЧ!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Прямоугольник 8"/>
          <p:cNvSpPr/>
          <p:nvPr/>
        </p:nvSpPr>
        <p:spPr>
          <a:xfrm>
            <a:off x="2932200" y="2257560"/>
            <a:ext cx="3997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10BA-1685-4E01-A37B-F4D5F2B43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User</cp:lastModifiedBy>
  <dcterms:modified xsi:type="dcterms:W3CDTF">2015-01-02T08:32:19Z</dcterms:modified>
  <cp:revision>104</cp:revision>
  <dc:subject/>
  <dc:title>Презентация PowerPoint</dc:title>
</cp:coreProperties>
</file>