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0B6-E071-4A5F-9709-F1EBF551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4E1-8AF1-40AE-B815-C04019D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A50-67B5-4435-9DD7-4626730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6DF-0752-46ED-85FB-306C8919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81E-C0B7-425A-9B07-AA518EA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1A7-59F6-4710-BFA2-4B2B2C3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E7E-C0EE-44D5-AC6E-0B48CD6E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AC4-C590-4FDC-9F73-621EEFD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1F5-2C26-434C-AC06-45B644A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459-ADAF-4CE0-9981-C3A4D68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8B2-6B85-48F0-BE55-54B1734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D0A-F51D-4917-A95D-89B4238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726D-3732-4CEA-B0C3-2E2F214A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at-zone.ws/design/129615-kartiny-russkikh-khudozhnikov-xviii-xx-vv..html" TargetMode="External"/><Relationship Id="rId2" Type="http://schemas.openxmlformats.org/officeDocument/2006/relationships/hyperlink" Target="http://www.nearyou.ru/vvasnetsov/b4.html" TargetMode="External"/><Relationship Id="rId3" Type="http://schemas.openxmlformats.org/officeDocument/2006/relationships/hyperlink" Target="http://tolkslovar.ru/b5342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разцы нравственности в культуре Отечеств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илова Ларис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БОУ СОШ №8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-1032"/>
          <p:cNvPicPr/>
          <p:nvPr/>
        </p:nvPicPr>
        <p:blipFill>
          <a:blip r:embed="rId1"/>
          <a:stretch/>
        </p:blipFill>
        <p:spPr>
          <a:xfrm>
            <a:off x="1332000" y="1052640"/>
            <a:ext cx="66247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гатырь – это рослый человек крепкого с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гатырь – это защитник Родины, воин отличающийся необычайной сил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skaz4"/>
          <p:cNvPicPr/>
          <p:nvPr/>
        </p:nvPicPr>
        <p:blipFill>
          <a:blip r:embed="rId1"/>
          <a:stretch/>
        </p:blipFill>
        <p:spPr>
          <a:xfrm>
            <a:off x="826920" y="549360"/>
            <a:ext cx="6697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ец –это показательный пример чего-либо (каких-либо качеств, поведения, отно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ра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11280" y="765000"/>
          <a:ext cx="822924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риот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зайцы еж белка мышка с березовой палкой"/>
          <p:cNvPicPr/>
          <p:nvPr/>
        </p:nvPicPr>
        <p:blipFill>
          <a:blip r:embed="rId2"/>
          <a:stretch/>
        </p:blipFill>
        <p:spPr>
          <a:xfrm>
            <a:off x="3635280" y="1628640"/>
            <a:ext cx="22114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2457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готовить небольшое сообщение на одну из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атриотизм моих сверстников в годы Великой Отечественной войн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ои-труженики в мо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be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t-zone.ws/design/129615-kartiny-russkikh-khudozhnikov-xviii-xx-vv.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aryou.ru/vvasnetsov/b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lkslovar.ru/b5342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nfovolga.ru/school/pioner/pioneri_geroi/sov_soiz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lanetaskazok.ru/vsuteevskz/raz-dva-druj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eskarlib.ru/lib.php?id_sst=3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lanetaskazok.ru/oseevavalskzsth/synovjaoseev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6:03:17Z</dcterms:created>
  <dc:creator>USER</dc:creator>
  <dc:description/>
  <dc:language>en-US</dc:language>
  <cp:lastModifiedBy>USER</cp:lastModifiedBy>
  <dcterms:modified xsi:type="dcterms:W3CDTF">2014-04-29T15:37:36Z</dcterms:modified>
  <cp:revision>6</cp:revision>
  <dc:subject/>
  <dc:title>Слайд 1</dc:title>
</cp:coreProperties>
</file>