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FB08-B300-4D9D-9D64-660CB05A1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возможно представить Петербург без его гранитных набережных, но они намного моложе города. Эти инженерные сооружения стали прекрасными архитектурными ансамб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7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7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526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 13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м же спуски к Неве на левом берегу отличаются от правобереж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7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 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евом берегу Нев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нитные спуски к воде с закруглёнными лестницами, одновременно игравшие роль пристаней, ритмично расположены с двух сторон. Плавным полукружием они вдаются в воду, близ воды ограждения со скамь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1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раллельно с работами на левом берегу велась облицовка гранитом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авого берега Нев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районе Петропавловской крепости. На этой набережной пристани представляли собой широкие парадные спуски к воде. Здесь уже полукруглых лестниц нет, а парадные спуски служат здесь пристанями перед отдельными зда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 1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XIX веке появилось нескольк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ных спус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к Неве: в суровые зимы лёд на Неве был очень прочным и поэтому по Невскому льду прокладывали санные пути до Комендантской пристани Петропавловской крепости. Такие спуски были построены у Зимней канавки - Эрмитажный, у Замятина переулка (ныне пер. Леонова) и на Английской набережной близ Ново – Адмиралтейского канал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7 Большой конный спус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олагался на Васильевском острове напротив Румянцевского сквера. Он был предназначен для причаливания судов и разгрузочных работ. У воды он имеет низкую гранитную сте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 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Невских набережных расположены гранитны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апе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невысокие стенки – ограждения. Они прекрасно дополняют набережные, придают им законченны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нит добывали на берегах и островах Финского залива, ладожского озера и в других местах. Мастера – камнетёсы рисовали на скале контур будущей плиты. По контуру сверлили отверстия, вбивали в них металлические клинья и выламывали камень нужного размера. Его обтёсывали и везли в г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Застройка города в начале велась вдоль реки Невы и её притоков. При Петре I каждый владелец дома был обязан укрепить берег у своего участка деревянными сваями и обить досками так, чтобы к ним могли пристать суда. Берега укрепляли, и на них стали возводить деревянны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береж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Набережные – это укреплённый берег, а также улица вдоль бере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1990-х годах в городе и его пригородах насчитывалось около 160 км укреплённых набережных, а в самом городе – около 150 км. Гранитные набережные прекрасно вписываются в общий облик города. Особенно их красота открывается в путешествии по рекам и кан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68280" y="611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укрепления берегов в землю забива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ва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вертикально стоящие брёвна. Сваи забивали вручную 10-12 человек. На сваи укладывали доски. Нередко люди работали по пояс в воде. Это был тяжёлый труд. Чтобы придать молодому городу более нарядный вид, иногда деревянные набережные даже красили «под камень», а перед дворцами их ограждали балюстрад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суда могли подойти к берегу, на набережной устраивали прист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айд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днако деревянные набережные в сыром климате Петербурга быстро разрушались, и вскоре их стали заменять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ранитны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Пространство между сваями заполняли камнями. Затем набережную облицовывали гранитными плитами. Так уже в 1720-х гг. появилась первая опытная каменная набережная у Летнего дворца в летнем са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772 г. Строительство набережных возглавил архитектор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 Матвееви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льте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ын главного повара ПетраI). По его проекту был сооружён каменный проезд 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имнего двор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 этом берег расширили в сторону Невы почти на 20 м). Гранитными работами по облицовке Дворцовой набережной руководи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мофей Насон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днее набережные из камня появились по обоим берегам Невы, Мойки, Фонтанки, Екатерининского канала (ныне канал Грибоедова). При этом извилистые линии берегов выпрямляли. В начале XIX века оделись в гранит берега Крюкова канала и Мойки, стрелки Васильевского остр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8E6-2C01-44C5-9DB6-4C807CB7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6EB-040E-4FFB-9452-76164DBD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134-9002-41E2-91B4-DF4B4779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11B-ED78-463A-80B5-DE17F95F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4F81-2190-4687-8109-1AD99794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BB4B-B78B-4B67-8C3E-57EDA16B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D835-F5F4-41BB-895F-E5D2166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09D-CC37-40F0-B187-EFEA337E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FC01-08BD-4C74-94EC-30FC423E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9E79-2211-483B-A6B9-941F7665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6881-0F7B-4BD5-A3B9-82CC42A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B31-FF24-4D64-88C9-6BBE2F94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3553-F12B-4F67-BF47-C9D8723D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187-298D-4309-99A0-4D964B1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42A9-877C-4FA3-BF10-9329648A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A0BD-0B37-4E31-95DD-67F53BB0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C16-65C7-492A-844D-9E601CE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117-99F3-4E9C-9208-DAE76FA1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14E-3285-4425-9EBA-932F2DF4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68B-DFD6-4891-AAC7-A8D0F54C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FDD-C63B-49F9-AA11-978C305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544-31C2-4578-B730-502C96B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161-B1B8-4945-936D-BC3D6AE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C32-E6F8-471C-B4BE-33847BA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FAA-6235-4E55-A2FB-01388A7AB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9D8F-8255-4326-A114-71DC1E488D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1341360"/>
            <a:ext cx="8820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"В ГРАНИТ ОДЕЛАСЯ НЕВА...."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058080" y="4437000"/>
            <a:ext cx="308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ВСТАФЬЕ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Е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БОУ СОШ №2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САНКТ - 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06480" y="0"/>
            <a:ext cx="68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БЕРЕЖНАЯ ФОНТА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058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УСК К ФОНТАН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ПУСК К НЕВЕ НА ЛЕВОМ БЕРЕГ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20568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38120" y="162000"/>
            <a:ext cx="73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БЕРЕЖНАЯ РЕКИ МОЙ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7:05:23Z</dcterms:created>
  <dc:creator>1</dc:creator>
  <dc:description/>
  <dc:language>en-US</dc:language>
  <cp:lastModifiedBy>1</cp:lastModifiedBy>
  <dcterms:modified xsi:type="dcterms:W3CDTF">2014-05-29T13:32:16Z</dcterms:modified>
  <cp:revision>10</cp:revision>
  <dc:subject/>
  <dc:title>Слайд 1</dc:title>
</cp:coreProperties>
</file>