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D18-E237-4D7C-84DA-9ED3610C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80B-DAF8-4933-BECC-4FD0453B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742-AB24-4BE8-8445-F2FE61B1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7EC-7566-427D-8778-BF07B6DF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605C-4244-4E7C-930A-AE78D329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DEEE-76EF-4A66-A34D-2AA45884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E41E-3114-47A2-9CDD-7B681EC8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2AAA-B6FD-434A-92BE-DB21AA59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CFB6-E847-4886-83A5-E217C77D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B879-5590-4703-B574-599AD7B1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6172-8580-4B03-9868-20667464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81F-7E3D-4A3E-94EC-A684BC5F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B16C-0C3D-4D8C-B4E4-A6D210C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1520-5873-4E18-932F-6E6ACA1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8E7A-6433-4D08-A7FD-F488A735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BFF3-CBC3-4C2B-8422-2E25FE83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47ED-9A70-4F1B-994C-45F2B304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C54D-8EED-45F5-9E71-F77D88E0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AC8A-2B9F-44FB-87F8-8DEEFB38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EC5A-7681-4FB1-8695-CC6FC47C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B68F-04A3-4CF5-B4AB-D7E77384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0812-42AA-4E1F-83D4-D5A1C8D0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5E8-1B49-435D-AB5C-90A324C7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A7E8E-8055-4390-B006-C4F7E707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DDE2-2EAC-4404-9E59-AA98D929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4832-7837-416F-BAD0-26585BC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C55D-DC56-45A1-BB09-7251BC54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8F44-3BF0-4F6E-9170-A7B2AF57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EE67-7E76-4A15-AC4B-23D9E6BF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200D-1159-4F96-BC2D-49E7D950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B4FCA-24B7-4BAB-9DDC-7565B4CA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B3549-4BB8-4BB0-A2B3-84F73DB1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4B2E-9F9A-4EC5-AA8B-AF2ABCE8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4C7-DEE4-4211-A8C2-8EE19A78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AB6C-8E4A-4828-94F8-A5577C6B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6342-A51E-4EDC-B12B-3EAFE656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8C274-6454-4680-82A4-529D367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DFA4-C61D-498B-BFF4-10D3A83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83BB4-8CDF-4FAC-A9FC-AB6D8C0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14F2-D3C0-4477-A777-D1C79A59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D9B6-4687-4612-8D35-AC18CCF0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E6827-0EFA-477B-9D48-DBDF8D58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E9007-974C-4318-870B-0EDBD7C7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E1A8C-B984-4297-86BA-F713E0E6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4BE-D8AE-47CC-A44B-B24FF6D6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7D4A6-DFA5-4AA7-91A8-F4A85701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F319-FF3C-4686-977E-43DCFD8F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41012-CDAF-4CBC-96CA-51223D86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6B749-8DE3-4096-B885-485EE83C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9859-0913-4B43-A57B-C1A549D2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D1A13-9072-4048-BA43-7BFBF2E3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CAF6-628D-4F32-B7DA-B3EF11A4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7F5C-3680-4513-887D-7DFF7CBF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79451-1022-4598-8BF0-8832BD07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CCB40-A11C-4513-B8AC-67B6367B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A71-CD1E-4EAF-B0B7-BF4AE0A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2A3D-4160-447D-8EBC-D2015F28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9E63E-7BB0-4348-9FFA-411A29E5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58E1C-BEE9-4A84-A7A8-67A455CA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B9AC3-D9B0-4AD1-BCF2-D6C33C60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917A-239A-4332-B69A-04C891A6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C86F-0961-45E8-A367-7A4BB661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3952-225E-443A-9EDC-74417D30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71FB-4D1F-49FA-BB6B-FA85EC70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E552-04E2-4158-A839-1B1BE36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FE7CE-6F54-44F6-8A7F-FF4CE1B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968-5A46-4F8D-AFCB-FBC4735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4DD6F-ACF7-4CFE-9AAA-D358B23A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130E4-C9FB-4B69-9775-9C10726F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B54F3-9F76-4322-AA2E-D2394302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4BDE7-CDE0-4E2D-B1D9-7C9B2938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7EB0A-30F1-45B1-8B1F-963624F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5E0F3-E2E2-46D0-8BD4-11C9236E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6A331-690D-45B4-A913-F59AE8F9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FA3CB-91CB-46B3-9A38-182EFE5C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42EE6-B6F1-4D13-ABDD-0AC1882D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F858B-8ACB-4A54-AE9B-68E0360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F37-2B1F-4CBE-AE45-7038B02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4E7C3-3757-4A21-B71E-0B74F845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10A61-9CFA-4411-ACAF-19F35EC5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6131-0E4D-4459-A965-93788F1F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45DAE-DF86-49C7-8D49-E203F0B9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6FC81-D3E3-4C76-96CA-B402FCFF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1F0-EC0B-44F6-8E62-872FF536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C03B-C3B6-4FBE-B1BF-E5CE9B7C9A2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3846-0D37-476E-9F34-AACDE2DDB13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0C30-C357-4788-82F2-7D66ACF467E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1C3C-8F29-4BB2-9C8B-2E7BDF0B76D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F07F-3AFB-4A0F-A84E-3F6E53734A2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6D69-67AA-41D9-99F2-CF4AF728847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83120" y="1217520"/>
              <a:ext cx="62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878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83120" y="1282320"/>
              <a:ext cx="62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6120" y="1370160"/>
              <a:ext cx="62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88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6120" y="1434960"/>
              <a:ext cx="62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8000" y="1473120"/>
              <a:ext cx="62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878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8000" y="1537920"/>
              <a:ext cx="62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FFA4-3D52-41F4-9CB9-CAB9747FE21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ИНАР</a:t>
            </a:r>
            <a:br>
              <a:rPr sz="3600"/>
            </a:br>
            <a:br>
              <a:rPr sz="3600"/>
            </a:br>
            <a:r>
              <a:rPr b="1" i="1" lang="ru-RU" sz="4800" spc="-1" strike="noStrike">
                <a:solidFill>
                  <a:srgbClr val="ffffff"/>
                </a:solidFill>
                <a:latin typeface="Georgia"/>
                <a:ea typeface="Times New Roman"/>
              </a:rPr>
              <a:t> ПРАКТИКА ИСПОЛЬЗОВАНИЯ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Georgia"/>
                <a:ea typeface="Times New Roman"/>
              </a:rPr>
              <a:t>ИКТ- ТЕХНОЛОГИЙ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Georgia"/>
                <a:ea typeface="Times New Roman"/>
              </a:rPr>
              <a:t> В НАЧАЛЬНОЙ ШКОЛЕ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Georgia"/>
                <a:ea typeface="Times New Roman"/>
              </a:rPr>
              <a:t>В УСЛОВИЯХ ФГОС.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547280" y="4941720"/>
            <a:ext cx="6224760" cy="6969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85840" y="-143280"/>
            <a:ext cx="885816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          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Проблемы в использовании И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Чтобы презентация была хорошо видна, надо использоват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затемнение (полное или частичное)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Чтобы работать с информацией на слайде, приходится напрягать зрение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Ученики торопятся списать все, что есть на слайде. Объяснения учителя, даже если они присутствуют, часто проходят впустую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• 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Техника может отказать, погаснет свет, не включится вовремя музыка, не сработает анимация в связи с разницей офисных программ; поэтому не факт, что  не пригодится запасной, классический вариант с доской, магнитофоном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 •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Качество оборудования не всегда соответствует задаче урока. Школы не могут позволить себе дорогие проекторы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Ошибки, допускаемые в Интернете при использовании непроверенных материал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Катастрофический дефицит времен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-360"/>
            <a:ext cx="907272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Применение ИКТ в образовательном 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процессе, позволяет решать одну из важных 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задач обучения – 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повышение уровня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знаний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Информационные технологии только для 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ищущих, любящих осваивать новое 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учителей. Они для тех, кому небезразличен 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уровень своей профессиональной 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компетентности, кого беспокоит, насколько 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он, педагог современной российской школы, 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orbel"/>
              </a:rPr>
              <a:t>соответствует требованиям века грядущего.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Пожелания коллегам!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499680"/>
            <a:ext cx="9786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- Творческих успехов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feb80a"/>
                </a:solidFill>
                <a:latin typeface="Corbel"/>
              </a:rPr>
              <a:t>- Чаще делиться опытом с коллегами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d6ecff"/>
                </a:solidFill>
                <a:latin typeface="Corbel"/>
              </a:rPr>
              <a:t>- Благодарим за сотрудничество и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d6ecff"/>
                </a:solidFill>
                <a:latin typeface="Corbel"/>
              </a:rPr>
              <a:t>рекомендации, возможность использовать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d6ecff"/>
                </a:solidFill>
                <a:latin typeface="Corbel"/>
              </a:rPr>
              <a:t>накопленный опыт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d13b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7fd13b"/>
                </a:solidFill>
                <a:latin typeface="Corbel"/>
              </a:rPr>
              <a:t>- Дальнейших успехов, новых находок,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d13b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7fd13b"/>
                </a:solidFill>
                <a:latin typeface="Corbel"/>
              </a:rPr>
              <a:t>энтузиазма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- Экспериментировать, дерзать, гореть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самому, зажигая других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ffc000"/>
                </a:solidFill>
                <a:latin typeface="Corbel"/>
              </a:rPr>
              <a:t>- Не останавливаться на достигнутом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d6ecff"/>
                </a:solidFill>
                <a:latin typeface="Corbel"/>
              </a:rPr>
              <a:t>- Здоровья, достойной зарплаты, учеников,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d6ecff"/>
                </a:solidFill>
                <a:latin typeface="Corbel"/>
              </a:rPr>
              <a:t>работающих в сотрудничестве с учителем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2"/>
          <p:cNvSpPr txBox="1"/>
          <p:nvPr/>
        </p:nvSpPr>
        <p:spPr>
          <a:xfrm>
            <a:off x="611280" y="549360"/>
            <a:ext cx="8175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Picture 5" descr="e4404eced2f23a5fde3f48c7232c2b30 - копия"/>
          <p:cNvPicPr/>
          <p:nvPr/>
        </p:nvPicPr>
        <p:blipFill>
          <a:blip r:embed="rId1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4404eced2f23a5fde3f48c7232c2b30 - копия"/>
          <p:cNvPicPr/>
          <p:nvPr/>
        </p:nvPicPr>
        <p:blipFill>
          <a:blip r:embed="rId2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8"/>
          <p:cNvSpPr/>
          <p:nvPr/>
        </p:nvSpPr>
        <p:spPr>
          <a:xfrm>
            <a:off x="571680" y="2143080"/>
            <a:ext cx="1156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пасибо за активное участ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работе семинар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Box 12"/>
          <p:cNvSpPr/>
          <p:nvPr/>
        </p:nvSpPr>
        <p:spPr>
          <a:xfrm>
            <a:off x="214200" y="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се уроки, как люди, похожи и раз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Если к ним приглядеться с различных сторон: Ведь бывают уроки, как радостный праздни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 бывают они, как мучительный сон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0"/>
            <a:ext cx="9858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Научить человека жить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в информационном мире –    важнейшая задача  современной школы»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                                    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Corbel"/>
              </a:rPr>
              <a:t>Академик  А.П. Семено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5" descr="C:\Users\Пользователь\Desktop\Новая папка\i (12).jpg"/>
          <p:cNvPicPr/>
          <p:nvPr/>
        </p:nvPicPr>
        <p:blipFill>
          <a:blip r:embed="rId1"/>
          <a:stretch/>
        </p:blipFill>
        <p:spPr>
          <a:xfrm>
            <a:off x="2571840" y="2714760"/>
            <a:ext cx="4357440" cy="27860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500040" y="542916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ряду с обучением навыкам чтения, письма и счета важно учить детей использованию цифровой тех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3840" y="-360"/>
            <a:ext cx="950148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«Мы живем в эпоху, когда расстояние от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самых безумных фантазий до совершенно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реальной действительности сокращается с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невероятной быстротой», - писал в свое время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М. Горький. И сейчас, в век сплошной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компьютеризации, когда техника шагнула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далеко вперед, когда компьютер в каждом доме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стал привычной вещью, особенно актуально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звучат другие его слова: «В карете прошлого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никуда не уедешь…» Это про нашу школу. 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Современный учитель должен шагать в ногу со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rbel"/>
              </a:rPr>
              <a:t>временем. Остановившегося обгонит время!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olas"/>
              </a:rPr>
              <a:t>Анализ анкетирования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785520"/>
            <a:ext cx="91440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анкетировании приняли участие 9 педагог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Опыт применения ИКТ на уроках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100% педагогов использует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ые технологии от 1 до 3 лет.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olas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Consolas"/>
              </a:rPr>
              <a:t>Трудности, которые встречаются  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nsolas"/>
              </a:rPr>
              <a:t>    на пути достижения целей в 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nsolas"/>
              </a:rPr>
              <a:t>  области использования ИКТ в школ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3чел. недостаточно возможностей повышения квалификации для учителей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3 чел. недостаток  знаний и умений  учителей по использованию ИКТ  в преподаван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3 чел. Другое (создание презентаций с видео и недостаток времени для подготовки к урокам с ИКТ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Что для вас является самым сложным </a:t>
            </a:r>
            <a:endParaRPr b="0" lang="en-US" sz="39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при   работе на компьютере?</a:t>
            </a:r>
            <a:endParaRPr b="0" lang="en-US" sz="39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Никто из опрошенных учителей не испытывает затруднений при работе в текстовом редактор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У педагогов нет трудностей при поиске информации в Интернете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Самый западающий вопрос - это работа с электронной почтой (3ч ел.), интерактивной доской (6 чел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285840"/>
            <a:ext cx="91440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спользовали ли вы элементы дистанционного обучения 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6 опрошенных учителей обучались или обучаются на дистанционных курсах по Интернет, остальные 3 педагога  нет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дует одно, что нет учителей, которые не представляют, что это тако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9358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nsolas"/>
              </a:rPr>
              <a:t>На каких уроках эффективнее всего 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nsolas"/>
              </a:rPr>
              <a:t> использовать ИКТ технологии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85520" y="2214360"/>
            <a:ext cx="7900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9 учителей считают, что эффективнее всего использовать ИКТ технологии на всех уроках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nsolas"/>
              </a:rPr>
              <a:t>Применение ИКТ на уроках приводит к целому ряду положительных результатов: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840" y="78552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-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Повышает качество знани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- Продвигает ребёнка в общем развит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- Помогает преодолеть труднос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- Вносит радость в жизнь ребёнк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-  Оценивание результатов обуч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- Позволяет вести обучение в зоне ближайшег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развит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- Создает благоприятные условия для лучшег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взаимопонимания учителя и учащихся и и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сотрудничества в учебном процесс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- Раскрывает творческий потенциал обучающихс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(участие в конкурсах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-  Способствует формированию информационно-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коммуникативной компетентности обучающихся, повышает их активност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2:50:32Z</dcterms:created>
  <dc:creator>Аким</dc:creator>
  <dc:description/>
  <dc:language>en-US</dc:language>
  <cp:lastModifiedBy>Пользователь</cp:lastModifiedBy>
  <cp:lastPrinted>2014-04-22T04:47:44Z</cp:lastPrinted>
  <dcterms:modified xsi:type="dcterms:W3CDTF">2014-06-08T09:18:44Z</dcterms:modified>
  <cp:revision>66</cp:revision>
  <dc:subject/>
  <dc:title>ИСПОЛЬЗОВАНИЕ ИКТ НА УРОКАХ В НАЧАЛЬНОЙ ШКОЛЕ</dc:title>
</cp:coreProperties>
</file>