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8E8-FFB6-45B5-9A46-25B863BD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5A7-2B1B-448C-89A1-C6191DA4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99C-228A-454D-A496-F46C1A2A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652-ED0D-4BE5-85BC-810863D2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D0F6-6CF3-42AB-9303-CDADE17A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FF0-0FB1-4253-9218-267B62FC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0D7-4E00-49D1-AC40-5DC19D49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3C6-4C59-45AA-AA54-D7E51EAA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A55-FE4C-4EF4-B814-9567FFEE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92F-7E7D-406D-9369-E29F980F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E8A-3A4B-4F1F-B669-9D11B2C4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3F9-8096-4A5E-971A-EA019A29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5757-47E3-4905-BF3C-2BD4B8B9D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ак хорошо в гостях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у Осен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общающий урок окружающего мира по теме «Сезонные изме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природе. Осе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класс «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Е.Трутнева</a:t>
            </a:r>
            <a:br>
              <a:rPr sz="5400"/>
            </a:b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«Листопад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А. Шибицк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«Осень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Листья рябины, осины, клё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962520" cy="2338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114800" cy="2338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80880" y="3938760"/>
            <a:ext cx="3962520" cy="2614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1148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Роман Сеф </a:t>
            </a:r>
            <a:br>
              <a:rPr sz="6000"/>
            </a:b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«Дождик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31240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В. Степан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«Воробей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69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69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69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69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КОНКУР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99"/>
                </a:solidFill>
                <a:latin typeface="Arial"/>
              </a:rPr>
              <a:t>«ОСЕННИЕ ПРИМЕТЫ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19520" y="4267080"/>
            <a:ext cx="3581280" cy="2222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796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796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Arial"/>
              </a:rPr>
              <a:t>ОСЕННИЕ ПРИ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Теплая осень - к долгой зи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Осенью серенько утро, так жди красного день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Если с дерева лист не чисто спадет - будет холодная 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Появление комаров поздней осенью - к мягкой з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Если осенью листья березы начнут желтеть с верхушки, то будущая весна будет ранняя, а если с низу - то поздня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КОНКУР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99"/>
                </a:solidFill>
                <a:latin typeface="Arial"/>
              </a:rPr>
              <a:t>«ЛУЧШИЙ ЗНАТОК ГРИБ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19520" y="4191120"/>
            <a:ext cx="3429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447840"/>
            <a:ext cx="7010640" cy="5962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3880" y="447840"/>
            <a:ext cx="6172200" cy="5962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47840"/>
            <a:ext cx="6095880" cy="5962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70536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0536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2388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55344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40080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ИНСЦЕНИРОВ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Arial"/>
              </a:rPr>
              <a:t>«ПОЧЕМУ ЛИСТЬ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Arial"/>
              </a:rPr>
              <a:t>НА ДЕРЕВЬЯХ ОПАДАЮТ?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6600"/>
                </a:solidFill>
                <a:latin typeface="Arial"/>
              </a:rPr>
              <a:t>СЕНТЯБР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ИНСЦЕНИРОВ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«ДЕЛО БЫЛ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В ОГОРОД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112920" cy="2948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2801880" cy="3124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62120" y="3429000"/>
            <a:ext cx="3276360" cy="2971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029200" y="3276720"/>
            <a:ext cx="373392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Какие правила поведения в лесу вы знает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Куда перелётные птицы улетают зимо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343400" cy="39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Все ли перелётные птицы улетают на юг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429000" cy="2133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208480" y="3938760"/>
            <a:ext cx="3402000" cy="2187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Какие птичьи тайны открывает листопад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78440" y="1600200"/>
            <a:ext cx="337644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очему нельзя собирать грибы вдоль дорог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ак хорошо в гостях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у Осен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общающий урок окружающего мира по теме «Сезонные изме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природе. Осен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класс «Б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Arial"/>
              </a:rPr>
              <a:t>ОКТЯБР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Isaac Levitan. Autumn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6600"/>
                </a:solidFill>
                <a:latin typeface="Arial"/>
              </a:rPr>
              <a:t>НОЯБР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99"/>
                </a:solidFill>
                <a:latin typeface="Arial"/>
              </a:rPr>
              <a:t>Без рук, без ног, а ворота открывает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ВЕТ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04920" y="-566640"/>
            <a:ext cx="9753840" cy="7991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Кто всю ночь по крыше бьёт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Да постукивает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И бормочет, и поёт,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Убаюкивает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57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Isaac Levitan. Fog. Autumn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Bookman Old Style"/>
              </a:rPr>
              <a:t>Молоко над речкой плыло,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Bookman Old Style"/>
              </a:rPr>
              <a:t>Ничего не видно было.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Bookman Old Style"/>
              </a:rPr>
              <a:t>Растворилось молоко,</a:t>
            </a:r>
            <a:br>
              <a:rPr sz="4400"/>
            </a:br>
            <a:r>
              <a:rPr b="0" i="1" lang="en-US" sz="4400" spc="-1" strike="noStrike">
                <a:solidFill>
                  <a:srgbClr val="663300"/>
                </a:solidFill>
                <a:latin typeface="Bookman Old Style"/>
              </a:rPr>
              <a:t>Стало видно далеко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238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Arial"/>
              </a:rPr>
              <a:t>ТУМ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Ю. Капустина </a:t>
            </a:r>
            <a:br>
              <a:rPr sz="4000"/>
            </a:b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«В золотой карете…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3300"/>
                </a:solidFill>
                <a:latin typeface="Arial"/>
              </a:rPr>
              <a:t>Г.Ладонщ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3300"/>
                </a:solidFill>
                <a:latin typeface="Arial"/>
              </a:rPr>
              <a:t>«Верная примета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8-12-12T00:45:46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