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3875-F60E-4548-90AC-343549CA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2F4-8F3D-4E0D-9154-AE3FADC8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000-73B6-4D80-81C7-446723F6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A30F-A568-4907-AB72-6B5148ED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8EE-C95E-4B72-B4F0-CA3C0986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13F-6FE6-4F9B-87B4-DC968985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D4EE-78C7-4AD1-A2F2-F6C6321A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9F90-E358-4285-8CD8-B15BB379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35F-0E09-4E54-99BC-0D351578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45B9-5AE4-4769-850C-747F72C1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79F-D100-4728-BB4B-3418FB83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D52-4807-4E4E-A27C-D74992B1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9002-A04F-45E8-A86D-F77129AE72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fp=49&amp;uinfo=ww-2379-wh-1231-fw-2154-fh-598-pd-0.800000011920929&amp;p=49&amp;text=&#1082;&#1086;&#1088;&#1088;&#1077;&#1082;&#1094;&#1080;&#1086;&#1085;&#1085;&#1099;&#1077;%20&#1083;&#1086;&#1075;&#1086;&#1087;&#1077;&#1076;&#1080;&#1095;&#1077;&#1089;&#1082;&#1080;&#1077;%20&#1091;&#1087;&#1088;&#1072;&#1078;&#1085;&#1077;&#1085;&#1080;&#1103;&amp;pos=1490&amp;lr=4&amp;rpt=simage&amp;img_url=http://files.geometria.ru/pics/original/17969648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870b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1342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99"/>
                </a:solidFill>
                <a:latin typeface="Times New Roman"/>
              </a:rPr>
              <a:t>«Использование кинезиологических упражнений в физкультминутках на занятиях с детьми с интеллектуальной недостаточностью»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843280" y="2130480"/>
            <a:ext cx="1989000" cy="1082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44" name="Заголовок 1"/>
          <p:cNvSpPr/>
          <p:nvPr/>
        </p:nvSpPr>
        <p:spPr>
          <a:xfrm>
            <a:off x="2987640" y="4724280"/>
            <a:ext cx="59022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Подготовили учителя начальных классов: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МОУ «Северная средняя общеобразовательная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школа №2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Белгородского района Белгородской области»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 Кулюпин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870b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«Понимание, великодушие, милосердие, терпимость и вера в ребёнка - вот наши главные лекарства. И ещё-яркая, наполненная трудом, общением и заботой о других, жизнь».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Дубровский А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http://lastochka.caduk.ru/images/clip_image009.png"/>
          <p:cNvPicPr/>
          <p:nvPr/>
        </p:nvPicPr>
        <p:blipFill>
          <a:blip r:embed="rId1"/>
          <a:stretch/>
        </p:blipFill>
        <p:spPr>
          <a:xfrm>
            <a:off x="1979640" y="3500280"/>
            <a:ext cx="19382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870b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Times New Roman"/>
              </a:rPr>
              <a:t>В последние годы увеличилось количество детей с трудностями в обучении и адаптации. Для преодоления имеющихся у них нарушений необходимо проведение комплексной психолого-коррекционной работы. Одним из составляющих элементов такой работы является кинезиологическая коррекц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79280" y="3429000"/>
            <a:ext cx="85075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http://www.vbratske.ru/i/bratsk_news/1330650893446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7440" y="3646440"/>
            <a:ext cx="12160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870b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http://900igr.net/datas/doshkolnoe-obrazovanie/Kineziologicheskie-uprazhnenija/0001-001-Kineziologija-nauka-o-razvitii-umstvennykh-sposobnostej-i-fizichesk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6516720" y="4365720"/>
            <a:ext cx="911160" cy="792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>
            <a:off x="3851280" y="6453360"/>
            <a:ext cx="1441440" cy="404640"/>
          </a:xfrm>
          <a:prstGeom prst="roundRect">
            <a:avLst>
              <a:gd name="adj" fmla="val 16667"/>
            </a:avLst>
          </a:prstGeom>
          <a:solidFill>
            <a:srgbClr val="1f9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870b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В комплексы кинезиологических упражнений 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включают: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растяжки, дыхательные упражнения, глазодвигательные упражнения, телесные упражнения, упражнения для развития мелкой моторики, упражнения на релаксацию и массаж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276720" y="3500280"/>
            <a:ext cx="10634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870b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Растяжки</a:t>
            </a:r>
            <a:r>
              <a:rPr b="0" lang="ru-RU" sz="26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нормализируют гипертонус (неконтролируемое чрезмерное мышечное напряжение) и гипотонус (неконтролируемая мышечная вялость).</a:t>
            </a:r>
            <a:br>
              <a:rPr sz="2000"/>
            </a:b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Дыхательные упражнения</a:t>
            </a:r>
            <a:r>
              <a:rPr b="0" lang="ru-RU" sz="26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улучшают ритмику организма, развивают самоконтроль и произвольность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Глазодвигательные упражнения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позволяют расширить поле зрения, улучшить восприяти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При выполнении </a:t>
            </a:r>
            <a:r>
              <a:rPr b="1" lang="ru-RU" sz="2900" spc="-1" strike="noStrike">
                <a:solidFill>
                  <a:srgbClr val="c00000"/>
                </a:solidFill>
                <a:latin typeface="Times New Roman"/>
              </a:rPr>
              <a:t>телесных движений</a:t>
            </a:r>
            <a:r>
              <a:rPr b="0" lang="ru-RU" sz="29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развивается межполушарное взаимодействие ,снимаются непроизвольные, непреднамеренные движения и мышечные зажимы.</a:t>
            </a:r>
            <a:br>
              <a:rPr sz="2000"/>
            </a:br>
            <a:br>
              <a:rPr sz="20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</a:rPr>
              <a:t>Упражнения для релаксации и массаж</a:t>
            </a:r>
            <a:r>
              <a:rPr b="0" lang="ru-RU" sz="29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способствуют расслаблению, снятию напряжени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870b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923920"/>
            <a:ext cx="8964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imes New Roman"/>
              </a:rPr>
              <a:t>«Колечко», «Кулак-ребро-ладонь», «Ухо-нос» ,»Зайчик-коза-вилка», «Дом-ёжик-замок» и т.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965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7. Упражнения для развит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мелкой мотор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http://lib.rus.ec/i/28/204128/i_060.jpg"/>
          <p:cNvPicPr/>
          <p:nvPr/>
        </p:nvPicPr>
        <p:blipFill>
          <a:blip r:embed="rId2"/>
          <a:stretch/>
        </p:blipFill>
        <p:spPr>
          <a:xfrm>
            <a:off x="6727680" y="907920"/>
            <a:ext cx="1781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04:17:31Z</dcterms:created>
  <dc:creator>comp</dc:creator>
  <dc:description/>
  <dc:language>en-US</dc:language>
  <cp:lastModifiedBy>comp</cp:lastModifiedBy>
  <dcterms:modified xsi:type="dcterms:W3CDTF">2014-11-18T19:19:22Z</dcterms:modified>
  <cp:revision>111</cp:revision>
  <dc:subject/>
  <dc:title>Презентация PowerPoint</dc:title>
</cp:coreProperties>
</file>