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13.gif" ContentType="image/gif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5D14-FB7F-4E3E-BDD0-BCE1381C0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D9BE-1629-4AB4-A16F-6EE40B65F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0B15-BD92-4A3A-9CB3-FF2C96FC3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B92C-B383-44E2-847F-F9BF1A86C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1D51-033B-4C4D-B5E4-FB423A20C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ABB1-1B56-4622-ACA5-49ECA2BE2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6AE3-3FD5-48A2-8CDF-CF2BB4F74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EF56-81C7-4046-A7CB-13A794039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C41A-AA2C-4835-863A-166F14409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36DB-887E-4980-9D83-17F09599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8BFA-D7A8-47BD-B5C6-3C5CF8412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286B-B51E-4FD7-8A65-C44A37140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6BE8E-2424-49F2-87CD-FBCD19658F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lib.rus.ec/i/86/164186/i_010.jpg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1785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Исследовательская работа</a:t>
            </a:r>
            <a:br>
              <a:rPr sz="4400"/>
            </a:b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«Телефон в нашей жизн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43080" y="37148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"/>
              </a:rPr>
              <a:t>Выполнила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"/>
              </a:rPr>
              <a:t>ученица 4 класс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i="1" lang="ru-RU" sz="2000" spc="-1" strike="noStrike">
                <a:solidFill>
                  <a:srgbClr val="002060"/>
                </a:solidFill>
                <a:latin typeface="Calibri"/>
              </a:rPr>
              <a:t>МОУ СОШ п. Верхнемарково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"/>
              </a:rPr>
              <a:t>Седунова Мариан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"/>
              </a:rPr>
              <a:t>Руководитель Серая Т.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1928880" y="214200"/>
            <a:ext cx="521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МОУ СОШ п. Верхнемарково Усть – Кутского муниципального образования Иркутской обла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571680" y="10717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5. Как часто Вы разговариваете по телефон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71360" y="274680"/>
            <a:ext cx="761508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Результаты анкетиров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Объект 5" descr=""/>
          <p:cNvPicPr/>
          <p:nvPr/>
        </p:nvPicPr>
        <p:blipFill>
          <a:blip r:embed="rId1"/>
          <a:stretch/>
        </p:blipFill>
        <p:spPr>
          <a:xfrm>
            <a:off x="1928880" y="1643040"/>
            <a:ext cx="7072200" cy="50720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71360" y="274320"/>
            <a:ext cx="761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Результаты анкетиров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785680" y="1285920"/>
            <a:ext cx="6829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6.Где ты носишь телефон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Диаграмма 6" descr=""/>
          <p:cNvPicPr/>
          <p:nvPr/>
        </p:nvPicPr>
        <p:blipFill>
          <a:blip r:embed="rId1"/>
          <a:stretch/>
        </p:blipFill>
        <p:spPr>
          <a:xfrm>
            <a:off x="3067200" y="2139840"/>
            <a:ext cx="4724280" cy="40849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000080" y="1071720"/>
            <a:ext cx="7758000" cy="53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7.Знаешь  ли ты о вреде, который наносит использование сотового телефон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56840" y="213840"/>
            <a:ext cx="75438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Результаты анкетиров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Объект 7" descr=""/>
          <p:cNvPicPr/>
          <p:nvPr/>
        </p:nvPicPr>
        <p:blipFill>
          <a:blip r:embed="rId1"/>
          <a:stretch/>
        </p:blipFill>
        <p:spPr>
          <a:xfrm>
            <a:off x="1643040" y="2143080"/>
            <a:ext cx="7072200" cy="49291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1985760" y="1142640"/>
            <a:ext cx="715788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Используйте сотовую связь лишь в случае крайней необходим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Сократите продолжительность разговор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Делайте перерывы не менее 15 минут между разговор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С близкими и друзьями общайтесь не по телефону, а непосредствен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Носите телефон в наиболее безопасном мест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( подальше от тел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00240" y="500040"/>
            <a:ext cx="4143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Рекомендаци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499760" y="1357200"/>
            <a:ext cx="7286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00000"/>
                </a:solidFill>
                <a:latin typeface="Calibri"/>
              </a:rPr>
              <a:t>Берегите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00000"/>
                </a:solidFill>
                <a:latin typeface="Calibri"/>
              </a:rPr>
              <a:t>своё здоровье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5" descr="E:\Татьяна Николаевна\Pictures\razdeliteli zveti\12.gif"/>
          <p:cNvPicPr/>
          <p:nvPr/>
        </p:nvPicPr>
        <p:blipFill>
          <a:blip r:embed="rId1"/>
          <a:stretch/>
        </p:blipFill>
        <p:spPr>
          <a:xfrm>
            <a:off x="2857680" y="4214880"/>
            <a:ext cx="4762440" cy="10094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14280" y="571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Цель</a:t>
            </a:r>
            <a:r>
              <a:rPr b="1" i="1" lang="ru-RU" sz="2800" spc="-1" strike="noStrike">
                <a:solidFill>
                  <a:srgbClr val="920000"/>
                </a:solidFill>
                <a:latin typeface="Calibri"/>
              </a:rPr>
              <a:t>:</a:t>
            </a:r>
            <a:r>
              <a:rPr b="1" i="1" lang="ru-RU" sz="28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изучить  положительные и отрицательные стороны сотового телефона , его воздействие на здоровье, определить роль сотовых телефонов  в жизни современных  учащихся   начальной    школ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071800" y="2143080"/>
            <a:ext cx="67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          </a:t>
            </a: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Задачи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1. Познакомиться с историей  происхождения телефон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2. Изучить  положительные и отрицательные свойства сотовых телефон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3. Провести анкетирование учащихся 2 - 4 классов МОУ СОШ п. Верхнемарково на предмет их информированности о влиянии сотовых телефонов на здоровье челове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Телефон вчера и сегод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i-main-pic" descr="Картинка 31 из 1012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57280" y="1428840"/>
            <a:ext cx="5857920" cy="4143240"/>
          </a:xfrm>
          <a:prstGeom prst="rect">
            <a:avLst/>
          </a:prstGeom>
          <a:ln w="57240">
            <a:solidFill>
              <a:srgbClr val="ffc000"/>
            </a:solidFill>
            <a:round/>
          </a:ln>
        </p:spPr>
      </p:pic>
      <p:pic>
        <p:nvPicPr>
          <p:cNvPr id="48" name="Picture 2" descr="C:\Users\пк\Desktop\нпк\1219046799_1.jpg"/>
          <p:cNvPicPr/>
          <p:nvPr/>
        </p:nvPicPr>
        <p:blipFill>
          <a:blip r:embed="rId3"/>
          <a:stretch/>
        </p:blipFill>
        <p:spPr>
          <a:xfrm>
            <a:off x="3000240" y="1071720"/>
            <a:ext cx="3571920" cy="4925880"/>
          </a:xfrm>
          <a:prstGeom prst="rect">
            <a:avLst/>
          </a:prstGeom>
          <a:ln w="38160">
            <a:solidFill>
              <a:srgbClr val="ffc000"/>
            </a:solidFill>
            <a:miter/>
          </a:ln>
        </p:spPr>
      </p:pic>
      <p:sp>
        <p:nvSpPr>
          <p:cNvPr id="49" name="TextBox 5"/>
          <p:cNvSpPr/>
          <p:nvPr/>
        </p:nvSpPr>
        <p:spPr>
          <a:xfrm>
            <a:off x="3357720" y="6072120"/>
            <a:ext cx="33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Александр  Грэм  Бел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Users\пк\Desktop\нпк\martincooper1wideweb470x3620.jpg"/>
          <p:cNvPicPr/>
          <p:nvPr/>
        </p:nvPicPr>
        <p:blipFill>
          <a:blip r:embed="rId4"/>
          <a:stretch/>
        </p:blipFill>
        <p:spPr>
          <a:xfrm>
            <a:off x="2286000" y="1214280"/>
            <a:ext cx="5875200" cy="4526280"/>
          </a:xfrm>
          <a:prstGeom prst="rect">
            <a:avLst/>
          </a:prstGeom>
          <a:ln w="38160">
            <a:solidFill>
              <a:srgbClr val="ffc000"/>
            </a:solidFill>
            <a:miter/>
          </a:ln>
        </p:spPr>
      </p:pic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2357280" y="20718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1.Качествен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2.Интернет,  сообщения, фото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видео, диктофон, игр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3. Модный аксессуа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00240" y="499680"/>
            <a:ext cx="794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Положительные свойства телефо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C:\Users\пк\Desktop\нпк\i.jpeg4.jpeg"/>
          <p:cNvPicPr/>
          <p:nvPr/>
        </p:nvPicPr>
        <p:blipFill>
          <a:blip r:embed="rId1"/>
          <a:stretch/>
        </p:blipFill>
        <p:spPr>
          <a:xfrm>
            <a:off x="3643200" y="4429080"/>
            <a:ext cx="2428920" cy="18223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2356920" y="2142720"/>
            <a:ext cx="657252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Вред для здоровь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Боль в руке ( работа с  </a:t>
            </a:r>
            <a:r>
              <a:rPr b="1" i="1" lang="en-US" sz="3200" spc="-1" strike="noStrike">
                <a:solidFill>
                  <a:srgbClr val="002060"/>
                </a:solidFill>
                <a:latin typeface="Calibri"/>
              </a:rPr>
              <a:t>SMS </a:t>
            </a: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«одним пальцем»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Тревожность, зависимость от информ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56840" y="428400"/>
            <a:ext cx="747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Отрицательные свойства телефо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C:\Users\пк\Desktop\нпк\i.jpeg4.jpeg"/>
          <p:cNvPicPr/>
          <p:nvPr/>
        </p:nvPicPr>
        <p:blipFill>
          <a:blip r:embed="rId1"/>
          <a:stretch/>
        </p:blipFill>
        <p:spPr>
          <a:xfrm>
            <a:off x="5857920" y="4786200"/>
            <a:ext cx="1857240" cy="13939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285840"/>
            <a:ext cx="768672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Результаты анкетиров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571760" y="1357200"/>
            <a:ext cx="7215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1. Есть ли у тебя сотовый телефон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Объект 2" descr=""/>
          <p:cNvPicPr/>
          <p:nvPr/>
        </p:nvPicPr>
        <p:blipFill>
          <a:blip r:embed="rId1"/>
          <a:stretch/>
        </p:blipFill>
        <p:spPr>
          <a:xfrm>
            <a:off x="2000160" y="1571760"/>
            <a:ext cx="6858000" cy="55720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1285920" y="128592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2.Считаете ли вы удобным его наличи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85920" y="214200"/>
            <a:ext cx="74721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Результаты анкетиров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Объект 3" descr=""/>
          <p:cNvPicPr/>
          <p:nvPr/>
        </p:nvPicPr>
        <p:blipFill>
          <a:blip r:embed="rId1"/>
          <a:stretch/>
        </p:blipFill>
        <p:spPr>
          <a:xfrm>
            <a:off x="1857240" y="1571760"/>
            <a:ext cx="6786720" cy="50720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785520" y="1071360"/>
            <a:ext cx="835812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3. Для чего Вы больше используете телефон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57200" y="214200"/>
            <a:ext cx="761544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Результаты анкетиров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" name="Объект 4"/>
          <p:cNvGraphicFramePr/>
          <p:nvPr/>
        </p:nvGraphicFramePr>
        <p:xfrm>
          <a:off x="1712880" y="2001960"/>
          <a:ext cx="7077240" cy="449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2880" y="2001960"/>
                    <a:ext cx="707724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57168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4. Могли бы Вы обойтись месяц без телефон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71360" y="274680"/>
            <a:ext cx="761508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Результаты анкетиров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Объект 6" descr=""/>
          <p:cNvPicPr/>
          <p:nvPr/>
        </p:nvPicPr>
        <p:blipFill>
          <a:blip r:embed="rId1"/>
          <a:stretch/>
        </p:blipFill>
        <p:spPr>
          <a:xfrm>
            <a:off x="1785960" y="2000160"/>
            <a:ext cx="7358040" cy="4500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16:48:00Z</dcterms:created>
  <dc:creator>Катенок</dc:creator>
  <dc:description/>
  <dc:language>en-US</dc:language>
  <cp:lastModifiedBy>пк</cp:lastModifiedBy>
  <dcterms:modified xsi:type="dcterms:W3CDTF">2013-04-25T11:31:15Z</dcterms:modified>
  <cp:revision>26</cp:revision>
  <dc:subject/>
  <dc:title>Шаблон презентации</dc:title>
</cp:coreProperties>
</file>