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98C-0595-4F8C-921A-01AFAE2F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980-405C-416A-B695-038719FE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072-05C3-4A7A-9CD2-136CF00D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ED2-E432-4E0B-AF44-D210F05A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FBA-2541-4179-AAF7-4980BE84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8DD-8587-42CE-A656-A59E97DC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9F6-BCE9-4E24-962D-34D24E73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BF7-7D83-4326-9AAA-B4B158D6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C4F-0A04-467B-A9EF-B34AE42D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3F8-9CBB-495B-852A-882785EA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6B0-2F55-47F6-9768-D79F6C58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A8D-A6AC-4D23-A871-40C91951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A812-289D-4DA0-9F58-208E600DDC6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3216-BE8D-47A3-B3C6-EF7CC5928F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Овал 11"/>
          <p:cNvGrpSpPr/>
          <p:nvPr/>
        </p:nvGrpSpPr>
        <p:grpSpPr>
          <a:xfrm>
            <a:off x="3529080" y="274680"/>
            <a:ext cx="1536480" cy="1328760"/>
            <a:chOff x="3529080" y="274680"/>
            <a:chExt cx="1536480" cy="1328760"/>
          </a:xfrm>
        </p:grpSpPr>
        <p:pic>
          <p:nvPicPr>
            <p:cNvPr id="50" name="Овал 11" descr=""/>
            <p:cNvPicPr/>
            <p:nvPr/>
          </p:nvPicPr>
          <p:blipFill>
            <a:blip r:embed="rId1"/>
            <a:stretch/>
          </p:blipFill>
          <p:spPr>
            <a:xfrm>
              <a:off x="3529080" y="274680"/>
              <a:ext cx="15364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997440" y="7239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Овал 20"/>
          <p:cNvGrpSpPr/>
          <p:nvPr/>
        </p:nvGrpSpPr>
        <p:grpSpPr>
          <a:xfrm>
            <a:off x="841320" y="628560"/>
            <a:ext cx="1487520" cy="1333440"/>
            <a:chOff x="841320" y="628560"/>
            <a:chExt cx="1487520" cy="1333440"/>
          </a:xfrm>
        </p:grpSpPr>
        <p:pic>
          <p:nvPicPr>
            <p:cNvPr id="61" name="Овал 20" descr=""/>
            <p:cNvPicPr/>
            <p:nvPr/>
          </p:nvPicPr>
          <p:blipFill>
            <a:blip r:embed="rId2"/>
            <a:stretch/>
          </p:blipFill>
          <p:spPr>
            <a:xfrm>
              <a:off x="841320" y="628560"/>
              <a:ext cx="148752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ь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Овал 29"/>
          <p:cNvGrpSpPr/>
          <p:nvPr/>
        </p:nvGrpSpPr>
        <p:grpSpPr>
          <a:xfrm>
            <a:off x="7461360" y="1122480"/>
            <a:ext cx="1682640" cy="1334880"/>
            <a:chOff x="7461360" y="1122480"/>
            <a:chExt cx="1682640" cy="1334880"/>
          </a:xfrm>
        </p:grpSpPr>
        <p:pic>
          <p:nvPicPr>
            <p:cNvPr id="72" name="Овал 29" descr=""/>
            <p:cNvPicPr/>
            <p:nvPr/>
          </p:nvPicPr>
          <p:blipFill>
            <a:blip r:embed="rId3"/>
            <a:stretch/>
          </p:blipFill>
          <p:spPr>
            <a:xfrm>
              <a:off x="7461360" y="1122480"/>
              <a:ext cx="1682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004240" y="157320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Овал 83"/>
          <p:cNvGrpSpPr/>
          <p:nvPr/>
        </p:nvGrpSpPr>
        <p:grpSpPr>
          <a:xfrm>
            <a:off x="5742000" y="304920"/>
            <a:ext cx="1487520" cy="1334880"/>
            <a:chOff x="5742000" y="304920"/>
            <a:chExt cx="1487520" cy="1334880"/>
          </a:xfrm>
        </p:grpSpPr>
        <p:pic>
          <p:nvPicPr>
            <p:cNvPr id="128" name="Овал 83" descr=""/>
            <p:cNvPicPr/>
            <p:nvPr/>
          </p:nvPicPr>
          <p:blipFill>
            <a:blip r:embed="rId4"/>
            <a:stretch/>
          </p:blipFill>
          <p:spPr>
            <a:xfrm>
              <a:off x="5742000" y="304920"/>
              <a:ext cx="148752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Овал 93"/>
          <p:cNvGrpSpPr/>
          <p:nvPr/>
        </p:nvGrpSpPr>
        <p:grpSpPr>
          <a:xfrm>
            <a:off x="-42840" y="2023920"/>
            <a:ext cx="1487520" cy="1328760"/>
            <a:chOff x="-42840" y="2023920"/>
            <a:chExt cx="1487520" cy="1328760"/>
          </a:xfrm>
        </p:grpSpPr>
        <p:pic>
          <p:nvPicPr>
            <p:cNvPr id="140" name="Овал 93" descr=""/>
            <p:cNvPicPr/>
            <p:nvPr/>
          </p:nvPicPr>
          <p:blipFill>
            <a:blip r:embed="rId5"/>
            <a:stretch/>
          </p:blipFill>
          <p:spPr>
            <a:xfrm>
              <a:off x="-42840" y="2023920"/>
              <a:ext cx="14875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Овал 122"/>
          <p:cNvGrpSpPr/>
          <p:nvPr/>
        </p:nvGrpSpPr>
        <p:grpSpPr>
          <a:xfrm>
            <a:off x="2511360" y="390600"/>
            <a:ext cx="542880" cy="554040"/>
            <a:chOff x="2511360" y="390600"/>
            <a:chExt cx="542880" cy="554040"/>
          </a:xfrm>
        </p:grpSpPr>
        <p:pic>
          <p:nvPicPr>
            <p:cNvPr id="171" name="Овал 122" descr=""/>
            <p:cNvPicPr/>
            <p:nvPr/>
          </p:nvPicPr>
          <p:blipFill>
            <a:blip r:embed="rId6"/>
            <a:stretch/>
          </p:blipFill>
          <p:spPr>
            <a:xfrm>
              <a:off x="2511360" y="390600"/>
              <a:ext cx="542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63520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Овал 123"/>
          <p:cNvGrpSpPr/>
          <p:nvPr/>
        </p:nvGrpSpPr>
        <p:grpSpPr>
          <a:xfrm>
            <a:off x="5084640" y="1249200"/>
            <a:ext cx="541440" cy="549360"/>
            <a:chOff x="5084640" y="1249200"/>
            <a:chExt cx="541440" cy="549360"/>
          </a:xfrm>
        </p:grpSpPr>
        <p:pic>
          <p:nvPicPr>
            <p:cNvPr id="174" name="Овал 123" descr=""/>
            <p:cNvPicPr/>
            <p:nvPr/>
          </p:nvPicPr>
          <p:blipFill>
            <a:blip r:embed="rId7"/>
            <a:stretch/>
          </p:blipFill>
          <p:spPr>
            <a:xfrm>
              <a:off x="5084640" y="1249200"/>
              <a:ext cx="541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20704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Овал 124"/>
          <p:cNvGrpSpPr/>
          <p:nvPr/>
        </p:nvGrpSpPr>
        <p:grpSpPr>
          <a:xfrm>
            <a:off x="152280" y="1249200"/>
            <a:ext cx="542880" cy="549360"/>
            <a:chOff x="152280" y="1249200"/>
            <a:chExt cx="542880" cy="549360"/>
          </a:xfrm>
        </p:grpSpPr>
        <p:pic>
          <p:nvPicPr>
            <p:cNvPr id="177" name="Овал 124" descr=""/>
            <p:cNvPicPr/>
            <p:nvPr/>
          </p:nvPicPr>
          <p:blipFill>
            <a:blip r:embed="rId8"/>
            <a:stretch/>
          </p:blipFill>
          <p:spPr>
            <a:xfrm>
              <a:off x="152280" y="124920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125"/>
          <p:cNvGrpSpPr/>
          <p:nvPr/>
        </p:nvGrpSpPr>
        <p:grpSpPr>
          <a:xfrm>
            <a:off x="8510760" y="390600"/>
            <a:ext cx="547560" cy="554040"/>
            <a:chOff x="8510760" y="390600"/>
            <a:chExt cx="547560" cy="554040"/>
          </a:xfrm>
        </p:grpSpPr>
        <p:pic>
          <p:nvPicPr>
            <p:cNvPr id="180" name="Овал 125" descr=""/>
            <p:cNvPicPr/>
            <p:nvPr/>
          </p:nvPicPr>
          <p:blipFill>
            <a:blip r:embed="rId9"/>
            <a:stretch/>
          </p:blipFill>
          <p:spPr>
            <a:xfrm>
              <a:off x="8510760" y="39060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Овал 126"/>
          <p:cNvGrpSpPr/>
          <p:nvPr/>
        </p:nvGrpSpPr>
        <p:grpSpPr>
          <a:xfrm>
            <a:off x="7156440" y="1036800"/>
            <a:ext cx="542880" cy="547560"/>
            <a:chOff x="7156440" y="1036800"/>
            <a:chExt cx="542880" cy="547560"/>
          </a:xfrm>
        </p:grpSpPr>
        <p:pic>
          <p:nvPicPr>
            <p:cNvPr id="183" name="Овал 126" descr=""/>
            <p:cNvPicPr/>
            <p:nvPr/>
          </p:nvPicPr>
          <p:blipFill>
            <a:blip r:embed="rId10"/>
            <a:stretch/>
          </p:blipFill>
          <p:spPr>
            <a:xfrm>
              <a:off x="7156440" y="103680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Овал 127"/>
          <p:cNvGrpSpPr/>
          <p:nvPr/>
        </p:nvGrpSpPr>
        <p:grpSpPr>
          <a:xfrm>
            <a:off x="3651120" y="1749600"/>
            <a:ext cx="549360" cy="549000"/>
            <a:chOff x="3651120" y="1749600"/>
            <a:chExt cx="549360" cy="549000"/>
          </a:xfrm>
        </p:grpSpPr>
        <p:pic>
          <p:nvPicPr>
            <p:cNvPr id="186" name="Овал 127" descr=""/>
            <p:cNvPicPr/>
            <p:nvPr/>
          </p:nvPicPr>
          <p:blipFill>
            <a:blip r:embed="rId11"/>
            <a:stretch/>
          </p:blipFill>
          <p:spPr>
            <a:xfrm>
              <a:off x="3651120" y="1749600"/>
              <a:ext cx="54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156"/>
          <p:cNvSpPr txBox="1"/>
          <p:nvPr/>
        </p:nvSpPr>
        <p:spPr>
          <a:xfrm>
            <a:off x="1116000" y="2708280"/>
            <a:ext cx="71438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русского язы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 2-а класс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83BA-9B7F-48CA-986B-20B845C642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2F6E-B4B6-4B83-8DC7-ABF174CC1B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6"/>
          <p:cNvSpPr txBox="1"/>
          <p:nvPr/>
        </p:nvSpPr>
        <p:spPr>
          <a:xfrm>
            <a:off x="971640" y="620640"/>
            <a:ext cx="61927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зья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ение нас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ъединяет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7747-8D0B-4437-A4DF-C69C111C82F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CDD9-B8A7-4F03-BD34-2A6DE8040A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6"/>
          <p:cNvSpPr txBox="1"/>
          <p:nvPr/>
        </p:nvSpPr>
        <p:spPr>
          <a:xfrm>
            <a:off x="971640" y="620640"/>
            <a:ext cx="61927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ение нас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ъединяет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9E09-A8EA-46F3-9F16-CC89F37C7B3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BB46-9899-4040-991B-5DCFEEF590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WordArt 6" descr=""/>
          <p:cNvPicPr/>
          <p:nvPr/>
        </p:nvPicPr>
        <p:blipFill>
          <a:blip r:embed="rId1"/>
          <a:stretch/>
        </p:blipFill>
        <p:spPr>
          <a:xfrm>
            <a:off x="957240" y="615960"/>
            <a:ext cx="6248520" cy="343224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ая соединительная линия 6"/>
          <p:cNvSpPr/>
          <p:nvPr/>
        </p:nvSpPr>
        <p:spPr>
          <a:xfrm>
            <a:off x="971640" y="4221000"/>
            <a:ext cx="5904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2919240" y="170028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1"/>
          <p:cNvSpPr/>
          <p:nvPr/>
        </p:nvSpPr>
        <p:spPr>
          <a:xfrm>
            <a:off x="3782520" y="278136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Admin\Мои документы\Мои рисунки\предлог урок\e2b4d9581651t.jpg"/>
          <p:cNvPicPr/>
          <p:nvPr/>
        </p:nvPicPr>
        <p:blipFill>
          <a:blip r:embed="rId1"/>
          <a:srcRect l="11426" t="12028" r="11426" b="9773"/>
          <a:stretch/>
        </p:blipFill>
        <p:spPr>
          <a:xfrm>
            <a:off x="3500280" y="2786040"/>
            <a:ext cx="1928880" cy="1857240"/>
          </a:xfrm>
          <a:prstGeom prst="rect">
            <a:avLst/>
          </a:prstGeom>
          <a:ln w="0">
            <a:noFill/>
          </a:ln>
        </p:spPr>
      </p:pic>
      <p:pic>
        <p:nvPicPr>
          <p:cNvPr id="278" name="TextBox 2" descr=""/>
          <p:cNvPicPr/>
          <p:nvPr/>
        </p:nvPicPr>
        <p:blipFill>
          <a:blip r:embed="rId2"/>
          <a:stretch/>
        </p:blipFill>
        <p:spPr>
          <a:xfrm>
            <a:off x="755640" y="974880"/>
            <a:ext cx="7682040" cy="21891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Documents and Settings\Admin\Мои документы\Мои рисунки\Организатор клипов (Microsoft)\j0436872.png"/>
          <p:cNvPicPr/>
          <p:nvPr/>
        </p:nvPicPr>
        <p:blipFill>
          <a:blip r:embed="rId3"/>
          <a:stretch/>
        </p:blipFill>
        <p:spPr>
          <a:xfrm>
            <a:off x="221472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4"/>
          <a:stretch/>
        </p:blipFill>
        <p:spPr>
          <a:xfrm>
            <a:off x="214200" y="27147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C:\Documents and Settings\Admin\Мои документы\Мои рисунки\Организатор клипов (Microsoft)\j0436872.png"/>
          <p:cNvPicPr/>
          <p:nvPr/>
        </p:nvPicPr>
        <p:blipFill>
          <a:blip r:embed="rId5"/>
          <a:stretch/>
        </p:blipFill>
        <p:spPr>
          <a:xfrm>
            <a:off x="6643800" y="2500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C:\Documents and Settings\Admin\Мои документы\Мои рисунки\Организатор клипов (Microsoft)\j0436872.png"/>
          <p:cNvPicPr/>
          <p:nvPr/>
        </p:nvPicPr>
        <p:blipFill>
          <a:blip r:embed="rId6"/>
          <a:stretch/>
        </p:blipFill>
        <p:spPr>
          <a:xfrm>
            <a:off x="5429160" y="492912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1"/>
          <a:stretch/>
        </p:blipFill>
        <p:spPr>
          <a:xfrm>
            <a:off x="0" y="55008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2"/>
          <a:stretch/>
        </p:blipFill>
        <p:spPr>
          <a:xfrm>
            <a:off x="7929720" y="564372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3"/>
          <a:stretch/>
        </p:blipFill>
        <p:spPr>
          <a:xfrm>
            <a:off x="8072280" y="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4"/>
          <a:stretch/>
        </p:blipFill>
        <p:spPr>
          <a:xfrm>
            <a:off x="0" y="35712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Admin\Мои документы\Мои рисунки\предлог урок\e2b4d9581651t.jpg"/>
          <p:cNvPicPr/>
          <p:nvPr/>
        </p:nvPicPr>
        <p:blipFill>
          <a:blip r:embed="rId5"/>
          <a:srcRect l="11426" t="12028" r="11426" b="9773"/>
          <a:stretch/>
        </p:blipFill>
        <p:spPr>
          <a:xfrm>
            <a:off x="285840" y="630360"/>
            <a:ext cx="114300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0.81198 -7.40741E-007 L 0.81198 0.7206 L -4.44444E-006 0.7206 L -4.44444E-006 -7.40741E-007 Z">
                                      <p:cBhvr>
                                        <p:cTn id="136" dur="5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0.81198 -7.40741E-007 L 0.81198 0.7206 L -4.44444E-006 0.7206 L -4.44444E-006 -7.40741E-007 Z">
                                      <p:cBhvr>
                                        <p:cTn id="139" dur="5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-4.44444E-006 0.7206 L 0.81112 -7.40741E-007 L -4.44444E-006 -7.40741E-007 Z">
                                      <p:cBhvr>
                                        <p:cTn id="142" dur="5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941 -0.0463 C 0.34219 -0.20069 0.58837 -0.14907 0.68941 0.07593 C 0.79046 0.28843 0.73039 0.59144 0.53369 0.74167 C 0.35469 0.88588 0.12483 0.85718 0.03264 0.65671 C -0.04947 0.47222 -0.00398999999999999 0.21296 0.16441 0.08125 C 0.31771 -0.04005 0.5132 -0.01875 0.59306 0.14977 C 0.66476 0.30741 0.62674 0.52639 0.48507 0.63495 C 0.35851 0.7338 0.19428 0.72245 0.13282 0.58032 C 0.07257 0.4544 0.09948 0.27894 0.21355 0.18773 C 0.31667 0.10972 0.44705 0.1132 0.49619 0.22454 C 0.54115 0.32107 0.52344 0.45995 0.43681 0.52801 C 0.36146 0.58704 0.26702 0.58519 0.22848 0.50602 C 0.19636 0.44097 0.20261 0.34421 0.2625 0.29884 C 0.31042 0.2588 0.37379 0.2507 0.39966 0.29838 C 0.4158 0.34051 0.41928 0.39074 0.3882 0.4206 C 0.36702 0.43912 0.34254 0.44676 0.32605 0.43171 C 0.31858 0.42431 0.3158 0.4169 0.31511 0.4044 E">
                                      <p:cBhvr>
                                        <p:cTn id="145" dur="5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7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37338 C -0.01475 0.12685 0.14358 -0.08657 0.35608 -0.10093 C 0.55903 -0.11944 0.74896 0.0456 0.76164 0.28519 C 0.77761 0.50556 0.64428 0.71181 0.454 0.72639 C 0.28004 0.7375 0.11494 0.60116 0.10244 0.3956 C 0.08976 0.20787 0.20087 0.03102 0.36216 0.01644 C 0.51112 0.00556 0.65105 0.11968 0.66025 0.29236 C 0.66962 0.44676 0.58108 0.59745 0.44792 0.60509 C 0.32744 0.61597 0.21355 0.52778 0.20365 0.38796 C 0.19757 0.26273 0.26407 0.14167 0.36875 0.13449 C 0.46059 0.12685 0.55244 0.19329 0.55903 0.29977 C 0.56511 0.3919 0.51789 0.48009 0.44132 0.4875 C 0.37796 0.49445 0.31146 0.4544 0.30816 0.38079 C 0.30209 0.32153 0.32744 0.25903 0.37466 0.25185 C 0.4132 0.25185 0.45122 0.26667 0.4573 0.30671 C 0.46059 0.3331 0.454 0.35857 0.43525 0.36945 C 0.42587 0.37338 0.41928 0.37338 0.4099 0.36945 E">
                                      <p:cBhvr>
                                        <p:cTn id="148" dur="5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3" descr="C:\Documents and Settings\Admin\Мои документы\Мои рисунки\Организатор клипов (Microsoft)\j0436872.png"/>
          <p:cNvPicPr/>
          <p:nvPr/>
        </p:nvPicPr>
        <p:blipFill>
          <a:blip r:embed="rId1"/>
          <a:stretch/>
        </p:blipFill>
        <p:spPr>
          <a:xfrm>
            <a:off x="1071720" y="52149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2"/>
          <a:stretch/>
        </p:blipFill>
        <p:spPr>
          <a:xfrm>
            <a:off x="428760" y="271476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C:\Documents and Settings\Admin\Мои документы\Мои рисунки\Организатор клипов (Microsoft)\j0436872.png"/>
          <p:cNvPicPr/>
          <p:nvPr/>
        </p:nvPicPr>
        <p:blipFill>
          <a:blip r:embed="rId3"/>
          <a:stretch/>
        </p:blipFill>
        <p:spPr>
          <a:xfrm>
            <a:off x="7429680" y="264312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C:\Documents and Settings\Admin\Мои документы\Мои рисунки\Организатор клипов (Microsoft)\j0436872.png"/>
          <p:cNvPicPr/>
          <p:nvPr/>
        </p:nvPicPr>
        <p:blipFill>
          <a:blip r:embed="rId4"/>
          <a:stretch/>
        </p:blipFill>
        <p:spPr>
          <a:xfrm>
            <a:off x="6072120" y="51436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5"/>
          <a:stretch/>
        </p:blipFill>
        <p:spPr>
          <a:xfrm>
            <a:off x="1857240" y="2142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6"/>
          <a:stretch/>
        </p:blipFill>
        <p:spPr>
          <a:xfrm>
            <a:off x="6143760" y="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C:\Documents and Settings\Admin\Мои документы\Мои рисунки\предлог урок\e2b4d9581651t.jpg"/>
          <p:cNvPicPr/>
          <p:nvPr/>
        </p:nvPicPr>
        <p:blipFill>
          <a:blip r:embed="rId7"/>
          <a:srcRect l="11426" t="12028" r="11426" b="9773"/>
          <a:stretch/>
        </p:blipFill>
        <p:spPr>
          <a:xfrm>
            <a:off x="3929040" y="2992320"/>
            <a:ext cx="1357200" cy="13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8.51852E-006 L -0.14966 -0.26251 E">
                                      <p:cBhvr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66 -0.26251 L 3.88889E-006 -0.01065 E">
                                      <p:cBhvr>
                                        <p:cTn id="211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9.62963E-006 L -0.27553 -9.62963E-006 E">
                                      <p:cBhvr>
                                        <p:cTn id="214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53 -1.48148E-006 L 0.00018 0.01064 E">
                                      <p:cBhvr>
                                        <p:cTn id="218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2963E-006 L -0.2047 0.24143 E">
                                      <p:cBhvr>
                                        <p:cTn id="221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47 0.24144 L -0.01581 0.02106 E">
                                      <p:cBhvr>
                                        <p:cTn id="224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6.2963E-006 L 0.15747 0.22059 E">
                                      <p:cBhvr>
                                        <p:cTn id="227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7 0.2206 L 0.01563 0.00022 E">
                                      <p:cBhvr>
                                        <p:cTn id="230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0.2441 -0.01042 E">
                                      <p:cBhvr>
                                        <p:cTn id="233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41 -0.01042 L 0.00782 0.01064 E">
                                      <p:cBhvr>
                                        <p:cTn id="236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14815E-006 L 0.17327 -0.30464 E">
                                      <p:cBhvr>
                                        <p:cTn id="239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27 -0.30463 L 0.0158 -0.02107 E">
                                      <p:cBhvr>
                                        <p:cTn id="242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:\Documents and Settings\Admin\Мои документы\Мои рисунки\предлог урок\e2b4d9581651t.jpg"/>
          <p:cNvPicPr/>
          <p:nvPr/>
        </p:nvPicPr>
        <p:blipFill>
          <a:blip r:embed="rId1"/>
          <a:srcRect l="11426" t="12028" r="11426" b="9773"/>
          <a:stretch/>
        </p:blipFill>
        <p:spPr>
          <a:xfrm>
            <a:off x="285840" y="2428920"/>
            <a:ext cx="1643040" cy="1582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2"/>
          <a:stretch/>
        </p:blipFill>
        <p:spPr>
          <a:xfrm>
            <a:off x="2500200" y="2357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C:\Documents and Settings\Admin\Мои документы\Мои рисунки\Организатор клипов (Microsoft)\j0436872.png"/>
          <p:cNvPicPr/>
          <p:nvPr/>
        </p:nvPicPr>
        <p:blipFill>
          <a:blip r:embed="rId3"/>
          <a:stretch/>
        </p:blipFill>
        <p:spPr>
          <a:xfrm>
            <a:off x="5527800" y="24559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3.05556E-006 0.17547 0.08767 0.32037 0.19479 0.32037 C 0.32118 0.32037 0.36666 0.16019 0.38611 0.06366 L 0.4059 -0.06412 C 0.42534 -0.16018 0.47396 -0.32013 0.61684 -0.32013 C 0.70816 -0.32013 0.81198 -0.17592 0.81198 -4.44444E-006 C 0.81198 0.17547 0.70816 0.32037 0.61684 0.32037 C 0.47396 0.32037 0.42534 0.16019 0.4059 0.06366 L 0.38611 -0.06412 C 0.36666 -0.16018 0.32118 -0.32013 0.19479 -0.32013 C 0.08767 -0.32013 3.05556E-006 -0.17592 3.05556E-006 -4.44444E-006 Z">
                                      <p:cBhvr>
                                        <p:cTn id="248" dur="3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C 3.05556E-006 0.16991 0.08784 0.30995 0.19496 0.30995 C 0.32135 0.30995 0.36701 0.15463 0.38628 0.06158 L 0.40607 -0.0618 C 0.42552 -0.15486 0.47413 -0.30949 0.61684 -0.30949 C 0.70833 -0.30949 0.81215 -0.17014 0.81215 -1.11111E-006 C 0.81215 0.16991 0.70833 0.30995 0.61684 0.30995 C 0.47413 0.30995 0.42552 0.15463 0.40607 0.06158 L 0.38628 -0.0618 C 0.36701 -0.15486 0.32135 -0.30949 0.19496 -0.30949 C 0.08784 -0.30949 3.05556E-006 -0.17014 3.05556E-006 -1.11111E-006 Z">
                                      <p:cBhvr>
                                        <p:cTn id="251" dur="3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611280" y="2205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250920" y="1484280"/>
            <a:ext cx="85690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4"/>
          <p:cNvSpPr txBox="1"/>
          <p:nvPr/>
        </p:nvSpPr>
        <p:spPr>
          <a:xfrm>
            <a:off x="684360" y="404640"/>
            <a:ext cx="71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ь себ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ем</a:t>
            </a:r>
            <a:r>
              <a:rPr b="0" lang="ru-RU" sz="4400" spc="-1" strike="noStrike" u="sng">
                <a:solidFill>
                  <a:srgbClr val="00ff00"/>
                </a:solidFill>
                <a:uFillTx/>
                <a:latin typeface="Arial Black"/>
              </a:rPr>
              <a:t>ь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 Black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ер</a:t>
            </a:r>
            <a:r>
              <a:rPr b="0" lang="ru-RU" sz="4400" spc="-1" strike="noStrike" u="sng">
                <a:solidFill>
                  <a:srgbClr val="00ff00"/>
                </a:solidFill>
                <a:uFillTx/>
                <a:latin typeface="Arial Black"/>
              </a:rPr>
              <a:t>ь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 Black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арен</a:t>
            </a:r>
            <a:r>
              <a:rPr b="0" lang="ru-RU" sz="4400" spc="-1" strike="noStrike" u="sng">
                <a:solidFill>
                  <a:srgbClr val="00ff00"/>
                </a:solidFill>
                <a:uFillTx/>
                <a:latin typeface="Arial Black"/>
              </a:rPr>
              <a:t>ь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 Black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б</a:t>
            </a:r>
            <a:r>
              <a:rPr b="0" lang="ru-RU" sz="4400" spc="-1" strike="noStrike" u="sng">
                <a:solidFill>
                  <a:srgbClr val="00ff00"/>
                </a:solidFill>
                <a:uFillTx/>
                <a:latin typeface="Arial Black"/>
              </a:rPr>
              <a:t>ъ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 Black"/>
              </a:rPr>
              <a:t>я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ни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од</a:t>
            </a:r>
            <a:r>
              <a:rPr b="0" lang="ru-RU" sz="4400" spc="-1" strike="noStrike" u="sng">
                <a:solidFill>
                  <a:srgbClr val="00ff00"/>
                </a:solidFill>
                <a:uFillTx/>
                <a:latin typeface="Arial Black"/>
              </a:rPr>
              <a:t>ъ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 Black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</a:t>
            </a:r>
            <a:r>
              <a:rPr b="0" lang="ru-RU" sz="4400" spc="-1" strike="noStrike" u="sng">
                <a:solidFill>
                  <a:srgbClr val="00ff00"/>
                </a:solidFill>
                <a:uFillTx/>
                <a:latin typeface="Arial Black"/>
              </a:rPr>
              <a:t>ъ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 Black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об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3"/>
          <p:cNvSpPr txBox="1"/>
          <p:nvPr/>
        </p:nvSpPr>
        <p:spPr>
          <a:xfrm>
            <a:off x="1476360" y="1125360"/>
            <a:ext cx="5763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305" name="WordArt 5"/>
          <p:cNvSpPr txBox="1"/>
          <p:nvPr/>
        </p:nvSpPr>
        <p:spPr>
          <a:xfrm>
            <a:off x="3419640" y="54936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06" name="WordArt 6"/>
          <p:cNvSpPr txBox="1"/>
          <p:nvPr/>
        </p:nvSpPr>
        <p:spPr>
          <a:xfrm>
            <a:off x="3780000" y="836640"/>
            <a:ext cx="358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WordArt 27"/>
          <p:cNvSpPr txBox="1"/>
          <p:nvPr/>
        </p:nvSpPr>
        <p:spPr>
          <a:xfrm>
            <a:off x="6372360" y="299736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09" name="WordArt 28"/>
          <p:cNvSpPr txBox="1"/>
          <p:nvPr/>
        </p:nvSpPr>
        <p:spPr>
          <a:xfrm>
            <a:off x="6659640" y="3429000"/>
            <a:ext cx="358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10" name="Rectangle 36"/>
          <p:cNvSpPr/>
          <p:nvPr/>
        </p:nvSpPr>
        <p:spPr>
          <a:xfrm>
            <a:off x="3348000" y="3645000"/>
            <a:ext cx="29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41"/>
          <p:cNvSpPr txBox="1"/>
          <p:nvPr/>
        </p:nvSpPr>
        <p:spPr>
          <a:xfrm>
            <a:off x="826920" y="1197000"/>
            <a:ext cx="74901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читайте  правило   на  с. 79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полните упражнение 14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Упражнение 14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усеницы стали о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б</a:t>
            </a:r>
            <a:r>
              <a:rPr b="1" i="1" lang="ru-RU" sz="4000" spc="-1" strike="noStrike">
                <a:solidFill>
                  <a:srgbClr val="00ff00"/>
                </a:solidFill>
                <a:latin typeface="Calibri"/>
              </a:rPr>
              <a:t>ъ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дать листву. После прогулки дети сели о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бе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да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Impact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35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В…р…бьи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Скат…рть,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С…сульки,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С…л…вьи,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Об…езды.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116000" y="220500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6"/>
          <p:cNvSpPr txBox="1"/>
          <p:nvPr/>
        </p:nvSpPr>
        <p:spPr>
          <a:xfrm>
            <a:off x="900000" y="549360"/>
            <a:ext cx="748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Вставь в слова </a:t>
            </a:r>
            <a:r>
              <a:rPr b="0" lang="ru-RU" sz="4800" spc="-1" strike="noStrike">
                <a:solidFill>
                  <a:srgbClr val="00ff00"/>
                </a:solidFill>
                <a:latin typeface="Arial Black"/>
              </a:rPr>
              <a:t>ь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или </a:t>
            </a:r>
            <a:r>
              <a:rPr b="0" lang="ru-RU" sz="4800" spc="-1" strike="noStrike">
                <a:solidFill>
                  <a:srgbClr val="00ff00"/>
                </a:solidFill>
                <a:latin typeface="Arial Black"/>
              </a:rPr>
              <a:t>ъ</a:t>
            </a: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 знаки и получи новые слова. Запиши в столбик только новые сл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3071880"/>
            <a:ext cx="231444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бедать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лю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лю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ёмк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4047480" y="3068640"/>
            <a:ext cx="20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б</a:t>
            </a:r>
            <a:r>
              <a:rPr b="0" lang="ru-RU" sz="3200" spc="-1" strike="noStrike">
                <a:solidFill>
                  <a:srgbClr val="00ff00"/>
                </a:solidFill>
                <a:latin typeface="Arial Black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4"/>
          <p:cNvSpPr/>
          <p:nvPr/>
        </p:nvSpPr>
        <p:spPr>
          <a:xfrm>
            <a:off x="4117320" y="364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л</a:t>
            </a:r>
            <a:r>
              <a:rPr b="0" lang="ru-RU" sz="3200" spc="-1" strike="noStrike">
                <a:solidFill>
                  <a:srgbClr val="00ff00"/>
                </a:solidFill>
                <a:latin typeface="Arial Black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5"/>
          <p:cNvSpPr/>
          <p:nvPr/>
        </p:nvSpPr>
        <p:spPr>
          <a:xfrm>
            <a:off x="4087440" y="4221000"/>
            <a:ext cx="14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л</a:t>
            </a:r>
            <a:r>
              <a:rPr b="0" lang="ru-RU" sz="3200" spc="-1" strike="noStrike">
                <a:solidFill>
                  <a:srgbClr val="00ff00"/>
                </a:solidFill>
                <a:latin typeface="Arial Black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6"/>
          <p:cNvSpPr/>
          <p:nvPr/>
        </p:nvSpPr>
        <p:spPr>
          <a:xfrm>
            <a:off x="3995640" y="479736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</a:t>
            </a:r>
            <a:r>
              <a:rPr b="0" lang="ru-RU" sz="3200" spc="-1" strike="noStrike">
                <a:solidFill>
                  <a:srgbClr val="00ff00"/>
                </a:solidFill>
                <a:latin typeface="Arial Black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м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5" descr="j0343353"/>
          <p:cNvPicPr/>
          <p:nvPr/>
        </p:nvPicPr>
        <p:blipFill>
          <a:blip r:embed="rId1"/>
          <a:stretch/>
        </p:blipFill>
        <p:spPr>
          <a:xfrm>
            <a:off x="6248520" y="4076640"/>
            <a:ext cx="2895480" cy="2781360"/>
          </a:xfrm>
          <a:prstGeom prst="rect">
            <a:avLst/>
          </a:prstGeom>
          <a:ln w="0">
            <a:noFill/>
          </a:ln>
        </p:spPr>
      </p:pic>
      <p:sp>
        <p:nvSpPr>
          <p:cNvPr id="321" name="WordArt 6"/>
          <p:cNvSpPr txBox="1"/>
          <p:nvPr/>
        </p:nvSpPr>
        <p:spPr>
          <a:xfrm>
            <a:off x="1403280" y="692280"/>
            <a:ext cx="6193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ень учения горек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 плод его сладок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Овал 11"/>
          <p:cNvGrpSpPr/>
          <p:nvPr/>
        </p:nvGrpSpPr>
        <p:grpSpPr>
          <a:xfrm>
            <a:off x="3529080" y="274680"/>
            <a:ext cx="1536480" cy="1328760"/>
            <a:chOff x="3529080" y="274680"/>
            <a:chExt cx="1536480" cy="1328760"/>
          </a:xfrm>
        </p:grpSpPr>
        <p:pic>
          <p:nvPicPr>
            <p:cNvPr id="331" name="Овал 11" descr=""/>
            <p:cNvPicPr/>
            <p:nvPr/>
          </p:nvPicPr>
          <p:blipFill>
            <a:blip r:embed="rId1"/>
            <a:stretch/>
          </p:blipFill>
          <p:spPr>
            <a:xfrm>
              <a:off x="3529080" y="274680"/>
              <a:ext cx="15364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3997440" y="7239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Овал 20"/>
          <p:cNvGrpSpPr/>
          <p:nvPr/>
        </p:nvGrpSpPr>
        <p:grpSpPr>
          <a:xfrm>
            <a:off x="841320" y="628560"/>
            <a:ext cx="1487520" cy="1333440"/>
            <a:chOff x="841320" y="628560"/>
            <a:chExt cx="1487520" cy="1333440"/>
          </a:xfrm>
        </p:grpSpPr>
        <p:pic>
          <p:nvPicPr>
            <p:cNvPr id="342" name="Овал 20" descr=""/>
            <p:cNvPicPr/>
            <p:nvPr/>
          </p:nvPicPr>
          <p:blipFill>
            <a:blip r:embed="rId2"/>
            <a:stretch/>
          </p:blipFill>
          <p:spPr>
            <a:xfrm>
              <a:off x="841320" y="628560"/>
              <a:ext cx="148752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ь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Овал 29"/>
          <p:cNvGrpSpPr/>
          <p:nvPr/>
        </p:nvGrpSpPr>
        <p:grpSpPr>
          <a:xfrm>
            <a:off x="7461360" y="1195560"/>
            <a:ext cx="1682640" cy="1334880"/>
            <a:chOff x="7461360" y="1195560"/>
            <a:chExt cx="1682640" cy="1334880"/>
          </a:xfrm>
        </p:grpSpPr>
        <p:pic>
          <p:nvPicPr>
            <p:cNvPr id="353" name="Овал 29" descr=""/>
            <p:cNvPicPr/>
            <p:nvPr/>
          </p:nvPicPr>
          <p:blipFill>
            <a:blip r:embed="rId3"/>
            <a:stretch/>
          </p:blipFill>
          <p:spPr>
            <a:xfrm>
              <a:off x="7461360" y="1195560"/>
              <a:ext cx="1682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8004240" y="16444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Овал 83"/>
          <p:cNvGrpSpPr/>
          <p:nvPr/>
        </p:nvGrpSpPr>
        <p:grpSpPr>
          <a:xfrm>
            <a:off x="5742000" y="304920"/>
            <a:ext cx="1487520" cy="1334880"/>
            <a:chOff x="5742000" y="304920"/>
            <a:chExt cx="1487520" cy="1334880"/>
          </a:xfrm>
        </p:grpSpPr>
        <p:pic>
          <p:nvPicPr>
            <p:cNvPr id="409" name="Овал 83" descr=""/>
            <p:cNvPicPr/>
            <p:nvPr/>
          </p:nvPicPr>
          <p:blipFill>
            <a:blip r:embed="rId4"/>
            <a:stretch/>
          </p:blipFill>
          <p:spPr>
            <a:xfrm>
              <a:off x="5742000" y="304920"/>
              <a:ext cx="148752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Овал 93"/>
          <p:cNvGrpSpPr/>
          <p:nvPr/>
        </p:nvGrpSpPr>
        <p:grpSpPr>
          <a:xfrm>
            <a:off x="-42840" y="2023920"/>
            <a:ext cx="1487520" cy="1328760"/>
            <a:chOff x="-42840" y="2023920"/>
            <a:chExt cx="1487520" cy="1328760"/>
          </a:xfrm>
        </p:grpSpPr>
        <p:pic>
          <p:nvPicPr>
            <p:cNvPr id="421" name="Овал 93" descr=""/>
            <p:cNvPicPr/>
            <p:nvPr/>
          </p:nvPicPr>
          <p:blipFill>
            <a:blip r:embed="rId5"/>
            <a:stretch/>
          </p:blipFill>
          <p:spPr>
            <a:xfrm>
              <a:off x="-42840" y="2023920"/>
              <a:ext cx="14875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Овал 122"/>
          <p:cNvGrpSpPr/>
          <p:nvPr/>
        </p:nvGrpSpPr>
        <p:grpSpPr>
          <a:xfrm>
            <a:off x="2511360" y="390600"/>
            <a:ext cx="542880" cy="554040"/>
            <a:chOff x="2511360" y="390600"/>
            <a:chExt cx="542880" cy="554040"/>
          </a:xfrm>
        </p:grpSpPr>
        <p:pic>
          <p:nvPicPr>
            <p:cNvPr id="452" name="Овал 122" descr=""/>
            <p:cNvPicPr/>
            <p:nvPr/>
          </p:nvPicPr>
          <p:blipFill>
            <a:blip r:embed="rId6"/>
            <a:stretch/>
          </p:blipFill>
          <p:spPr>
            <a:xfrm>
              <a:off x="2511360" y="390600"/>
              <a:ext cx="542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263520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Овал 123"/>
          <p:cNvGrpSpPr/>
          <p:nvPr/>
        </p:nvGrpSpPr>
        <p:grpSpPr>
          <a:xfrm>
            <a:off x="5084640" y="1249200"/>
            <a:ext cx="541440" cy="549360"/>
            <a:chOff x="5084640" y="1249200"/>
            <a:chExt cx="541440" cy="549360"/>
          </a:xfrm>
        </p:grpSpPr>
        <p:pic>
          <p:nvPicPr>
            <p:cNvPr id="455" name="Овал 123" descr=""/>
            <p:cNvPicPr/>
            <p:nvPr/>
          </p:nvPicPr>
          <p:blipFill>
            <a:blip r:embed="rId7"/>
            <a:stretch/>
          </p:blipFill>
          <p:spPr>
            <a:xfrm>
              <a:off x="5084640" y="1249200"/>
              <a:ext cx="541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520704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Овал 124"/>
          <p:cNvGrpSpPr/>
          <p:nvPr/>
        </p:nvGrpSpPr>
        <p:grpSpPr>
          <a:xfrm>
            <a:off x="152280" y="1249200"/>
            <a:ext cx="542880" cy="549360"/>
            <a:chOff x="152280" y="1249200"/>
            <a:chExt cx="542880" cy="549360"/>
          </a:xfrm>
        </p:grpSpPr>
        <p:pic>
          <p:nvPicPr>
            <p:cNvPr id="458" name="Овал 124" descr=""/>
            <p:cNvPicPr/>
            <p:nvPr/>
          </p:nvPicPr>
          <p:blipFill>
            <a:blip r:embed="rId8"/>
            <a:stretch/>
          </p:blipFill>
          <p:spPr>
            <a:xfrm>
              <a:off x="152280" y="124920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Овал 125"/>
          <p:cNvGrpSpPr/>
          <p:nvPr/>
        </p:nvGrpSpPr>
        <p:grpSpPr>
          <a:xfrm>
            <a:off x="8510760" y="390600"/>
            <a:ext cx="547560" cy="554040"/>
            <a:chOff x="8510760" y="390600"/>
            <a:chExt cx="547560" cy="554040"/>
          </a:xfrm>
        </p:grpSpPr>
        <p:pic>
          <p:nvPicPr>
            <p:cNvPr id="461" name="Овал 125" descr=""/>
            <p:cNvPicPr/>
            <p:nvPr/>
          </p:nvPicPr>
          <p:blipFill>
            <a:blip r:embed="rId9"/>
            <a:stretch/>
          </p:blipFill>
          <p:spPr>
            <a:xfrm>
              <a:off x="8510760" y="39060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Овал 126"/>
          <p:cNvGrpSpPr/>
          <p:nvPr/>
        </p:nvGrpSpPr>
        <p:grpSpPr>
          <a:xfrm>
            <a:off x="7156440" y="1036800"/>
            <a:ext cx="542880" cy="547560"/>
            <a:chOff x="7156440" y="1036800"/>
            <a:chExt cx="542880" cy="547560"/>
          </a:xfrm>
        </p:grpSpPr>
        <p:pic>
          <p:nvPicPr>
            <p:cNvPr id="464" name="Овал 126" descr=""/>
            <p:cNvPicPr/>
            <p:nvPr/>
          </p:nvPicPr>
          <p:blipFill>
            <a:blip r:embed="rId10"/>
            <a:stretch/>
          </p:blipFill>
          <p:spPr>
            <a:xfrm>
              <a:off x="7156440" y="103680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Овал 127"/>
          <p:cNvGrpSpPr/>
          <p:nvPr/>
        </p:nvGrpSpPr>
        <p:grpSpPr>
          <a:xfrm>
            <a:off x="3651120" y="1749600"/>
            <a:ext cx="549360" cy="549000"/>
            <a:chOff x="3651120" y="1749600"/>
            <a:chExt cx="549360" cy="549000"/>
          </a:xfrm>
        </p:grpSpPr>
        <p:pic>
          <p:nvPicPr>
            <p:cNvPr id="467" name="Овал 127" descr=""/>
            <p:cNvPicPr/>
            <p:nvPr/>
          </p:nvPicPr>
          <p:blipFill>
            <a:blip r:embed="rId11"/>
            <a:stretch/>
          </p:blipFill>
          <p:spPr>
            <a:xfrm>
              <a:off x="3651120" y="1749600"/>
              <a:ext cx="54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WordArt 155"/>
          <p:cNvSpPr txBox="1"/>
          <p:nvPr/>
        </p:nvSpPr>
        <p:spPr>
          <a:xfrm>
            <a:off x="1476360" y="3141720"/>
            <a:ext cx="6624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 за  работу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  умнички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Impact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35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В</a:t>
            </a: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р</a:t>
            </a: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бьи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Скат</a:t>
            </a: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рть,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С</a:t>
            </a: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сульки,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С</a:t>
            </a: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л</a:t>
            </a: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вьи,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Об</a:t>
            </a: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ъ</a:t>
            </a: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езды.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900000" y="549360"/>
            <a:ext cx="748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Прямая соединительная линия 6"/>
          <p:cNvSpPr/>
          <p:nvPr/>
        </p:nvSpPr>
        <p:spPr>
          <a:xfrm flipH="1">
            <a:off x="2842920" y="1341360"/>
            <a:ext cx="144360" cy="3589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8"/>
          <p:cNvSpPr/>
          <p:nvPr/>
        </p:nvSpPr>
        <p:spPr>
          <a:xfrm flipH="1">
            <a:off x="1692000" y="2133720"/>
            <a:ext cx="144360" cy="3603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9"/>
          <p:cNvSpPr/>
          <p:nvPr/>
        </p:nvSpPr>
        <p:spPr>
          <a:xfrm flipH="1">
            <a:off x="1908000" y="2997360"/>
            <a:ext cx="144720" cy="3603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10"/>
          <p:cNvSpPr/>
          <p:nvPr/>
        </p:nvSpPr>
        <p:spPr>
          <a:xfrm flipH="1">
            <a:off x="2842920" y="3716280"/>
            <a:ext cx="144360" cy="3603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11"/>
          <p:cNvSpPr/>
          <p:nvPr/>
        </p:nvSpPr>
        <p:spPr>
          <a:xfrm flipH="1">
            <a:off x="1979280" y="4581360"/>
            <a:ext cx="142920" cy="3603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Тема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 u="sng">
                <a:solidFill>
                  <a:srgbClr val="00b0f0"/>
                </a:solidFill>
                <a:uFillTx/>
                <a:latin typeface="Impact"/>
              </a:rPr>
              <a:t>«Разделительные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 u="sng">
                <a:solidFill>
                  <a:srgbClr val="00b0f0"/>
                </a:solidFill>
                <a:uFillTx/>
                <a:latin typeface="Impact"/>
              </a:rPr>
              <a:t>ъ и ь знак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B402-9C42-4955-B621-F559517461C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A087-836C-4E76-8AFB-52D8670E36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8CB9-C125-4472-8FDD-0C1044344F1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FC62-03D0-4391-A2E9-AC2E09D8A4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838440" y="981000"/>
            <a:ext cx="237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руз*й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авая круглая скобка 8"/>
          <p:cNvSpPr/>
          <p:nvPr/>
        </p:nvSpPr>
        <p:spPr>
          <a:xfrm flipH="1">
            <a:off x="826200" y="907920"/>
            <a:ext cx="73080" cy="865440"/>
          </a:xfrm>
          <a:custGeom>
            <a:avLst/>
            <a:gdLst>
              <a:gd name="textAreaLeft" fmla="*/ 0 w 73080"/>
              <a:gd name="textAreaRight" fmla="*/ 51480 w 73080"/>
              <a:gd name="textAreaTop" fmla="*/ 2880 h 865440"/>
              <a:gd name="textAreaBottom" fmla="*/ 8625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6"/>
                  <a:pt x="21600" y="152"/>
                </a:cubicBezTo>
                <a:lnTo>
                  <a:pt x="21600" y="21448"/>
                </a:lnTo>
                <a:cubicBezTo>
                  <a:pt x="21600" y="21524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авая круглая скобка 9"/>
          <p:cNvSpPr/>
          <p:nvPr/>
        </p:nvSpPr>
        <p:spPr>
          <a:xfrm>
            <a:off x="3203640" y="907920"/>
            <a:ext cx="144360" cy="865440"/>
          </a:xfrm>
          <a:custGeom>
            <a:avLst/>
            <a:gdLst>
              <a:gd name="textAreaLeft" fmla="*/ 0 w 144360"/>
              <a:gd name="textAreaRight" fmla="*/ 101160 w 144360"/>
              <a:gd name="textAreaTop" fmla="*/ 5760 h 865440"/>
              <a:gd name="textAreaBottom" fmla="*/ 8596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1"/>
                  <a:pt x="21600" y="301"/>
                </a:cubicBezTo>
                <a:lnTo>
                  <a:pt x="21600" y="21299"/>
                </a:lnTo>
                <a:cubicBezTo>
                  <a:pt x="21600" y="2145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765360" y="2133720"/>
            <a:ext cx="155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йэ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авая круглая скобка 11"/>
          <p:cNvSpPr/>
          <p:nvPr/>
        </p:nvSpPr>
        <p:spPr>
          <a:xfrm>
            <a:off x="2340000" y="2205000"/>
            <a:ext cx="144360" cy="863640"/>
          </a:xfrm>
          <a:custGeom>
            <a:avLst/>
            <a:gdLst>
              <a:gd name="textAreaLeft" fmla="*/ 0 w 144360"/>
              <a:gd name="textAreaRight" fmla="*/ 101160 w 144360"/>
              <a:gd name="textAreaTop" fmla="*/ 5760 h 863640"/>
              <a:gd name="textAreaBottom" fmla="*/ 8578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1"/>
                  <a:pt x="21600" y="301"/>
                </a:cubicBezTo>
                <a:lnTo>
                  <a:pt x="21600" y="21299"/>
                </a:lnTo>
                <a:cubicBezTo>
                  <a:pt x="21600" y="2145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авая круглая скобка 12"/>
          <p:cNvSpPr/>
          <p:nvPr/>
        </p:nvSpPr>
        <p:spPr>
          <a:xfrm flipH="1">
            <a:off x="826200" y="2205000"/>
            <a:ext cx="73080" cy="863640"/>
          </a:xfrm>
          <a:custGeom>
            <a:avLst/>
            <a:gdLst>
              <a:gd name="textAreaLeft" fmla="*/ 0 w 73080"/>
              <a:gd name="textAreaRight" fmla="*/ 51480 w 73080"/>
              <a:gd name="textAreaTop" fmla="*/ 2880 h 863640"/>
              <a:gd name="textAreaBottom" fmla="*/ 8607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6"/>
                  <a:pt x="21600" y="152"/>
                </a:cubicBezTo>
                <a:lnTo>
                  <a:pt x="21600" y="21448"/>
                </a:lnTo>
                <a:cubicBezTo>
                  <a:pt x="21600" y="21524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903600" y="3500280"/>
            <a:ext cx="194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*йу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авая круглая скобка 14"/>
          <p:cNvSpPr/>
          <p:nvPr/>
        </p:nvSpPr>
        <p:spPr>
          <a:xfrm flipH="1">
            <a:off x="826200" y="3645000"/>
            <a:ext cx="73080" cy="863640"/>
          </a:xfrm>
          <a:custGeom>
            <a:avLst/>
            <a:gdLst>
              <a:gd name="textAreaLeft" fmla="*/ 0 w 73080"/>
              <a:gd name="textAreaRight" fmla="*/ 51480 w 73080"/>
              <a:gd name="textAreaTop" fmla="*/ 2880 h 863640"/>
              <a:gd name="textAreaBottom" fmla="*/ 8607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6"/>
                  <a:pt x="21600" y="152"/>
                </a:cubicBezTo>
                <a:lnTo>
                  <a:pt x="21600" y="21448"/>
                </a:lnTo>
                <a:cubicBezTo>
                  <a:pt x="21600" y="21524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авая круглая скобка 15"/>
          <p:cNvSpPr/>
          <p:nvPr/>
        </p:nvSpPr>
        <p:spPr>
          <a:xfrm>
            <a:off x="2771640" y="3645000"/>
            <a:ext cx="144720" cy="863640"/>
          </a:xfrm>
          <a:custGeom>
            <a:avLst/>
            <a:gdLst>
              <a:gd name="textAreaLeft" fmla="*/ 0 w 144720"/>
              <a:gd name="textAreaRight" fmla="*/ 101520 w 144720"/>
              <a:gd name="textAreaTop" fmla="*/ 5760 h 863640"/>
              <a:gd name="textAreaBottom" fmla="*/ 8578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1"/>
                  <a:pt x="21600" y="301"/>
                </a:cubicBezTo>
                <a:lnTo>
                  <a:pt x="21600" y="21299"/>
                </a:lnTo>
                <a:cubicBezTo>
                  <a:pt x="21600" y="2145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6"/>
          <p:cNvSpPr/>
          <p:nvPr/>
        </p:nvSpPr>
        <p:spPr>
          <a:xfrm>
            <a:off x="768240" y="4941720"/>
            <a:ext cx="196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бй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авая круглая скобка 17"/>
          <p:cNvSpPr/>
          <p:nvPr/>
        </p:nvSpPr>
        <p:spPr>
          <a:xfrm flipH="1">
            <a:off x="755640" y="4869000"/>
            <a:ext cx="71280" cy="863640"/>
          </a:xfrm>
          <a:custGeom>
            <a:avLst/>
            <a:gdLst>
              <a:gd name="textAreaLeft" fmla="*/ 360 w 71280"/>
              <a:gd name="textAreaRight" fmla="*/ 50400 w 71280"/>
              <a:gd name="textAreaTop" fmla="*/ 2880 h 863640"/>
              <a:gd name="textAreaBottom" fmla="*/ 8607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5"/>
                  <a:pt x="21600" y="149"/>
                </a:cubicBezTo>
                <a:lnTo>
                  <a:pt x="21600" y="21451"/>
                </a:lnTo>
                <a:cubicBezTo>
                  <a:pt x="21600" y="21526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авая круглая скобка 18"/>
          <p:cNvSpPr/>
          <p:nvPr/>
        </p:nvSpPr>
        <p:spPr>
          <a:xfrm>
            <a:off x="3203640" y="4869000"/>
            <a:ext cx="144360" cy="863640"/>
          </a:xfrm>
          <a:custGeom>
            <a:avLst/>
            <a:gdLst>
              <a:gd name="textAreaLeft" fmla="*/ 0 w 144360"/>
              <a:gd name="textAreaRight" fmla="*/ 101160 w 144360"/>
              <a:gd name="textAreaTop" fmla="*/ 5760 h 863640"/>
              <a:gd name="textAreaBottom" fmla="*/ 8578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1"/>
                  <a:pt x="21600" y="301"/>
                </a:cubicBezTo>
                <a:lnTo>
                  <a:pt x="21600" y="21299"/>
                </a:lnTo>
                <a:cubicBezTo>
                  <a:pt x="21600" y="2145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5660640" y="907920"/>
            <a:ext cx="210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руз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0"/>
          <p:cNvSpPr/>
          <p:nvPr/>
        </p:nvSpPr>
        <p:spPr>
          <a:xfrm>
            <a:off x="5805360" y="2205000"/>
            <a:ext cx="162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ъ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1"/>
          <p:cNvSpPr/>
          <p:nvPr/>
        </p:nvSpPr>
        <p:spPr>
          <a:xfrm>
            <a:off x="5727960" y="3357720"/>
            <a:ext cx="184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ью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2"/>
          <p:cNvSpPr/>
          <p:nvPr/>
        </p:nvSpPr>
        <p:spPr>
          <a:xfrm>
            <a:off x="5726880" y="4869000"/>
            <a:ext cx="200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бъ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b0f0"/>
                </a:solidFill>
                <a:uFillTx/>
                <a:latin typeface="Impact"/>
              </a:rPr>
              <a:t>узнать правило написа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b0f0"/>
                </a:solidFill>
                <a:uFillTx/>
                <a:latin typeface="Impact"/>
              </a:rPr>
              <a:t>разделительных  ь и ъ  зна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E50E-9232-44B4-9674-642F9875462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F87C-A42A-49A0-AEC4-63796748E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09BC-491A-4ABD-9338-31236CED9DE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5410-3C89-4E71-99A9-30307D71AD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684360" y="2637000"/>
            <a:ext cx="1511280" cy="16556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Левая круглая скобка 6"/>
          <p:cNvSpPr/>
          <p:nvPr/>
        </p:nvSpPr>
        <p:spPr>
          <a:xfrm>
            <a:off x="2843280" y="2637000"/>
            <a:ext cx="433440" cy="1655640"/>
          </a:xfrm>
          <a:custGeom>
            <a:avLst/>
            <a:gdLst>
              <a:gd name="textAreaLeft" fmla="*/ 127440 w 433440"/>
              <a:gd name="textAreaRight" fmla="*/ 433800 w 433440"/>
              <a:gd name="textAreaTop" fmla="*/ 18000 h 1655640"/>
              <a:gd name="textAreaBottom" fmla="*/ 163764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6"/>
                  <a:pt x="0" y="471"/>
                </a:cubicBezTo>
                <a:lnTo>
                  <a:pt x="0" y="21129"/>
                </a:lnTo>
                <a:cubicBezTo>
                  <a:pt x="0" y="21365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авая круглая скобка 7"/>
          <p:cNvSpPr/>
          <p:nvPr/>
        </p:nvSpPr>
        <p:spPr>
          <a:xfrm>
            <a:off x="4643280" y="2565360"/>
            <a:ext cx="433440" cy="1727280"/>
          </a:xfrm>
          <a:custGeom>
            <a:avLst/>
            <a:gdLst>
              <a:gd name="textAreaLeft" fmla="*/ 0 w 433440"/>
              <a:gd name="textAreaRight" fmla="*/ 304200 w 433440"/>
              <a:gd name="textAreaTop" fmla="*/ 18000 h 1727280"/>
              <a:gd name="textAreaBottom" fmla="*/ 1709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26"/>
                  <a:pt x="21600" y="452"/>
                </a:cubicBezTo>
                <a:lnTo>
                  <a:pt x="21600" y="21148"/>
                </a:lnTo>
                <a:cubicBezTo>
                  <a:pt x="21600" y="21374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Блок-схема: узел 8"/>
          <p:cNvSpPr/>
          <p:nvPr/>
        </p:nvSpPr>
        <p:spPr>
          <a:xfrm>
            <a:off x="5796000" y="2637000"/>
            <a:ext cx="1728720" cy="16556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9"/>
          <p:cNvSpPr/>
          <p:nvPr/>
        </p:nvSpPr>
        <p:spPr>
          <a:xfrm>
            <a:off x="3492360" y="2708280"/>
            <a:ext cx="101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473400" y="0"/>
            <a:ext cx="842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1852200" y="692280"/>
            <a:ext cx="606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(чаще в конце слов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8105040" y="1628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3"/>
          <p:cNvSpPr/>
          <p:nvPr/>
        </p:nvSpPr>
        <p:spPr>
          <a:xfrm>
            <a:off x="8103960" y="2852640"/>
            <a:ext cx="51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4"/>
          <p:cNvSpPr/>
          <p:nvPr/>
        </p:nvSpPr>
        <p:spPr>
          <a:xfrm>
            <a:off x="8105040" y="2276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5"/>
          <p:cNvSpPr/>
          <p:nvPr/>
        </p:nvSpPr>
        <p:spPr>
          <a:xfrm>
            <a:off x="8031960" y="342900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6"/>
          <p:cNvSpPr/>
          <p:nvPr/>
        </p:nvSpPr>
        <p:spPr>
          <a:xfrm>
            <a:off x="8105040" y="4076640"/>
            <a:ext cx="52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A431-7F6B-420F-B0FE-82E5AD1D8E6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7FE8-8BDA-4485-B7B8-6AF1927228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84360" y="3213000"/>
            <a:ext cx="1511280" cy="165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Левая круглая скобка 6"/>
          <p:cNvSpPr/>
          <p:nvPr/>
        </p:nvSpPr>
        <p:spPr>
          <a:xfrm>
            <a:off x="3132000" y="3213000"/>
            <a:ext cx="433440" cy="1656000"/>
          </a:xfrm>
          <a:custGeom>
            <a:avLst/>
            <a:gdLst>
              <a:gd name="textAreaLeft" fmla="*/ 127440 w 433440"/>
              <a:gd name="textAreaRight" fmla="*/ 433800 w 433440"/>
              <a:gd name="textAreaTop" fmla="*/ 18000 h 1656000"/>
              <a:gd name="textAreaBottom" fmla="*/ 16380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6"/>
                  <a:pt x="0" y="471"/>
                </a:cubicBezTo>
                <a:lnTo>
                  <a:pt x="0" y="21129"/>
                </a:lnTo>
                <a:cubicBezTo>
                  <a:pt x="0" y="21365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авая круглая скобка 7"/>
          <p:cNvSpPr/>
          <p:nvPr/>
        </p:nvSpPr>
        <p:spPr>
          <a:xfrm>
            <a:off x="4859280" y="3141720"/>
            <a:ext cx="433440" cy="1727280"/>
          </a:xfrm>
          <a:custGeom>
            <a:avLst/>
            <a:gdLst>
              <a:gd name="textAreaLeft" fmla="*/ 0 w 433440"/>
              <a:gd name="textAreaRight" fmla="*/ 304200 w 433440"/>
              <a:gd name="textAreaTop" fmla="*/ 18000 h 1727280"/>
              <a:gd name="textAreaBottom" fmla="*/ 1709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26"/>
                  <a:pt x="21600" y="452"/>
                </a:cubicBezTo>
                <a:lnTo>
                  <a:pt x="21600" y="21148"/>
                </a:lnTo>
                <a:cubicBezTo>
                  <a:pt x="21600" y="21374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Блок-схема: узел 8"/>
          <p:cNvSpPr/>
          <p:nvPr/>
        </p:nvSpPr>
        <p:spPr>
          <a:xfrm>
            <a:off x="5724360" y="3213000"/>
            <a:ext cx="1729080" cy="1656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3780000" y="3213000"/>
            <a:ext cx="101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2"/>
          <p:cNvSpPr/>
          <p:nvPr/>
        </p:nvSpPr>
        <p:spPr>
          <a:xfrm>
            <a:off x="473760" y="0"/>
            <a:ext cx="974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ъ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1697760" y="692280"/>
            <a:ext cx="482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(в начале слов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0"/>
          <p:cNvSpPr/>
          <p:nvPr/>
        </p:nvSpPr>
        <p:spPr>
          <a:xfrm>
            <a:off x="1778400" y="1413000"/>
            <a:ext cx="48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осле приста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8321040" y="2565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8321040" y="3213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8247960" y="371628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5"/>
          <p:cNvSpPr/>
          <p:nvPr/>
        </p:nvSpPr>
        <p:spPr>
          <a:xfrm>
            <a:off x="8319960" y="4365720"/>
            <a:ext cx="51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инус 18"/>
          <p:cNvSpPr/>
          <p:nvPr/>
        </p:nvSpPr>
        <p:spPr>
          <a:xfrm>
            <a:off x="0" y="2349360"/>
            <a:ext cx="2771640" cy="914400"/>
          </a:xfrm>
          <a:custGeom>
            <a:avLst/>
            <a:gdLst>
              <a:gd name="textAreaLeft" fmla="*/ 367200 w 2771640"/>
              <a:gd name="textAreaRight" fmla="*/ 2404440 w 2771640"/>
              <a:gd name="textAreaTop" fmla="*/ 349560 h 914400"/>
              <a:gd name="textAreaBottom" fmla="*/ 564840 h 914400"/>
            </a:gdLst>
            <a:ahLst/>
            <a:rect l="textAreaLeft" t="textAreaTop" r="textAreaRight" b="textAreaBottom"/>
            <a:pathLst>
              <a:path w="2771775" h="914400">
                <a:moveTo>
                  <a:pt x="367399" y="349667"/>
                </a:moveTo>
                <a:lnTo>
                  <a:pt x="2404376" y="349667"/>
                </a:lnTo>
                <a:lnTo>
                  <a:pt x="2404376" y="564733"/>
                </a:lnTo>
                <a:lnTo>
                  <a:pt x="367399" y="5647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инус 19"/>
          <p:cNvSpPr/>
          <p:nvPr/>
        </p:nvSpPr>
        <p:spPr>
          <a:xfrm rot="5400000">
            <a:off x="1932480" y="2683440"/>
            <a:ext cx="1150920" cy="914400"/>
          </a:xfrm>
          <a:custGeom>
            <a:avLst/>
            <a:gdLst>
              <a:gd name="textAreaLeft" fmla="*/ 152280 w 1150920"/>
              <a:gd name="textAreaRight" fmla="*/ 998640 w 1150920"/>
              <a:gd name="textAreaTop" fmla="*/ 349560 h 914400"/>
              <a:gd name="textAreaBottom" fmla="*/ 564840 h 914400"/>
            </a:gdLst>
            <a:ahLst/>
            <a:rect l="textAreaLeft" t="textAreaTop" r="textAreaRight" b="textAreaBottom"/>
            <a:pathLst>
              <a:path w="1150938" h="914400">
                <a:moveTo>
                  <a:pt x="152557" y="349667"/>
                </a:moveTo>
                <a:lnTo>
                  <a:pt x="998381" y="349667"/>
                </a:lnTo>
                <a:lnTo>
                  <a:pt x="998381" y="564733"/>
                </a:lnTo>
                <a:lnTo>
                  <a:pt x="152557" y="5647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j0343353"/>
          <p:cNvPicPr/>
          <p:nvPr/>
        </p:nvPicPr>
        <p:blipFill>
          <a:blip r:embed="rId1"/>
          <a:stretch/>
        </p:blipFill>
        <p:spPr>
          <a:xfrm>
            <a:off x="6248520" y="4076640"/>
            <a:ext cx="2895480" cy="2781360"/>
          </a:xfrm>
          <a:prstGeom prst="rect">
            <a:avLst/>
          </a:prstGeom>
          <a:ln w="0">
            <a:noFill/>
          </a:ln>
        </p:spPr>
      </p:pic>
      <p:sp>
        <p:nvSpPr>
          <p:cNvPr id="264" name="WordArt 6"/>
          <p:cNvSpPr txBox="1"/>
          <p:nvPr/>
        </p:nvSpPr>
        <p:spPr>
          <a:xfrm>
            <a:off x="971640" y="620640"/>
            <a:ext cx="61927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з...я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ение нас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...единяет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9:23:25Z</dcterms:created>
  <dc:creator>1</dc:creator>
  <dc:description/>
  <dc:language>en-US</dc:language>
  <cp:lastModifiedBy>user</cp:lastModifiedBy>
  <dcterms:modified xsi:type="dcterms:W3CDTF">2012-11-13T17:28:52Z</dcterms:modified>
  <cp:revision>108</cp:revision>
  <dc:subject/>
  <dc:title>Слайд 1</dc:title>
</cp:coreProperties>
</file>