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jpeg" ContentType="image/jpeg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12.gif" ContentType="image/gif"/>
  <Override PartName="/ppt/media/image24.jpeg" ContentType="image/jpeg"/>
  <Override PartName="/ppt/media/image7.gif" ContentType="image/gif"/>
  <Override PartName="/ppt/media/image26.jpeg" ContentType="image/jpeg"/>
  <Override PartName="/ppt/media/applause.wav" ContentType="audio/x-wav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3.jpeg" ContentType="image/jpeg"/>
  <Override PartName="/ppt/media/image19.gif" ContentType="image/gif"/>
  <Override PartName="/ppt/media/image20.gif" ContentType="image/gif"/>
  <Override PartName="/ppt/media/image18.gif" ContentType="image/gif"/>
  <Override PartName="/ppt/media/image21.jpeg" ContentType="image/jpeg"/>
  <Override PartName="/ppt/media/image17.gif" ContentType="image/gif"/>
  <Override PartName="/ppt/media/image3.png" ContentType="image/png"/>
  <Override PartName="/ppt/media/image15.gif" ContentType="image/gif"/>
  <Override PartName="/ppt/media/image14.gif" ContentType="image/gif"/>
  <Override PartName="/ppt/media/image16.jpeg" ContentType="image/jpeg"/>
  <Override PartName="/ppt/media/image13.gif" ContentType="image/gif"/>
  <Override PartName="/ppt/media/image25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D79-6C55-4A20-A566-4DF0B93D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D00-1C62-43FE-9A8B-929099D9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20B-0C89-476F-9172-B54A5E4E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7D58-3742-4A18-AAE0-798D16BB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8869-6301-477C-BD1E-1AF11EC5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BB45-7324-413D-91C9-B3FD564B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8E77-E733-4C1C-89F2-4C5B6116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88CC-B8EE-4B0A-86FB-F7366E00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57B5-F87E-46A8-9367-46A0B301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0AA5-F11B-4BBB-AFE5-6D952B5F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C74E-7329-497A-9585-B921BBA7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746-E51C-45E8-87D3-DE492D41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E231-DA19-4828-B5AE-4C7473A9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EAFD-AC8F-4F40-BF98-FF7E4C80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A63A-ACFF-4A8E-9CE1-A79DFDF7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425E-5506-419C-B9E7-5A44035E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BED0-24E6-4E27-8DE0-40171E3C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F641-F17D-473F-8894-61806BB6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F6E37-4970-47E9-9C1D-E0B6E1F1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EF8A8-C02C-4554-97E2-294BD93B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57A78-458D-41E8-B9F2-AB887C33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028C-A2FB-42B0-B44F-2875DBD8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273-8DE1-4A72-9CE5-BDD84526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A80E-C2EC-4AEF-9378-4C92C644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1DCA-7D4A-4DA5-A7CD-26537630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90654-7FAB-4234-A406-6820BE72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5353-C114-4472-A05D-1AF61C2A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79AEF-09D0-495E-AEA7-021EDBF9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D611-A9BD-451D-AF5C-F046CC62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EB337-71A5-4FFE-AF6F-800C4826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DC0D4-B5D3-47CC-99F7-BBAAAB66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CA4A0-B48C-4574-A251-489CFCBF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4974A-7A39-46AF-961A-089D827B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BCC-3306-490B-88CE-6D7A2FCB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15D0B-E5A7-4F50-B323-78799D25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0B23C-35EF-48C3-B3D4-5F730D82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7C2F1-0076-49D1-8504-9B8C5D3C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31A28-5BD1-46B2-A413-0DC8BEEC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5BE0D-2617-47B3-89B7-E657B8D0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B6AF2-BD4E-4F87-8706-1EF9E784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961EE-6F5B-4E89-A34A-CA96B548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C3B0-69BE-4A6F-8549-171CD308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189ED-0D10-40AE-BECD-662822D2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1B68C-7131-41C9-8D7E-5870D6D4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8DE-1826-4E35-A0E2-623FBCEB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5A2CF-EF2F-4C40-97BD-A6BE39F3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27429-2F59-48EE-B204-DD437866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9FCCC-3AB0-4372-AB68-87E9BEFD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D4685-E44D-4A1D-B01D-6FEBB0F5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D0EC6-EF50-4663-B518-C58758D7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4CB12-2443-4E3F-B62F-95BB6F28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E6B95-BC96-4413-B780-94C673A1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1B708-CB4C-400F-8FF5-83ACF2E0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FAAD7-A31B-47B4-95F2-8CBF238B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D43D4-0F1C-4EDC-AF47-5DF6D3DC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FAB-064E-451B-8FFE-D078D0E7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09E93-F8D1-4A12-AEAA-D1A90345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61C-B7F4-4E97-B070-DB16D44D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A5F-CB2A-4BD2-BA03-9EDEFEF1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566-1A09-4A2F-BEA9-59562883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Times New Roman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5A71-03D2-4EEA-8619-F285D9A4E71A}" type="slidenum">
              <a:rPr b="0" lang="ru-RU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62"/>
            </a:gs>
            <a:gs pos="100000">
              <a:srgbClr val="ecd8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7"/>
          <p:cNvGrpSpPr/>
          <p:nvPr/>
        </p:nvGrpSpPr>
        <p:grpSpPr>
          <a:xfrm>
            <a:off x="609480" y="457200"/>
            <a:ext cx="7918560" cy="6029280"/>
            <a:chOff x="609480" y="457200"/>
            <a:chExt cx="7918560" cy="6029280"/>
          </a:xfrm>
        </p:grpSpPr>
        <p:pic>
          <p:nvPicPr>
            <p:cNvPr id="4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09480" y="457200"/>
              <a:ext cx="7918560" cy="60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Times New Roman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2919-4817-4B48-AED0-BED807C55793}" type="slidenum">
              <a:rPr b="0" lang="ru-RU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Times New Roman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19BA-CF28-4E30-8D84-533E30FC25E8}" type="slidenum">
              <a:rPr b="0" lang="ru-RU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13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3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Times New Roman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ABC1-BE0A-4AC7-A3C2-0EBD0A006AA5}" type="slidenum">
              <a:rPr b="0" lang="ru-RU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17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3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Times New Roman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77FB-04C0-4B90-8E68-63EF1ED77030}" type="slidenum">
              <a:rPr b="0" lang="ru-RU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8marta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952880" y="380880"/>
            <a:ext cx="38862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Мамочка моя, почему ты такая добрая и готовишь вкусную ед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Ты у меня самая красивая и хорош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Я очень  тебя люблю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Абдуллаев 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f1 (106)"/>
          <p:cNvPicPr/>
          <p:nvPr/>
        </p:nvPicPr>
        <p:blipFill>
          <a:blip r:embed="rId1"/>
          <a:stretch/>
        </p:blipFill>
        <p:spPr>
          <a:xfrm>
            <a:off x="533520" y="4038480"/>
            <a:ext cx="327636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4114800" y="304920"/>
            <a:ext cx="47242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43d1f"/>
                </a:solidFill>
                <a:latin typeface="Arial"/>
              </a:rPr>
              <a:t>Мою маму зовут Оля. Она у  меня домохозяйка, ухаживает за детьми. Мамочка вкусно готовит и  такая красивая. Делает со мной уроки. Я люблю свою ма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43d1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43d1f"/>
                </a:solidFill>
                <a:latin typeface="Arial"/>
              </a:rPr>
              <a:t>Гусев 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f1 (120)"/>
          <p:cNvPicPr/>
          <p:nvPr/>
        </p:nvPicPr>
        <p:blipFill>
          <a:blip r:embed="rId1"/>
          <a:stretch/>
        </p:blipFill>
        <p:spPr>
          <a:xfrm>
            <a:off x="1371600" y="175248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733920" y="990720"/>
            <a:ext cx="510516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Моя мамочка очень умная, добрая ,любит сидеть на диване и играть в планшет. Такую «ферму « построила!  Мама готовит лучше всех! Она самая красивая и самая лучшая на све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7d00"/>
                </a:solidFill>
                <a:latin typeface="Arial"/>
              </a:rPr>
              <a:t>Гейдаров Сади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f1 (109)"/>
          <p:cNvPicPr/>
          <p:nvPr/>
        </p:nvPicPr>
        <p:blipFill>
          <a:blip r:embed="rId1"/>
          <a:stretch/>
        </p:blipFill>
        <p:spPr>
          <a:xfrm>
            <a:off x="228600" y="4191120"/>
            <a:ext cx="3424320" cy="23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4572000" y="914400"/>
            <a:ext cx="42670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Моя мама  - Ольга. Она красивая, добрая. Мамочка любит цветы.  Мама, не болей и всегда будь радостн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7d00"/>
                </a:solidFill>
                <a:latin typeface="Arial"/>
              </a:rPr>
              <a:t>Крахотин Вад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" descr="f1 (20)"/>
          <p:cNvPicPr/>
          <p:nvPr/>
        </p:nvPicPr>
        <p:blipFill>
          <a:blip r:embed="rId1"/>
          <a:stretch/>
        </p:blipFill>
        <p:spPr>
          <a:xfrm>
            <a:off x="228600" y="3962520"/>
            <a:ext cx="42670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4572000" y="358920"/>
            <a:ext cx="426708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43d1f"/>
                </a:solidFill>
                <a:latin typeface="Arial"/>
              </a:rPr>
              <a:t>Мы с мамой ходим в аквапарк . Она у меня самая красивая и любит растения сажать. Я люблю мою маму, силь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Чебряев Рус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 rot="20281800">
            <a:off x="837720" y="2779560"/>
            <a:ext cx="3426120" cy="342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4038480" y="304920"/>
            <a:ext cx="48006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43d1f"/>
                </a:solidFill>
                <a:latin typeface="Arial"/>
              </a:rPr>
              <a:t>Моя мама – Ольга. Она очень красива, любит играть в карты и такая умная, хорошая. Я ее так любл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43d1f"/>
                </a:solidFill>
                <a:latin typeface="Arial"/>
              </a:rPr>
              <a:t>Кузнецова В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f1 (79)"/>
          <p:cNvPicPr/>
          <p:nvPr/>
        </p:nvPicPr>
        <p:blipFill>
          <a:blip r:embed="rId1"/>
          <a:stretch/>
        </p:blipFill>
        <p:spPr>
          <a:xfrm>
            <a:off x="0" y="4952880"/>
            <a:ext cx="40384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3733920" y="228600"/>
            <a:ext cx="48006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Моя мама  - лучшая мама.  Она хорошо готовит, вкусно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Мамочка много ест и любит цветы. Как я люблю свою мам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Гейдарова  Ш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f1 (68)"/>
          <p:cNvPicPr/>
          <p:nvPr/>
        </p:nvPicPr>
        <p:blipFill>
          <a:blip r:embed="rId1"/>
          <a:stretch/>
        </p:blipFill>
        <p:spPr>
          <a:xfrm rot="19725600">
            <a:off x="638280" y="2445840"/>
            <a:ext cx="300996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4419720" y="380880"/>
            <a:ext cx="44956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Моя мама любит кататься,  такая добрая, милая, всегда любез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Я сильно люблю свою ма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77d00"/>
                </a:solidFill>
                <a:latin typeface="Arial"/>
              </a:rPr>
              <a:t>Имашева Ам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f1 (73)"/>
          <p:cNvPicPr/>
          <p:nvPr/>
        </p:nvPicPr>
        <p:blipFill>
          <a:blip r:embed="rId1"/>
          <a:stretch/>
        </p:blipFill>
        <p:spPr>
          <a:xfrm>
            <a:off x="685800" y="1066680"/>
            <a:ext cx="35053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3505320" y="0"/>
            <a:ext cx="51814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7d00"/>
                </a:solidFill>
                <a:latin typeface="Arial"/>
                <a:ea typeface="Verdana"/>
              </a:rPr>
              <a:t>Моя мама  - лучшая ма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7d00"/>
                </a:solidFill>
                <a:latin typeface="Arial"/>
                <a:ea typeface="Verdana"/>
              </a:rPr>
              <a:t>Я тебя люблю, желаю счастья. Мне нравится, когда мама готовит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7d00"/>
                </a:solidFill>
                <a:latin typeface="Arial"/>
                <a:ea typeface="Verdana"/>
              </a:rPr>
              <a:t>Она много   работает.  Хочу, чтобы маме было хорош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7d00"/>
                </a:solidFill>
                <a:latin typeface="Arial"/>
                <a:ea typeface="Verdana"/>
              </a:rPr>
              <a:t>Шестерин Г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f1 (47)"/>
          <p:cNvPicPr/>
          <p:nvPr/>
        </p:nvPicPr>
        <p:blipFill>
          <a:blip r:embed="rId1"/>
          <a:stretch/>
        </p:blipFill>
        <p:spPr>
          <a:xfrm>
            <a:off x="0" y="3429000"/>
            <a:ext cx="31240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224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pic>
        <p:nvPicPr>
          <p:cNvPr id="256" name="Объект 4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4038480" cy="3031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7d00"/>
                </a:solidFill>
                <a:latin typeface="Times New Roman"/>
              </a:rPr>
              <a:t>Мою мамочку зовут Ефросиния. Она самая красивая и отлично готовит. Я хочу ей подарить красивых, красивых ангелов. Я так люблю свою маму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7d00"/>
                </a:solidFill>
                <a:latin typeface="Times New Roman"/>
              </a:rPr>
              <a:t>Рэилеан  Кристи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228600" y="0"/>
            <a:ext cx="891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f1 (163)"/>
          <p:cNvPicPr/>
          <p:nvPr/>
        </p:nvPicPr>
        <p:blipFill>
          <a:blip r:embed="rId1"/>
          <a:stretch/>
        </p:blipFill>
        <p:spPr>
          <a:xfrm>
            <a:off x="6324480" y="4876920"/>
            <a:ext cx="2819520" cy="1676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5"/>
          <p:cNvSpPr/>
          <p:nvPr/>
        </p:nvSpPr>
        <p:spPr>
          <a:xfrm>
            <a:off x="533520" y="380880"/>
            <a:ext cx="78483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Verdana"/>
              </a:rPr>
              <a:t>«Самое прекрасное слово на Земле – мама. Это первое слово, которое произносит человек, и звучит оно на всех языках одинаково нежно. У мамы самые добрые и ласковые руки, они все умеют. У мамы самое верное и чуткое сердце – в нем никогда не гаснет любовь, оно ни к чему не останется равнодушным. И сколько бы ни было тебе лет, тебе всегда нужна мать, её ласка, её взгляд. И чем больше твоя любовь к матери, тем радостнее и светлее жизнь».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pic>
        <p:nvPicPr>
          <p:cNvPr id="259" name="Объект 4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3398760" cy="3033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marL="182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7d00"/>
                </a:solidFill>
                <a:latin typeface="Times New Roman"/>
              </a:rPr>
              <a:t>Мою мамочку зовут Света. Она добрая, красивая  и любимая. Любит животных и цветы, но боится зм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7d00"/>
                </a:solidFill>
                <a:latin typeface="Times New Roman"/>
              </a:rPr>
              <a:t>Мама очень любит лето. Желаю ей не болеть. Я сильно люблю мам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7d00"/>
                </a:solidFill>
                <a:latin typeface="Times New Roman"/>
              </a:rPr>
              <a:t>Галкина В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pic>
        <p:nvPicPr>
          <p:cNvPr id="262" name="Объект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043520" cy="30337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7d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77d00"/>
                </a:solidFill>
                <a:latin typeface="Times New Roman"/>
              </a:rPr>
              <a:t>Мою маму зовут Жукова Яна. Очень она любит смотреть телевизор, но больше всего любит играть в планшет. Очень хочу пожелать маме хорошей работы, легкой. Люблю мам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7d00"/>
                </a:solidFill>
                <a:latin typeface="Times New Roman"/>
              </a:rPr>
              <a:t>Старов Ник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pic>
        <p:nvPicPr>
          <p:cNvPr id="265" name="Объект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368600" cy="3276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648320" y="304560"/>
            <a:ext cx="4038480" cy="655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7d00"/>
                </a:solidFill>
                <a:latin typeface="Times New Roman"/>
              </a:rPr>
              <a:t>Мою маму зовут Светлана. . Она очень любит убирать квартиру. Мама много работает по дому, но, несмотря на это ,она находит время, чтобы побыть со мной. Мы вкусно готовим вместе. Мамочка, пожалуйста, будь здоровой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7d00"/>
                </a:solidFill>
                <a:latin typeface="Times New Roman"/>
              </a:rPr>
              <a:t>Бычкова Кс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7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2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pic>
        <p:nvPicPr>
          <p:cNvPr id="268" name="Объект 4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4449960" cy="3338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800240" y="1371240"/>
            <a:ext cx="3886200" cy="4754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Times New Roman"/>
              </a:rPr>
              <a:t>Мою маму зовут Света. Она добрая и очень хорошая, готовит вкусные бутербр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Times New Roman"/>
              </a:rPr>
              <a:t>Я люблю свою маму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c43d1f"/>
                </a:solidFill>
                <a:latin typeface="Times New Roman"/>
              </a:rPr>
              <a:t>Саша Э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pic>
        <p:nvPicPr>
          <p:cNvPr id="271" name="Объект 4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4246560" cy="3186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Times New Roman"/>
              </a:rPr>
              <a:t>Я люблю свою маму Шарбан. Она вкусно готовит, любит смотреть телевизор и ласково относится к своим дет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Times New Roman"/>
              </a:rPr>
              <a:t>Она лучшая у мен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4320">
              <a:lnSpc>
                <a:spcPct val="100000"/>
              </a:lnSpc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4320">
              <a:lnSpc>
                <a:spcPct val="100000"/>
              </a:lnSpc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Times New Roman"/>
              </a:rPr>
              <a:t>Рахманова Ас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2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2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2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pic>
        <p:nvPicPr>
          <p:cNvPr id="274" name="Объект 4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3795840" cy="37958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495680" y="1447560"/>
            <a:ext cx="4191120" cy="467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18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42469"/>
                </a:solidFill>
                <a:latin typeface="Times New Roman"/>
              </a:rPr>
              <a:t>Наши  мамы – самые лучшие мамочки на свете!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8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42469"/>
                </a:solidFill>
                <a:latin typeface="Times New Roman"/>
              </a:rPr>
              <a:t>И это проверено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8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8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42469"/>
                </a:solidFill>
                <a:latin typeface="Times New Roman"/>
              </a:rPr>
              <a:t>       </a:t>
            </a:r>
            <a:r>
              <a:rPr b="1" i="1" lang="ru-RU" sz="3600" spc="-1" strike="noStrike">
                <a:solidFill>
                  <a:srgbClr val="b42469"/>
                </a:solidFill>
                <a:latin typeface="Times New Roman"/>
              </a:rPr>
              <a:t>Дети из 1 «Б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4724280" y="304920"/>
            <a:ext cx="4114800" cy="71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У меня есть моя любимая  мама. Её зовут Та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Она ласковая,  красивая.  Мама любит читать и меня очень любит, когда я сплю, она меня цел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Я очень люблю свою маму и желаю ей счасть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Сидоренко И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f1 (139)"/>
          <p:cNvPicPr/>
          <p:nvPr/>
        </p:nvPicPr>
        <p:blipFill>
          <a:blip r:embed="rId1"/>
          <a:stretch/>
        </p:blipFill>
        <p:spPr>
          <a:xfrm>
            <a:off x="228600" y="762120"/>
            <a:ext cx="4343400" cy="41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8"/>
          <p:cNvSpPr/>
          <p:nvPr/>
        </p:nvSpPr>
        <p:spPr>
          <a:xfrm>
            <a:off x="4267080" y="6094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Моя самая любимая – мама. Она самая лучшая на свете! Самая хорош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Володин 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f1 (24)"/>
          <p:cNvPicPr/>
          <p:nvPr/>
        </p:nvPicPr>
        <p:blipFill>
          <a:blip r:embed="rId1"/>
          <a:stretch/>
        </p:blipFill>
        <p:spPr>
          <a:xfrm>
            <a:off x="304920" y="4419720"/>
            <a:ext cx="38862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6"/>
          <p:cNvSpPr/>
          <p:nvPr/>
        </p:nvSpPr>
        <p:spPr>
          <a:xfrm>
            <a:off x="4114800" y="838080"/>
            <a:ext cx="45720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Мою маму зовут Женя. Маме нравится играть на компьютере и на планшете. Мама любит, когда я получаю 5 и 4. Даже 5 с «плюсом» и 4 с «плюсом»! Это ее любимые цифр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Клёпова Веро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1" descr=""/>
          <p:cNvPicPr/>
          <p:nvPr/>
        </p:nvPicPr>
        <p:blipFill>
          <a:blip r:embed="rId1"/>
          <a:stretch/>
        </p:blipFill>
        <p:spPr>
          <a:xfrm>
            <a:off x="738360" y="37339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5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4438800" y="457200"/>
            <a:ext cx="4705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Мою маму зовут Оля.  Она любит сидеть за компьютером, всегда увлекает ме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каким-нибудь интересным делом.  Мамочка любит меня фотографировать , мы с ней  много гуляем.  Хочу, чтобы моя мамочка никогда не болел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Вьюгин Г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f1 (131)"/>
          <p:cNvPicPr/>
          <p:nvPr/>
        </p:nvPicPr>
        <p:blipFill>
          <a:blip r:embed="rId1"/>
          <a:stretch/>
        </p:blipFill>
        <p:spPr>
          <a:xfrm>
            <a:off x="304920" y="1676520"/>
            <a:ext cx="4133880" cy="29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1"/>
          <p:cNvSpPr/>
          <p:nvPr/>
        </p:nvSpPr>
        <p:spPr>
          <a:xfrm>
            <a:off x="4000680" y="0"/>
            <a:ext cx="47624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43d1f"/>
                </a:solidFill>
                <a:latin typeface="Arial"/>
              </a:rPr>
              <a:t>Самая любимая у меня – это моя мама! Она любит цветы и смотреть на  морские волны, заботится обо мне. Мама всегда вкусно готов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43d1f"/>
                </a:solidFill>
                <a:latin typeface="Arial"/>
              </a:rPr>
              <a:t>очень-очень меня люб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43d1f"/>
                </a:solidFill>
                <a:latin typeface="Arial"/>
              </a:rPr>
              <a:t>Набатчикова На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6" descr="f1 (147)"/>
          <p:cNvPicPr/>
          <p:nvPr/>
        </p:nvPicPr>
        <p:blipFill>
          <a:blip r:embed="rId1"/>
          <a:stretch/>
        </p:blipFill>
        <p:spPr>
          <a:xfrm>
            <a:off x="490680" y="762120"/>
            <a:ext cx="3510000" cy="51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5"/>
          <p:cNvSpPr/>
          <p:nvPr/>
        </p:nvSpPr>
        <p:spPr>
          <a:xfrm>
            <a:off x="4495680" y="762120"/>
            <a:ext cx="4191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Я очень люблю свою маму за то, что она есть. Она очень добрая, красивая, умная, очень вкусно готовит.  Мама любит кататься. А пожелать хочу здоровья. Пусть  мама будет всегда  у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3d1f"/>
                </a:solidFill>
                <a:latin typeface="Arial"/>
              </a:rPr>
              <a:t>Манол  Д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2" descr="f1 (20)"/>
          <p:cNvPicPr/>
          <p:nvPr/>
        </p:nvPicPr>
        <p:blipFill>
          <a:blip r:embed="rId1"/>
          <a:stretch/>
        </p:blipFill>
        <p:spPr>
          <a:xfrm>
            <a:off x="228600" y="4419720"/>
            <a:ext cx="42670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4952880" y="685800"/>
            <a:ext cx="3886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267080" y="228600"/>
            <a:ext cx="45720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43d1f"/>
                </a:solidFill>
                <a:latin typeface="Arial"/>
              </a:rPr>
              <a:t>Мою мамочку зовут Ирина. Она добрая. У нее красивые кучерявые волосы и большие карие глаза. Она любит фильмы смотреть и ходить со мной гулять. Я думаю моя мама лучше вс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43d1f"/>
                </a:solidFill>
                <a:latin typeface="Arial"/>
              </a:rPr>
              <a:t>Цечоев Ас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f1 (140)"/>
          <p:cNvPicPr/>
          <p:nvPr/>
        </p:nvPicPr>
        <p:blipFill>
          <a:blip r:embed="rId1"/>
          <a:stretch/>
        </p:blipFill>
        <p:spPr>
          <a:xfrm>
            <a:off x="457200" y="4519440"/>
            <a:ext cx="4057560" cy="23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тюша</dc:creator>
  <dc:description/>
  <dc:language>en-US</dc:language>
  <cp:lastModifiedBy>USER</cp:lastModifiedBy>
  <dcterms:modified xsi:type="dcterms:W3CDTF">2014-03-01T16:19:35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