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205-7BC0-448A-B03E-26C9CECD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5C1E-10D9-4985-91E4-EBB45CFF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283-B09D-4F19-916E-8B6415BC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DECE-D369-4449-A20D-F5E301F48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2F21-600D-46B7-AA5F-CC56A069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D42B-C879-4829-BF02-2436A16A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4F65-9528-4B47-B34F-B797AB11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E74E-67DA-40C9-B529-4D15050C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EDB6-4FC5-4D9E-B6CB-5F7206E1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E36E-1F9C-4816-AC66-3A579946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2E04-D6FC-445C-9C31-6AF96488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014D-57B1-419E-AA45-8E3BAD49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B548-929F-4731-9F05-B04AA648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E129-5858-45CF-BBEC-F3DFB952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B7D9-7BB5-46C2-B6F3-BA7663DB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3E75-1E7E-47D0-9542-F82A93AC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4511-0E03-455C-9F2B-402430E2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91AC-C624-4BE6-84C1-D5259757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91D-F8A3-4CEB-A907-2509AEC2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3BA1-A07C-4794-9D82-DACC718B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BAD-B993-44EC-91EB-DEF0C334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F95-6E53-4BFA-B16B-232DCC74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B351-32A5-4990-885D-1958E144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ABB8-5345-4734-A63D-E5F3E5FD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6D0A-A604-4798-86E5-0B0C4F3AC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515D-2EAC-49EF-901D-E9444BA67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разцы задан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1916280"/>
            <a:ext cx="8351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 комплексной работе представлены образцы зад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ля оценки освоения програм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чального образования по математике, русскому языку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тению, окружающему миру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вой вариант зада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40360" y="549000"/>
            <a:ext cx="45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тя и Маша решили взвесить свои портфели и поставили их на напольные весы. Одно деление этих весов соответствует 1 кг. Чему равна масса портфелей девочек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вестно, что для сохранения правильной осанки в 4-5 классах масса портфеля ученика должна составлять не более 3 кг. Укладываются ли портфели девочек в эту норму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4176720" cy="2087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68360" y="1014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ам предложили найти в книге о животных сведения об утках. Но в книге нет предметного указателя и специального раздела об утках. В каких из перечисленных ниже разделах вы вероятнее всего найдете упоминание об утках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змножение пресмыкающихс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секомоядные птиц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итатели прудов и озе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ообщество луг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тицеводст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7559640"/>
            <a:ext cx="809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Задание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читайте предложенные слов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л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ир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ст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еревь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с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моро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устарн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пишите их в схему, так чтобы она отражала классификацию для растений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Растения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35480" y="3058560"/>
            <a:ext cx="7249680" cy="2763720"/>
            <a:chOff x="735480" y="3058560"/>
            <a:chExt cx="7249680" cy="2763720"/>
          </a:xfrm>
        </p:grpSpPr>
        <p:sp>
          <p:nvSpPr>
            <p:cNvPr id="134" name=""/>
            <p:cNvSpPr/>
            <p:nvPr/>
          </p:nvSpPr>
          <p:spPr>
            <a:xfrm>
              <a:off x="4286160" y="3058560"/>
              <a:ext cx="1263600" cy="56700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62240" y="4100040"/>
              <a:ext cx="1262160" cy="5644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59800" y="4032000"/>
              <a:ext cx="1262160" cy="5680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5480" y="5230800"/>
              <a:ext cx="1262520" cy="5914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03840" y="5230800"/>
              <a:ext cx="1262160" cy="56556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12160" y="5243400"/>
              <a:ext cx="1262160" cy="5410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23000" y="5150880"/>
              <a:ext cx="1262160" cy="5680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090600" y="3549240"/>
              <a:ext cx="997920" cy="52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82600" y="3548160"/>
              <a:ext cx="856080" cy="4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104480" y="4694400"/>
              <a:ext cx="1183680" cy="4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748600" y="4734360"/>
              <a:ext cx="104400" cy="44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841800" y="4641120"/>
              <a:ext cx="750240" cy="43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59240" y="4641120"/>
              <a:ext cx="920880" cy="47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7600" y="3112560"/>
              <a:ext cx="1072080" cy="4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растения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91640" y="5176800"/>
              <a:ext cx="1262160" cy="5680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868000" y="4668480"/>
              <a:ext cx="604800" cy="43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Задание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иже приведены фотографии птиц средней полосы России. Запишите под каждой фотографией название пти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201840" cy="2401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132000" y="2744640"/>
            <a:ext cx="3059280" cy="2293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79280" y="485928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6372360" y="4778280"/>
            <a:ext cx="2771640" cy="2079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Задание</a:t>
            </a:r>
            <a:br>
              <a:rPr sz="28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Прочитайте текст о ежах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3132000" cy="2390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176640" y="1409400"/>
            <a:ext cx="5967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ычный рацион ежей включает жуков, слизней, червей, гусениц и других насекомых. Однако при случае они не упустят лягушку, мышь, разоряют птичьи гнезда, свитые на земле. Осенью ежи готовятся к долгой зимовке. Они должны нагулять жирок и стать похожими по форме на грушу, иначе они не смогут перезимов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4617720"/>
            <a:ext cx="785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вое гнездо ежи могут устроить и в саду: в куче мусора, хвороста, штабеле дров. У моих знакомых семья ежиков жила в старой 50-литровой фляге, выброшенной в сад. Беременная ежиха с трудом протискивалась в узкое для нее горло лежащей фляги, но сменять жилище не жел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пишите два словосочетания, которые показывают, как ежи готовятся к зимней спячк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_________________________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__________________________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4:37:19Z</dcterms:created>
  <dc:creator>www.PHILka.RU</dc:creator>
  <dc:description/>
  <dc:language>en-US</dc:language>
  <cp:lastModifiedBy>лера</cp:lastModifiedBy>
  <dcterms:modified xsi:type="dcterms:W3CDTF">2013-10-26T15:40:02Z</dcterms:modified>
  <cp:revision>11</cp:revision>
  <dc:subject/>
  <dc:title>Портфолио выходного дня</dc:title>
</cp:coreProperties>
</file>