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55A78-3545-4924-BB76-E3F8742E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8790-AE34-4323-A990-E72F5965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E1DB-B860-4223-BE9E-FF29E854B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BB6C-5A08-47AF-ACE2-89D0050E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F656-AA74-437C-8819-252347BE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54A7-E3C6-40BA-9C1E-C9CDDCD1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6A8F-6D7F-4113-83BF-99CE75D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A901-2391-4D5C-8E87-EB48A310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31D4-21C2-46CF-8F95-F7605377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F0CC-B296-40BE-94FD-EE65C117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3084-8033-47F3-B277-C08403B4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AB3A-1E2A-48F1-83A6-825BCD9B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E362-FC61-4385-A484-A612E265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C332-0703-4E8A-93C0-B294FCDE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513D-E5C3-4BA2-9F40-C11852B8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6049-E71E-4E6C-ABF1-510CBCD9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1FC8-CF05-4AC4-8D7C-3BC44199A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E329-7CE2-47A3-85CF-526E26A2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03EB-3B5C-4D6D-A1CA-DD0E2824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3BE84-E9AC-4488-B336-6E5B6B0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5778-48B3-4841-A1ED-51615006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0137-24BE-4DD1-8603-65662F66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3FC4-4783-420D-B6D1-F337171F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2778-FDE2-478E-BFCC-41C9E5A4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3ED9-6EC3-4C1D-A069-C56C071DCF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3D6-E8E9-42D4-A0EA-5611F9184A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Образцы зад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0"/>
            <a:ext cx="75438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 комплексной работе представлены образцы заданий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для оценки освоения программы начального образования по математике, русскому языку и чтению, окружающему миру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дание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Сравните этих животных по указанным  признакам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090960" cy="4295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3514680" cy="37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Сравните этих животных по указанным  признакам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97180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1. К какому классу относятся? 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2. Как размножаются?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3. Как передвигаются?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4. Чем питают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дание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6217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Из перечня слов, обозначающих животных выберите сначала  тех, которые на ваш взгляд, являются хищниками. Запишите их  в левую колон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 правую же колонку подберите им возможных жертв из числа оставш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Животные: лиса, мышь, комар, олень, стрекоза, волк, рябчик, ёж, сова, ласточка, муха, ястре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3809880"/>
            <a:ext cx="79250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Хищник 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ер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52952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727920"/>
            <a:ext cx="782172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СИСТЕМА ЯЗЫКА. КОММУНИКАЦИЯ. ПОЗНАНИЕ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Слово и словообразование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Словарный зап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Пример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Напишите несколько сло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а) об арбузе _________________________________________________________________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_________________________________________________________________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) о слове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арбуз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____________________________________________________________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52340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352680"/>
            <a:ext cx="2336760" cy="2127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276720"/>
            <a:ext cx="2347920" cy="21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5040" y="150480"/>
            <a:ext cx="7875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ние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Аня закрасила треть круга, а Лена – половину круга. Кто закрасил бóльшую часть круга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рась эти части на приведенных ниже кругах и срав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26440" y="2087640"/>
            <a:ext cx="545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н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Ле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4280" y="5866200"/>
            <a:ext cx="64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Бóльшую часть круга закрасила _________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11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275760"/>
            <a:ext cx="7791480" cy="65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Зад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Что вы будете делать, если столкнетесь в лесу с гадюкой или ужо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1. Возьму в руки ужа и не буду приближаться к гадюк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2. Не буду тревожить змей, ведь они – часть приро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3. Ударю гадюку, ведь она ядовита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4. Попытаюсь аккуратно прогнать их с тропин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вой вариант зад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ра</cp:lastModifiedBy>
  <dcterms:modified xsi:type="dcterms:W3CDTF">2013-10-27T14:09:1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