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AECB-94BA-44F1-AA75-09A09FE5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1BE-1CCC-435F-9640-1C4BC80B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273-C500-4E2C-BF63-087DAE33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278-139D-46E3-A685-92523C47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4A9F6-6BC5-453C-B322-A801F43D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6AEA-DC50-465D-92A5-04F078F2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192A5-6557-4D93-AD54-B8A00F7F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A92B-658A-4E89-92C4-B12C81D1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9505-34BF-4F72-8C6E-24427DF5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7DC9-F86A-4BE6-9636-59523205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A594-9D61-4395-9E12-40300DC1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3F93-8C77-42D7-ABB9-2B87ED07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1A5E-F61E-4C44-A040-04A445ED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8CA5-66D1-479A-B406-18E7947F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B9B72-A984-4945-835A-9E058143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63C9-B7BF-4E10-8349-17CB3142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9D76-9793-43F0-A275-8BEC2D60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86D1-C061-48A6-AA5B-1F6A151D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79FF-78CC-4EF6-8ACA-836EFC01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AE0C-F9AE-4C62-90B6-4B06F9CC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7E4A-8C22-401C-A2CA-CADE7064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A80D-9C8B-4D93-AC68-B5DE6BFD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2529-AC28-4201-BE98-8299DF07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5541-1DDC-4D41-82D6-141B4751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7AB6-E9C6-495A-BE58-4C55C67237D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25C0-C68D-491C-9936-43879C48912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33520" y="15238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В комплексной работе представлены образцы заданий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для оценки освоения программы начального образования по математике, русскому языку и чтению, окружающему миру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вой вариант зад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295280" y="380160"/>
            <a:ext cx="57056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д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Запишите, к какому классу относится изображенное на картинке животное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54720" cy="4710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85800" y="761400"/>
            <a:ext cx="8072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еречислите внешние признаки, по которым вы отнесли животное к данному класс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_________________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_________________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_________________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57200" y="335160"/>
            <a:ext cx="8153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д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 схеме Солнечной системы планета Земля обозначена цифр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533600" y="2476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1533600" y="2476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1533600" y="2476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1533600" y="2476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5"/>
          <a:stretch/>
        </p:blipFill>
        <p:spPr>
          <a:xfrm>
            <a:off x="1533600" y="2476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6"/>
          <a:stretch/>
        </p:blipFill>
        <p:spPr>
          <a:xfrm>
            <a:off x="1533600" y="2476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7"/>
          <a:stretch/>
        </p:blipFill>
        <p:spPr>
          <a:xfrm>
            <a:off x="1533600" y="2476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8"/>
          <a:stretch/>
        </p:blipFill>
        <p:spPr>
          <a:xfrm>
            <a:off x="533520" y="1600200"/>
            <a:ext cx="7848360" cy="51055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822840" y="3379680"/>
            <a:ext cx="1141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52760" y="3537000"/>
            <a:ext cx="14112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066760" y="3394080"/>
            <a:ext cx="1414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09640" y="3571920"/>
            <a:ext cx="120600" cy="25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33600" y="2476440"/>
            <a:ext cx="309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954520" y="24764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954520" y="24764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954520" y="24764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54520" y="247644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533600" y="2476440"/>
            <a:ext cx="3098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7612200" y="2476440"/>
          <a:ext cx="541080" cy="942840"/>
        </p:xfrm>
        <a:graphic>
          <a:graphicData uri="http://schemas.openxmlformats.org/drawingml/2006/table">
            <a:tbl>
              <a:tblPr/>
              <a:tblGrid>
                <a:gridCol w="275760"/>
                <a:gridCol w="265320"/>
              </a:tblGrid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914400" algn="just">
                        <a:lnSpc>
                          <a:spcPct val="100000"/>
                        </a:lnSpc>
                        <a:tabLst>
                          <a:tab algn="l" pos="0"/>
                          <a:tab algn="l" pos="1371600"/>
                          <a:tab algn="l" pos="14860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762120" y="168120"/>
            <a:ext cx="746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К разделу: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«СИСТЕМА ЯЗЫКА. КОММУНИКАЦИЯ. ПОЗНАНИЕ: Слово и словообразование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Словарный запас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42160" cy="5132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379160" y="-88560"/>
            <a:ext cx="449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Пример. Запиши по пять слов в каждую группу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533600" y="217440"/>
          <a:ext cx="6076800" cy="6986520"/>
        </p:xfrm>
        <a:graphic>
          <a:graphicData uri="http://schemas.openxmlformats.org/drawingml/2006/table">
            <a:tbl>
              <a:tblPr/>
              <a:tblGrid>
                <a:gridCol w="1668240"/>
                <a:gridCol w="571680"/>
                <a:gridCol w="1600200"/>
                <a:gridCol w="457200"/>
                <a:gridCol w="177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) ПРОФЕСС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) ЯГ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) ГОРО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) ЦВЕ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) ДЕЙСТВ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) ВКУСОВЫЕ ОЩУЩ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28600" y="221040"/>
            <a:ext cx="8915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д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цени «на глаз» ширину окна в классе. Запиши полученные результаты. Проверь, на сколько  сантиметров ты ошибся в своей оцен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ценка «на глаз»_____________________________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чное измерение_________________________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87280" y="18000"/>
            <a:ext cx="8856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дание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(Задание выполняется в рамках фронтальной работ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цени возможность наступления следующих событий, используя для этого выражения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остоверное или очевидное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в одних и тех же условиях обязательно (всегда) происходит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лучайное, возможное, вероятное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(в одних и тех же условиях иногда происходит, иногда не происходит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евозможное или невероятное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в данных условиях никогда не происходит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 запиши спра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)  Зимой у школьников будут каникулы       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)  Круглая отличница получит «5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 контрольную работу                             ____________________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) При умножении 10 на 3 получили 20       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) При температуре ниже 10º С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ужи на улице замерзнут                           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) После пятницы наступит суббота               ____________________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) Летом у твоих родителей будет отпуск     ____________________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) Бросили игральный кубик и выпал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 очков                                                            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 очков                                                            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вет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ctr" pos="297036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62120" y="304920"/>
            <a:ext cx="609588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Зад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то вы будете делать, если столкнетесь в лесу с гадюкой или ужо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Возьму в руки ужа и не буду приближаться к гадю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Не буду тревожить змей, ведь они – часть прир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Ударю гадюку, ведь она ядовит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Попытаюсь аккуратно прогнать их с тропи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ра</cp:lastModifiedBy>
  <dcterms:modified xsi:type="dcterms:W3CDTF">2013-10-24T13:24:0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