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927C-DAE0-46B9-AA8E-EC13F5BFE7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FA8F-2282-49BD-827B-96560B1C7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27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ное чт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: учитель начальных классов МОУ «СОШ №27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маева Екатерина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Сыктывкар,2013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1D83-0997-4A60-B1C0-0CC76891B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3DC2-4F93-479C-8F96-670590C48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iles.school-collection.edu.ru/dlrstore/045079ff-4b1a-446c-91da-74f607a2539a/%5BNS-LIT_2-05%5D_%5BIM_002%5D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6E9-BA24-4A45-907B-88826CED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AED-FEBB-4667-BC68-CE3702EA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637-B4B6-4C5B-8182-E01917CD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514-7E5E-4EAF-87CF-19A975B2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9BE-C4E8-4641-B93D-169178C4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FCE7-9D1C-414E-94DB-AC5E64DF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8DFD-9A3E-4704-A896-60506586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7194-2ACF-406C-829F-0629090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BD2-C7D6-4FC0-84E5-7FDD8D07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156C-ED2E-40E0-B8DB-EA02D047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5A97-1D60-41F8-9283-ED8FED4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6A8-E423-4966-A0C9-29D8C55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4C6A-44BB-42E6-B463-BE4CA8C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2877-924B-4D03-AB4B-1F3B1F8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D695-EBBB-4A69-BFE2-10E6A807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3553-CC1D-4F51-9073-EF8A1FF4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D39E-D339-4C4A-9FF7-4DCE881A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E8D3-86FD-41ED-AF70-7DC4622B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DADA-DAC0-46AC-9319-74017E2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D8C5-AFD8-49D3-9DA7-044F5E6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336A-0D08-4569-976D-EA530A4A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733A-C9B3-45D3-A852-932F3E2D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A3A-ACA7-4FFA-8808-C99C9F25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5A3C-DB43-46B1-9E81-41FCC30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5797-2C37-4818-82DB-ACFE0FE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EA33-C4BD-4EE6-9AC0-E20C472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C95B-9594-4AAE-9120-E4DA30E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DB9A-215E-4F93-8161-5CA1BE6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3863-C749-487C-AC84-5A18E528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118B-BA1B-4DEB-83B5-A15688B9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537E-6E67-4CA8-A5DA-903EEDE8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159A-A582-4ABE-B3D0-6AD6E344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44DC-A498-4CFF-99CD-A6B0367D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35D-05BD-4DE8-8BC2-1EAA2AE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983A-C0DC-4708-88E3-0F6D2257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C9C4-4239-47EE-A2C1-1BD13381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C292-F2D2-4559-8B12-6C74B7A7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5E4F-EEB6-4FE0-959D-B74812F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D8A9-8931-42E9-8784-87FE5320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2739-4FED-40B0-9772-22A2DBC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B86A-A425-4822-A19B-5BA14A9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F6C9-9810-4DEE-AE43-F758C571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CA76-7936-46E9-A976-621962FD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8EF-F678-4082-99DE-85585C5B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B79-B66A-43CA-BF4F-5A5D5678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FCE-8EA0-44AF-906C-CDD950F1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08C-C503-4352-83AB-A1FFEA19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DC4-CB2F-496D-B18E-E9A4431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4f8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9055-5BC4-4B99-BE7F-C6824E94BE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4f8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E64-931E-45F1-850E-3658E64D3A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4f8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66D-5545-493D-8A45-31C2D8665D2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4f8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5A8-3C9F-4BE5-9F19-67181D552E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24000" y="189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редняя общеобразовательная школа №2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ectangle 7"/>
          <p:cNvGrpSpPr/>
          <p:nvPr/>
        </p:nvGrpSpPr>
        <p:grpSpPr>
          <a:xfrm>
            <a:off x="92160" y="1395360"/>
            <a:ext cx="8959680" cy="1805040"/>
            <a:chOff x="92160" y="1395360"/>
            <a:chExt cx="8959680" cy="1805040"/>
          </a:xfrm>
        </p:grpSpPr>
        <p:pic>
          <p:nvPicPr>
            <p:cNvPr id="223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1395360"/>
              <a:ext cx="895968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50920" y="1557360"/>
              <a:ext cx="864216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спользование ЭОР на урока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литературного чт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8"/>
          <p:cNvSpPr/>
          <p:nvPr/>
        </p:nvSpPr>
        <p:spPr>
          <a:xfrm>
            <a:off x="4070520" y="443700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: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У «СОШ №2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умаева Екате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50920" y="61657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Сыктывкар,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0" y="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Monotype Corsiva"/>
              </a:rPr>
              <a:t>Раздел </a:t>
            </a: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Monotype Corsiva"/>
              </a:rPr>
              <a:t>«Радуга – дуг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1238530273_1881"/>
          <p:cNvPicPr/>
          <p:nvPr/>
        </p:nvPicPr>
        <p:blipFill>
          <a:blip r:embed="rId1"/>
          <a:stretch/>
        </p:blipFill>
        <p:spPr>
          <a:xfrm>
            <a:off x="1116000" y="2249640"/>
            <a:ext cx="6912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Рисунок56"/>
          <p:cNvPicPr/>
          <p:nvPr/>
        </p:nvPicPr>
        <p:blipFill>
          <a:blip r:embed="rId1"/>
          <a:stretch/>
        </p:blipFill>
        <p:spPr>
          <a:xfrm>
            <a:off x="0" y="1865160"/>
            <a:ext cx="9144000" cy="4992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Рисунок57"/>
          <p:cNvPicPr/>
          <p:nvPr/>
        </p:nvPicPr>
        <p:blipFill>
          <a:blip r:embed="rId2"/>
          <a:stretch/>
        </p:blipFill>
        <p:spPr>
          <a:xfrm>
            <a:off x="-9540720" y="1844640"/>
            <a:ext cx="9144000" cy="5013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Рисунок58"/>
          <p:cNvPicPr/>
          <p:nvPr/>
        </p:nvPicPr>
        <p:blipFill>
          <a:blip r:embed="rId3"/>
          <a:stretch/>
        </p:blipFill>
        <p:spPr>
          <a:xfrm>
            <a:off x="9396360" y="189864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. Разд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дуга – дуга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родные заклички, приговорки, потешки, перевёрт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ичного закре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Box 5"/>
          <p:cNvGrpSpPr/>
          <p:nvPr/>
        </p:nvGrpSpPr>
        <p:grpSpPr>
          <a:xfrm>
            <a:off x="4578480" y="957240"/>
            <a:ext cx="4894200" cy="1706760"/>
            <a:chOff x="4578480" y="957240"/>
            <a:chExt cx="4894200" cy="1706760"/>
          </a:xfrm>
        </p:grpSpPr>
        <p:pic>
          <p:nvPicPr>
            <p:cNvPr id="234" name="TextBox 5" descr=""/>
            <p:cNvPicPr/>
            <p:nvPr/>
          </p:nvPicPr>
          <p:blipFill>
            <a:blip r:embed="rId4"/>
            <a:stretch/>
          </p:blipFill>
          <p:spPr>
            <a:xfrm>
              <a:off x="4578480" y="957240"/>
              <a:ext cx="489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869000" y="1228680"/>
              <a:ext cx="430992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algn="just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99"/>
                  </a:solidFill>
                  <a:latin typeface="Calibri"/>
                  <a:ea typeface="Calibri"/>
                </a:rPr>
                <a:t>eor-np.r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12139E-006 L 1.0276 0.02289 E">
                                      <p:cBhvr>
                                        <p:cTn id="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5723E-006 L -1.05122 0.02682 E">
                                      <p:cBhvr>
                                        <p:cTn id="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Рисунок59"/>
          <p:cNvPicPr/>
          <p:nvPr/>
        </p:nvPicPr>
        <p:blipFill>
          <a:blip r:embed="rId1"/>
          <a:stretch/>
        </p:blipFill>
        <p:spPr>
          <a:xfrm>
            <a:off x="0" y="981000"/>
            <a:ext cx="5183280" cy="4413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Рисунок60"/>
          <p:cNvPicPr/>
          <p:nvPr/>
        </p:nvPicPr>
        <p:blipFill>
          <a:blip r:embed="rId2"/>
          <a:stretch/>
        </p:blipFill>
        <p:spPr>
          <a:xfrm>
            <a:off x="4859280" y="3089160"/>
            <a:ext cx="4284720" cy="3768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. Разд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дуга – дуга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гадки. Сочинение загад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ичного усвоения новых знаний, первичного закре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Прямоугольник 6" descr=""/>
          <p:cNvPicPr/>
          <p:nvPr/>
        </p:nvPicPr>
        <p:blipFill>
          <a:blip r:embed="rId3"/>
          <a:stretch/>
        </p:blipFill>
        <p:spPr>
          <a:xfrm>
            <a:off x="4059360" y="804960"/>
            <a:ext cx="53038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9:12:18Z</dcterms:created>
  <dc:creator>Admin</dc:creator>
  <dc:description/>
  <dc:language>en-US</dc:language>
  <cp:lastModifiedBy>Рачкова Лариса</cp:lastModifiedBy>
  <dcterms:modified xsi:type="dcterms:W3CDTF">2013-11-21T07:05:03Z</dcterms:modified>
  <cp:revision>33</cp:revision>
  <dc:subject/>
  <dc:title>Слайд 1</dc:title>
</cp:coreProperties>
</file>