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16.png" ContentType="image/png"/>
  <Override PartName="/ppt/media/image15.png" ContentType="image/png"/>
  <Override PartName="/ppt/media/image11.gif" ContentType="image/gif"/>
  <Override PartName="/ppt/media/image14.gif" ContentType="image/gif"/>
  <Override PartName="/ppt/media/image6.gif" ContentType="image/gif"/>
  <Override PartName="/ppt/media/image17.wmf" ContentType="image/x-wmf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E19-6CCE-488A-A286-DFC15C94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970-4329-44A7-8FD8-5C4FA02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159-C8AC-46B6-8646-7B98D428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FFB-5559-4891-88EC-43DDAB79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905F-7F77-4281-96DE-C562AB35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AAA9-F92D-4C7C-B000-A97EB935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9C07-9732-47F7-9DE0-C1D92B1F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E922-1801-4D14-8958-24DF689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DA6-5FA0-467B-8D77-D20A923B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EA2E-012F-4043-90C8-9C5F1B8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980-64F9-4A5F-85DB-F15C209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B85-E8FB-459E-8FFD-7BA1DC5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4446-3B96-4A5B-B938-F7427FE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304-5A16-4CF7-9138-A5485EB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114B-5D50-47A5-B211-0BC0192F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620-4518-4F16-A244-3A418FC8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944-0EB9-414B-A66F-321A9435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93D9-B38D-45FF-B938-8C0B696F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4339-253A-4D84-846E-5D57657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0385-6250-4C08-8CB9-3860B271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5966-A93D-49B8-94DC-FDD2743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32F1-A8DE-4888-93B3-6B1AC4F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7BD-CEAE-401B-AF0E-FE48879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FF8C-ECD6-43F9-9486-3F62416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269F-A98E-4A02-8BDB-E8A25F7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9664-6583-408B-9E90-780477D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96E8-F8BB-4BF2-9203-09C451D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D6EF-6386-47BD-BB13-60F1F35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BF17-950C-4E4C-9564-3D7A75AC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3D1C-FBF7-49D3-89CB-DFD6A141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0170-6EC8-49F3-B1EC-95D39BAB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D33E-2271-4B8F-8531-0622807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7186-319C-4E92-9EAB-55CBA262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78A-E5C3-469B-9200-0862DA56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201F-6F09-4EAC-84C4-F547D6FC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075A-D582-45B5-BC0E-26A0E230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7099-2A94-42D9-BB18-E795A2D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3933-925A-4FC3-B0EF-08A9EF9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EC99-2767-4F89-8EA1-1AF1437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42AE-4CB7-452B-9766-8B7905D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7680-3C83-4D07-B9F8-61A498EE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952A-024A-440E-944B-ECBD3C39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7E85-5988-4F4F-AF3A-034B0D83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3A8-A8CF-4D6E-8877-181D6C5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EAF-7F5E-4986-819E-0CC8FE07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F32-83D0-48FB-8D61-9CEC9BD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213-EAFB-4B8D-87D4-597A8913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6D4-0B68-4746-9393-367AE81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a4f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053D-4F6D-4691-A7AC-ADB08178F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a4f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D0C-DC83-4DBC-82CB-51F7704EE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a4f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61F-6236-4F7E-A9AC-E7816DA28B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a4f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C94F-6948-40D5-B516-BF66F4511D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2.png"/><Relationship Id="rId10" Type="http://schemas.openxmlformats.org/officeDocument/2006/relationships/hyperlink" Target="http://school47.kubannet.ru/pitanie/img/img27.jpg" TargetMode="Externa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5"/>
          <p:cNvSpPr txBox="1"/>
          <p:nvPr/>
        </p:nvSpPr>
        <p:spPr>
          <a:xfrm>
            <a:off x="1828800" y="533520"/>
            <a:ext cx="48769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Мой организм – моя планета, где я хозяин своего здоровь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533920" y="4191120"/>
            <a:ext cx="354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50760" y="430524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Comic Sans MS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457200" y="1981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Составить и записать в рабочую тетрадь рассказ о сохранении здоровь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7" descr="1e5f5d4b1dd1"/>
          <p:cNvPicPr/>
          <p:nvPr/>
        </p:nvPicPr>
        <p:blipFill>
          <a:blip r:embed="rId1"/>
          <a:stretch/>
        </p:blipFill>
        <p:spPr>
          <a:xfrm>
            <a:off x="5029200" y="3919680"/>
            <a:ext cx="25495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ЗДРАВСТВУЙТ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1e5f5d4b1dd1"/>
          <p:cNvPicPr/>
          <p:nvPr/>
        </p:nvPicPr>
        <p:blipFill>
          <a:blip r:embed="rId1"/>
          <a:stretch/>
        </p:blipFill>
        <p:spPr>
          <a:xfrm>
            <a:off x="1600200" y="990720"/>
            <a:ext cx="51847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Деньги потерял — ничего не потерял, время потерял — много потерял, а здоровье потерял — все потерял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019920" y="3117960"/>
            <a:ext cx="2971800" cy="3714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203040" y="3433680"/>
            <a:ext cx="35132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ЛАН (примерный)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5727600" y="35053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"/>
          <p:cNvSpPr/>
          <p:nvPr/>
        </p:nvSpPr>
        <p:spPr>
          <a:xfrm>
            <a:off x="76320" y="1447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. Каково рациональное питани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76320" y="2514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2. В чём заключается активная деятельност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76320" y="4210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3. Положительные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эмо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лыжи"/>
          <p:cNvPicPr/>
          <p:nvPr/>
        </p:nvPicPr>
        <p:blipFill>
          <a:blip r:embed="rId1"/>
          <a:stretch/>
        </p:blipFill>
        <p:spPr>
          <a:xfrm>
            <a:off x="7570800" y="1076400"/>
            <a:ext cx="1562040" cy="1657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морковь 2"/>
          <p:cNvPicPr/>
          <p:nvPr/>
        </p:nvPicPr>
        <p:blipFill>
          <a:blip r:embed="rId2"/>
          <a:stretch/>
        </p:blipFill>
        <p:spPr>
          <a:xfrm>
            <a:off x="7338960" y="4143240"/>
            <a:ext cx="1324080" cy="16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фрукты"/>
          <p:cNvPicPr/>
          <p:nvPr/>
        </p:nvPicPr>
        <p:blipFill>
          <a:blip r:embed="rId3"/>
          <a:stretch/>
        </p:blipFill>
        <p:spPr>
          <a:xfrm>
            <a:off x="290520" y="4616280"/>
            <a:ext cx="1247760" cy="682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фрукты 2"/>
          <p:cNvPicPr/>
          <p:nvPr/>
        </p:nvPicPr>
        <p:blipFill>
          <a:blip r:embed="rId4"/>
          <a:stretch/>
        </p:blipFill>
        <p:spPr>
          <a:xfrm>
            <a:off x="304920" y="6496200"/>
            <a:ext cx="2190600" cy="36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хоккей"/>
          <p:cNvPicPr/>
          <p:nvPr/>
        </p:nvPicPr>
        <p:blipFill>
          <a:blip r:embed="rId5"/>
          <a:stretch/>
        </p:blipFill>
        <p:spPr>
          <a:xfrm>
            <a:off x="290520" y="1568520"/>
            <a:ext cx="1219320" cy="1185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фрукты 2"/>
          <p:cNvPicPr/>
          <p:nvPr/>
        </p:nvPicPr>
        <p:blipFill>
          <a:blip r:embed="rId6"/>
          <a:stretch/>
        </p:blipFill>
        <p:spPr>
          <a:xfrm>
            <a:off x="2438280" y="6496200"/>
            <a:ext cx="2190960" cy="36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фрукты 2"/>
          <p:cNvPicPr/>
          <p:nvPr/>
        </p:nvPicPr>
        <p:blipFill>
          <a:blip r:embed="rId7"/>
          <a:stretch/>
        </p:blipFill>
        <p:spPr>
          <a:xfrm>
            <a:off x="4572000" y="6496200"/>
            <a:ext cx="2190600" cy="361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фрукты 2"/>
          <p:cNvPicPr/>
          <p:nvPr/>
        </p:nvPicPr>
        <p:blipFill>
          <a:blip r:embed="rId8"/>
          <a:stretch/>
        </p:blipFill>
        <p:spPr>
          <a:xfrm>
            <a:off x="6705720" y="6496200"/>
            <a:ext cx="2190600" cy="361800"/>
          </a:xfrm>
          <a:prstGeom prst="rect">
            <a:avLst/>
          </a:prstGeom>
          <a:ln w="0">
            <a:noFill/>
          </a:ln>
        </p:spPr>
      </p:pic>
      <p:grpSp>
        <p:nvGrpSpPr>
          <p:cNvPr id="255" name="Блок-схема: альтернативный процесс 10"/>
          <p:cNvGrpSpPr/>
          <p:nvPr/>
        </p:nvGrpSpPr>
        <p:grpSpPr>
          <a:xfrm>
            <a:off x="888840" y="11160"/>
            <a:ext cx="7315200" cy="1447920"/>
            <a:chOff x="888840" y="11160"/>
            <a:chExt cx="7315200" cy="1447920"/>
          </a:xfrm>
        </p:grpSpPr>
        <p:pic>
          <p:nvPicPr>
            <p:cNvPr id="256" name="Блок-схема: альтернативный процесс 10" descr=""/>
            <p:cNvPicPr/>
            <p:nvPr/>
          </p:nvPicPr>
          <p:blipFill>
            <a:blip r:embed="rId9"/>
            <a:stretch/>
          </p:blipFill>
          <p:spPr>
            <a:xfrm>
              <a:off x="888840" y="11160"/>
              <a:ext cx="73152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21"/>
            <p:cNvSpPr/>
            <p:nvPr/>
          </p:nvSpPr>
          <p:spPr>
            <a:xfrm>
              <a:off x="1032840" y="109080"/>
              <a:ext cx="703620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Calibri"/>
                </a:rPr>
                <a:t>ПИРАМИДА</a:t>
              </a:r>
              <a:endParaRPr b="0" lang="en-US" sz="8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Заголовок 5"/>
          <p:cNvSpPr/>
          <p:nvPr/>
        </p:nvSpPr>
        <p:spPr>
          <a:xfrm>
            <a:off x="914400" y="-76320"/>
            <a:ext cx="7429680" cy="1981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5" descr="Картинка 34 из 908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62000" y="1420920"/>
            <a:ext cx="5302440" cy="5075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Заголовок 1"/>
          <p:cNvSpPr/>
          <p:nvPr/>
        </p:nvSpPr>
        <p:spPr>
          <a:xfrm>
            <a:off x="428760" y="214200"/>
            <a:ext cx="8229600" cy="53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УТОЧНИМ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Чтобы правильно питаться, нужно выполнять два услов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мерен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знообраз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2" descr="спасибо"/>
          <p:cNvPicPr/>
          <p:nvPr/>
        </p:nvPicPr>
        <p:blipFill>
          <a:blip r:embed="rId1"/>
          <a:stretch/>
        </p:blipFill>
        <p:spPr>
          <a:xfrm>
            <a:off x="152280" y="5092560"/>
            <a:ext cx="3743280" cy="1752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фрукты"/>
          <p:cNvPicPr/>
          <p:nvPr/>
        </p:nvPicPr>
        <p:blipFill>
          <a:blip r:embed="rId2"/>
          <a:stretch/>
        </p:blipFill>
        <p:spPr>
          <a:xfrm>
            <a:off x="7238880" y="3048120"/>
            <a:ext cx="167652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 порезе пальца: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 нехватке витами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0"/>
          <p:cNvSpPr txBox="1"/>
          <p:nvPr/>
        </p:nvSpPr>
        <p:spPr>
          <a:xfrm>
            <a:off x="1143000" y="228600"/>
            <a:ext cx="6781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«Зеленая аптека»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11" descr=""/>
          <p:cNvPicPr/>
          <p:nvPr/>
        </p:nvPicPr>
        <p:blipFill>
          <a:blip r:embed="rId1"/>
          <a:stretch/>
        </p:blipFill>
        <p:spPr>
          <a:xfrm>
            <a:off x="5867280" y="34416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939960" y="29718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4"/>
          <p:cNvSpPr txBox="1"/>
          <p:nvPr/>
        </p:nvSpPr>
        <p:spPr>
          <a:xfrm>
            <a:off x="533520" y="380880"/>
            <a:ext cx="8305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Жизнь – это движени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8" name="Picture 7" descr="j0343405"/>
          <p:cNvPicPr/>
          <p:nvPr/>
        </p:nvPicPr>
        <p:blipFill>
          <a:blip r:embed="rId1"/>
          <a:stretch/>
        </p:blipFill>
        <p:spPr>
          <a:xfrm>
            <a:off x="5638680" y="3833640"/>
            <a:ext cx="3048120" cy="288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80520" y="182844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й зарядку каждое утро после пробужд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жнения помогают взбодриться, настроить тело и разум на рабочий л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личной гигиены, закалив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ядка – вс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яющие ак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«Добро, которое ты делаешь от сердца, ты делаешь всегда себе»                     </a:t>
            </a:r>
            <a:r>
              <a:rPr b="0" i="1" lang="ru-RU" sz="4400" spc="-1" strike="noStrike">
                <a:solidFill>
                  <a:srgbClr val="cc00cc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28600" y="34290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Надо быть добрыми, помогать друг другу, говорить друг другу комплименты, идти по жизни с улыбкой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3-03-20T18:49:5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