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1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780-15F5-447F-A4E3-1F9BDBFC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AF7-D705-4C96-BA19-45195945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EC6-9860-447A-803A-3F920A61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4CC-E31E-403C-BE97-73086243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FFC-C9C7-495D-B53F-FC45916F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4D1-B66C-4710-B9D7-FC770E8B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514-4A25-4F3F-BFBC-9D196C95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963-653F-410C-9DEC-3623484F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130-769B-4675-8AA4-DA8FF3D6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224-FB26-4CCF-B3D9-940B8F4C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16A-6731-4B01-8AC6-E14859F5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F85-09F6-41D6-84A8-98CAA8D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99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708E-376F-41D0-9E4E-F96792332A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012.radikal.ru/0712/f9/703f52c7f46c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000680" y="4286160"/>
            <a:ext cx="400032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вещени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докс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ний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User\Рабочий стол\3.jpeg"/>
          <p:cNvPicPr/>
          <p:nvPr/>
        </p:nvPicPr>
        <p:blipFill>
          <a:blip r:embed="rId1"/>
          <a:stretch/>
        </p:blipFill>
        <p:spPr>
          <a:xfrm>
            <a:off x="428760" y="3500280"/>
            <a:ext cx="2895480" cy="28576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643040" y="357120"/>
            <a:ext cx="7286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Franklin Gothic Demi Cond"/>
              </a:rPr>
              <a:t>О сколько нам открытий чу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Franklin Gothic Demi Cond"/>
              </a:rPr>
              <a:t>Готовят просвещенья 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Franklin Gothic Demi Cond"/>
              </a:rPr>
              <a:t>И опыт, сын ошибок трудных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Franklin Gothic Demi Cond"/>
              </a:rPr>
              <a:t>И гений, парадоксов друг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Franklin Gothic Demi Cond"/>
              </a:rPr>
              <a:t>                                          </a:t>
            </a:r>
            <a:r>
              <a:rPr b="1" lang="ru-RU" sz="4400" spc="-1" strike="noStrike">
                <a:solidFill>
                  <a:srgbClr val="333399"/>
                </a:solidFill>
                <a:latin typeface="Franklin Gothic Demi Cond"/>
              </a:rPr>
              <a:t>А.С.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труктура текс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C:\Documents and Settings\User\Рабочий стол\Безымянный.bmp"/>
          <p:cNvPicPr/>
          <p:nvPr/>
        </p:nvPicPr>
        <p:blipFill>
          <a:blip r:embed="rId1"/>
          <a:stretch/>
        </p:blipFill>
        <p:spPr>
          <a:xfrm>
            <a:off x="428760" y="157176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икита – охо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сть у Никиты деревянный тигр. Ещё есть крокодил резиновый и сл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от запрятал Никита тигра под кровать, а слона и крокодила под 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ейчас он на них охоту начин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Documents and Settings\User\Рабочий стол\ти.jpeg"/>
          <p:cNvPicPr/>
          <p:nvPr/>
        </p:nvPicPr>
        <p:blipFill>
          <a:blip r:embed="rId1"/>
          <a:stretch/>
        </p:blipFill>
        <p:spPr>
          <a:xfrm>
            <a:off x="4071960" y="4857840"/>
            <a:ext cx="12794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изнаки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Текст состоит из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Все предложения в тексте имеют г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 Предложения в тексте связаны по смыс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 К тексту можно подобрать загол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 Все предложения в тексте имеют определённ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6. В тексте есть части: вводная, основная, концо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43"/>
          <p:cNvPicPr/>
          <p:nvPr/>
        </p:nvPicPr>
        <p:blipFill>
          <a:blip r:embed="rId1"/>
          <a:stretch/>
        </p:blipFill>
        <p:spPr>
          <a:xfrm>
            <a:off x="7500960" y="857160"/>
            <a:ext cx="13795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615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642600"/>
            <a:ext cx="8715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1. Текст – это</a:t>
            </a: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руппа предложений, расположенных в определенной последовательности и связанных друг с другом по смыслу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) отдельные предложени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2. Текст имеет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) только заглави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) заглавие и част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) только ча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3. По заглавию можно определить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) то, о ком или о чем говорится в тексте -  тему текст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) сколько предложений в текст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) кто автор текс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4. Части текста должны располагаться в таком порядке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) основная,  концовка, вводная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) вводная, основная, концовк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) концовка, вводная, основна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5. Предложения в тексте должны следовать в строгом порядке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ц) д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) н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6. Сколько в тексте абзацев, столько и част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) 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)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0006"/>
          <p:cNvPicPr/>
          <p:nvPr/>
        </p:nvPicPr>
        <p:blipFill>
          <a:blip r:embed="rId1"/>
          <a:stretch/>
        </p:blipFill>
        <p:spPr>
          <a:xfrm>
            <a:off x="6786720" y="3143160"/>
            <a:ext cx="2023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548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2d8a"/>
                </a:solidFill>
                <a:latin typeface="Arial"/>
              </a:rPr>
              <a:t>1.  Урок полезен, всё поня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2d8a"/>
                </a:solidFill>
                <a:latin typeface="Arial"/>
              </a:rPr>
              <a:t>2.  Лишь кое-что чуть-чуть неяс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2d8a"/>
                </a:solidFill>
                <a:latin typeface="Arial"/>
              </a:rPr>
              <a:t>3.  Ещё придётся потруд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d2d8a"/>
                </a:solidFill>
                <a:latin typeface="Arial"/>
              </a:rPr>
              <a:t>4.  Да, трудно всё-таки учить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Documents and Settings\User\Рабочий стол\1.jpeg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Documents and Settings\User\Рабочий стол\school2153.jpg"/>
          <p:cNvPicPr/>
          <p:nvPr/>
        </p:nvPicPr>
        <p:blipFill>
          <a:blip r:embed="rId2"/>
          <a:stretch/>
        </p:blipFill>
        <p:spPr>
          <a:xfrm>
            <a:off x="6357960" y="4572000"/>
            <a:ext cx="15717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8000" spc="-1" strike="noStrike">
                <a:solidFill>
                  <a:srgbClr val="009999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0066ff"/>
                </a:solidFill>
                <a:latin typeface="Arial"/>
              </a:rPr>
              <a:t>л</a:t>
            </a:r>
            <a:r>
              <a:rPr b="1" lang="ru-RU" sz="80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8000" spc="-1" strike="noStrike">
                <a:solidFill>
                  <a:srgbClr val="cc00cc"/>
                </a:solidFill>
                <a:latin typeface="Arial"/>
              </a:rPr>
              <a:t>д</a:t>
            </a: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ц</a:t>
            </a:r>
            <a:r>
              <a:rPr b="1" lang="ru-RU" sz="8000" spc="-1" strike="noStrike">
                <a:solidFill>
                  <a:srgbClr val="3399ff"/>
                </a:solidFill>
                <a:latin typeface="Arial"/>
              </a:rPr>
              <a:t>ы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!!!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Картинка 91 из 1807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1785960"/>
            <a:ext cx="6500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ема урока «Текс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точнить, что такое тек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узнать, какими признаками он облада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ыяснить, чем отличается  текст от набора предложе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006"/>
          <p:cNvPicPr/>
          <p:nvPr/>
        </p:nvPicPr>
        <p:blipFill>
          <a:blip r:embed="rId1"/>
          <a:stretch/>
        </p:blipFill>
        <p:spPr>
          <a:xfrm>
            <a:off x="6929280" y="4429080"/>
            <a:ext cx="166068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89298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блема: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се ли группы предложений являются тексто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4" descr="http://festival.1september.ru/articles/556084/img9.jpg"/>
          <p:cNvPicPr/>
          <p:nvPr/>
        </p:nvPicPr>
        <p:blipFill>
          <a:blip r:embed="rId1"/>
          <a:srcRect l="0" t="49617" r="0" b="0"/>
          <a:stretch/>
        </p:blipFill>
        <p:spPr>
          <a:xfrm>
            <a:off x="285840" y="2857680"/>
            <a:ext cx="85723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ыполните упр. № 182 на стр. 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пробуйте определить границы предложений. Сколько и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вязаны ли эти предложения по смыс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очему вы так решил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User\Рабочий стол\0.jpeg"/>
          <p:cNvPicPr/>
          <p:nvPr/>
        </p:nvPicPr>
        <p:blipFill>
          <a:blip r:embed="rId1"/>
          <a:stretch/>
        </p:blipFill>
        <p:spPr>
          <a:xfrm>
            <a:off x="6715080" y="4214880"/>
            <a:ext cx="19288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8581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рочитайте эти предложения. Могут ли они являться текстом, 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2560" y="199980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был пасмурный. Миша бродил по городу. Вдруг мальчик увидел старушку, которая не могла перейти дорогу. Миша помог бабушке. Старушка поблагодарила его за помощь и улыбнулась. На душе у Миши стало радостно и светло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0004"/>
          <p:cNvPicPr/>
          <p:nvPr/>
        </p:nvPicPr>
        <p:blipFill>
          <a:blip r:embed="rId1"/>
          <a:stretch/>
        </p:blipFill>
        <p:spPr>
          <a:xfrm>
            <a:off x="7429680" y="5143680"/>
            <a:ext cx="123948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изнаки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400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Текст состоит из пред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Все предложения в тексте имеют гран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 Предложения в тексте связаны по смысл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. К тексту можно подобрать заголов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024"/>
          <p:cNvPicPr/>
          <p:nvPr/>
        </p:nvPicPr>
        <p:blipFill>
          <a:blip r:embed="rId1"/>
          <a:stretch/>
        </p:blipFill>
        <p:spPr>
          <a:xfrm>
            <a:off x="4000680" y="4857840"/>
            <a:ext cx="1500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Прочитайте предложения.</a:t>
            </a:r>
            <a:br>
              <a:rPr sz="3000"/>
            </a:b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Можно ли их назвать текстом?</a:t>
            </a:r>
            <a:br>
              <a:rPr sz="3000"/>
            </a:br>
            <a:r>
              <a:rPr b="1" lang="ru-RU" sz="3000" spc="-1" strike="noStrike" u="sng">
                <a:solidFill>
                  <a:srgbClr val="ff3300"/>
                </a:solidFill>
                <a:uFillTx/>
                <a:latin typeface="Arial"/>
              </a:rPr>
              <a:t>Поменяйте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 местами предложения так, чтобы получился текс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560" y="1785600"/>
            <a:ext cx="4352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зь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Саша каждый день навещал друг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Саша и Серёжа – друзь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Они вместе делали уроки, играли в шахма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4.Они учатся в одном класс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.Однажды Серёжа забол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1680" y="1714680"/>
            <a:ext cx="407196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рузь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0004"/>
          <p:cNvPicPr/>
          <p:nvPr/>
        </p:nvPicPr>
        <p:blipFill>
          <a:blip r:embed="rId1"/>
          <a:stretch/>
        </p:blipFill>
        <p:spPr>
          <a:xfrm>
            <a:off x="3643200" y="5214960"/>
            <a:ext cx="1060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45677 -0.17847 E">
                                      <p:cBhvr>
                                        <p:cTn id="6" dur="2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05 -0.05625 L 0.48663 -0.35023 E">
                                      <p:cBhvr>
                                        <p:cTn id="10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01 0.00532 L 0.49878 -0.34121 E">
                                      <p:cBhvr>
                                        <p:cTn id="14" dur="2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95 0.02246 L 0.4783 0.3375 E">
                                      <p:cBhvr>
                                        <p:cTn id="18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61 0.0088 L 0.48299 0.21875 E">
                                      <p:cBhvr>
                                        <p:cTn id="22" dur="2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изнаки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Текст состоит из предло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Все предложения в тексте имеют гра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 Предложения в тексте связаны по смыс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4. К тексту можно подобрать заголо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5. Все предложения в тексте имеют определённо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0043"/>
          <p:cNvPicPr/>
          <p:nvPr/>
        </p:nvPicPr>
        <p:blipFill>
          <a:blip r:embed="rId1"/>
          <a:stretch/>
        </p:blipFill>
        <p:spPr>
          <a:xfrm>
            <a:off x="7215120" y="4214880"/>
            <a:ext cx="13683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Прочитайте текст. 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се ли признаки текста здесь присутствуют?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Что в этом тексте не та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икита – охот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ейчас он на них охоту начин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Есть у Никиты деревянный тигр. Ещё есть крокодил резиновый и сл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от запрятал Никита тигра под кровать, а слона и крокодила под ст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Запиши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кст прави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4:47:03Z</dcterms:created>
  <dc:creator>Пользователь</dc:creator>
  <dc:description/>
  <dc:language>en-US</dc:language>
  <cp:lastModifiedBy>User</cp:lastModifiedBy>
  <dcterms:modified xsi:type="dcterms:W3CDTF">2012-11-28T22:35:37Z</dcterms:modified>
  <cp:revision>71</cp:revision>
  <dc:subject/>
  <dc:title>Слайд 1</dc:title>
</cp:coreProperties>
</file>