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1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7.gif" ContentType="image/gif"/>
  <Override PartName="/ppt/media/image12.gif" ContentType="image/gif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gif" ContentType="image/gi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CD62-0D9F-468F-A937-6BFA4770F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05D6-AA0B-4277-927B-4249435EF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шаг алгоритма написания буквы  запускается кликом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Марабаева Л.А., учитель начальных классов ГОУ СОШ №1207 г.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BBB-E36C-43D9-B526-BDD7AAE5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122-006B-464E-BF27-D4A28740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740-4C05-4666-9D0C-952DF616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5D5-B645-44BA-A70D-6D567185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319-EC13-4F22-8C68-A68563E2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733-BAFF-41C9-8170-D01DFA1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31E-75B1-4B69-9DC1-8C900F7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EC0-980E-453F-B918-00D8543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2E3-64E9-4F03-9F1F-5AA3EA1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E01-CF0C-47DD-8D69-2795FDE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880-1B23-4FBC-A447-82586DD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213-9E21-434A-88E7-F044604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3E10-BF31-4ADC-84CB-F7FAD0917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727640" y="3357720"/>
            <a:ext cx="218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4219920" y="171468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6006600" y="1857240"/>
            <a:ext cx="195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5079600" y="4357800"/>
            <a:ext cx="198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ш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786600" y="1000080"/>
            <a:ext cx="23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ж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717480" y="5357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:\Documents and Settings\Новик\Рабочий стол\дети.jpg"/>
          <p:cNvPicPr/>
          <p:nvPr/>
        </p:nvPicPr>
        <p:blipFill>
          <a:blip r:embed="rId1"/>
          <a:stretch/>
        </p:blipFill>
        <p:spPr>
          <a:xfrm>
            <a:off x="6981840" y="4857840"/>
            <a:ext cx="193824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9 -0.07778 C 0.2724 0.03009 0.36424 0.13796 0.33906 0.18889 C 0.31389 0.23981 0.07882 0.29027 0.02934 0.22754 C -0.02014 0.16481 0.04028 -0.11551 0.04219 -0.1875 C 0.0441 -0.25949 0.04236 -0.23218 0.04063 -0.20463 E">
                                      <p:cBhvr>
                                        <p:cTn id="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226 -0.05996 C 0.26059 -0.15348 0.26892 -0.24676 0.21198 -0.29445 C 0.15504 -0.34213 -0.02639 -0.39769 -0.08976 -0.34607 C -0.15312 -0.29445 -0.16094 -0.13959 -0.16875 0.01527 E">
                                      <p:cBhvr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948 0.16597 C -0.17362 0.11111 -0.09775 0.05625 0.01025 0.03518 C 0.11823 0.01412 0.32448 -0.03125 0.39896 0.03935 C 0.47344 0.10995 0.49705 0.34838 0.45695 0.45879 C 0.41685 0.56921 0.21893 0.71967 0.15869 0.70185 C 0.09844 0.68402 0.10608 0.40995 0.09566 0.35115 E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4.81481E-006 C -0.05608 -0.06134 -0.11216 -0.12269 -0.10973 -0.16551 C -0.1073 -0.2088 -0.0481 -0.24676 0.01458 -0.25787 C 0.07725 -0.26898 0.19982 -0.27361 0.26614 -0.23218 C 0.33246 -0.19074 0.39166 -0.09838 0.41284 -0.00857 C 0.43402 0.08102 0.42048 0.21944 0.39357 0.30532 C 0.36666 0.39167 0.30295 0.48032 0.25156 0.50741 C 0.20017 0.53472 0.12951 0.49977 0.08541 0.46875 C 0.04131 0.43796 -0.00191 0.35972 -0.01285 0.32268 C -0.02379 0.28518 -0.00226 0.26505 0.01944 0.24491 E">
                                      <p:cBhvr>
                                        <p:cTn id="1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542 0.19352 C -0.12882 0.05394 -0.12205 -0.08542 -0.18229 -0.15278 C -0.24254 -0.22014 -0.42743 -0.26898 -0.4967 -0.21088 C -0.56597 -0.15278 -0.6283 0.09213 -0.59844 0.1956 C -0.56858 0.29884 -0.4217 0.38935 -0.31771 0.41042 C -0.21372 0.43148 -0.03542 0.41389 0.02587 0.32222 C 0.08715 0.23079 0.046 -0.0625 0.05 -0.13981 E">
                                      <p:cBhvr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53 -0.07662 C 0.22864 -0.20023 0.57899 -0.32361 0.71875 -0.37338 E">
                                      <p:cBhvr>
                                        <p:cTn id="1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82e2e770529f22dd8819a308ea31493d.jpg"/>
          <p:cNvPicPr/>
          <p:nvPr/>
        </p:nvPicPr>
        <p:blipFill>
          <a:blip r:embed="rId1"/>
          <a:stretch/>
        </p:blipFill>
        <p:spPr>
          <a:xfrm>
            <a:off x="542880" y="428760"/>
            <a:ext cx="324324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4f8880777b9f.png"/>
          <p:cNvPicPr/>
          <p:nvPr/>
        </p:nvPicPr>
        <p:blipFill>
          <a:blip r:embed="rId2"/>
          <a:stretch/>
        </p:blipFill>
        <p:spPr>
          <a:xfrm>
            <a:off x="642960" y="5214960"/>
            <a:ext cx="2008080" cy="1147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793480" y="500040"/>
            <a:ext cx="102528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223400" y="500040"/>
            <a:ext cx="1221840" cy="10083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’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0" descr="ab8e8ad83115.jpg"/>
          <p:cNvPicPr/>
          <p:nvPr/>
        </p:nvPicPr>
        <p:blipFill>
          <a:blip r:embed="rId3"/>
          <a:stretch/>
        </p:blipFill>
        <p:spPr>
          <a:xfrm>
            <a:off x="5929200" y="2928960"/>
            <a:ext cx="2370240" cy="31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435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11564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 flipH="1">
            <a:off x="5651640" y="0"/>
            <a:ext cx="280800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D:\Буквы\img038.jpg"/>
          <p:cNvPicPr/>
          <p:nvPr/>
        </p:nvPicPr>
        <p:blipFill>
          <a:blip r:embed="rId1"/>
          <a:srcRect l="23686" t="18397" r="23686" b="34848"/>
          <a:stretch/>
        </p:blipFill>
        <p:spPr>
          <a:xfrm>
            <a:off x="0" y="304920"/>
            <a:ext cx="2209680" cy="14270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11"/>
          <p:cNvGrpSpPr/>
          <p:nvPr/>
        </p:nvGrpSpPr>
        <p:grpSpPr>
          <a:xfrm>
            <a:off x="7128000" y="3429000"/>
            <a:ext cx="1288800" cy="948960"/>
            <a:chOff x="7128000" y="3429000"/>
            <a:chExt cx="1288800" cy="948960"/>
          </a:xfrm>
        </p:grpSpPr>
        <p:sp>
          <p:nvSpPr>
            <p:cNvPr id="69" name="Oval 12"/>
            <p:cNvSpPr/>
            <p:nvPr/>
          </p:nvSpPr>
          <p:spPr>
            <a:xfrm>
              <a:off x="7298280" y="3429000"/>
              <a:ext cx="961560" cy="792000"/>
            </a:xfrm>
            <a:prstGeom prst="ellipse">
              <a:avLst/>
            </a:prstGeom>
            <a:noFill/>
            <a:ln w="1144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 rot="493200">
              <a:off x="7162920" y="3717360"/>
              <a:ext cx="1218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Oval 14"/>
          <p:cNvSpPr/>
          <p:nvPr/>
        </p:nvSpPr>
        <p:spPr>
          <a:xfrm rot="1937400">
            <a:off x="6705720" y="4648320"/>
            <a:ext cx="685800" cy="93492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 flipV="1" rot="12019800">
            <a:off x="6538680" y="4593240"/>
            <a:ext cx="1152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 rot="493200">
            <a:off x="7184880" y="3789000"/>
            <a:ext cx="1368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8001000" y="3657600"/>
            <a:ext cx="431280" cy="360000"/>
            <a:chOff x="8001000" y="3657600"/>
            <a:chExt cx="431280" cy="360000"/>
          </a:xfrm>
        </p:grpSpPr>
        <p:sp>
          <p:nvSpPr>
            <p:cNvPr id="75" name="Line 18"/>
            <p:cNvSpPr/>
            <p:nvPr/>
          </p:nvSpPr>
          <p:spPr>
            <a:xfrm>
              <a:off x="8001000" y="3657600"/>
              <a:ext cx="42912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 flipH="1">
              <a:off x="8001000" y="3657600"/>
              <a:ext cx="4312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20"/>
          <p:cNvSpPr/>
          <p:nvPr/>
        </p:nvSpPr>
        <p:spPr>
          <a:xfrm>
            <a:off x="8153280" y="3733920"/>
            <a:ext cx="21600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6"/>
          <p:cNvSpPr/>
          <p:nvPr/>
        </p:nvSpPr>
        <p:spPr>
          <a:xfrm flipV="1" rot="12019800">
            <a:off x="2980440" y="4624560"/>
            <a:ext cx="132732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7256160" y="4495680"/>
            <a:ext cx="973080" cy="87804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9"/>
          <p:cNvGrpSpPr/>
          <p:nvPr/>
        </p:nvGrpSpPr>
        <p:grpSpPr>
          <a:xfrm>
            <a:off x="6457680" y="3408120"/>
            <a:ext cx="911880" cy="787320"/>
            <a:chOff x="6457680" y="3408120"/>
            <a:chExt cx="911880" cy="787320"/>
          </a:xfrm>
        </p:grpSpPr>
        <p:sp>
          <p:nvSpPr>
            <p:cNvPr id="81" name="Oval 50"/>
            <p:cNvSpPr/>
            <p:nvPr/>
          </p:nvSpPr>
          <p:spPr>
            <a:xfrm rot="21385800">
              <a:off x="6563520" y="3428640"/>
              <a:ext cx="688320" cy="610920"/>
            </a:xfrm>
            <a:prstGeom prst="ellipse">
              <a:avLst/>
            </a:prstGeom>
            <a:noFill/>
            <a:ln w="114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1"/>
            <p:cNvSpPr/>
            <p:nvPr/>
          </p:nvSpPr>
          <p:spPr>
            <a:xfrm rot="279000">
              <a:off x="6476760" y="3644280"/>
              <a:ext cx="87300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Freeform 60"/>
          <p:cNvSpPr/>
          <p:nvPr/>
        </p:nvSpPr>
        <p:spPr>
          <a:xfrm>
            <a:off x="5410080" y="5029200"/>
            <a:ext cx="1067040" cy="546120"/>
          </a:xfrm>
          <a:prstGeom prst="pie">
            <a:avLst/>
          </a:prstGeom>
          <a:noFill/>
          <a:ln w="114480">
            <a:solidFill>
              <a:srgbClr val="66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5"/>
          <p:cNvSpPr/>
          <p:nvPr/>
        </p:nvSpPr>
        <p:spPr>
          <a:xfrm flipH="1">
            <a:off x="6477120" y="3657600"/>
            <a:ext cx="799920" cy="175248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6"/>
          <p:cNvSpPr/>
          <p:nvPr/>
        </p:nvSpPr>
        <p:spPr>
          <a:xfrm flipH="1">
            <a:off x="6172200" y="3505320"/>
            <a:ext cx="504720" cy="304560"/>
          </a:xfrm>
          <a:prstGeom prst="line">
            <a:avLst/>
          </a:prstGeom>
          <a:ln w="1144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7"/>
          <p:cNvGrpSpPr/>
          <p:nvPr/>
        </p:nvGrpSpPr>
        <p:grpSpPr>
          <a:xfrm>
            <a:off x="5866920" y="3657600"/>
            <a:ext cx="502920" cy="360000"/>
            <a:chOff x="5866920" y="3657600"/>
            <a:chExt cx="502920" cy="360000"/>
          </a:xfrm>
        </p:grpSpPr>
        <p:sp>
          <p:nvSpPr>
            <p:cNvPr id="87" name="Line 68"/>
            <p:cNvSpPr/>
            <p:nvPr/>
          </p:nvSpPr>
          <p:spPr>
            <a:xfrm>
              <a:off x="5867280" y="365760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9"/>
            <p:cNvSpPr/>
            <p:nvPr/>
          </p:nvSpPr>
          <p:spPr>
            <a:xfrm flipH="1">
              <a:off x="5866920" y="365760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70"/>
          <p:cNvSpPr/>
          <p:nvPr/>
        </p:nvSpPr>
        <p:spPr>
          <a:xfrm flipH="1">
            <a:off x="6629040" y="3657600"/>
            <a:ext cx="755640" cy="1600200"/>
          </a:xfrm>
          <a:prstGeom prst="line">
            <a:avLst/>
          </a:prstGeom>
          <a:ln w="114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1"/>
          <p:cNvSpPr/>
          <p:nvPr/>
        </p:nvSpPr>
        <p:spPr>
          <a:xfrm>
            <a:off x="6019920" y="3733920"/>
            <a:ext cx="215640" cy="215640"/>
          </a:xfrm>
          <a:prstGeom prst="flowChartConnector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3"/>
          <p:cNvSpPr/>
          <p:nvPr/>
        </p:nvSpPr>
        <p:spPr>
          <a:xfrm>
            <a:off x="1219320" y="4495680"/>
            <a:ext cx="533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5"/>
          <p:cNvGrpSpPr/>
          <p:nvPr/>
        </p:nvGrpSpPr>
        <p:grpSpPr>
          <a:xfrm>
            <a:off x="5181120" y="4876920"/>
            <a:ext cx="502920" cy="360000"/>
            <a:chOff x="5181120" y="4876920"/>
            <a:chExt cx="502920" cy="360000"/>
          </a:xfrm>
        </p:grpSpPr>
        <p:sp>
          <p:nvSpPr>
            <p:cNvPr id="93" name="Line 96"/>
            <p:cNvSpPr/>
            <p:nvPr/>
          </p:nvSpPr>
          <p:spPr>
            <a:xfrm>
              <a:off x="5181480" y="4876920"/>
              <a:ext cx="500400" cy="36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 flipH="1">
              <a:off x="5181120" y="4876920"/>
              <a:ext cx="50292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2"/>
          <p:cNvSpPr/>
          <p:nvPr/>
        </p:nvSpPr>
        <p:spPr>
          <a:xfrm flipH="1">
            <a:off x="2626920" y="0"/>
            <a:ext cx="2808360" cy="685800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1" descr="1-324"/>
          <p:cNvPicPr/>
          <p:nvPr/>
        </p:nvPicPr>
        <p:blipFill>
          <a:blip r:embed="rId2"/>
          <a:stretch/>
        </p:blipFill>
        <p:spPr>
          <a:xfrm>
            <a:off x="7086600" y="2971800"/>
            <a:ext cx="666720" cy="75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" descr="30"/>
          <p:cNvPicPr/>
          <p:nvPr/>
        </p:nvPicPr>
        <p:blipFill>
          <a:blip r:embed="rId3"/>
          <a:stretch/>
        </p:blipFill>
        <p:spPr>
          <a:xfrm>
            <a:off x="6324480" y="5486400"/>
            <a:ext cx="457200" cy="25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1" descr="karanda16"/>
          <p:cNvPicPr/>
          <p:nvPr/>
        </p:nvPicPr>
        <p:blipFill>
          <a:blip r:embed="rId4"/>
          <a:stretch/>
        </p:blipFill>
        <p:spPr>
          <a:xfrm flipH="1" rot="18214200">
            <a:off x="5249160" y="1657800"/>
            <a:ext cx="421632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2" t="0" r="4574" b="-1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3" descr="de5f47ccb8027c7056a74d5a109564b7.gif"/>
          <p:cNvPicPr/>
          <p:nvPr/>
        </p:nvPicPr>
        <p:blipFill>
          <a:blip r:embed="rId4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4" descr="de5f47ccb8027c7056a74d5a109564b7.gif"/>
          <p:cNvPicPr/>
          <p:nvPr/>
        </p:nvPicPr>
        <p:blipFill>
          <a:blip r:embed="rId5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214280" y="2857680"/>
            <a:ext cx="692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Отгадать легко и быст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Мягкий, пышный и душист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Он и черный, он и бел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mbria"/>
              </a:rPr>
              <a:t>А бывает подгорел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428920" y="100008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fde"/>
                </a:solidFill>
                <a:latin typeface="Cambria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Новик\Рабочий стол\1288079926_120912364_1----D--1288079926.jpg"/>
          <p:cNvPicPr/>
          <p:nvPr/>
        </p:nvPicPr>
        <p:blipFill>
          <a:blip r:embed="rId1"/>
          <a:stretch/>
        </p:blipFill>
        <p:spPr>
          <a:xfrm>
            <a:off x="5857920" y="285840"/>
            <a:ext cx="28987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Новик\Рабочий стол\background_home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Новик\Рабочий стол\head3.jpg"/>
          <p:cNvPicPr/>
          <p:nvPr/>
        </p:nvPicPr>
        <p:blipFill>
          <a:blip r:embed="rId2"/>
          <a:stretch/>
        </p:blipFill>
        <p:spPr>
          <a:xfrm>
            <a:off x="500040" y="0"/>
            <a:ext cx="832500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Новик\Рабочий стол\63858932_1284147116_18.png"/>
          <p:cNvPicPr/>
          <p:nvPr/>
        </p:nvPicPr>
        <p:blipFill>
          <a:blip r:embed="rId1"/>
          <a:stretch/>
        </p:blipFill>
        <p:spPr>
          <a:xfrm>
            <a:off x="2428920" y="1428840"/>
            <a:ext cx="3591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2" descr=""/>
          <p:cNvPicPr/>
          <p:nvPr/>
        </p:nvPicPr>
        <p:blipFill>
          <a:blip r:embed="rId2"/>
          <a:stretch/>
        </p:blipFill>
        <p:spPr>
          <a:xfrm>
            <a:off x="1292400" y="212760"/>
            <a:ext cx="6784920" cy="98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Documents and Settings\All Users\Документы\Мои рисунки\школа\Анимашки\анимашки\butterfly46.gif"/>
          <p:cNvPicPr/>
          <p:nvPr/>
        </p:nvPicPr>
        <p:blipFill>
          <a:blip r:embed="rId3"/>
          <a:stretch/>
        </p:blipFill>
        <p:spPr>
          <a:xfrm>
            <a:off x="7072200" y="121428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0004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14300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64372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71484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07188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07188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07188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71484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07188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42892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78596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00076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35780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714840" y="3786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357800" y="3214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71484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71484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64372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500076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357800" y="2643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286680" y="3786120"/>
            <a:ext cx="64260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7188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500040" y="2071800"/>
            <a:ext cx="642960" cy="57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14300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78596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42892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564372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00076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35780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92928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286680" y="1500120"/>
            <a:ext cx="64260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64372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00076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357800" y="2071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35780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071880" y="1500120"/>
            <a:ext cx="642960" cy="571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714840" y="928800"/>
            <a:ext cx="6429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Новик\Рабочий стол\1288079926_120912364_1----D--1288079926.jpg"/>
          <p:cNvPicPr/>
          <p:nvPr/>
        </p:nvPicPr>
        <p:blipFill>
          <a:blip r:embed="rId1"/>
          <a:stretch/>
        </p:blipFill>
        <p:spPr>
          <a:xfrm>
            <a:off x="5857920" y="4500720"/>
            <a:ext cx="28987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Admin</cp:lastModifiedBy>
  <dcterms:modified xsi:type="dcterms:W3CDTF">2011-05-05T17:02:34Z</dcterms:modified>
  <cp:revision>77</cp:revision>
  <dc:subject/>
  <dc:title>Слайд 1</dc:title>
</cp:coreProperties>
</file>