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DA4-8788-4A01-A50F-6FE8174B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B41-68F3-4678-99C1-0D428E5B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C7F-E194-40E7-86AC-9B281E22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2D4-EFE1-4EF2-A62F-E3FE0945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6C69-0E32-447E-A1D9-FEDFC00F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07CA-DDAE-4523-93EE-B72262C5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C35A-13B2-4A12-BAE2-9481C0F7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95DD-7352-411B-BDD7-1A6F8D0C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B090-7070-4C10-9CAE-CFAECAC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406D-38AA-4CF7-991B-0FBA3790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95EE-1FEC-4666-A2F8-7D7E82B0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52E-68F7-4A56-8DDF-7FF559F6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1CC0-C14B-4566-A136-013D6AF1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9AFA-E626-4AEA-A451-EA1C9C1C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76EB-4297-4BCD-B499-4E6CF8E1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72B4-F848-4A5A-BC4C-4E46D225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B05C-D6F3-4BD5-AD2B-29105239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FBA-D1EA-4429-B058-040B1B5B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04D-FF5E-4592-95C1-17106C6B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2C1-ACFA-4E3F-8087-F216160D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2B1-315F-45A6-B563-0FC4EFB0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993-D7A3-4F7C-945F-28AE5B8E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CFF-9D3E-432F-976D-395F6458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137-5E97-4F37-9685-B4FFAD2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5CF1-8A1D-4C3C-80A2-9DC0ECA849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9CC1-E6AD-4985-A19B-4F1DC9F627B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Tahoma"/>
              </a:rPr>
              <a:t>РЕФЛЕКСИЯ</a:t>
            </a:r>
            <a:br>
              <a:rPr sz="72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иды и приемы рефлексии на уроках в начальной школ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зентация к выступлению на МО учителей начальных класс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еля ГБОУ СОШ №291 Красносельского района Санкт-Петербур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гальцовой Юлианны Владимиров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52280"/>
            <a:ext cx="7772400" cy="59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эмоционально-художественная рефлекс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ащимся предлага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ве картины с изображением пейзаж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дна картина проникнута грустным, печальным настроением, другая - радостным, веселым. Ученики выбирают ту картину, которая соответствует их настроени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моционально-музыкальная концов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Учащиеся слушают фрагменты из двух музыкальных произведений (желательно указать композитора произведения). Звучит тревожная музыка и спокойная, восторженная. Учащиеся выбирают музыкальный фрагмент, который соответствует их настроени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есть время, то можно предложить учащимся выразить свое эмоциональное настроение в виде рисунка, а в конце провест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ставку рисунк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2860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 Солнышко и тучк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должи фразу 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егодня на занятиях было интересно, потому что…………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Я бы хотел похвалить себя за то, что …………………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 уроке понравилось, аж мое сердце поет от того, что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не больше всего удалось… -Я могу себя похвалить… -Мне было интересно…. -Мне было трудно… -Я хочу сказать спасибо…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исуем настро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гонёк общен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истер Настроени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Дерево творчеств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ветофо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ду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лнышк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Ёлочка настроени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Мишень настроени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Музыкальный тест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Цветик-многоцвети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Сказочное дерево  (поляна)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очт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Моё состояние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фортно  Уверен в своих силах  Хорошо  Плохо  Крайне скверн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Tahoma"/>
              </a:rPr>
              <a:t>Рефлексия деятельн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стница успех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img7"/>
          <p:cNvPicPr/>
          <p:nvPr/>
        </p:nvPicPr>
        <p:blipFill>
          <a:blip r:embed="rId1"/>
          <a:stretch/>
        </p:blipFill>
        <p:spPr>
          <a:xfrm>
            <a:off x="4114800" y="2590920"/>
            <a:ext cx="26478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Tahoma"/>
              </a:rPr>
              <a:t>Рефлексия содержания учебного материа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 Прием незаконченного предлож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Прием «Выбор афоризма или пословиц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Рефлексия достижения цел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Синквей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Рефлексивный экра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6.Анке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7.Моделирование или схематизац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8.Табличк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онятие    Знал    Узнал     Хочу узна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9.Кластер (гроздь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0.Пометки на полях (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«+» - знал, «!» - новый материал (узнал),  «?» - хочу узнать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1.Шпаргал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2. Ранжирова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3.Восстановление деформированного высказывания, правила, текст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4.Письменная дискусс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5.Бортовой журна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6.Рефлексивные сочинен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7. Вопросы с целью содержательной рефлекс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Tahoma"/>
              </a:rPr>
              <a:t>Сиквей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ервая строка – название темы (одно существительное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вторая – описание темы в двух словах, два прилагательны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третья – строка описание действия в рамках этой темы тремя слов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етвёртая строка – это фраза из четырёх слов, показывает отношение к теме (целое предложение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оследняя строка – синоним, который повторяет суть те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334120" y="1981080"/>
            <a:ext cx="38098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душка Мазай и зайц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брый, бедны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лыл, спас, чуть не утонул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д Мазай спас зайцев. Молодец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руг животных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600200" y="64008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28600"/>
          <a:ext cx="8726400" cy="6553080"/>
        </p:xfrm>
        <a:graphic>
          <a:graphicData uri="http://schemas.openxmlformats.org/drawingml/2006/table">
            <a:tbl>
              <a:tblPr/>
              <a:tblGrid>
                <a:gridCol w="4363920"/>
                <a:gridCol w="4362480"/>
              </a:tblGrid>
              <a:tr h="70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На уроке я работал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Своей работой на уроке 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Урок для меня показалс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За урок 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Мое настроение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Материал урока мне был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Домашнее задание мне кажет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ктивно / пассив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волен / не довол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ротким / длинным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устал / устал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ло лучше / стало хуже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нятен / не понятен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езен / бесполезен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ресен / скучен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гким / трудным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ресно /не интерес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AutoShape 41"/>
          <p:cNvSpPr/>
          <p:nvPr/>
        </p:nvSpPr>
        <p:spPr>
          <a:xfrm>
            <a:off x="4114800" y="64771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флексивные сочине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ный план рассуждений ребёнка в соответствии с этапами урок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ачала мы рассуждали так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мы столкнулись с проблем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тем мы наблюдали (сравнивали, делали)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 увидели (поняли)…Значит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перь мы будем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76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ы с целью содержательной рефлек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бы вы назвали уро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было самым важным на урок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чем мы сегодня на уроке…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ва тема сегодняшнего урок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ва цель урок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му посвятим следующий уро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ая задача будет стоять перед нами на следующем урок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для тебя было легко (трудно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волен ли ты своей работой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 что ты хочешь похвалить себя или кого-то из одноклассников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Tahoma"/>
              </a:rPr>
              <a:t>Вопросы итоговой рефлек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 задавать ученик (по желанию, по просьбе учителя…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мы хотели выяснить на урок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нам удалось узна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ы ответили на поставленный вопрос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будем делать завтр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было самым важным на урок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то хочет кого-нибудь похвали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«Комплимент» (Комплимент-похвала, Комплимент деловым качествам, Комплимент в чувствах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Tahoma"/>
              </a:rPr>
              <a:t>Индивидуальная и коллективная рефлек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762120" y="2057400"/>
            <a:ext cx="33526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дивидуальная письменная (личностная) рефлекс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ём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Что, если…?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ма урока: «Сестрица Алёнушка и братец Иванушк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то если бы Иванушка не напился воды из копытца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то если бы ты оказался на месте купц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952880" y="2057400"/>
            <a:ext cx="3276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ллективная или групповая рефлекс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орные слова и фразы для высказывани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мощь, вместе, совет, один, помогли, все, посоветовал, рассказывал, подружились, друг и т. п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ы учились вырезать…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ша мне помог решить…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ногие молчали…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ы вместе рисовали…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ы хотели написать…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21932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ефле́кс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от позднелат. 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reflexi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— обращение назад) — междисциплинарное понятие с многовековой историей — обращение внимания субъекта на самого себя и на своё, в частности, на продукты собственной активности, а также какое-либо их переосмыслени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ефлекс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— процесс самопознания субъектом внутренних психических актов и состоя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25804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Tahoma"/>
              </a:rPr>
              <a:t>Рефлексия является обязательным условием саморазвития учителя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Что я делаю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С какой целью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Каковы результаты моей деятельно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Как я этого достиг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Можно ли сделать лучш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Что я буду делать дальш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современной педагогике под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рефлексией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онимают самоанализ деятельности и её  результат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2860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и взаимодействии с учащимся учитель использует, в зависимости от обстоятельств, один из видов учебной  рефлексии, отражающих четыре сферы человеческой сущност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зическую (успел – не успел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нсорную (самочувствие: комфортно - дискомфортно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ллектуальную (что понял, что осознал – что не понял, какие затруднения испытывал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уховную (стал лучше – хуже, созидал или разрушал себя, других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2860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сходя из функций рефлексии предлагается следующая классификац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рефлексия настроения и эмоционального состоя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рефлексия деятель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рефлексия содержания учебного материа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Tahoma"/>
              </a:rPr>
              <a:t>Рефлексия настроения и эмоционального состоя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ый простой вариант - показываем учащимся карточки с изображением трех лиц: веселого, нейтрального и грустн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Picture 4" descr="img1"/>
          <p:cNvPicPr/>
          <p:nvPr/>
        </p:nvPicPr>
        <p:blipFill>
          <a:blip r:embed="rId1"/>
          <a:stretch/>
        </p:blipFill>
        <p:spPr>
          <a:xfrm>
            <a:off x="0" y="0"/>
            <a:ext cx="4078440" cy="4695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img2"/>
          <p:cNvPicPr/>
          <p:nvPr/>
        </p:nvPicPr>
        <p:blipFill>
          <a:blip r:embed="rId2"/>
          <a:stretch/>
        </p:blipFill>
        <p:spPr>
          <a:xfrm>
            <a:off x="2514600" y="4267080"/>
            <a:ext cx="30369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img3"/>
          <p:cNvPicPr/>
          <p:nvPr/>
        </p:nvPicPr>
        <p:blipFill>
          <a:blip r:embed="rId3"/>
          <a:stretch/>
        </p:blipFill>
        <p:spPr>
          <a:xfrm>
            <a:off x="5619600" y="762120"/>
            <a:ext cx="35244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21932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расный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восторженное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ранжевый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радостное, тепло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желтый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светлое, приятное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еленый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спокойное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иний 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удовлетворенное, грустное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фиолетовый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тревожное, напряженное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ерный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упадок, уны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4" descr="img4"/>
          <p:cNvPicPr/>
          <p:nvPr/>
        </p:nvPicPr>
        <p:blipFill>
          <a:blip r:embed="rId1"/>
          <a:stretch/>
        </p:blipFill>
        <p:spPr>
          <a:xfrm>
            <a:off x="4876920" y="228600"/>
            <a:ext cx="258120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g5"/>
          <p:cNvPicPr/>
          <p:nvPr/>
        </p:nvPicPr>
        <p:blipFill>
          <a:blip r:embed="rId2"/>
          <a:stretch/>
        </p:blipFill>
        <p:spPr>
          <a:xfrm>
            <a:off x="533520" y="609480"/>
            <a:ext cx="2752560" cy="2076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6"/>
          <p:cNvPicPr/>
          <p:nvPr/>
        </p:nvPicPr>
        <p:blipFill>
          <a:blip r:embed="rId3"/>
          <a:stretch/>
        </p:blipFill>
        <p:spPr>
          <a:xfrm>
            <a:off x="2209680" y="4114800"/>
            <a:ext cx="4686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altsova</cp:lastModifiedBy>
  <dcterms:modified xsi:type="dcterms:W3CDTF">2014-02-17T16:37:18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