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2BE9E-FCA7-47E4-8D50-757835A0458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C563C-178E-433A-B8AE-8BB4A48FB33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440" y="0"/>
            <a:ext cx="1800" cy="144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8640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7915A-95C8-46E9-ACB9-7CC367002E5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-600120" y="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8640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D77F4-F7B0-49D9-A89B-6E3B2F3B002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440" y="0"/>
            <a:ext cx="1800" cy="144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8640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3ECC5-0D6F-4C48-8820-82628AB1CE0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-600120" y="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86400" cy="40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8D7C8-D077-481E-AA79-AF36CDBB6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E3B22-0068-42E6-A137-2E9B3DCC3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A2886-CE35-43C2-9DB7-B15DD18A0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B619F-1FAF-492E-B181-2636CE989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4B016-511D-42DF-B1A3-D961854B8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56766-6AFF-43DB-BDDA-ACC292CF2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61144-974A-4818-BB0C-E5F77B331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3F122-F9BA-48B7-ACFF-C77339143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93CD2-466C-461C-AD76-E329F5FAB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DD11C-7FAE-4256-BA60-A4C77FF6B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52AB9-F157-4536-9B86-957284FFE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D7521-FB1D-4DBA-ADAF-4508B32E3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1CF30-9906-4BDB-BF6C-BC852AAAB30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58560" y="1600200"/>
            <a:ext cx="7705800" cy="110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4284720" y="4869000"/>
            <a:ext cx="3384360" cy="11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оковец Людмила Никола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читель начальных классов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ОУ «Прогимназия №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Г.Ворку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mult-37"/>
          <p:cNvPicPr/>
          <p:nvPr/>
        </p:nvPicPr>
        <p:blipFill>
          <a:blip r:embed="rId1"/>
          <a:stretch/>
        </p:blipFill>
        <p:spPr>
          <a:xfrm>
            <a:off x="1763640" y="2924280"/>
            <a:ext cx="2665440" cy="180504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6"/>
          <p:cNvSpPr/>
          <p:nvPr/>
        </p:nvSpPr>
        <p:spPr>
          <a:xfrm>
            <a:off x="2268360" y="549720"/>
            <a:ext cx="6316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0000"/>
                </a:solidFill>
                <a:latin typeface="Arial"/>
              </a:rPr>
              <a:t>Деятельностный подход к совершенствованию навыков чтения младших школьников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1331640" y="836640"/>
            <a:ext cx="7437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ЕСНОЙ ОЖИВАЕТ ВСЯ ПРИРО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(5 секунд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618920" y="1628640"/>
            <a:ext cx="7056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 ЛЕСНОЙ ОПУШКЕ РАСЦВЕ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ДСНЕЖНИК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(7 секунд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547640" y="1700280"/>
            <a:ext cx="7128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 ВЕСЕННЕМ ЛЕСУ ДЫШИТ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ЛЕГКО И СВОБОДНО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(7 секунд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Жужжащее чт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619280" y="1600200"/>
            <a:ext cx="706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жеурочные пятиминутки («жужжащее» чтение) проводят в начале каждого урока. Во II классе время их сокращается до 2-3 минут. Эффективность обусловлена частотой тренировок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83628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ногократность чтения.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547640" y="2420640"/>
            <a:ext cx="715032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 мину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 мину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 минут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0 секунд ( в темпе скороговорк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618920" y="2204640"/>
            <a:ext cx="7056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: «Студент, науками живущий, учи Псалтырь на сон грядущий!»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124000" y="4508640"/>
            <a:ext cx="8229600" cy="186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ак учить читать дом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547280" y="1600200"/>
            <a:ext cx="7139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обходимо читать часто, но мал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Желательно чтение перед сном, чтобы ребёнок лег спать с думой о книг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1"/>
          <p:cNvSpPr/>
          <p:nvPr/>
        </p:nvSpPr>
        <p:spPr>
          <a:xfrm>
            <a:off x="457200" y="174600"/>
            <a:ext cx="8229600" cy="13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1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2"/>
          <p:cNvSpPr/>
          <p:nvPr/>
        </p:nvSpPr>
        <p:spPr>
          <a:xfrm>
            <a:off x="3132000" y="1619280"/>
            <a:ext cx="25084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6622920" y="1557360"/>
            <a:ext cx="252108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1476360" y="1557360"/>
            <a:ext cx="197964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4788000" y="2421000"/>
            <a:ext cx="270036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6"/>
          <p:cNvSpPr/>
          <p:nvPr/>
        </p:nvSpPr>
        <p:spPr>
          <a:xfrm>
            <a:off x="1763640" y="2349360"/>
            <a:ext cx="4286160" cy="16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lvl="1">
              <a:lnSpc>
                <a:spcPct val="95000"/>
              </a:lnSpc>
              <a:spcBef>
                <a:spcPts val="79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2"/>
          <p:cNvSpPr/>
          <p:nvPr/>
        </p:nvSpPr>
        <p:spPr>
          <a:xfrm>
            <a:off x="2195640" y="4797360"/>
            <a:ext cx="100800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3"/>
          <p:cNvSpPr/>
          <p:nvPr/>
        </p:nvSpPr>
        <p:spPr>
          <a:xfrm>
            <a:off x="3276720" y="4221000"/>
            <a:ext cx="1046160" cy="59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4"/>
          <p:cNvSpPr/>
          <p:nvPr/>
        </p:nvSpPr>
        <p:spPr>
          <a:xfrm>
            <a:off x="4356000" y="3645000"/>
            <a:ext cx="104472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5"/>
          <p:cNvSpPr/>
          <p:nvPr/>
        </p:nvSpPr>
        <p:spPr>
          <a:xfrm>
            <a:off x="5724360" y="3068640"/>
            <a:ext cx="49212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6"/>
          <p:cNvSpPr/>
          <p:nvPr/>
        </p:nvSpPr>
        <p:spPr>
          <a:xfrm>
            <a:off x="7236000" y="2463840"/>
            <a:ext cx="108108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8"/>
          <p:cNvSpPr/>
          <p:nvPr/>
        </p:nvSpPr>
        <p:spPr>
          <a:xfrm>
            <a:off x="1476360" y="335880"/>
            <a:ext cx="698508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«Чтение — это окошко, через которое дети видят и познают мир и самих себя. Оно открывается перед ребенком лишь тогда, когда, наряду с чтением, одновременно с ним и даже раньше, чем впервые раскрыта книга, начинается кропотливая работа над словами»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.А. Сухомлинский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3" descr=""/>
          <p:cNvPicPr/>
          <p:nvPr/>
        </p:nvPicPr>
        <p:blipFill>
          <a:blip r:embed="rId1"/>
          <a:stretch/>
        </p:blipFill>
        <p:spPr>
          <a:xfrm>
            <a:off x="5940360" y="1440000"/>
            <a:ext cx="720720" cy="6220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" descr=""/>
          <p:cNvPicPr/>
          <p:nvPr/>
        </p:nvPicPr>
        <p:blipFill>
          <a:blip r:embed="rId2"/>
          <a:stretch/>
        </p:blipFill>
        <p:spPr>
          <a:xfrm>
            <a:off x="7199280" y="1260360"/>
            <a:ext cx="720720" cy="6224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5" descr=""/>
          <p:cNvPicPr/>
          <p:nvPr/>
        </p:nvPicPr>
        <p:blipFill>
          <a:blip r:embed="rId3"/>
          <a:stretch/>
        </p:blipFill>
        <p:spPr>
          <a:xfrm>
            <a:off x="6659640" y="277920"/>
            <a:ext cx="720720" cy="62208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990000"/>
                </a:solidFill>
                <a:latin typeface="Arial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1619280" y="620280"/>
            <a:ext cx="706752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99"/>
                </a:solidFill>
                <a:latin typeface="Arial"/>
              </a:rPr>
              <a:t>Этапы формирования навыков чтения на основе деятельностного подхода следующие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. Развитие речевого аппарат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. Развитие внимания к зрительному образу читаемого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. Расширение оперативного поля чтен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Развитие смысловой догадки.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5. Овладение пониманием значения слов, сближение восприятия и понимания тексто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Увеличение скорости чтения вслух и про себя.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1"/>
          <p:cNvSpPr/>
          <p:nvPr/>
        </p:nvSpPr>
        <p:spPr>
          <a:xfrm>
            <a:off x="1255680" y="765000"/>
            <a:ext cx="7888320" cy="12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1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"/>
          <p:cNvSpPr/>
          <p:nvPr/>
        </p:nvSpPr>
        <p:spPr>
          <a:xfrm>
            <a:off x="1692360" y="1484280"/>
            <a:ext cx="2952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5508720" y="1484280"/>
            <a:ext cx="27003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1763640" y="2060640"/>
            <a:ext cx="2700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8"/>
          <p:cNvSpPr/>
          <p:nvPr/>
        </p:nvSpPr>
        <p:spPr>
          <a:xfrm>
            <a:off x="1763640" y="4221000"/>
            <a:ext cx="652680" cy="59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9"/>
          <p:cNvSpPr/>
          <p:nvPr/>
        </p:nvSpPr>
        <p:spPr>
          <a:xfrm>
            <a:off x="3059280" y="3573360"/>
            <a:ext cx="65232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0"/>
          <p:cNvSpPr/>
          <p:nvPr/>
        </p:nvSpPr>
        <p:spPr>
          <a:xfrm>
            <a:off x="6012000" y="2565360"/>
            <a:ext cx="65232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7"/>
          <p:cNvSpPr/>
          <p:nvPr/>
        </p:nvSpPr>
        <p:spPr>
          <a:xfrm>
            <a:off x="1619280" y="-80640"/>
            <a:ext cx="6953400" cy="48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3378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3378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Дыхательное упражнени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3378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3378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3378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6600"/>
                </a:solidFill>
                <a:latin typeface="Arial"/>
              </a:rPr>
              <a:t>«Одуванчик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3378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едставьте, что в руках   у вас одуванчик. Пробуем сдуть с него пушинки. Сначала слабо дуем, потом сильнее, в конце – сильно. После каждого выдоха быстро вдыхае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1547280" y="549000"/>
            <a:ext cx="713916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 algn="ctr">
              <a:lnSpc>
                <a:spcPct val="11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0000"/>
                </a:solidFill>
                <a:latin typeface="Arial"/>
              </a:rPr>
              <a:t>Артикуляционная гимнасти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пражнение на произнесение звуков и звукосочетаний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би, бэ, ба, бо, бу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бы, бе, бя, бе, б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би-би-бип,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бэ-бэ-бэп,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бо-бо-бо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1"/>
          <p:cNvSpPr/>
          <p:nvPr/>
        </p:nvSpPr>
        <p:spPr>
          <a:xfrm>
            <a:off x="611280" y="333360"/>
            <a:ext cx="7888320" cy="12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1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3780000" y="1557360"/>
            <a:ext cx="250488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5651640" y="1484280"/>
            <a:ext cx="250488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5"/>
          <p:cNvSpPr/>
          <p:nvPr/>
        </p:nvSpPr>
        <p:spPr>
          <a:xfrm>
            <a:off x="1979640" y="2060640"/>
            <a:ext cx="250488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6"/>
          <p:cNvSpPr/>
          <p:nvPr/>
        </p:nvSpPr>
        <p:spPr>
          <a:xfrm>
            <a:off x="3708360" y="2060640"/>
            <a:ext cx="144000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2"/>
          <p:cNvSpPr/>
          <p:nvPr/>
        </p:nvSpPr>
        <p:spPr>
          <a:xfrm>
            <a:off x="1116000" y="4292640"/>
            <a:ext cx="154944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3"/>
          <p:cNvSpPr/>
          <p:nvPr/>
        </p:nvSpPr>
        <p:spPr>
          <a:xfrm>
            <a:off x="4788000" y="2708280"/>
            <a:ext cx="126036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4"/>
          <p:cNvSpPr/>
          <p:nvPr/>
        </p:nvSpPr>
        <p:spPr>
          <a:xfrm>
            <a:off x="6227640" y="2133720"/>
            <a:ext cx="126072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5"/>
          <p:cNvSpPr/>
          <p:nvPr/>
        </p:nvSpPr>
        <p:spPr>
          <a:xfrm>
            <a:off x="3276720" y="3284640"/>
            <a:ext cx="162072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6"/>
          <p:cNvSpPr/>
          <p:nvPr/>
        </p:nvSpPr>
        <p:spPr>
          <a:xfrm>
            <a:off x="1908000" y="3789360"/>
            <a:ext cx="183708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20"/>
          <p:cNvSpPr/>
          <p:nvPr/>
        </p:nvSpPr>
        <p:spPr>
          <a:xfrm>
            <a:off x="1764000" y="544320"/>
            <a:ext cx="6630120" cy="58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истоговорки и скороговор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Виды чтения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6600"/>
                </a:solidFill>
                <a:latin typeface="Arial"/>
              </a:rPr>
              <a:t>вслух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жужжащее чтение (вполголоса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6600"/>
                </a:solidFill>
                <a:latin typeface="Arial"/>
              </a:rPr>
              <a:t>чтение с чётким проговариванием по слога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целыми словам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6600"/>
                </a:solidFill>
                <a:latin typeface="Arial"/>
              </a:rPr>
              <a:t>шёпотом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чтение в пара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6600"/>
                </a:solidFill>
                <a:latin typeface="Arial"/>
              </a:rPr>
              <a:t>по ролям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«цепочкой»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6600"/>
                </a:solidFill>
                <a:latin typeface="Arial"/>
              </a:rPr>
              <a:t>«про себя»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за дикторо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6600"/>
                </a:solidFill>
                <a:latin typeface="Arial"/>
              </a:rPr>
              <a:t>за учителе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1547640" y="764640"/>
            <a:ext cx="71280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ря-ря-ря – синие моря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рю-рю-рю – репу я варю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ярь-ярь-ярь – новый букварь; ри-ри-ри – горят фонари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е-ре-ре – санки на гор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рь-орь-орь – у Андрюши корь;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0000"/>
                </a:solidFill>
                <a:latin typeface="Arial"/>
              </a:rPr>
              <a:t>Речевая размин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547280" y="1600200"/>
            <a:ext cx="7139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На горе Арарат растет крупный виноград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1547640" y="549360"/>
            <a:ext cx="7128000" cy="42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Arial"/>
              </a:rPr>
              <a:t>Зрительный диктан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8"/>
          <p:cNvSpPr/>
          <p:nvPr/>
        </p:nvSpPr>
        <p:spPr>
          <a:xfrm>
            <a:off x="1619280" y="1436760"/>
            <a:ext cx="6912000" cy="43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00"/>
                </a:solidFill>
                <a:latin typeface="Arial"/>
              </a:rPr>
              <a:t>Основные правила проведения этой работы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жедневн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ение предложения происходит молч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писи ведутся на листочках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писи собираются, не проверяются и не возвращаются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дания можно усложнят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вторение написания наборов предложени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и такой ежедневной работе развивается оперативная память, школьники усваивают смысл предложений, читать им становится интересно, и поэтому процесс обучения идет гораздо быстрее и качественнее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7T15:43:39Z</dcterms:created>
  <dc:creator>user</dc:creator>
  <dc:description/>
  <dc:language>en-US</dc:language>
  <cp:lastModifiedBy>Людмила</cp:lastModifiedBy>
  <dcterms:modified xsi:type="dcterms:W3CDTF">2014-04-06T05:31:15Z</dcterms:modified>
  <cp:revision>8</cp:revision>
  <dc:subject/>
  <dc:title>Слайд 1</dc:title>
</cp:coreProperties>
</file>