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2.jpeg" ContentType="image/jpeg"/>
  <Override PartName="/ppt/media/image51.jpeg" ContentType="image/jpeg"/>
  <Override PartName="/ppt/media/image49.jpeg" ContentType="image/jpeg"/>
  <Override PartName="/ppt/media/image48.jpeg" ContentType="image/jpeg"/>
  <Override PartName="/ppt/media/image4.png" ContentType="image/png"/>
  <Override PartName="/ppt/media/image12.jpeg" ContentType="image/jpeg"/>
  <Override PartName="/ppt/media/image36.jpeg" ContentType="image/jpeg"/>
  <Override PartName="/ppt/media/image2.jpeg" ContentType="image/jpeg"/>
  <Override PartName="/ppt/media/image15.jpeg" ContentType="image/jpeg"/>
  <Override PartName="/ppt/media/image56.jpeg" ContentType="image/jpeg"/>
  <Override PartName="/ppt/media/image3.png" ContentType="image/png"/>
  <Override PartName="/ppt/media/image18.jpeg" ContentType="image/jpeg"/>
  <Override PartName="/ppt/media/image20.jpeg" ContentType="image/jpeg"/>
  <Override PartName="/ppt/media/image19.jpeg" ContentType="image/jpeg"/>
  <Override PartName="/ppt/media/image21.jpeg" ContentType="image/jpeg"/>
  <Override PartName="/ppt/media/image63.jpeg" ContentType="image/jpeg"/>
  <Override PartName="/ppt/media/image29.png" ContentType="image/png"/>
  <Override PartName="/ppt/media/image24.jpeg" ContentType="image/jpeg"/>
  <Override PartName="/ppt/media/image71.jpeg" ContentType="image/jpeg"/>
  <Override PartName="/ppt/media/image44.jpeg" ContentType="image/jpeg"/>
  <Override PartName="/ppt/media/image66.jpeg" ContentType="image/jpeg"/>
  <Override PartName="/ppt/media/image65.jpeg" ContentType="image/jpeg"/>
  <Override PartName="/ppt/media/image69.jpeg" ContentType="image/jpeg"/>
  <Override PartName="/ppt/media/image25.jpeg" ContentType="image/jpeg"/>
  <Override PartName="/ppt/media/image68.jpeg" ContentType="image/jpeg"/>
  <Override PartName="/ppt/media/image67.jpeg" ContentType="image/jpeg"/>
  <Override PartName="/ppt/media/image64.jpeg" ContentType="image/jpeg"/>
  <Override PartName="/ppt/media/image38.jpeg" ContentType="image/jpeg"/>
  <Override PartName="/ppt/media/image17.jpeg" ContentType="image/jpeg"/>
  <Override PartName="/ppt/media/image61.jpeg" ContentType="image/jpeg"/>
  <Override PartName="/ppt/media/image50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70.jpeg" ContentType="image/jpeg"/>
  <Override PartName="/ppt/media/image39.jpeg" ContentType="image/jpeg"/>
  <Override PartName="/ppt/media/image5.png" ContentType="image/png"/>
  <Override PartName="/ppt/media/image28.png" ContentType="image/png"/>
  <Override PartName="/ppt/media/image43.jpeg" ContentType="image/jpeg"/>
  <Override PartName="/ppt/media/image26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14.jpeg" ContentType="image/jpeg"/>
  <Override PartName="/ppt/media/image41.jpeg" ContentType="image/jpeg"/>
  <Override PartName="/ppt/media/image8.png" ContentType="image/png"/>
  <Override PartName="/ppt/media/image23.jpeg" ContentType="image/jpeg"/>
  <Override PartName="/ppt/media/image11.jpeg" ContentType="image/jpe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734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553B-852B-4597-8A6F-A71D0AA69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0AEA-F3D7-4006-9ADB-536FF6F9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46B5-AEB2-45B5-8E96-9375C4691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7996-FBDA-4584-9957-46869C015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2BA9-D380-4B39-B775-37F85B65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43B0-E0C6-4224-8CC3-73DD0F97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DCDB-3F6B-46EF-A8BC-92B396BF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55EC-46A6-4431-9C6D-21ABA564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16E6-22A4-47DA-BD89-D1929CFB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1DEB-E793-43F5-B128-58408727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A128-173F-4A04-8990-451C526F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78F4-3B57-4A05-BBD9-75EC5487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8877-20F3-44F1-A4CF-7D6CBCDD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ACB1-E482-495B-8E21-F72CA637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0BDB-0741-49B2-BC6D-7CD27B7A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0E51-9D7B-4BC4-8599-EC62A37D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674F-195C-47C9-9A14-6ED4A0E67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FBE9-9F68-42A6-BF8C-3A26E287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8C57-6C31-4A53-95EA-3605F023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3486-10A6-416A-AFB4-442D9392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B805-8FD3-4EA7-A9CB-6F3EF02D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AA49-461D-431A-8D4B-29FE57BB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0A77-5FC7-4E33-9173-FCA0CFB3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A228-3678-44AB-B8F4-EF220408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5F3F-B0F8-409C-A104-39DA96D7BF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A828-DA46-4922-A912-915B08114D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image" Target="../media/image71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85672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Музейно-литературный клуб «Филипок» - первый год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276720" y="1557360"/>
            <a:ext cx="2909880" cy="3560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684360" y="5300640"/>
            <a:ext cx="770400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зработчики проекта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ведующая музеем образования г.Великие Лук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роздова Т.М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уководитель МО учителей начальных классов МОУ "СОШ № 5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нутова Л.В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Что понравилось в музее?</a:t>
            </a:r>
            <a:endParaRPr b="0" lang="en-US" sz="28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2808360" cy="2756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364000" y="765000"/>
            <a:ext cx="3589560" cy="2063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79280" y="4005360"/>
            <a:ext cx="4146480" cy="2655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5148360" y="3789360"/>
            <a:ext cx="3805200" cy="2727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2843280" y="981000"/>
            <a:ext cx="2808360" cy="2125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3780000" y="3573360"/>
            <a:ext cx="1990440" cy="24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27640" y="260280"/>
            <a:ext cx="42703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Выбираем Совет Мудрейших</a:t>
            </a:r>
            <a:endParaRPr b="0" lang="en-US" sz="28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763640" y="2492280"/>
            <a:ext cx="7139160" cy="41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Родословная семьи Л.Н.Толстого</a:t>
            </a:r>
            <a:endParaRPr b="0" lang="en-US" sz="28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932360" y="364500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79280" y="765000"/>
            <a:ext cx="5832720" cy="4375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5516640"/>
            <a:ext cx="3745080" cy="720720"/>
          </a:xfrm>
          <a:custGeom>
            <a:avLst/>
            <a:gdLst>
              <a:gd name="textAreaLeft" fmla="*/ 609480 w 3745080"/>
              <a:gd name="textAreaRight" fmla="*/ 3135600 w 3745080"/>
              <a:gd name="textAreaTop" fmla="*/ 9000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541" y="0"/>
                </a:lnTo>
                <a:arcTo wR="675" hR="675" stAng="16200000" swAng="5400000"/>
                <a:lnTo>
                  <a:pt x="6216" y="2700"/>
                </a:lnTo>
                <a:lnTo>
                  <a:pt x="15384" y="2700"/>
                </a:lnTo>
                <a:lnTo>
                  <a:pt x="15384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084" y="18900"/>
                </a:lnTo>
                <a:lnTo>
                  <a:pt x="18084" y="20925"/>
                </a:lnTo>
                <a:arcTo wR="675" hR="675" stAng="0" swAng="5400000"/>
                <a:lnTo>
                  <a:pt x="4191" y="21600"/>
                </a:lnTo>
                <a:arcTo wR="675" hR="675" stAng="5400000" swAng="5400000"/>
                <a:lnTo>
                  <a:pt x="3516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6216" y="675"/>
                </a:moveTo>
                <a:arcTo wR="675" hR="675" stAng="0" swAng="5400000"/>
                <a:lnTo>
                  <a:pt x="4191" y="1350"/>
                </a:lnTo>
                <a:arcTo wR="675" hR="675" stAng="16200000" swAng="-5400000"/>
                <a:arcTo wR="675" hR="675" stAng="10800000" swAng="-5400000"/>
                <a:lnTo>
                  <a:pt x="6216" y="2700"/>
                </a:lnTo>
              </a:path>
              <a:path fill="none" w="21600" h="21600">
                <a:moveTo>
                  <a:pt x="15384" y="675"/>
                </a:moveTo>
                <a:arcTo wR="675" hR="675" stAng="10800000" swAng="-5400000"/>
                <a:lnTo>
                  <a:pt x="17409" y="1350"/>
                </a:lnTo>
                <a:arcTo wR="675" hR="675" stAng="16200000" swAng="5400000"/>
                <a:arcTo wR="675" hR="675" stAng="0" swAng="5400000"/>
                <a:lnTo>
                  <a:pt x="15384" y="2700"/>
                </a:lnTo>
              </a:path>
              <a:path fill="none" w="21600" h="21600">
                <a:moveTo>
                  <a:pt x="3516" y="2025"/>
                </a:moveTo>
                <a:lnTo>
                  <a:pt x="3516" y="18900"/>
                </a:lnTo>
              </a:path>
              <a:path fill="none" w="21600" h="21600">
                <a:moveTo>
                  <a:pt x="18084" y="2025"/>
                </a:moveTo>
                <a:lnTo>
                  <a:pt x="18084" y="18900"/>
                </a:lnTo>
              </a:path>
            </a:pathLst>
          </a:custGeom>
          <a:solidFill>
            <a:srgbClr val="00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Tahoma"/>
              </a:rPr>
              <a:t>16 октября 2007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Учимся составлять родословные</a:t>
            </a:r>
            <a:endParaRPr b="0" lang="en-US" sz="28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08000" y="476280"/>
            <a:ext cx="2376360" cy="165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948360" y="2276640"/>
            <a:ext cx="2021040" cy="2592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203640" y="476280"/>
            <a:ext cx="2448000" cy="1633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6443640" y="476280"/>
            <a:ext cx="2559240" cy="1674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6372360" y="5013360"/>
            <a:ext cx="2663640" cy="1690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2771640" y="5229360"/>
            <a:ext cx="3313080" cy="1498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108000" y="5013360"/>
            <a:ext cx="2448000" cy="1665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179280" y="2349360"/>
            <a:ext cx="1724040" cy="2421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2340000" y="1844640"/>
            <a:ext cx="4394160" cy="32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6756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Художники в жизни и творчестве Л.Н.Толстого</a:t>
            </a:r>
            <a:endParaRPr b="0" lang="en-US" sz="28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067280" y="3284640"/>
            <a:ext cx="4902120" cy="3370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5113440" cy="3446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39640" y="5084640"/>
            <a:ext cx="3456000" cy="649440"/>
          </a:xfrm>
          <a:custGeom>
            <a:avLst/>
            <a:gdLst>
              <a:gd name="textAreaLeft" fmla="*/ 579240 w 3456000"/>
              <a:gd name="textAreaRight" fmla="*/ 2876760 w 3456000"/>
              <a:gd name="textAreaTop" fmla="*/ 0 h 649440"/>
              <a:gd name="textAreaBottom" fmla="*/ 568440 h 649440"/>
            </a:gdLst>
            <a:ahLst/>
            <a:rect l="textAreaLeft" t="textAreaTop" r="textAreaRight" b="textAreaBottom"/>
            <a:pathLst>
              <a:path w="21600" h="21600">
                <a:moveTo>
                  <a:pt x="6321" y="18900"/>
                </a:moveTo>
                <a:lnTo>
                  <a:pt x="6321" y="20925"/>
                </a:lnTo>
                <a:cubicBezTo>
                  <a:pt x="6321" y="21263"/>
                  <a:pt x="5901" y="21600"/>
                  <a:pt x="5481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621" y="2700"/>
                </a:lnTo>
                <a:lnTo>
                  <a:pt x="3621" y="675"/>
                </a:lnTo>
                <a:cubicBezTo>
                  <a:pt x="3621" y="338"/>
                  <a:pt x="4041" y="0"/>
                  <a:pt x="4461" y="0"/>
                </a:cubicBezTo>
                <a:lnTo>
                  <a:pt x="17139" y="0"/>
                </a:lnTo>
                <a:cubicBezTo>
                  <a:pt x="17559" y="0"/>
                  <a:pt x="17979" y="338"/>
                  <a:pt x="17979" y="675"/>
                </a:cubicBezTo>
                <a:lnTo>
                  <a:pt x="17979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119" y="21600"/>
                </a:lnTo>
                <a:cubicBezTo>
                  <a:pt x="15699" y="21600"/>
                  <a:pt x="15279" y="21263"/>
                  <a:pt x="15279" y="20925"/>
                </a:cubicBezTo>
                <a:lnTo>
                  <a:pt x="15279" y="18900"/>
                </a:lnTo>
                <a:close/>
              </a:path>
              <a:path fill="darkenLess" w="21600" h="21600">
                <a:moveTo>
                  <a:pt x="6321" y="18900"/>
                </a:moveTo>
                <a:lnTo>
                  <a:pt x="6321" y="20925"/>
                </a:lnTo>
                <a:cubicBezTo>
                  <a:pt x="6321" y="20588"/>
                  <a:pt x="5901" y="20250"/>
                  <a:pt x="5481" y="20250"/>
                </a:cubicBezTo>
                <a:lnTo>
                  <a:pt x="4461" y="20250"/>
                </a:lnTo>
                <a:cubicBezTo>
                  <a:pt x="4041" y="20250"/>
                  <a:pt x="3621" y="19913"/>
                  <a:pt x="3621" y="19575"/>
                </a:cubicBezTo>
                <a:cubicBezTo>
                  <a:pt x="3621" y="19238"/>
                  <a:pt x="4041" y="18900"/>
                  <a:pt x="4461" y="18900"/>
                </a:cubicBezTo>
                <a:close/>
              </a:path>
              <a:path fill="darkenLess" w="21600" h="21600">
                <a:moveTo>
                  <a:pt x="15279" y="18900"/>
                </a:moveTo>
                <a:lnTo>
                  <a:pt x="15279" y="20925"/>
                </a:lnTo>
                <a:cubicBezTo>
                  <a:pt x="15279" y="20588"/>
                  <a:pt x="15699" y="20250"/>
                  <a:pt x="16119" y="20250"/>
                </a:cubicBezTo>
                <a:lnTo>
                  <a:pt x="17139" y="20250"/>
                </a:lnTo>
                <a:cubicBezTo>
                  <a:pt x="17559" y="20250"/>
                  <a:pt x="17979" y="19913"/>
                  <a:pt x="17979" y="19575"/>
                </a:cubicBezTo>
                <a:cubicBezTo>
                  <a:pt x="17979" y="19238"/>
                  <a:pt x="17559" y="18900"/>
                  <a:pt x="17139" y="18900"/>
                </a:cubicBezTo>
                <a:close/>
              </a:path>
              <a:path fill="darkenLess" w="21600" h="21600">
                <a:moveTo>
                  <a:pt x="3621" y="19575"/>
                </a:moveTo>
                <a:lnTo>
                  <a:pt x="3621" y="2700"/>
                </a:lnTo>
              </a:path>
              <a:path fill="darkenLess" w="21600" h="21600">
                <a:moveTo>
                  <a:pt x="17979" y="19575"/>
                </a:moveTo>
                <a:lnTo>
                  <a:pt x="17979" y="2700"/>
                </a:lnTo>
              </a:path>
            </a:pathLst>
          </a:custGeom>
          <a:solidFill>
            <a:srgbClr val="edeee2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4 декабря 2007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000" y="5589360"/>
            <a:ext cx="36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Рисуем Филипка</a:t>
            </a:r>
            <a:endParaRPr b="0" lang="en-US" sz="28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365880" y="2308320"/>
            <a:ext cx="1760400" cy="2862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443640" y="189000"/>
            <a:ext cx="1585800" cy="2160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7756560" y="3573360"/>
            <a:ext cx="1387440" cy="2664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7643880" y="692280"/>
            <a:ext cx="1500120" cy="2447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79280" y="260280"/>
            <a:ext cx="6337440" cy="4754520"/>
          </a:xfrm>
          <a:prstGeom prst="rect">
            <a:avLst/>
          </a:prstGeom>
          <a:ln w="76320">
            <a:solidFill>
              <a:srgbClr val="66ff33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292720" y="5072040"/>
            <a:ext cx="2592360" cy="17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940360" y="549000"/>
            <a:ext cx="3059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В мире русской культуры</a:t>
            </a:r>
            <a:endParaRPr b="0" lang="en-US" sz="28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59280" y="3357720"/>
            <a:ext cx="4038480" cy="3376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688000" cy="4340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00000" y="5157720"/>
            <a:ext cx="3240360" cy="647640"/>
          </a:xfrm>
          <a:prstGeom prst="horizontalScroll">
            <a:avLst>
              <a:gd name="adj" fmla="val 12500"/>
            </a:avLst>
          </a:prstGeom>
          <a:solidFill>
            <a:srgbClr val="edeee2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22 января 2008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Мир животных в творчестве Л.Н.Толстого</a:t>
            </a:r>
            <a:endParaRPr b="0" lang="en-US" sz="28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50920" y="692280"/>
            <a:ext cx="4897440" cy="30747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500720" y="3614760"/>
            <a:ext cx="4458960" cy="2997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179280" y="4211640"/>
            <a:ext cx="3745080" cy="2413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5651640" y="692280"/>
            <a:ext cx="3224160" cy="25509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987640" y="3213000"/>
            <a:ext cx="2879640" cy="863640"/>
          </a:xfrm>
          <a:prstGeom prst="horizontalScroll">
            <a:avLst>
              <a:gd name="adj" fmla="val 12500"/>
            </a:avLst>
          </a:prstGeom>
          <a:solidFill>
            <a:srgbClr val="edeee2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5 февраля 200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Познавательные рассказы в творчестве Л.Н.Толстого</a:t>
            </a:r>
            <a:endParaRPr b="0" lang="en-US" sz="28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79280" y="3068640"/>
            <a:ext cx="4038840" cy="3537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3059280" y="1052640"/>
            <a:ext cx="5833800" cy="4201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643280" y="5589720"/>
            <a:ext cx="3816360" cy="647640"/>
          </a:xfrm>
          <a:custGeom>
            <a:avLst/>
            <a:gdLst>
              <a:gd name="textAreaLeft" fmla="*/ 696600 w 3816360"/>
              <a:gd name="textAreaRight" fmla="*/ 3119760 w 3816360"/>
              <a:gd name="textAreaTop" fmla="*/ 8100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968" y="0"/>
                </a:lnTo>
                <a:arcTo wR="675" hR="675" stAng="16200000" swAng="5400000"/>
                <a:lnTo>
                  <a:pt x="6643" y="2700"/>
                </a:lnTo>
                <a:lnTo>
                  <a:pt x="14957" y="2700"/>
                </a:lnTo>
                <a:lnTo>
                  <a:pt x="14957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7657" y="18900"/>
                </a:lnTo>
                <a:lnTo>
                  <a:pt x="17657" y="20925"/>
                </a:lnTo>
                <a:arcTo wR="675" hR="675" stAng="0" swAng="5400000"/>
                <a:lnTo>
                  <a:pt x="4618" y="21600"/>
                </a:lnTo>
                <a:arcTo wR="675" hR="675" stAng="5400000" swAng="5400000"/>
                <a:lnTo>
                  <a:pt x="3943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6643" y="675"/>
                </a:moveTo>
                <a:arcTo wR="675" hR="675" stAng="0" swAng="5400000"/>
                <a:lnTo>
                  <a:pt x="4618" y="1350"/>
                </a:lnTo>
                <a:arcTo wR="675" hR="675" stAng="16200000" swAng="-5400000"/>
                <a:arcTo wR="675" hR="675" stAng="10800000" swAng="-5400000"/>
                <a:lnTo>
                  <a:pt x="6643" y="2700"/>
                </a:lnTo>
              </a:path>
              <a:path fill="none" w="21600" h="21600">
                <a:moveTo>
                  <a:pt x="14957" y="675"/>
                </a:moveTo>
                <a:arcTo wR="675" hR="675" stAng="10800000" swAng="-5400000"/>
                <a:lnTo>
                  <a:pt x="16982" y="1350"/>
                </a:lnTo>
                <a:arcTo wR="675" hR="675" stAng="16200000" swAng="5400000"/>
                <a:arcTo wR="675" hR="675" stAng="0" swAng="5400000"/>
                <a:lnTo>
                  <a:pt x="14957" y="2700"/>
                </a:lnTo>
              </a:path>
              <a:path fill="none" w="21600" h="21600">
                <a:moveTo>
                  <a:pt x="3943" y="2025"/>
                </a:moveTo>
                <a:lnTo>
                  <a:pt x="3943" y="18900"/>
                </a:lnTo>
              </a:path>
              <a:path fill="none" w="21600" h="21600">
                <a:moveTo>
                  <a:pt x="17657" y="2025"/>
                </a:moveTo>
                <a:lnTo>
                  <a:pt x="17657" y="18900"/>
                </a:lnTo>
              </a:path>
            </a:pathLst>
          </a:custGeom>
          <a:solidFill>
            <a:srgbClr val="edeee2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19 февраля 2008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Народный календарь</a:t>
            </a:r>
            <a:endParaRPr b="0" lang="en-US" sz="2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3384720" cy="2774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364000" y="1125360"/>
            <a:ext cx="3463920" cy="4618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179280" y="3016080"/>
            <a:ext cx="4753080" cy="3564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276720" y="1268280"/>
            <a:ext cx="2735280" cy="720720"/>
          </a:xfrm>
          <a:prstGeom prst="horizontalScroll">
            <a:avLst>
              <a:gd name="adj" fmla="val 12500"/>
            </a:avLst>
          </a:prstGeom>
          <a:solidFill>
            <a:srgbClr val="edeee2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Tahoma"/>
              </a:rPr>
              <a:t>11 марта 2008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Год создания - 2007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523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Музейно-литературный клуб «Филипок» создан на баз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Музея истории образования при Доме детского творчества им. А.Матросова  г. Великие Луки Псковской обла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2 класса «А» МОУ «Средняя общеобразовательная школа № 5» г. Великие Луки Псковской об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Народный праздник «Сороки»</a:t>
            </a:r>
            <a:endParaRPr b="0" lang="en-US" sz="2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79280" y="3505320"/>
            <a:ext cx="4032360" cy="3176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067280" y="907920"/>
            <a:ext cx="3887640" cy="31021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324000" y="189000"/>
            <a:ext cx="3074760" cy="3384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5364000" y="3962520"/>
            <a:ext cx="3624480" cy="26715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987640" y="3716280"/>
            <a:ext cx="3889440" cy="649440"/>
          </a:xfrm>
          <a:custGeom>
            <a:avLst/>
            <a:gdLst>
              <a:gd name="textAreaLeft" fmla="*/ 972360 w 3889440"/>
              <a:gd name="textAreaRight" fmla="*/ 2917080 w 3889440"/>
              <a:gd name="textAreaTop" fmla="*/ 8100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edeee2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19 марта 2008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граем в народные игры</a:t>
            </a:r>
            <a:endParaRPr b="0" lang="en-US" sz="2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643280" y="3716280"/>
            <a:ext cx="3937320" cy="2952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900000" y="3716280"/>
            <a:ext cx="2820960" cy="2924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4932360" y="692280"/>
            <a:ext cx="393696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Инсценировка по произведениям Л.Н.Толстого</a:t>
            </a:r>
            <a:endParaRPr b="0" lang="en-US" sz="28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5545080" cy="3454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6227640" y="4281480"/>
            <a:ext cx="2732040" cy="23526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227640" y="1413000"/>
            <a:ext cx="2678400" cy="2614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476360" y="5661000"/>
            <a:ext cx="3887640" cy="574560"/>
          </a:xfrm>
          <a:custGeom>
            <a:avLst/>
            <a:gdLst>
              <a:gd name="textAreaLeft" fmla="*/ 972000 w 3887640"/>
              <a:gd name="textAreaRight" fmla="*/ 2916000 w 3887640"/>
              <a:gd name="textAreaTop" fmla="*/ 71640 h 574560"/>
              <a:gd name="textAreaBottom" fmla="*/ 5749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edeee2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13 мая 2008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Итоговое занятие в клубе «Филипок»</a:t>
            </a:r>
            <a:endParaRPr b="0" lang="en-US" sz="28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003640" y="981000"/>
            <a:ext cx="3930840" cy="2273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5508720" y="4130640"/>
            <a:ext cx="3433680" cy="2575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250920" y="4127400"/>
            <a:ext cx="3600360" cy="2543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3227400" y="2463840"/>
            <a:ext cx="2766960" cy="2349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708360" y="5516640"/>
            <a:ext cx="2016000" cy="576360"/>
          </a:xfrm>
          <a:custGeom>
            <a:avLst/>
            <a:gdLst>
              <a:gd name="textAreaLeft" fmla="*/ 264960 w 2016000"/>
              <a:gd name="textAreaRight" fmla="*/ 1751040 w 2016000"/>
              <a:gd name="textAreaTop" fmla="*/ 7200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865" y="0"/>
                </a:lnTo>
                <a:arcTo wR="675" hR="675" stAng="16200000" swAng="5400000"/>
                <a:lnTo>
                  <a:pt x="5540" y="2700"/>
                </a:lnTo>
                <a:lnTo>
                  <a:pt x="16060" y="2700"/>
                </a:lnTo>
                <a:lnTo>
                  <a:pt x="1606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760" y="18900"/>
                </a:lnTo>
                <a:lnTo>
                  <a:pt x="18760" y="20925"/>
                </a:lnTo>
                <a:arcTo wR="675" hR="675" stAng="0" swAng="5400000"/>
                <a:lnTo>
                  <a:pt x="3515" y="21600"/>
                </a:lnTo>
                <a:arcTo wR="675" hR="675" stAng="5400000" swAng="5400000"/>
                <a:lnTo>
                  <a:pt x="284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540" y="675"/>
                </a:moveTo>
                <a:arcTo wR="675" hR="675" stAng="0" swAng="5400000"/>
                <a:lnTo>
                  <a:pt x="3515" y="1350"/>
                </a:lnTo>
                <a:arcTo wR="675" hR="675" stAng="16200000" swAng="-5400000"/>
                <a:arcTo wR="675" hR="675" stAng="10800000" swAng="-5400000"/>
                <a:lnTo>
                  <a:pt x="5540" y="2700"/>
                </a:lnTo>
              </a:path>
              <a:path fill="none" w="21600" h="21600">
                <a:moveTo>
                  <a:pt x="16060" y="675"/>
                </a:moveTo>
                <a:arcTo wR="675" hR="675" stAng="10800000" swAng="-5400000"/>
                <a:lnTo>
                  <a:pt x="18085" y="1350"/>
                </a:lnTo>
                <a:arcTo wR="675" hR="675" stAng="16200000" swAng="5400000"/>
                <a:arcTo wR="675" hR="675" stAng="0" swAng="5400000"/>
                <a:lnTo>
                  <a:pt x="16060" y="2700"/>
                </a:lnTo>
              </a:path>
              <a:path fill="none" w="21600" h="21600">
                <a:moveTo>
                  <a:pt x="2840" y="2025"/>
                </a:moveTo>
                <a:lnTo>
                  <a:pt x="2840" y="18900"/>
                </a:lnTo>
              </a:path>
              <a:path fill="none" w="21600" h="21600">
                <a:moveTo>
                  <a:pt x="18760" y="2025"/>
                </a:moveTo>
                <a:lnTo>
                  <a:pt x="18760" y="18900"/>
                </a:lnTo>
              </a:path>
            </a:pathLst>
          </a:custGeom>
          <a:solidFill>
            <a:srgbClr val="edeee2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6 мая 2008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Буклеты клуба</a:t>
            </a:r>
            <a:endParaRPr b="0" lang="en-US" sz="2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 rot="21106200">
            <a:off x="611280" y="2060280"/>
            <a:ext cx="1931760" cy="4200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 rot="21295800">
            <a:off x="2626920" y="907920"/>
            <a:ext cx="1870200" cy="4057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 rot="387000">
            <a:off x="4716000" y="1052280"/>
            <a:ext cx="1979640" cy="4356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 rot="667200">
            <a:off x="6705360" y="2273400"/>
            <a:ext cx="19526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23640" y="765000"/>
            <a:ext cx="8667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МОУ «Средняя общеобразовательная школа № 5» в 2007 году получила статус городской экспериментальной площадки «Школа Л.Н.Толстог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«Школа Л.Н.Толстого» подразумевает высокий уровень образованности в сочетании с подлинно-духовным отношением к жизни. Она создаёт условия для развития личности в единстве трёх её составляющих: интеллектуально-познавательной, нравственно-чувственной и эмоционально-воле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Музей, музейные экспонаты имеют уникальную возможность воздействовать на интеллектуальные, волевые и эмоциональные процессы личности ребёнка одновременно, а включение в эту совокупность богатого литературного и педагогического наследия Л.Н.Толстого для детей младшего школьного возраста способствует формированию личностного, эмоционально-окрашенного отношения к культурному наследию и миру в це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324000" y="-360"/>
            <a:ext cx="85104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ШКОЛА + МУЗЕЙ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10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МУЗЕЙ + ШКОЛА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812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Музей и школа в тандеме – это огромный потенциал для личностного, гуманного и духовного развития детей. Члены музейно-литературного клуба  «Филипок» не только будут приобщаться к русской и мировой культуре, но и развивать визуальную грамотность, образное и ассоциативное мышление, творческие способ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Музейно-педагогический процесс обеспечивает приобретение ребёнком целого ряда умений и навыков, развития речи, изложения и оценки происходящего, самостоятельных суждений, интерпретации зрительных образов в условиях возрастающего потока визуальной и другой информации, а, главное открытие нового «Я» через соотнесённость собственного опыта с опытом народа и челове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708804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Цель работы: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2179440"/>
            <a:ext cx="8508960" cy="39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Развитие внутреннего духовного мира ребёнка, осознание им ценностей отечественной культуры в лице великого писателя – Льва Николаевича Толст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Arial"/>
              </a:rPr>
              <a:t>Для доброй жизни нужен свет разума. А для того, чтобы разум был светел, нужна добрая 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Arial"/>
              </a:rPr>
              <a:t>                                                                      </a:t>
            </a:r>
            <a:r>
              <a:rPr b="0" i="1" lang="en-US" sz="2000" spc="-1" strike="noStrike">
                <a:solidFill>
                  <a:srgbClr val="0066ff"/>
                </a:solidFill>
                <a:latin typeface="Arial"/>
              </a:rPr>
              <a:t>Л.Н.Толс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7236000" y="189000"/>
            <a:ext cx="1623960" cy="20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Структура клуба «Филипок»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16080" y="1731960"/>
            <a:ext cx="8454960" cy="41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10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Задачи клуба: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907560"/>
            <a:ext cx="8667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Развитие музейной культуры и визуальной грамот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Создание условий для проявления и развития в детях доброжелательности, любви к окружающему миру, для восприятия себя как частицы этого ми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Развитие творческого воображения и литературного вку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Формирование самостоятельности мышления, творческого созидательного отношения к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Изучение материалов о жизни Л.Н.Толстого и написания им «Азбуки для детей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Формирование у школьников умения работать с книг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Воспитание эстетического восприятия красоты человека, природы и ми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Изучение основ художественного чтения, овладение приёмами выразительного чтения и эмоциональной ре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Обучение составлению мини-сочинений, написанию и оформлению творческих работ на темы, изучаемые в клуб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Организация встреч с поэтами и писателями гор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Изучение основ актёрского мастер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Постановка кукольных спектаклей и сценок по произведениям Л.Н.Толстого для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Организация выставок творческих работ (фотографий, мини-сочинений, рисунков, поделок и т.п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Постановка литературной композиции «Филипок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Участие в школьном празднике, посвящённом Л.Н.Толстом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Организация поездки в международный музейный центр – музей-усадьбу Л.Н.Толстого «Ясная Поляна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Налаживание связей со школами, участвующими в эксперименте НИЛ «Школа Л.Н.Толстого» и Яснополянской гимназией им Л.Н.Толст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Экскурсия в музей истории образования 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г. Великие Луки</a:t>
            </a:r>
            <a:endParaRPr b="0" lang="en-US" sz="28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516720" y="1197000"/>
            <a:ext cx="2381040" cy="1981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79280" y="1197000"/>
            <a:ext cx="4464000" cy="334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572000" y="3355920"/>
            <a:ext cx="4370400" cy="3278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79280" y="4724280"/>
            <a:ext cx="3446640" cy="1981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211640" y="1484280"/>
            <a:ext cx="2592360" cy="79236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18 сентября 200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6:51:31Z</dcterms:created>
  <dc:creator>Мир</dc:creator>
  <dc:description/>
  <dc:language>en-US</dc:language>
  <cp:lastModifiedBy>Мир</cp:lastModifiedBy>
  <dcterms:modified xsi:type="dcterms:W3CDTF">2010-07-18T08:43:07Z</dcterms:modified>
  <cp:revision>27</cp:revision>
  <dc:subject/>
  <dc:title>Клуб «Филипок»</dc:title>
</cp:coreProperties>
</file>