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447-13BC-4053-84F3-2072F4C8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A57-3CEF-4BFF-B6A5-C219A384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A1C-0C7E-4749-AE56-E7AD0E35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3E3-1A48-4C6C-BFAE-8BAFE93D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98A-E138-4662-909E-9C205163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1AE-7640-4BD0-A812-3A03765D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24D-5847-4012-A453-7FB63AE3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3DB-4A8F-46DF-ABE1-6CE0C4BA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826-92AE-4962-80A3-A956CDD6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16A-778D-4AE0-8880-A36119D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472-5EE4-4C7F-9311-550CE9E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901-5F26-4504-BA01-437B187D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0C3F-6496-4F60-A424-F0D3277A89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58920" y="3499920"/>
            <a:ext cx="37371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удентки 5 курсу 3 груп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сюк Лілії Миколаї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1268280"/>
            <a:ext cx="8893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Georgia"/>
              </a:rPr>
              <a:t>Презентація до уроків з теми </a:t>
            </a:r>
            <a:br>
              <a:rPr sz="3600"/>
            </a:br>
            <a:r>
              <a:rPr b="1" i="1" lang="uk-UA" sz="3600" spc="-1" strike="noStrike">
                <a:solidFill>
                  <a:srgbClr val="ff0000"/>
                </a:solidFill>
                <a:latin typeface="Georgia"/>
              </a:rPr>
              <a:t>«Короткий запис задач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Georgia"/>
              </a:rPr>
              <a:t>навчальний зошит 1 кла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3"/>
          <p:cNvSpPr/>
          <p:nvPr/>
        </p:nvSpPr>
        <p:spPr>
          <a:xfrm>
            <a:off x="444600" y="809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. Постав можливі запитання до умови задачі. До кожної задачі добери короткий запис. Усно розв'яжи задач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1569960" y="1727280"/>
            <a:ext cx="53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Тат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абив 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8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цвяхів, а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 си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цвях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Блок-схема: альтернативный процесс 7"/>
          <p:cNvSpPr/>
          <p:nvPr/>
        </p:nvSpPr>
        <p:spPr>
          <a:xfrm>
            <a:off x="322200" y="2708280"/>
            <a:ext cx="2925720" cy="112392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307800" y="2806560"/>
            <a:ext cx="15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Times New Roman"/>
              </a:rPr>
              <a:t>Тато –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Times New Roman"/>
              </a:rPr>
              <a:t>Син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1430280" y="28368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2"/>
          <p:cNvSpPr/>
          <p:nvPr/>
        </p:nvSpPr>
        <p:spPr>
          <a:xfrm>
            <a:off x="1419120" y="33386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13"/>
          <p:cNvSpPr/>
          <p:nvPr/>
        </p:nvSpPr>
        <p:spPr>
          <a:xfrm>
            <a:off x="2732040" y="304632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Box 15"/>
          <p:cNvSpPr/>
          <p:nvPr/>
        </p:nvSpPr>
        <p:spPr>
          <a:xfrm>
            <a:off x="1736640" y="330840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16"/>
          <p:cNvSpPr/>
          <p:nvPr/>
        </p:nvSpPr>
        <p:spPr>
          <a:xfrm>
            <a:off x="1733400" y="2784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цв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авая фигурная скобка 17"/>
          <p:cNvSpPr/>
          <p:nvPr/>
        </p:nvSpPr>
        <p:spPr>
          <a:xfrm>
            <a:off x="2354400" y="2862360"/>
            <a:ext cx="469800" cy="887400"/>
          </a:xfrm>
          <a:custGeom>
            <a:avLst/>
            <a:gdLst>
              <a:gd name="textAreaLeft" fmla="*/ 0 w 469800"/>
              <a:gd name="textAreaRight" fmla="*/ 169560 w 469800"/>
              <a:gd name="textAreaTop" fmla="*/ 12240 h 887400"/>
              <a:gd name="textAreaBottom" fmla="*/ 875160 h 88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7"/>
                  <a:pt x="10800" y="953"/>
                </a:cubicBezTo>
                <a:lnTo>
                  <a:pt x="10800" y="9288"/>
                </a:lnTo>
                <a:cubicBezTo>
                  <a:pt x="10800" y="9765"/>
                  <a:pt x="16200" y="10241"/>
                  <a:pt x="21600" y="10241"/>
                </a:cubicBezTo>
                <a:cubicBezTo>
                  <a:pt x="16200" y="10241"/>
                  <a:pt x="10800" y="10718"/>
                  <a:pt x="10800" y="11194"/>
                </a:cubicBezTo>
                <a:lnTo>
                  <a:pt x="10800" y="20647"/>
                </a:lnTo>
                <a:cubicBezTo>
                  <a:pt x="10800" y="211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2509920" y="284040"/>
            <a:ext cx="385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німання чисел 6, 7, 8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Скругленный прямоугольник 91"/>
          <p:cNvSpPr/>
          <p:nvPr/>
        </p:nvSpPr>
        <p:spPr>
          <a:xfrm>
            <a:off x="4932360" y="2620800"/>
            <a:ext cx="273528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35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92"/>
          <p:cNvSpPr/>
          <p:nvPr/>
        </p:nvSpPr>
        <p:spPr>
          <a:xfrm>
            <a:off x="4932360" y="270828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ато – 8 цв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н – 2 ц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авая круглая скобка 93"/>
          <p:cNvSpPr/>
          <p:nvPr/>
        </p:nvSpPr>
        <p:spPr>
          <a:xfrm>
            <a:off x="6659640" y="2860560"/>
            <a:ext cx="276120" cy="594000"/>
          </a:xfrm>
          <a:custGeom>
            <a:avLst/>
            <a:gdLst>
              <a:gd name="textAreaLeft" fmla="*/ 0 w 276120"/>
              <a:gd name="textAreaRight" fmla="*/ 193680 w 276120"/>
              <a:gd name="textAreaTop" fmla="*/ 11160 h 594000"/>
              <a:gd name="textAreaBottom" fmla="*/ 582840 h 5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19"/>
                  <a:pt x="21600" y="837"/>
                </a:cubicBezTo>
                <a:lnTo>
                  <a:pt x="21600" y="20763"/>
                </a:lnTo>
                <a:cubicBezTo>
                  <a:pt x="21600" y="21182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Прямая со стрелкой 94"/>
          <p:cNvCxnSpPr/>
          <p:nvPr/>
        </p:nvCxnSpPr>
        <p:spPr>
          <a:xfrm flipH="1">
            <a:off x="6581160" y="2860200"/>
            <a:ext cx="216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7" name="Прямая со стрелкой 95"/>
          <p:cNvCxnSpPr/>
          <p:nvPr/>
        </p:nvCxnSpPr>
        <p:spPr>
          <a:xfrm flipH="1">
            <a:off x="6581160" y="3449160"/>
            <a:ext cx="216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8" name="TextBox 96"/>
          <p:cNvSpPr/>
          <p:nvPr/>
        </p:nvSpPr>
        <p:spPr>
          <a:xfrm>
            <a:off x="6961320" y="292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Box 97"/>
          <p:cNvSpPr/>
          <p:nvPr/>
        </p:nvSpPr>
        <p:spPr>
          <a:xfrm>
            <a:off x="7343640" y="289404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98"/>
          <p:cNvSpPr/>
          <p:nvPr/>
        </p:nvSpPr>
        <p:spPr>
          <a:xfrm>
            <a:off x="2354400" y="4365720"/>
            <a:ext cx="3301920" cy="10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35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05"/>
          <p:cNvSpPr/>
          <p:nvPr/>
        </p:nvSpPr>
        <p:spPr>
          <a:xfrm>
            <a:off x="2354400" y="4452840"/>
            <a:ext cx="33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ато – 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н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, на 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менш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Блок-схема: альтернативный процесс 67"/>
          <p:cNvSpPr/>
          <p:nvPr/>
        </p:nvSpPr>
        <p:spPr>
          <a:xfrm>
            <a:off x="322200" y="2708280"/>
            <a:ext cx="2925720" cy="112392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Box 8"/>
          <p:cNvSpPr/>
          <p:nvPr/>
        </p:nvSpPr>
        <p:spPr>
          <a:xfrm>
            <a:off x="307800" y="2806560"/>
            <a:ext cx="15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Times New Roman"/>
              </a:rPr>
              <a:t>Тато –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Times New Roman"/>
              </a:rPr>
              <a:t>Син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1430280" y="28368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Box 12"/>
          <p:cNvSpPr/>
          <p:nvPr/>
        </p:nvSpPr>
        <p:spPr>
          <a:xfrm>
            <a:off x="1419120" y="33386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2732040" y="304632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1736640" y="330840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733400" y="2784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авая фигурная скобка 74"/>
          <p:cNvSpPr/>
          <p:nvPr/>
        </p:nvSpPr>
        <p:spPr>
          <a:xfrm>
            <a:off x="2354400" y="2862360"/>
            <a:ext cx="469800" cy="887400"/>
          </a:xfrm>
          <a:custGeom>
            <a:avLst/>
            <a:gdLst>
              <a:gd name="textAreaLeft" fmla="*/ 0 w 469800"/>
              <a:gd name="textAreaRight" fmla="*/ 169560 w 469800"/>
              <a:gd name="textAreaTop" fmla="*/ 12240 h 887400"/>
              <a:gd name="textAreaBottom" fmla="*/ 875160 h 88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7"/>
                  <a:pt x="10800" y="953"/>
                </a:cubicBezTo>
                <a:lnTo>
                  <a:pt x="10800" y="9288"/>
                </a:lnTo>
                <a:cubicBezTo>
                  <a:pt x="10800" y="9765"/>
                  <a:pt x="16200" y="10241"/>
                  <a:pt x="21600" y="10241"/>
                </a:cubicBezTo>
                <a:cubicBezTo>
                  <a:pt x="16200" y="10241"/>
                  <a:pt x="10800" y="10718"/>
                  <a:pt x="10800" y="11194"/>
                </a:cubicBezTo>
                <a:lnTo>
                  <a:pt x="10800" y="20647"/>
                </a:lnTo>
                <a:cubicBezTo>
                  <a:pt x="10800" y="2112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419040" y="1197000"/>
            <a:ext cx="7239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ато забив 8 цвяхів, а син – 2 цвяхи. Скільки тато і син забили цвяхів раз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3313080" y="2633760"/>
            <a:ext cx="5861160" cy="133488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/>
          <p:cNvSpPr/>
          <p:nvPr/>
        </p:nvSpPr>
        <p:spPr>
          <a:xfrm>
            <a:off x="7880400" y="25938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7443720" y="260676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8318520" y="25938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11"/>
          <p:cNvSpPr/>
          <p:nvPr/>
        </p:nvSpPr>
        <p:spPr>
          <a:xfrm>
            <a:off x="7408800" y="30700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 + 2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8352000" y="3500280"/>
            <a:ext cx="5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50"/>
          <p:cNvSpPr/>
          <p:nvPr/>
        </p:nvSpPr>
        <p:spPr>
          <a:xfrm>
            <a:off x="7535160" y="28782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50"/>
          <p:cNvSpPr/>
          <p:nvPr/>
        </p:nvSpPr>
        <p:spPr>
          <a:xfrm>
            <a:off x="7754400" y="328464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419040" y="1197000"/>
            <a:ext cx="7239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ато забив 8 цвяхів, а син – 2 цвяхи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тато і син забили цвяхів раз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11"/>
          <p:cNvSpPr/>
          <p:nvPr/>
        </p:nvSpPr>
        <p:spPr>
          <a:xfrm>
            <a:off x="4167360" y="23637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рямая соединительная линия 31"/>
          <p:cNvSpPr/>
          <p:nvPr/>
        </p:nvSpPr>
        <p:spPr>
          <a:xfrm>
            <a:off x="3456000" y="3262320"/>
            <a:ext cx="186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ая соединительная линия 32"/>
          <p:cNvSpPr/>
          <p:nvPr/>
        </p:nvSpPr>
        <p:spPr>
          <a:xfrm flipV="1">
            <a:off x="3456000" y="313992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ая соединительная линия 33"/>
          <p:cNvSpPr/>
          <p:nvPr/>
        </p:nvSpPr>
        <p:spPr>
          <a:xfrm flipV="1">
            <a:off x="5324400" y="31651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авая круглая скобка 34"/>
          <p:cNvSpPr/>
          <p:nvPr/>
        </p:nvSpPr>
        <p:spPr>
          <a:xfrm flipH="1" rot="5400000">
            <a:off x="4234320" y="2053080"/>
            <a:ext cx="312840" cy="1892160"/>
          </a:xfrm>
          <a:custGeom>
            <a:avLst/>
            <a:gdLst>
              <a:gd name="textAreaLeft" fmla="*/ -360 w 312840"/>
              <a:gd name="textAreaRight" fmla="*/ 219240 w 312840"/>
              <a:gd name="textAreaTop" fmla="*/ 312480 h 1892160"/>
              <a:gd name="textAreaBottom" fmla="*/ 1579680 h 18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69"/>
                  <a:pt x="21600" y="7138"/>
                </a:cubicBezTo>
                <a:lnTo>
                  <a:pt x="21600" y="14462"/>
                </a:lnTo>
                <a:cubicBezTo>
                  <a:pt x="21600" y="18031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авая круглая скобка 35"/>
          <p:cNvSpPr/>
          <p:nvPr/>
        </p:nvSpPr>
        <p:spPr>
          <a:xfrm flipH="1" flipV="1" rot="5400000">
            <a:off x="5413320" y="2841480"/>
            <a:ext cx="20952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0800" y="0"/>
                  <a:pt x="21600" y="11683"/>
                  <a:pt x="21600" y="23365"/>
                </a:cubicBezTo>
                <a:lnTo>
                  <a:pt x="21600" y="-1765"/>
                </a:lnTo>
                <a:cubicBezTo>
                  <a:pt x="21600" y="991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Прямая соединительная линия 36"/>
          <p:cNvSpPr/>
          <p:nvPr/>
        </p:nvSpPr>
        <p:spPr>
          <a:xfrm flipV="1">
            <a:off x="5711760" y="315108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Прямая соединительная линия 37"/>
          <p:cNvSpPr/>
          <p:nvPr/>
        </p:nvSpPr>
        <p:spPr>
          <a:xfrm>
            <a:off x="5324400" y="3246480"/>
            <a:ext cx="387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Box 38"/>
          <p:cNvSpPr/>
          <p:nvPr/>
        </p:nvSpPr>
        <p:spPr>
          <a:xfrm>
            <a:off x="5205240" y="237492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Правая круглая скобка 39"/>
          <p:cNvSpPr/>
          <p:nvPr/>
        </p:nvSpPr>
        <p:spPr>
          <a:xfrm rot="5400000">
            <a:off x="4453200" y="2343600"/>
            <a:ext cx="217440" cy="2235240"/>
          </a:xfrm>
          <a:custGeom>
            <a:avLst/>
            <a:gdLst>
              <a:gd name="textAreaLeft" fmla="*/ 0 w 217440"/>
              <a:gd name="textAreaRight" fmla="*/ 152640 w 217440"/>
              <a:gd name="textAreaTop" fmla="*/ 217440 h 2235240"/>
              <a:gd name="textAreaBottom" fmla="*/ 201780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01"/>
                  <a:pt x="21600" y="4202"/>
                </a:cubicBezTo>
                <a:lnTo>
                  <a:pt x="21600" y="17398"/>
                </a:lnTo>
                <a:cubicBezTo>
                  <a:pt x="21600" y="19499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40"/>
          <p:cNvSpPr/>
          <p:nvPr/>
        </p:nvSpPr>
        <p:spPr>
          <a:xfrm>
            <a:off x="4319640" y="3730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6"/>
          <p:cNvSpPr/>
          <p:nvPr/>
        </p:nvSpPr>
        <p:spPr>
          <a:xfrm>
            <a:off x="1147680" y="776160"/>
            <a:ext cx="56660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ато забив 8 цвяхів, а син – 2 цвяхи. На скільки більше цвяхів забив тато ніж си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Скругленный прямоугольник 4"/>
          <p:cNvSpPr/>
          <p:nvPr/>
        </p:nvSpPr>
        <p:spPr>
          <a:xfrm>
            <a:off x="79200" y="2565360"/>
            <a:ext cx="2735280" cy="10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35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79200" y="2652840"/>
            <a:ext cx="186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ато – 8 цв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н – 2 ц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Правая круглая скобка 13"/>
          <p:cNvSpPr/>
          <p:nvPr/>
        </p:nvSpPr>
        <p:spPr>
          <a:xfrm>
            <a:off x="1806480" y="2805120"/>
            <a:ext cx="276480" cy="593640"/>
          </a:xfrm>
          <a:custGeom>
            <a:avLst/>
            <a:gdLst>
              <a:gd name="textAreaLeft" fmla="*/ 0 w 276480"/>
              <a:gd name="textAreaRight" fmla="*/ 194040 w 276480"/>
              <a:gd name="textAreaTop" fmla="*/ 11160 h 593640"/>
              <a:gd name="textAreaBottom" fmla="*/ 58248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19"/>
                  <a:pt x="21600" y="837"/>
                </a:cubicBezTo>
                <a:lnTo>
                  <a:pt x="21600" y="20763"/>
                </a:lnTo>
                <a:cubicBezTo>
                  <a:pt x="21600" y="21182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Прямая со стрелкой 18"/>
          <p:cNvCxnSpPr/>
          <p:nvPr/>
        </p:nvCxnSpPr>
        <p:spPr>
          <a:xfrm flipH="1">
            <a:off x="1728360" y="2804760"/>
            <a:ext cx="216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6" name="Прямая со стрелкой 20"/>
          <p:cNvCxnSpPr/>
          <p:nvPr/>
        </p:nvCxnSpPr>
        <p:spPr>
          <a:xfrm flipH="1">
            <a:off x="1728360" y="3393720"/>
            <a:ext cx="216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7" name="TextBox 21"/>
          <p:cNvSpPr/>
          <p:nvPr/>
        </p:nvSpPr>
        <p:spPr>
          <a:xfrm>
            <a:off x="2108160" y="287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Box 23"/>
          <p:cNvSpPr/>
          <p:nvPr/>
        </p:nvSpPr>
        <p:spPr>
          <a:xfrm>
            <a:off x="2490840" y="2838600"/>
            <a:ext cx="3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944800" y="2498760"/>
            <a:ext cx="5862600" cy="133344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ая соединительная линия 98"/>
          <p:cNvSpPr/>
          <p:nvPr/>
        </p:nvSpPr>
        <p:spPr>
          <a:xfrm>
            <a:off x="3352680" y="2873520"/>
            <a:ext cx="1762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Прямая соединительная линия 99"/>
          <p:cNvSpPr/>
          <p:nvPr/>
        </p:nvSpPr>
        <p:spPr>
          <a:xfrm flipV="1">
            <a:off x="3359160" y="277956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Прямая соединительная линия 100"/>
          <p:cNvSpPr/>
          <p:nvPr/>
        </p:nvSpPr>
        <p:spPr>
          <a:xfrm flipV="1">
            <a:off x="5121360" y="277956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02"/>
          <p:cNvSpPr/>
          <p:nvPr/>
        </p:nvSpPr>
        <p:spPr>
          <a:xfrm>
            <a:off x="7292880" y="248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03"/>
          <p:cNvSpPr/>
          <p:nvPr/>
        </p:nvSpPr>
        <p:spPr>
          <a:xfrm>
            <a:off x="7740000" y="248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104"/>
          <p:cNvSpPr/>
          <p:nvPr/>
        </p:nvSpPr>
        <p:spPr>
          <a:xfrm>
            <a:off x="8155800" y="24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105"/>
          <p:cNvSpPr/>
          <p:nvPr/>
        </p:nvSpPr>
        <p:spPr>
          <a:xfrm>
            <a:off x="7310880" y="294156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 –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106"/>
          <p:cNvSpPr/>
          <p:nvPr/>
        </p:nvSpPr>
        <p:spPr>
          <a:xfrm>
            <a:off x="8176680" y="337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Box 107"/>
          <p:cNvSpPr/>
          <p:nvPr/>
        </p:nvSpPr>
        <p:spPr>
          <a:xfrm>
            <a:off x="3400560" y="371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08"/>
          <p:cNvSpPr/>
          <p:nvPr/>
        </p:nvSpPr>
        <p:spPr>
          <a:xfrm>
            <a:off x="4236480" y="3300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109"/>
          <p:cNvSpPr/>
          <p:nvPr/>
        </p:nvSpPr>
        <p:spPr>
          <a:xfrm>
            <a:off x="4066560" y="194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Прямая соединительная линия 110"/>
          <p:cNvSpPr/>
          <p:nvPr/>
        </p:nvSpPr>
        <p:spPr>
          <a:xfrm flipV="1">
            <a:off x="3387600" y="33811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Прямая соединительная линия 111"/>
          <p:cNvSpPr/>
          <p:nvPr/>
        </p:nvSpPr>
        <p:spPr>
          <a:xfrm flipV="1">
            <a:off x="3774960" y="33811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ая соединительная линия 112"/>
          <p:cNvSpPr/>
          <p:nvPr/>
        </p:nvSpPr>
        <p:spPr>
          <a:xfrm>
            <a:off x="3387600" y="3487680"/>
            <a:ext cx="387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авая круглая скобка 113"/>
          <p:cNvSpPr/>
          <p:nvPr/>
        </p:nvSpPr>
        <p:spPr>
          <a:xfrm flipH="1" rot="5400000">
            <a:off x="4108320" y="1704960"/>
            <a:ext cx="285840" cy="1727280"/>
          </a:xfrm>
          <a:custGeom>
            <a:avLst/>
            <a:gdLst>
              <a:gd name="textAreaLeft" fmla="*/ 360 w 285840"/>
              <a:gd name="textAreaRight" fmla="*/ 200880 w 285840"/>
              <a:gd name="textAreaTop" fmla="*/ 285480 h 1727280"/>
              <a:gd name="textAreaBottom" fmla="*/ 144180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573"/>
                  <a:pt x="21600" y="7145"/>
                </a:cubicBezTo>
                <a:lnTo>
                  <a:pt x="21600" y="14455"/>
                </a:lnTo>
                <a:cubicBezTo>
                  <a:pt x="21600" y="1802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авая круглая скобка 120"/>
          <p:cNvSpPr/>
          <p:nvPr/>
        </p:nvSpPr>
        <p:spPr>
          <a:xfrm flipV="1" rot="5400000">
            <a:off x="3485160" y="3521880"/>
            <a:ext cx="192240" cy="387360"/>
          </a:xfrm>
          <a:custGeom>
            <a:avLst/>
            <a:gdLst>
              <a:gd name="textAreaLeft" fmla="*/ 0 w 192240"/>
              <a:gd name="textAreaRight" fmla="*/ 135000 w 192240"/>
              <a:gd name="textAreaTop" fmla="*/ 191880 h 387360"/>
              <a:gd name="textAreaBottom" fmla="*/ 195480 h 3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0709"/>
                  <a:pt x="21600" y="21418"/>
                </a:cubicBezTo>
                <a:lnTo>
                  <a:pt x="21600" y="182"/>
                </a:lnTo>
                <a:cubicBezTo>
                  <a:pt x="21600" y="10891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авая круглая скобка 123"/>
          <p:cNvSpPr/>
          <p:nvPr/>
        </p:nvSpPr>
        <p:spPr>
          <a:xfrm flipV="1" rot="5400000">
            <a:off x="4341600" y="2472120"/>
            <a:ext cx="228600" cy="1330560"/>
          </a:xfrm>
          <a:custGeom>
            <a:avLst/>
            <a:gdLst>
              <a:gd name="textAreaLeft" fmla="*/ 0 w 228600"/>
              <a:gd name="textAreaRight" fmla="*/ 160560 w 228600"/>
              <a:gd name="textAreaTop" fmla="*/ 230040 h 1330560"/>
              <a:gd name="textAreaBottom" fmla="*/ 1100520 h 133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737"/>
                  <a:pt x="21600" y="7473"/>
                </a:cubicBezTo>
                <a:lnTo>
                  <a:pt x="21600" y="14127"/>
                </a:lnTo>
                <a:cubicBezTo>
                  <a:pt x="21600" y="17864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0"/>
          <p:cNvSpPr/>
          <p:nvPr/>
        </p:nvSpPr>
        <p:spPr>
          <a:xfrm>
            <a:off x="7273080" y="27385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50"/>
          <p:cNvSpPr/>
          <p:nvPr/>
        </p:nvSpPr>
        <p:spPr>
          <a:xfrm>
            <a:off x="7676640" y="316224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1147680" y="776160"/>
            <a:ext cx="56660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ато забив 8 цвяхів, а син – 2 цвяхи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. На скільки більше цвяхів забив тато ніж си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ая соединительная линия 30"/>
          <p:cNvSpPr/>
          <p:nvPr/>
        </p:nvSpPr>
        <p:spPr>
          <a:xfrm flipH="1">
            <a:off x="3367080" y="297504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ая соединительная линия 31"/>
          <p:cNvSpPr/>
          <p:nvPr/>
        </p:nvSpPr>
        <p:spPr>
          <a:xfrm flipH="1">
            <a:off x="3777840" y="292428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"/>
          <p:cNvSpPr/>
          <p:nvPr/>
        </p:nvSpPr>
        <p:spPr>
          <a:xfrm>
            <a:off x="324000" y="765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. Закінчи виконання короткого запису. Розв'яжи задач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600120" y="1341360"/>
            <a:ext cx="835488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Гончар виліпив із глини 6 глечиків, а мисок на 4 більше. Скільки мисок виліпив гонча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Скругленный прямоугольник 5"/>
          <p:cNvSpPr/>
          <p:nvPr/>
        </p:nvSpPr>
        <p:spPr>
          <a:xfrm>
            <a:off x="6480" y="2838600"/>
            <a:ext cx="3301920" cy="10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35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23760" y="2884320"/>
            <a:ext cx="15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лечики –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09"/>
          <p:cNvSpPr/>
          <p:nvPr/>
        </p:nvSpPr>
        <p:spPr>
          <a:xfrm>
            <a:off x="1284120" y="330372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, на 4 бі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11"/>
          <p:cNvSpPr/>
          <p:nvPr/>
        </p:nvSpPr>
        <p:spPr>
          <a:xfrm>
            <a:off x="1425600" y="29275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113"/>
          <p:cNvSpPr/>
          <p:nvPr/>
        </p:nvSpPr>
        <p:spPr>
          <a:xfrm>
            <a:off x="118980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108"/>
          <p:cNvSpPr/>
          <p:nvPr/>
        </p:nvSpPr>
        <p:spPr>
          <a:xfrm>
            <a:off x="600120" y="1709640"/>
            <a:ext cx="427176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мисок виліпив гонча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10"/>
          <p:cNvSpPr/>
          <p:nvPr/>
        </p:nvSpPr>
        <p:spPr>
          <a:xfrm>
            <a:off x="938160" y="1341360"/>
            <a:ext cx="781056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Гончар виліпив із глини 6 глечиків, а мисок на 4 більш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Овал 115"/>
          <p:cNvSpPr/>
          <p:nvPr/>
        </p:nvSpPr>
        <p:spPr>
          <a:xfrm>
            <a:off x="4151160" y="140184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Овал 116"/>
          <p:cNvSpPr/>
          <p:nvPr/>
        </p:nvSpPr>
        <p:spPr>
          <a:xfrm>
            <a:off x="7072200" y="1392120"/>
            <a:ext cx="285840" cy="3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Box 117"/>
          <p:cNvSpPr/>
          <p:nvPr/>
        </p:nvSpPr>
        <p:spPr>
          <a:xfrm>
            <a:off x="4332240" y="133668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глечик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18"/>
          <p:cNvSpPr/>
          <p:nvPr/>
        </p:nvSpPr>
        <p:spPr>
          <a:xfrm>
            <a:off x="28440" y="3292560"/>
            <a:ext cx="13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иски  –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32"/>
          <p:cNvSpPr/>
          <p:nvPr/>
        </p:nvSpPr>
        <p:spPr>
          <a:xfrm>
            <a:off x="5775480" y="134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ми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Выгнутая вверх стрелка 133"/>
          <p:cNvSpPr/>
          <p:nvPr/>
        </p:nvSpPr>
        <p:spPr>
          <a:xfrm flipH="1">
            <a:off x="4301280" y="1125360"/>
            <a:ext cx="965160" cy="266760"/>
          </a:xfrm>
          <a:custGeom>
            <a:avLst/>
            <a:gdLst>
              <a:gd name="textAreaLeft" fmla="*/ 216360 w 965160"/>
              <a:gd name="textAreaRight" fmla="*/ 715680 w 965160"/>
              <a:gd name="textAreaTop" fmla="*/ 35640 h 266760"/>
              <a:gd name="textAreaBottom" fmla="*/ 231120 h 26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81" hR="21600" stAng="10800000" swAng="5400000"/>
                <a:lnTo>
                  <a:pt x="11173" y="0"/>
                </a:lnTo>
                <a:arcTo wR="9681" hR="21600" stAng="-5400000" swAng="3603259"/>
                <a:lnTo>
                  <a:pt x="21293" y="16200"/>
                </a:lnTo>
                <a:lnTo>
                  <a:pt x="20108" y="21600"/>
                </a:lnTo>
                <a:lnTo>
                  <a:pt x="18309" y="16200"/>
                </a:lnTo>
                <a:lnTo>
                  <a:pt x="19055" y="16200"/>
                </a:lnTo>
                <a:arcTo wR="9681" hR="21600" stAng="-1796741" swAng="-3484223"/>
                <a:lnTo>
                  <a:pt x="10427" y="64"/>
                </a:lnTo>
                <a:arcTo wR="9681" hR="21600" stAng="-5519036" swAng="-5280964"/>
                <a:close/>
              </a:path>
              <a:path fill="darkenLess" w="21600" h="21600">
                <a:moveTo>
                  <a:pt x="0" y="21600"/>
                </a:moveTo>
                <a:arcTo wR="9681" hR="21600" stAng="10800000" swAng="5400000"/>
                <a:lnTo>
                  <a:pt x="9681" y="0"/>
                </a:lnTo>
                <a:arcTo wR="9681" hR="21600" stAng="-5400000" swAng="119036"/>
                <a:lnTo>
                  <a:pt x="10427" y="64"/>
                </a:lnTo>
                <a:arcTo wR="9681" hR="21600" stAng="-5519036" swAng="-5280964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Выгнутая вверх стрелка 134"/>
          <p:cNvSpPr/>
          <p:nvPr/>
        </p:nvSpPr>
        <p:spPr>
          <a:xfrm flipH="1">
            <a:off x="1365120" y="1709640"/>
            <a:ext cx="841680" cy="165240"/>
          </a:xfrm>
          <a:custGeom>
            <a:avLst/>
            <a:gdLst>
              <a:gd name="textAreaLeft" fmla="*/ 194760 w 841680"/>
              <a:gd name="textAreaRight" fmla="*/ 626040 w 841680"/>
              <a:gd name="textAreaTop" fmla="*/ 21960 h 165240"/>
              <a:gd name="textAreaBottom" fmla="*/ 143280 h 16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06" hR="21600" stAng="10800000" swAng="5400000"/>
                <a:lnTo>
                  <a:pt x="11065" y="0"/>
                </a:lnTo>
                <a:arcTo wR="10006" hR="21600" stAng="-5400000" swAng="3651874"/>
                <a:lnTo>
                  <a:pt x="21282" y="16200"/>
                </a:lnTo>
                <a:lnTo>
                  <a:pt x="20541" y="21600"/>
                </a:lnTo>
                <a:lnTo>
                  <a:pt x="19163" y="16200"/>
                </a:lnTo>
                <a:lnTo>
                  <a:pt x="19693" y="16200"/>
                </a:lnTo>
                <a:arcTo wR="10006" hR="21600" stAng="-1748126" swAng="-3567500"/>
                <a:lnTo>
                  <a:pt x="10535" y="30"/>
                </a:lnTo>
                <a:arcTo wR="10006" hR="21600" stAng="-5484374" swAng="-5315626"/>
                <a:close/>
              </a:path>
              <a:path fill="darkenLess" w="21600" h="21600">
                <a:moveTo>
                  <a:pt x="0" y="21600"/>
                </a:moveTo>
                <a:arcTo wR="10006" hR="21600" stAng="10800000" swAng="5400000"/>
                <a:lnTo>
                  <a:pt x="10006" y="0"/>
                </a:lnTo>
                <a:arcTo wR="10006" hR="21600" stAng="-5400000" swAng="84374"/>
                <a:lnTo>
                  <a:pt x="10535" y="30"/>
                </a:lnTo>
                <a:arcTo wR="10006" hR="21600" stAng="-5484374" swAng="-5315626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Выгнутая вверх стрелка 135"/>
          <p:cNvSpPr/>
          <p:nvPr/>
        </p:nvSpPr>
        <p:spPr>
          <a:xfrm>
            <a:off x="6296040" y="1114560"/>
            <a:ext cx="976320" cy="277560"/>
          </a:xfrm>
          <a:custGeom>
            <a:avLst/>
            <a:gdLst>
              <a:gd name="textAreaLeft" fmla="*/ 217800 w 976320"/>
              <a:gd name="textAreaRight" fmla="*/ 723600 w 976320"/>
              <a:gd name="textAreaTop" fmla="*/ 37080 h 277560"/>
              <a:gd name="textAreaBottom" fmla="*/ 240480 h 27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48" hR="21600" stAng="10800000" swAng="5400000"/>
                <a:lnTo>
                  <a:pt x="11185" y="0"/>
                </a:lnTo>
                <a:arcTo wR="9648" hR="21600" stAng="-5400000" swAng="3598101"/>
                <a:lnTo>
                  <a:pt x="21294" y="16200"/>
                </a:lnTo>
                <a:lnTo>
                  <a:pt x="20064" y="21600"/>
                </a:lnTo>
                <a:lnTo>
                  <a:pt x="18221" y="16200"/>
                </a:lnTo>
                <a:lnTo>
                  <a:pt x="18989" y="16200"/>
                </a:lnTo>
                <a:arcTo wR="9648" hR="21600" stAng="-1801899" swAng="-3475452"/>
                <a:lnTo>
                  <a:pt x="10416" y="69"/>
                </a:lnTo>
                <a:arcTo wR="9648" hR="21600" stAng="-5522648" swAng="-5277352"/>
                <a:close/>
              </a:path>
              <a:path fill="darkenLess" w="21600" h="21600">
                <a:moveTo>
                  <a:pt x="0" y="21600"/>
                </a:moveTo>
                <a:arcTo wR="9648" hR="21600" stAng="10800000" swAng="5400000"/>
                <a:lnTo>
                  <a:pt x="9648" y="0"/>
                </a:lnTo>
                <a:arcTo wR="9648" hR="21600" stAng="-5400000" swAng="122648"/>
                <a:lnTo>
                  <a:pt x="10416" y="69"/>
                </a:lnTo>
                <a:arcTo wR="9648" hR="21600" stAng="-5522648" swAng="-5277352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3349800" y="2687760"/>
            <a:ext cx="5860800" cy="1334880"/>
          </a:xfrm>
          <a:prstGeom prst="rect">
            <a:avLst/>
          </a:prstGeom>
          <a:ln w="0">
            <a:noFill/>
          </a:ln>
        </p:spPr>
      </p:pic>
      <p:sp>
        <p:nvSpPr>
          <p:cNvPr id="430" name="TextBox 155"/>
          <p:cNvSpPr/>
          <p:nvPr/>
        </p:nvSpPr>
        <p:spPr>
          <a:xfrm>
            <a:off x="7275600" y="265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161"/>
          <p:cNvSpPr/>
          <p:nvPr/>
        </p:nvSpPr>
        <p:spPr>
          <a:xfrm>
            <a:off x="7697160" y="265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Box 162"/>
          <p:cNvSpPr/>
          <p:nvPr/>
        </p:nvSpPr>
        <p:spPr>
          <a:xfrm>
            <a:off x="8165520" y="264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163"/>
          <p:cNvSpPr/>
          <p:nvPr/>
        </p:nvSpPr>
        <p:spPr>
          <a:xfrm>
            <a:off x="7260480" y="310824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197"/>
          <p:cNvSpPr/>
          <p:nvPr/>
        </p:nvSpPr>
        <p:spPr>
          <a:xfrm>
            <a:off x="8166240" y="3560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50"/>
          <p:cNvSpPr/>
          <p:nvPr/>
        </p:nvSpPr>
        <p:spPr>
          <a:xfrm>
            <a:off x="7428600" y="28908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50"/>
          <p:cNvSpPr/>
          <p:nvPr/>
        </p:nvSpPr>
        <p:spPr>
          <a:xfrm>
            <a:off x="7813080" y="336060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44"/>
          <p:cNvSpPr/>
          <p:nvPr/>
        </p:nvSpPr>
        <p:spPr>
          <a:xfrm>
            <a:off x="1714680" y="170964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ми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Правая круглая скобка 81"/>
          <p:cNvSpPr/>
          <p:nvPr/>
        </p:nvSpPr>
        <p:spPr>
          <a:xfrm rot="5400000">
            <a:off x="4740120" y="2827440"/>
            <a:ext cx="323640" cy="2158920"/>
          </a:xfrm>
          <a:custGeom>
            <a:avLst/>
            <a:gdLst>
              <a:gd name="textAreaLeft" fmla="*/ 0 w 323640"/>
              <a:gd name="textAreaRight" fmla="*/ 227160 w 323640"/>
              <a:gd name="textAreaTop" fmla="*/ 323640 h 2158920"/>
              <a:gd name="textAreaBottom" fmla="*/ 183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39"/>
                  <a:pt x="21600" y="6478"/>
                </a:cubicBezTo>
                <a:lnTo>
                  <a:pt x="21600" y="15122"/>
                </a:lnTo>
                <a:cubicBezTo>
                  <a:pt x="21600" y="18361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82"/>
          <p:cNvSpPr/>
          <p:nvPr/>
        </p:nvSpPr>
        <p:spPr>
          <a:xfrm>
            <a:off x="4305240" y="219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83"/>
          <p:cNvSpPr/>
          <p:nvPr/>
        </p:nvSpPr>
        <p:spPr>
          <a:xfrm>
            <a:off x="3794760" y="325908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тільки 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84"/>
          <p:cNvSpPr/>
          <p:nvPr/>
        </p:nvSpPr>
        <p:spPr>
          <a:xfrm>
            <a:off x="4734000" y="406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85"/>
          <p:cNvSpPr/>
          <p:nvPr/>
        </p:nvSpPr>
        <p:spPr>
          <a:xfrm>
            <a:off x="5169600" y="29084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та ще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Прямая соединительная линия 86"/>
          <p:cNvSpPr/>
          <p:nvPr/>
        </p:nvSpPr>
        <p:spPr>
          <a:xfrm>
            <a:off x="3797280" y="3025800"/>
            <a:ext cx="1333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ая соединительная линия 87"/>
          <p:cNvSpPr/>
          <p:nvPr/>
        </p:nvSpPr>
        <p:spPr>
          <a:xfrm flipV="1">
            <a:off x="5130720" y="29271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ямая соединительная линия 88"/>
          <p:cNvSpPr/>
          <p:nvPr/>
        </p:nvSpPr>
        <p:spPr>
          <a:xfrm flipV="1">
            <a:off x="3808440" y="291744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ая соединительная линия 89"/>
          <p:cNvSpPr/>
          <p:nvPr/>
        </p:nvSpPr>
        <p:spPr>
          <a:xfrm>
            <a:off x="3797280" y="3638520"/>
            <a:ext cx="1333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ая соединительная линия 90"/>
          <p:cNvSpPr/>
          <p:nvPr/>
        </p:nvSpPr>
        <p:spPr>
          <a:xfrm flipV="1">
            <a:off x="5135400" y="35398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ая соединительная линия 91"/>
          <p:cNvSpPr/>
          <p:nvPr/>
        </p:nvSpPr>
        <p:spPr>
          <a:xfrm flipV="1">
            <a:off x="3811680" y="353052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ая соединительная линия 92"/>
          <p:cNvSpPr/>
          <p:nvPr/>
        </p:nvSpPr>
        <p:spPr>
          <a:xfrm>
            <a:off x="5129280" y="3638520"/>
            <a:ext cx="85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Прямая соединительная линия 93"/>
          <p:cNvSpPr/>
          <p:nvPr/>
        </p:nvSpPr>
        <p:spPr>
          <a:xfrm flipV="1">
            <a:off x="5981760" y="354636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Прямая соединительная линия 94"/>
          <p:cNvSpPr/>
          <p:nvPr/>
        </p:nvSpPr>
        <p:spPr>
          <a:xfrm flipV="1">
            <a:off x="5153040" y="353520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Прямая соединительная линия 95"/>
          <p:cNvSpPr/>
          <p:nvPr/>
        </p:nvSpPr>
        <p:spPr>
          <a:xfrm flipH="1">
            <a:off x="3825360" y="317340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ая соединительная линия 96"/>
          <p:cNvSpPr/>
          <p:nvPr/>
        </p:nvSpPr>
        <p:spPr>
          <a:xfrm flipH="1">
            <a:off x="5129280" y="318456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авая круглая скобка 97"/>
          <p:cNvSpPr/>
          <p:nvPr/>
        </p:nvSpPr>
        <p:spPr>
          <a:xfrm flipH="1" rot="5400000">
            <a:off x="5452920" y="2973960"/>
            <a:ext cx="209520" cy="846360"/>
          </a:xfrm>
          <a:custGeom>
            <a:avLst/>
            <a:gdLst>
              <a:gd name="textAreaLeft" fmla="*/ 0 w 209520"/>
              <a:gd name="textAreaRight" fmla="*/ 146880 w 209520"/>
              <a:gd name="textAreaTop" fmla="*/ 209520 h 846360"/>
              <a:gd name="textAreaBottom" fmla="*/ 63684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348"/>
                  <a:pt x="21600" y="10696"/>
                </a:cubicBezTo>
                <a:lnTo>
                  <a:pt x="21600" y="10904"/>
                </a:lnTo>
                <a:cubicBezTo>
                  <a:pt x="21600" y="16252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авая круглая скобка 98"/>
          <p:cNvSpPr/>
          <p:nvPr/>
        </p:nvSpPr>
        <p:spPr>
          <a:xfrm flipH="1" rot="5400000">
            <a:off x="4311360" y="2108880"/>
            <a:ext cx="314640" cy="1322280"/>
          </a:xfrm>
          <a:custGeom>
            <a:avLst/>
            <a:gdLst>
              <a:gd name="textAreaLeft" fmla="*/ 360 w 314640"/>
              <a:gd name="textAreaRight" fmla="*/ 221040 w 314640"/>
              <a:gd name="textAreaTop" fmla="*/ 314280 h 1322280"/>
              <a:gd name="textAreaBottom" fmla="*/ 1008000 h 13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133"/>
                  <a:pt x="21600" y="10266"/>
                </a:cubicBezTo>
                <a:lnTo>
                  <a:pt x="21600" y="11334"/>
                </a:lnTo>
                <a:cubicBezTo>
                  <a:pt x="21600" y="1646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8" dur="indefinite" restart="never" nodeType="tmRoot">
          <p:childTnLst>
            <p:seq>
              <p:cTn id="1819" dur="indefinite" nodeType="mainSeq">
                <p:childTnLst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nodeType="clickEffect" fill="hold">
                      <p:stCondLst>
                        <p:cond delay="indefinite"/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nodeType="clickEffect" fill="hold">
                      <p:stCondLst>
                        <p:cond delay="indefinite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3"/>
          <p:cNvSpPr/>
          <p:nvPr/>
        </p:nvSpPr>
        <p:spPr>
          <a:xfrm>
            <a:off x="222120" y="836640"/>
            <a:ext cx="885672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У швачки було 6 котушок ниток. 2 котушки вона використала. Скільки котушок ниток залишило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5"/>
          <p:cNvSpPr/>
          <p:nvPr/>
        </p:nvSpPr>
        <p:spPr>
          <a:xfrm>
            <a:off x="358920" y="283212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Було –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2182320" y="366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Скругленный прямоугольник 9"/>
          <p:cNvSpPr/>
          <p:nvPr/>
        </p:nvSpPr>
        <p:spPr>
          <a:xfrm>
            <a:off x="254160" y="2722680"/>
            <a:ext cx="2604960" cy="1473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11"/>
          <p:cNvSpPr/>
          <p:nvPr/>
        </p:nvSpPr>
        <p:spPr>
          <a:xfrm flipH="1">
            <a:off x="2179800" y="324648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12"/>
          <p:cNvSpPr/>
          <p:nvPr/>
        </p:nvSpPr>
        <p:spPr>
          <a:xfrm>
            <a:off x="1431000" y="28940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6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72"/>
          <p:cNvSpPr/>
          <p:nvPr/>
        </p:nvSpPr>
        <p:spPr>
          <a:xfrm>
            <a:off x="6745320" y="6156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77"/>
          <p:cNvSpPr/>
          <p:nvPr/>
        </p:nvSpPr>
        <p:spPr>
          <a:xfrm>
            <a:off x="568440" y="836640"/>
            <a:ext cx="842004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У швачки було 6 котушок ниток. 2 котушки вона використ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78"/>
          <p:cNvSpPr/>
          <p:nvPr/>
        </p:nvSpPr>
        <p:spPr>
          <a:xfrm>
            <a:off x="206280" y="1206360"/>
            <a:ext cx="508644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котушок ниток залишило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Овал 79"/>
          <p:cNvSpPr/>
          <p:nvPr/>
        </p:nvSpPr>
        <p:spPr>
          <a:xfrm>
            <a:off x="2595600" y="94140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Овал 80"/>
          <p:cNvSpPr/>
          <p:nvPr/>
        </p:nvSpPr>
        <p:spPr>
          <a:xfrm>
            <a:off x="4878360" y="8953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81"/>
          <p:cNvSpPr/>
          <p:nvPr/>
        </p:nvSpPr>
        <p:spPr>
          <a:xfrm>
            <a:off x="1876320" y="836640"/>
            <a:ext cx="8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бу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82"/>
          <p:cNvSpPr/>
          <p:nvPr/>
        </p:nvSpPr>
        <p:spPr>
          <a:xfrm>
            <a:off x="266760" y="3689280"/>
            <a:ext cx="202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лишилося –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83"/>
          <p:cNvSpPr/>
          <p:nvPr/>
        </p:nvSpPr>
        <p:spPr>
          <a:xfrm>
            <a:off x="287280" y="3228840"/>
            <a:ext cx="21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икористала –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84"/>
          <p:cNvSpPr/>
          <p:nvPr/>
        </p:nvSpPr>
        <p:spPr>
          <a:xfrm>
            <a:off x="6913440" y="8366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икорис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85"/>
          <p:cNvSpPr/>
          <p:nvPr/>
        </p:nvSpPr>
        <p:spPr>
          <a:xfrm>
            <a:off x="3330720" y="12063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залишило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Выгнутая вверх стрелка 86"/>
          <p:cNvSpPr/>
          <p:nvPr/>
        </p:nvSpPr>
        <p:spPr>
          <a:xfrm>
            <a:off x="2278080" y="476280"/>
            <a:ext cx="581040" cy="360360"/>
          </a:xfrm>
          <a:custGeom>
            <a:avLst/>
            <a:gdLst>
              <a:gd name="textAreaLeft" fmla="*/ 111240 w 581040"/>
              <a:gd name="textAreaRight" fmla="*/ 424440 w 5810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8" hR="21600" stAng="10800000" swAng="5400000"/>
                <a:lnTo>
                  <a:pt x="11638" y="0"/>
                </a:lnTo>
                <a:arcTo wR="8288" hR="21600" stAng="-5400000" swAng="3363775"/>
                <a:lnTo>
                  <a:pt x="21337" y="16200"/>
                </a:lnTo>
                <a:lnTo>
                  <a:pt x="18251" y="21600"/>
                </a:lnTo>
                <a:lnTo>
                  <a:pt x="14639" y="16200"/>
                </a:lnTo>
                <a:lnTo>
                  <a:pt x="16313" y="16200"/>
                </a:lnTo>
                <a:arcTo wR="8288" hR="21600" stAng="-2036225" swAng="-3092140"/>
                <a:lnTo>
                  <a:pt x="9963" y="446"/>
                </a:lnTo>
                <a:arcTo wR="8288" hR="21600" stAng="-5671635" swAng="-5128365"/>
                <a:close/>
              </a:path>
              <a:path fill="darkenLess" w="21600" h="21600">
                <a:moveTo>
                  <a:pt x="0" y="21600"/>
                </a:moveTo>
                <a:arcTo wR="8288" hR="21600" stAng="10800000" swAng="5400000"/>
                <a:lnTo>
                  <a:pt x="8288" y="0"/>
                </a:lnTo>
                <a:arcTo wR="8288" hR="21600" stAng="-5400000" swAng="271635"/>
                <a:lnTo>
                  <a:pt x="9963" y="446"/>
                </a:lnTo>
                <a:arcTo wR="8288" hR="21600" stAng="-5671635" swAng="-5128365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Выгнутая вверх стрелка 87"/>
          <p:cNvSpPr/>
          <p:nvPr/>
        </p:nvSpPr>
        <p:spPr>
          <a:xfrm flipH="1">
            <a:off x="5020560" y="582480"/>
            <a:ext cx="2360520" cy="312840"/>
          </a:xfrm>
          <a:custGeom>
            <a:avLst/>
            <a:gdLst>
              <a:gd name="textAreaLeft" fmla="*/ 560880 w 2360520"/>
              <a:gd name="textAreaRight" fmla="*/ 1760760 w 2360520"/>
              <a:gd name="textAreaTop" fmla="*/ 41760 h 312840"/>
              <a:gd name="textAreaBottom" fmla="*/ 2710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64" hR="21600" stAng="10800000" swAng="5400000"/>
                <a:lnTo>
                  <a:pt x="10979" y="0"/>
                </a:lnTo>
                <a:arcTo wR="10264" hR="21600" stAng="-5400000" swAng="3688844"/>
                <a:lnTo>
                  <a:pt x="21274" y="16200"/>
                </a:lnTo>
                <a:lnTo>
                  <a:pt x="20885" y="21600"/>
                </a:lnTo>
                <a:lnTo>
                  <a:pt x="19843" y="16200"/>
                </a:lnTo>
                <a:lnTo>
                  <a:pt x="20201" y="16200"/>
                </a:lnTo>
                <a:arcTo wR="10264" hR="21600" stAng="-1711156" swAng="-3631917"/>
                <a:lnTo>
                  <a:pt x="10621" y="13"/>
                </a:lnTo>
                <a:arcTo wR="10264" hR="21600" stAng="-5456927" swAng="-5343073"/>
                <a:close/>
              </a:path>
              <a:path fill="darkenLess" w="21600" h="21600">
                <a:moveTo>
                  <a:pt x="0" y="21600"/>
                </a:moveTo>
                <a:arcTo wR="10264" hR="21600" stAng="10800000" swAng="5400000"/>
                <a:lnTo>
                  <a:pt x="10264" y="0"/>
                </a:lnTo>
                <a:arcTo wR="10264" hR="21600" stAng="-5400000" swAng="56927"/>
                <a:lnTo>
                  <a:pt x="10621" y="13"/>
                </a:lnTo>
                <a:arcTo wR="10264" hR="21600" stAng="-5456927" swAng="-5343073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Выгнутая вверх стрелка 88"/>
          <p:cNvSpPr/>
          <p:nvPr/>
        </p:nvSpPr>
        <p:spPr>
          <a:xfrm flipH="1">
            <a:off x="902520" y="1165320"/>
            <a:ext cx="2979720" cy="272880"/>
          </a:xfrm>
          <a:custGeom>
            <a:avLst/>
            <a:gdLst>
              <a:gd name="textAreaLeft" fmla="*/ 718920 w 2979720"/>
              <a:gd name="textAreaRight" fmla="*/ 2225880 w 2979720"/>
              <a:gd name="textAreaTop" fmla="*/ 36360 h 272880"/>
              <a:gd name="textAreaBottom" fmla="*/ 236520 h 27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29" hR="21600" stAng="10800000" swAng="5400000"/>
                <a:lnTo>
                  <a:pt x="10923" y="0"/>
                </a:lnTo>
                <a:arcTo wR="10429" hR="21600" stAng="-5400000" swAng="3711813"/>
                <a:lnTo>
                  <a:pt x="21269" y="16200"/>
                </a:lnTo>
                <a:lnTo>
                  <a:pt x="21105" y="21600"/>
                </a:lnTo>
                <a:lnTo>
                  <a:pt x="20279" y="16200"/>
                </a:lnTo>
                <a:lnTo>
                  <a:pt x="20527" y="16200"/>
                </a:lnTo>
                <a:arcTo wR="10429" hR="21600" stAng="-1688187" swAng="-3672493"/>
                <a:lnTo>
                  <a:pt x="10676" y="6"/>
                </a:lnTo>
                <a:arcTo wR="10429" hR="21600" stAng="-5439321" swAng="-5360679"/>
                <a:close/>
              </a:path>
              <a:path fill="darkenLess" w="21600" h="21600">
                <a:moveTo>
                  <a:pt x="0" y="21600"/>
                </a:moveTo>
                <a:arcTo wR="10429" hR="21600" stAng="10800000" swAng="5400000"/>
                <a:lnTo>
                  <a:pt x="10429" y="0"/>
                </a:lnTo>
                <a:arcTo wR="10429" hR="21600" stAng="-5400000" swAng="39321"/>
                <a:lnTo>
                  <a:pt x="10676" y="6"/>
                </a:lnTo>
                <a:arcTo wR="10429" hR="21600" stAng="-5439321" swAng="-5360679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122640" y="2792520"/>
            <a:ext cx="5861160" cy="13334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90"/>
          <p:cNvSpPr/>
          <p:nvPr/>
        </p:nvSpPr>
        <p:spPr>
          <a:xfrm>
            <a:off x="7070760" y="2760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90"/>
          <p:cNvSpPr/>
          <p:nvPr/>
        </p:nvSpPr>
        <p:spPr>
          <a:xfrm>
            <a:off x="7513560" y="276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90"/>
          <p:cNvSpPr/>
          <p:nvPr/>
        </p:nvSpPr>
        <p:spPr>
          <a:xfrm>
            <a:off x="7921800" y="27622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90"/>
          <p:cNvSpPr/>
          <p:nvPr/>
        </p:nvSpPr>
        <p:spPr>
          <a:xfrm>
            <a:off x="7026120" y="322272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 – 2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0"/>
          <p:cNvSpPr/>
          <p:nvPr/>
        </p:nvSpPr>
        <p:spPr>
          <a:xfrm>
            <a:off x="7921800" y="36432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90"/>
          <p:cNvSpPr/>
          <p:nvPr/>
        </p:nvSpPr>
        <p:spPr>
          <a:xfrm>
            <a:off x="4032360" y="25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90"/>
          <p:cNvSpPr/>
          <p:nvPr/>
        </p:nvSpPr>
        <p:spPr>
          <a:xfrm>
            <a:off x="3816360" y="37116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90"/>
          <p:cNvSpPr/>
          <p:nvPr/>
        </p:nvSpPr>
        <p:spPr>
          <a:xfrm>
            <a:off x="4425840" y="3660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Прямая соединительная линия 2"/>
          <p:cNvSpPr/>
          <p:nvPr/>
        </p:nvSpPr>
        <p:spPr>
          <a:xfrm>
            <a:off x="3503520" y="3359160"/>
            <a:ext cx="1354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ая соединительная линия 94"/>
          <p:cNvSpPr/>
          <p:nvPr/>
        </p:nvSpPr>
        <p:spPr>
          <a:xfrm flipV="1">
            <a:off x="4873680" y="326376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Прямая соединительная линия 95"/>
          <p:cNvSpPr/>
          <p:nvPr/>
        </p:nvSpPr>
        <p:spPr>
          <a:xfrm flipV="1">
            <a:off x="3503520" y="32508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Правая круглая скобка 96"/>
          <p:cNvSpPr/>
          <p:nvPr/>
        </p:nvSpPr>
        <p:spPr>
          <a:xfrm flipH="1" rot="5400000">
            <a:off x="4035960" y="2404800"/>
            <a:ext cx="284400" cy="1351080"/>
          </a:xfrm>
          <a:custGeom>
            <a:avLst/>
            <a:gdLst>
              <a:gd name="textAreaLeft" fmla="*/ 0 w 284400"/>
              <a:gd name="textAreaRight" fmla="*/ 199440 w 284400"/>
              <a:gd name="textAreaTop" fmla="*/ 284040 h 1351080"/>
              <a:gd name="textAreaBottom" fmla="*/ 1067040 h 13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42"/>
                  <a:pt x="21600" y="9084"/>
                </a:cubicBezTo>
                <a:lnTo>
                  <a:pt x="21600" y="12516"/>
                </a:lnTo>
                <a:cubicBezTo>
                  <a:pt x="21600" y="1705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ая соединительная линия 6"/>
          <p:cNvSpPr/>
          <p:nvPr/>
        </p:nvSpPr>
        <p:spPr>
          <a:xfrm>
            <a:off x="4394160" y="3355920"/>
            <a:ext cx="484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ая соединительная линия 97"/>
          <p:cNvSpPr/>
          <p:nvPr/>
        </p:nvSpPr>
        <p:spPr>
          <a:xfrm flipV="1">
            <a:off x="4416480" y="32508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ая соединительная линия 98"/>
          <p:cNvSpPr/>
          <p:nvPr/>
        </p:nvSpPr>
        <p:spPr>
          <a:xfrm flipV="1">
            <a:off x="4878360" y="326376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Правая круглая скобка 99"/>
          <p:cNvSpPr/>
          <p:nvPr/>
        </p:nvSpPr>
        <p:spPr>
          <a:xfrm rot="5400000">
            <a:off x="4536000" y="3371040"/>
            <a:ext cx="214200" cy="460440"/>
          </a:xfrm>
          <a:custGeom>
            <a:avLst/>
            <a:gdLst>
              <a:gd name="textAreaLeft" fmla="*/ 0 w 214200"/>
              <a:gd name="textAreaRight" fmla="*/ 150480 w 214200"/>
              <a:gd name="textAreaTop" fmla="*/ 214200 h 460440"/>
              <a:gd name="textAreaBottom" fmla="*/ 2462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0053"/>
                  <a:pt x="21600" y="20105"/>
                </a:cubicBezTo>
                <a:lnTo>
                  <a:pt x="21600" y="1495"/>
                </a:lnTo>
                <a:cubicBezTo>
                  <a:pt x="21600" y="1154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Правая круглая скобка 100"/>
          <p:cNvSpPr/>
          <p:nvPr/>
        </p:nvSpPr>
        <p:spPr>
          <a:xfrm rot="5400000">
            <a:off x="3836880" y="3159000"/>
            <a:ext cx="241200" cy="914400"/>
          </a:xfrm>
          <a:custGeom>
            <a:avLst/>
            <a:gdLst>
              <a:gd name="textAreaLeft" fmla="*/ 0 w 241200"/>
              <a:gd name="textAreaRight" fmla="*/ 169200 w 241200"/>
              <a:gd name="textAreaTop" fmla="*/ 241200 h 914400"/>
              <a:gd name="textAreaBottom" fmla="*/ 6732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699"/>
                  <a:pt x="21600" y="11397"/>
                </a:cubicBezTo>
                <a:lnTo>
                  <a:pt x="21600" y="10203"/>
                </a:lnTo>
                <a:cubicBezTo>
                  <a:pt x="21600" y="15902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Прямая соединительная линия 13"/>
          <p:cNvSpPr/>
          <p:nvPr/>
        </p:nvSpPr>
        <p:spPr>
          <a:xfrm>
            <a:off x="3503520" y="3355920"/>
            <a:ext cx="1028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50"/>
          <p:cNvSpPr/>
          <p:nvPr/>
        </p:nvSpPr>
        <p:spPr>
          <a:xfrm>
            <a:off x="7165080" y="302436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50"/>
          <p:cNvSpPr/>
          <p:nvPr/>
        </p:nvSpPr>
        <p:spPr>
          <a:xfrm>
            <a:off x="7386120" y="348156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6" dur="indefinite" restart="never" nodeType="tmRoot">
          <p:childTnLst>
            <p:seq>
              <p:cTn id="2047" dur="indefinite" nodeType="mainSeq">
                <p:childTnLst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nodeType="clickEffect" fill="hold">
                      <p:stCondLst>
                        <p:cond delay="indefinite"/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nodeType="clickEffect" fill="hold">
                      <p:stCondLst>
                        <p:cond delay="indefinite"/>
                      </p:stCondLst>
                      <p:childTnLst>
                        <p:par>
                          <p:cTn id="2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nodeType="clickEffect" fill="hold">
                      <p:stCondLst>
                        <p:cond delay="indefinite"/>
                      </p:stCondLst>
                      <p:childTnLst>
                        <p:par>
                          <p:cTn id="2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nodeType="clickEffect" fill="hold">
                      <p:stCondLst>
                        <p:cond delay="indefinite"/>
                      </p:stCondLst>
                      <p:childTnLst>
                        <p:par>
                          <p:cTn id="2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nodeType="clickEffect" fill="hold">
                      <p:stCondLst>
                        <p:cond delay="indefinite"/>
                      </p:stCondLst>
                      <p:childTnLst>
                        <p:par>
                          <p:cTn id="2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nodeType="clickEffect" fill="hold">
                      <p:stCondLst>
                        <p:cond delay="indefinite"/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nodeType="clickEffect" fill="hold">
                      <p:stCondLst>
                        <p:cond delay="indefinite"/>
                      </p:stCondLst>
                      <p:childTnLst>
                        <p:par>
                          <p:cTn id="2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nodeType="clickEffect" fill="hold">
                      <p:stCondLst>
                        <p:cond delay="indefinite"/>
                      </p:stCondLst>
                      <p:childTnLst>
                        <p:par>
                          <p:cTn id="2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nodeType="clickEffect" fill="hold">
                      <p:stCondLst>
                        <p:cond delay="indefinite"/>
                      </p:stCondLst>
                      <p:childTnLst>
                        <p:par>
                          <p:cTn id="2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nodeType="clickEffect" fill="hold">
                      <p:stCondLst>
                        <p:cond delay="indefinite"/>
                      </p:stCondLst>
                      <p:childTnLst>
                        <p:par>
                          <p:cTn id="2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nodeType="clickEffect" fill="hold">
                      <p:stCondLst>
                        <p:cond delay="indefinite"/>
                      </p:stCondLst>
                      <p:childTnLst>
                        <p:par>
                          <p:cTn id="2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3"/>
          <p:cNvSpPr/>
          <p:nvPr/>
        </p:nvSpPr>
        <p:spPr>
          <a:xfrm>
            <a:off x="468360" y="836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За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нчи виконання короткого запису. Розв'яжи задач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385920" y="1731960"/>
            <a:ext cx="73436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У  Пяточка 4 повітряні кульки, а у Вінні Пуха – 3. Скільки кульок у Пяточка і у Вінні Пуха раз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Рисунок 5" descr=""/>
          <p:cNvPicPr/>
          <p:nvPr/>
        </p:nvPicPr>
        <p:blipFill>
          <a:blip r:embed="rId1"/>
          <a:stretch/>
        </p:blipFill>
        <p:spPr>
          <a:xfrm>
            <a:off x="7300800" y="182520"/>
            <a:ext cx="1827360" cy="1473120"/>
          </a:xfrm>
          <a:prstGeom prst="rect">
            <a:avLst/>
          </a:prstGeom>
          <a:ln w="0">
            <a:noFill/>
          </a:ln>
        </p:spPr>
      </p:pic>
      <p:sp>
        <p:nvSpPr>
          <p:cNvPr id="499" name="Блок-схема: альтернативный процесс 6"/>
          <p:cNvSpPr/>
          <p:nvPr/>
        </p:nvSpPr>
        <p:spPr>
          <a:xfrm>
            <a:off x="385920" y="2852640"/>
            <a:ext cx="1942920" cy="893880"/>
          </a:xfrm>
          <a:prstGeom prst="flowChartAlternateProcess">
            <a:avLst/>
          </a:prstGeom>
          <a:noFill/>
          <a:ln w="25560">
            <a:solidFill>
              <a:srgbClr val="d35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468360" y="32846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.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Правая фигурная скобка 8"/>
          <p:cNvSpPr/>
          <p:nvPr/>
        </p:nvSpPr>
        <p:spPr>
          <a:xfrm>
            <a:off x="1635120" y="2944800"/>
            <a:ext cx="360360" cy="6699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69960"/>
              <a:gd name="textAreaBottom" fmla="*/ 660600 h 6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4"/>
                  <a:pt x="10800" y="968"/>
                </a:cubicBezTo>
                <a:lnTo>
                  <a:pt x="10800" y="9832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4"/>
                  <a:pt x="10800" y="11768"/>
                </a:cubicBezTo>
                <a:lnTo>
                  <a:pt x="10800" y="20632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1951200" y="302436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75"/>
          <p:cNvSpPr/>
          <p:nvPr/>
        </p:nvSpPr>
        <p:spPr>
          <a:xfrm>
            <a:off x="709560" y="1731960"/>
            <a:ext cx="67024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У  Пяточка 4 повітряні кульки, а у Вінні Пуха –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76"/>
          <p:cNvSpPr/>
          <p:nvPr/>
        </p:nvSpPr>
        <p:spPr>
          <a:xfrm>
            <a:off x="385920" y="2100240"/>
            <a:ext cx="65404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кульок у Пяточка і у Вінні Пуха раз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Овал 77"/>
          <p:cNvSpPr/>
          <p:nvPr/>
        </p:nvSpPr>
        <p:spPr>
          <a:xfrm>
            <a:off x="2252520" y="17845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Овал 78"/>
          <p:cNvSpPr/>
          <p:nvPr/>
        </p:nvSpPr>
        <p:spPr>
          <a:xfrm>
            <a:off x="7013520" y="17845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79"/>
          <p:cNvSpPr/>
          <p:nvPr/>
        </p:nvSpPr>
        <p:spPr>
          <a:xfrm>
            <a:off x="1079640" y="173196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Пято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Box 80"/>
          <p:cNvSpPr/>
          <p:nvPr/>
        </p:nvSpPr>
        <p:spPr>
          <a:xfrm>
            <a:off x="453960" y="293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.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81"/>
          <p:cNvSpPr/>
          <p:nvPr/>
        </p:nvSpPr>
        <p:spPr>
          <a:xfrm>
            <a:off x="5199120" y="173196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інні П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Выгнутая вверх стрелка 82"/>
          <p:cNvSpPr/>
          <p:nvPr/>
        </p:nvSpPr>
        <p:spPr>
          <a:xfrm>
            <a:off x="1814400" y="1424160"/>
            <a:ext cx="581040" cy="360360"/>
          </a:xfrm>
          <a:custGeom>
            <a:avLst/>
            <a:gdLst>
              <a:gd name="textAreaLeft" fmla="*/ 111240 w 581040"/>
              <a:gd name="textAreaRight" fmla="*/ 424440 w 5810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8" hR="21600" stAng="10800000" swAng="5400000"/>
                <a:lnTo>
                  <a:pt x="11638" y="0"/>
                </a:lnTo>
                <a:arcTo wR="8288" hR="21600" stAng="-5400000" swAng="3363775"/>
                <a:lnTo>
                  <a:pt x="21337" y="16200"/>
                </a:lnTo>
                <a:lnTo>
                  <a:pt x="18251" y="21600"/>
                </a:lnTo>
                <a:lnTo>
                  <a:pt x="14639" y="16200"/>
                </a:lnTo>
                <a:lnTo>
                  <a:pt x="16313" y="16200"/>
                </a:lnTo>
                <a:arcTo wR="8288" hR="21600" stAng="-2036225" swAng="-3092140"/>
                <a:lnTo>
                  <a:pt x="9963" y="446"/>
                </a:lnTo>
                <a:arcTo wR="8288" hR="21600" stAng="-5671635" swAng="-5128365"/>
                <a:close/>
              </a:path>
              <a:path fill="darkenLess" w="21600" h="21600">
                <a:moveTo>
                  <a:pt x="0" y="21600"/>
                </a:moveTo>
                <a:arcTo wR="8288" hR="21600" stAng="10800000" swAng="5400000"/>
                <a:lnTo>
                  <a:pt x="8288" y="0"/>
                </a:lnTo>
                <a:arcTo wR="8288" hR="21600" stAng="-5400000" swAng="271635"/>
                <a:lnTo>
                  <a:pt x="9963" y="446"/>
                </a:lnTo>
                <a:arcTo wR="8288" hR="21600" stAng="-5671635" swAng="-5128365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83"/>
          <p:cNvSpPr/>
          <p:nvPr/>
        </p:nvSpPr>
        <p:spPr>
          <a:xfrm>
            <a:off x="1061280" y="28940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84"/>
          <p:cNvSpPr/>
          <p:nvPr/>
        </p:nvSpPr>
        <p:spPr>
          <a:xfrm>
            <a:off x="1040760" y="3284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Выгнутая вверх стрелка 85"/>
          <p:cNvSpPr/>
          <p:nvPr/>
        </p:nvSpPr>
        <p:spPr>
          <a:xfrm>
            <a:off x="6332400" y="1424160"/>
            <a:ext cx="765360" cy="360360"/>
          </a:xfrm>
          <a:custGeom>
            <a:avLst/>
            <a:gdLst>
              <a:gd name="textAreaLeft" fmla="*/ 157320 w 765360"/>
              <a:gd name="textAreaRight" fmla="*/ 563040 w 765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93" hR="21600" stAng="10800000" swAng="5400000"/>
                <a:lnTo>
                  <a:pt x="11437" y="0"/>
                </a:lnTo>
                <a:arcTo wR="8893" hR="21600" stAng="-5400000" swAng="3474321"/>
                <a:lnTo>
                  <a:pt x="21318" y="16200"/>
                </a:lnTo>
                <a:lnTo>
                  <a:pt x="19057" y="21600"/>
                </a:lnTo>
                <a:lnTo>
                  <a:pt x="16232" y="16200"/>
                </a:lnTo>
                <a:lnTo>
                  <a:pt x="17503" y="16200"/>
                </a:lnTo>
                <a:arcTo wR="8893" hR="21600" stAng="-1925679" swAng="-3270014"/>
                <a:lnTo>
                  <a:pt x="10165" y="222"/>
                </a:lnTo>
                <a:arcTo wR="8893" hR="21600" stAng="-5604308" swAng="-5195692"/>
                <a:close/>
              </a:path>
              <a:path fill="darkenLess" w="21600" h="21600">
                <a:moveTo>
                  <a:pt x="0" y="21600"/>
                </a:moveTo>
                <a:arcTo wR="8893" hR="21600" stAng="10800000" swAng="5400000"/>
                <a:lnTo>
                  <a:pt x="8893" y="0"/>
                </a:lnTo>
                <a:arcTo wR="8893" hR="21600" stAng="-5400000" swAng="204308"/>
                <a:lnTo>
                  <a:pt x="10165" y="222"/>
                </a:lnTo>
                <a:arcTo wR="8893" hR="21600" stAng="-5604308" swAng="-5195692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Выгнутая вверх стрелка 86"/>
          <p:cNvSpPr/>
          <p:nvPr/>
        </p:nvSpPr>
        <p:spPr>
          <a:xfrm flipH="1">
            <a:off x="1173240" y="2100240"/>
            <a:ext cx="4687920" cy="230040"/>
          </a:xfrm>
          <a:custGeom>
            <a:avLst/>
            <a:gdLst>
              <a:gd name="textAreaLeft" fmla="*/ 1150200 w 4687920"/>
              <a:gd name="textAreaRight" fmla="*/ 3508920 w 468792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601" hR="21600" stAng="10800000" swAng="5400000"/>
                <a:lnTo>
                  <a:pt x="10867" y="0"/>
                </a:lnTo>
                <a:arcTo wR="10601" hR="21600" stAng="-5400000" swAng="3735091"/>
                <a:lnTo>
                  <a:pt x="21263" y="16200"/>
                </a:lnTo>
                <a:lnTo>
                  <a:pt x="21335" y="21600"/>
                </a:lnTo>
                <a:lnTo>
                  <a:pt x="20733" y="16200"/>
                </a:lnTo>
                <a:lnTo>
                  <a:pt x="20865" y="16200"/>
                </a:lnTo>
                <a:arcTo wR="10601" hR="21600" stAng="-1664909" swAng="-3713922"/>
                <a:lnTo>
                  <a:pt x="10734" y="2"/>
                </a:lnTo>
                <a:arcTo wR="10601" hR="21600" stAng="-5421169" swAng="-5378831"/>
                <a:close/>
              </a:path>
              <a:path fill="darkenLess" w="21600" h="21600">
                <a:moveTo>
                  <a:pt x="0" y="21600"/>
                </a:moveTo>
                <a:arcTo wR="10601" hR="21600" stAng="10800000" swAng="5400000"/>
                <a:lnTo>
                  <a:pt x="10601" y="0"/>
                </a:lnTo>
                <a:arcTo wR="10601" hR="21600" stAng="-5400000" swAng="21169"/>
                <a:lnTo>
                  <a:pt x="10734" y="2"/>
                </a:lnTo>
                <a:arcTo wR="10601" hR="21600" stAng="-5421169" swAng="-5378831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2"/>
          <a:stretch/>
        </p:blipFill>
        <p:spPr>
          <a:xfrm>
            <a:off x="2519280" y="2725560"/>
            <a:ext cx="6300720" cy="1433520"/>
          </a:xfrm>
          <a:prstGeom prst="rect">
            <a:avLst/>
          </a:prstGeom>
          <a:ln w="0">
            <a:noFill/>
          </a:ln>
        </p:spPr>
      </p:pic>
      <p:sp>
        <p:nvSpPr>
          <p:cNvPr id="516" name="TextBox 89"/>
          <p:cNvSpPr/>
          <p:nvPr/>
        </p:nvSpPr>
        <p:spPr>
          <a:xfrm>
            <a:off x="7970760" y="367344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90"/>
          <p:cNvSpPr/>
          <p:nvPr/>
        </p:nvSpPr>
        <p:spPr>
          <a:xfrm>
            <a:off x="7058160" y="321156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91"/>
          <p:cNvSpPr/>
          <p:nvPr/>
        </p:nvSpPr>
        <p:spPr>
          <a:xfrm>
            <a:off x="7920000" y="2712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92"/>
          <p:cNvSpPr/>
          <p:nvPr/>
        </p:nvSpPr>
        <p:spPr>
          <a:xfrm>
            <a:off x="7504200" y="270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93"/>
          <p:cNvSpPr/>
          <p:nvPr/>
        </p:nvSpPr>
        <p:spPr>
          <a:xfrm>
            <a:off x="6993000" y="2712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50"/>
          <p:cNvSpPr/>
          <p:nvPr/>
        </p:nvSpPr>
        <p:spPr>
          <a:xfrm>
            <a:off x="7247880" y="29923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50"/>
          <p:cNvSpPr/>
          <p:nvPr/>
        </p:nvSpPr>
        <p:spPr>
          <a:xfrm>
            <a:off x="7517880" y="348444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1"/>
          <p:cNvSpPr/>
          <p:nvPr/>
        </p:nvSpPr>
        <p:spPr>
          <a:xfrm>
            <a:off x="5719680" y="20923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ра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Прямая соединительная линия 42"/>
          <p:cNvSpPr/>
          <p:nvPr/>
        </p:nvSpPr>
        <p:spPr>
          <a:xfrm>
            <a:off x="2967120" y="3535200"/>
            <a:ext cx="97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43"/>
          <p:cNvSpPr/>
          <p:nvPr/>
        </p:nvSpPr>
        <p:spPr>
          <a:xfrm>
            <a:off x="3260880" y="2698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44"/>
          <p:cNvSpPr/>
          <p:nvPr/>
        </p:nvSpPr>
        <p:spPr>
          <a:xfrm>
            <a:off x="4138560" y="269712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45"/>
          <p:cNvSpPr/>
          <p:nvPr/>
        </p:nvSpPr>
        <p:spPr>
          <a:xfrm>
            <a:off x="3589200" y="397368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Прямая соединительная линия 46"/>
          <p:cNvSpPr/>
          <p:nvPr/>
        </p:nvSpPr>
        <p:spPr>
          <a:xfrm flipV="1">
            <a:off x="2978280" y="34351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Прямая соединительная линия 47"/>
          <p:cNvSpPr/>
          <p:nvPr/>
        </p:nvSpPr>
        <p:spPr>
          <a:xfrm flipV="1">
            <a:off x="3938760" y="34272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ая соединительная линия 48"/>
          <p:cNvSpPr/>
          <p:nvPr/>
        </p:nvSpPr>
        <p:spPr>
          <a:xfrm>
            <a:off x="3935520" y="3543480"/>
            <a:ext cx="707760" cy="10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Прямая соединительная линия 49"/>
          <p:cNvSpPr/>
          <p:nvPr/>
        </p:nvSpPr>
        <p:spPr>
          <a:xfrm flipV="1">
            <a:off x="3941640" y="34477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Прямая соединительная линия 50"/>
          <p:cNvSpPr/>
          <p:nvPr/>
        </p:nvSpPr>
        <p:spPr>
          <a:xfrm flipV="1">
            <a:off x="4643280" y="34477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Правая круглая скобка 51"/>
          <p:cNvSpPr/>
          <p:nvPr/>
        </p:nvSpPr>
        <p:spPr>
          <a:xfrm flipH="1" rot="5400000">
            <a:off x="3301200" y="2775240"/>
            <a:ext cx="314280" cy="960480"/>
          </a:xfrm>
          <a:custGeom>
            <a:avLst/>
            <a:gdLst>
              <a:gd name="textAreaLeft" fmla="*/ 0 w 314280"/>
              <a:gd name="textAreaRight" fmla="*/ 220680 w 314280"/>
              <a:gd name="textAreaTop" fmla="*/ 314280 h 960480"/>
              <a:gd name="textAreaBottom" fmla="*/ 64620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068"/>
                  <a:pt x="21600" y="14135"/>
                </a:cubicBezTo>
                <a:lnTo>
                  <a:pt x="21600" y="7465"/>
                </a:lnTo>
                <a:cubicBezTo>
                  <a:pt x="21600" y="1453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Правая круглая скобка 52"/>
          <p:cNvSpPr/>
          <p:nvPr/>
        </p:nvSpPr>
        <p:spPr>
          <a:xfrm rot="5400000">
            <a:off x="3697920" y="2958120"/>
            <a:ext cx="211320" cy="1641600"/>
          </a:xfrm>
          <a:custGeom>
            <a:avLst/>
            <a:gdLst>
              <a:gd name="textAreaLeft" fmla="*/ 0 w 211320"/>
              <a:gd name="textAreaRight" fmla="*/ 148320 w 211320"/>
              <a:gd name="textAreaTop" fmla="*/ 210960 h 1641600"/>
              <a:gd name="textAreaBottom" fmla="*/ 1430640 h 164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8"/>
                  <a:pt x="21600" y="5555"/>
                </a:cubicBezTo>
                <a:lnTo>
                  <a:pt x="21600" y="16045"/>
                </a:lnTo>
                <a:cubicBezTo>
                  <a:pt x="21600" y="1882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Правая круглая скобка 53"/>
          <p:cNvSpPr/>
          <p:nvPr/>
        </p:nvSpPr>
        <p:spPr>
          <a:xfrm flipH="1" rot="5400000">
            <a:off x="4125600" y="2909520"/>
            <a:ext cx="327240" cy="707760"/>
          </a:xfrm>
          <a:custGeom>
            <a:avLst/>
            <a:gdLst>
              <a:gd name="textAreaLeft" fmla="*/ -360 w 327240"/>
              <a:gd name="textAreaRight" fmla="*/ 229320 w 327240"/>
              <a:gd name="textAreaTop" fmla="*/ 326880 h 707760"/>
              <a:gd name="textAreaBottom" fmla="*/ 380880 h 70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974"/>
                  <a:pt x="21600" y="19948"/>
                </a:cubicBezTo>
                <a:lnTo>
                  <a:pt x="21600" y="1652"/>
                </a:lnTo>
                <a:cubicBezTo>
                  <a:pt x="21600" y="11626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Прямая соединительная линия 54"/>
          <p:cNvSpPr/>
          <p:nvPr/>
        </p:nvSpPr>
        <p:spPr>
          <a:xfrm>
            <a:off x="2963880" y="3529080"/>
            <a:ext cx="166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nodeType="clickEffect" fill="hold">
                      <p:stCondLst>
                        <p:cond delay="indefinite"/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nodeType="clickEffect" fill="hold">
                      <p:stCondLst>
                        <p:cond delay="indefinite"/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nodeType="clickEffect" fill="hold">
                      <p:stCondLst>
                        <p:cond delay="indefinite"/>
                      </p:stCondLst>
                      <p:childTnLst>
                        <p:par>
                          <p:cTn id="2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nodeType="clickEffect" fill="hold">
                      <p:stCondLst>
                        <p:cond delay="indefinite"/>
                      </p:stCondLst>
                      <p:childTnLst>
                        <p:par>
                          <p:cTn id="2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nodeType="clickEffect" fill="hold">
                      <p:stCondLst>
                        <p:cond delay="indefinite"/>
                      </p:stCondLst>
                      <p:childTnLst>
                        <p:par>
                          <p:cTn id="2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nodeType="clickEffect" fill="hold">
                      <p:stCondLst>
                        <p:cond delay="indefinite"/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nodeType="clickEffect" fill="hold">
                      <p:stCondLst>
                        <p:cond delay="indefinite"/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nodeType="clickEffect" fill="hold">
                      <p:stCondLst>
                        <p:cond delay="indefinite"/>
                      </p:stCondLst>
                      <p:childTnLst>
                        <p:par>
                          <p:cTn id="2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nodeType="clickEffect" fill="hold">
                      <p:stCondLst>
                        <p:cond delay="indefinite"/>
                      </p:stCondLst>
                      <p:childTnLst>
                        <p:par>
                          <p:cTn id="2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nodeType="clickEffect" fill="hold">
                      <p:stCondLst>
                        <p:cond delay="indefinite"/>
                      </p:stCondLst>
                      <p:childTnLst>
                        <p:par>
                          <p:cTn id="2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nodeType="clickEffect" fill="hold">
                      <p:stCondLst>
                        <p:cond delay="indefinite"/>
                      </p:stCondLst>
                      <p:childTnLst>
                        <p:par>
                          <p:cTn id="2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nodeType="clickEffect" fill="hold">
                      <p:stCondLst>
                        <p:cond delay="indefinite"/>
                      </p:stCondLst>
                      <p:childTnLst>
                        <p:par>
                          <p:cTn id="2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Скругленный прямоугольник 4"/>
          <p:cNvSpPr/>
          <p:nvPr/>
        </p:nvSpPr>
        <p:spPr>
          <a:xfrm>
            <a:off x="138240" y="2741760"/>
            <a:ext cx="279720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75"/>
          <p:cNvSpPr/>
          <p:nvPr/>
        </p:nvSpPr>
        <p:spPr>
          <a:xfrm>
            <a:off x="0" y="884160"/>
            <a:ext cx="81676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Пятачка і Вінні Пуха було 7 повітряних кульо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 кульок вони подарували ослику Іа. Скільки кульок у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их залишилося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77"/>
          <p:cNvSpPr/>
          <p:nvPr/>
        </p:nvSpPr>
        <p:spPr>
          <a:xfrm>
            <a:off x="380880" y="885960"/>
            <a:ext cx="74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У Пятачка і Вінні Пуха було 7 повітряних кульо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5 кульок вони подарували ослику Іа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ільки кульок 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78"/>
          <p:cNvSpPr/>
          <p:nvPr/>
        </p:nvSpPr>
        <p:spPr>
          <a:xfrm>
            <a:off x="0" y="1252440"/>
            <a:ext cx="81676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 кульок вони подарували ослику Іа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кульок у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них залишилося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Овал 79"/>
          <p:cNvSpPr/>
          <p:nvPr/>
        </p:nvSpPr>
        <p:spPr>
          <a:xfrm>
            <a:off x="4254480" y="91908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Овал 80"/>
          <p:cNvSpPr/>
          <p:nvPr/>
        </p:nvSpPr>
        <p:spPr>
          <a:xfrm>
            <a:off x="558720" y="129240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81"/>
          <p:cNvSpPr/>
          <p:nvPr/>
        </p:nvSpPr>
        <p:spPr>
          <a:xfrm>
            <a:off x="2199960" y="330048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5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82"/>
          <p:cNvSpPr/>
          <p:nvPr/>
        </p:nvSpPr>
        <p:spPr>
          <a:xfrm>
            <a:off x="1310760" y="290988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7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83"/>
          <p:cNvSpPr/>
          <p:nvPr/>
        </p:nvSpPr>
        <p:spPr>
          <a:xfrm>
            <a:off x="239760" y="285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84"/>
          <p:cNvSpPr/>
          <p:nvPr/>
        </p:nvSpPr>
        <p:spPr>
          <a:xfrm>
            <a:off x="227160" y="32767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Подарувал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85"/>
          <p:cNvSpPr/>
          <p:nvPr/>
        </p:nvSpPr>
        <p:spPr>
          <a:xfrm>
            <a:off x="246240" y="3630600"/>
            <a:ext cx="22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Залишилос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86"/>
          <p:cNvSpPr/>
          <p:nvPr/>
        </p:nvSpPr>
        <p:spPr>
          <a:xfrm>
            <a:off x="2199960" y="368136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Box 87"/>
          <p:cNvSpPr/>
          <p:nvPr/>
        </p:nvSpPr>
        <p:spPr>
          <a:xfrm>
            <a:off x="3541680" y="884160"/>
            <a:ext cx="8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бу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88"/>
          <p:cNvSpPr/>
          <p:nvPr/>
        </p:nvSpPr>
        <p:spPr>
          <a:xfrm>
            <a:off x="2401920" y="123984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подарув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89"/>
          <p:cNvSpPr/>
          <p:nvPr/>
        </p:nvSpPr>
        <p:spPr>
          <a:xfrm>
            <a:off x="1085760" y="161604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лишило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Выгнутая вверх стрелка 103"/>
          <p:cNvSpPr/>
          <p:nvPr/>
        </p:nvSpPr>
        <p:spPr>
          <a:xfrm>
            <a:off x="3772080" y="571680"/>
            <a:ext cx="765000" cy="360360"/>
          </a:xfrm>
          <a:custGeom>
            <a:avLst/>
            <a:gdLst>
              <a:gd name="textAreaLeft" fmla="*/ 157320 w 765000"/>
              <a:gd name="textAreaRight" fmla="*/ 562680 w 765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93" hR="21600" stAng="10800000" swAng="5400000"/>
                <a:lnTo>
                  <a:pt x="11437" y="0"/>
                </a:lnTo>
                <a:arcTo wR="8893" hR="21600" stAng="-5400000" swAng="3474321"/>
                <a:lnTo>
                  <a:pt x="21318" y="16200"/>
                </a:lnTo>
                <a:lnTo>
                  <a:pt x="19057" y="21600"/>
                </a:lnTo>
                <a:lnTo>
                  <a:pt x="16232" y="16200"/>
                </a:lnTo>
                <a:lnTo>
                  <a:pt x="17503" y="16200"/>
                </a:lnTo>
                <a:arcTo wR="8893" hR="21600" stAng="-1925679" swAng="-3270014"/>
                <a:lnTo>
                  <a:pt x="10165" y="222"/>
                </a:lnTo>
                <a:arcTo wR="8893" hR="21600" stAng="-5604308" swAng="-5195692"/>
                <a:close/>
              </a:path>
              <a:path fill="darkenLess" w="21600" h="21600">
                <a:moveTo>
                  <a:pt x="0" y="21600"/>
                </a:moveTo>
                <a:arcTo wR="8893" hR="21600" stAng="10800000" swAng="5400000"/>
                <a:lnTo>
                  <a:pt x="8893" y="0"/>
                </a:lnTo>
                <a:arcTo wR="8893" hR="21600" stAng="-5400000" swAng="204308"/>
                <a:lnTo>
                  <a:pt x="10165" y="222"/>
                </a:lnTo>
                <a:arcTo wR="8893" hR="21600" stAng="-5604308" swAng="-5195692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Выгнутая вверх стрелка 104"/>
          <p:cNvSpPr/>
          <p:nvPr/>
        </p:nvSpPr>
        <p:spPr>
          <a:xfrm flipH="1">
            <a:off x="885240" y="1239840"/>
            <a:ext cx="1719000" cy="179280"/>
          </a:xfrm>
          <a:custGeom>
            <a:avLst/>
            <a:gdLst>
              <a:gd name="textAreaLeft" fmla="*/ 412920 w 1719000"/>
              <a:gd name="textAreaRight" fmla="*/ 1283760 w 171900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78" hR="21600" stAng="10800000" swAng="5400000"/>
                <a:lnTo>
                  <a:pt x="10941" y="0"/>
                </a:lnTo>
                <a:arcTo wR="10378" hR="21600" stAng="-5400000" swAng="3704726"/>
                <a:lnTo>
                  <a:pt x="21270" y="16200"/>
                </a:lnTo>
                <a:lnTo>
                  <a:pt x="21037" y="21600"/>
                </a:lnTo>
                <a:lnTo>
                  <a:pt x="20143" y="16200"/>
                </a:lnTo>
                <a:lnTo>
                  <a:pt x="20425" y="16200"/>
                </a:lnTo>
                <a:arcTo wR="10378" hR="21600" stAng="-1695274" swAng="-3659910"/>
                <a:lnTo>
                  <a:pt x="10659" y="8"/>
                </a:lnTo>
                <a:arcTo wR="10378" hR="21600" stAng="-5444816" swAng="-5355184"/>
                <a:close/>
              </a:path>
              <a:path fill="darkenLess" w="21600" h="21600">
                <a:moveTo>
                  <a:pt x="0" y="21600"/>
                </a:moveTo>
                <a:arcTo wR="10378" hR="21600" stAng="10800000" swAng="5400000"/>
                <a:lnTo>
                  <a:pt x="10378" y="0"/>
                </a:lnTo>
                <a:arcTo wR="10378" hR="21600" stAng="-5400000" swAng="44816"/>
                <a:lnTo>
                  <a:pt x="10659" y="8"/>
                </a:lnTo>
                <a:arcTo wR="10378" hR="21600" stAng="-5444816" swAng="-5355184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076560" y="2732040"/>
            <a:ext cx="6041880" cy="13748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08"/>
          <p:cNvSpPr/>
          <p:nvPr/>
        </p:nvSpPr>
        <p:spPr>
          <a:xfrm>
            <a:off x="7139160" y="27162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09"/>
          <p:cNvSpPr/>
          <p:nvPr/>
        </p:nvSpPr>
        <p:spPr>
          <a:xfrm>
            <a:off x="7545240" y="2716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13"/>
          <p:cNvSpPr/>
          <p:nvPr/>
        </p:nvSpPr>
        <p:spPr>
          <a:xfrm>
            <a:off x="8005680" y="27147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114"/>
          <p:cNvSpPr/>
          <p:nvPr/>
        </p:nvSpPr>
        <p:spPr>
          <a:xfrm>
            <a:off x="7139160" y="3173400"/>
            <a:ext cx="16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7 – 5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Box 115"/>
          <p:cNvSpPr/>
          <p:nvPr/>
        </p:nvSpPr>
        <p:spPr>
          <a:xfrm>
            <a:off x="8005680" y="362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50"/>
          <p:cNvSpPr/>
          <p:nvPr/>
        </p:nvSpPr>
        <p:spPr>
          <a:xfrm>
            <a:off x="7450920" y="29653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50"/>
          <p:cNvSpPr/>
          <p:nvPr/>
        </p:nvSpPr>
        <p:spPr>
          <a:xfrm>
            <a:off x="7611480" y="34513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Прямая со стрелкой 3"/>
          <p:cNvCxnSpPr/>
          <p:nvPr/>
        </p:nvCxnSpPr>
        <p:spPr>
          <a:xfrm flipV="1">
            <a:off x="3076200" y="1682280"/>
            <a:ext cx="2608920" cy="216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63" name="TextBox 56"/>
          <p:cNvSpPr/>
          <p:nvPr/>
        </p:nvSpPr>
        <p:spPr>
          <a:xfrm>
            <a:off x="4324320" y="363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57"/>
          <p:cNvSpPr/>
          <p:nvPr/>
        </p:nvSpPr>
        <p:spPr>
          <a:xfrm>
            <a:off x="3562200" y="36511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4078440" y="25192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Прямая соединительная линия 59"/>
          <p:cNvSpPr/>
          <p:nvPr/>
        </p:nvSpPr>
        <p:spPr>
          <a:xfrm>
            <a:off x="3503520" y="3317760"/>
            <a:ext cx="1594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Прямая соединительная линия 60"/>
          <p:cNvSpPr/>
          <p:nvPr/>
        </p:nvSpPr>
        <p:spPr>
          <a:xfrm>
            <a:off x="3962520" y="3340080"/>
            <a:ext cx="1155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Прямая соединительная линия 61"/>
          <p:cNvSpPr/>
          <p:nvPr/>
        </p:nvSpPr>
        <p:spPr>
          <a:xfrm>
            <a:off x="3497400" y="3317760"/>
            <a:ext cx="428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Прямая соединительная линия 62"/>
          <p:cNvSpPr/>
          <p:nvPr/>
        </p:nvSpPr>
        <p:spPr>
          <a:xfrm flipV="1">
            <a:off x="3500280" y="32112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Прямая соединительная линия 63"/>
          <p:cNvSpPr/>
          <p:nvPr/>
        </p:nvSpPr>
        <p:spPr>
          <a:xfrm flipV="1">
            <a:off x="5097600" y="322884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Прямая соединительная линия 64"/>
          <p:cNvSpPr/>
          <p:nvPr/>
        </p:nvSpPr>
        <p:spPr>
          <a:xfrm flipV="1">
            <a:off x="5118120" y="323208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Прямая соединительная линия 65"/>
          <p:cNvSpPr/>
          <p:nvPr/>
        </p:nvSpPr>
        <p:spPr>
          <a:xfrm flipV="1">
            <a:off x="3962520" y="323208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Правая круглая скобка 66"/>
          <p:cNvSpPr/>
          <p:nvPr/>
        </p:nvSpPr>
        <p:spPr>
          <a:xfrm rot="5400000">
            <a:off x="4448520" y="2994840"/>
            <a:ext cx="212760" cy="1125720"/>
          </a:xfrm>
          <a:custGeom>
            <a:avLst/>
            <a:gdLst>
              <a:gd name="textAreaLeft" fmla="*/ 0 w 212760"/>
              <a:gd name="textAreaRight" fmla="*/ 149400 w 212760"/>
              <a:gd name="textAreaTop" fmla="*/ 212760 h 1125720"/>
              <a:gd name="textAreaBottom" fmla="*/ 91296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082"/>
                  <a:pt x="21600" y="8163"/>
                </a:cubicBezTo>
                <a:lnTo>
                  <a:pt x="21600" y="13437"/>
                </a:lnTo>
                <a:cubicBezTo>
                  <a:pt x="21600" y="17519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Правая круглая скобка 67"/>
          <p:cNvSpPr/>
          <p:nvPr/>
        </p:nvSpPr>
        <p:spPr>
          <a:xfrm flipH="1" rot="5400000">
            <a:off x="4173480" y="2288160"/>
            <a:ext cx="246240" cy="1600200"/>
          </a:xfrm>
          <a:custGeom>
            <a:avLst/>
            <a:gdLst>
              <a:gd name="textAreaLeft" fmla="*/ 0 w 246240"/>
              <a:gd name="textAreaRight" fmla="*/ 172800 w 246240"/>
              <a:gd name="textAreaTop" fmla="*/ 245880 h 1600200"/>
              <a:gd name="textAreaBottom" fmla="*/ 13543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321"/>
                  <a:pt x="21600" y="6641"/>
                </a:cubicBezTo>
                <a:lnTo>
                  <a:pt x="21600" y="14959"/>
                </a:lnTo>
                <a:cubicBezTo>
                  <a:pt x="21600" y="1828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Правая круглая скобка 68"/>
          <p:cNvSpPr/>
          <p:nvPr/>
        </p:nvSpPr>
        <p:spPr>
          <a:xfrm rot="5400000">
            <a:off x="3644640" y="3309840"/>
            <a:ext cx="176040" cy="459000"/>
          </a:xfrm>
          <a:custGeom>
            <a:avLst/>
            <a:gdLst>
              <a:gd name="textAreaLeft" fmla="*/ 0 w 176040"/>
              <a:gd name="textAreaRight" fmla="*/ 123480 w 176040"/>
              <a:gd name="textAreaTop" fmla="*/ 176040 h 459000"/>
              <a:gd name="textAreaBottom" fmla="*/ 282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294"/>
                  <a:pt x="21600" y="16588"/>
                </a:cubicBezTo>
                <a:lnTo>
                  <a:pt x="21600" y="5012"/>
                </a:lnTo>
                <a:cubicBezTo>
                  <a:pt x="21600" y="13306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nodeType="clickEffect" fill="hold">
                      <p:stCondLst>
                        <p:cond delay="indefinite"/>
                      </p:stCondLst>
                      <p:childTnLst>
                        <p:par>
                          <p:cTn id="2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nodeType="clickEffect" fill="hold">
                      <p:stCondLst>
                        <p:cond delay="indefinite"/>
                      </p:stCondLst>
                      <p:childTnLst>
                        <p:par>
                          <p:cTn id="2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nodeType="clickEffect" fill="hold">
                      <p:stCondLst>
                        <p:cond delay="indefinite"/>
                      </p:stCondLst>
                      <p:childTnLst>
                        <p:par>
                          <p:cTn id="2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nodeType="clickEffect" fill="hold">
                      <p:stCondLst>
                        <p:cond delay="indefinite"/>
                      </p:stCondLst>
                      <p:childTnLst>
                        <p:par>
                          <p:cTn id="2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nodeType="clickEffect" fill="hold">
                      <p:stCondLst>
                        <p:cond delay="indefinite"/>
                      </p:stCondLst>
                      <p:childTnLst>
                        <p:par>
                          <p:cTn id="2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nodeType="clickEffect" fill="hold">
                      <p:stCondLst>
                        <p:cond delay="indefinite"/>
                      </p:stCondLst>
                      <p:childTnLst>
                        <p:par>
                          <p:cTn id="2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nodeType="clickEffect" fill="hold">
                      <p:stCondLst>
                        <p:cond delay="indefinite"/>
                      </p:stCondLst>
                      <p:childTnLst>
                        <p:par>
                          <p:cTn id="2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nodeType="clickEffect" fill="hold">
                      <p:stCondLst>
                        <p:cond delay="indefinite"/>
                      </p:stCondLst>
                      <p:childTnLst>
                        <p:par>
                          <p:cTn id="2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6"/>
          <p:cNvSpPr/>
          <p:nvPr/>
        </p:nvSpPr>
        <p:spPr>
          <a:xfrm>
            <a:off x="557280" y="7524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. Закінчи виконання короткого запису. Розв'яжи задач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7"/>
          <p:cNvSpPr/>
          <p:nvPr/>
        </p:nvSpPr>
        <p:spPr>
          <a:xfrm>
            <a:off x="0" y="1341360"/>
            <a:ext cx="90630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Вадим склав у шафу 10 машинок. 7 машинок він поклав на пер-шу полицю, а решту – на другу. Скільки машинок поставив на другу полицю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Скругленный прямоугольник 3"/>
          <p:cNvSpPr/>
          <p:nvPr/>
        </p:nvSpPr>
        <p:spPr>
          <a:xfrm>
            <a:off x="236520" y="2997360"/>
            <a:ext cx="2521080" cy="107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250920" y="35002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ІІ п.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0"/>
          <p:cNvSpPr/>
          <p:nvPr/>
        </p:nvSpPr>
        <p:spPr>
          <a:xfrm>
            <a:off x="1243080" y="34988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16"/>
          <p:cNvSpPr/>
          <p:nvPr/>
        </p:nvSpPr>
        <p:spPr>
          <a:xfrm>
            <a:off x="1943280" y="326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1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7"/>
          <p:cNvSpPr/>
          <p:nvPr/>
        </p:nvSpPr>
        <p:spPr>
          <a:xfrm>
            <a:off x="1185840" y="3075120"/>
            <a:ext cx="7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7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Правая фигурная скобка 5"/>
          <p:cNvSpPr/>
          <p:nvPr/>
        </p:nvSpPr>
        <p:spPr>
          <a:xfrm>
            <a:off x="1735200" y="3252960"/>
            <a:ext cx="258840" cy="533160"/>
          </a:xfrm>
          <a:custGeom>
            <a:avLst/>
            <a:gdLst>
              <a:gd name="textAreaLeft" fmla="*/ 0 w 258840"/>
              <a:gd name="textAreaRight" fmla="*/ 93600 w 258840"/>
              <a:gd name="textAreaTop" fmla="*/ 6480 h 533160"/>
              <a:gd name="textAreaBottom" fmla="*/ 5266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7"/>
                  <a:pt x="10800" y="873"/>
                </a:cubicBezTo>
                <a:lnTo>
                  <a:pt x="10800" y="9927"/>
                </a:lnTo>
                <a:cubicBezTo>
                  <a:pt x="10800" y="10364"/>
                  <a:pt x="16200" y="10800"/>
                  <a:pt x="21600" y="10800"/>
                </a:cubicBezTo>
                <a:cubicBezTo>
                  <a:pt x="16200" y="10800"/>
                  <a:pt x="10800" y="11237"/>
                  <a:pt x="10800" y="11673"/>
                </a:cubicBezTo>
                <a:lnTo>
                  <a:pt x="10800" y="20727"/>
                </a:lnTo>
                <a:cubicBezTo>
                  <a:pt x="10800" y="2116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92"/>
          <p:cNvSpPr/>
          <p:nvPr/>
        </p:nvSpPr>
        <p:spPr>
          <a:xfrm>
            <a:off x="0" y="1333440"/>
            <a:ext cx="90630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Вадим склав у шафу 10 машинок. 7 машинок він поклав на пер-шу полицю, а решту – на друг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ільки машинок поставив на другу полицю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93"/>
          <p:cNvSpPr/>
          <p:nvPr/>
        </p:nvSpPr>
        <p:spPr>
          <a:xfrm>
            <a:off x="0" y="1341360"/>
            <a:ext cx="90630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Вадим склав у шафу 10 машинок. 7 машинок він поклав на пер-шу полицю, а решту – на другу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машинок поставив на другу полицю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Овал 94"/>
          <p:cNvSpPr/>
          <p:nvPr/>
        </p:nvSpPr>
        <p:spPr>
          <a:xfrm>
            <a:off x="3176640" y="141300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Овал 95"/>
          <p:cNvSpPr/>
          <p:nvPr/>
        </p:nvSpPr>
        <p:spPr>
          <a:xfrm>
            <a:off x="4834080" y="1413000"/>
            <a:ext cx="2854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"/>
          <p:cNvSpPr/>
          <p:nvPr/>
        </p:nvSpPr>
        <p:spPr>
          <a:xfrm>
            <a:off x="8064360" y="1333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ер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96"/>
          <p:cNvSpPr/>
          <p:nvPr/>
        </p:nvSpPr>
        <p:spPr>
          <a:xfrm>
            <a:off x="0" y="1709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шу полиц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97"/>
          <p:cNvSpPr/>
          <p:nvPr/>
        </p:nvSpPr>
        <p:spPr>
          <a:xfrm>
            <a:off x="341280" y="30751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І п. 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98"/>
          <p:cNvSpPr/>
          <p:nvPr/>
        </p:nvSpPr>
        <p:spPr>
          <a:xfrm>
            <a:off x="3311640" y="170352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ру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Выгнутая вверх стрелка 99"/>
          <p:cNvSpPr/>
          <p:nvPr/>
        </p:nvSpPr>
        <p:spPr>
          <a:xfrm flipH="1">
            <a:off x="5041080" y="1154160"/>
            <a:ext cx="3227400" cy="258840"/>
          </a:xfrm>
          <a:custGeom>
            <a:avLst/>
            <a:gdLst>
              <a:gd name="textAreaLeft" fmla="*/ 782640 w 3227400"/>
              <a:gd name="textAreaRight" fmla="*/ 2412360 w 3227400"/>
              <a:gd name="textAreaTop" fmla="*/ 34560 h 258840"/>
              <a:gd name="textAreaBottom" fmla="*/ 224280 h 258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76" hR="21600" stAng="10800000" swAng="5400000"/>
                <a:lnTo>
                  <a:pt x="10908" y="0"/>
                </a:lnTo>
                <a:arcTo wR="10476" hR="21600" stAng="-5400000" swAng="3718165"/>
                <a:lnTo>
                  <a:pt x="21267" y="16200"/>
                </a:lnTo>
                <a:lnTo>
                  <a:pt x="21167" y="21600"/>
                </a:lnTo>
                <a:lnTo>
                  <a:pt x="20401" y="16200"/>
                </a:lnTo>
                <a:lnTo>
                  <a:pt x="20618" y="16200"/>
                </a:lnTo>
                <a:arcTo wR="10476" hR="21600" stAng="-1681835" swAng="-3683782"/>
                <a:lnTo>
                  <a:pt x="10692" y="5"/>
                </a:lnTo>
                <a:arcTo wR="10476" hR="21600" stAng="-5434384" swAng="-5365616"/>
                <a:close/>
              </a:path>
              <a:path fill="darkenLess" w="21600" h="21600">
                <a:moveTo>
                  <a:pt x="0" y="21600"/>
                </a:moveTo>
                <a:arcTo wR="10476" hR="21600" stAng="10800000" swAng="5400000"/>
                <a:lnTo>
                  <a:pt x="10476" y="0"/>
                </a:lnTo>
                <a:arcTo wR="10476" hR="21600" stAng="-5400000" swAng="34384"/>
                <a:lnTo>
                  <a:pt x="10692" y="5"/>
                </a:lnTo>
                <a:arcTo wR="10476" hR="21600" stAng="-5434384" swAng="-5365616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Выгнутая вверх стрелка 100"/>
          <p:cNvSpPr/>
          <p:nvPr/>
        </p:nvSpPr>
        <p:spPr>
          <a:xfrm flipV="1">
            <a:off x="2090880" y="2172240"/>
            <a:ext cx="2689200" cy="44280"/>
          </a:xfrm>
          <a:custGeom>
            <a:avLst/>
            <a:gdLst>
              <a:gd name="textAreaLeft" fmla="*/ 668160 w 2689200"/>
              <a:gd name="textAreaRight" fmla="*/ 2015640 w 2689200"/>
              <a:gd name="textAreaTop" fmla="*/ 5760 h 44280"/>
              <a:gd name="textAreaBottom" fmla="*/ 38520 h 4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733" hR="21600" stAng="10800000" swAng="5400000"/>
                <a:lnTo>
                  <a:pt x="10822" y="0"/>
                </a:lnTo>
                <a:arcTo wR="10733" hR="21600" stAng="-5400000" swAng="3752559"/>
                <a:lnTo>
                  <a:pt x="21259" y="16200"/>
                </a:lnTo>
                <a:lnTo>
                  <a:pt x="21511" y="21600"/>
                </a:lnTo>
                <a:lnTo>
                  <a:pt x="21080" y="16200"/>
                </a:lnTo>
                <a:lnTo>
                  <a:pt x="21125" y="16200"/>
                </a:lnTo>
                <a:arcTo wR="10733" hR="21600" stAng="-1647441" swAng="-3745476"/>
                <a:lnTo>
                  <a:pt x="10778" y="0"/>
                </a:lnTo>
                <a:arcTo wR="10733" hR="21600" stAng="-5407082" swAng="-5392918"/>
                <a:close/>
              </a:path>
              <a:path fill="darkenLess" w="21600" h="21600">
                <a:moveTo>
                  <a:pt x="0" y="21600"/>
                </a:moveTo>
                <a:arcTo wR="10733" hR="21600" stAng="10800000" swAng="5400000"/>
                <a:lnTo>
                  <a:pt x="10733" y="0"/>
                </a:lnTo>
                <a:arcTo wR="10733" hR="21600" stAng="-5400000" swAng="7082"/>
                <a:lnTo>
                  <a:pt x="10778" y="0"/>
                </a:lnTo>
                <a:arcTo wR="10733" hR="21600" stAng="-5407082" swAng="-5392918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Выгнутая вверх стрелка 101"/>
          <p:cNvSpPr/>
          <p:nvPr/>
        </p:nvSpPr>
        <p:spPr>
          <a:xfrm flipH="1">
            <a:off x="3253680" y="1125360"/>
            <a:ext cx="903240" cy="322560"/>
          </a:xfrm>
          <a:custGeom>
            <a:avLst/>
            <a:gdLst>
              <a:gd name="textAreaLeft" fmla="*/ 195480 w 903240"/>
              <a:gd name="textAreaRight" fmla="*/ 667440 w 903240"/>
              <a:gd name="textAreaTop" fmla="*/ 43200 h 322560"/>
              <a:gd name="textAreaBottom" fmla="*/ 279360 h 32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5" hR="21600" stAng="10800000" swAng="5400000"/>
                <a:lnTo>
                  <a:pt x="11282" y="0"/>
                </a:lnTo>
                <a:arcTo wR="9355" hR="21600" stAng="-5400000" swAng="3551892"/>
                <a:lnTo>
                  <a:pt x="21303" y="16200"/>
                </a:lnTo>
                <a:lnTo>
                  <a:pt x="19674" y="21600"/>
                </a:lnTo>
                <a:lnTo>
                  <a:pt x="17450" y="16200"/>
                </a:lnTo>
                <a:lnTo>
                  <a:pt x="18413" y="16200"/>
                </a:lnTo>
                <a:arcTo wR="9355" hR="21600" stAng="-1848108" swAng="-3397830"/>
                <a:lnTo>
                  <a:pt x="10319" y="115"/>
                </a:lnTo>
                <a:arcTo wR="9355" hR="21600" stAng="-5554062" swAng="-5245938"/>
                <a:close/>
              </a:path>
              <a:path fill="darkenLess" w="21600" h="21600">
                <a:moveTo>
                  <a:pt x="0" y="21600"/>
                </a:moveTo>
                <a:arcTo wR="9355" hR="21600" stAng="10800000" swAng="5400000"/>
                <a:lnTo>
                  <a:pt x="9355" y="0"/>
                </a:lnTo>
                <a:arcTo wR="9355" hR="21600" stAng="-5400000" swAng="154062"/>
                <a:lnTo>
                  <a:pt x="10319" y="115"/>
                </a:lnTo>
                <a:arcTo wR="9355" hR="21600" stAng="-5554062" swAng="-5245938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2887560" y="2813040"/>
            <a:ext cx="6042240" cy="137484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ая соединительная линия 9"/>
          <p:cNvSpPr/>
          <p:nvPr/>
        </p:nvSpPr>
        <p:spPr>
          <a:xfrm>
            <a:off x="3056040" y="3429000"/>
            <a:ext cx="2330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Прямая соединительная линия 20"/>
          <p:cNvSpPr/>
          <p:nvPr/>
        </p:nvSpPr>
        <p:spPr>
          <a:xfrm>
            <a:off x="3776760" y="3443400"/>
            <a:ext cx="1600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Прямая соединительная линия 22"/>
          <p:cNvSpPr/>
          <p:nvPr/>
        </p:nvSpPr>
        <p:spPr>
          <a:xfrm>
            <a:off x="3075120" y="3454560"/>
            <a:ext cx="69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Прямая соединительная линия 103"/>
          <p:cNvSpPr/>
          <p:nvPr/>
        </p:nvSpPr>
        <p:spPr>
          <a:xfrm flipV="1">
            <a:off x="5403960" y="333504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Прямая соединительная линия 104"/>
          <p:cNvSpPr/>
          <p:nvPr/>
        </p:nvSpPr>
        <p:spPr>
          <a:xfrm flipV="1">
            <a:off x="3780000" y="333684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Прямая соединительная линия 105"/>
          <p:cNvSpPr/>
          <p:nvPr/>
        </p:nvSpPr>
        <p:spPr>
          <a:xfrm flipV="1">
            <a:off x="3075120" y="330660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Прямая соединительная линия 106"/>
          <p:cNvSpPr/>
          <p:nvPr/>
        </p:nvSpPr>
        <p:spPr>
          <a:xfrm flipV="1">
            <a:off x="5386320" y="33145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09"/>
          <p:cNvSpPr/>
          <p:nvPr/>
        </p:nvSpPr>
        <p:spPr>
          <a:xfrm>
            <a:off x="6743880" y="2805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10"/>
          <p:cNvSpPr/>
          <p:nvPr/>
        </p:nvSpPr>
        <p:spPr>
          <a:xfrm>
            <a:off x="7350120" y="2800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111"/>
          <p:cNvSpPr/>
          <p:nvPr/>
        </p:nvSpPr>
        <p:spPr>
          <a:xfrm>
            <a:off x="7839000" y="2790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Box 112"/>
          <p:cNvSpPr/>
          <p:nvPr/>
        </p:nvSpPr>
        <p:spPr>
          <a:xfrm>
            <a:off x="6789600" y="32241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0 – 7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Box 113"/>
          <p:cNvSpPr/>
          <p:nvPr/>
        </p:nvSpPr>
        <p:spPr>
          <a:xfrm>
            <a:off x="7827840" y="37321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114"/>
          <p:cNvSpPr/>
          <p:nvPr/>
        </p:nvSpPr>
        <p:spPr>
          <a:xfrm>
            <a:off x="3871800" y="26478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115"/>
          <p:cNvSpPr/>
          <p:nvPr/>
        </p:nvSpPr>
        <p:spPr>
          <a:xfrm>
            <a:off x="3252960" y="3772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116"/>
          <p:cNvSpPr/>
          <p:nvPr/>
        </p:nvSpPr>
        <p:spPr>
          <a:xfrm>
            <a:off x="4373640" y="3844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авая круглая скобка 117"/>
          <p:cNvSpPr/>
          <p:nvPr/>
        </p:nvSpPr>
        <p:spPr>
          <a:xfrm flipH="1" rot="5400000">
            <a:off x="4127400" y="2057040"/>
            <a:ext cx="244440" cy="2311200"/>
          </a:xfrm>
          <a:custGeom>
            <a:avLst/>
            <a:gdLst>
              <a:gd name="textAreaLeft" fmla="*/ -360 w 244440"/>
              <a:gd name="textAreaRight" fmla="*/ 171000 w 244440"/>
              <a:gd name="textAreaTop" fmla="*/ 244080 h 2311200"/>
              <a:gd name="textAreaBottom" fmla="*/ 206712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284"/>
                  <a:pt x="21600" y="4568"/>
                </a:cubicBezTo>
                <a:lnTo>
                  <a:pt x="21600" y="17032"/>
                </a:lnTo>
                <a:cubicBezTo>
                  <a:pt x="21600" y="19316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Правая круглая скобка 118"/>
          <p:cNvSpPr/>
          <p:nvPr/>
        </p:nvSpPr>
        <p:spPr>
          <a:xfrm rot="5400000">
            <a:off x="4461120" y="2855160"/>
            <a:ext cx="241560" cy="1601640"/>
          </a:xfrm>
          <a:custGeom>
            <a:avLst/>
            <a:gdLst>
              <a:gd name="textAreaLeft" fmla="*/ 0 w 241560"/>
              <a:gd name="textAreaRight" fmla="*/ 169560 w 241560"/>
              <a:gd name="textAreaTop" fmla="*/ 241200 h 1601640"/>
              <a:gd name="textAreaBottom" fmla="*/ 1360440 h 16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53"/>
                  <a:pt x="21600" y="6506"/>
                </a:cubicBezTo>
                <a:lnTo>
                  <a:pt x="21600" y="15094"/>
                </a:lnTo>
                <a:cubicBezTo>
                  <a:pt x="21600" y="1834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Правая круглая скобка 119"/>
          <p:cNvSpPr/>
          <p:nvPr/>
        </p:nvSpPr>
        <p:spPr>
          <a:xfrm rot="5400000">
            <a:off x="3310920" y="3328920"/>
            <a:ext cx="230400" cy="664920"/>
          </a:xfrm>
          <a:custGeom>
            <a:avLst/>
            <a:gdLst>
              <a:gd name="textAreaLeft" fmla="*/ 0 w 230400"/>
              <a:gd name="textAreaRight" fmla="*/ 161640 w 230400"/>
              <a:gd name="textAreaTop" fmla="*/ 230040 h 664920"/>
              <a:gd name="textAreaBottom" fmla="*/ 43488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473"/>
                  <a:pt x="21600" y="14946"/>
                </a:cubicBezTo>
                <a:lnTo>
                  <a:pt x="21600" y="6654"/>
                </a:lnTo>
                <a:cubicBezTo>
                  <a:pt x="21600" y="1412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7138080" y="30402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50"/>
          <p:cNvSpPr/>
          <p:nvPr/>
        </p:nvSpPr>
        <p:spPr>
          <a:xfrm>
            <a:off x="7386120" y="352116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9" dur="indefinite" restart="never" nodeType="tmRoot">
          <p:childTnLst>
            <p:seq>
              <p:cTn id="2680" dur="indefinite" nodeType="mainSeq">
                <p:childTnLst>
                  <p:par>
                    <p:cTn id="2681" nodeType="clickEffect" fill="hold">
                      <p:stCondLst>
                        <p:cond delay="indefinite"/>
                      </p:stCondLst>
                      <p:childTnLst>
                        <p:par>
                          <p:cTn id="2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nodeType="clickEffect" fill="hold">
                      <p:stCondLst>
                        <p:cond delay="indefinite"/>
                      </p:stCondLst>
                      <p:childTnLst>
                        <p:par>
                          <p:cTn id="2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nodeType="clickEffect" fill="hold">
                      <p:stCondLst>
                        <p:cond delay="indefinite"/>
                      </p:stCondLst>
                      <p:childTnLst>
                        <p:par>
                          <p:cTn id="2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nodeType="clickEffect" fill="hold">
                      <p:stCondLst>
                        <p:cond delay="indefinite"/>
                      </p:stCondLst>
                      <p:childTnLst>
                        <p:par>
                          <p:cTn id="2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nodeType="clickEffect" fill="hold">
                      <p:stCondLst>
                        <p:cond delay="indefinite"/>
                      </p:stCondLst>
                      <p:childTnLst>
                        <p:par>
                          <p:cTn id="2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nodeType="clickEffect" fill="hold">
                      <p:stCondLst>
                        <p:cond delay="indefinite"/>
                      </p:stCondLst>
                      <p:childTnLst>
                        <p:par>
                          <p:cTn id="2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nodeType="clickEffect" fill="hold">
                      <p:stCondLst>
                        <p:cond delay="indefinite"/>
                      </p:stCondLst>
                      <p:childTnLst>
                        <p:par>
                          <p:cTn id="2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nodeType="clickEffect" fill="hold">
                      <p:stCondLst>
                        <p:cond delay="indefinite"/>
                      </p:stCondLst>
                      <p:childTnLst>
                        <p:par>
                          <p:cTn id="2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nodeType="clickEffect" fill="hold">
                      <p:stCondLst>
                        <p:cond delay="indefinite"/>
                      </p:stCondLst>
                      <p:childTnLst>
                        <p:par>
                          <p:cTn id="2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nodeType="clickEffect" fill="hold">
                      <p:stCondLst>
                        <p:cond delay="indefinite"/>
                      </p:stCondLst>
                      <p:childTnLst>
                        <p:par>
                          <p:cTn id="2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nodeType="clickEffect" fill="hold">
                      <p:stCondLst>
                        <p:cond delay="indefinite"/>
                      </p:stCondLst>
                      <p:childTnLst>
                        <p:par>
                          <p:cTn id="2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nodeType="clickEffect" fill="hold">
                      <p:stCondLst>
                        <p:cond delay="indefinite"/>
                      </p:stCondLst>
                      <p:childTnLst>
                        <p:par>
                          <p:cTn id="2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nodeType="clickEffect" fill="hold">
                      <p:stCondLst>
                        <p:cond delay="indefinite"/>
                      </p:stCondLst>
                      <p:childTnLst>
                        <p:par>
                          <p:cTn id="2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delay="indefinite"/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nodeType="clickEffect" fill="hold">
                      <p:stCondLst>
                        <p:cond delay="indefinite"/>
                      </p:stCondLst>
                      <p:childTnLst>
                        <p:par>
                          <p:cTn id="2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nodeType="clickEffect" fill="hold">
                      <p:stCondLst>
                        <p:cond delay="indefinite"/>
                      </p:stCondLst>
                      <p:childTnLst>
                        <p:par>
                          <p:cTn id="2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nodeType="clickEffect" fill="hold">
                      <p:stCondLst>
                        <p:cond delay="indefinite"/>
                      </p:stCondLst>
                      <p:childTnLst>
                        <p:par>
                          <p:cTn id="2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nodeType="clickEffect" fill="hold">
                      <p:stCondLst>
                        <p:cond delay="indefinite"/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nodeType="clickEffect" fill="hold">
                      <p:stCondLst>
                        <p:cond delay="indefinite"/>
                      </p:stCondLst>
                      <p:childTnLst>
                        <p:par>
                          <p:cTn id="2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nodeType="clickEffect" fill="hold">
                      <p:stCondLst>
                        <p:cond delay="indefinite"/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nodeType="clickEffect" fill="hold">
                      <p:stCondLst>
                        <p:cond delay="indefinite"/>
                      </p:stCondLst>
                      <p:childTnLst>
                        <p:par>
                          <p:cTn id="2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nodeType="clickEffect" fill="hold">
                      <p:stCondLst>
                        <p:cond delay="indefinite"/>
                      </p:stCondLst>
                      <p:childTnLst>
                        <p:par>
                          <p:cTn id="2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nodeType="clickEffect" fill="hold">
                      <p:stCondLst>
                        <p:cond delay="indefinite"/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3"/>
          <p:cNvSpPr/>
          <p:nvPr/>
        </p:nvSpPr>
        <p:spPr>
          <a:xfrm>
            <a:off x="55440" y="1038240"/>
            <a:ext cx="90266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Ганнуся склала в першу коробочку 9 ляльок, а в другу – на 6 ля-льок менше. Скільки ляльок поклала в другу короб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Скругленный прямоугольник 17"/>
          <p:cNvSpPr/>
          <p:nvPr/>
        </p:nvSpPr>
        <p:spPr>
          <a:xfrm>
            <a:off x="0" y="2806560"/>
            <a:ext cx="3332160" cy="107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18"/>
          <p:cNvSpPr/>
          <p:nvPr/>
        </p:nvSpPr>
        <p:spPr>
          <a:xfrm>
            <a:off x="176040" y="28591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 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9"/>
          <p:cNvSpPr/>
          <p:nvPr/>
        </p:nvSpPr>
        <p:spPr>
          <a:xfrm>
            <a:off x="800280" y="3268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20"/>
          <p:cNvSpPr/>
          <p:nvPr/>
        </p:nvSpPr>
        <p:spPr>
          <a:xfrm>
            <a:off x="1052640" y="328464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,на 6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. 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мен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21"/>
          <p:cNvSpPr/>
          <p:nvPr/>
        </p:nvSpPr>
        <p:spPr>
          <a:xfrm>
            <a:off x="1000080" y="2859120"/>
            <a:ext cx="7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9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87"/>
          <p:cNvSpPr/>
          <p:nvPr/>
        </p:nvSpPr>
        <p:spPr>
          <a:xfrm>
            <a:off x="55440" y="1038240"/>
            <a:ext cx="90266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Ганнуся склала в першу коробочку 9 ляльок, а в другу – на 6 ля-льок менше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ільки ляльок поклала в другу короб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88"/>
          <p:cNvSpPr/>
          <p:nvPr/>
        </p:nvSpPr>
        <p:spPr>
          <a:xfrm>
            <a:off x="55440" y="1038240"/>
            <a:ext cx="90266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Ганнуся склала в першу коробочку 9 ляльок, а в другу – на 6 ля-льок менше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ляльок поклала в другу короб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3400560" y="2689200"/>
            <a:ext cx="5732280" cy="1305000"/>
          </a:xfrm>
          <a:prstGeom prst="rect">
            <a:avLst/>
          </a:prstGeom>
          <a:ln w="0">
            <a:noFill/>
          </a:ln>
        </p:spPr>
      </p:pic>
      <p:sp>
        <p:nvSpPr>
          <p:cNvPr id="625" name="Овал 90"/>
          <p:cNvSpPr/>
          <p:nvPr/>
        </p:nvSpPr>
        <p:spPr>
          <a:xfrm>
            <a:off x="5011560" y="10969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Овал 91"/>
          <p:cNvSpPr/>
          <p:nvPr/>
        </p:nvSpPr>
        <p:spPr>
          <a:xfrm>
            <a:off x="8167680" y="10969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92"/>
          <p:cNvSpPr/>
          <p:nvPr/>
        </p:nvSpPr>
        <p:spPr>
          <a:xfrm>
            <a:off x="2665440" y="10447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ершу коробоч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93"/>
          <p:cNvSpPr/>
          <p:nvPr/>
        </p:nvSpPr>
        <p:spPr>
          <a:xfrm>
            <a:off x="65160" y="32734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І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94"/>
          <p:cNvSpPr/>
          <p:nvPr/>
        </p:nvSpPr>
        <p:spPr>
          <a:xfrm>
            <a:off x="5129280" y="1405080"/>
            <a:ext cx="22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ругу короб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Выгнутая вверх стрелка 95"/>
          <p:cNvSpPr/>
          <p:nvPr/>
        </p:nvSpPr>
        <p:spPr>
          <a:xfrm>
            <a:off x="3236760" y="741240"/>
            <a:ext cx="1836720" cy="355680"/>
          </a:xfrm>
          <a:custGeom>
            <a:avLst/>
            <a:gdLst>
              <a:gd name="textAreaLeft" fmla="*/ 425880 w 1836720"/>
              <a:gd name="textAreaRight" fmla="*/ 1366560 w 1836720"/>
              <a:gd name="textAreaTop" fmla="*/ 47520 h 355680"/>
              <a:gd name="textAreaBottom" fmla="*/ 3081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16" hR="21600" stAng="10800000" swAng="5400000"/>
                <a:lnTo>
                  <a:pt x="11061" y="0"/>
                </a:lnTo>
                <a:arcTo wR="10016" hR="21600" stAng="-5400000" swAng="3653407"/>
                <a:lnTo>
                  <a:pt x="21282" y="16200"/>
                </a:lnTo>
                <a:lnTo>
                  <a:pt x="20555" y="21600"/>
                </a:lnTo>
                <a:lnTo>
                  <a:pt x="19191" y="16200"/>
                </a:lnTo>
                <a:lnTo>
                  <a:pt x="19714" y="16200"/>
                </a:lnTo>
                <a:arcTo wR="10016" hR="21600" stAng="-1746593" swAng="-3570152"/>
                <a:lnTo>
                  <a:pt x="10538" y="29"/>
                </a:lnTo>
                <a:arcTo wR="10016" hR="21600" stAng="-5483256" swAng="-5316744"/>
                <a:close/>
              </a:path>
              <a:path fill="darkenLess" w="21600" h="21600">
                <a:moveTo>
                  <a:pt x="0" y="21600"/>
                </a:moveTo>
                <a:arcTo wR="10016" hR="21600" stAng="10800000" swAng="5400000"/>
                <a:lnTo>
                  <a:pt x="10016" y="0"/>
                </a:lnTo>
                <a:arcTo wR="10016" hR="21600" stAng="-5400000" swAng="83256"/>
                <a:lnTo>
                  <a:pt x="10538" y="29"/>
                </a:lnTo>
                <a:arcTo wR="10016" hR="21600" stAng="-5483256" swAng="-5316744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Выгнутая вверх стрелка 96"/>
          <p:cNvSpPr/>
          <p:nvPr/>
        </p:nvSpPr>
        <p:spPr>
          <a:xfrm flipH="1">
            <a:off x="2771640" y="1405080"/>
            <a:ext cx="2541600" cy="179280"/>
          </a:xfrm>
          <a:custGeom>
            <a:avLst/>
            <a:gdLst>
              <a:gd name="textAreaLeft" fmla="*/ 618480 w 2541600"/>
              <a:gd name="textAreaRight" fmla="*/ 1900800 w 254160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14" hR="21600" stAng="10800000" swAng="5400000"/>
                <a:lnTo>
                  <a:pt x="10896" y="0"/>
                </a:lnTo>
                <a:arcTo wR="10514" hR="21600" stAng="-5400000" swAng="3723391"/>
                <a:lnTo>
                  <a:pt x="21266" y="16200"/>
                </a:lnTo>
                <a:lnTo>
                  <a:pt x="21219" y="21600"/>
                </a:lnTo>
                <a:lnTo>
                  <a:pt x="20504" y="16200"/>
                </a:lnTo>
                <a:lnTo>
                  <a:pt x="20694" y="16200"/>
                </a:lnTo>
                <a:arcTo wR="10514" hR="21600" stAng="-1676609" swAng="-3692988"/>
                <a:lnTo>
                  <a:pt x="10705" y="4"/>
                </a:lnTo>
                <a:arcTo wR="10514" hR="21600" stAng="-5430403" swAng="-5369597"/>
                <a:close/>
              </a:path>
              <a:path fill="darkenLess" w="21600" h="21600">
                <a:moveTo>
                  <a:pt x="0" y="21600"/>
                </a:moveTo>
                <a:arcTo wR="10514" hR="21600" stAng="10800000" swAng="5400000"/>
                <a:lnTo>
                  <a:pt x="10514" y="0"/>
                </a:lnTo>
                <a:arcTo wR="10514" hR="21600" stAng="-5400000" swAng="30403"/>
                <a:lnTo>
                  <a:pt x="10705" y="4"/>
                </a:lnTo>
                <a:arcTo wR="10514" hR="21600" stAng="-5430403" swAng="-5369597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Выгнутая вверх стрелка 97"/>
          <p:cNvSpPr/>
          <p:nvPr/>
        </p:nvSpPr>
        <p:spPr>
          <a:xfrm>
            <a:off x="7157880" y="919080"/>
            <a:ext cx="1295640" cy="201600"/>
          </a:xfrm>
          <a:custGeom>
            <a:avLst/>
            <a:gdLst>
              <a:gd name="textAreaLeft" fmla="*/ 304920 w 1295640"/>
              <a:gd name="textAreaRight" fmla="*/ 965520 w 1295640"/>
              <a:gd name="textAreaTop" fmla="*/ 27000 h 201600"/>
              <a:gd name="textAreaBottom" fmla="*/ 1746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70" hR="21600" stAng="10800000" swAng="5400000"/>
                <a:lnTo>
                  <a:pt x="11011" y="0"/>
                </a:lnTo>
                <a:arcTo wR="10170" hR="21600" stAng="-5400000" swAng="3675541"/>
                <a:lnTo>
                  <a:pt x="21277" y="16200"/>
                </a:lnTo>
                <a:lnTo>
                  <a:pt x="20760" y="21600"/>
                </a:lnTo>
                <a:lnTo>
                  <a:pt x="19596" y="16200"/>
                </a:lnTo>
                <a:lnTo>
                  <a:pt x="20016" y="16200"/>
                </a:lnTo>
                <a:arcTo wR="10170" hR="21600" stAng="-1724459" swAng="-3608568"/>
                <a:lnTo>
                  <a:pt x="10590" y="18"/>
                </a:lnTo>
                <a:arcTo wR="10170" hR="21600" stAng="-5466973" swAng="-5333027"/>
                <a:close/>
              </a:path>
              <a:path fill="darkenLess" w="21600" h="21600">
                <a:moveTo>
                  <a:pt x="0" y="21600"/>
                </a:moveTo>
                <a:arcTo wR="10170" hR="21600" stAng="10800000" swAng="5400000"/>
                <a:lnTo>
                  <a:pt x="10170" y="0"/>
                </a:lnTo>
                <a:arcTo wR="10170" hR="21600" stAng="-5400000" swAng="66973"/>
                <a:lnTo>
                  <a:pt x="10590" y="18"/>
                </a:lnTo>
                <a:arcTo wR="10170" hR="21600" stAng="-5466973" swAng="-5333027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98"/>
          <p:cNvSpPr/>
          <p:nvPr/>
        </p:nvSpPr>
        <p:spPr>
          <a:xfrm>
            <a:off x="8286840" y="2629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99"/>
          <p:cNvSpPr/>
          <p:nvPr/>
        </p:nvSpPr>
        <p:spPr>
          <a:xfrm>
            <a:off x="7401240" y="309096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9 – 6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100"/>
          <p:cNvSpPr/>
          <p:nvPr/>
        </p:nvSpPr>
        <p:spPr>
          <a:xfrm>
            <a:off x="8291520" y="34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106"/>
          <p:cNvSpPr/>
          <p:nvPr/>
        </p:nvSpPr>
        <p:spPr>
          <a:xfrm>
            <a:off x="7465320" y="2651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108"/>
          <p:cNvSpPr/>
          <p:nvPr/>
        </p:nvSpPr>
        <p:spPr>
          <a:xfrm>
            <a:off x="7848000" y="264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50"/>
          <p:cNvSpPr/>
          <p:nvPr/>
        </p:nvSpPr>
        <p:spPr>
          <a:xfrm>
            <a:off x="7420680" y="28987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50"/>
          <p:cNvSpPr/>
          <p:nvPr/>
        </p:nvSpPr>
        <p:spPr>
          <a:xfrm>
            <a:off x="7786080" y="333540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42"/>
          <p:cNvSpPr/>
          <p:nvPr/>
        </p:nvSpPr>
        <p:spPr>
          <a:xfrm>
            <a:off x="3801240" y="397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43"/>
          <p:cNvSpPr/>
          <p:nvPr/>
        </p:nvSpPr>
        <p:spPr>
          <a:xfrm>
            <a:off x="4306320" y="2344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Прямая соединительная линия 44"/>
          <p:cNvSpPr/>
          <p:nvPr/>
        </p:nvSpPr>
        <p:spPr>
          <a:xfrm>
            <a:off x="3633840" y="3268800"/>
            <a:ext cx="187488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Прямая соединительная линия 45"/>
          <p:cNvSpPr/>
          <p:nvPr/>
        </p:nvSpPr>
        <p:spPr>
          <a:xfrm>
            <a:off x="4262400" y="3666960"/>
            <a:ext cx="1246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Прямая соединительная линия 46"/>
          <p:cNvSpPr/>
          <p:nvPr/>
        </p:nvSpPr>
        <p:spPr>
          <a:xfrm flipV="1">
            <a:off x="3633840" y="31618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Прямая соединительная линия 47"/>
          <p:cNvSpPr/>
          <p:nvPr/>
        </p:nvSpPr>
        <p:spPr>
          <a:xfrm flipV="1">
            <a:off x="4262400" y="35668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Прямая соединительная линия 48"/>
          <p:cNvSpPr/>
          <p:nvPr/>
        </p:nvSpPr>
        <p:spPr>
          <a:xfrm flipV="1">
            <a:off x="5508720" y="31557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Прямая соединительная линия 49"/>
          <p:cNvSpPr/>
          <p:nvPr/>
        </p:nvSpPr>
        <p:spPr>
          <a:xfrm flipV="1">
            <a:off x="5508720" y="35668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Прямая соединительная линия 50"/>
          <p:cNvSpPr/>
          <p:nvPr/>
        </p:nvSpPr>
        <p:spPr>
          <a:xfrm flipV="1">
            <a:off x="3627360" y="35604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Прямая соединительная линия 51"/>
          <p:cNvSpPr/>
          <p:nvPr/>
        </p:nvSpPr>
        <p:spPr>
          <a:xfrm flipV="1">
            <a:off x="4257720" y="35589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Правая круглая скобка 52"/>
          <p:cNvSpPr/>
          <p:nvPr/>
        </p:nvSpPr>
        <p:spPr>
          <a:xfrm flipH="1" rot="5400000">
            <a:off x="4454640" y="2077920"/>
            <a:ext cx="250560" cy="1857600"/>
          </a:xfrm>
          <a:custGeom>
            <a:avLst/>
            <a:gdLst>
              <a:gd name="textAreaLeft" fmla="*/ 0 w 250560"/>
              <a:gd name="textAreaRight" fmla="*/ 175680 w 250560"/>
              <a:gd name="textAreaTop" fmla="*/ 249120 h 1857600"/>
              <a:gd name="textAreaBottom" fmla="*/ 160848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98"/>
                  <a:pt x="21600" y="5795"/>
                </a:cubicBezTo>
                <a:lnTo>
                  <a:pt x="21600" y="15805"/>
                </a:lnTo>
                <a:cubicBezTo>
                  <a:pt x="21600" y="1870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Правая круглая скобка 53"/>
          <p:cNvSpPr/>
          <p:nvPr/>
        </p:nvSpPr>
        <p:spPr>
          <a:xfrm rot="5400000">
            <a:off x="4786920" y="3297960"/>
            <a:ext cx="228600" cy="1195200"/>
          </a:xfrm>
          <a:custGeom>
            <a:avLst/>
            <a:gdLst>
              <a:gd name="textAreaLeft" fmla="*/ 0 w 228600"/>
              <a:gd name="textAreaRight" fmla="*/ 160560 w 228600"/>
              <a:gd name="textAreaTop" fmla="*/ 228240 h 1195200"/>
              <a:gd name="textAreaBottom" fmla="*/ 966960 h 11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130"/>
                  <a:pt x="21600" y="8259"/>
                </a:cubicBezTo>
                <a:lnTo>
                  <a:pt x="21600" y="13341"/>
                </a:lnTo>
                <a:cubicBezTo>
                  <a:pt x="21600" y="17471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Правая круглая скобка 54"/>
          <p:cNvSpPr/>
          <p:nvPr/>
        </p:nvSpPr>
        <p:spPr>
          <a:xfrm rot="5400000">
            <a:off x="3874680" y="3568680"/>
            <a:ext cx="163440" cy="655560"/>
          </a:xfrm>
          <a:custGeom>
            <a:avLst/>
            <a:gdLst>
              <a:gd name="textAreaLeft" fmla="*/ 0 w 163440"/>
              <a:gd name="textAreaRight" fmla="*/ 114840 w 163440"/>
              <a:gd name="textAreaTop" fmla="*/ 163440 h 655560"/>
              <a:gd name="textAreaBottom" fmla="*/ 492120 h 65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386"/>
                  <a:pt x="21600" y="10771"/>
                </a:cubicBezTo>
                <a:lnTo>
                  <a:pt x="21600" y="10829"/>
                </a:lnTo>
                <a:cubicBezTo>
                  <a:pt x="21600" y="16215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55"/>
          <p:cNvSpPr/>
          <p:nvPr/>
        </p:nvSpPr>
        <p:spPr>
          <a:xfrm>
            <a:off x="4353120" y="40194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ле без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Прямая соединительная линия 56"/>
          <p:cNvSpPr/>
          <p:nvPr/>
        </p:nvSpPr>
        <p:spPr>
          <a:xfrm flipH="1">
            <a:off x="3627000" y="323856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Прямая соединительная линия 57"/>
          <p:cNvSpPr/>
          <p:nvPr/>
        </p:nvSpPr>
        <p:spPr>
          <a:xfrm flipH="1">
            <a:off x="5506560" y="327672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Прямая соединительная линия 58"/>
          <p:cNvSpPr/>
          <p:nvPr/>
        </p:nvSpPr>
        <p:spPr>
          <a:xfrm>
            <a:off x="3608280" y="3666960"/>
            <a:ext cx="649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Прямая соединительная линия 62"/>
          <p:cNvSpPr/>
          <p:nvPr/>
        </p:nvSpPr>
        <p:spPr>
          <a:xfrm flipH="1">
            <a:off x="4262040" y="33019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nodeType="clickEffect" fill="hold">
                      <p:stCondLst>
                        <p:cond delay="indefinite"/>
                      </p:stCondLst>
                      <p:childTnLst>
                        <p:par>
                          <p:cTn id="2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nodeType="clickEffect" fill="hold">
                      <p:stCondLst>
                        <p:cond delay="indefinite"/>
                      </p:stCondLst>
                      <p:childTnLst>
                        <p:par>
                          <p:cTn id="2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nodeType="clickEffect" fill="hold">
                      <p:stCondLst>
                        <p:cond delay="indefinite"/>
                      </p:stCondLst>
                      <p:childTnLst>
                        <p:par>
                          <p:cTn id="2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nodeType="clickEffect" fill="hold">
                      <p:stCondLst>
                        <p:cond delay="indefinite"/>
                      </p:stCondLst>
                      <p:childTnLst>
                        <p:par>
                          <p:cTn id="2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nodeType="clickEffect" fill="hold">
                      <p:stCondLst>
                        <p:cond delay="indefinite"/>
                      </p:stCondLst>
                      <p:childTnLst>
                        <p:par>
                          <p:cTn id="2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nodeType="clickEffect" fill="hold">
                      <p:stCondLst>
                        <p:cond delay="indefinite"/>
                      </p:stCondLst>
                      <p:childTnLst>
                        <p:par>
                          <p:cTn id="2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nodeType="clickEffect" fill="hold">
                      <p:stCondLst>
                        <p:cond delay="indefinite"/>
                      </p:stCondLst>
                      <p:childTnLst>
                        <p:par>
                          <p:cTn id="2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nodeType="clickEffect" fill="hold">
                      <p:stCondLst>
                        <p:cond delay="indefinite"/>
                      </p:stCondLst>
                      <p:childTnLst>
                        <p:par>
                          <p:cTn id="2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nodeType="clickEffect" fill="hold">
                      <p:stCondLst>
                        <p:cond delay="indefinite"/>
                      </p:stCondLst>
                      <p:childTnLst>
                        <p:par>
                          <p:cTn id="2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nodeType="clickEffect" fill="hold">
                      <p:stCondLst>
                        <p:cond delay="indefinite"/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nodeType="clickEffect" fill="hold">
                      <p:stCondLst>
                        <p:cond delay="indefinite"/>
                      </p:stCondLst>
                      <p:childTnLst>
                        <p:par>
                          <p:cTn id="2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9" nodeType="clickEffect" fill="hold">
                      <p:stCondLst>
                        <p:cond delay="indefinite"/>
                      </p:stCondLst>
                      <p:childTnLst>
                        <p:par>
                          <p:cTn id="2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nodeType="clickEffect" fill="hold">
                      <p:stCondLst>
                        <p:cond delay="indefinite"/>
                      </p:stCondLst>
                      <p:childTnLst>
                        <p:par>
                          <p:cTn id="3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nodeType="clickEffect" fill="hold">
                      <p:stCondLst>
                        <p:cond delay="indefinite"/>
                      </p:stCondLst>
                      <p:childTnLst>
                        <p:par>
                          <p:cTn id="3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9" fill="hold">
                      <p:stCondLst>
                        <p:cond delay="indefinite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fill="hold">
                      <p:stCondLst>
                        <p:cond delay="indefinite"/>
                      </p:stCondLst>
                      <p:childTnLst>
                        <p:par>
                          <p:cTn id="3055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fill="hold">
                      <p:stCondLst>
                        <p:cond delay="indefinite"/>
                      </p:stCondLst>
                      <p:childTnLst>
                        <p:par>
                          <p:cTn id="3065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3"/>
          <p:cNvSpPr/>
          <p:nvPr/>
        </p:nvSpPr>
        <p:spPr>
          <a:xfrm>
            <a:off x="324000" y="765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. Закінчи виконання короткого запису. Розв'яжи задач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195120" y="1434960"/>
            <a:ext cx="77756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ринка вимила 10 чашок і 9 блюдець. На скільки більше чашок, ніж блюдець, вимила дівчин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кругленный прямоугольник 34"/>
          <p:cNvSpPr/>
          <p:nvPr/>
        </p:nvSpPr>
        <p:spPr>
          <a:xfrm>
            <a:off x="177840" y="2876400"/>
            <a:ext cx="273528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35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Правая круглая скобка 36"/>
          <p:cNvSpPr/>
          <p:nvPr/>
        </p:nvSpPr>
        <p:spPr>
          <a:xfrm>
            <a:off x="1797120" y="3083040"/>
            <a:ext cx="276120" cy="593640"/>
          </a:xfrm>
          <a:custGeom>
            <a:avLst/>
            <a:gdLst>
              <a:gd name="textAreaLeft" fmla="*/ 0 w 276120"/>
              <a:gd name="textAreaRight" fmla="*/ 193680 w 276120"/>
              <a:gd name="textAreaTop" fmla="*/ 11160 h 593640"/>
              <a:gd name="textAreaBottom" fmla="*/ 58248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19"/>
                  <a:pt x="21600" y="837"/>
                </a:cubicBezTo>
                <a:lnTo>
                  <a:pt x="21600" y="20763"/>
                </a:lnTo>
                <a:cubicBezTo>
                  <a:pt x="21600" y="21182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Прямая со стрелкой 37"/>
          <p:cNvCxnSpPr/>
          <p:nvPr/>
        </p:nvCxnSpPr>
        <p:spPr>
          <a:xfrm flipH="1">
            <a:off x="1718640" y="3082680"/>
            <a:ext cx="216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3" name="Прямая со стрелкой 38"/>
          <p:cNvCxnSpPr/>
          <p:nvPr/>
        </p:nvCxnSpPr>
        <p:spPr>
          <a:xfrm flipH="1">
            <a:off x="1718640" y="3671640"/>
            <a:ext cx="2163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64" name="TextBox 39"/>
          <p:cNvSpPr/>
          <p:nvPr/>
        </p:nvSpPr>
        <p:spPr>
          <a:xfrm>
            <a:off x="2133720" y="313848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на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204840" y="1434960"/>
            <a:ext cx="77756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Іринка вимила 10 чашок і 9 блюдець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 скільки більше чашок, ніж блюдець, вимила дівчин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121"/>
          <p:cNvSpPr/>
          <p:nvPr/>
        </p:nvSpPr>
        <p:spPr>
          <a:xfrm>
            <a:off x="195120" y="1438200"/>
            <a:ext cx="77756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ринка вимила 10 чашок і 9 блюдець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На скільки більше чашок, ніж блюдець, вимила дівчин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1640" y="2728800"/>
            <a:ext cx="6081840" cy="1384560"/>
          </a:xfrm>
          <a:prstGeom prst="rect">
            <a:avLst/>
          </a:prstGeom>
          <a:ln w="0">
            <a:noFill/>
          </a:ln>
        </p:spPr>
      </p:pic>
      <p:sp>
        <p:nvSpPr>
          <p:cNvPr id="668" name="Овал 123"/>
          <p:cNvSpPr/>
          <p:nvPr/>
        </p:nvSpPr>
        <p:spPr>
          <a:xfrm>
            <a:off x="2274840" y="149220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Овал 124"/>
          <p:cNvSpPr/>
          <p:nvPr/>
        </p:nvSpPr>
        <p:spPr>
          <a:xfrm>
            <a:off x="3632040" y="15001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42"/>
          <p:cNvSpPr/>
          <p:nvPr/>
        </p:nvSpPr>
        <p:spPr>
          <a:xfrm>
            <a:off x="2522520" y="144000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чаш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Box 143"/>
          <p:cNvSpPr/>
          <p:nvPr/>
        </p:nvSpPr>
        <p:spPr>
          <a:xfrm>
            <a:off x="878040" y="328932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9 ш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Box 150"/>
          <p:cNvSpPr/>
          <p:nvPr/>
        </p:nvSpPr>
        <p:spPr>
          <a:xfrm>
            <a:off x="806400" y="28987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10 ш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151"/>
          <p:cNvSpPr/>
          <p:nvPr/>
        </p:nvSpPr>
        <p:spPr>
          <a:xfrm>
            <a:off x="287280" y="328932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Б.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Box 152"/>
          <p:cNvSpPr/>
          <p:nvPr/>
        </p:nvSpPr>
        <p:spPr>
          <a:xfrm>
            <a:off x="212760" y="285768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Ч. –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153"/>
          <p:cNvSpPr/>
          <p:nvPr/>
        </p:nvSpPr>
        <p:spPr>
          <a:xfrm>
            <a:off x="3801960" y="1422360"/>
            <a:ext cx="16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людец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Выгнутая вверх стрелка 167"/>
          <p:cNvSpPr/>
          <p:nvPr/>
        </p:nvSpPr>
        <p:spPr>
          <a:xfrm flipH="1">
            <a:off x="2451960" y="1220760"/>
            <a:ext cx="415800" cy="279360"/>
          </a:xfrm>
          <a:custGeom>
            <a:avLst/>
            <a:gdLst>
              <a:gd name="textAreaLeft" fmla="*/ 77400 w 415800"/>
              <a:gd name="textAreaRight" fmla="*/ 302760 w 41580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80" hR="21600" stAng="10800000" swAng="5400000"/>
                <a:lnTo>
                  <a:pt x="11707" y="0"/>
                </a:lnTo>
                <a:arcTo wR="8080" hR="21600" stAng="-5400000" swAng="3323014"/>
                <a:lnTo>
                  <a:pt x="21343" y="16200"/>
                </a:lnTo>
                <a:lnTo>
                  <a:pt x="17973" y="21600"/>
                </a:lnTo>
                <a:lnTo>
                  <a:pt x="14088" y="16200"/>
                </a:lnTo>
                <a:lnTo>
                  <a:pt x="15902" y="16200"/>
                </a:lnTo>
                <a:arcTo wR="8080" hR="21600" stAng="-2076986" swAng="-3027558"/>
                <a:lnTo>
                  <a:pt x="9893" y="551"/>
                </a:lnTo>
                <a:arcTo wR="8080" hR="21600" stAng="-5695455" swAng="-5104545"/>
                <a:close/>
              </a:path>
              <a:path fill="darkenLess" w="21600" h="21600">
                <a:moveTo>
                  <a:pt x="0" y="21600"/>
                </a:moveTo>
                <a:arcTo wR="8080" hR="21600" stAng="10800000" swAng="5400000"/>
                <a:lnTo>
                  <a:pt x="8080" y="0"/>
                </a:lnTo>
                <a:arcTo wR="8080" hR="21600" stAng="-5400000" swAng="295455"/>
                <a:lnTo>
                  <a:pt x="9893" y="551"/>
                </a:lnTo>
                <a:arcTo wR="8080" hR="21600" stAng="-5695455" swAng="-5104545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Выгнутая вверх стрелка 168"/>
          <p:cNvSpPr/>
          <p:nvPr/>
        </p:nvSpPr>
        <p:spPr>
          <a:xfrm flipH="1">
            <a:off x="3759120" y="1141560"/>
            <a:ext cx="486000" cy="355320"/>
          </a:xfrm>
          <a:custGeom>
            <a:avLst/>
            <a:gdLst>
              <a:gd name="textAreaLeft" fmla="*/ 88560 w 486000"/>
              <a:gd name="textAreaRight" fmla="*/ 353880 w 486000"/>
              <a:gd name="textAreaTop" fmla="*/ 47520 h 355320"/>
              <a:gd name="textAreaBottom" fmla="*/ 307800 h 355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36" hR="21600" stAng="10800000" swAng="5400000"/>
                <a:lnTo>
                  <a:pt x="11788" y="0"/>
                </a:lnTo>
                <a:arcTo wR="7836" hR="21600" stAng="-5400000" swAng="3273466"/>
                <a:lnTo>
                  <a:pt x="21351" y="16200"/>
                </a:lnTo>
                <a:lnTo>
                  <a:pt x="17647" y="21600"/>
                </a:lnTo>
                <a:lnTo>
                  <a:pt x="13445" y="16200"/>
                </a:lnTo>
                <a:lnTo>
                  <a:pt x="15422" y="16200"/>
                </a:lnTo>
                <a:arcTo wR="7836" hR="21600" stAng="-2126534" swAng="-2949435"/>
                <a:lnTo>
                  <a:pt x="9812" y="698"/>
                </a:lnTo>
                <a:arcTo wR="7836" hR="21600" stAng="-5724031" swAng="-5075969"/>
                <a:close/>
              </a:path>
              <a:path fill="darkenLess" w="21600" h="21600">
                <a:moveTo>
                  <a:pt x="0" y="21600"/>
                </a:moveTo>
                <a:arcTo wR="7836" hR="21600" stAng="10800000" swAng="5400000"/>
                <a:lnTo>
                  <a:pt x="7836" y="0"/>
                </a:lnTo>
                <a:arcTo wR="7836" hR="21600" stAng="-5400000" swAng="324031"/>
                <a:lnTo>
                  <a:pt x="9812" y="698"/>
                </a:lnTo>
                <a:arcTo wR="7836" hR="21600" stAng="-5724031" swAng="-5075969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Выгнутая вверх стрелка 169"/>
          <p:cNvSpPr/>
          <p:nvPr/>
        </p:nvSpPr>
        <p:spPr>
          <a:xfrm>
            <a:off x="5237280" y="1182600"/>
            <a:ext cx="1836720" cy="355680"/>
          </a:xfrm>
          <a:custGeom>
            <a:avLst/>
            <a:gdLst>
              <a:gd name="textAreaLeft" fmla="*/ 425880 w 1836720"/>
              <a:gd name="textAreaRight" fmla="*/ 1366560 w 1836720"/>
              <a:gd name="textAreaTop" fmla="*/ 47520 h 355680"/>
              <a:gd name="textAreaBottom" fmla="*/ 3081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16" hR="21600" stAng="10800000" swAng="5400000"/>
                <a:lnTo>
                  <a:pt x="11061" y="0"/>
                </a:lnTo>
                <a:arcTo wR="10016" hR="21600" stAng="-5400000" swAng="3653407"/>
                <a:lnTo>
                  <a:pt x="21282" y="16200"/>
                </a:lnTo>
                <a:lnTo>
                  <a:pt x="20555" y="21600"/>
                </a:lnTo>
                <a:lnTo>
                  <a:pt x="19191" y="16200"/>
                </a:lnTo>
                <a:lnTo>
                  <a:pt x="19714" y="16200"/>
                </a:lnTo>
                <a:arcTo wR="10016" hR="21600" stAng="-1746593" swAng="-3570152"/>
                <a:lnTo>
                  <a:pt x="10538" y="29"/>
                </a:lnTo>
                <a:arcTo wR="10016" hR="21600" stAng="-5483256" swAng="-5316744"/>
                <a:close/>
              </a:path>
              <a:path fill="darkenLess" w="21600" h="21600">
                <a:moveTo>
                  <a:pt x="0" y="21600"/>
                </a:moveTo>
                <a:arcTo wR="10016" hR="21600" stAng="10800000" swAng="5400000"/>
                <a:lnTo>
                  <a:pt x="10016" y="0"/>
                </a:lnTo>
                <a:arcTo wR="10016" hR="21600" stAng="-5400000" swAng="83256"/>
                <a:lnTo>
                  <a:pt x="10538" y="29"/>
                </a:lnTo>
                <a:arcTo wR="10016" hR="21600" stAng="-5483256" swAng="-5316744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170"/>
          <p:cNvSpPr/>
          <p:nvPr/>
        </p:nvSpPr>
        <p:spPr>
          <a:xfrm>
            <a:off x="7164360" y="27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Box 171"/>
          <p:cNvSpPr/>
          <p:nvPr/>
        </p:nvSpPr>
        <p:spPr>
          <a:xfrm>
            <a:off x="780516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187"/>
          <p:cNvSpPr/>
          <p:nvPr/>
        </p:nvSpPr>
        <p:spPr>
          <a:xfrm>
            <a:off x="828144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Box 188"/>
          <p:cNvSpPr/>
          <p:nvPr/>
        </p:nvSpPr>
        <p:spPr>
          <a:xfrm>
            <a:off x="7187760" y="315108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 – 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Box 189"/>
          <p:cNvSpPr/>
          <p:nvPr/>
        </p:nvSpPr>
        <p:spPr>
          <a:xfrm>
            <a:off x="8281440" y="361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Box 50"/>
          <p:cNvSpPr/>
          <p:nvPr/>
        </p:nvSpPr>
        <p:spPr>
          <a:xfrm>
            <a:off x="7355520" y="29671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50"/>
          <p:cNvSpPr/>
          <p:nvPr/>
        </p:nvSpPr>
        <p:spPr>
          <a:xfrm>
            <a:off x="7754400" y="34210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44"/>
          <p:cNvSpPr/>
          <p:nvPr/>
        </p:nvSpPr>
        <p:spPr>
          <a:xfrm>
            <a:off x="5070600" y="142236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На скільки бі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Прямая соединительная линия 46"/>
          <p:cNvSpPr/>
          <p:nvPr/>
        </p:nvSpPr>
        <p:spPr>
          <a:xfrm>
            <a:off x="3251160" y="3087720"/>
            <a:ext cx="2297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Box 47"/>
          <p:cNvSpPr/>
          <p:nvPr/>
        </p:nvSpPr>
        <p:spPr>
          <a:xfrm>
            <a:off x="5262480" y="331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Box 48"/>
          <p:cNvSpPr/>
          <p:nvPr/>
        </p:nvSpPr>
        <p:spPr>
          <a:xfrm>
            <a:off x="4164120" y="408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49"/>
          <p:cNvSpPr/>
          <p:nvPr/>
        </p:nvSpPr>
        <p:spPr>
          <a:xfrm>
            <a:off x="4214880" y="2314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Прямая соединительная линия 50"/>
          <p:cNvSpPr/>
          <p:nvPr/>
        </p:nvSpPr>
        <p:spPr>
          <a:xfrm>
            <a:off x="3246480" y="3774960"/>
            <a:ext cx="2058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Прямая соединительная линия 51"/>
          <p:cNvSpPr/>
          <p:nvPr/>
        </p:nvSpPr>
        <p:spPr>
          <a:xfrm flipV="1">
            <a:off x="3240000" y="29523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Прямая соединительная линия 52"/>
          <p:cNvSpPr/>
          <p:nvPr/>
        </p:nvSpPr>
        <p:spPr>
          <a:xfrm flipV="1">
            <a:off x="5311800" y="36478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Прямая соединительная линия 53"/>
          <p:cNvSpPr/>
          <p:nvPr/>
        </p:nvSpPr>
        <p:spPr>
          <a:xfrm flipV="1">
            <a:off x="3260880" y="36478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Прямая соединительная линия 54"/>
          <p:cNvSpPr/>
          <p:nvPr/>
        </p:nvSpPr>
        <p:spPr>
          <a:xfrm flipV="1">
            <a:off x="5541840" y="298116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Прямая соединительная линия 55"/>
          <p:cNvSpPr/>
          <p:nvPr/>
        </p:nvSpPr>
        <p:spPr>
          <a:xfrm>
            <a:off x="5297400" y="3083040"/>
            <a:ext cx="26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Правая круглая скобка 56"/>
          <p:cNvSpPr/>
          <p:nvPr/>
        </p:nvSpPr>
        <p:spPr>
          <a:xfrm flipH="1" rot="5400000">
            <a:off x="4281480" y="1701360"/>
            <a:ext cx="216000" cy="2298960"/>
          </a:xfrm>
          <a:custGeom>
            <a:avLst/>
            <a:gdLst>
              <a:gd name="textAreaLeft" fmla="*/ 360 w 216000"/>
              <a:gd name="textAreaRight" fmla="*/ 151920 w 216000"/>
              <a:gd name="textAreaTop" fmla="*/ 215640 h 2298960"/>
              <a:gd name="textAreaBottom" fmla="*/ 2083320 h 229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28"/>
                  <a:pt x="21600" y="4056"/>
                </a:cubicBezTo>
                <a:lnTo>
                  <a:pt x="21600" y="17544"/>
                </a:lnTo>
                <a:cubicBezTo>
                  <a:pt x="21600" y="19572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Прямая соединительная линия 57"/>
          <p:cNvSpPr/>
          <p:nvPr/>
        </p:nvSpPr>
        <p:spPr>
          <a:xfrm flipH="1">
            <a:off x="3233880" y="320688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Прямая соединительная линия 58"/>
          <p:cNvSpPr/>
          <p:nvPr/>
        </p:nvSpPr>
        <p:spPr>
          <a:xfrm flipH="1">
            <a:off x="5300640" y="315108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Правая круглая скобка 59"/>
          <p:cNvSpPr/>
          <p:nvPr/>
        </p:nvSpPr>
        <p:spPr>
          <a:xfrm rot="5400000">
            <a:off x="4118400" y="2961360"/>
            <a:ext cx="304920" cy="2052720"/>
          </a:xfrm>
          <a:custGeom>
            <a:avLst/>
            <a:gdLst>
              <a:gd name="textAreaLeft" fmla="*/ 0 w 304920"/>
              <a:gd name="textAreaRight" fmla="*/ 213840 w 304920"/>
              <a:gd name="textAreaTop" fmla="*/ 304560 h 2052720"/>
              <a:gd name="textAreaBottom" fmla="*/ 1748160 h 20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07"/>
                  <a:pt x="21600" y="6413"/>
                </a:cubicBezTo>
                <a:lnTo>
                  <a:pt x="21600" y="15187"/>
                </a:lnTo>
                <a:cubicBezTo>
                  <a:pt x="21600" y="18394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Правая круглая скобка 60"/>
          <p:cNvSpPr/>
          <p:nvPr/>
        </p:nvSpPr>
        <p:spPr>
          <a:xfrm rot="5400000">
            <a:off x="5357880" y="3168720"/>
            <a:ext cx="142560" cy="24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0800" y="0"/>
                  <a:pt x="21600" y="12786"/>
                  <a:pt x="21600" y="25572"/>
                </a:cubicBezTo>
                <a:lnTo>
                  <a:pt x="21600" y="-3972"/>
                </a:lnTo>
                <a:cubicBezTo>
                  <a:pt x="21600" y="8814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Прямая соединительная линия 61"/>
          <p:cNvSpPr/>
          <p:nvPr/>
        </p:nvSpPr>
        <p:spPr>
          <a:xfrm flipV="1">
            <a:off x="5560920" y="297648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Прямая соединительная линия 62"/>
          <p:cNvSpPr/>
          <p:nvPr/>
        </p:nvSpPr>
        <p:spPr>
          <a:xfrm flipV="1">
            <a:off x="5299200" y="297648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5" dur="indefinite" restart="never" nodeType="tmRoot">
          <p:childTnLst>
            <p:seq>
              <p:cTn id="3106" dur="indefinite" nodeType="mainSeq">
                <p:childTnLst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nodeType="clickEffect" fill="hold">
                      <p:stCondLst>
                        <p:cond delay="indefinite"/>
                      </p:stCondLst>
                      <p:childTnLst>
                        <p:par>
                          <p:cTn id="3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nodeType="clickEffect" fill="hold">
                      <p:stCondLst>
                        <p:cond delay="indefinite"/>
                      </p:stCondLst>
                      <p:childTnLst>
                        <p:par>
                          <p:cTn id="3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delay="indefinite"/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4" nodeType="clickEffect" fill="hold">
                      <p:stCondLst>
                        <p:cond delay="indefinite"/>
                      </p:stCondLst>
                      <p:childTnLst>
                        <p:par>
                          <p:cTn id="3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9" nodeType="clickEffect" fill="hold">
                      <p:stCondLst>
                        <p:cond delay="indefinite"/>
                      </p:stCondLst>
                      <p:childTnLst>
                        <p:par>
                          <p:cTn id="3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nodeType="clickEffect" fill="hold">
                      <p:stCondLst>
                        <p:cond delay="indefinite"/>
                      </p:stCondLst>
                      <p:childTnLst>
                        <p:par>
                          <p:cTn id="3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nodeType="clickEffect" fill="hold">
                      <p:stCondLst>
                        <p:cond delay="indefinite"/>
                      </p:stCondLst>
                      <p:childTnLst>
                        <p:par>
                          <p:cTn id="3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nodeType="clickEffect" fill="hold">
                      <p:stCondLst>
                        <p:cond delay="indefinite"/>
                      </p:stCondLst>
                      <p:childTnLst>
                        <p:par>
                          <p:cTn id="3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nodeType="clickEffect" fill="hold">
                      <p:stCondLst>
                        <p:cond delay="indefinite"/>
                      </p:stCondLst>
                      <p:childTnLst>
                        <p:par>
                          <p:cTn id="3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nodeType="clickEffect" fill="hold">
                      <p:stCondLst>
                        <p:cond delay="indefinite"/>
                      </p:stCondLst>
                      <p:childTnLst>
                        <p:par>
                          <p:cTn id="3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nodeType="clickEffect" fill="hold">
                      <p:stCondLst>
                        <p:cond delay="indefinite"/>
                      </p:stCondLst>
                      <p:childTnLst>
                        <p:par>
                          <p:cTn id="3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nodeType="clickEffect" fill="hold">
                      <p:stCondLst>
                        <p:cond delay="indefinite"/>
                      </p:stCondLst>
                      <p:childTnLst>
                        <p:par>
                          <p:cTn id="3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fill="hold">
                      <p:stCondLst>
                        <p:cond delay="indefinite"/>
                      </p:stCondLst>
                      <p:childTnLst>
                        <p:par>
                          <p:cTn id="3279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8" fill="hold">
                      <p:stCondLst>
                        <p:cond delay="indefinite"/>
                      </p:stCondLst>
                      <p:childTnLst>
                        <p:par>
                          <p:cTn id="3289" fill="hold">
                            <p:stCondLst>
                              <p:cond delay="0"/>
                            </p:stCondLst>
                            <p:childTnLst>
                              <p:par>
                                <p:cTn id="3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fill="hold">
                      <p:stCondLst>
                        <p:cond delay="indefinite"/>
                      </p:stCondLst>
                      <p:childTnLst>
                        <p:par>
                          <p:cTn id="3297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fill="hold">
                      <p:stCondLst>
                        <p:cond delay="indefinite"/>
                      </p:stCondLst>
                      <p:childTnLst>
                        <p:par>
                          <p:cTn id="3333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"/>
          <p:cNvPicPr/>
          <p:nvPr/>
        </p:nvPicPr>
        <p:blipFill>
          <a:blip r:embed="rId1"/>
          <a:stretch/>
        </p:blipFill>
        <p:spPr>
          <a:xfrm>
            <a:off x="2319480" y="-23760"/>
            <a:ext cx="4667040" cy="129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33320" y="1343160"/>
            <a:ext cx="7839360" cy="10000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92200" y="2484360"/>
            <a:ext cx="79214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На дере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 було 8 горобців. Від них полетіли 2 горобці. Скільки горобців залишилося на дереві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7842240" y="3317760"/>
            <a:ext cx="1270080" cy="1454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939960" y="2495520"/>
            <a:ext cx="7345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 дерев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і було 8 горобців. Від них полетіли 2 горобці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606600" y="2851200"/>
            <a:ext cx="5520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горобців залишилося на дереві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949320" y="2484360"/>
            <a:ext cx="7345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дере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 було 8 горобців. Від них полетіли 2 горобці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606600" y="2857680"/>
            <a:ext cx="5520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ільки горобців залишилося на дереві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2247840" y="2484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бу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395280" y="3429000"/>
            <a:ext cx="2630520" cy="130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38120" y="345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5475240" y="249552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полетіл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438120" y="3814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Полетіл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7"/>
          <p:cNvSpPr/>
          <p:nvPr/>
        </p:nvSpPr>
        <p:spPr>
          <a:xfrm>
            <a:off x="455760" y="4222800"/>
            <a:ext cx="21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Залишилось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41"/>
          <p:cNvSpPr/>
          <p:nvPr/>
        </p:nvSpPr>
        <p:spPr>
          <a:xfrm>
            <a:off x="1461960" y="34956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8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47"/>
          <p:cNvSpPr/>
          <p:nvPr/>
        </p:nvSpPr>
        <p:spPr>
          <a:xfrm>
            <a:off x="2017800" y="389556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48"/>
          <p:cNvSpPr/>
          <p:nvPr/>
        </p:nvSpPr>
        <p:spPr>
          <a:xfrm>
            <a:off x="2370240" y="4246560"/>
            <a:ext cx="70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54"/>
          <p:cNvSpPr/>
          <p:nvPr/>
        </p:nvSpPr>
        <p:spPr>
          <a:xfrm>
            <a:off x="2976480" y="25369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57"/>
          <p:cNvSpPr/>
          <p:nvPr/>
        </p:nvSpPr>
        <p:spPr>
          <a:xfrm>
            <a:off x="6729480" y="25225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8"/>
          <p:cNvSpPr/>
          <p:nvPr/>
        </p:nvSpPr>
        <p:spPr>
          <a:xfrm>
            <a:off x="2890800" y="2851200"/>
            <a:ext cx="17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залишило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Выгнутая вверх стрелка 59"/>
          <p:cNvSpPr/>
          <p:nvPr/>
        </p:nvSpPr>
        <p:spPr>
          <a:xfrm>
            <a:off x="2530440" y="2343240"/>
            <a:ext cx="588960" cy="220680"/>
          </a:xfrm>
          <a:custGeom>
            <a:avLst/>
            <a:gdLst>
              <a:gd name="textAreaLeft" fmla="*/ 126360 w 588960"/>
              <a:gd name="textAreaRight" fmla="*/ 434880 w 588960"/>
              <a:gd name="textAreaTop" fmla="*/ 29520 h 220680"/>
              <a:gd name="textAreaBottom" fmla="*/ 1911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83" hR="21600" stAng="10800000" swAng="5400000"/>
                <a:lnTo>
                  <a:pt x="11307" y="0"/>
                </a:lnTo>
                <a:arcTo wR="9283" hR="21600" stAng="-5400000" swAng="3540107"/>
                <a:lnTo>
                  <a:pt x="21305" y="16200"/>
                </a:lnTo>
                <a:lnTo>
                  <a:pt x="19577" y="21600"/>
                </a:lnTo>
                <a:lnTo>
                  <a:pt x="17259" y="16200"/>
                </a:lnTo>
                <a:lnTo>
                  <a:pt x="18270" y="16200"/>
                </a:lnTo>
                <a:arcTo wR="9283" hR="21600" stAng="-1859893" swAng="-3378196"/>
                <a:lnTo>
                  <a:pt x="10295" y="129"/>
                </a:lnTo>
                <a:arcTo wR="9283" hR="21600" stAng="-5561911" swAng="-5238089"/>
                <a:close/>
              </a:path>
              <a:path fill="darkenLess" w="21600" h="21600">
                <a:moveTo>
                  <a:pt x="0" y="21600"/>
                </a:moveTo>
                <a:arcTo wR="9283" hR="21600" stAng="10800000" swAng="5400000"/>
                <a:lnTo>
                  <a:pt x="9283" y="0"/>
                </a:lnTo>
                <a:arcTo wR="9283" hR="21600" stAng="-5400000" swAng="161911"/>
                <a:lnTo>
                  <a:pt x="10295" y="129"/>
                </a:lnTo>
                <a:arcTo wR="9283" hR="21600" stAng="-5561911" swAng="-5238089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Выгнутая вверх стрелка 68"/>
          <p:cNvSpPr/>
          <p:nvPr/>
        </p:nvSpPr>
        <p:spPr>
          <a:xfrm>
            <a:off x="6156360" y="2292480"/>
            <a:ext cx="779400" cy="271440"/>
          </a:xfrm>
          <a:custGeom>
            <a:avLst/>
            <a:gdLst>
              <a:gd name="textAreaLeft" fmla="*/ 169200 w 779400"/>
              <a:gd name="textAreaRight" fmla="*/ 576000 w 779400"/>
              <a:gd name="textAreaTop" fmla="*/ 36360 h 271440"/>
              <a:gd name="textAreaBottom" fmla="*/ 235080 h 27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90" hR="21600" stAng="10800000" swAng="5400000"/>
                <a:lnTo>
                  <a:pt x="11271" y="0"/>
                </a:lnTo>
                <a:arcTo wR="9390" hR="21600" stAng="-5400000" swAng="3557454"/>
                <a:lnTo>
                  <a:pt x="21302" y="16200"/>
                </a:lnTo>
                <a:lnTo>
                  <a:pt x="19720" y="21600"/>
                </a:lnTo>
                <a:lnTo>
                  <a:pt x="17541" y="16200"/>
                </a:lnTo>
                <a:lnTo>
                  <a:pt x="18481" y="16200"/>
                </a:lnTo>
                <a:arcTo wR="9390" hR="21600" stAng="-1842546" swAng="-3407108"/>
                <a:lnTo>
                  <a:pt x="10330" y="109"/>
                </a:lnTo>
                <a:arcTo wR="9390" hR="21600" stAng="-5550346" swAng="-5249654"/>
                <a:close/>
              </a:path>
              <a:path fill="darkenLess" w="21600" h="21600">
                <a:moveTo>
                  <a:pt x="0" y="21600"/>
                </a:moveTo>
                <a:arcTo wR="9390" hR="21600" stAng="10800000" swAng="5400000"/>
                <a:lnTo>
                  <a:pt x="9390" y="0"/>
                </a:lnTo>
                <a:arcTo wR="9390" hR="21600" stAng="-5400000" swAng="150346"/>
                <a:lnTo>
                  <a:pt x="10330" y="109"/>
                </a:lnTo>
                <a:arcTo wR="9390" hR="21600" stAng="-5550346" swAng="-5249654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Выгнутая вверх стрелка 70"/>
          <p:cNvSpPr/>
          <p:nvPr/>
        </p:nvSpPr>
        <p:spPr>
          <a:xfrm flipH="1">
            <a:off x="1302480" y="2857680"/>
            <a:ext cx="2103480" cy="177480"/>
          </a:xfrm>
          <a:custGeom>
            <a:avLst/>
            <a:gdLst>
              <a:gd name="textAreaLeft" fmla="*/ 509040 w 2103480"/>
              <a:gd name="textAreaRight" fmla="*/ 1572120 w 2103480"/>
              <a:gd name="textAreaTop" fmla="*/ 23760 h 177480"/>
              <a:gd name="textAreaBottom" fmla="*/ 153720 h 177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58" hR="21600" stAng="10800000" swAng="5400000"/>
                <a:lnTo>
                  <a:pt x="10915" y="0"/>
                </a:lnTo>
                <a:arcTo wR="10458" hR="21600" stAng="-5400000" swAng="3715712"/>
                <a:lnTo>
                  <a:pt x="21268" y="16200"/>
                </a:lnTo>
                <a:lnTo>
                  <a:pt x="21144" y="21600"/>
                </a:lnTo>
                <a:lnTo>
                  <a:pt x="20355" y="16200"/>
                </a:lnTo>
                <a:lnTo>
                  <a:pt x="20583" y="16200"/>
                </a:lnTo>
                <a:arcTo wR="10458" hR="21600" stAng="-1684288" swAng="-3679337"/>
                <a:lnTo>
                  <a:pt x="10686" y="5"/>
                </a:lnTo>
                <a:arcTo wR="10458" hR="21600" stAng="-5436374" swAng="-5363626"/>
                <a:close/>
              </a:path>
              <a:path fill="darkenLess" w="21600" h="21600">
                <a:moveTo>
                  <a:pt x="0" y="21600"/>
                </a:moveTo>
                <a:arcTo wR="10458" hR="21600" stAng="10800000" swAng="5400000"/>
                <a:lnTo>
                  <a:pt x="10458" y="0"/>
                </a:lnTo>
                <a:arcTo wR="10458" hR="21600" stAng="-5400000" swAng="36374"/>
                <a:lnTo>
                  <a:pt x="10686" y="5"/>
                </a:lnTo>
                <a:arcTo wR="10458" hR="21600" stAng="-5436374" swAng="-5363626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4" descr=""/>
          <p:cNvPicPr/>
          <p:nvPr/>
        </p:nvPicPr>
        <p:blipFill>
          <a:blip r:embed="rId4"/>
          <a:stretch/>
        </p:blipFill>
        <p:spPr>
          <a:xfrm>
            <a:off x="3025800" y="3348000"/>
            <a:ext cx="4772160" cy="1494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6143760" y="3390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73"/>
          <p:cNvSpPr/>
          <p:nvPr/>
        </p:nvSpPr>
        <p:spPr>
          <a:xfrm>
            <a:off x="6539040" y="3390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74"/>
          <p:cNvSpPr/>
          <p:nvPr/>
        </p:nvSpPr>
        <p:spPr>
          <a:xfrm>
            <a:off x="6959520" y="3390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76"/>
          <p:cNvSpPr/>
          <p:nvPr/>
        </p:nvSpPr>
        <p:spPr>
          <a:xfrm>
            <a:off x="6143760" y="381312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 – 2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82"/>
          <p:cNvSpPr/>
          <p:nvPr/>
        </p:nvSpPr>
        <p:spPr>
          <a:xfrm>
            <a:off x="7018200" y="42530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Группа 177"/>
          <p:cNvGrpSpPr/>
          <p:nvPr/>
        </p:nvGrpSpPr>
        <p:grpSpPr>
          <a:xfrm>
            <a:off x="3436920" y="4055760"/>
            <a:ext cx="1725480" cy="260280"/>
            <a:chOff x="3436920" y="4055760"/>
            <a:chExt cx="1725480" cy="260280"/>
          </a:xfrm>
        </p:grpSpPr>
        <p:sp>
          <p:nvSpPr>
            <p:cNvPr id="73" name="Прямая соединительная линия 113"/>
            <p:cNvSpPr/>
            <p:nvPr/>
          </p:nvSpPr>
          <p:spPr>
            <a:xfrm flipV="1">
              <a:off x="3436920" y="4055760"/>
              <a:ext cx="0" cy="25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Прямая соединительная линия 91"/>
            <p:cNvSpPr/>
            <p:nvPr/>
          </p:nvSpPr>
          <p:spPr>
            <a:xfrm flipV="1">
              <a:off x="5162400" y="4065120"/>
              <a:ext cx="0" cy="25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Прямая соединительная линия 17"/>
          <p:cNvSpPr/>
          <p:nvPr/>
        </p:nvSpPr>
        <p:spPr>
          <a:xfrm>
            <a:off x="3456000" y="4175280"/>
            <a:ext cx="1674720" cy="6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авая круглая скобка 118"/>
          <p:cNvSpPr/>
          <p:nvPr/>
        </p:nvSpPr>
        <p:spPr>
          <a:xfrm flipH="1" rot="5400000">
            <a:off x="4199760" y="3071520"/>
            <a:ext cx="198360" cy="1725480"/>
          </a:xfrm>
          <a:custGeom>
            <a:avLst/>
            <a:gdLst>
              <a:gd name="textAreaLeft" fmla="*/ 0 w 198360"/>
              <a:gd name="textAreaRight" fmla="*/ 139320 w 198360"/>
              <a:gd name="textAreaTop" fmla="*/ 198360 h 1725480"/>
              <a:gd name="textAreaBottom" fmla="*/ 1527120 h 17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84"/>
                  <a:pt x="21600" y="4967"/>
                </a:cubicBezTo>
                <a:lnTo>
                  <a:pt x="21600" y="16633"/>
                </a:lnTo>
                <a:cubicBezTo>
                  <a:pt x="21600" y="1911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4199040" y="342900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Группа 51"/>
          <p:cNvGrpSpPr/>
          <p:nvPr/>
        </p:nvGrpSpPr>
        <p:grpSpPr>
          <a:xfrm>
            <a:off x="3449520" y="4078080"/>
            <a:ext cx="390600" cy="226800"/>
            <a:chOff x="3449520" y="4078080"/>
            <a:chExt cx="390600" cy="226800"/>
          </a:xfrm>
        </p:grpSpPr>
        <p:sp>
          <p:nvSpPr>
            <p:cNvPr id="79" name="Прямая соединительная линия 121"/>
            <p:cNvSpPr/>
            <p:nvPr/>
          </p:nvSpPr>
          <p:spPr>
            <a:xfrm flipV="1">
              <a:off x="3821400" y="4090680"/>
              <a:ext cx="7920" cy="21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Группа 120"/>
            <p:cNvGrpSpPr/>
            <p:nvPr/>
          </p:nvGrpSpPr>
          <p:grpSpPr>
            <a:xfrm>
              <a:off x="3449520" y="4078080"/>
              <a:ext cx="243000" cy="214200"/>
              <a:chOff x="3449520" y="4078080"/>
              <a:chExt cx="243000" cy="214200"/>
            </a:xfrm>
          </p:grpSpPr>
          <p:sp>
            <p:nvSpPr>
              <p:cNvPr id="81" name="Прямая соединительная линия 124"/>
              <p:cNvSpPr/>
              <p:nvPr/>
            </p:nvSpPr>
            <p:spPr>
              <a:xfrm>
                <a:off x="3449520" y="4186440"/>
                <a:ext cx="24300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Прямая соединительная линия 125"/>
              <p:cNvSpPr/>
              <p:nvPr/>
            </p:nvSpPr>
            <p:spPr>
              <a:xfrm flipV="1">
                <a:off x="3449520" y="4078080"/>
                <a:ext cx="0" cy="21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Прямая соединительная линия 123"/>
            <p:cNvSpPr/>
            <p:nvPr/>
          </p:nvSpPr>
          <p:spPr>
            <a:xfrm>
              <a:off x="3643200" y="4186440"/>
              <a:ext cx="196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Правая круглая скобка 126"/>
          <p:cNvSpPr/>
          <p:nvPr/>
        </p:nvSpPr>
        <p:spPr>
          <a:xfrm rot="5400000">
            <a:off x="3540600" y="4212360"/>
            <a:ext cx="166680" cy="374760"/>
          </a:xfrm>
          <a:custGeom>
            <a:avLst/>
            <a:gdLst>
              <a:gd name="textAreaLeft" fmla="*/ 0 w 166680"/>
              <a:gd name="textAreaRight" fmla="*/ 117000 w 166680"/>
              <a:gd name="textAreaTop" fmla="*/ 166680 h 374760"/>
              <a:gd name="textAreaBottom" fmla="*/ 20808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608"/>
                  <a:pt x="21600" y="19215"/>
                </a:cubicBezTo>
                <a:lnTo>
                  <a:pt x="21600" y="2385"/>
                </a:lnTo>
                <a:cubicBezTo>
                  <a:pt x="21600" y="1199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27"/>
          <p:cNvSpPr/>
          <p:nvPr/>
        </p:nvSpPr>
        <p:spPr>
          <a:xfrm>
            <a:off x="3436920" y="4471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авая круглая скобка 128"/>
          <p:cNvSpPr/>
          <p:nvPr/>
        </p:nvSpPr>
        <p:spPr>
          <a:xfrm rot="5400000">
            <a:off x="4416120" y="3738240"/>
            <a:ext cx="165240" cy="1324080"/>
          </a:xfrm>
          <a:custGeom>
            <a:avLst/>
            <a:gdLst>
              <a:gd name="textAreaLeft" fmla="*/ 0 w 165240"/>
              <a:gd name="textAreaRight" fmla="*/ 115920 w 165240"/>
              <a:gd name="textAreaTop" fmla="*/ 164880 h 1324080"/>
              <a:gd name="textAreaBottom" fmla="*/ 1159200 h 13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693"/>
                  <a:pt x="21600" y="5386"/>
                </a:cubicBezTo>
                <a:lnTo>
                  <a:pt x="21600" y="16214"/>
                </a:lnTo>
                <a:cubicBezTo>
                  <a:pt x="21600" y="1890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29"/>
          <p:cNvSpPr/>
          <p:nvPr/>
        </p:nvSpPr>
        <p:spPr>
          <a:xfrm>
            <a:off x="4392720" y="44784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50"/>
          <p:cNvSpPr/>
          <p:nvPr/>
        </p:nvSpPr>
        <p:spPr>
          <a:xfrm>
            <a:off x="6385680" y="365616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50"/>
          <p:cNvSpPr/>
          <p:nvPr/>
        </p:nvSpPr>
        <p:spPr>
          <a:xfrm>
            <a:off x="6560640" y="404496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5370480" y="1752480"/>
            <a:ext cx="3373560" cy="1622520"/>
          </a:xfrm>
          <a:prstGeom prst="rect">
            <a:avLst/>
          </a:prstGeom>
          <a:ln w="0">
            <a:noFill/>
          </a:ln>
        </p:spPr>
      </p:pic>
      <p:sp>
        <p:nvSpPr>
          <p:cNvPr id="705" name="TextBox 3"/>
          <p:cNvSpPr/>
          <p:nvPr/>
        </p:nvSpPr>
        <p:spPr>
          <a:xfrm>
            <a:off x="179280" y="59544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Склади задачу за малюнком. Закінчи виконання короткого запису. Роз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'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жи задач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Box 6"/>
          <p:cNvSpPr/>
          <p:nvPr/>
        </p:nvSpPr>
        <p:spPr>
          <a:xfrm>
            <a:off x="311040" y="3471840"/>
            <a:ext cx="85629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 дереві було 6 ягід, сорока зірвала 1ягоду. Скільки ягід зали-шилося на дереві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Скругленный прямоугольник 7"/>
          <p:cNvSpPr/>
          <p:nvPr/>
        </p:nvSpPr>
        <p:spPr>
          <a:xfrm>
            <a:off x="468360" y="1844640"/>
            <a:ext cx="266364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477720" y="1965240"/>
            <a:ext cx="25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Зірвал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Залишилос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Прямоугольник 4"/>
          <p:cNvSpPr/>
          <p:nvPr/>
        </p:nvSpPr>
        <p:spPr>
          <a:xfrm>
            <a:off x="1528920" y="1996920"/>
            <a:ext cx="287280" cy="31140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Прямоугольник 10"/>
          <p:cNvSpPr/>
          <p:nvPr/>
        </p:nvSpPr>
        <p:spPr>
          <a:xfrm>
            <a:off x="1830240" y="2408400"/>
            <a:ext cx="289080" cy="3124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Box 5"/>
          <p:cNvSpPr/>
          <p:nvPr/>
        </p:nvSpPr>
        <p:spPr>
          <a:xfrm>
            <a:off x="2340000" y="270360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9"/>
          <p:cNvSpPr/>
          <p:nvPr/>
        </p:nvSpPr>
        <p:spPr>
          <a:xfrm>
            <a:off x="1494000" y="19209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38"/>
          <p:cNvSpPr/>
          <p:nvPr/>
        </p:nvSpPr>
        <p:spPr>
          <a:xfrm>
            <a:off x="1819440" y="233352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78"/>
          <p:cNvSpPr/>
          <p:nvPr/>
        </p:nvSpPr>
        <p:spPr>
          <a:xfrm>
            <a:off x="1630440" y="347184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у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Box 79"/>
          <p:cNvSpPr/>
          <p:nvPr/>
        </p:nvSpPr>
        <p:spPr>
          <a:xfrm>
            <a:off x="4102200" y="3471840"/>
            <a:ext cx="11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ірв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Выгнутая вверх стрелка 81"/>
          <p:cNvSpPr/>
          <p:nvPr/>
        </p:nvSpPr>
        <p:spPr>
          <a:xfrm>
            <a:off x="2017800" y="3284640"/>
            <a:ext cx="447480" cy="279360"/>
          </a:xfrm>
          <a:custGeom>
            <a:avLst/>
            <a:gdLst>
              <a:gd name="textAreaLeft" fmla="*/ 85680 w 447480"/>
              <a:gd name="textAreaRight" fmla="*/ 326880 w 44748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73" hR="21600" stAng="10800000" swAng="5400000"/>
                <a:lnTo>
                  <a:pt x="11643" y="0"/>
                </a:lnTo>
                <a:arcTo wR="8273" hR="21600" stAng="-5400000" swAng="3360793"/>
                <a:lnTo>
                  <a:pt x="21337" y="16200"/>
                </a:lnTo>
                <a:lnTo>
                  <a:pt x="18230" y="21600"/>
                </a:lnTo>
                <a:lnTo>
                  <a:pt x="14597" y="16200"/>
                </a:lnTo>
                <a:lnTo>
                  <a:pt x="16282" y="16200"/>
                </a:lnTo>
                <a:arcTo wR="8273" hR="21600" stAng="-2039207" swAng="-3087452"/>
                <a:lnTo>
                  <a:pt x="9958" y="453"/>
                </a:lnTo>
                <a:arcTo wR="8273" hR="21600" stAng="-5673341" swAng="-5126659"/>
                <a:close/>
              </a:path>
              <a:path fill="darkenLess" w="21600" h="21600">
                <a:moveTo>
                  <a:pt x="0" y="21600"/>
                </a:moveTo>
                <a:arcTo wR="8273" hR="21600" stAng="10800000" swAng="5400000"/>
                <a:lnTo>
                  <a:pt x="8273" y="0"/>
                </a:lnTo>
                <a:arcTo wR="8273" hR="21600" stAng="-5400000" swAng="273341"/>
                <a:lnTo>
                  <a:pt x="9958" y="453"/>
                </a:lnTo>
                <a:arcTo wR="8273" hR="21600" stAng="-5673341" swAng="-5126659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Выгнутая вверх стрелка 83"/>
          <p:cNvSpPr/>
          <p:nvPr/>
        </p:nvSpPr>
        <p:spPr>
          <a:xfrm>
            <a:off x="4818240" y="3284640"/>
            <a:ext cx="564840" cy="279360"/>
          </a:xfrm>
          <a:custGeom>
            <a:avLst/>
            <a:gdLst>
              <a:gd name="textAreaLeft" fmla="*/ 114840 w 564840"/>
              <a:gd name="textAreaRight" fmla="*/ 415080 w 564840"/>
              <a:gd name="textAreaTop" fmla="*/ 37440 h 279360"/>
              <a:gd name="textAreaBottom" fmla="*/ 2419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98" hR="21600" stAng="10800000" swAng="5400000"/>
                <a:lnTo>
                  <a:pt x="11467" y="0"/>
                </a:lnTo>
                <a:arcTo wR="8798" hR="21600" stAng="-5400000" swAng="3457751"/>
                <a:lnTo>
                  <a:pt x="21321" y="16200"/>
                </a:lnTo>
                <a:lnTo>
                  <a:pt x="18931" y="21600"/>
                </a:lnTo>
                <a:lnTo>
                  <a:pt x="15982" y="16200"/>
                </a:lnTo>
                <a:lnTo>
                  <a:pt x="17317" y="16200"/>
                </a:lnTo>
                <a:arcTo wR="8798" hR="21600" stAng="-1942249" swAng="-3243152"/>
                <a:lnTo>
                  <a:pt x="10133" y="250"/>
                </a:lnTo>
                <a:arcTo wR="8798" hR="21600" stAng="-5614599" swAng="-5185401"/>
                <a:close/>
              </a:path>
              <a:path fill="darkenLess" w="21600" h="21600">
                <a:moveTo>
                  <a:pt x="0" y="21600"/>
                </a:moveTo>
                <a:arcTo wR="8798" hR="21600" stAng="10800000" swAng="5400000"/>
                <a:lnTo>
                  <a:pt x="8798" y="0"/>
                </a:lnTo>
                <a:arcTo wR="8798" hR="21600" stAng="-5400000" swAng="214599"/>
                <a:lnTo>
                  <a:pt x="10133" y="250"/>
                </a:lnTo>
                <a:arcTo wR="8798" hR="21600" stAng="-5614599" swAng="-5185401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2"/>
          <a:stretch/>
        </p:blipFill>
        <p:spPr>
          <a:xfrm>
            <a:off x="257040" y="4419720"/>
            <a:ext cx="6756480" cy="1538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10"/>
          <p:cNvSpPr/>
          <p:nvPr/>
        </p:nvSpPr>
        <p:spPr>
          <a:xfrm>
            <a:off x="5345280" y="4419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Box 111"/>
          <p:cNvSpPr/>
          <p:nvPr/>
        </p:nvSpPr>
        <p:spPr>
          <a:xfrm>
            <a:off x="5869080" y="4419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Box 112"/>
          <p:cNvSpPr/>
          <p:nvPr/>
        </p:nvSpPr>
        <p:spPr>
          <a:xfrm>
            <a:off x="6404040" y="4419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15"/>
          <p:cNvSpPr/>
          <p:nvPr/>
        </p:nvSpPr>
        <p:spPr>
          <a:xfrm>
            <a:off x="2532240" y="44607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116"/>
          <p:cNvSpPr/>
          <p:nvPr/>
        </p:nvSpPr>
        <p:spPr>
          <a:xfrm>
            <a:off x="3220920" y="558792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Прямая соединительная линия 2"/>
          <p:cNvSpPr/>
          <p:nvPr/>
        </p:nvSpPr>
        <p:spPr>
          <a:xfrm>
            <a:off x="2046240" y="5356080"/>
            <a:ext cx="1478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Прямая соединительная линия 117"/>
          <p:cNvSpPr/>
          <p:nvPr/>
        </p:nvSpPr>
        <p:spPr>
          <a:xfrm flipV="1">
            <a:off x="2046240" y="524484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Прямая соединительная линия 118"/>
          <p:cNvSpPr/>
          <p:nvPr/>
        </p:nvSpPr>
        <p:spPr>
          <a:xfrm flipV="1">
            <a:off x="3524400" y="52639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Правая круглая скобка 119"/>
          <p:cNvSpPr/>
          <p:nvPr/>
        </p:nvSpPr>
        <p:spPr>
          <a:xfrm flipH="1" rot="5400000">
            <a:off x="2677320" y="4340880"/>
            <a:ext cx="216000" cy="1478160"/>
          </a:xfrm>
          <a:custGeom>
            <a:avLst/>
            <a:gdLst>
              <a:gd name="textAreaLeft" fmla="*/ 360 w 216000"/>
              <a:gd name="textAreaRight" fmla="*/ 151920 w 216000"/>
              <a:gd name="textAreaTop" fmla="*/ 215640 h 1478160"/>
              <a:gd name="textAreaBottom" fmla="*/ 1262520 h 147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55"/>
                  <a:pt x="21600" y="6309"/>
                </a:cubicBezTo>
                <a:lnTo>
                  <a:pt x="21600" y="15291"/>
                </a:lnTo>
                <a:cubicBezTo>
                  <a:pt x="21600" y="18446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ая соединительная линия 13"/>
          <p:cNvSpPr/>
          <p:nvPr/>
        </p:nvSpPr>
        <p:spPr>
          <a:xfrm>
            <a:off x="3270240" y="5351400"/>
            <a:ext cx="254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Прямая соединительная линия 120"/>
          <p:cNvSpPr/>
          <p:nvPr/>
        </p:nvSpPr>
        <p:spPr>
          <a:xfrm flipV="1">
            <a:off x="3270240" y="524484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Прямая соединительная линия 121"/>
          <p:cNvSpPr/>
          <p:nvPr/>
        </p:nvSpPr>
        <p:spPr>
          <a:xfrm flipV="1">
            <a:off x="3524400" y="524340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Правая круглая скобка 122"/>
          <p:cNvSpPr/>
          <p:nvPr/>
        </p:nvSpPr>
        <p:spPr>
          <a:xfrm rot="5400000">
            <a:off x="3332880" y="5396400"/>
            <a:ext cx="12852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0800" y="0"/>
                  <a:pt x="21600" y="10932"/>
                  <a:pt x="21600" y="21864"/>
                </a:cubicBezTo>
                <a:lnTo>
                  <a:pt x="21600" y="-264"/>
                </a:lnTo>
                <a:cubicBezTo>
                  <a:pt x="21600" y="1066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Правая круглая скобка 123"/>
          <p:cNvSpPr/>
          <p:nvPr/>
        </p:nvSpPr>
        <p:spPr>
          <a:xfrm rot="5400000">
            <a:off x="2568240" y="4935600"/>
            <a:ext cx="129960" cy="1174680"/>
          </a:xfrm>
          <a:custGeom>
            <a:avLst/>
            <a:gdLst>
              <a:gd name="textAreaLeft" fmla="*/ 0 w 129960"/>
              <a:gd name="textAreaRight" fmla="*/ 91080 w 129960"/>
              <a:gd name="textAreaTop" fmla="*/ 129960 h 1174680"/>
              <a:gd name="textAreaBottom" fmla="*/ 1044720 h 11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393"/>
                  <a:pt x="21600" y="4786"/>
                </a:cubicBezTo>
                <a:lnTo>
                  <a:pt x="21600" y="16814"/>
                </a:lnTo>
                <a:cubicBezTo>
                  <a:pt x="21600" y="1920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Box 124"/>
          <p:cNvSpPr/>
          <p:nvPr/>
        </p:nvSpPr>
        <p:spPr>
          <a:xfrm>
            <a:off x="2471760" y="558792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Box 125"/>
          <p:cNvSpPr/>
          <p:nvPr/>
        </p:nvSpPr>
        <p:spPr>
          <a:xfrm>
            <a:off x="5403960" y="4960800"/>
            <a:ext cx="13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 – 1 =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126"/>
          <p:cNvSpPr/>
          <p:nvPr/>
        </p:nvSpPr>
        <p:spPr>
          <a:xfrm>
            <a:off x="6329520" y="5423040"/>
            <a:ext cx="4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Box 50"/>
          <p:cNvSpPr/>
          <p:nvPr/>
        </p:nvSpPr>
        <p:spPr>
          <a:xfrm>
            <a:off x="5620680" y="472284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0"/>
          <p:cNvSpPr/>
          <p:nvPr/>
        </p:nvSpPr>
        <p:spPr>
          <a:xfrm>
            <a:off x="5873040" y="522288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7" dur="indefinite" restart="never" nodeType="tmRoot">
          <p:childTnLst>
            <p:seq>
              <p:cTn id="3338" dur="indefinite" nodeType="mainSeq">
                <p:childTnLst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nodeType="clickEffect" fill="hold">
                      <p:stCondLst>
                        <p:cond delay="indefinite"/>
                      </p:stCondLst>
                      <p:childTnLst>
                        <p:par>
                          <p:cTn id="3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nodeType="clickEffect" fill="hold">
                      <p:stCondLst>
                        <p:cond delay="indefinite"/>
                      </p:stCondLst>
                      <p:childTnLst>
                        <p:par>
                          <p:cTn id="3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4" nodeType="clickEffect" fill="hold">
                      <p:stCondLst>
                        <p:cond delay="indefinite"/>
                      </p:stCondLst>
                      <p:childTnLst>
                        <p:par>
                          <p:cTn id="3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nodeType="clickEffect" fill="hold">
                      <p:stCondLst>
                        <p:cond delay="indefinite"/>
                      </p:stCondLst>
                      <p:childTnLst>
                        <p:par>
                          <p:cTn id="3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nodeType="clickEffect" fill="hold">
                      <p:stCondLst>
                        <p:cond delay="indefinite"/>
                      </p:stCondLst>
                      <p:childTnLst>
                        <p:par>
                          <p:cTn id="3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nodeType="clickEffect" fill="hold">
                      <p:stCondLst>
                        <p:cond delay="indefinite"/>
                      </p:stCondLst>
                      <p:childTnLst>
                        <p:par>
                          <p:cTn id="3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nodeType="clickEffect" fill="hold">
                      <p:stCondLst>
                        <p:cond delay="indefinite"/>
                      </p:stCondLst>
                      <p:childTnLst>
                        <p:par>
                          <p:cTn id="3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nodeType="clickEffect" fill="hold">
                      <p:stCondLst>
                        <p:cond delay="indefinite"/>
                      </p:stCondLst>
                      <p:childTnLst>
                        <p:par>
                          <p:cTn id="3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nodeType="clickEffect" fill="hold">
                      <p:stCondLst>
                        <p:cond delay="indefinite"/>
                      </p:stCondLst>
                      <p:childTnLst>
                        <p:par>
                          <p:cTn id="3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nodeType="clickEffect" fill="hold">
                      <p:stCondLst>
                        <p:cond delay="indefinite"/>
                      </p:stCondLst>
                      <p:childTnLst>
                        <p:par>
                          <p:cTn id="3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nodeType="clickEffect" fill="hold">
                      <p:stCondLst>
                        <p:cond delay="indefinite"/>
                      </p:stCondLst>
                      <p:childTnLst>
                        <p:par>
                          <p:cTn id="3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nodeType="clickEffect" fill="hold">
                      <p:stCondLst>
                        <p:cond delay="indefinite"/>
                      </p:stCondLst>
                      <p:childTnLst>
                        <p:par>
                          <p:cTn id="3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nodeType="clickEffect" fill="hold">
                      <p:stCondLst>
                        <p:cond delay="indefinite"/>
                      </p:stCondLst>
                      <p:childTnLst>
                        <p:par>
                          <p:cTn id="3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nodeType="clickEffect" fill="hold">
                      <p:stCondLst>
                        <p:cond delay="indefinite"/>
                      </p:stCondLst>
                      <p:childTnLst>
                        <p:par>
                          <p:cTn id="3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6" nodeType="clickEffect" fill="hold">
                      <p:stCondLst>
                        <p:cond delay="indefinite"/>
                      </p:stCondLst>
                      <p:childTnLst>
                        <p:par>
                          <p:cTn id="3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nodeType="clickEffect" fill="hold">
                      <p:stCondLst>
                        <p:cond delay="indefinite"/>
                      </p:stCondLst>
                      <p:childTnLst>
                        <p:par>
                          <p:cTn id="3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nodeType="clickEffect" fill="hold">
                      <p:stCondLst>
                        <p:cond delay="indefinite"/>
                      </p:stCondLst>
                      <p:childTnLst>
                        <p:par>
                          <p:cTn id="3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nodeType="clickEffect" fill="hold">
                      <p:stCondLst>
                        <p:cond delay="indefinite"/>
                      </p:stCondLst>
                      <p:childTnLst>
                        <p:par>
                          <p:cTn id="3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nodeType="clickEffect" fill="hold">
                      <p:stCondLst>
                        <p:cond delay="indefinite"/>
                      </p:stCondLst>
                      <p:childTnLst>
                        <p:par>
                          <p:cTn id="3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7"/>
          <p:cNvSpPr/>
          <p:nvPr/>
        </p:nvSpPr>
        <p:spPr>
          <a:xfrm>
            <a:off x="279360" y="404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Закінчи виконання короткого запису. Роз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'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жи задач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18"/>
          <p:cNvSpPr/>
          <p:nvPr/>
        </p:nvSpPr>
        <p:spPr>
          <a:xfrm>
            <a:off x="154080" y="998640"/>
            <a:ext cx="81374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кошику лежать 4 пиріжки з вишнями і 3 – з яблуками. Скільки всього пиріжків у коши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" descr=""/>
          <p:cNvPicPr/>
          <p:nvPr/>
        </p:nvPicPr>
        <p:blipFill>
          <a:blip r:embed="rId1"/>
          <a:stretch/>
        </p:blipFill>
        <p:spPr>
          <a:xfrm>
            <a:off x="7070760" y="1812960"/>
            <a:ext cx="1982880" cy="1386000"/>
          </a:xfrm>
          <a:prstGeom prst="rect">
            <a:avLst/>
          </a:prstGeom>
          <a:ln w="0">
            <a:noFill/>
          </a:ln>
        </p:spPr>
      </p:pic>
      <p:sp>
        <p:nvSpPr>
          <p:cNvPr id="741" name="TextBox 21"/>
          <p:cNvSpPr/>
          <p:nvPr/>
        </p:nvSpPr>
        <p:spPr>
          <a:xfrm>
            <a:off x="146160" y="2890800"/>
            <a:ext cx="7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. –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Box 40"/>
          <p:cNvSpPr/>
          <p:nvPr/>
        </p:nvSpPr>
        <p:spPr>
          <a:xfrm>
            <a:off x="779400" y="2890800"/>
            <a:ext cx="7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Box 46"/>
          <p:cNvSpPr/>
          <p:nvPr/>
        </p:nvSpPr>
        <p:spPr>
          <a:xfrm>
            <a:off x="722160" y="327492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3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Box 87"/>
          <p:cNvSpPr/>
          <p:nvPr/>
        </p:nvSpPr>
        <p:spPr>
          <a:xfrm>
            <a:off x="6442200" y="6397560"/>
            <a:ext cx="6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66"/>
          <p:cNvSpPr/>
          <p:nvPr/>
        </p:nvSpPr>
        <p:spPr>
          <a:xfrm>
            <a:off x="152280" y="998640"/>
            <a:ext cx="81378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У кошику лежать 4 пиріжки з вишнями і 3 – з яблуками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ільки всього пиріжків у коши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Box 67"/>
          <p:cNvSpPr/>
          <p:nvPr/>
        </p:nvSpPr>
        <p:spPr>
          <a:xfrm>
            <a:off x="146160" y="998640"/>
            <a:ext cx="81374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кошику лежать 4 пиріжки з вишнями і 3 – з яблуками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всього пиріжків у коши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Выгнутая вверх стрелка 68"/>
          <p:cNvSpPr/>
          <p:nvPr/>
        </p:nvSpPr>
        <p:spPr>
          <a:xfrm flipH="1">
            <a:off x="896040" y="1343160"/>
            <a:ext cx="776520" cy="163440"/>
          </a:xfrm>
          <a:custGeom>
            <a:avLst/>
            <a:gdLst>
              <a:gd name="textAreaLeft" fmla="*/ 178200 w 776520"/>
              <a:gd name="textAreaRight" fmla="*/ 577080 w 776520"/>
              <a:gd name="textAreaTop" fmla="*/ 21600 h 163440"/>
              <a:gd name="textAreaBottom" fmla="*/ 141840 h 16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47" hR="21600" stAng="10800000" swAng="5400000"/>
                <a:lnTo>
                  <a:pt x="11084" y="0"/>
                </a:lnTo>
                <a:arcTo wR="9947" hR="21600" stAng="-5400000" swAng="3643288"/>
                <a:lnTo>
                  <a:pt x="21284" y="16200"/>
                </a:lnTo>
                <a:lnTo>
                  <a:pt x="20463" y="21600"/>
                </a:lnTo>
                <a:lnTo>
                  <a:pt x="19009" y="16200"/>
                </a:lnTo>
                <a:lnTo>
                  <a:pt x="19578" y="16200"/>
                </a:lnTo>
                <a:arcTo wR="9947" hR="21600" stAng="-1756712" swAng="-3552681"/>
                <a:lnTo>
                  <a:pt x="10516" y="35"/>
                </a:lnTo>
                <a:arcTo wR="9947" hR="21600" stAng="-5490607" swAng="-5309393"/>
                <a:close/>
              </a:path>
              <a:path fill="darkenLess" w="21600" h="21600">
                <a:moveTo>
                  <a:pt x="0" y="21600"/>
                </a:moveTo>
                <a:arcTo wR="9947" hR="21600" stAng="10800000" swAng="5400000"/>
                <a:lnTo>
                  <a:pt x="9947" y="0"/>
                </a:lnTo>
                <a:arcTo wR="9947" hR="21600" stAng="-5400000" swAng="90607"/>
                <a:lnTo>
                  <a:pt x="10516" y="35"/>
                </a:lnTo>
                <a:arcTo wR="9947" hR="21600" stAng="-5490607" swAng="-5309393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Выгнутая вверх стрелка 69"/>
          <p:cNvSpPr/>
          <p:nvPr/>
        </p:nvSpPr>
        <p:spPr>
          <a:xfrm flipH="1">
            <a:off x="2845800" y="765000"/>
            <a:ext cx="1392120" cy="249480"/>
          </a:xfrm>
          <a:custGeom>
            <a:avLst/>
            <a:gdLst>
              <a:gd name="textAreaLeft" fmla="*/ 324720 w 1392120"/>
              <a:gd name="textAreaRight" fmla="*/ 1036440 w 1392120"/>
              <a:gd name="textAreaTop" fmla="*/ 33120 h 249480"/>
              <a:gd name="textAreaBottom" fmla="*/ 216360 h 24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75" hR="21600" stAng="10800000" swAng="5400000"/>
                <a:lnTo>
                  <a:pt x="11042" y="0"/>
                </a:lnTo>
                <a:arcTo wR="10075" hR="21600" stAng="-5400000" swAng="3661976"/>
                <a:lnTo>
                  <a:pt x="21280" y="16200"/>
                </a:lnTo>
                <a:lnTo>
                  <a:pt x="20634" y="21600"/>
                </a:lnTo>
                <a:lnTo>
                  <a:pt x="19347" y="16200"/>
                </a:lnTo>
                <a:lnTo>
                  <a:pt x="19830" y="16200"/>
                </a:lnTo>
                <a:arcTo wR="10075" hR="21600" stAng="-1738024" swAng="-3584949"/>
                <a:lnTo>
                  <a:pt x="10559" y="25"/>
                </a:lnTo>
                <a:arcTo wR="10075" hR="21600" stAng="-5477027" swAng="-5322973"/>
                <a:close/>
              </a:path>
              <a:path fill="darkenLess" w="21600" h="21600">
                <a:moveTo>
                  <a:pt x="0" y="21600"/>
                </a:moveTo>
                <a:arcTo wR="10075" hR="21600" stAng="10800000" swAng="5400000"/>
                <a:lnTo>
                  <a:pt x="10075" y="0"/>
                </a:lnTo>
                <a:arcTo wR="10075" hR="21600" stAng="-5400000" swAng="77027"/>
                <a:lnTo>
                  <a:pt x="10559" y="25"/>
                </a:lnTo>
                <a:arcTo wR="10075" hR="21600" stAng="-5477027" swAng="-5322973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Выгнутая вверх стрелка 70"/>
          <p:cNvSpPr/>
          <p:nvPr/>
        </p:nvSpPr>
        <p:spPr>
          <a:xfrm>
            <a:off x="5592600" y="709560"/>
            <a:ext cx="1173240" cy="289080"/>
          </a:xfrm>
          <a:custGeom>
            <a:avLst/>
            <a:gdLst>
              <a:gd name="textAreaLeft" fmla="*/ 266040 w 1173240"/>
              <a:gd name="textAreaRight" fmla="*/ 870840 w 11732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03" hR="21600" stAng="10800000" swAng="5400000"/>
                <a:lnTo>
                  <a:pt x="11133" y="0"/>
                </a:lnTo>
                <a:arcTo wR="9803" hR="21600" stAng="-5400000" swAng="3621747"/>
                <a:lnTo>
                  <a:pt x="21289" y="16200"/>
                </a:lnTo>
                <a:lnTo>
                  <a:pt x="20270" y="21600"/>
                </a:lnTo>
                <a:lnTo>
                  <a:pt x="18629" y="16200"/>
                </a:lnTo>
                <a:lnTo>
                  <a:pt x="19294" y="16200"/>
                </a:lnTo>
                <a:arcTo wR="9803" hR="21600" stAng="-1778253" swAng="-3515698"/>
                <a:lnTo>
                  <a:pt x="10468" y="50"/>
                </a:lnTo>
                <a:arcTo wR="9803" hR="21600" stAng="-5506049" swAng="-5293951"/>
                <a:close/>
              </a:path>
              <a:path fill="darkenLess" w="21600" h="21600">
                <a:moveTo>
                  <a:pt x="0" y="21600"/>
                </a:moveTo>
                <a:arcTo wR="9803" hR="21600" stAng="10800000" swAng="5400000"/>
                <a:lnTo>
                  <a:pt x="9803" y="0"/>
                </a:lnTo>
                <a:arcTo wR="9803" hR="21600" stAng="-5400000" swAng="106049"/>
                <a:lnTo>
                  <a:pt x="10468" y="50"/>
                </a:lnTo>
                <a:arcTo wR="9803" hR="21600" stAng="-5506049" swAng="-5293951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Овал 71"/>
          <p:cNvSpPr/>
          <p:nvPr/>
        </p:nvSpPr>
        <p:spPr>
          <a:xfrm>
            <a:off x="5477040" y="1004760"/>
            <a:ext cx="323640" cy="417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Овал 72"/>
          <p:cNvSpPr/>
          <p:nvPr/>
        </p:nvSpPr>
        <p:spPr>
          <a:xfrm>
            <a:off x="2519280" y="998640"/>
            <a:ext cx="324000" cy="41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2"/>
          <a:stretch/>
        </p:blipFill>
        <p:spPr>
          <a:xfrm>
            <a:off x="1393920" y="2536920"/>
            <a:ext cx="5811840" cy="1322280"/>
          </a:xfrm>
          <a:prstGeom prst="rect">
            <a:avLst/>
          </a:prstGeom>
          <a:ln w="0">
            <a:noFill/>
          </a:ln>
        </p:spPr>
      </p:pic>
      <p:sp>
        <p:nvSpPr>
          <p:cNvPr id="753" name="Скругленный прямоугольник 95"/>
          <p:cNvSpPr/>
          <p:nvPr/>
        </p:nvSpPr>
        <p:spPr>
          <a:xfrm>
            <a:off x="65160" y="2806560"/>
            <a:ext cx="201600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96"/>
          <p:cNvSpPr/>
          <p:nvPr/>
        </p:nvSpPr>
        <p:spPr>
          <a:xfrm>
            <a:off x="4037040" y="1003320"/>
            <a:ext cx="16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ишн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97"/>
          <p:cNvSpPr/>
          <p:nvPr/>
        </p:nvSpPr>
        <p:spPr>
          <a:xfrm>
            <a:off x="6145200" y="1004760"/>
            <a:ext cx="16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яблу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Box 98"/>
          <p:cNvSpPr/>
          <p:nvPr/>
        </p:nvSpPr>
        <p:spPr>
          <a:xfrm>
            <a:off x="0" y="327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.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101"/>
          <p:cNvSpPr/>
          <p:nvPr/>
        </p:nvSpPr>
        <p:spPr>
          <a:xfrm>
            <a:off x="6351480" y="24861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Правая фигурная скобка 107"/>
          <p:cNvSpPr/>
          <p:nvPr/>
        </p:nvSpPr>
        <p:spPr>
          <a:xfrm>
            <a:off x="1544760" y="3078000"/>
            <a:ext cx="258480" cy="533520"/>
          </a:xfrm>
          <a:custGeom>
            <a:avLst/>
            <a:gdLst>
              <a:gd name="textAreaLeft" fmla="*/ 0 w 258480"/>
              <a:gd name="textAreaRight" fmla="*/ 93240 w 258480"/>
              <a:gd name="textAreaTop" fmla="*/ 6480 h 533520"/>
              <a:gd name="textAreaBottom" fmla="*/ 52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7"/>
                  <a:pt x="10800" y="873"/>
                </a:cubicBezTo>
                <a:lnTo>
                  <a:pt x="10800" y="9927"/>
                </a:lnTo>
                <a:cubicBezTo>
                  <a:pt x="10800" y="10364"/>
                  <a:pt x="16200" y="10800"/>
                  <a:pt x="21600" y="10800"/>
                </a:cubicBezTo>
                <a:cubicBezTo>
                  <a:pt x="16200" y="10800"/>
                  <a:pt x="10800" y="11237"/>
                  <a:pt x="10800" y="11673"/>
                </a:cubicBezTo>
                <a:lnTo>
                  <a:pt x="10800" y="20727"/>
                </a:lnTo>
                <a:cubicBezTo>
                  <a:pt x="10800" y="2116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108"/>
          <p:cNvSpPr/>
          <p:nvPr/>
        </p:nvSpPr>
        <p:spPr>
          <a:xfrm>
            <a:off x="1766880" y="3114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Box 99"/>
          <p:cNvSpPr/>
          <p:nvPr/>
        </p:nvSpPr>
        <p:spPr>
          <a:xfrm>
            <a:off x="5505480" y="2505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Box 100"/>
          <p:cNvSpPr/>
          <p:nvPr/>
        </p:nvSpPr>
        <p:spPr>
          <a:xfrm>
            <a:off x="5878440" y="25160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Box 105"/>
          <p:cNvSpPr/>
          <p:nvPr/>
        </p:nvSpPr>
        <p:spPr>
          <a:xfrm>
            <a:off x="5396040" y="294624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106"/>
          <p:cNvSpPr/>
          <p:nvPr/>
        </p:nvSpPr>
        <p:spPr>
          <a:xfrm>
            <a:off x="6351480" y="340848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Box 50"/>
          <p:cNvSpPr/>
          <p:nvPr/>
        </p:nvSpPr>
        <p:spPr>
          <a:xfrm>
            <a:off x="5624640" y="273528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Box 50"/>
          <p:cNvSpPr/>
          <p:nvPr/>
        </p:nvSpPr>
        <p:spPr>
          <a:xfrm>
            <a:off x="5868360" y="317664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Box 42"/>
          <p:cNvSpPr/>
          <p:nvPr/>
        </p:nvSpPr>
        <p:spPr>
          <a:xfrm>
            <a:off x="1251000" y="134316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сь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Box 104"/>
          <p:cNvSpPr/>
          <p:nvPr/>
        </p:nvSpPr>
        <p:spPr>
          <a:xfrm>
            <a:off x="3652920" y="2255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Прямая соединительная линия 44"/>
          <p:cNvSpPr/>
          <p:nvPr/>
        </p:nvSpPr>
        <p:spPr>
          <a:xfrm>
            <a:off x="2641680" y="3122640"/>
            <a:ext cx="1541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Правая круглая скобка 45"/>
          <p:cNvSpPr/>
          <p:nvPr/>
        </p:nvSpPr>
        <p:spPr>
          <a:xfrm rot="5400000">
            <a:off x="3297240" y="2654280"/>
            <a:ext cx="277920" cy="1509840"/>
          </a:xfrm>
          <a:custGeom>
            <a:avLst/>
            <a:gdLst>
              <a:gd name="textAreaLeft" fmla="*/ 0 w 277920"/>
              <a:gd name="textAreaRight" fmla="*/ 195120 w 277920"/>
              <a:gd name="textAreaTop" fmla="*/ 277560 h 1509840"/>
              <a:gd name="textAreaBottom" fmla="*/ 1232280 h 15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974"/>
                  <a:pt x="21600" y="7948"/>
                </a:cubicBezTo>
                <a:lnTo>
                  <a:pt x="21600" y="13652"/>
                </a:lnTo>
                <a:cubicBezTo>
                  <a:pt x="21600" y="17626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Box 102"/>
          <p:cNvSpPr/>
          <p:nvPr/>
        </p:nvSpPr>
        <p:spPr>
          <a:xfrm>
            <a:off x="3265560" y="3541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Box 103"/>
          <p:cNvSpPr/>
          <p:nvPr/>
        </p:nvSpPr>
        <p:spPr>
          <a:xfrm>
            <a:off x="2970360" y="2255760"/>
            <a:ext cx="4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Прямая соединительная линия 49"/>
          <p:cNvSpPr/>
          <p:nvPr/>
        </p:nvSpPr>
        <p:spPr>
          <a:xfrm>
            <a:off x="2690640" y="3122640"/>
            <a:ext cx="860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ая соединительная линия 50"/>
          <p:cNvSpPr/>
          <p:nvPr/>
        </p:nvSpPr>
        <p:spPr>
          <a:xfrm flipV="1">
            <a:off x="2682720" y="30142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ая соединительная линия 51"/>
          <p:cNvSpPr/>
          <p:nvPr/>
        </p:nvSpPr>
        <p:spPr>
          <a:xfrm flipV="1">
            <a:off x="3551400" y="301932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ая соединительная линия 52"/>
          <p:cNvSpPr/>
          <p:nvPr/>
        </p:nvSpPr>
        <p:spPr>
          <a:xfrm>
            <a:off x="3554280" y="3114720"/>
            <a:ext cx="617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Прямая соединительная линия 53"/>
          <p:cNvSpPr/>
          <p:nvPr/>
        </p:nvSpPr>
        <p:spPr>
          <a:xfrm flipV="1">
            <a:off x="3567240" y="301932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Прямая соединительная линия 54"/>
          <p:cNvSpPr/>
          <p:nvPr/>
        </p:nvSpPr>
        <p:spPr>
          <a:xfrm flipV="1">
            <a:off x="4172040" y="30063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Правая круглая скобка 55"/>
          <p:cNvSpPr/>
          <p:nvPr/>
        </p:nvSpPr>
        <p:spPr>
          <a:xfrm flipH="1" rot="5400000">
            <a:off x="3012120" y="2460240"/>
            <a:ext cx="216000" cy="860760"/>
          </a:xfrm>
          <a:custGeom>
            <a:avLst/>
            <a:gdLst>
              <a:gd name="textAreaLeft" fmla="*/ 360 w 216000"/>
              <a:gd name="textAreaRight" fmla="*/ 151920 w 216000"/>
              <a:gd name="textAreaTop" fmla="*/ 216000 h 860760"/>
              <a:gd name="textAreaBottom" fmla="*/ 644760 h 86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19"/>
                  <a:pt x="21600" y="10837"/>
                </a:cubicBezTo>
                <a:lnTo>
                  <a:pt x="21600" y="10763"/>
                </a:lnTo>
                <a:cubicBezTo>
                  <a:pt x="21600" y="16182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Правая круглая скобка 56"/>
          <p:cNvSpPr/>
          <p:nvPr/>
        </p:nvSpPr>
        <p:spPr>
          <a:xfrm flipH="1" rot="5400000">
            <a:off x="3774960" y="2589840"/>
            <a:ext cx="216000" cy="595080"/>
          </a:xfrm>
          <a:custGeom>
            <a:avLst/>
            <a:gdLst>
              <a:gd name="textAreaLeft" fmla="*/ 360 w 216000"/>
              <a:gd name="textAreaRight" fmla="*/ 151920 w 216000"/>
              <a:gd name="textAreaTop" fmla="*/ 215640 h 595080"/>
              <a:gd name="textAreaBottom" fmla="*/ 379440 h 59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32"/>
                  <a:pt x="21600" y="15663"/>
                </a:cubicBezTo>
                <a:lnTo>
                  <a:pt x="21600" y="5937"/>
                </a:lnTo>
                <a:cubicBezTo>
                  <a:pt x="21600" y="13769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1" dur="indefinite" restart="never" nodeType="tmRoot">
          <p:childTnLst>
            <p:seq>
              <p:cTn id="3492" dur="indefinite" nodeType="mainSeq">
                <p:childTnLst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nodeType="clickEffect" fill="hold">
                      <p:stCondLst>
                        <p:cond delay="indefinite"/>
                      </p:stCondLst>
                      <p:childTnLst>
                        <p:par>
                          <p:cTn id="3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nodeType="clickEffect" fill="hold">
                      <p:stCondLst>
                        <p:cond delay="indefinite"/>
                      </p:stCondLst>
                      <p:childTnLst>
                        <p:par>
                          <p:cTn id="3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7" nodeType="clickEffect" fill="hold">
                      <p:stCondLst>
                        <p:cond delay="indefinite"/>
                      </p:stCondLst>
                      <p:childTnLst>
                        <p:par>
                          <p:cTn id="3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nodeType="clickEffect" fill="hold">
                      <p:stCondLst>
                        <p:cond delay="indefinite"/>
                      </p:stCondLst>
                      <p:childTnLst>
                        <p:par>
                          <p:cTn id="3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1" nodeType="clickEffect" fill="hold">
                      <p:stCondLst>
                        <p:cond delay="indefinite"/>
                      </p:stCondLst>
                      <p:childTnLst>
                        <p:par>
                          <p:cTn id="3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nodeType="clickEffect" fill="hold">
                      <p:stCondLst>
                        <p:cond delay="indefinite"/>
                      </p:stCondLst>
                      <p:childTnLst>
                        <p:par>
                          <p:cTn id="3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nodeType="clickEffect" fill="hold">
                      <p:stCondLst>
                        <p:cond delay="indefinite"/>
                      </p:stCondLst>
                      <p:childTnLst>
                        <p:par>
                          <p:cTn id="3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8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9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nodeType="clickEffect" fill="hold">
                      <p:stCondLst>
                        <p:cond delay="indefinite"/>
                      </p:stCondLst>
                      <p:childTnLst>
                        <p:par>
                          <p:cTn id="3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nodeType="clickEffect" fill="hold">
                      <p:stCondLst>
                        <p:cond delay="indefinite"/>
                      </p:stCondLst>
                      <p:childTnLst>
                        <p:par>
                          <p:cTn id="3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6" nodeType="clickEffect" fill="hold">
                      <p:stCondLst>
                        <p:cond delay="indefinite"/>
                      </p:stCondLst>
                      <p:childTnLst>
                        <p:par>
                          <p:cTn id="3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1" nodeType="clickEffect" fill="hold">
                      <p:stCondLst>
                        <p:cond delay="indefinite"/>
                      </p:stCondLst>
                      <p:childTnLst>
                        <p:par>
                          <p:cTn id="3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6" nodeType="clickEffect" fill="hold">
                      <p:stCondLst>
                        <p:cond delay="indefinite"/>
                      </p:stCondLst>
                      <p:childTnLst>
                        <p:par>
                          <p:cTn id="3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nodeType="clickEffect" fill="hold">
                      <p:stCondLst>
                        <p:cond delay="indefinite"/>
                      </p:stCondLst>
                      <p:childTnLst>
                        <p:par>
                          <p:cTn id="3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nodeType="clickEffect" fill="hold">
                      <p:stCondLst>
                        <p:cond delay="indefinite"/>
                      </p:stCondLst>
                      <p:childTnLst>
                        <p:par>
                          <p:cTn id="3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fill="hold">
                      <p:stCondLst>
                        <p:cond delay="indefinite"/>
                      </p:stCondLst>
                      <p:childTnLst>
                        <p:par>
                          <p:cTn id="3643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fill="hold">
                      <p:stCondLst>
                        <p:cond delay="indefinite"/>
                      </p:stCondLst>
                      <p:childTnLst>
                        <p:par>
                          <p:cTn id="3669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3" fill="hold">
                      <p:stCondLst>
                        <p:cond delay="indefinite"/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fill="hold">
                      <p:stCondLst>
                        <p:cond delay="indefinite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fill="hold">
                      <p:stCondLst>
                        <p:cond delay="indefinite"/>
                      </p:stCondLst>
                      <p:childTnLst>
                        <p:par>
                          <p:cTn id="3689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3" fill="hold">
                      <p:stCondLst>
                        <p:cond delay="indefinite"/>
                      </p:stCondLst>
                      <p:childTnLst>
                        <p:par>
                          <p:cTn id="3694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fill="hold">
                      <p:stCondLst>
                        <p:cond delay="indefinite"/>
                      </p:stCondLst>
                      <p:childTnLst>
                        <p:par>
                          <p:cTn id="3699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Box 3"/>
          <p:cNvSpPr/>
          <p:nvPr/>
        </p:nvSpPr>
        <p:spPr>
          <a:xfrm>
            <a:off x="214200" y="5796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Закінчи виконання короткого запису. Роз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'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жи задач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Box 4"/>
          <p:cNvSpPr/>
          <p:nvPr/>
        </p:nvSpPr>
        <p:spPr>
          <a:xfrm>
            <a:off x="212760" y="1311120"/>
            <a:ext cx="81374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У кухаря Івана було 10 л олії. За день він витратив 3 л. Скільки літрів олії залишилося у кухар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Скругленный прямоугольник 5"/>
          <p:cNvSpPr/>
          <p:nvPr/>
        </p:nvSpPr>
        <p:spPr>
          <a:xfrm>
            <a:off x="114480" y="2554200"/>
            <a:ext cx="266364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Box 6"/>
          <p:cNvSpPr/>
          <p:nvPr/>
        </p:nvSpPr>
        <p:spPr>
          <a:xfrm>
            <a:off x="150840" y="3438360"/>
            <a:ext cx="25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Залишилос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Box 9"/>
          <p:cNvSpPr/>
          <p:nvPr/>
        </p:nvSpPr>
        <p:spPr>
          <a:xfrm>
            <a:off x="2077920" y="344160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Box 10"/>
          <p:cNvSpPr/>
          <p:nvPr/>
        </p:nvSpPr>
        <p:spPr>
          <a:xfrm>
            <a:off x="1163520" y="273996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1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11"/>
          <p:cNvSpPr/>
          <p:nvPr/>
        </p:nvSpPr>
        <p:spPr>
          <a:xfrm>
            <a:off x="1762200" y="30448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3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2855880" y="2554200"/>
            <a:ext cx="5813280" cy="1322640"/>
          </a:xfrm>
          <a:prstGeom prst="rect">
            <a:avLst/>
          </a:prstGeom>
          <a:ln w="0">
            <a:noFill/>
          </a:ln>
        </p:spPr>
      </p:pic>
      <p:sp>
        <p:nvSpPr>
          <p:cNvPr id="788" name="TextBox 109"/>
          <p:cNvSpPr/>
          <p:nvPr/>
        </p:nvSpPr>
        <p:spPr>
          <a:xfrm>
            <a:off x="212760" y="1311120"/>
            <a:ext cx="81374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 У кухаря Івана було 10 л олії. За день він витратив 3 л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ільки літрів олії залишилося у кухар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Box 110"/>
          <p:cNvSpPr/>
          <p:nvPr/>
        </p:nvSpPr>
        <p:spPr>
          <a:xfrm>
            <a:off x="212760" y="1311120"/>
            <a:ext cx="81374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У кухаря Івана було 10 л олії. За день він витратив 3 л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літрів олії залишилося у кухар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Выгнутая вверх стрелка 111"/>
          <p:cNvSpPr/>
          <p:nvPr/>
        </p:nvSpPr>
        <p:spPr>
          <a:xfrm>
            <a:off x="6703920" y="1060560"/>
            <a:ext cx="668520" cy="249120"/>
          </a:xfrm>
          <a:custGeom>
            <a:avLst/>
            <a:gdLst>
              <a:gd name="textAreaLeft" fmla="*/ 143640 w 668520"/>
              <a:gd name="textAreaRight" fmla="*/ 493560 w 668520"/>
              <a:gd name="textAreaTop" fmla="*/ 33120 h 249120"/>
              <a:gd name="textAreaBottom" fmla="*/ 216000 h 24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90" hR="21600" stAng="10800000" swAng="5400000"/>
                <a:lnTo>
                  <a:pt x="11304" y="0"/>
                </a:lnTo>
                <a:arcTo wR="9290" hR="21600" stAng="-5400000" swAng="3541251"/>
                <a:lnTo>
                  <a:pt x="21305" y="16200"/>
                </a:lnTo>
                <a:lnTo>
                  <a:pt x="19586" y="21600"/>
                </a:lnTo>
                <a:lnTo>
                  <a:pt x="17277" y="16200"/>
                </a:lnTo>
                <a:lnTo>
                  <a:pt x="18284" y="16200"/>
                </a:lnTo>
                <a:arcTo wR="9290" hR="21600" stAng="-1858749" swAng="-3380150"/>
                <a:lnTo>
                  <a:pt x="10297" y="127"/>
                </a:lnTo>
                <a:arcTo wR="9290" hR="21600" stAng="-5561101" swAng="-5238899"/>
                <a:close/>
              </a:path>
              <a:path fill="darkenLess" w="21600" h="21600">
                <a:moveTo>
                  <a:pt x="0" y="21600"/>
                </a:moveTo>
                <a:arcTo wR="9290" hR="21600" stAng="10800000" swAng="5400000"/>
                <a:lnTo>
                  <a:pt x="9290" y="0"/>
                </a:lnTo>
                <a:arcTo wR="9290" hR="21600" stAng="-5400000" swAng="161101"/>
                <a:lnTo>
                  <a:pt x="10297" y="127"/>
                </a:lnTo>
                <a:arcTo wR="9290" hR="21600" stAng="-5561101" swAng="-5238899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Выгнутая вверх стрелка 112"/>
          <p:cNvSpPr/>
          <p:nvPr/>
        </p:nvSpPr>
        <p:spPr>
          <a:xfrm>
            <a:off x="2982960" y="1060560"/>
            <a:ext cx="500040" cy="249120"/>
          </a:xfrm>
          <a:custGeom>
            <a:avLst/>
            <a:gdLst>
              <a:gd name="textAreaLeft" fmla="*/ 101520 w 500040"/>
              <a:gd name="textAreaRight" fmla="*/ 367200 w 500040"/>
              <a:gd name="textAreaTop" fmla="*/ 33120 h 249120"/>
              <a:gd name="textAreaBottom" fmla="*/ 216000 h 24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82" hR="21600" stAng="10800000" swAng="5400000"/>
                <a:lnTo>
                  <a:pt x="11473" y="0"/>
                </a:lnTo>
                <a:arcTo wR="8782" hR="21600" stAng="-5400000" swAng="3454832"/>
                <a:lnTo>
                  <a:pt x="21321" y="16200"/>
                </a:lnTo>
                <a:lnTo>
                  <a:pt x="18909" y="21600"/>
                </a:lnTo>
                <a:lnTo>
                  <a:pt x="15938" y="16200"/>
                </a:lnTo>
                <a:lnTo>
                  <a:pt x="17284" y="16200"/>
                </a:lnTo>
                <a:arcTo wR="8782" hR="21600" stAng="-1945168" swAng="-3238416"/>
                <a:lnTo>
                  <a:pt x="10127" y="255"/>
                </a:lnTo>
                <a:arcTo wR="8782" hR="21600" stAng="-5616415" swAng="-5183585"/>
                <a:close/>
              </a:path>
              <a:path fill="darkenLess" w="21600" h="21600">
                <a:moveTo>
                  <a:pt x="0" y="21600"/>
                </a:moveTo>
                <a:arcTo wR="8782" hR="21600" stAng="10800000" swAng="5400000"/>
                <a:lnTo>
                  <a:pt x="8782" y="0"/>
                </a:lnTo>
                <a:arcTo wR="8782" hR="21600" stAng="-5400000" swAng="216415"/>
                <a:lnTo>
                  <a:pt x="10127" y="255"/>
                </a:lnTo>
                <a:arcTo wR="8782" hR="21600" stAng="-5616415" swAng="-5183585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Выгнутая вверх стрелка 113"/>
          <p:cNvSpPr/>
          <p:nvPr/>
        </p:nvSpPr>
        <p:spPr>
          <a:xfrm flipH="1">
            <a:off x="1283400" y="1662120"/>
            <a:ext cx="1622520" cy="189000"/>
          </a:xfrm>
          <a:custGeom>
            <a:avLst/>
            <a:gdLst>
              <a:gd name="textAreaLeft" fmla="*/ 387720 w 1622520"/>
              <a:gd name="textAreaRight" fmla="*/ 1211040 w 1622520"/>
              <a:gd name="textAreaTop" fmla="*/ 25200 h 189000"/>
              <a:gd name="textAreaBottom" fmla="*/ 163800 h 18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29" hR="21600" stAng="10800000" swAng="5400000"/>
                <a:lnTo>
                  <a:pt x="10957" y="0"/>
                </a:lnTo>
                <a:arcTo wR="10329" hR="21600" stAng="-5400000" swAng="3697933"/>
                <a:lnTo>
                  <a:pt x="21272" y="16200"/>
                </a:lnTo>
                <a:lnTo>
                  <a:pt x="20971" y="21600"/>
                </a:lnTo>
                <a:lnTo>
                  <a:pt x="20014" y="16200"/>
                </a:lnTo>
                <a:lnTo>
                  <a:pt x="20329" y="16200"/>
                </a:lnTo>
                <a:arcTo wR="10329" hR="21600" stAng="-1702067" swAng="-3647939"/>
                <a:lnTo>
                  <a:pt x="10643" y="10"/>
                </a:lnTo>
                <a:arcTo wR="10329" hR="21600" stAng="-5449994" swAng="-5350006"/>
                <a:close/>
              </a:path>
              <a:path fill="darkenLess" w="21600" h="21600">
                <a:moveTo>
                  <a:pt x="0" y="21600"/>
                </a:moveTo>
                <a:arcTo wR="10329" hR="21600" stAng="10800000" swAng="5400000"/>
                <a:lnTo>
                  <a:pt x="10329" y="0"/>
                </a:lnTo>
                <a:arcTo wR="10329" hR="21600" stAng="-5400000" swAng="49994"/>
                <a:lnTo>
                  <a:pt x="10643" y="10"/>
                </a:lnTo>
                <a:arcTo wR="10329" hR="21600" stAng="-5449994" swAng="-5350006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Овал 114"/>
          <p:cNvSpPr/>
          <p:nvPr/>
        </p:nvSpPr>
        <p:spPr>
          <a:xfrm>
            <a:off x="7151760" y="1309680"/>
            <a:ext cx="323640" cy="417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Овал 115"/>
          <p:cNvSpPr/>
          <p:nvPr/>
        </p:nvSpPr>
        <p:spPr>
          <a:xfrm>
            <a:off x="3295800" y="1332000"/>
            <a:ext cx="323640" cy="417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Box 116"/>
          <p:cNvSpPr/>
          <p:nvPr/>
        </p:nvSpPr>
        <p:spPr>
          <a:xfrm>
            <a:off x="2692440" y="1662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лишило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Box 117"/>
          <p:cNvSpPr/>
          <p:nvPr/>
        </p:nvSpPr>
        <p:spPr>
          <a:xfrm>
            <a:off x="2540160" y="13111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у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Box 118"/>
          <p:cNvSpPr/>
          <p:nvPr/>
        </p:nvSpPr>
        <p:spPr>
          <a:xfrm>
            <a:off x="5904000" y="1297080"/>
            <a:ext cx="14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итра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Box 119"/>
          <p:cNvSpPr/>
          <p:nvPr/>
        </p:nvSpPr>
        <p:spPr>
          <a:xfrm>
            <a:off x="212760" y="3043080"/>
            <a:ext cx="17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Витрати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Box 120"/>
          <p:cNvSpPr/>
          <p:nvPr/>
        </p:nvSpPr>
        <p:spPr>
          <a:xfrm>
            <a:off x="212760" y="27306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Box 103"/>
          <p:cNvSpPr/>
          <p:nvPr/>
        </p:nvSpPr>
        <p:spPr>
          <a:xfrm>
            <a:off x="6783480" y="2517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Box 103"/>
          <p:cNvSpPr/>
          <p:nvPr/>
        </p:nvSpPr>
        <p:spPr>
          <a:xfrm>
            <a:off x="7383600" y="251136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Box 103"/>
          <p:cNvSpPr/>
          <p:nvPr/>
        </p:nvSpPr>
        <p:spPr>
          <a:xfrm>
            <a:off x="7824960" y="2511360"/>
            <a:ext cx="4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Box 103"/>
          <p:cNvSpPr/>
          <p:nvPr/>
        </p:nvSpPr>
        <p:spPr>
          <a:xfrm>
            <a:off x="6762600" y="296244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0 – 3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Box 103"/>
          <p:cNvSpPr/>
          <p:nvPr/>
        </p:nvSpPr>
        <p:spPr>
          <a:xfrm>
            <a:off x="7770960" y="3451320"/>
            <a:ext cx="4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103"/>
          <p:cNvSpPr/>
          <p:nvPr/>
        </p:nvSpPr>
        <p:spPr>
          <a:xfrm>
            <a:off x="4143240" y="251784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Box 103"/>
          <p:cNvSpPr/>
          <p:nvPr/>
        </p:nvSpPr>
        <p:spPr>
          <a:xfrm>
            <a:off x="3409920" y="36306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103"/>
          <p:cNvSpPr/>
          <p:nvPr/>
        </p:nvSpPr>
        <p:spPr>
          <a:xfrm>
            <a:off x="4508640" y="36306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Прямая соединительная линия 133"/>
          <p:cNvSpPr/>
          <p:nvPr/>
        </p:nvSpPr>
        <p:spPr>
          <a:xfrm>
            <a:off x="3330720" y="3274920"/>
            <a:ext cx="2163600" cy="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Прямая соединительная линия 134"/>
          <p:cNvSpPr/>
          <p:nvPr/>
        </p:nvSpPr>
        <p:spPr>
          <a:xfrm flipV="1">
            <a:off x="3325680" y="316692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Прямая соединительная линия 135"/>
          <p:cNvSpPr/>
          <p:nvPr/>
        </p:nvSpPr>
        <p:spPr>
          <a:xfrm flipV="1">
            <a:off x="5494320" y="318276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Правая круглая скобка 136"/>
          <p:cNvSpPr/>
          <p:nvPr/>
        </p:nvSpPr>
        <p:spPr>
          <a:xfrm flipH="1" rot="5400000">
            <a:off x="4279680" y="1999800"/>
            <a:ext cx="265320" cy="2163600"/>
          </a:xfrm>
          <a:custGeom>
            <a:avLst/>
            <a:gdLst>
              <a:gd name="textAreaLeft" fmla="*/ 0 w 265320"/>
              <a:gd name="textAreaRight" fmla="*/ 186120 w 265320"/>
              <a:gd name="textAreaTop" fmla="*/ 264960 h 2163600"/>
              <a:gd name="textAreaBottom" fmla="*/ 1898640 h 21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646"/>
                  <a:pt x="21600" y="5292"/>
                </a:cubicBezTo>
                <a:lnTo>
                  <a:pt x="21600" y="16308"/>
                </a:lnTo>
                <a:cubicBezTo>
                  <a:pt x="21600" y="18954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Правая круглая скобка 137"/>
          <p:cNvSpPr/>
          <p:nvPr/>
        </p:nvSpPr>
        <p:spPr>
          <a:xfrm rot="5400000">
            <a:off x="3521160" y="3216240"/>
            <a:ext cx="233280" cy="595440"/>
          </a:xfrm>
          <a:custGeom>
            <a:avLst/>
            <a:gdLst>
              <a:gd name="textAreaLeft" fmla="*/ 0 w 233280"/>
              <a:gd name="textAreaRight" fmla="*/ 163800 w 233280"/>
              <a:gd name="textAreaTop" fmla="*/ 233280 h 595440"/>
              <a:gd name="textAreaBottom" fmla="*/ 36216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465"/>
                  <a:pt x="21600" y="16930"/>
                </a:cubicBezTo>
                <a:lnTo>
                  <a:pt x="21600" y="4670"/>
                </a:lnTo>
                <a:cubicBezTo>
                  <a:pt x="21600" y="13135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Прямая соединительная линия 138"/>
          <p:cNvSpPr/>
          <p:nvPr/>
        </p:nvSpPr>
        <p:spPr>
          <a:xfrm>
            <a:off x="3325680" y="3270240"/>
            <a:ext cx="609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Прямая соединительная линия 139"/>
          <p:cNvSpPr/>
          <p:nvPr/>
        </p:nvSpPr>
        <p:spPr>
          <a:xfrm flipV="1">
            <a:off x="3962520" y="31762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Прямая соединительная линия 140"/>
          <p:cNvSpPr/>
          <p:nvPr/>
        </p:nvSpPr>
        <p:spPr>
          <a:xfrm flipV="1">
            <a:off x="3325680" y="31636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Прямая соединительная линия 141"/>
          <p:cNvSpPr/>
          <p:nvPr/>
        </p:nvSpPr>
        <p:spPr>
          <a:xfrm>
            <a:off x="3935520" y="3270240"/>
            <a:ext cx="1533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Правая круглая скобка 142"/>
          <p:cNvSpPr/>
          <p:nvPr/>
        </p:nvSpPr>
        <p:spPr>
          <a:xfrm rot="5400000">
            <a:off x="4602240" y="2738520"/>
            <a:ext cx="233280" cy="1550880"/>
          </a:xfrm>
          <a:custGeom>
            <a:avLst/>
            <a:gdLst>
              <a:gd name="textAreaLeft" fmla="*/ 0 w 233280"/>
              <a:gd name="textAreaRight" fmla="*/ 163800 w 233280"/>
              <a:gd name="textAreaTop" fmla="*/ 233280 h 1550880"/>
              <a:gd name="textAreaBottom" fmla="*/ 1317600 h 15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49"/>
                  <a:pt x="21600" y="6498"/>
                </a:cubicBezTo>
                <a:lnTo>
                  <a:pt x="21600" y="15102"/>
                </a:lnTo>
                <a:cubicBezTo>
                  <a:pt x="21600" y="18351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Box 50"/>
          <p:cNvSpPr/>
          <p:nvPr/>
        </p:nvSpPr>
        <p:spPr>
          <a:xfrm>
            <a:off x="7035120" y="27972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Box 50"/>
          <p:cNvSpPr/>
          <p:nvPr/>
        </p:nvSpPr>
        <p:spPr>
          <a:xfrm>
            <a:off x="7206480" y="324180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8" dur="indefinite" restart="never" nodeType="tmRoot">
          <p:childTnLst>
            <p:seq>
              <p:cTn id="3709" dur="indefinite" nodeType="mainSeq">
                <p:childTnLst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nodeType="clickEffect" fill="hold">
                      <p:stCondLst>
                        <p:cond delay="indefinite"/>
                      </p:stCondLst>
                      <p:childTnLst>
                        <p:par>
                          <p:cTn id="3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nodeType="clickEffect" fill="hold">
                      <p:stCondLst>
                        <p:cond delay="indefinite"/>
                      </p:stCondLst>
                      <p:childTnLst>
                        <p:par>
                          <p:cTn id="3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delay="indefinite"/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nodeType="clickEffect" fill="hold">
                      <p:stCondLst>
                        <p:cond delay="indefinite"/>
                      </p:stCondLst>
                      <p:childTnLst>
                        <p:par>
                          <p:cTn id="3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nodeType="clickEffect" fill="hold">
                      <p:stCondLst>
                        <p:cond delay="indefinite"/>
                      </p:stCondLst>
                      <p:childTnLst>
                        <p:par>
                          <p:cTn id="3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8" nodeType="clickEffect" fill="hold">
                      <p:stCondLst>
                        <p:cond delay="indefinite"/>
                      </p:stCondLst>
                      <p:childTnLst>
                        <p:par>
                          <p:cTn id="3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3" nodeType="clickEffect" fill="hold">
                      <p:stCondLst>
                        <p:cond delay="indefinite"/>
                      </p:stCondLst>
                      <p:childTnLst>
                        <p:par>
                          <p:cTn id="3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nodeType="clickEffect" fill="hold">
                      <p:stCondLst>
                        <p:cond delay="indefinite"/>
                      </p:stCondLst>
                      <p:childTnLst>
                        <p:par>
                          <p:cTn id="3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nodeType="clickEffect" fill="hold">
                      <p:stCondLst>
                        <p:cond delay="indefinite"/>
                      </p:stCondLst>
                      <p:childTnLst>
                        <p:par>
                          <p:cTn id="3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nodeType="clickEffect" fill="hold">
                      <p:stCondLst>
                        <p:cond delay="indefinite"/>
                      </p:stCondLst>
                      <p:childTnLst>
                        <p:par>
                          <p:cTn id="3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0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3" nodeType="clickEffect" fill="hold">
                      <p:stCondLst>
                        <p:cond delay="indefinite"/>
                      </p:stCondLst>
                      <p:childTnLst>
                        <p:par>
                          <p:cTn id="3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nodeType="clickEffect" fill="hold">
                      <p:stCondLst>
                        <p:cond delay="indefinite"/>
                      </p:stCondLst>
                      <p:childTnLst>
                        <p:par>
                          <p:cTn id="3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nodeType="clickEffect" fill="hold">
                      <p:stCondLst>
                        <p:cond delay="indefinite"/>
                      </p:stCondLst>
                      <p:childTnLst>
                        <p:par>
                          <p:cTn id="3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nodeType="clickEffect" fill="hold">
                      <p:stCondLst>
                        <p:cond delay="indefinite"/>
                      </p:stCondLst>
                      <p:childTnLst>
                        <p:par>
                          <p:cTn id="3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nodeType="clickEffect" fill="hold">
                      <p:stCondLst>
                        <p:cond delay="indefinite"/>
                      </p:stCondLst>
                      <p:childTnLst>
                        <p:par>
                          <p:cTn id="3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nodeType="clickEffect" fill="hold">
                      <p:stCondLst>
                        <p:cond delay="indefinite"/>
                      </p:stCondLst>
                      <p:childTnLst>
                        <p:par>
                          <p:cTn id="3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8" nodeType="clickEffect" fill="hold">
                      <p:stCondLst>
                        <p:cond delay="indefinite"/>
                      </p:stCondLst>
                      <p:childTnLst>
                        <p:par>
                          <p:cTn id="3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3" nodeType="clickEffect" fill="hold">
                      <p:stCondLst>
                        <p:cond delay="indefinite"/>
                      </p:stCondLst>
                      <p:childTnLst>
                        <p:par>
                          <p:cTn id="3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nodeType="clickEffect" fill="hold">
                      <p:stCondLst>
                        <p:cond delay="indefinite"/>
                      </p:stCondLst>
                      <p:childTnLst>
                        <p:par>
                          <p:cTn id="3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nodeType="clickEffect" fill="hold">
                      <p:stCondLst>
                        <p:cond delay="indefinite"/>
                      </p:stCondLst>
                      <p:childTnLst>
                        <p:par>
                          <p:cTn id="3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nodeType="clickEffect" fill="hold">
                      <p:stCondLst>
                        <p:cond delay="indefinite"/>
                      </p:stCondLst>
                      <p:childTnLst>
                        <p:par>
                          <p:cTn id="3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8" nodeType="clickEffect" fill="hold">
                      <p:stCondLst>
                        <p:cond delay="indefinite"/>
                      </p:stCondLst>
                      <p:childTnLst>
                        <p:par>
                          <p:cTn id="3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4" nodeType="clickEffect" fill="hold">
                      <p:stCondLst>
                        <p:cond delay="indefinite"/>
                      </p:stCondLst>
                      <p:childTnLst>
                        <p:par>
                          <p:cTn id="3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nodeType="clickEffect" fill="hold">
                      <p:stCondLst>
                        <p:cond delay="indefinite"/>
                      </p:stCondLst>
                      <p:childTnLst>
                        <p:par>
                          <p:cTn id="3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nodeType="clickEffect" fill="hold">
                      <p:stCondLst>
                        <p:cond delay="indefinite"/>
                      </p:stCondLst>
                      <p:childTnLst>
                        <p:par>
                          <p:cTn id="3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nodeType="clickEffect" fill="hold">
                      <p:stCondLst>
                        <p:cond delay="indefinite"/>
                      </p:stCondLst>
                      <p:childTnLst>
                        <p:par>
                          <p:cTn id="3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0" nodeType="clickEffect" fill="hold">
                      <p:stCondLst>
                        <p:cond delay="indefinite"/>
                      </p:stCondLst>
                      <p:childTnLst>
                        <p:par>
                          <p:cTn id="3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nodeType="clickEffect" fill="hold">
                      <p:stCondLst>
                        <p:cond delay="indefinite"/>
                      </p:stCondLst>
                      <p:childTnLst>
                        <p:par>
                          <p:cTn id="3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nodeType="clickEffect" fill="hold">
                      <p:stCondLst>
                        <p:cond delay="indefinite"/>
                      </p:stCondLst>
                      <p:childTnLst>
                        <p:par>
                          <p:cTn id="3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nodeType="clickEffect" fill="hold">
                      <p:stCondLst>
                        <p:cond delay="indefinite"/>
                      </p:stCondLst>
                      <p:childTnLst>
                        <p:par>
                          <p:cTn id="3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0" nodeType="clickEffect" fill="hold">
                      <p:stCondLst>
                        <p:cond delay="indefinite"/>
                      </p:stCondLst>
                      <p:childTnLst>
                        <p:par>
                          <p:cTn id="3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nodeType="clickEffect" fill="hold">
                      <p:stCondLst>
                        <p:cond delay="indefinite"/>
                      </p:stCondLst>
                      <p:childTnLst>
                        <p:par>
                          <p:cTn id="3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0" nodeType="clickEffect" fill="hold">
                      <p:stCondLst>
                        <p:cond delay="indefinite"/>
                      </p:stCondLst>
                      <p:childTnLst>
                        <p:par>
                          <p:cTn id="3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5" nodeType="clickEffect" fill="hold">
                      <p:stCondLst>
                        <p:cond delay="indefinite"/>
                      </p:stCondLst>
                      <p:childTnLst>
                        <p:par>
                          <p:cTn id="3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Box 3"/>
          <p:cNvSpPr/>
          <p:nvPr/>
        </p:nvSpPr>
        <p:spPr>
          <a:xfrm>
            <a:off x="87480" y="1197000"/>
            <a:ext cx="88930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Тітонька Марія заготувала 8 л томатного соку і 2 л яблучного. Скільки всього літрів соку заготувала господи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Скругленный прямоугольник 4"/>
          <p:cNvSpPr/>
          <p:nvPr/>
        </p:nvSpPr>
        <p:spPr>
          <a:xfrm>
            <a:off x="187200" y="2795760"/>
            <a:ext cx="201636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231840" y="326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Я.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Правая фигурная скобка 8"/>
          <p:cNvSpPr/>
          <p:nvPr/>
        </p:nvSpPr>
        <p:spPr>
          <a:xfrm>
            <a:off x="1490760" y="3073320"/>
            <a:ext cx="258840" cy="533520"/>
          </a:xfrm>
          <a:custGeom>
            <a:avLst/>
            <a:gdLst>
              <a:gd name="textAreaLeft" fmla="*/ 0 w 258840"/>
              <a:gd name="textAreaRight" fmla="*/ 93600 w 258840"/>
              <a:gd name="textAreaTop" fmla="*/ 6480 h 533520"/>
              <a:gd name="textAreaBottom" fmla="*/ 5270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7"/>
                  <a:pt x="10800" y="873"/>
                </a:cubicBezTo>
                <a:lnTo>
                  <a:pt x="10800" y="9927"/>
                </a:lnTo>
                <a:cubicBezTo>
                  <a:pt x="10800" y="10364"/>
                  <a:pt x="16200" y="10800"/>
                  <a:pt x="21600" y="10800"/>
                </a:cubicBezTo>
                <a:cubicBezTo>
                  <a:pt x="16200" y="10800"/>
                  <a:pt x="10800" y="11237"/>
                  <a:pt x="10800" y="11673"/>
                </a:cubicBezTo>
                <a:lnTo>
                  <a:pt x="10800" y="20727"/>
                </a:lnTo>
                <a:cubicBezTo>
                  <a:pt x="10800" y="2116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Box 9"/>
          <p:cNvSpPr/>
          <p:nvPr/>
        </p:nvSpPr>
        <p:spPr>
          <a:xfrm>
            <a:off x="1716120" y="31384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10"/>
          <p:cNvSpPr/>
          <p:nvPr/>
        </p:nvSpPr>
        <p:spPr>
          <a:xfrm>
            <a:off x="835200" y="2879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8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Box 11"/>
          <p:cNvSpPr/>
          <p:nvPr/>
        </p:nvSpPr>
        <p:spPr>
          <a:xfrm>
            <a:off x="876240" y="327492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2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Box 75"/>
          <p:cNvSpPr/>
          <p:nvPr/>
        </p:nvSpPr>
        <p:spPr>
          <a:xfrm>
            <a:off x="96840" y="1197000"/>
            <a:ext cx="88930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Тітонька Марія заготувала 8 л томатного соку і 2 л яблучного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ільки всього літрів соку заготувала господи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Box 76"/>
          <p:cNvSpPr/>
          <p:nvPr/>
        </p:nvSpPr>
        <p:spPr>
          <a:xfrm>
            <a:off x="96840" y="1197000"/>
            <a:ext cx="88930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Тітонька Марія заготувала 8 л томатного соку і 2 л яблучного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всього літрів соку заготувала господи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2319480" y="2608200"/>
            <a:ext cx="6696000" cy="1522440"/>
          </a:xfrm>
          <a:prstGeom prst="rect">
            <a:avLst/>
          </a:prstGeom>
          <a:ln w="0">
            <a:noFill/>
          </a:ln>
        </p:spPr>
      </p:pic>
      <p:sp>
        <p:nvSpPr>
          <p:cNvPr id="830" name="TextBox 78"/>
          <p:cNvSpPr/>
          <p:nvPr/>
        </p:nvSpPr>
        <p:spPr>
          <a:xfrm>
            <a:off x="187200" y="28735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Т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Выгнутая вверх стрелка 79"/>
          <p:cNvSpPr/>
          <p:nvPr/>
        </p:nvSpPr>
        <p:spPr>
          <a:xfrm flipH="1">
            <a:off x="6869880" y="1028880"/>
            <a:ext cx="561960" cy="188640"/>
          </a:xfrm>
          <a:custGeom>
            <a:avLst/>
            <a:gdLst>
              <a:gd name="textAreaLeft" fmla="*/ 122400 w 561960"/>
              <a:gd name="textAreaRight" fmla="*/ 415440 w 561960"/>
              <a:gd name="textAreaTop" fmla="*/ 25200 h 188640"/>
              <a:gd name="textAreaBottom" fmla="*/ 163440 h 188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39" hR="21600" stAng="10800000" swAng="5400000"/>
                <a:lnTo>
                  <a:pt x="11254" y="0"/>
                </a:lnTo>
                <a:arcTo wR="9439" hR="21600" stAng="-5400000" swAng="3565300"/>
                <a:lnTo>
                  <a:pt x="21300" y="16200"/>
                </a:lnTo>
                <a:lnTo>
                  <a:pt x="19785" y="21600"/>
                </a:lnTo>
                <a:lnTo>
                  <a:pt x="17669" y="16200"/>
                </a:lnTo>
                <a:lnTo>
                  <a:pt x="18577" y="16200"/>
                </a:lnTo>
                <a:arcTo wR="9439" hR="21600" stAng="-1834700" swAng="-3420281"/>
                <a:lnTo>
                  <a:pt x="10346" y="100"/>
                </a:lnTo>
                <a:arcTo wR="9439" hR="21600" stAng="-5545019" swAng="-5254981"/>
                <a:close/>
              </a:path>
              <a:path fill="darkenLess" w="21600" h="21600">
                <a:moveTo>
                  <a:pt x="0" y="21600"/>
                </a:moveTo>
                <a:arcTo wR="9439" hR="21600" stAng="10800000" swAng="5400000"/>
                <a:lnTo>
                  <a:pt x="9439" y="0"/>
                </a:lnTo>
                <a:arcTo wR="9439" hR="21600" stAng="-5400000" swAng="145019"/>
                <a:lnTo>
                  <a:pt x="10346" y="100"/>
                </a:lnTo>
                <a:arcTo wR="9439" hR="21600" stAng="-5545019" swAng="-5254981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Выгнутая вверх стрелка 80"/>
          <p:cNvSpPr/>
          <p:nvPr/>
        </p:nvSpPr>
        <p:spPr>
          <a:xfrm flipH="1">
            <a:off x="952560" y="1535040"/>
            <a:ext cx="907920" cy="249480"/>
          </a:xfrm>
          <a:custGeom>
            <a:avLst/>
            <a:gdLst>
              <a:gd name="textAreaLeft" fmla="*/ 203760 w 907920"/>
              <a:gd name="textAreaRight" fmla="*/ 673560 w 907920"/>
              <a:gd name="textAreaTop" fmla="*/ 33120 h 249480"/>
              <a:gd name="textAreaBottom" fmla="*/ 216360 h 24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89" hR="21600" stAng="10800000" swAng="5400000"/>
                <a:lnTo>
                  <a:pt x="11171" y="0"/>
                </a:lnTo>
                <a:arcTo wR="9689" hR="21600" stAng="-5400000" swAng="3604411"/>
                <a:lnTo>
                  <a:pt x="21292" y="16200"/>
                </a:lnTo>
                <a:lnTo>
                  <a:pt x="20118" y="21600"/>
                </a:lnTo>
                <a:lnTo>
                  <a:pt x="18328" y="16200"/>
                </a:lnTo>
                <a:lnTo>
                  <a:pt x="19069" y="16200"/>
                </a:lnTo>
                <a:arcTo wR="9689" hR="21600" stAng="-1795589" swAng="-3486177"/>
                <a:lnTo>
                  <a:pt x="10430" y="63"/>
                </a:lnTo>
                <a:arcTo wR="9689" hR="21600" stAng="-5518234" swAng="-5281766"/>
                <a:close/>
              </a:path>
              <a:path fill="darkenLess" w="21600" h="21600">
                <a:moveTo>
                  <a:pt x="0" y="21600"/>
                </a:moveTo>
                <a:arcTo wR="9689" hR="21600" stAng="10800000" swAng="5400000"/>
                <a:lnTo>
                  <a:pt x="9689" y="0"/>
                </a:lnTo>
                <a:arcTo wR="9689" hR="21600" stAng="-5400000" swAng="118234"/>
                <a:lnTo>
                  <a:pt x="10430" y="63"/>
                </a:lnTo>
                <a:arcTo wR="9689" hR="21600" stAng="-5518234" swAng="-5281766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Выгнутая вверх стрелка 81"/>
          <p:cNvSpPr/>
          <p:nvPr/>
        </p:nvSpPr>
        <p:spPr>
          <a:xfrm flipH="1">
            <a:off x="4189320" y="988920"/>
            <a:ext cx="625680" cy="214560"/>
          </a:xfrm>
          <a:custGeom>
            <a:avLst/>
            <a:gdLst>
              <a:gd name="textAreaLeft" fmla="*/ 136440 w 625680"/>
              <a:gd name="textAreaRight" fmla="*/ 462960 w 62568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13" hR="21600" stAng="10800000" swAng="5400000"/>
                <a:lnTo>
                  <a:pt x="11263" y="0"/>
                </a:lnTo>
                <a:arcTo wR="9413" hR="21600" stAng="-5400000" swAng="3561144"/>
                <a:lnTo>
                  <a:pt x="21301" y="16200"/>
                </a:lnTo>
                <a:lnTo>
                  <a:pt x="19750" y="21600"/>
                </a:lnTo>
                <a:lnTo>
                  <a:pt x="17601" y="16200"/>
                </a:lnTo>
                <a:lnTo>
                  <a:pt x="18526" y="16200"/>
                </a:lnTo>
                <a:arcTo wR="9413" hR="21600" stAng="-1838856" swAng="-3413301"/>
                <a:lnTo>
                  <a:pt x="10338" y="105"/>
                </a:lnTo>
                <a:arcTo wR="9413" hR="21600" stAng="-5547843" swAng="-5252157"/>
                <a:close/>
              </a:path>
              <a:path fill="darkenLess" w="21600" h="21600">
                <a:moveTo>
                  <a:pt x="0" y="21600"/>
                </a:moveTo>
                <a:arcTo wR="9413" hR="21600" stAng="10800000" swAng="5400000"/>
                <a:lnTo>
                  <a:pt x="9413" y="0"/>
                </a:lnTo>
                <a:arcTo wR="9413" hR="21600" stAng="-5400000" swAng="147843"/>
                <a:lnTo>
                  <a:pt x="10338" y="105"/>
                </a:lnTo>
                <a:arcTo wR="9413" hR="21600" stAng="-5547843" swAng="-5252157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Box 82"/>
          <p:cNvSpPr/>
          <p:nvPr/>
        </p:nvSpPr>
        <p:spPr>
          <a:xfrm>
            <a:off x="7013520" y="12034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яблуч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Box 83"/>
          <p:cNvSpPr/>
          <p:nvPr/>
        </p:nvSpPr>
        <p:spPr>
          <a:xfrm>
            <a:off x="4368960" y="1179360"/>
            <a:ext cx="15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омат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Овал 85"/>
          <p:cNvSpPr/>
          <p:nvPr/>
        </p:nvSpPr>
        <p:spPr>
          <a:xfrm>
            <a:off x="3971880" y="1217520"/>
            <a:ext cx="324000" cy="417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Овал 86"/>
          <p:cNvSpPr/>
          <p:nvPr/>
        </p:nvSpPr>
        <p:spPr>
          <a:xfrm>
            <a:off x="6649920" y="1217520"/>
            <a:ext cx="324000" cy="417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87"/>
          <p:cNvSpPr/>
          <p:nvPr/>
        </p:nvSpPr>
        <p:spPr>
          <a:xfrm>
            <a:off x="7048440" y="260820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Box 90"/>
          <p:cNvSpPr/>
          <p:nvPr/>
        </p:nvSpPr>
        <p:spPr>
          <a:xfrm>
            <a:off x="7551720" y="260820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Box 91"/>
          <p:cNvSpPr/>
          <p:nvPr/>
        </p:nvSpPr>
        <p:spPr>
          <a:xfrm>
            <a:off x="8080200" y="26114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Box 92"/>
          <p:cNvSpPr/>
          <p:nvPr/>
        </p:nvSpPr>
        <p:spPr>
          <a:xfrm>
            <a:off x="7059600" y="3127320"/>
            <a:ext cx="16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 + 2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Box 95"/>
          <p:cNvSpPr/>
          <p:nvPr/>
        </p:nvSpPr>
        <p:spPr>
          <a:xfrm>
            <a:off x="8055000" y="364500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Прямая соединительная линия 2"/>
          <p:cNvSpPr/>
          <p:nvPr/>
        </p:nvSpPr>
        <p:spPr>
          <a:xfrm>
            <a:off x="2797200" y="3267000"/>
            <a:ext cx="20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Прямая соединительная линия 14"/>
          <p:cNvSpPr/>
          <p:nvPr/>
        </p:nvSpPr>
        <p:spPr>
          <a:xfrm>
            <a:off x="4859280" y="3267000"/>
            <a:ext cx="48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Прямая соединительная линия 16"/>
          <p:cNvSpPr/>
          <p:nvPr/>
        </p:nvSpPr>
        <p:spPr>
          <a:xfrm>
            <a:off x="2751120" y="3257640"/>
            <a:ext cx="2621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Прямая соединительная линия 104"/>
          <p:cNvSpPr/>
          <p:nvPr/>
        </p:nvSpPr>
        <p:spPr>
          <a:xfrm flipV="1">
            <a:off x="4859280" y="314784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Прямая соединительная линия 105"/>
          <p:cNvSpPr/>
          <p:nvPr/>
        </p:nvSpPr>
        <p:spPr>
          <a:xfrm flipV="1">
            <a:off x="4859280" y="315900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Прямая соединительная линия 114"/>
          <p:cNvSpPr/>
          <p:nvPr/>
        </p:nvSpPr>
        <p:spPr>
          <a:xfrm flipV="1">
            <a:off x="5342040" y="31492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Прямая соединительная линия 115"/>
          <p:cNvSpPr/>
          <p:nvPr/>
        </p:nvSpPr>
        <p:spPr>
          <a:xfrm flipV="1">
            <a:off x="2784600" y="314316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Правая круглая скобка 116"/>
          <p:cNvSpPr/>
          <p:nvPr/>
        </p:nvSpPr>
        <p:spPr>
          <a:xfrm rot="5400000">
            <a:off x="3925080" y="2234160"/>
            <a:ext cx="270000" cy="2550960"/>
          </a:xfrm>
          <a:custGeom>
            <a:avLst/>
            <a:gdLst>
              <a:gd name="textAreaLeft" fmla="*/ 0 w 270000"/>
              <a:gd name="textAreaRight" fmla="*/ 189360 w 270000"/>
              <a:gd name="textAreaTop" fmla="*/ 269640 h 2550960"/>
              <a:gd name="textAreaBottom" fmla="*/ 2281320 h 255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285"/>
                  <a:pt x="21600" y="4569"/>
                </a:cubicBezTo>
                <a:lnTo>
                  <a:pt x="21600" y="17031"/>
                </a:lnTo>
                <a:cubicBezTo>
                  <a:pt x="21600" y="19316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Правая круглая скобка 117"/>
          <p:cNvSpPr/>
          <p:nvPr/>
        </p:nvSpPr>
        <p:spPr>
          <a:xfrm flipH="1" rot="5400000">
            <a:off x="3687120" y="1976040"/>
            <a:ext cx="268200" cy="2074680"/>
          </a:xfrm>
          <a:custGeom>
            <a:avLst/>
            <a:gdLst>
              <a:gd name="textAreaLeft" fmla="*/ 0 w 268200"/>
              <a:gd name="textAreaRight" fmla="*/ 188280 w 268200"/>
              <a:gd name="textAreaTop" fmla="*/ 268200 h 2074680"/>
              <a:gd name="textAreaBottom" fmla="*/ 1806480 h 20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93"/>
                  <a:pt x="21600" y="5585"/>
                </a:cubicBezTo>
                <a:lnTo>
                  <a:pt x="21600" y="16015"/>
                </a:lnTo>
                <a:cubicBezTo>
                  <a:pt x="21600" y="1880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Правая круглая скобка 118"/>
          <p:cNvSpPr/>
          <p:nvPr/>
        </p:nvSpPr>
        <p:spPr>
          <a:xfrm flipH="1" rot="5400000">
            <a:off x="4970520" y="2793960"/>
            <a:ext cx="26352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0800" y="0"/>
                  <a:pt x="21600" y="12193"/>
                  <a:pt x="21600" y="24386"/>
                </a:cubicBezTo>
                <a:lnTo>
                  <a:pt x="21600" y="-2786"/>
                </a:lnTo>
                <a:cubicBezTo>
                  <a:pt x="21600" y="940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Box 119"/>
          <p:cNvSpPr/>
          <p:nvPr/>
        </p:nvSpPr>
        <p:spPr>
          <a:xfrm>
            <a:off x="3567240" y="24177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Box 120"/>
          <p:cNvSpPr/>
          <p:nvPr/>
        </p:nvSpPr>
        <p:spPr>
          <a:xfrm>
            <a:off x="4870440" y="248760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Box 121"/>
          <p:cNvSpPr/>
          <p:nvPr/>
        </p:nvSpPr>
        <p:spPr>
          <a:xfrm>
            <a:off x="3735360" y="372888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Box 50"/>
          <p:cNvSpPr/>
          <p:nvPr/>
        </p:nvSpPr>
        <p:spPr>
          <a:xfrm>
            <a:off x="7223760" y="29275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Box 50"/>
          <p:cNvSpPr/>
          <p:nvPr/>
        </p:nvSpPr>
        <p:spPr>
          <a:xfrm>
            <a:off x="7498800" y="33847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Box 39"/>
          <p:cNvSpPr/>
          <p:nvPr/>
        </p:nvSpPr>
        <p:spPr>
          <a:xfrm>
            <a:off x="3494160" y="472428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сь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0" dur="indefinite" restart="never" nodeType="tmRoot">
          <p:childTnLst>
            <p:seq>
              <p:cTn id="3921" dur="indefinite" nodeType="mainSeq">
                <p:childTnLst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nodeType="clickEffect" fill="hold">
                      <p:stCondLst>
                        <p:cond delay="indefinite"/>
                      </p:stCondLst>
                      <p:childTnLst>
                        <p:par>
                          <p:cTn id="3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nodeType="clickEffect" fill="hold">
                      <p:stCondLst>
                        <p:cond delay="indefinite"/>
                      </p:stCondLst>
                      <p:childTnLst>
                        <p:par>
                          <p:cTn id="3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nodeType="clickEffect" fill="hold">
                      <p:stCondLst>
                        <p:cond delay="indefinite"/>
                      </p:stCondLst>
                      <p:childTnLst>
                        <p:par>
                          <p:cTn id="3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nodeType="clickEffect" fill="hold">
                      <p:stCondLst>
                        <p:cond delay="indefinite"/>
                      </p:stCondLst>
                      <p:childTnLst>
                        <p:par>
                          <p:cTn id="3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nodeType="clickEffect" fill="hold">
                      <p:stCondLst>
                        <p:cond delay="indefinite"/>
                      </p:stCondLst>
                      <p:childTnLst>
                        <p:par>
                          <p:cTn id="3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nodeType="clickEffect" fill="hold">
                      <p:stCondLst>
                        <p:cond delay="indefinite"/>
                      </p:stCondLst>
                      <p:childTnLst>
                        <p:par>
                          <p:cTn id="3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7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8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nodeType="clickEffect" fill="hold">
                      <p:stCondLst>
                        <p:cond delay="indefinite"/>
                      </p:stCondLst>
                      <p:childTnLst>
                        <p:par>
                          <p:cTn id="3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nodeType="clickEffect" fill="hold">
                      <p:stCondLst>
                        <p:cond delay="indefinite"/>
                      </p:stCondLst>
                      <p:childTnLst>
                        <p:par>
                          <p:cTn id="3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0" nodeType="clickEffect" fill="hold">
                      <p:stCondLst>
                        <p:cond delay="indefinite"/>
                      </p:stCondLst>
                      <p:childTnLst>
                        <p:par>
                          <p:cTn id="3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5" nodeType="clickEffect" fill="hold">
                      <p:stCondLst>
                        <p:cond delay="indefinite"/>
                      </p:stCondLst>
                      <p:childTnLst>
                        <p:par>
                          <p:cTn id="3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nodeType="clickEffect" fill="hold">
                      <p:stCondLst>
                        <p:cond delay="indefinite"/>
                      </p:stCondLst>
                      <p:childTnLst>
                        <p:par>
                          <p:cTn id="3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nodeType="clickEffect" fill="hold">
                      <p:stCondLst>
                        <p:cond delay="indefinite"/>
                      </p:stCondLst>
                      <p:childTnLst>
                        <p:par>
                          <p:cTn id="3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nodeType="clickEffect" fill="hold">
                      <p:stCondLst>
                        <p:cond delay="indefinite"/>
                      </p:stCondLst>
                      <p:childTnLst>
                        <p:par>
                          <p:cTn id="4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5" nodeType="clickEffect" fill="hold">
                      <p:stCondLst>
                        <p:cond delay="indefinite"/>
                      </p:stCondLst>
                      <p:childTnLst>
                        <p:par>
                          <p:cTn id="4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0" nodeType="clickEffect" fill="hold">
                      <p:stCondLst>
                        <p:cond delay="indefinite"/>
                      </p:stCondLst>
                      <p:childTnLst>
                        <p:par>
                          <p:cTn id="4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nodeType="clickEffect" fill="hold">
                      <p:stCondLst>
                        <p:cond delay="indefinite"/>
                      </p:stCondLst>
                      <p:childTnLst>
                        <p:par>
                          <p:cTn id="4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0" nodeType="clickEffect" fill="hold">
                      <p:stCondLst>
                        <p:cond delay="indefinite"/>
                      </p:stCondLst>
                      <p:childTnLst>
                        <p:par>
                          <p:cTn id="4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nodeType="clickEffect" fill="hold">
                      <p:stCondLst>
                        <p:cond delay="indefinite"/>
                      </p:stCondLst>
                      <p:childTnLst>
                        <p:par>
                          <p:cTn id="4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0" nodeType="clickEffect" fill="hold">
                      <p:stCondLst>
                        <p:cond delay="indefinite"/>
                      </p:stCondLst>
                      <p:childTnLst>
                        <p:par>
                          <p:cTn id="4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5" nodeType="clickEffect" fill="hold">
                      <p:stCondLst>
                        <p:cond delay="indefinite"/>
                      </p:stCondLst>
                      <p:childTnLst>
                        <p:par>
                          <p:cTn id="4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0" nodeType="clickEffect" fill="hold">
                      <p:stCondLst>
                        <p:cond delay="indefinite"/>
                      </p:stCondLst>
                      <p:childTnLst>
                        <p:par>
                          <p:cTn id="4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nodeType="clickEffect" fill="hold">
                      <p:stCondLst>
                        <p:cond delay="indefinite"/>
                      </p:stCondLst>
                      <p:childTnLst>
                        <p:par>
                          <p:cTn id="4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nodeType="clickEffect" fill="hold">
                      <p:stCondLst>
                        <p:cond delay="indefinite"/>
                      </p:stCondLst>
                      <p:childTnLst>
                        <p:par>
                          <p:cTn id="4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nodeType="clickEffect" fill="hold">
                      <p:stCondLst>
                        <p:cond delay="indefinite"/>
                      </p:stCondLst>
                      <p:childTnLst>
                        <p:par>
                          <p:cTn id="4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6" nodeType="clickEffect" fill="hold">
                      <p:stCondLst>
                        <p:cond delay="indefinite"/>
                      </p:stCondLst>
                      <p:childTnLst>
                        <p:par>
                          <p:cTn id="4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7" nodeType="clickEffect" fill="hold">
                      <p:stCondLst>
                        <p:cond delay="indefinite"/>
                      </p:stCondLst>
                      <p:childTnLst>
                        <p:par>
                          <p:cTn id="4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2" nodeType="clickEffect" fill="hold">
                      <p:stCondLst>
                        <p:cond delay="indefinite"/>
                      </p:stCondLst>
                      <p:childTnLst>
                        <p:par>
                          <p:cTn id="4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7" nodeType="clickEffect" fill="hold">
                      <p:stCondLst>
                        <p:cond delay="indefinite"/>
                      </p:stCondLst>
                      <p:childTnLst>
                        <p:par>
                          <p:cTn id="4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nodeType="clickEffect" fill="hold">
                      <p:stCondLst>
                        <p:cond delay="indefinite"/>
                      </p:stCondLst>
                      <p:childTnLst>
                        <p:par>
                          <p:cTn id="4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7" nodeType="clickEffect" fill="hold">
                      <p:stCondLst>
                        <p:cond delay="indefinite"/>
                      </p:stCondLst>
                      <p:childTnLst>
                        <p:par>
                          <p:cTn id="4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nodeType="clickEffect" fill="hold">
                      <p:stCondLst>
                        <p:cond delay="indefinite"/>
                      </p:stCondLst>
                      <p:childTnLst>
                        <p:par>
                          <p:cTn id="4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nodeType="clickEffect" fill="hold">
                      <p:stCondLst>
                        <p:cond delay="indefinite"/>
                      </p:stCondLst>
                      <p:childTnLst>
                        <p:par>
                          <p:cTn id="4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2" nodeType="clickEffect" fill="hold">
                      <p:stCondLst>
                        <p:cond delay="indefinite"/>
                      </p:stCondLst>
                      <p:childTnLst>
                        <p:par>
                          <p:cTn id="4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nodeType="clickEffect" fill="hold">
                      <p:stCondLst>
                        <p:cond delay="indefinite"/>
                      </p:stCondLst>
                      <p:childTnLst>
                        <p:par>
                          <p:cTn id="4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3" descr=""/>
          <p:cNvPicPr/>
          <p:nvPr/>
        </p:nvPicPr>
        <p:blipFill>
          <a:blip r:embed="rId1"/>
          <a:stretch/>
        </p:blipFill>
        <p:spPr>
          <a:xfrm>
            <a:off x="609480" y="1700280"/>
            <a:ext cx="7239240" cy="33973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4" descr=""/>
          <p:cNvPicPr/>
          <p:nvPr/>
        </p:nvPicPr>
        <p:blipFill>
          <a:blip r:embed="rId2"/>
          <a:stretch/>
        </p:blipFill>
        <p:spPr>
          <a:xfrm>
            <a:off x="1494000" y="0"/>
            <a:ext cx="5470200" cy="1268280"/>
          </a:xfrm>
          <a:prstGeom prst="rect">
            <a:avLst/>
          </a:prstGeom>
          <a:ln w="0">
            <a:noFill/>
          </a:ln>
        </p:spPr>
      </p:pic>
      <p:sp>
        <p:nvSpPr>
          <p:cNvPr id="861" name="Выгнутая вверх стрелка 6"/>
          <p:cNvSpPr/>
          <p:nvPr/>
        </p:nvSpPr>
        <p:spPr>
          <a:xfrm flipV="1" rot="3223800">
            <a:off x="843480" y="3206520"/>
            <a:ext cx="2290680" cy="796680"/>
          </a:xfrm>
          <a:custGeom>
            <a:avLst/>
            <a:gdLst>
              <a:gd name="textAreaLeft" fmla="*/ 497880 w 2290680"/>
              <a:gd name="textAreaRight" fmla="*/ 1693080 w 2290680"/>
              <a:gd name="textAreaTop" fmla="*/ 106560 h 796680"/>
              <a:gd name="textAreaBottom" fmla="*/ 690120 h 79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90" hR="21600" stAng="10800000" swAng="5400000"/>
                <a:lnTo>
                  <a:pt x="11271" y="0"/>
                </a:lnTo>
                <a:arcTo wR="9390" hR="21600" stAng="-5400000" swAng="3557454"/>
                <a:lnTo>
                  <a:pt x="21302" y="16200"/>
                </a:lnTo>
                <a:lnTo>
                  <a:pt x="19720" y="21600"/>
                </a:lnTo>
                <a:lnTo>
                  <a:pt x="17541" y="16200"/>
                </a:lnTo>
                <a:lnTo>
                  <a:pt x="18481" y="16200"/>
                </a:lnTo>
                <a:arcTo wR="9390" hR="21600" stAng="-1842546" swAng="-3407108"/>
                <a:lnTo>
                  <a:pt x="10330" y="109"/>
                </a:lnTo>
                <a:arcTo wR="9390" hR="21600" stAng="-5550346" swAng="-5249654"/>
                <a:close/>
              </a:path>
              <a:path fill="darkenLess" w="21600" h="21600">
                <a:moveTo>
                  <a:pt x="0" y="21600"/>
                </a:moveTo>
                <a:arcTo wR="9390" hR="21600" stAng="10800000" swAng="5400000"/>
                <a:lnTo>
                  <a:pt x="9390" y="0"/>
                </a:lnTo>
                <a:arcTo wR="9390" hR="21600" stAng="-5400000" swAng="150346"/>
                <a:lnTo>
                  <a:pt x="10330" y="109"/>
                </a:lnTo>
                <a:arcTo wR="9390" hR="21600" stAng="-5550346" swAng="-5249654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Стрелка вниз 2"/>
          <p:cNvSpPr/>
          <p:nvPr/>
        </p:nvSpPr>
        <p:spPr>
          <a:xfrm>
            <a:off x="6764400" y="3398760"/>
            <a:ext cx="199800" cy="37944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7030a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7" dur="indefinite" restart="never" nodeType="tmRoot">
          <p:childTnLst>
            <p:seq>
              <p:cTn id="4128" dur="indefinite" nodeType="mainSeq">
                <p:childTnLst>
                  <p:par>
                    <p:cTn id="4129" nodeType="clickEffect" fill="hold">
                      <p:stCondLst>
                        <p:cond delay="indefinite"/>
                      </p:stCondLst>
                      <p:childTnLst>
                        <p:par>
                          <p:cTn id="4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nodeType="clickEffect" fill="hold">
                      <p:stCondLst>
                        <p:cond delay="indefinite"/>
                      </p:stCondLst>
                      <p:childTnLst>
                        <p:par>
                          <p:cTn id="4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9" nodeType="clickEffect" fill="hold">
                      <p:stCondLst>
                        <p:cond delay="indefinite"/>
                      </p:stCondLst>
                      <p:childTnLst>
                        <p:par>
                          <p:cTn id="4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nodeType="clickEffect" fill="hold">
                      <p:stCondLst>
                        <p:cond delay="indefinite"/>
                      </p:stCondLst>
                      <p:childTnLst>
                        <p:par>
                          <p:cTn id="4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Скругленный прямоугольник 4"/>
          <p:cNvSpPr/>
          <p:nvPr/>
        </p:nvSpPr>
        <p:spPr>
          <a:xfrm>
            <a:off x="201600" y="2871720"/>
            <a:ext cx="2016000" cy="908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Box 3"/>
          <p:cNvSpPr/>
          <p:nvPr/>
        </p:nvSpPr>
        <p:spPr>
          <a:xfrm>
            <a:off x="520560" y="78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Виконай короткий запис задачі. Розв ' яжи задач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5"/>
          <p:cNvSpPr/>
          <p:nvPr/>
        </p:nvSpPr>
        <p:spPr>
          <a:xfrm>
            <a:off x="520560" y="1587600"/>
            <a:ext cx="806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Кіт Кузя запросив гратися 6 мишей. А кіт Мурчун – ще 2. Скільки мишей прийшло гратися до коті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Box 6"/>
          <p:cNvSpPr/>
          <p:nvPr/>
        </p:nvSpPr>
        <p:spPr>
          <a:xfrm>
            <a:off x="884160" y="33177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Правая фигурная скобка 8"/>
          <p:cNvSpPr/>
          <p:nvPr/>
        </p:nvSpPr>
        <p:spPr>
          <a:xfrm>
            <a:off x="1496880" y="3086280"/>
            <a:ext cx="258840" cy="533160"/>
          </a:xfrm>
          <a:custGeom>
            <a:avLst/>
            <a:gdLst>
              <a:gd name="textAreaLeft" fmla="*/ 0 w 258840"/>
              <a:gd name="textAreaRight" fmla="*/ 93600 w 258840"/>
              <a:gd name="textAreaTop" fmla="*/ 6480 h 533160"/>
              <a:gd name="textAreaBottom" fmla="*/ 5266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7"/>
                  <a:pt x="10800" y="873"/>
                </a:cubicBezTo>
                <a:lnTo>
                  <a:pt x="10800" y="9927"/>
                </a:lnTo>
                <a:cubicBezTo>
                  <a:pt x="10800" y="10364"/>
                  <a:pt x="16200" y="10800"/>
                  <a:pt x="21600" y="10800"/>
                </a:cubicBezTo>
                <a:cubicBezTo>
                  <a:pt x="16200" y="10800"/>
                  <a:pt x="10800" y="11237"/>
                  <a:pt x="10800" y="11673"/>
                </a:cubicBezTo>
                <a:lnTo>
                  <a:pt x="10800" y="20727"/>
                </a:lnTo>
                <a:cubicBezTo>
                  <a:pt x="10800" y="2116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Box 7"/>
          <p:cNvSpPr/>
          <p:nvPr/>
        </p:nvSpPr>
        <p:spPr>
          <a:xfrm>
            <a:off x="1698480" y="312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2" descr=""/>
          <p:cNvPicPr/>
          <p:nvPr/>
        </p:nvPicPr>
        <p:blipFill>
          <a:blip r:embed="rId1"/>
          <a:stretch/>
        </p:blipFill>
        <p:spPr>
          <a:xfrm>
            <a:off x="2660760" y="2608200"/>
            <a:ext cx="6315120" cy="1436760"/>
          </a:xfrm>
          <a:prstGeom prst="rect">
            <a:avLst/>
          </a:prstGeom>
          <a:ln w="0">
            <a:noFill/>
          </a:ln>
        </p:spPr>
      </p:pic>
      <p:sp>
        <p:nvSpPr>
          <p:cNvPr id="870" name="TextBox 66"/>
          <p:cNvSpPr/>
          <p:nvPr/>
        </p:nvSpPr>
        <p:spPr>
          <a:xfrm>
            <a:off x="201600" y="323208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М.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Box 67"/>
          <p:cNvSpPr/>
          <p:nvPr/>
        </p:nvSpPr>
        <p:spPr>
          <a:xfrm>
            <a:off x="849240" y="2890800"/>
            <a:ext cx="7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6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Box 68"/>
          <p:cNvSpPr/>
          <p:nvPr/>
        </p:nvSpPr>
        <p:spPr>
          <a:xfrm>
            <a:off x="201600" y="286380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К.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Box 69"/>
          <p:cNvSpPr/>
          <p:nvPr/>
        </p:nvSpPr>
        <p:spPr>
          <a:xfrm>
            <a:off x="520560" y="1587600"/>
            <a:ext cx="806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Кіт Кузя запросив гратися 6 мишей. А кіт Мурчун – ще 2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ільки мишей прийшло гратися до коті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70"/>
          <p:cNvSpPr/>
          <p:nvPr/>
        </p:nvSpPr>
        <p:spPr>
          <a:xfrm>
            <a:off x="520560" y="1587600"/>
            <a:ext cx="806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Кіт Кузя запросив гратися 6 мишей. А кіт Мурчун – ще 2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мишей прийшло гратися до коті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Овал 71"/>
          <p:cNvSpPr/>
          <p:nvPr/>
        </p:nvSpPr>
        <p:spPr>
          <a:xfrm>
            <a:off x="4348080" y="1587600"/>
            <a:ext cx="324000" cy="41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Овал 72"/>
          <p:cNvSpPr/>
          <p:nvPr/>
        </p:nvSpPr>
        <p:spPr>
          <a:xfrm>
            <a:off x="8115480" y="1617840"/>
            <a:ext cx="323640" cy="41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Выгнутая вверх стрелка 73"/>
          <p:cNvSpPr/>
          <p:nvPr/>
        </p:nvSpPr>
        <p:spPr>
          <a:xfrm>
            <a:off x="1812960" y="1341360"/>
            <a:ext cx="2576520" cy="352440"/>
          </a:xfrm>
          <a:custGeom>
            <a:avLst/>
            <a:gdLst>
              <a:gd name="textAreaLeft" fmla="*/ 610920 w 2576520"/>
              <a:gd name="textAreaRight" fmla="*/ 1921680 w 257652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46" hR="21600" stAng="10800000" swAng="5400000"/>
                <a:lnTo>
                  <a:pt x="10985" y="0"/>
                </a:lnTo>
                <a:arcTo wR="10246" hR="21600" stAng="-5400000" swAng="3686382"/>
                <a:lnTo>
                  <a:pt x="21275" y="16200"/>
                </a:lnTo>
                <a:lnTo>
                  <a:pt x="20862" y="21600"/>
                </a:lnTo>
                <a:lnTo>
                  <a:pt x="19798" y="16200"/>
                </a:lnTo>
                <a:lnTo>
                  <a:pt x="20167" y="16200"/>
                </a:lnTo>
                <a:arcTo wR="10246" hR="21600" stAng="-1713618" swAng="-3627541"/>
                <a:lnTo>
                  <a:pt x="10616" y="14"/>
                </a:lnTo>
                <a:arcTo wR="10246" hR="21600" stAng="-5458840" swAng="-5341160"/>
                <a:close/>
              </a:path>
              <a:path fill="darkenLess" w="21600" h="21600">
                <a:moveTo>
                  <a:pt x="0" y="21600"/>
                </a:moveTo>
                <a:arcTo wR="10246" hR="21600" stAng="10800000" swAng="5400000"/>
                <a:lnTo>
                  <a:pt x="10246" y="0"/>
                </a:lnTo>
                <a:arcTo wR="10246" hR="21600" stAng="-5400000" swAng="58840"/>
                <a:lnTo>
                  <a:pt x="10616" y="14"/>
                </a:lnTo>
                <a:arcTo wR="10246" hR="21600" stAng="-5458840" swAng="-5341160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Выгнутая вверх стрелка 74"/>
          <p:cNvSpPr/>
          <p:nvPr/>
        </p:nvSpPr>
        <p:spPr>
          <a:xfrm>
            <a:off x="7149960" y="1447920"/>
            <a:ext cx="1127160" cy="212760"/>
          </a:xfrm>
          <a:custGeom>
            <a:avLst/>
            <a:gdLst>
              <a:gd name="textAreaLeft" fmla="*/ 261720 w 1127160"/>
              <a:gd name="textAreaRight" fmla="*/ 838800 w 1127160"/>
              <a:gd name="textAreaTop" fmla="*/ 28440 h 212760"/>
              <a:gd name="textAreaBottom" fmla="*/ 1843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6" hR="21600" stAng="10800000" swAng="5400000"/>
                <a:lnTo>
                  <a:pt x="11056" y="0"/>
                </a:lnTo>
                <a:arcTo wR="10036" hR="21600" stAng="-5400000" swAng="3656248"/>
                <a:lnTo>
                  <a:pt x="21281" y="16200"/>
                </a:lnTo>
                <a:lnTo>
                  <a:pt x="20581" y="21600"/>
                </a:lnTo>
                <a:lnTo>
                  <a:pt x="19243" y="16200"/>
                </a:lnTo>
                <a:lnTo>
                  <a:pt x="19752" y="16200"/>
                </a:lnTo>
                <a:arcTo wR="10036" hR="21600" stAng="-1743752" swAng="-3574989"/>
                <a:lnTo>
                  <a:pt x="10546" y="28"/>
                </a:lnTo>
                <a:arcTo wR="10036" hR="21600" stAng="-5481259" swAng="-5318741"/>
                <a:close/>
              </a:path>
              <a:path fill="darkenLess" w="21600" h="21600">
                <a:moveTo>
                  <a:pt x="0" y="21600"/>
                </a:moveTo>
                <a:arcTo wR="10036" hR="21600" stAng="10800000" swAng="5400000"/>
                <a:lnTo>
                  <a:pt x="10036" y="0"/>
                </a:lnTo>
                <a:arcTo wR="10036" hR="21600" stAng="-5400000" swAng="81259"/>
                <a:lnTo>
                  <a:pt x="10546" y="28"/>
                </a:lnTo>
                <a:arcTo wR="10036" hR="21600" stAng="-5481259" swAng="-5318741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75"/>
          <p:cNvSpPr/>
          <p:nvPr/>
        </p:nvSpPr>
        <p:spPr>
          <a:xfrm>
            <a:off x="1322280" y="1579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уз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Box 76"/>
          <p:cNvSpPr/>
          <p:nvPr/>
        </p:nvSpPr>
        <p:spPr>
          <a:xfrm>
            <a:off x="6323040" y="159552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Мурчу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Выгнутая вверх стрелка 77"/>
          <p:cNvSpPr/>
          <p:nvPr/>
        </p:nvSpPr>
        <p:spPr>
          <a:xfrm flipH="1">
            <a:off x="1227240" y="1916280"/>
            <a:ext cx="2327040" cy="141120"/>
          </a:xfrm>
          <a:custGeom>
            <a:avLst/>
            <a:gdLst>
              <a:gd name="textAreaLeft" fmla="*/ 568800 w 2327040"/>
              <a:gd name="textAreaRight" fmla="*/ 1741320 w 2327040"/>
              <a:gd name="textAreaTop" fmla="*/ 18720 h 141120"/>
              <a:gd name="textAreaBottom" fmla="*/ 122400 h 14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4" hR="21600" stAng="10800000" swAng="5400000"/>
                <a:lnTo>
                  <a:pt x="10882" y="0"/>
                </a:lnTo>
                <a:arcTo wR="10554" hR="21600" stAng="-5400000" swAng="3728789"/>
                <a:lnTo>
                  <a:pt x="21265" y="16200"/>
                </a:lnTo>
                <a:lnTo>
                  <a:pt x="21272" y="21600"/>
                </a:lnTo>
                <a:lnTo>
                  <a:pt x="20609" y="16200"/>
                </a:lnTo>
                <a:lnTo>
                  <a:pt x="20773" y="16200"/>
                </a:lnTo>
                <a:arcTo wR="10554" hR="21600" stAng="-1671211" swAng="-3702685"/>
                <a:lnTo>
                  <a:pt x="10718" y="3"/>
                </a:lnTo>
                <a:arcTo wR="10554" hR="21600" stAng="-5426104" swAng="-5373896"/>
                <a:close/>
              </a:path>
              <a:path fill="darkenLess" w="21600" h="21600">
                <a:moveTo>
                  <a:pt x="0" y="21600"/>
                </a:moveTo>
                <a:arcTo wR="10554" hR="21600" stAng="10800000" swAng="5400000"/>
                <a:lnTo>
                  <a:pt x="10554" y="0"/>
                </a:lnTo>
                <a:arcTo wR="10554" hR="21600" stAng="-5400000" swAng="26104"/>
                <a:lnTo>
                  <a:pt x="10718" y="3"/>
                </a:lnTo>
                <a:arcTo wR="10554" hR="21600" stAng="-5426104" swAng="-5373896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78"/>
          <p:cNvSpPr/>
          <p:nvPr/>
        </p:nvSpPr>
        <p:spPr>
          <a:xfrm>
            <a:off x="7348680" y="2600280"/>
            <a:ext cx="6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Box 79"/>
          <p:cNvSpPr/>
          <p:nvPr/>
        </p:nvSpPr>
        <p:spPr>
          <a:xfrm>
            <a:off x="7792920" y="260028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Box 80"/>
          <p:cNvSpPr/>
          <p:nvPr/>
        </p:nvSpPr>
        <p:spPr>
          <a:xfrm>
            <a:off x="8312040" y="260820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Box 81"/>
          <p:cNvSpPr/>
          <p:nvPr/>
        </p:nvSpPr>
        <p:spPr>
          <a:xfrm>
            <a:off x="7385040" y="306072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 + 2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82"/>
          <p:cNvSpPr/>
          <p:nvPr/>
        </p:nvSpPr>
        <p:spPr>
          <a:xfrm>
            <a:off x="8334360" y="35305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Box 50"/>
          <p:cNvSpPr/>
          <p:nvPr/>
        </p:nvSpPr>
        <p:spPr>
          <a:xfrm>
            <a:off x="7411320" y="28843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Box 50"/>
          <p:cNvSpPr/>
          <p:nvPr/>
        </p:nvSpPr>
        <p:spPr>
          <a:xfrm>
            <a:off x="7597080" y="33433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Box 39"/>
          <p:cNvSpPr/>
          <p:nvPr/>
        </p:nvSpPr>
        <p:spPr>
          <a:xfrm>
            <a:off x="1793880" y="17557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сь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Box 40"/>
          <p:cNvSpPr/>
          <p:nvPr/>
        </p:nvSpPr>
        <p:spPr>
          <a:xfrm>
            <a:off x="3692520" y="266220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Box 41"/>
          <p:cNvSpPr/>
          <p:nvPr/>
        </p:nvSpPr>
        <p:spPr>
          <a:xfrm>
            <a:off x="4632480" y="2662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Box 42"/>
          <p:cNvSpPr/>
          <p:nvPr/>
        </p:nvSpPr>
        <p:spPr>
          <a:xfrm>
            <a:off x="3976560" y="395748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Прямая соединительная линия 43"/>
          <p:cNvSpPr/>
          <p:nvPr/>
        </p:nvSpPr>
        <p:spPr>
          <a:xfrm>
            <a:off x="3124080" y="3462480"/>
            <a:ext cx="1428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Прямая соединительная линия 44"/>
          <p:cNvSpPr/>
          <p:nvPr/>
        </p:nvSpPr>
        <p:spPr>
          <a:xfrm>
            <a:off x="4559400" y="3462480"/>
            <a:ext cx="50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Прямая соединительная линия 45"/>
          <p:cNvSpPr/>
          <p:nvPr/>
        </p:nvSpPr>
        <p:spPr>
          <a:xfrm flipV="1">
            <a:off x="3124080" y="33699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Прямая соединительная линия 46"/>
          <p:cNvSpPr/>
          <p:nvPr/>
        </p:nvSpPr>
        <p:spPr>
          <a:xfrm flipV="1">
            <a:off x="4552920" y="33429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Прямая соединительная линия 47"/>
          <p:cNvSpPr/>
          <p:nvPr/>
        </p:nvSpPr>
        <p:spPr>
          <a:xfrm flipV="1">
            <a:off x="4560840" y="33588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Прямая соединительная линия 48"/>
          <p:cNvSpPr/>
          <p:nvPr/>
        </p:nvSpPr>
        <p:spPr>
          <a:xfrm flipV="1">
            <a:off x="5065560" y="33699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Правая круглая скобка 49"/>
          <p:cNvSpPr/>
          <p:nvPr/>
        </p:nvSpPr>
        <p:spPr>
          <a:xfrm flipH="1" rot="5400000">
            <a:off x="3703680" y="2494440"/>
            <a:ext cx="268200" cy="1428840"/>
          </a:xfrm>
          <a:custGeom>
            <a:avLst/>
            <a:gdLst>
              <a:gd name="textAreaLeft" fmla="*/ 0 w 268200"/>
              <a:gd name="textAreaRight" fmla="*/ 188280 w 268200"/>
              <a:gd name="textAreaTop" fmla="*/ 268200 h 1428840"/>
              <a:gd name="textAreaBottom" fmla="*/ 116064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055"/>
                  <a:pt x="21600" y="8110"/>
                </a:cubicBezTo>
                <a:lnTo>
                  <a:pt x="21600" y="13490"/>
                </a:lnTo>
                <a:cubicBezTo>
                  <a:pt x="21600" y="17545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Правая круглая скобка 50"/>
          <p:cNvSpPr/>
          <p:nvPr/>
        </p:nvSpPr>
        <p:spPr>
          <a:xfrm flipH="1" rot="5400000">
            <a:off x="4700520" y="2994480"/>
            <a:ext cx="243000" cy="485640"/>
          </a:xfrm>
          <a:custGeom>
            <a:avLst/>
            <a:gdLst>
              <a:gd name="textAreaLeft" fmla="*/ -360 w 243000"/>
              <a:gd name="textAreaRight" fmla="*/ 170280 w 243000"/>
              <a:gd name="textAreaTop" fmla="*/ 242640 h 485640"/>
              <a:gd name="textAreaBottom" fmla="*/ 243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0797"/>
                  <a:pt x="21600" y="21594"/>
                </a:cubicBezTo>
                <a:lnTo>
                  <a:pt x="21600" y="6"/>
                </a:lnTo>
                <a:cubicBezTo>
                  <a:pt x="21600" y="1080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Правая круглая скобка 51"/>
          <p:cNvSpPr/>
          <p:nvPr/>
        </p:nvSpPr>
        <p:spPr>
          <a:xfrm rot="5400000">
            <a:off x="3941280" y="2833560"/>
            <a:ext cx="328320" cy="1919160"/>
          </a:xfrm>
          <a:custGeom>
            <a:avLst/>
            <a:gdLst>
              <a:gd name="textAreaLeft" fmla="*/ 0 w 328320"/>
              <a:gd name="textAreaRight" fmla="*/ 230400 w 328320"/>
              <a:gd name="textAreaTop" fmla="*/ 328320 h 1919160"/>
              <a:gd name="textAreaBottom" fmla="*/ 1590840 h 19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698"/>
                  <a:pt x="21600" y="7395"/>
                </a:cubicBezTo>
                <a:lnTo>
                  <a:pt x="21600" y="14205"/>
                </a:lnTo>
                <a:cubicBezTo>
                  <a:pt x="21600" y="1790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9" dur="indefinite" restart="never" nodeType="tmRoot">
          <p:childTnLst>
            <p:seq>
              <p:cTn id="4150" dur="indefinite" nodeType="mainSeq">
                <p:childTnLst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1" nodeType="clickEffect" fill="hold">
                      <p:stCondLst>
                        <p:cond delay="indefinite"/>
                      </p:stCondLst>
                      <p:childTnLst>
                        <p:par>
                          <p:cTn id="4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6" nodeType="clickEffect" fill="hold">
                      <p:stCondLst>
                        <p:cond delay="indefinite"/>
                      </p:stCondLst>
                      <p:childTnLst>
                        <p:par>
                          <p:cTn id="4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9" nodeType="clickEffect" fill="hold">
                      <p:stCondLst>
                        <p:cond delay="indefinite"/>
                      </p:stCondLst>
                      <p:childTnLst>
                        <p:par>
                          <p:cTn id="4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nodeType="clickEffect" fill="hold">
                      <p:stCondLst>
                        <p:cond delay="indefinite"/>
                      </p:stCondLst>
                      <p:childTnLst>
                        <p:par>
                          <p:cTn id="4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7" nodeType="clickEffect" fill="hold">
                      <p:stCondLst>
                        <p:cond delay="indefinite"/>
                      </p:stCondLst>
                      <p:childTnLst>
                        <p:par>
                          <p:cTn id="4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1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2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nodeType="clickEffect" fill="hold">
                      <p:stCondLst>
                        <p:cond delay="indefinite"/>
                      </p:stCondLst>
                      <p:childTnLst>
                        <p:par>
                          <p:cTn id="4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9" nodeType="clickEffect" fill="hold">
                      <p:stCondLst>
                        <p:cond delay="indefinite"/>
                      </p:stCondLst>
                      <p:childTnLst>
                        <p:par>
                          <p:cTn id="4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4" nodeType="clickEffect" fill="hold">
                      <p:stCondLst>
                        <p:cond delay="indefinite"/>
                      </p:stCondLst>
                      <p:childTnLst>
                        <p:par>
                          <p:cTn id="4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nodeType="clickEffect" fill="hold">
                      <p:stCondLst>
                        <p:cond delay="indefinite"/>
                      </p:stCondLst>
                      <p:childTnLst>
                        <p:par>
                          <p:cTn id="4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4" nodeType="clickEffect" fill="hold">
                      <p:stCondLst>
                        <p:cond delay="indefinite"/>
                      </p:stCondLst>
                      <p:childTnLst>
                        <p:par>
                          <p:cTn id="4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9" nodeType="clickEffect" fill="hold">
                      <p:stCondLst>
                        <p:cond delay="indefinite"/>
                      </p:stCondLst>
                      <p:childTnLst>
                        <p:par>
                          <p:cTn id="4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4" nodeType="clickEffect" fill="hold">
                      <p:stCondLst>
                        <p:cond delay="indefinite"/>
                      </p:stCondLst>
                      <p:childTnLst>
                        <p:par>
                          <p:cTn id="4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fill="hold">
                      <p:stCondLst>
                        <p:cond delay="indefinite"/>
                      </p:stCondLst>
                      <p:childTnLst>
                        <p:par>
                          <p:cTn id="4250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3" fill="hold">
                      <p:stCondLst>
                        <p:cond delay="indefinite"/>
                      </p:stCondLst>
                      <p:childTnLst>
                        <p:par>
                          <p:cTn id="4254" fill="hold">
                            <p:stCondLst>
                              <p:cond delay="0"/>
                            </p:stCondLst>
                            <p:childTnLst>
                              <p:par>
                                <p:cTn id="4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3" fill="hold">
                      <p:stCondLst>
                        <p:cond delay="indefinite"/>
                      </p:stCondLst>
                      <p:childTnLst>
                        <p:par>
                          <p:cTn id="4264" fill="hold">
                            <p:stCondLst>
                              <p:cond delay="0"/>
                            </p:stCondLst>
                            <p:childTnLst>
                              <p:par>
                                <p:cTn id="4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8" fill="hold">
                      <p:stCondLst>
                        <p:cond delay="indefinite"/>
                      </p:stCondLst>
                      <p:childTnLst>
                        <p:par>
                          <p:cTn id="4269" fill="hold">
                            <p:stCondLst>
                              <p:cond delay="0"/>
                            </p:stCondLst>
                            <p:childTnLst>
                              <p:par>
                                <p:cTn id="4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3" fill="hold">
                      <p:stCondLst>
                        <p:cond delay="indefinite"/>
                      </p:stCondLst>
                      <p:childTnLst>
                        <p:par>
                          <p:cTn id="4274" fill="hold">
                            <p:stCondLst>
                              <p:cond delay="0"/>
                            </p:stCondLst>
                            <p:childTnLst>
                              <p:par>
                                <p:cTn id="4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1" fill="hold">
                      <p:stCondLst>
                        <p:cond delay="indefinite"/>
                      </p:stCondLst>
                      <p:childTnLst>
                        <p:par>
                          <p:cTn id="4292" fill="hold">
                            <p:stCondLst>
                              <p:cond delay="0"/>
                            </p:stCondLst>
                            <p:childTnLst>
                              <p:par>
                                <p:cTn id="4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fill="hold">
                      <p:stCondLst>
                        <p:cond delay="indefinite"/>
                      </p:stCondLst>
                      <p:childTnLst>
                        <p:par>
                          <p:cTn id="4297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1" fill="hold">
                      <p:stCondLst>
                        <p:cond delay="indefinite"/>
                      </p:stCondLst>
                      <p:childTnLst>
                        <p:par>
                          <p:cTn id="4302" fill="hold">
                            <p:stCondLst>
                              <p:cond delay="0"/>
                            </p:stCondLst>
                            <p:childTnLst>
                              <p:par>
                                <p:cTn id="4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4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5" fill="hold">
                      <p:stCondLst>
                        <p:cond delay="indefinite"/>
                      </p:stCondLst>
                      <p:childTnLst>
                        <p:par>
                          <p:cTn id="4316" fill="hold">
                            <p:stCondLst>
                              <p:cond delay="0"/>
                            </p:stCondLst>
                            <p:childTnLst>
                              <p:par>
                                <p:cTn id="4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0" fill="hold">
                      <p:stCondLst>
                        <p:cond delay="indefinite"/>
                      </p:stCondLst>
                      <p:childTnLst>
                        <p:par>
                          <p:cTn id="4321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fill="hold">
                      <p:stCondLst>
                        <p:cond delay="indefinite"/>
                      </p:stCondLst>
                      <p:childTnLst>
                        <p:par>
                          <p:cTn id="4326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0" fill="hold">
                      <p:stCondLst>
                        <p:cond delay="indefinite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5" fill="hold">
                      <p:stCondLst>
                        <p:cond delay="indefinite"/>
                      </p:stCondLst>
                      <p:childTnLst>
                        <p:par>
                          <p:cTn id="4336" fill="hold">
                            <p:stCondLst>
                              <p:cond delay="0"/>
                            </p:stCondLst>
                            <p:childTnLst>
                              <p:par>
                                <p:cTn id="4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0" fill="hold">
                      <p:stCondLst>
                        <p:cond delay="indefinite"/>
                      </p:stCondLst>
                      <p:childTnLst>
                        <p:par>
                          <p:cTn id="4341" fill="hold">
                            <p:stCondLst>
                              <p:cond delay="0"/>
                            </p:stCondLst>
                            <p:childTnLst>
                              <p:par>
                                <p:cTn id="4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0" fill="hold">
                      <p:stCondLst>
                        <p:cond delay="indefinite"/>
                      </p:stCondLst>
                      <p:childTnLst>
                        <p:par>
                          <p:cTn id="4351" fill="hold">
                            <p:stCondLst>
                              <p:cond delay="0"/>
                            </p:stCondLst>
                            <p:childTnLst>
                              <p:par>
                                <p:cTn id="4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Box 3"/>
          <p:cNvSpPr/>
          <p:nvPr/>
        </p:nvSpPr>
        <p:spPr>
          <a:xfrm>
            <a:off x="250920" y="795240"/>
            <a:ext cx="80661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Пес Рекс приховав 4 кісточки, а пес Матрос – 7. На скільки більше кісточок приховав Матро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Скругленный прямоугольник 4"/>
          <p:cNvSpPr/>
          <p:nvPr/>
        </p:nvSpPr>
        <p:spPr>
          <a:xfrm>
            <a:off x="88920" y="2349360"/>
            <a:ext cx="2416320" cy="908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Правая круглая скобка 8"/>
          <p:cNvSpPr/>
          <p:nvPr/>
        </p:nvSpPr>
        <p:spPr>
          <a:xfrm>
            <a:off x="1432080" y="2484360"/>
            <a:ext cx="276120" cy="593640"/>
          </a:xfrm>
          <a:custGeom>
            <a:avLst/>
            <a:gdLst>
              <a:gd name="textAreaLeft" fmla="*/ 0 w 276120"/>
              <a:gd name="textAreaRight" fmla="*/ 193680 w 276120"/>
              <a:gd name="textAreaTop" fmla="*/ 11160 h 593640"/>
              <a:gd name="textAreaBottom" fmla="*/ 58248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19"/>
                  <a:pt x="21600" y="837"/>
                </a:cubicBezTo>
                <a:lnTo>
                  <a:pt x="21600" y="20763"/>
                </a:lnTo>
                <a:cubicBezTo>
                  <a:pt x="21600" y="21182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Прямая со стрелкой 9"/>
          <p:cNvCxnSpPr/>
          <p:nvPr/>
        </p:nvCxnSpPr>
        <p:spPr>
          <a:xfrm flipH="1">
            <a:off x="1353600" y="2484000"/>
            <a:ext cx="216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6" name="Прямая со стрелкой 10"/>
          <p:cNvCxnSpPr/>
          <p:nvPr/>
        </p:nvCxnSpPr>
        <p:spPr>
          <a:xfrm flipH="1">
            <a:off x="1353600" y="3072960"/>
            <a:ext cx="216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07" name="TextBox 11"/>
          <p:cNvSpPr/>
          <p:nvPr/>
        </p:nvSpPr>
        <p:spPr>
          <a:xfrm>
            <a:off x="1805040" y="25322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на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Box 74"/>
          <p:cNvSpPr/>
          <p:nvPr/>
        </p:nvSpPr>
        <p:spPr>
          <a:xfrm>
            <a:off x="250920" y="795240"/>
            <a:ext cx="80661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Пес Рекс приховав 4 кісточки, а пес Матрос – 7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 скільки більше кісточок приховав Матро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Box 78"/>
          <p:cNvSpPr/>
          <p:nvPr/>
        </p:nvSpPr>
        <p:spPr>
          <a:xfrm>
            <a:off x="258840" y="795240"/>
            <a:ext cx="80661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Пес Рекс приховав 4 кісточки, а пес Матрос – 7.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На скільки більше кісточок приховав Матро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Picture 2" descr=""/>
          <p:cNvPicPr/>
          <p:nvPr/>
        </p:nvPicPr>
        <p:blipFill>
          <a:blip r:embed="rId1"/>
          <a:stretch/>
        </p:blipFill>
        <p:spPr>
          <a:xfrm>
            <a:off x="2646360" y="2205000"/>
            <a:ext cx="6315120" cy="1436760"/>
          </a:xfrm>
          <a:prstGeom prst="rect">
            <a:avLst/>
          </a:prstGeom>
          <a:ln w="0">
            <a:noFill/>
          </a:ln>
        </p:spPr>
      </p:pic>
      <p:sp>
        <p:nvSpPr>
          <p:cNvPr id="911" name="Овал 80"/>
          <p:cNvSpPr/>
          <p:nvPr/>
        </p:nvSpPr>
        <p:spPr>
          <a:xfrm>
            <a:off x="6559560" y="800280"/>
            <a:ext cx="324000" cy="41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Овал 81"/>
          <p:cNvSpPr/>
          <p:nvPr/>
        </p:nvSpPr>
        <p:spPr>
          <a:xfrm>
            <a:off x="3090960" y="793800"/>
            <a:ext cx="323640" cy="417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Выгнутая вверх стрелка 82"/>
          <p:cNvSpPr/>
          <p:nvPr/>
        </p:nvSpPr>
        <p:spPr>
          <a:xfrm>
            <a:off x="1542960" y="492120"/>
            <a:ext cx="1704960" cy="347760"/>
          </a:xfrm>
          <a:custGeom>
            <a:avLst/>
            <a:gdLst>
              <a:gd name="textAreaLeft" fmla="*/ 393480 w 1704960"/>
              <a:gd name="textAreaRight" fmla="*/ 1267920 w 1704960"/>
              <a:gd name="textAreaTop" fmla="*/ 46440 h 347760"/>
              <a:gd name="textAreaBottom" fmla="*/ 301320 h 3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74" hR="21600" stAng="10800000" swAng="5400000"/>
                <a:lnTo>
                  <a:pt x="11076" y="0"/>
                </a:lnTo>
                <a:arcTo wR="9974" hR="21600" stAng="-5400000" swAng="3647261"/>
                <a:lnTo>
                  <a:pt x="21283" y="16200"/>
                </a:lnTo>
                <a:lnTo>
                  <a:pt x="20499" y="21600"/>
                </a:lnTo>
                <a:lnTo>
                  <a:pt x="19081" y="16200"/>
                </a:lnTo>
                <a:lnTo>
                  <a:pt x="19631" y="16200"/>
                </a:lnTo>
                <a:arcTo wR="9974" hR="21600" stAng="-1752739" swAng="-3559451"/>
                <a:lnTo>
                  <a:pt x="10525" y="33"/>
                </a:lnTo>
                <a:arcTo wR="9974" hR="21600" stAng="-5487809" swAng="-5312191"/>
                <a:close/>
              </a:path>
              <a:path fill="darkenLess" w="21600" h="21600">
                <a:moveTo>
                  <a:pt x="0" y="21600"/>
                </a:moveTo>
                <a:arcTo wR="9974" hR="21600" stAng="10800000" swAng="5400000"/>
                <a:lnTo>
                  <a:pt x="9974" y="0"/>
                </a:lnTo>
                <a:arcTo wR="9974" hR="21600" stAng="-5400000" swAng="87809"/>
                <a:lnTo>
                  <a:pt x="10525" y="33"/>
                </a:lnTo>
                <a:arcTo wR="9974" hR="21600" stAng="-5487809" swAng="-5312191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Выгнутая вверх стрелка 84"/>
          <p:cNvSpPr/>
          <p:nvPr/>
        </p:nvSpPr>
        <p:spPr>
          <a:xfrm>
            <a:off x="5594400" y="485640"/>
            <a:ext cx="1127160" cy="354240"/>
          </a:xfrm>
          <a:custGeom>
            <a:avLst/>
            <a:gdLst>
              <a:gd name="textAreaLeft" fmla="*/ 248400 w 1127160"/>
              <a:gd name="textAreaRight" fmla="*/ 834480 w 1127160"/>
              <a:gd name="textAreaTop" fmla="*/ 47160 h 354240"/>
              <a:gd name="textAreaBottom" fmla="*/ 307080 h 35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8" hR="21600" stAng="10800000" swAng="5400000"/>
                <a:lnTo>
                  <a:pt x="11224" y="0"/>
                </a:lnTo>
                <a:arcTo wR="9528" hR="21600" stAng="-5400000" swAng="3579478"/>
                <a:lnTo>
                  <a:pt x="21297" y="16200"/>
                </a:lnTo>
                <a:lnTo>
                  <a:pt x="19904" y="21600"/>
                </a:lnTo>
                <a:lnTo>
                  <a:pt x="17905" y="16200"/>
                </a:lnTo>
                <a:lnTo>
                  <a:pt x="18753" y="16200"/>
                </a:lnTo>
                <a:arcTo wR="9528" hR="21600" stAng="-1820522" swAng="-3444047"/>
                <a:lnTo>
                  <a:pt x="10376" y="86"/>
                </a:lnTo>
                <a:arcTo wR="9528" hR="21600" stAng="-5535431" swAng="-5264569"/>
                <a:close/>
              </a:path>
              <a:path fill="darkenLess" w="21600" h="21600">
                <a:moveTo>
                  <a:pt x="0" y="21600"/>
                </a:moveTo>
                <a:arcTo wR="9528" hR="21600" stAng="10800000" swAng="5400000"/>
                <a:lnTo>
                  <a:pt x="9528" y="0"/>
                </a:lnTo>
                <a:arcTo wR="9528" hR="21600" stAng="-5400000" swAng="135431"/>
                <a:lnTo>
                  <a:pt x="10376" y="86"/>
                </a:lnTo>
                <a:arcTo wR="9528" hR="21600" stAng="-5535431" swAng="-5264569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Box 85"/>
          <p:cNvSpPr/>
          <p:nvPr/>
        </p:nvSpPr>
        <p:spPr>
          <a:xfrm>
            <a:off x="1149480" y="77796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е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Box 86"/>
          <p:cNvSpPr/>
          <p:nvPr/>
        </p:nvSpPr>
        <p:spPr>
          <a:xfrm>
            <a:off x="5278320" y="80172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Матр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Box 87"/>
          <p:cNvSpPr/>
          <p:nvPr/>
        </p:nvSpPr>
        <p:spPr>
          <a:xfrm>
            <a:off x="785880" y="26989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Box 88"/>
          <p:cNvSpPr/>
          <p:nvPr/>
        </p:nvSpPr>
        <p:spPr>
          <a:xfrm>
            <a:off x="146160" y="2692440"/>
            <a:ext cx="9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М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Box 89"/>
          <p:cNvSpPr/>
          <p:nvPr/>
        </p:nvSpPr>
        <p:spPr>
          <a:xfrm>
            <a:off x="785880" y="2359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4 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Box 90"/>
          <p:cNvSpPr/>
          <p:nvPr/>
        </p:nvSpPr>
        <p:spPr>
          <a:xfrm>
            <a:off x="146160" y="2368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Box 91"/>
          <p:cNvSpPr/>
          <p:nvPr/>
        </p:nvSpPr>
        <p:spPr>
          <a:xfrm>
            <a:off x="7372440" y="220500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Box 92"/>
          <p:cNvSpPr/>
          <p:nvPr/>
        </p:nvSpPr>
        <p:spPr>
          <a:xfrm>
            <a:off x="7823160" y="220500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Box 93"/>
          <p:cNvSpPr/>
          <p:nvPr/>
        </p:nvSpPr>
        <p:spPr>
          <a:xfrm>
            <a:off x="8283600" y="218772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Box 94"/>
          <p:cNvSpPr/>
          <p:nvPr/>
        </p:nvSpPr>
        <p:spPr>
          <a:xfrm>
            <a:off x="7362720" y="2666880"/>
            <a:ext cx="14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Box 95"/>
          <p:cNvSpPr/>
          <p:nvPr/>
        </p:nvSpPr>
        <p:spPr>
          <a:xfrm>
            <a:off x="8317080" y="3154320"/>
            <a:ext cx="4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50"/>
          <p:cNvSpPr/>
          <p:nvPr/>
        </p:nvSpPr>
        <p:spPr>
          <a:xfrm>
            <a:off x="7499520" y="24685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50"/>
          <p:cNvSpPr/>
          <p:nvPr/>
        </p:nvSpPr>
        <p:spPr>
          <a:xfrm>
            <a:off x="7873560" y="293364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Box 1"/>
          <p:cNvSpPr/>
          <p:nvPr/>
        </p:nvSpPr>
        <p:spPr>
          <a:xfrm>
            <a:off x="6870600" y="801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Box 5"/>
          <p:cNvSpPr/>
          <p:nvPr/>
        </p:nvSpPr>
        <p:spPr>
          <a:xfrm>
            <a:off x="1301760" y="1143000"/>
            <a:ext cx="14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Box 45"/>
          <p:cNvSpPr/>
          <p:nvPr/>
        </p:nvSpPr>
        <p:spPr>
          <a:xfrm>
            <a:off x="3736800" y="178920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Box 46"/>
          <p:cNvSpPr/>
          <p:nvPr/>
        </p:nvSpPr>
        <p:spPr>
          <a:xfrm>
            <a:off x="4259160" y="299412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Box 47"/>
          <p:cNvSpPr/>
          <p:nvPr/>
        </p:nvSpPr>
        <p:spPr>
          <a:xfrm>
            <a:off x="3367080" y="364176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Прямая соединительная линия 48"/>
          <p:cNvSpPr/>
          <p:nvPr/>
        </p:nvSpPr>
        <p:spPr>
          <a:xfrm>
            <a:off x="3060720" y="2589120"/>
            <a:ext cx="1712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Прямая соединительная линия 49"/>
          <p:cNvSpPr/>
          <p:nvPr/>
        </p:nvSpPr>
        <p:spPr>
          <a:xfrm>
            <a:off x="3087720" y="3281400"/>
            <a:ext cx="969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Прямая соединительная линия 50"/>
          <p:cNvSpPr/>
          <p:nvPr/>
        </p:nvSpPr>
        <p:spPr>
          <a:xfrm>
            <a:off x="4100400" y="2589120"/>
            <a:ext cx="646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Прямая соединительная линия 51"/>
          <p:cNvSpPr/>
          <p:nvPr/>
        </p:nvSpPr>
        <p:spPr>
          <a:xfrm flipV="1">
            <a:off x="3073320" y="24825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Прямая соединительная линия 52"/>
          <p:cNvSpPr/>
          <p:nvPr/>
        </p:nvSpPr>
        <p:spPr>
          <a:xfrm flipV="1">
            <a:off x="4784760" y="24825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Прямая соединительная линия 53"/>
          <p:cNvSpPr/>
          <p:nvPr/>
        </p:nvSpPr>
        <p:spPr>
          <a:xfrm flipV="1">
            <a:off x="3087720" y="317304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Прямая соединительная линия 54"/>
          <p:cNvSpPr/>
          <p:nvPr/>
        </p:nvSpPr>
        <p:spPr>
          <a:xfrm flipV="1">
            <a:off x="4048200" y="316692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Правая круглая скобка 55"/>
          <p:cNvSpPr/>
          <p:nvPr/>
        </p:nvSpPr>
        <p:spPr>
          <a:xfrm flipH="1" rot="5400000">
            <a:off x="3824280" y="1501920"/>
            <a:ext cx="231840" cy="1730160"/>
          </a:xfrm>
          <a:custGeom>
            <a:avLst/>
            <a:gdLst>
              <a:gd name="textAreaLeft" fmla="*/ 0 w 231840"/>
              <a:gd name="textAreaRight" fmla="*/ 162720 w 231840"/>
              <a:gd name="textAreaTop" fmla="*/ 231480 h 1730160"/>
              <a:gd name="textAreaBottom" fmla="*/ 1498680 h 17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93"/>
                  <a:pt x="21600" y="5785"/>
                </a:cubicBezTo>
                <a:lnTo>
                  <a:pt x="21600" y="15815"/>
                </a:lnTo>
                <a:cubicBezTo>
                  <a:pt x="21600" y="1870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Правая круглая скобка 56"/>
          <p:cNvSpPr/>
          <p:nvPr/>
        </p:nvSpPr>
        <p:spPr>
          <a:xfrm rot="5400000">
            <a:off x="3472920" y="3044520"/>
            <a:ext cx="231840" cy="962280"/>
          </a:xfrm>
          <a:custGeom>
            <a:avLst/>
            <a:gdLst>
              <a:gd name="textAreaLeft" fmla="*/ 0 w 231840"/>
              <a:gd name="textAreaRight" fmla="*/ 162720 w 231840"/>
              <a:gd name="textAreaTop" fmla="*/ 231840 h 962280"/>
              <a:gd name="textAreaBottom" fmla="*/ 730440 h 9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203"/>
                  <a:pt x="21600" y="10405"/>
                </a:cubicBezTo>
                <a:lnTo>
                  <a:pt x="21600" y="11195"/>
                </a:lnTo>
                <a:cubicBezTo>
                  <a:pt x="21600" y="1639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Правая круглая скобка 57"/>
          <p:cNvSpPr/>
          <p:nvPr/>
        </p:nvSpPr>
        <p:spPr>
          <a:xfrm rot="5400000">
            <a:off x="4321080" y="2446200"/>
            <a:ext cx="230040" cy="738000"/>
          </a:xfrm>
          <a:custGeom>
            <a:avLst/>
            <a:gdLst>
              <a:gd name="textAreaLeft" fmla="*/ 0 w 230040"/>
              <a:gd name="textAreaRight" fmla="*/ 161280 w 230040"/>
              <a:gd name="textAreaTop" fmla="*/ 230040 h 738000"/>
              <a:gd name="textAreaBottom" fmla="*/ 50796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734"/>
                  <a:pt x="21600" y="13467"/>
                </a:cubicBezTo>
                <a:lnTo>
                  <a:pt x="21600" y="8133"/>
                </a:lnTo>
                <a:cubicBezTo>
                  <a:pt x="21600" y="1486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Прямая соединительная линия 58"/>
          <p:cNvSpPr/>
          <p:nvPr/>
        </p:nvSpPr>
        <p:spPr>
          <a:xfrm flipH="1">
            <a:off x="3088800" y="270036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Прямая соединительная линия 59"/>
          <p:cNvSpPr/>
          <p:nvPr/>
        </p:nvSpPr>
        <p:spPr>
          <a:xfrm flipH="1">
            <a:off x="4046040" y="26827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5" dur="indefinite" restart="never" nodeType="tmRoot">
          <p:childTnLst>
            <p:seq>
              <p:cTn id="4356" dur="indefinite" nodeType="mainSeq">
                <p:childTnLst>
                  <p:par>
                    <p:cTn id="4357" nodeType="clickEffect" fill="hold">
                      <p:stCondLst>
                        <p:cond delay="indefinite"/>
                      </p:stCondLst>
                      <p:childTnLst>
                        <p:par>
                          <p:cTn id="4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2" nodeType="clickEffect" fill="hold">
                      <p:stCondLst>
                        <p:cond delay="indefinite"/>
                      </p:stCondLst>
                      <p:childTnLst>
                        <p:par>
                          <p:cTn id="4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7" nodeType="clickEffect" fill="hold">
                      <p:stCondLst>
                        <p:cond delay="indefinite"/>
                      </p:stCondLst>
                      <p:childTnLst>
                        <p:par>
                          <p:cTn id="4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nodeType="clickEffect" fill="hold">
                      <p:stCondLst>
                        <p:cond delay="indefinite"/>
                      </p:stCondLst>
                      <p:childTnLst>
                        <p:par>
                          <p:cTn id="4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6" nodeType="clickEffect" fill="hold">
                      <p:stCondLst>
                        <p:cond delay="indefinite"/>
                      </p:stCondLst>
                      <p:childTnLst>
                        <p:par>
                          <p:cTn id="4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0" nodeType="clickEffect" fill="hold">
                      <p:stCondLst>
                        <p:cond delay="indefinite"/>
                      </p:stCondLst>
                      <p:childTnLst>
                        <p:par>
                          <p:cTn id="4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5" nodeType="clickEffect" fill="hold">
                      <p:stCondLst>
                        <p:cond delay="indefinite"/>
                      </p:stCondLst>
                      <p:childTnLst>
                        <p:par>
                          <p:cTn id="4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9" nodeType="clickEffect" fill="hold">
                      <p:stCondLst>
                        <p:cond delay="indefinite"/>
                      </p:stCondLst>
                      <p:childTnLst>
                        <p:par>
                          <p:cTn id="4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4" nodeType="clickEffect" fill="hold">
                      <p:stCondLst>
                        <p:cond delay="indefinite"/>
                      </p:stCondLst>
                      <p:childTnLst>
                        <p:par>
                          <p:cTn id="4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nodeType="clickEffect" fill="hold">
                      <p:stCondLst>
                        <p:cond delay="indefinite"/>
                      </p:stCondLst>
                      <p:childTnLst>
                        <p:par>
                          <p:cTn id="4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2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3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5" nodeType="clickEffect" fill="hold">
                      <p:stCondLst>
                        <p:cond delay="indefinite"/>
                      </p:stCondLst>
                      <p:childTnLst>
                        <p:par>
                          <p:cTn id="4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nodeType="clickEffect" fill="hold">
                      <p:stCondLst>
                        <p:cond delay="indefinite"/>
                      </p:stCondLst>
                      <p:childTnLst>
                        <p:par>
                          <p:cTn id="4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nodeType="clickEffect" fill="hold">
                      <p:stCondLst>
                        <p:cond delay="indefinite"/>
                      </p:stCondLst>
                      <p:childTnLst>
                        <p:par>
                          <p:cTn id="4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0" nodeType="clickEffect" fill="hold">
                      <p:stCondLst>
                        <p:cond delay="indefinite"/>
                      </p:stCondLst>
                      <p:childTnLst>
                        <p:par>
                          <p:cTn id="4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5" nodeType="clickEffect" fill="hold">
                      <p:stCondLst>
                        <p:cond delay="indefinite"/>
                      </p:stCondLst>
                      <p:childTnLst>
                        <p:par>
                          <p:cTn id="4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0" nodeType="clickEffect" fill="hold">
                      <p:stCondLst>
                        <p:cond delay="indefinite"/>
                      </p:stCondLst>
                      <p:childTnLst>
                        <p:par>
                          <p:cTn id="4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5" nodeType="clickEffect" fill="hold">
                      <p:stCondLst>
                        <p:cond delay="indefinite"/>
                      </p:stCondLst>
                      <p:childTnLst>
                        <p:par>
                          <p:cTn id="4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0" nodeType="clickEffect" fill="hold">
                      <p:stCondLst>
                        <p:cond delay="indefinite"/>
                      </p:stCondLst>
                      <p:childTnLst>
                        <p:par>
                          <p:cTn id="4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5" fill="hold">
                      <p:stCondLst>
                        <p:cond delay="indefinite"/>
                      </p:stCondLst>
                      <p:childTnLst>
                        <p:par>
                          <p:cTn id="4446" fill="hold">
                            <p:stCondLst>
                              <p:cond delay="0"/>
                            </p:stCondLst>
                            <p:childTnLst>
                              <p:par>
                                <p:cTn id="4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4" fill="hold">
                      <p:stCondLst>
                        <p:cond delay="indefinite"/>
                      </p:stCondLst>
                      <p:childTnLst>
                        <p:par>
                          <p:cTn id="4465" fill="hold">
                            <p:stCondLst>
                              <p:cond delay="0"/>
                            </p:stCondLst>
                            <p:childTnLst>
                              <p:par>
                                <p:cTn id="4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9" fill="hold">
                      <p:stCondLst>
                        <p:cond delay="indefinite"/>
                      </p:stCondLst>
                      <p:childTnLst>
                        <p:par>
                          <p:cTn id="4470" fill="hold">
                            <p:stCondLst>
                              <p:cond delay="0"/>
                            </p:stCondLst>
                            <p:childTnLst>
                              <p:par>
                                <p:cTn id="4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4" fill="hold">
                      <p:stCondLst>
                        <p:cond delay="indefinite"/>
                      </p:stCondLst>
                      <p:childTnLst>
                        <p:par>
                          <p:cTn id="4475" fill="hold">
                            <p:stCondLst>
                              <p:cond delay="0"/>
                            </p:stCondLst>
                            <p:childTnLst>
                              <p:par>
                                <p:cTn id="4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9" fill="hold">
                      <p:stCondLst>
                        <p:cond delay="indefinite"/>
                      </p:stCondLst>
                      <p:childTnLst>
                        <p:par>
                          <p:cTn id="4480" fill="hold">
                            <p:stCondLst>
                              <p:cond delay="0"/>
                            </p:stCondLst>
                            <p:childTnLst>
                              <p:par>
                                <p:cTn id="4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4" fill="hold">
                      <p:stCondLst>
                        <p:cond delay="indefinite"/>
                      </p:stCondLst>
                      <p:childTnLst>
                        <p:par>
                          <p:cTn id="4485" fill="hold">
                            <p:stCondLst>
                              <p:cond delay="0"/>
                            </p:stCondLst>
                            <p:childTnLst>
                              <p:par>
                                <p:cTn id="4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0" fill="hold">
                      <p:stCondLst>
                        <p:cond delay="indefinite"/>
                      </p:stCondLst>
                      <p:childTnLst>
                        <p:par>
                          <p:cTn id="4501" fill="hold">
                            <p:stCondLst>
                              <p:cond delay="0"/>
                            </p:stCondLst>
                            <p:childTnLst>
                              <p:par>
                                <p:cTn id="4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5" fill="hold">
                      <p:stCondLst>
                        <p:cond delay="indefinite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0" fill="hold">
                      <p:stCondLst>
                        <p:cond delay="indefinite"/>
                      </p:stCondLst>
                      <p:childTnLst>
                        <p:par>
                          <p:cTn id="4511" fill="hold">
                            <p:stCondLst>
                              <p:cond delay="0"/>
                            </p:stCondLst>
                            <p:childTnLst>
                              <p:par>
                                <p:cTn id="4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8" fill="hold">
                      <p:stCondLst>
                        <p:cond delay="indefinite"/>
                      </p:stCondLst>
                      <p:childTnLst>
                        <p:par>
                          <p:cTn id="4519" fill="hold">
                            <p:stCondLst>
                              <p:cond delay="0"/>
                            </p:stCondLst>
                            <p:childTnLst>
                              <p:par>
                                <p:cTn id="4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9" fill="hold">
                      <p:stCondLst>
                        <p:cond delay="indefinite"/>
                      </p:stCondLst>
                      <p:childTnLst>
                        <p:par>
                          <p:cTn id="4530" fill="hold">
                            <p:stCondLst>
                              <p:cond delay="0"/>
                            </p:stCondLst>
                            <p:childTnLst>
                              <p:par>
                                <p:cTn id="4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4" fill="hold">
                      <p:stCondLst>
                        <p:cond delay="indefinite"/>
                      </p:stCondLst>
                      <p:childTnLst>
                        <p:par>
                          <p:cTn id="4535" fill="hold">
                            <p:stCondLst>
                              <p:cond delay="0"/>
                            </p:stCondLst>
                            <p:childTnLst>
                              <p:par>
                                <p:cTn id="4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4" fill="hold">
                      <p:stCondLst>
                        <p:cond delay="indefinite"/>
                      </p:stCondLst>
                      <p:childTnLst>
                        <p:par>
                          <p:cTn id="4545" fill="hold">
                            <p:stCondLst>
                              <p:cond delay="0"/>
                            </p:stCondLst>
                            <p:childTnLst>
                              <p:par>
                                <p:cTn id="4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9" fill="hold">
                      <p:stCondLst>
                        <p:cond delay="indefinite"/>
                      </p:stCondLst>
                      <p:childTnLst>
                        <p:par>
                          <p:cTn id="4550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4" fill="hold">
                      <p:stCondLst>
                        <p:cond delay="indefinite"/>
                      </p:stCondLst>
                      <p:childTnLst>
                        <p:par>
                          <p:cTn id="4555" fill="hold">
                            <p:stCondLst>
                              <p:cond delay="0"/>
                            </p:stCondLst>
                            <p:childTnLst>
                              <p:par>
                                <p:cTn id="4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9" fill="hold">
                      <p:stCondLst>
                        <p:cond delay="indefinite"/>
                      </p:stCondLst>
                      <p:childTnLst>
                        <p:par>
                          <p:cTn id="4560" fill="hold">
                            <p:stCondLst>
                              <p:cond delay="0"/>
                            </p:stCondLst>
                            <p:childTnLst>
                              <p:par>
                                <p:cTn id="4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4" fill="hold">
                      <p:stCondLst>
                        <p:cond delay="indefinite"/>
                      </p:stCondLst>
                      <p:childTnLst>
                        <p:par>
                          <p:cTn id="4565" fill="hold">
                            <p:stCondLst>
                              <p:cond delay="0"/>
                            </p:stCondLst>
                            <p:childTnLst>
                              <p:par>
                                <p:cTn id="4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9" fill="hold">
                      <p:stCondLst>
                        <p:cond delay="indefinite"/>
                      </p:stCondLst>
                      <p:childTnLst>
                        <p:par>
                          <p:cTn id="4570" fill="hold">
                            <p:stCondLst>
                              <p:cond delay="0"/>
                            </p:stCondLst>
                            <p:childTnLst>
                              <p:par>
                                <p:cTn id="4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35080" y="1049400"/>
            <a:ext cx="82785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На дере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 було 8 горобців. До них прилетіли ще 2 горобці. Скільки горобців стало на дереві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77800" y="1049400"/>
            <a:ext cx="79358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 дерев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і було 8 горобців. До них прилетіли ще 2 горобці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241560" y="1417680"/>
            <a:ext cx="467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горобців стало на дереві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08040" y="1049400"/>
            <a:ext cx="7921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дере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 було 8 горобців. До них прилетіли ще 2 горобці</a:t>
            </a: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240480" y="1430280"/>
            <a:ext cx="4679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кільки горобців стало на дереві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1930320" y="1049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бу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276120" y="2500200"/>
            <a:ext cx="2630520" cy="130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378000" y="2519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5056200" y="1055520"/>
            <a:ext cx="16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прилетіл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279360" y="28861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Прилетіл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333360" y="3263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Стал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1311120" y="25639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8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1989000" y="294624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1454040" y="3295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uk-U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Овал 17"/>
          <p:cNvSpPr/>
          <p:nvPr/>
        </p:nvSpPr>
        <p:spPr>
          <a:xfrm>
            <a:off x="2610000" y="1108080"/>
            <a:ext cx="2854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 18"/>
          <p:cNvSpPr/>
          <p:nvPr/>
        </p:nvSpPr>
        <p:spPr>
          <a:xfrm>
            <a:off x="6919920" y="1101600"/>
            <a:ext cx="285840" cy="3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2529000" y="143028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т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Выгнутая вверх стрелка 20"/>
          <p:cNvSpPr/>
          <p:nvPr/>
        </p:nvSpPr>
        <p:spPr>
          <a:xfrm>
            <a:off x="2160720" y="826920"/>
            <a:ext cx="588960" cy="220680"/>
          </a:xfrm>
          <a:custGeom>
            <a:avLst/>
            <a:gdLst>
              <a:gd name="textAreaLeft" fmla="*/ 126360 w 588960"/>
              <a:gd name="textAreaRight" fmla="*/ 434880 w 588960"/>
              <a:gd name="textAreaTop" fmla="*/ 29520 h 220680"/>
              <a:gd name="textAreaBottom" fmla="*/ 1911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83" hR="21600" stAng="10800000" swAng="5400000"/>
                <a:lnTo>
                  <a:pt x="11307" y="0"/>
                </a:lnTo>
                <a:arcTo wR="9283" hR="21600" stAng="-5400000" swAng="3540107"/>
                <a:lnTo>
                  <a:pt x="21305" y="16200"/>
                </a:lnTo>
                <a:lnTo>
                  <a:pt x="19577" y="21600"/>
                </a:lnTo>
                <a:lnTo>
                  <a:pt x="17259" y="16200"/>
                </a:lnTo>
                <a:lnTo>
                  <a:pt x="18270" y="16200"/>
                </a:lnTo>
                <a:arcTo wR="9283" hR="21600" stAng="-1859893" swAng="-3378196"/>
                <a:lnTo>
                  <a:pt x="10295" y="129"/>
                </a:lnTo>
                <a:arcTo wR="9283" hR="21600" stAng="-5561911" swAng="-5238089"/>
                <a:close/>
              </a:path>
              <a:path fill="darkenLess" w="21600" h="21600">
                <a:moveTo>
                  <a:pt x="0" y="21600"/>
                </a:moveTo>
                <a:arcTo wR="9283" hR="21600" stAng="10800000" swAng="5400000"/>
                <a:lnTo>
                  <a:pt x="9283" y="0"/>
                </a:lnTo>
                <a:arcTo wR="9283" hR="21600" stAng="-5400000" swAng="161911"/>
                <a:lnTo>
                  <a:pt x="10295" y="129"/>
                </a:lnTo>
                <a:arcTo wR="9283" hR="21600" stAng="-5561911" swAng="-5238089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Выгнутая вверх стрелка 21"/>
          <p:cNvSpPr/>
          <p:nvPr/>
        </p:nvSpPr>
        <p:spPr>
          <a:xfrm>
            <a:off x="6051600" y="760320"/>
            <a:ext cx="973080" cy="354240"/>
          </a:xfrm>
          <a:custGeom>
            <a:avLst/>
            <a:gdLst>
              <a:gd name="textAreaLeft" fmla="*/ 209880 w 973080"/>
              <a:gd name="textAreaRight" fmla="*/ 718920 w 973080"/>
              <a:gd name="textAreaTop" fmla="*/ 47160 h 354240"/>
              <a:gd name="textAreaBottom" fmla="*/ 307080 h 35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7" hR="21600" stAng="10800000" swAng="5400000"/>
                <a:lnTo>
                  <a:pt x="11292" y="0"/>
                </a:lnTo>
                <a:arcTo wR="9327" hR="21600" stAng="-5400000" swAng="3547276"/>
                <a:lnTo>
                  <a:pt x="21304" y="16200"/>
                </a:lnTo>
                <a:lnTo>
                  <a:pt x="19636" y="21600"/>
                </a:lnTo>
                <a:lnTo>
                  <a:pt x="17375" y="16200"/>
                </a:lnTo>
                <a:lnTo>
                  <a:pt x="18357" y="16200"/>
                </a:lnTo>
                <a:arcTo wR="9327" hR="21600" stAng="-1852724" swAng="-3390140"/>
                <a:lnTo>
                  <a:pt x="10309" y="120"/>
                </a:lnTo>
                <a:arcTo wR="9327" hR="21600" stAng="-5557135" swAng="-5242865"/>
                <a:close/>
              </a:path>
              <a:path fill="darkenLess" w="21600" h="21600">
                <a:moveTo>
                  <a:pt x="0" y="21600"/>
                </a:moveTo>
                <a:arcTo wR="9327" hR="21600" stAng="10800000" swAng="5400000"/>
                <a:lnTo>
                  <a:pt x="9327" y="0"/>
                </a:lnTo>
                <a:arcTo wR="9327" hR="21600" stAng="-5400000" swAng="157135"/>
                <a:lnTo>
                  <a:pt x="10309" y="120"/>
                </a:lnTo>
                <a:arcTo wR="9327" hR="21600" stAng="-5557135" swAng="-5242865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Выгнутая вверх стрелка 22"/>
          <p:cNvSpPr/>
          <p:nvPr/>
        </p:nvSpPr>
        <p:spPr>
          <a:xfrm flipH="1">
            <a:off x="739080" y="1417680"/>
            <a:ext cx="2103480" cy="179280"/>
          </a:xfrm>
          <a:custGeom>
            <a:avLst/>
            <a:gdLst>
              <a:gd name="textAreaLeft" fmla="*/ 509040 w 2103480"/>
              <a:gd name="textAreaRight" fmla="*/ 1572120 w 210348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55" hR="21600" stAng="10800000" swAng="5400000"/>
                <a:lnTo>
                  <a:pt x="10916" y="0"/>
                </a:lnTo>
                <a:arcTo wR="10455" hR="21600" stAng="-5400000" swAng="3715302"/>
                <a:lnTo>
                  <a:pt x="21268" y="16200"/>
                </a:lnTo>
                <a:lnTo>
                  <a:pt x="21140" y="21600"/>
                </a:lnTo>
                <a:lnTo>
                  <a:pt x="20347" y="16200"/>
                </a:lnTo>
                <a:lnTo>
                  <a:pt x="20577" y="16200"/>
                </a:lnTo>
                <a:arcTo wR="10455" hR="21600" stAng="-1684698" swAng="-3678609"/>
                <a:lnTo>
                  <a:pt x="10685" y="5"/>
                </a:lnTo>
                <a:arcTo wR="10455" hR="21600" stAng="-5436693" swAng="-5363307"/>
                <a:close/>
              </a:path>
              <a:path fill="darkenLess" w="21600" h="21600">
                <a:moveTo>
                  <a:pt x="0" y="21600"/>
                </a:moveTo>
                <a:arcTo wR="10455" hR="21600" stAng="10800000" swAng="5400000"/>
                <a:lnTo>
                  <a:pt x="10455" y="0"/>
                </a:lnTo>
                <a:arcTo wR="10455" hR="21600" stAng="-5400000" swAng="36693"/>
                <a:lnTo>
                  <a:pt x="10685" y="5"/>
                </a:lnTo>
                <a:arcTo wR="10455" hR="21600" stAng="-5436693" swAng="-5363307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143160" y="2600280"/>
            <a:ext cx="6018480" cy="13683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ая соединительная линия 49"/>
          <p:cNvSpPr/>
          <p:nvPr/>
        </p:nvSpPr>
        <p:spPr>
          <a:xfrm>
            <a:off x="3554280" y="3376440"/>
            <a:ext cx="1795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50"/>
          <p:cNvSpPr/>
          <p:nvPr/>
        </p:nvSpPr>
        <p:spPr>
          <a:xfrm flipV="1">
            <a:off x="3554280" y="3260880"/>
            <a:ext cx="0" cy="250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51"/>
          <p:cNvSpPr/>
          <p:nvPr/>
        </p:nvSpPr>
        <p:spPr>
          <a:xfrm>
            <a:off x="6939000" y="2600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52"/>
          <p:cNvSpPr/>
          <p:nvPr/>
        </p:nvSpPr>
        <p:spPr>
          <a:xfrm>
            <a:off x="7432560" y="2583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53"/>
          <p:cNvSpPr/>
          <p:nvPr/>
        </p:nvSpPr>
        <p:spPr>
          <a:xfrm>
            <a:off x="7812000" y="25239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ая соединительная линия 54"/>
          <p:cNvSpPr/>
          <p:nvPr/>
        </p:nvSpPr>
        <p:spPr>
          <a:xfrm flipV="1">
            <a:off x="5356080" y="3250800"/>
            <a:ext cx="0" cy="2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авая круглая скобка 59"/>
          <p:cNvSpPr/>
          <p:nvPr/>
        </p:nvSpPr>
        <p:spPr>
          <a:xfrm flipH="1" rot="5400000">
            <a:off x="4317840" y="2253600"/>
            <a:ext cx="198360" cy="1725840"/>
          </a:xfrm>
          <a:custGeom>
            <a:avLst/>
            <a:gdLst>
              <a:gd name="textAreaLeft" fmla="*/ 0 w 198360"/>
              <a:gd name="textAreaRight" fmla="*/ 139320 w 198360"/>
              <a:gd name="textAreaTop" fmla="*/ 198360 h 1725840"/>
              <a:gd name="textAreaBottom" fmla="*/ 1527480 h 17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84"/>
                  <a:pt x="21600" y="4967"/>
                </a:cubicBezTo>
                <a:lnTo>
                  <a:pt x="21600" y="16633"/>
                </a:lnTo>
                <a:cubicBezTo>
                  <a:pt x="21600" y="1911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ая соединительная линия 68"/>
          <p:cNvSpPr/>
          <p:nvPr/>
        </p:nvSpPr>
        <p:spPr>
          <a:xfrm>
            <a:off x="5356080" y="3376440"/>
            <a:ext cx="441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ая соединительная линия 78"/>
          <p:cNvSpPr/>
          <p:nvPr/>
        </p:nvSpPr>
        <p:spPr>
          <a:xfrm>
            <a:off x="5808600" y="3224160"/>
            <a:ext cx="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8"/>
          <p:cNvSpPr/>
          <p:nvPr/>
        </p:nvSpPr>
        <p:spPr>
          <a:xfrm>
            <a:off x="4449600" y="255600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авая круглая скобка 89"/>
          <p:cNvSpPr/>
          <p:nvPr/>
        </p:nvSpPr>
        <p:spPr>
          <a:xfrm flipH="1" rot="5400000">
            <a:off x="5484600" y="2953440"/>
            <a:ext cx="216000" cy="39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0800" y="0"/>
                  <a:pt x="21600" y="11701"/>
                  <a:pt x="21600" y="23401"/>
                </a:cubicBezTo>
                <a:lnTo>
                  <a:pt x="21600" y="-1801"/>
                </a:lnTo>
                <a:cubicBezTo>
                  <a:pt x="21600" y="99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90"/>
          <p:cNvSpPr/>
          <p:nvPr/>
        </p:nvSpPr>
        <p:spPr>
          <a:xfrm>
            <a:off x="5429160" y="2563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авая круглая скобка 91"/>
          <p:cNvSpPr/>
          <p:nvPr/>
        </p:nvSpPr>
        <p:spPr>
          <a:xfrm rot="5400000">
            <a:off x="4536720" y="2566800"/>
            <a:ext cx="274680" cy="2236680"/>
          </a:xfrm>
          <a:custGeom>
            <a:avLst/>
            <a:gdLst>
              <a:gd name="textAreaLeft" fmla="*/ 0 w 274680"/>
              <a:gd name="textAreaRight" fmla="*/ 192600 w 274680"/>
              <a:gd name="textAreaTop" fmla="*/ 274320 h 2236680"/>
              <a:gd name="textAreaBottom" fmla="*/ 1962360 h 223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652"/>
                  <a:pt x="21600" y="5303"/>
                </a:cubicBezTo>
                <a:lnTo>
                  <a:pt x="21600" y="16297"/>
                </a:lnTo>
                <a:cubicBezTo>
                  <a:pt x="21600" y="18949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92"/>
          <p:cNvSpPr/>
          <p:nvPr/>
        </p:nvSpPr>
        <p:spPr>
          <a:xfrm>
            <a:off x="4508640" y="38718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93"/>
          <p:cNvSpPr/>
          <p:nvPr/>
        </p:nvSpPr>
        <p:spPr>
          <a:xfrm>
            <a:off x="6939000" y="30322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8 + 2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94"/>
          <p:cNvSpPr/>
          <p:nvPr/>
        </p:nvSpPr>
        <p:spPr>
          <a:xfrm>
            <a:off x="7908840" y="3494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50"/>
          <p:cNvSpPr/>
          <p:nvPr/>
        </p:nvSpPr>
        <p:spPr>
          <a:xfrm>
            <a:off x="7533360" y="27637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50"/>
          <p:cNvSpPr/>
          <p:nvPr/>
        </p:nvSpPr>
        <p:spPr>
          <a:xfrm>
            <a:off x="7800840" y="328464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39"/>
          <p:cNvSpPr/>
          <p:nvPr/>
        </p:nvSpPr>
        <p:spPr>
          <a:xfrm>
            <a:off x="363600" y="2513160"/>
            <a:ext cx="2630520" cy="1304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40"/>
          <p:cNvSpPr/>
          <p:nvPr/>
        </p:nvSpPr>
        <p:spPr>
          <a:xfrm>
            <a:off x="406440" y="2538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406440" y="2898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Полетіл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42"/>
          <p:cNvSpPr/>
          <p:nvPr/>
        </p:nvSpPr>
        <p:spPr>
          <a:xfrm>
            <a:off x="423720" y="3306600"/>
            <a:ext cx="21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Залишилось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43"/>
          <p:cNvSpPr/>
          <p:nvPr/>
        </p:nvSpPr>
        <p:spPr>
          <a:xfrm>
            <a:off x="1473120" y="2549520"/>
            <a:ext cx="4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8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44"/>
          <p:cNvSpPr/>
          <p:nvPr/>
        </p:nvSpPr>
        <p:spPr>
          <a:xfrm>
            <a:off x="2116080" y="287640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45"/>
          <p:cNvSpPr/>
          <p:nvPr/>
        </p:nvSpPr>
        <p:spPr>
          <a:xfrm>
            <a:off x="6148440" y="339084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Скругленный прямоугольник 46"/>
          <p:cNvSpPr/>
          <p:nvPr/>
        </p:nvSpPr>
        <p:spPr>
          <a:xfrm>
            <a:off x="4834080" y="2538360"/>
            <a:ext cx="2630520" cy="130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7"/>
          <p:cNvSpPr/>
          <p:nvPr/>
        </p:nvSpPr>
        <p:spPr>
          <a:xfrm>
            <a:off x="4935600" y="2557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48"/>
          <p:cNvSpPr/>
          <p:nvPr/>
        </p:nvSpPr>
        <p:spPr>
          <a:xfrm>
            <a:off x="4836960" y="2924280"/>
            <a:ext cx="20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Прилетіл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49"/>
          <p:cNvSpPr/>
          <p:nvPr/>
        </p:nvSpPr>
        <p:spPr>
          <a:xfrm>
            <a:off x="4890960" y="33019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Стал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6" descr="2"/>
          <p:cNvPicPr/>
          <p:nvPr/>
        </p:nvPicPr>
        <p:blipFill>
          <a:blip r:embed="rId1"/>
          <a:stretch/>
        </p:blipFill>
        <p:spPr>
          <a:xfrm>
            <a:off x="939960" y="439560"/>
            <a:ext cx="7056360" cy="1224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8"/>
          <p:cNvSpPr/>
          <p:nvPr/>
        </p:nvSpPr>
        <p:spPr>
          <a:xfrm>
            <a:off x="6124680" y="3381480"/>
            <a:ext cx="360360" cy="398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55"/>
          <p:cNvSpPr/>
          <p:nvPr/>
        </p:nvSpPr>
        <p:spPr>
          <a:xfrm>
            <a:off x="6719760" y="2990880"/>
            <a:ext cx="36036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56"/>
          <p:cNvSpPr/>
          <p:nvPr/>
        </p:nvSpPr>
        <p:spPr>
          <a:xfrm>
            <a:off x="2498760" y="3359160"/>
            <a:ext cx="36036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57"/>
          <p:cNvSpPr/>
          <p:nvPr/>
        </p:nvSpPr>
        <p:spPr>
          <a:xfrm>
            <a:off x="2116080" y="2908440"/>
            <a:ext cx="360360" cy="399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58"/>
          <p:cNvSpPr/>
          <p:nvPr/>
        </p:nvSpPr>
        <p:spPr>
          <a:xfrm>
            <a:off x="6013440" y="2557440"/>
            <a:ext cx="360360" cy="398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59"/>
          <p:cNvSpPr/>
          <p:nvPr/>
        </p:nvSpPr>
        <p:spPr>
          <a:xfrm>
            <a:off x="1473120" y="2592360"/>
            <a:ext cx="360360" cy="398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0"/>
          <p:cNvSpPr/>
          <p:nvPr/>
        </p:nvSpPr>
        <p:spPr>
          <a:xfrm>
            <a:off x="5996160" y="2549520"/>
            <a:ext cx="4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8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61"/>
          <p:cNvSpPr/>
          <p:nvPr/>
        </p:nvSpPr>
        <p:spPr>
          <a:xfrm>
            <a:off x="671976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2"/>
          <p:cNvSpPr/>
          <p:nvPr/>
        </p:nvSpPr>
        <p:spPr>
          <a:xfrm>
            <a:off x="2476440" y="333360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54"/>
          <p:cNvSpPr/>
          <p:nvPr/>
        </p:nvSpPr>
        <p:spPr>
          <a:xfrm>
            <a:off x="2104920" y="4724280"/>
            <a:ext cx="38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роткий запис задач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Прямая со стрелкой 39936"/>
          <p:cNvCxnSpPr/>
          <p:nvPr/>
        </p:nvCxnSpPr>
        <p:spPr>
          <a:xfrm flipV="1">
            <a:off x="4060440" y="4052160"/>
            <a:ext cx="656280" cy="67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39939"/>
          <p:cNvCxnSpPr/>
          <p:nvPr/>
        </p:nvCxnSpPr>
        <p:spPr>
          <a:xfrm flipH="1" flipV="1">
            <a:off x="2528280" y="4052880"/>
            <a:ext cx="74340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-42840" y="1590840"/>
            <a:ext cx="9156600" cy="3882960"/>
          </a:xfrm>
          <a:prstGeom prst="rect">
            <a:avLst/>
          </a:prstGeom>
          <a:ln w="0">
            <a:noFill/>
          </a:ln>
        </p:spPr>
      </p:pic>
      <p:cxnSp>
        <p:nvCxnSpPr>
          <p:cNvPr id="154" name="Прямая со стрелкой 2"/>
          <p:cNvCxnSpPr/>
          <p:nvPr/>
        </p:nvCxnSpPr>
        <p:spPr>
          <a:xfrm flipH="1">
            <a:off x="3924000" y="3354480"/>
            <a:ext cx="1224720" cy="792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Прямая со стрелкой 6"/>
          <p:cNvCxnSpPr/>
          <p:nvPr/>
        </p:nvCxnSpPr>
        <p:spPr>
          <a:xfrm>
            <a:off x="3995640" y="3354480"/>
            <a:ext cx="1224720" cy="792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TextBox 8"/>
          <p:cNvSpPr/>
          <p:nvPr/>
        </p:nvSpPr>
        <p:spPr>
          <a:xfrm>
            <a:off x="5867280" y="4222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6573960" y="4591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2190600" y="4592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1920960" y="4222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олилиния 1"/>
          <p:cNvSpPr/>
          <p:nvPr/>
        </p:nvSpPr>
        <p:spPr>
          <a:xfrm>
            <a:off x="958680" y="2562120"/>
            <a:ext cx="1432080" cy="1341720"/>
          </a:xfrm>
          <a:custGeom>
            <a:avLst/>
            <a:gdLst/>
            <a:ahLst/>
            <a:rect l="l" t="t" r="r" b="b"/>
            <a:pathLst>
              <a:path w="1431305" h="1341379">
                <a:moveTo>
                  <a:pt x="1011294" y="130021"/>
                </a:moveTo>
                <a:cubicBezTo>
                  <a:pt x="888945" y="5525"/>
                  <a:pt x="809525" y="7671"/>
                  <a:pt x="689322" y="1232"/>
                </a:cubicBezTo>
                <a:cubicBezTo>
                  <a:pt x="569119" y="-5207"/>
                  <a:pt x="401694" y="11964"/>
                  <a:pt x="290077" y="91384"/>
                </a:cubicBezTo>
                <a:cubicBezTo>
                  <a:pt x="178460" y="170804"/>
                  <a:pt x="56110" y="314618"/>
                  <a:pt x="19620" y="477750"/>
                </a:cubicBezTo>
                <a:cubicBezTo>
                  <a:pt x="-16870" y="640882"/>
                  <a:pt x="-3991" y="928510"/>
                  <a:pt x="71136" y="1070178"/>
                </a:cubicBezTo>
                <a:cubicBezTo>
                  <a:pt x="146263" y="1211846"/>
                  <a:pt x="326567" y="1291266"/>
                  <a:pt x="470381" y="1327756"/>
                </a:cubicBezTo>
                <a:cubicBezTo>
                  <a:pt x="614195" y="1364246"/>
                  <a:pt x="803085" y="1319170"/>
                  <a:pt x="934020" y="1289119"/>
                </a:cubicBezTo>
                <a:cubicBezTo>
                  <a:pt x="1064955" y="1259068"/>
                  <a:pt x="1174426" y="1237603"/>
                  <a:pt x="1255992" y="1147451"/>
                </a:cubicBezTo>
                <a:cubicBezTo>
                  <a:pt x="1337558" y="1057299"/>
                  <a:pt x="1464201" y="917778"/>
                  <a:pt x="1423418" y="748206"/>
                </a:cubicBezTo>
                <a:cubicBezTo>
                  <a:pt x="1382635" y="578634"/>
                  <a:pt x="1133643" y="254517"/>
                  <a:pt x="1011294" y="130021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олилиния 3"/>
          <p:cNvSpPr/>
          <p:nvPr/>
        </p:nvSpPr>
        <p:spPr>
          <a:xfrm>
            <a:off x="2266920" y="2325600"/>
            <a:ext cx="1365120" cy="1636920"/>
          </a:xfrm>
          <a:custGeom>
            <a:avLst/>
            <a:gdLst/>
            <a:ahLst/>
            <a:rect l="l" t="t" r="r" b="b"/>
            <a:pathLst>
              <a:path w="1364409" h="1636850">
                <a:moveTo>
                  <a:pt x="411239" y="95633"/>
                </a:moveTo>
                <a:cubicBezTo>
                  <a:pt x="533588" y="38751"/>
                  <a:pt x="655937" y="-18130"/>
                  <a:pt x="771847" y="5481"/>
                </a:cubicBezTo>
                <a:cubicBezTo>
                  <a:pt x="887757" y="29092"/>
                  <a:pt x="1018692" y="114952"/>
                  <a:pt x="1106698" y="237301"/>
                </a:cubicBezTo>
                <a:cubicBezTo>
                  <a:pt x="1194704" y="359650"/>
                  <a:pt x="1256952" y="572152"/>
                  <a:pt x="1299881" y="739577"/>
                </a:cubicBezTo>
                <a:cubicBezTo>
                  <a:pt x="1342810" y="907002"/>
                  <a:pt x="1366421" y="1102332"/>
                  <a:pt x="1364275" y="1241853"/>
                </a:cubicBezTo>
                <a:cubicBezTo>
                  <a:pt x="1362129" y="1381374"/>
                  <a:pt x="1353543" y="1512310"/>
                  <a:pt x="1287002" y="1576704"/>
                </a:cubicBezTo>
                <a:cubicBezTo>
                  <a:pt x="1220461" y="1641098"/>
                  <a:pt x="1126016" y="1645391"/>
                  <a:pt x="965030" y="1628219"/>
                </a:cubicBezTo>
                <a:cubicBezTo>
                  <a:pt x="804044" y="1611047"/>
                  <a:pt x="454169" y="1580997"/>
                  <a:pt x="321087" y="1473673"/>
                </a:cubicBezTo>
                <a:cubicBezTo>
                  <a:pt x="188005" y="1366349"/>
                  <a:pt x="213763" y="1151700"/>
                  <a:pt x="166540" y="984275"/>
                </a:cubicBezTo>
                <a:cubicBezTo>
                  <a:pt x="119317" y="816850"/>
                  <a:pt x="59216" y="593616"/>
                  <a:pt x="37751" y="469120"/>
                </a:cubicBezTo>
                <a:cubicBezTo>
                  <a:pt x="16286" y="344624"/>
                  <a:pt x="-35229" y="301695"/>
                  <a:pt x="37751" y="237301"/>
                </a:cubicBezTo>
                <a:cubicBezTo>
                  <a:pt x="110731" y="172907"/>
                  <a:pt x="398360" y="106365"/>
                  <a:pt x="475633" y="82754"/>
                </a:cubicBezTo>
                <a:cubicBezTo>
                  <a:pt x="552906" y="59143"/>
                  <a:pt x="494952" y="93487"/>
                  <a:pt x="501391" y="95633"/>
                </a:cubicBezTo>
                <a:cubicBezTo>
                  <a:pt x="507830" y="97779"/>
                  <a:pt x="514270" y="95633"/>
                  <a:pt x="514270" y="95633"/>
                </a:cubicBezTo>
                <a:lnTo>
                  <a:pt x="411239" y="95633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олилиния 4"/>
          <p:cNvSpPr/>
          <p:nvPr/>
        </p:nvSpPr>
        <p:spPr>
          <a:xfrm>
            <a:off x="874800" y="2290680"/>
            <a:ext cx="2914560" cy="1766880"/>
          </a:xfrm>
          <a:custGeom>
            <a:avLst/>
            <a:gdLst/>
            <a:ahLst/>
            <a:rect l="l" t="t" r="r" b="b"/>
            <a:pathLst>
              <a:path w="2913404" h="1766963">
                <a:moveTo>
                  <a:pt x="142019" y="375525"/>
                </a:moveTo>
                <a:cubicBezTo>
                  <a:pt x="30402" y="510753"/>
                  <a:pt x="-3942" y="678178"/>
                  <a:pt x="351" y="864922"/>
                </a:cubicBezTo>
                <a:cubicBezTo>
                  <a:pt x="4644" y="1051666"/>
                  <a:pt x="-21113" y="1362905"/>
                  <a:pt x="167777" y="1495987"/>
                </a:cubicBezTo>
                <a:cubicBezTo>
                  <a:pt x="356667" y="1629069"/>
                  <a:pt x="736594" y="1622629"/>
                  <a:pt x="1133692" y="1663412"/>
                </a:cubicBezTo>
                <a:cubicBezTo>
                  <a:pt x="1530790" y="1704195"/>
                  <a:pt x="2254154" y="1817958"/>
                  <a:pt x="2550368" y="1740685"/>
                </a:cubicBezTo>
                <a:cubicBezTo>
                  <a:pt x="2846582" y="1663412"/>
                  <a:pt x="2889512" y="1433739"/>
                  <a:pt x="2910977" y="1199773"/>
                </a:cubicBezTo>
                <a:cubicBezTo>
                  <a:pt x="2932442" y="965807"/>
                  <a:pt x="2807946" y="534364"/>
                  <a:pt x="2679157" y="336888"/>
                </a:cubicBezTo>
                <a:cubicBezTo>
                  <a:pt x="2550368" y="139412"/>
                  <a:pt x="2346453" y="62139"/>
                  <a:pt x="2138244" y="14916"/>
                </a:cubicBezTo>
                <a:cubicBezTo>
                  <a:pt x="1930035" y="-32307"/>
                  <a:pt x="1674604" y="47114"/>
                  <a:pt x="1429906" y="53553"/>
                </a:cubicBezTo>
                <a:cubicBezTo>
                  <a:pt x="1185208" y="59992"/>
                  <a:pt x="888994" y="-4402"/>
                  <a:pt x="670053" y="53553"/>
                </a:cubicBezTo>
                <a:cubicBezTo>
                  <a:pt x="451112" y="111508"/>
                  <a:pt x="253636" y="240297"/>
                  <a:pt x="142019" y="375525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395280" y="27385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олилиния 7"/>
          <p:cNvSpPr/>
          <p:nvPr/>
        </p:nvSpPr>
        <p:spPr>
          <a:xfrm>
            <a:off x="5538960" y="2357280"/>
            <a:ext cx="2722320" cy="1670040"/>
          </a:xfrm>
          <a:custGeom>
            <a:avLst/>
            <a:gdLst/>
            <a:ahLst/>
            <a:rect l="l" t="t" r="r" b="b"/>
            <a:pathLst>
              <a:path w="2722790" h="1669998">
                <a:moveTo>
                  <a:pt x="603975" y="25866"/>
                </a:moveTo>
                <a:cubicBezTo>
                  <a:pt x="400059" y="70942"/>
                  <a:pt x="133896" y="141776"/>
                  <a:pt x="50183" y="322080"/>
                </a:cubicBezTo>
                <a:cubicBezTo>
                  <a:pt x="-33530" y="502384"/>
                  <a:pt x="-9919" y="923094"/>
                  <a:pt x="101698" y="1107691"/>
                </a:cubicBezTo>
                <a:cubicBezTo>
                  <a:pt x="213315" y="1292288"/>
                  <a:pt x="503090" y="1341657"/>
                  <a:pt x="719884" y="1429663"/>
                </a:cubicBezTo>
                <a:cubicBezTo>
                  <a:pt x="936678" y="1517669"/>
                  <a:pt x="1151327" y="1601381"/>
                  <a:pt x="1402465" y="1635725"/>
                </a:cubicBezTo>
                <a:cubicBezTo>
                  <a:pt x="1653603" y="1670069"/>
                  <a:pt x="2009919" y="1691533"/>
                  <a:pt x="2226713" y="1635725"/>
                </a:cubicBezTo>
                <a:cubicBezTo>
                  <a:pt x="2443507" y="1579917"/>
                  <a:pt x="2647423" y="1459713"/>
                  <a:pt x="2703231" y="1300874"/>
                </a:cubicBezTo>
                <a:cubicBezTo>
                  <a:pt x="2759039" y="1142035"/>
                  <a:pt x="2690352" y="841528"/>
                  <a:pt x="2561563" y="682688"/>
                </a:cubicBezTo>
                <a:cubicBezTo>
                  <a:pt x="2432774" y="523849"/>
                  <a:pt x="2145146" y="453014"/>
                  <a:pt x="1930498" y="347837"/>
                </a:cubicBezTo>
                <a:cubicBezTo>
                  <a:pt x="1715850" y="242660"/>
                  <a:pt x="1494763" y="105285"/>
                  <a:pt x="1273676" y="51623"/>
                </a:cubicBezTo>
                <a:cubicBezTo>
                  <a:pt x="1052589" y="-2039"/>
                  <a:pt x="807891" y="-19210"/>
                  <a:pt x="603975" y="25866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олилиния 9"/>
          <p:cNvSpPr/>
          <p:nvPr/>
        </p:nvSpPr>
        <p:spPr>
          <a:xfrm>
            <a:off x="6640560" y="3048120"/>
            <a:ext cx="1508040" cy="963360"/>
          </a:xfrm>
          <a:custGeom>
            <a:avLst/>
            <a:gdLst/>
            <a:ahLst/>
            <a:rect l="l" t="t" r="r" b="b"/>
            <a:pathLst>
              <a:path w="1508187" h="962981">
                <a:moveTo>
                  <a:pt x="1034888" y="30085"/>
                </a:moveTo>
                <a:cubicBezTo>
                  <a:pt x="912539" y="17206"/>
                  <a:pt x="712917" y="-10698"/>
                  <a:pt x="584128" y="4327"/>
                </a:cubicBezTo>
                <a:cubicBezTo>
                  <a:pt x="455339" y="19352"/>
                  <a:pt x="358747" y="51550"/>
                  <a:pt x="262156" y="120237"/>
                </a:cubicBezTo>
                <a:cubicBezTo>
                  <a:pt x="165565" y="188924"/>
                  <a:pt x="23897" y="302688"/>
                  <a:pt x="4579" y="416451"/>
                </a:cubicBezTo>
                <a:cubicBezTo>
                  <a:pt x="-14739" y="530214"/>
                  <a:pt x="26043" y="712665"/>
                  <a:pt x="146246" y="802817"/>
                </a:cubicBezTo>
                <a:cubicBezTo>
                  <a:pt x="266449" y="892969"/>
                  <a:pt x="554077" y="940192"/>
                  <a:pt x="725795" y="957364"/>
                </a:cubicBezTo>
                <a:cubicBezTo>
                  <a:pt x="897513" y="974536"/>
                  <a:pt x="1052060" y="950924"/>
                  <a:pt x="1176556" y="905848"/>
                </a:cubicBezTo>
                <a:cubicBezTo>
                  <a:pt x="1301052" y="860772"/>
                  <a:pt x="1421255" y="774913"/>
                  <a:pt x="1472770" y="686907"/>
                </a:cubicBezTo>
                <a:cubicBezTo>
                  <a:pt x="1524286" y="598901"/>
                  <a:pt x="1511407" y="478698"/>
                  <a:pt x="1485649" y="377814"/>
                </a:cubicBezTo>
                <a:cubicBezTo>
                  <a:pt x="1459891" y="276930"/>
                  <a:pt x="1399790" y="137408"/>
                  <a:pt x="1318224" y="81600"/>
                </a:cubicBezTo>
                <a:cubicBezTo>
                  <a:pt x="1236658" y="25792"/>
                  <a:pt x="1157237" y="42964"/>
                  <a:pt x="1034888" y="30085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олилиния 10"/>
          <p:cNvSpPr/>
          <p:nvPr/>
        </p:nvSpPr>
        <p:spPr>
          <a:xfrm>
            <a:off x="5611680" y="2333520"/>
            <a:ext cx="1683000" cy="1025640"/>
          </a:xfrm>
          <a:custGeom>
            <a:avLst/>
            <a:gdLst/>
            <a:ahLst/>
            <a:rect l="l" t="t" r="r" b="b"/>
            <a:pathLst>
              <a:path w="1683884" h="1025980">
                <a:moveTo>
                  <a:pt x="261606" y="126704"/>
                </a:moveTo>
                <a:cubicBezTo>
                  <a:pt x="163941" y="245833"/>
                  <a:pt x="66276" y="364963"/>
                  <a:pt x="29786" y="474433"/>
                </a:cubicBezTo>
                <a:cubicBezTo>
                  <a:pt x="-6704" y="583903"/>
                  <a:pt x="-17437" y="695520"/>
                  <a:pt x="42665" y="783526"/>
                </a:cubicBezTo>
                <a:cubicBezTo>
                  <a:pt x="102766" y="871532"/>
                  <a:pt x="246581" y="965977"/>
                  <a:pt x="390395" y="1002467"/>
                </a:cubicBezTo>
                <a:cubicBezTo>
                  <a:pt x="534209" y="1038957"/>
                  <a:pt x="740271" y="1028225"/>
                  <a:pt x="905550" y="1002467"/>
                </a:cubicBezTo>
                <a:cubicBezTo>
                  <a:pt x="1070829" y="976709"/>
                  <a:pt x="1253279" y="899436"/>
                  <a:pt x="1382068" y="847921"/>
                </a:cubicBezTo>
                <a:cubicBezTo>
                  <a:pt x="1510857" y="796406"/>
                  <a:pt x="1650378" y="792112"/>
                  <a:pt x="1678282" y="693374"/>
                </a:cubicBezTo>
                <a:cubicBezTo>
                  <a:pt x="1706186" y="594636"/>
                  <a:pt x="1624621" y="367110"/>
                  <a:pt x="1549494" y="255493"/>
                </a:cubicBezTo>
                <a:cubicBezTo>
                  <a:pt x="1474367" y="143876"/>
                  <a:pt x="1412119" y="62310"/>
                  <a:pt x="1227522" y="23673"/>
                </a:cubicBezTo>
                <a:cubicBezTo>
                  <a:pt x="1042925" y="-14964"/>
                  <a:pt x="609335" y="62"/>
                  <a:pt x="441910" y="23673"/>
                </a:cubicBezTo>
                <a:cubicBezTo>
                  <a:pt x="274485" y="47284"/>
                  <a:pt x="255167" y="137436"/>
                  <a:pt x="222970" y="165340"/>
                </a:cubicBezTo>
                <a:cubicBezTo>
                  <a:pt x="190773" y="193244"/>
                  <a:pt x="248727" y="191098"/>
                  <a:pt x="248727" y="191098"/>
                </a:cubicBezTo>
                <a:lnTo>
                  <a:pt x="248727" y="191098"/>
                </a:lnTo>
                <a:lnTo>
                  <a:pt x="261606" y="126704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7394400" y="236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4"/>
          <p:cNvSpPr/>
          <p:nvPr/>
        </p:nvSpPr>
        <p:spPr>
          <a:xfrm>
            <a:off x="2064960" y="347652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4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21"/>
          <p:cNvSpPr/>
          <p:nvPr/>
        </p:nvSpPr>
        <p:spPr>
          <a:xfrm flipV="1" rot="10571400">
            <a:off x="5987520" y="59882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6"/>
          <p:cNvSpPr/>
          <p:nvPr/>
        </p:nvSpPr>
        <p:spPr>
          <a:xfrm>
            <a:off x="1393560" y="309708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5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1 - копия"/>
          <p:cNvPicPr/>
          <p:nvPr/>
        </p:nvPicPr>
        <p:blipFill>
          <a:blip r:embed="rId1"/>
          <a:stretch/>
        </p:blipFill>
        <p:spPr>
          <a:xfrm>
            <a:off x="2316240" y="314280"/>
            <a:ext cx="4178160" cy="8650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6"/>
          <p:cNvSpPr/>
          <p:nvPr/>
        </p:nvSpPr>
        <p:spPr>
          <a:xfrm>
            <a:off x="442800" y="117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Закінчи виконання короткого запис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6" descr=""/>
          <p:cNvPicPr/>
          <p:nvPr/>
        </p:nvPicPr>
        <p:blipFill>
          <a:blip r:embed="rId2"/>
          <a:stretch/>
        </p:blipFill>
        <p:spPr>
          <a:xfrm>
            <a:off x="7577280" y="393840"/>
            <a:ext cx="1392120" cy="12333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81"/>
          <p:cNvSpPr/>
          <p:nvPr/>
        </p:nvSpPr>
        <p:spPr>
          <a:xfrm>
            <a:off x="0" y="1649520"/>
            <a:ext cx="88930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У Дениса було 5 кактусів. Дідусь подарував йому ще 4 кактуси. Скільки кактусів стало в хлопчика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83"/>
          <p:cNvSpPr/>
          <p:nvPr/>
        </p:nvSpPr>
        <p:spPr>
          <a:xfrm>
            <a:off x="360360" y="1641600"/>
            <a:ext cx="8485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У Дениса було 5 кактусів. Дідусь подарував йому ще 4 кактус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84"/>
          <p:cNvSpPr/>
          <p:nvPr/>
        </p:nvSpPr>
        <p:spPr>
          <a:xfrm>
            <a:off x="18720" y="2019240"/>
            <a:ext cx="4888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кактусів стало в хлопчик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Овал 85"/>
          <p:cNvSpPr/>
          <p:nvPr/>
        </p:nvSpPr>
        <p:spPr>
          <a:xfrm>
            <a:off x="2360520" y="170820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Овал 86"/>
          <p:cNvSpPr/>
          <p:nvPr/>
        </p:nvSpPr>
        <p:spPr>
          <a:xfrm>
            <a:off x="7310520" y="170820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Скругленный прямоугольник 87"/>
          <p:cNvSpPr/>
          <p:nvPr/>
        </p:nvSpPr>
        <p:spPr>
          <a:xfrm>
            <a:off x="163440" y="3002040"/>
            <a:ext cx="2630520" cy="130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Выгнутая вверх стрелка 88"/>
          <p:cNvSpPr/>
          <p:nvPr/>
        </p:nvSpPr>
        <p:spPr>
          <a:xfrm>
            <a:off x="1989000" y="1530360"/>
            <a:ext cx="588960" cy="222120"/>
          </a:xfrm>
          <a:custGeom>
            <a:avLst/>
            <a:gdLst>
              <a:gd name="textAreaLeft" fmla="*/ 126360 w 588960"/>
              <a:gd name="textAreaRight" fmla="*/ 434880 w 588960"/>
              <a:gd name="textAreaTop" fmla="*/ 29520 h 222120"/>
              <a:gd name="textAreaBottom" fmla="*/ 1926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09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1" y="16200"/>
                </a:lnTo>
                <a:lnTo>
                  <a:pt x="18250" y="16200"/>
                </a:lnTo>
                <a:arcTo wR="9272" hR="21600" stAng="-1861611" swAng="-3375425"/>
                <a:lnTo>
                  <a:pt x="10291" y="131"/>
                </a:lnTo>
                <a:arcTo wR="9272" hR="21600" stAng="-5562964" swAng="-5237036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2964"/>
                <a:lnTo>
                  <a:pt x="10291" y="131"/>
                </a:lnTo>
                <a:arcTo wR="9272" hR="21600" stAng="-5562964" swAng="-5237036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90"/>
          <p:cNvSpPr/>
          <p:nvPr/>
        </p:nvSpPr>
        <p:spPr>
          <a:xfrm>
            <a:off x="314280" y="3063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91"/>
          <p:cNvSpPr/>
          <p:nvPr/>
        </p:nvSpPr>
        <p:spPr>
          <a:xfrm>
            <a:off x="1652760" y="16365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бу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2"/>
          <p:cNvSpPr/>
          <p:nvPr/>
        </p:nvSpPr>
        <p:spPr>
          <a:xfrm>
            <a:off x="4687920" y="16430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подарува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93"/>
          <p:cNvSpPr/>
          <p:nvPr/>
        </p:nvSpPr>
        <p:spPr>
          <a:xfrm>
            <a:off x="298440" y="3497400"/>
            <a:ext cx="19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Подарував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94"/>
          <p:cNvSpPr/>
          <p:nvPr/>
        </p:nvSpPr>
        <p:spPr>
          <a:xfrm>
            <a:off x="2246400" y="201924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т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95"/>
          <p:cNvSpPr/>
          <p:nvPr/>
        </p:nvSpPr>
        <p:spPr>
          <a:xfrm>
            <a:off x="336600" y="38448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Ста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Выгнутая вверх стрелка 98"/>
          <p:cNvSpPr/>
          <p:nvPr/>
        </p:nvSpPr>
        <p:spPr>
          <a:xfrm>
            <a:off x="5692680" y="1409760"/>
            <a:ext cx="1816200" cy="298440"/>
          </a:xfrm>
          <a:custGeom>
            <a:avLst/>
            <a:gdLst>
              <a:gd name="textAreaLeft" fmla="*/ 425880 w 1816200"/>
              <a:gd name="textAreaRight" fmla="*/ 1352880 w 1816200"/>
              <a:gd name="textAreaTop" fmla="*/ 39960 h 298440"/>
              <a:gd name="textAreaBottom" fmla="*/ 2584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35" hR="21600" stAng="10800000" swAng="5400000"/>
                <a:lnTo>
                  <a:pt x="11022" y="0"/>
                </a:lnTo>
                <a:arcTo wR="10135" hR="21600" stAng="-5400000" swAng="3670540"/>
                <a:lnTo>
                  <a:pt x="21278" y="16200"/>
                </a:lnTo>
                <a:lnTo>
                  <a:pt x="20713" y="21600"/>
                </a:lnTo>
                <a:lnTo>
                  <a:pt x="19503" y="16200"/>
                </a:lnTo>
                <a:lnTo>
                  <a:pt x="19947" y="16200"/>
                </a:lnTo>
                <a:arcTo wR="10135" hR="21600" stAng="-1729460" swAng="-3599897"/>
                <a:lnTo>
                  <a:pt x="10578" y="21"/>
                </a:lnTo>
                <a:arcTo wR="10135" hR="21600" stAng="-5470643" swAng="-5329357"/>
                <a:close/>
              </a:path>
              <a:path fill="darkenLess" w="21600" h="21600">
                <a:moveTo>
                  <a:pt x="0" y="21600"/>
                </a:moveTo>
                <a:arcTo wR="10135" hR="21600" stAng="10800000" swAng="5400000"/>
                <a:lnTo>
                  <a:pt x="10135" y="0"/>
                </a:lnTo>
                <a:arcTo wR="10135" hR="21600" stAng="-5400000" swAng="70643"/>
                <a:lnTo>
                  <a:pt x="10578" y="21"/>
                </a:lnTo>
                <a:arcTo wR="10135" hR="21600" stAng="-5470643" swAng="-5329357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Выгнутая вверх стрелка 99"/>
          <p:cNvSpPr/>
          <p:nvPr/>
        </p:nvSpPr>
        <p:spPr>
          <a:xfrm flipH="1">
            <a:off x="581760" y="2019240"/>
            <a:ext cx="2063880" cy="203400"/>
          </a:xfrm>
          <a:custGeom>
            <a:avLst/>
            <a:gdLst>
              <a:gd name="textAreaLeft" fmla="*/ 496440 w 2063880"/>
              <a:gd name="textAreaRight" fmla="*/ 1541160 w 2063880"/>
              <a:gd name="textAreaTop" fmla="*/ 27000 h 203400"/>
              <a:gd name="textAreaBottom" fmla="*/ 176400 h 203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2" hR="21600" stAng="10800000" swAng="5400000"/>
                <a:lnTo>
                  <a:pt x="10933" y="0"/>
                </a:lnTo>
                <a:arcTo wR="10402" hR="21600" stAng="-5400000" swAng="3708036"/>
                <a:lnTo>
                  <a:pt x="21270" y="16200"/>
                </a:lnTo>
                <a:lnTo>
                  <a:pt x="21069" y="21600"/>
                </a:lnTo>
                <a:lnTo>
                  <a:pt x="20207" y="16200"/>
                </a:lnTo>
                <a:lnTo>
                  <a:pt x="20473" y="16200"/>
                </a:lnTo>
                <a:arcTo wR="10402" hR="21600" stAng="-1691964" swAng="-3665768"/>
                <a:lnTo>
                  <a:pt x="10667" y="7"/>
                </a:lnTo>
                <a:arcTo wR="10402" hR="21600" stAng="-5442267" swAng="-5357733"/>
                <a:close/>
              </a:path>
              <a:path fill="darkenLess" w="21600" h="21600">
                <a:moveTo>
                  <a:pt x="0" y="21600"/>
                </a:moveTo>
                <a:arcTo wR="10402" hR="21600" stAng="10800000" swAng="5400000"/>
                <a:lnTo>
                  <a:pt x="10402" y="0"/>
                </a:lnTo>
                <a:arcTo wR="10402" hR="21600" stAng="-5400000" swAng="42267"/>
                <a:lnTo>
                  <a:pt x="10667" y="7"/>
                </a:lnTo>
                <a:arcTo wR="10402" hR="21600" stAng="-5442267" swAng="-5357733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00"/>
          <p:cNvSpPr/>
          <p:nvPr/>
        </p:nvSpPr>
        <p:spPr>
          <a:xfrm>
            <a:off x="1618920" y="386712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3032280" y="3002040"/>
            <a:ext cx="6018120" cy="13683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ая соединительная линия 26"/>
          <p:cNvSpPr/>
          <p:nvPr/>
        </p:nvSpPr>
        <p:spPr>
          <a:xfrm>
            <a:off x="3457440" y="3782880"/>
            <a:ext cx="11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ая соединительная линия 109"/>
          <p:cNvSpPr/>
          <p:nvPr/>
        </p:nvSpPr>
        <p:spPr>
          <a:xfrm flipV="1">
            <a:off x="3457440" y="366696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ая соединительная линия 110"/>
          <p:cNvSpPr/>
          <p:nvPr/>
        </p:nvSpPr>
        <p:spPr>
          <a:xfrm flipV="1">
            <a:off x="4614840" y="36795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11"/>
          <p:cNvSpPr/>
          <p:nvPr/>
        </p:nvSpPr>
        <p:spPr>
          <a:xfrm flipV="1" rot="10571400">
            <a:off x="6140160" y="61405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112"/>
          <p:cNvSpPr/>
          <p:nvPr/>
        </p:nvSpPr>
        <p:spPr>
          <a:xfrm flipV="1" rot="10571400">
            <a:off x="6292440" y="629316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13"/>
          <p:cNvSpPr/>
          <p:nvPr/>
        </p:nvSpPr>
        <p:spPr>
          <a:xfrm flipV="1" rot="10800000">
            <a:off x="7232760" y="29772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114"/>
          <p:cNvSpPr/>
          <p:nvPr/>
        </p:nvSpPr>
        <p:spPr>
          <a:xfrm flipV="1" rot="10800000">
            <a:off x="7726320" y="2980800"/>
            <a:ext cx="4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15"/>
          <p:cNvSpPr/>
          <p:nvPr/>
        </p:nvSpPr>
        <p:spPr>
          <a:xfrm flipV="1" rot="10800000">
            <a:off x="8164440" y="2975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16"/>
          <p:cNvSpPr/>
          <p:nvPr/>
        </p:nvSpPr>
        <p:spPr>
          <a:xfrm flipV="1" rot="10800000">
            <a:off x="7250040" y="3403080"/>
            <a:ext cx="13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7"/>
          <p:cNvSpPr/>
          <p:nvPr/>
        </p:nvSpPr>
        <p:spPr>
          <a:xfrm flipV="1" rot="10800000">
            <a:off x="8197560" y="390744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8"/>
          <p:cNvSpPr/>
          <p:nvPr/>
        </p:nvSpPr>
        <p:spPr>
          <a:xfrm flipV="1" rot="10800000">
            <a:off x="3890880" y="2975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19"/>
          <p:cNvSpPr/>
          <p:nvPr/>
        </p:nvSpPr>
        <p:spPr>
          <a:xfrm flipV="1" rot="10800000">
            <a:off x="4979880" y="2961360"/>
            <a:ext cx="4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20"/>
          <p:cNvSpPr/>
          <p:nvPr/>
        </p:nvSpPr>
        <p:spPr>
          <a:xfrm flipV="1" rot="10800000">
            <a:off x="4397400" y="40122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ая соединительная линия 7170"/>
          <p:cNvSpPr/>
          <p:nvPr/>
        </p:nvSpPr>
        <p:spPr>
          <a:xfrm>
            <a:off x="4600440" y="3814920"/>
            <a:ext cx="901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ая соединительная линия 123"/>
          <p:cNvSpPr/>
          <p:nvPr/>
        </p:nvSpPr>
        <p:spPr>
          <a:xfrm flipV="1">
            <a:off x="4622760" y="37080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ая соединительная линия 124"/>
          <p:cNvSpPr/>
          <p:nvPr/>
        </p:nvSpPr>
        <p:spPr>
          <a:xfrm flipV="1">
            <a:off x="5502240" y="37080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авая круглая скобка 137"/>
          <p:cNvSpPr/>
          <p:nvPr/>
        </p:nvSpPr>
        <p:spPr>
          <a:xfrm flipH="1" rot="5400000">
            <a:off x="3932280" y="2984760"/>
            <a:ext cx="206280" cy="1157400"/>
          </a:xfrm>
          <a:custGeom>
            <a:avLst/>
            <a:gdLst>
              <a:gd name="textAreaLeft" fmla="*/ -360 w 206280"/>
              <a:gd name="textAreaRight" fmla="*/ 144360 w 206280"/>
              <a:gd name="textAreaTop" fmla="*/ 206280 h 1157400"/>
              <a:gd name="textAreaBottom" fmla="*/ 951120 h 11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851"/>
                  <a:pt x="21600" y="7702"/>
                </a:cubicBezTo>
                <a:lnTo>
                  <a:pt x="21600" y="13898"/>
                </a:lnTo>
                <a:cubicBezTo>
                  <a:pt x="21600" y="17749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авая круглая скобка 138"/>
          <p:cNvSpPr/>
          <p:nvPr/>
        </p:nvSpPr>
        <p:spPr>
          <a:xfrm flipH="1" rot="5400000">
            <a:off x="4948920" y="3152880"/>
            <a:ext cx="220680" cy="889200"/>
          </a:xfrm>
          <a:custGeom>
            <a:avLst/>
            <a:gdLst>
              <a:gd name="textAreaLeft" fmla="*/ -360 w 220680"/>
              <a:gd name="textAreaRight" fmla="*/ 154440 w 220680"/>
              <a:gd name="textAreaTop" fmla="*/ 220680 h 889200"/>
              <a:gd name="textAreaBottom" fmla="*/ 668520 h 8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360"/>
                  <a:pt x="21600" y="10720"/>
                </a:cubicBezTo>
                <a:lnTo>
                  <a:pt x="21600" y="10880"/>
                </a:lnTo>
                <a:cubicBezTo>
                  <a:pt x="21600" y="1624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авая круглая скобка 139"/>
          <p:cNvSpPr/>
          <p:nvPr/>
        </p:nvSpPr>
        <p:spPr>
          <a:xfrm rot="5400000">
            <a:off x="4392000" y="2985120"/>
            <a:ext cx="203040" cy="2021040"/>
          </a:xfrm>
          <a:custGeom>
            <a:avLst/>
            <a:gdLst>
              <a:gd name="textAreaLeft" fmla="*/ 0 w 203040"/>
              <a:gd name="textAreaRight" fmla="*/ 142560 w 203040"/>
              <a:gd name="textAreaTop" fmla="*/ 203040 h 2021040"/>
              <a:gd name="textAreaBottom" fmla="*/ 18180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172"/>
                  <a:pt x="21600" y="4343"/>
                </a:cubicBezTo>
                <a:lnTo>
                  <a:pt x="21600" y="17257"/>
                </a:lnTo>
                <a:cubicBezTo>
                  <a:pt x="21600" y="19429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50"/>
          <p:cNvSpPr/>
          <p:nvPr/>
        </p:nvSpPr>
        <p:spPr>
          <a:xfrm>
            <a:off x="7423920" y="322416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50"/>
          <p:cNvSpPr/>
          <p:nvPr/>
        </p:nvSpPr>
        <p:spPr>
          <a:xfrm>
            <a:off x="7754400" y="37051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2"/>
          <p:cNvSpPr/>
          <p:nvPr/>
        </p:nvSpPr>
        <p:spPr>
          <a:xfrm>
            <a:off x="1577880" y="309240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2244960" y="345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345960" y="836640"/>
            <a:ext cx="756936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В Юлі було 8 фіалок. Вона віддала подрузі 2 фіалки. Скільки фіалок залишилось у Юлі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74"/>
          <p:cNvSpPr/>
          <p:nvPr/>
        </p:nvSpPr>
        <p:spPr>
          <a:xfrm>
            <a:off x="720720" y="836640"/>
            <a:ext cx="702144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Times New Roman"/>
              </a:rPr>
              <a:t>В Юлі було 8 фіалок. Вона віддала подрузі 2 фіалк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1" descr=""/>
          <p:cNvPicPr/>
          <p:nvPr/>
        </p:nvPicPr>
        <p:blipFill>
          <a:blip r:embed="rId1"/>
          <a:stretch/>
        </p:blipFill>
        <p:spPr>
          <a:xfrm>
            <a:off x="7840800" y="836640"/>
            <a:ext cx="1266840" cy="8319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5"/>
          <p:cNvSpPr/>
          <p:nvPr/>
        </p:nvSpPr>
        <p:spPr>
          <a:xfrm>
            <a:off x="345960" y="1206360"/>
            <a:ext cx="482436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фіалок залишилось у Юлі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Овал 76"/>
          <p:cNvSpPr/>
          <p:nvPr/>
        </p:nvSpPr>
        <p:spPr>
          <a:xfrm>
            <a:off x="2295360" y="9223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Овал 77"/>
          <p:cNvSpPr/>
          <p:nvPr/>
        </p:nvSpPr>
        <p:spPr>
          <a:xfrm>
            <a:off x="6372360" y="898560"/>
            <a:ext cx="2854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Скругленный прямоугольник 78"/>
          <p:cNvSpPr/>
          <p:nvPr/>
        </p:nvSpPr>
        <p:spPr>
          <a:xfrm>
            <a:off x="128520" y="2695680"/>
            <a:ext cx="2630520" cy="130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79"/>
          <p:cNvSpPr/>
          <p:nvPr/>
        </p:nvSpPr>
        <p:spPr>
          <a:xfrm>
            <a:off x="1577880" y="83988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бу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80"/>
          <p:cNvSpPr/>
          <p:nvPr/>
        </p:nvSpPr>
        <p:spPr>
          <a:xfrm>
            <a:off x="4226040" y="833400"/>
            <a:ext cx="12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ідд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81"/>
          <p:cNvSpPr/>
          <p:nvPr/>
        </p:nvSpPr>
        <p:spPr>
          <a:xfrm>
            <a:off x="255600" y="272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82"/>
          <p:cNvSpPr/>
          <p:nvPr/>
        </p:nvSpPr>
        <p:spPr>
          <a:xfrm>
            <a:off x="255600" y="3094200"/>
            <a:ext cx="15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Віддал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3"/>
          <p:cNvSpPr/>
          <p:nvPr/>
        </p:nvSpPr>
        <p:spPr>
          <a:xfrm>
            <a:off x="336600" y="3448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Times New Roman"/>
              </a:rPr>
              <a:t>Залишилос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84"/>
          <p:cNvSpPr/>
          <p:nvPr/>
        </p:nvSpPr>
        <p:spPr>
          <a:xfrm>
            <a:off x="2401920" y="120636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залишило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2803680" y="2732040"/>
            <a:ext cx="6019560" cy="1370160"/>
          </a:xfrm>
          <a:prstGeom prst="rect">
            <a:avLst/>
          </a:prstGeom>
          <a:ln w="0">
            <a:noFill/>
          </a:ln>
        </p:spPr>
      </p:pic>
      <p:sp>
        <p:nvSpPr>
          <p:cNvPr id="228" name="Выгнутая вверх стрелка 87"/>
          <p:cNvSpPr/>
          <p:nvPr/>
        </p:nvSpPr>
        <p:spPr>
          <a:xfrm>
            <a:off x="1903320" y="620640"/>
            <a:ext cx="534960" cy="293760"/>
          </a:xfrm>
          <a:custGeom>
            <a:avLst/>
            <a:gdLst>
              <a:gd name="textAreaLeft" fmla="*/ 106200 w 534960"/>
              <a:gd name="textAreaRight" fmla="*/ 392040 w 534960"/>
              <a:gd name="textAreaTop" fmla="*/ 39240 h 293760"/>
              <a:gd name="textAreaBottom" fmla="*/ 254520 h 293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7" hR="21600" stAng="10800000" swAng="5400000"/>
                <a:lnTo>
                  <a:pt x="11542" y="0"/>
                </a:lnTo>
                <a:arcTo wR="8577" hR="21600" stAng="-5400000" swAng="3417900"/>
                <a:lnTo>
                  <a:pt x="21328" y="16200"/>
                </a:lnTo>
                <a:lnTo>
                  <a:pt x="18636" y="21600"/>
                </a:lnTo>
                <a:lnTo>
                  <a:pt x="15399" y="16200"/>
                </a:lnTo>
                <a:lnTo>
                  <a:pt x="16881" y="16200"/>
                </a:lnTo>
                <a:arcTo wR="8577" hR="21600" stAng="-1982100" swAng="-3178733"/>
                <a:lnTo>
                  <a:pt x="10059" y="325"/>
                </a:lnTo>
                <a:arcTo wR="8577" hR="21600" stAng="-5639167" swAng="-5160833"/>
                <a:close/>
              </a:path>
              <a:path fill="darkenLess" w="21600" h="21600">
                <a:moveTo>
                  <a:pt x="0" y="21600"/>
                </a:moveTo>
                <a:arcTo wR="8577" hR="21600" stAng="10800000" swAng="5400000"/>
                <a:lnTo>
                  <a:pt x="8577" y="0"/>
                </a:lnTo>
                <a:arcTo wR="8577" hR="21600" stAng="-5400000" swAng="239167"/>
                <a:lnTo>
                  <a:pt x="10059" y="325"/>
                </a:lnTo>
                <a:arcTo wR="8577" hR="21600" stAng="-5639167" swAng="-5160833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88"/>
          <p:cNvSpPr/>
          <p:nvPr/>
        </p:nvSpPr>
        <p:spPr>
          <a:xfrm>
            <a:off x="1239480" y="272412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8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Выгнутая вверх стрелка 89"/>
          <p:cNvSpPr/>
          <p:nvPr/>
        </p:nvSpPr>
        <p:spPr>
          <a:xfrm>
            <a:off x="4967280" y="630360"/>
            <a:ext cx="1548000" cy="268200"/>
          </a:xfrm>
          <a:custGeom>
            <a:avLst/>
            <a:gdLst>
              <a:gd name="textAreaLeft" fmla="*/ 361800 w 1548000"/>
              <a:gd name="textAreaRight" fmla="*/ 1152720 w 1548000"/>
              <a:gd name="textAreaTop" fmla="*/ 35640 h 268200"/>
              <a:gd name="textAreaBottom" fmla="*/ 232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98" hR="21600" stAng="10800000" swAng="5400000"/>
                <a:lnTo>
                  <a:pt x="11034" y="0"/>
                </a:lnTo>
                <a:arcTo wR="10098" hR="21600" stAng="-5400000" swAng="3665295"/>
                <a:lnTo>
                  <a:pt x="21279" y="16200"/>
                </a:lnTo>
                <a:lnTo>
                  <a:pt x="20664" y="21600"/>
                </a:lnTo>
                <a:lnTo>
                  <a:pt x="19407" y="16200"/>
                </a:lnTo>
                <a:lnTo>
                  <a:pt x="19875" y="16200"/>
                </a:lnTo>
                <a:arcTo wR="10098" hR="21600" stAng="-1734705" swAng="-3590742"/>
                <a:lnTo>
                  <a:pt x="10566" y="23"/>
                </a:lnTo>
                <a:arcTo wR="10098" hR="21600" stAng="-5474553" swAng="-5325447"/>
                <a:close/>
              </a:path>
              <a:path fill="darkenLess" w="21600" h="21600">
                <a:moveTo>
                  <a:pt x="0" y="21600"/>
                </a:moveTo>
                <a:arcTo wR="10098" hR="21600" stAng="10800000" swAng="5400000"/>
                <a:lnTo>
                  <a:pt x="10098" y="0"/>
                </a:lnTo>
                <a:arcTo wR="10098" hR="21600" stAng="-5400000" swAng="74553"/>
                <a:lnTo>
                  <a:pt x="10566" y="23"/>
                </a:lnTo>
                <a:arcTo wR="10098" hR="21600" stAng="-5474553" swAng="-5325447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Выгнутая вверх стрелка 90"/>
          <p:cNvSpPr/>
          <p:nvPr/>
        </p:nvSpPr>
        <p:spPr>
          <a:xfrm flipH="1">
            <a:off x="1015920" y="1209600"/>
            <a:ext cx="1711440" cy="195480"/>
          </a:xfrm>
          <a:custGeom>
            <a:avLst/>
            <a:gdLst>
              <a:gd name="textAreaLeft" fmla="*/ 409320 w 1711440"/>
              <a:gd name="textAreaRight" fmla="*/ 1277640 w 1711440"/>
              <a:gd name="textAreaTop" fmla="*/ 25920 h 195480"/>
              <a:gd name="textAreaBottom" fmla="*/ 169560 h 19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38" hR="21600" stAng="10800000" swAng="5400000"/>
                <a:lnTo>
                  <a:pt x="10954" y="0"/>
                </a:lnTo>
                <a:arcTo wR="10338" hR="21600" stAng="-5400000" swAng="3699254"/>
                <a:lnTo>
                  <a:pt x="21272" y="16200"/>
                </a:lnTo>
                <a:lnTo>
                  <a:pt x="20984" y="21600"/>
                </a:lnTo>
                <a:lnTo>
                  <a:pt x="20040" y="16200"/>
                </a:lnTo>
                <a:lnTo>
                  <a:pt x="20348" y="16200"/>
                </a:lnTo>
                <a:arcTo wR="10338" hR="21600" stAng="-1700746" swAng="-3650216"/>
                <a:lnTo>
                  <a:pt x="10646" y="10"/>
                </a:lnTo>
                <a:arcTo wR="10338" hR="21600" stAng="-5449038" swAng="-5350962"/>
                <a:close/>
              </a:path>
              <a:path fill="darkenLess" w="21600" h="21600">
                <a:moveTo>
                  <a:pt x="0" y="21600"/>
                </a:moveTo>
                <a:arcTo wR="10338" hR="21600" stAng="10800000" swAng="5400000"/>
                <a:lnTo>
                  <a:pt x="10338" y="0"/>
                </a:lnTo>
                <a:arcTo wR="10338" hR="21600" stAng="-5400000" swAng="49038"/>
                <a:lnTo>
                  <a:pt x="10646" y="10"/>
                </a:lnTo>
                <a:arcTo wR="10338" hR="21600" stAng="-5449038" swAng="-5350962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5"/>
          <p:cNvSpPr/>
          <p:nvPr/>
        </p:nvSpPr>
        <p:spPr>
          <a:xfrm>
            <a:off x="3222720" y="3554280"/>
            <a:ext cx="1815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93"/>
          <p:cNvSpPr/>
          <p:nvPr/>
        </p:nvSpPr>
        <p:spPr>
          <a:xfrm flipV="1">
            <a:off x="3240000" y="343044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94"/>
          <p:cNvSpPr/>
          <p:nvPr/>
        </p:nvSpPr>
        <p:spPr>
          <a:xfrm flipV="1">
            <a:off x="5038560" y="344628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95"/>
          <p:cNvSpPr/>
          <p:nvPr/>
        </p:nvSpPr>
        <p:spPr>
          <a:xfrm>
            <a:off x="7022520" y="271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96"/>
          <p:cNvSpPr/>
          <p:nvPr/>
        </p:nvSpPr>
        <p:spPr>
          <a:xfrm>
            <a:off x="7473240" y="271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97"/>
          <p:cNvSpPr/>
          <p:nvPr/>
        </p:nvSpPr>
        <p:spPr>
          <a:xfrm>
            <a:off x="7026840" y="315756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 –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98"/>
          <p:cNvSpPr/>
          <p:nvPr/>
        </p:nvSpPr>
        <p:spPr>
          <a:xfrm>
            <a:off x="7967160" y="26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99"/>
          <p:cNvSpPr/>
          <p:nvPr/>
        </p:nvSpPr>
        <p:spPr>
          <a:xfrm>
            <a:off x="7967160" y="3619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100"/>
          <p:cNvSpPr/>
          <p:nvPr/>
        </p:nvSpPr>
        <p:spPr>
          <a:xfrm>
            <a:off x="3817440" y="263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01"/>
          <p:cNvSpPr/>
          <p:nvPr/>
        </p:nvSpPr>
        <p:spPr>
          <a:xfrm>
            <a:off x="373212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02"/>
          <p:cNvSpPr/>
          <p:nvPr/>
        </p:nvSpPr>
        <p:spPr>
          <a:xfrm>
            <a:off x="463176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авая круглая скобка 103"/>
          <p:cNvSpPr/>
          <p:nvPr/>
        </p:nvSpPr>
        <p:spPr>
          <a:xfrm flipH="1" rot="5400000">
            <a:off x="4017600" y="2430000"/>
            <a:ext cx="243000" cy="1798560"/>
          </a:xfrm>
          <a:custGeom>
            <a:avLst/>
            <a:gdLst>
              <a:gd name="textAreaLeft" fmla="*/ -360 w 243000"/>
              <a:gd name="textAreaRight" fmla="*/ 170280 w 243000"/>
              <a:gd name="textAreaTop" fmla="*/ 242640 h 1798560"/>
              <a:gd name="textAreaBottom" fmla="*/ 1555920 h 17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916"/>
                  <a:pt x="21600" y="5832"/>
                </a:cubicBezTo>
                <a:lnTo>
                  <a:pt x="21600" y="15768"/>
                </a:lnTo>
                <a:cubicBezTo>
                  <a:pt x="21600" y="18684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04"/>
          <p:cNvSpPr/>
          <p:nvPr/>
        </p:nvSpPr>
        <p:spPr>
          <a:xfrm>
            <a:off x="4567320" y="3554280"/>
            <a:ext cx="485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05"/>
          <p:cNvSpPr/>
          <p:nvPr/>
        </p:nvSpPr>
        <p:spPr>
          <a:xfrm flipV="1">
            <a:off x="4567320" y="34477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06"/>
          <p:cNvSpPr/>
          <p:nvPr/>
        </p:nvSpPr>
        <p:spPr>
          <a:xfrm flipV="1">
            <a:off x="5019840" y="34477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авая круглая скобка 107"/>
          <p:cNvSpPr/>
          <p:nvPr/>
        </p:nvSpPr>
        <p:spPr>
          <a:xfrm rot="5400000">
            <a:off x="4725720" y="3524400"/>
            <a:ext cx="168120" cy="485640"/>
          </a:xfrm>
          <a:custGeom>
            <a:avLst/>
            <a:gdLst>
              <a:gd name="textAreaLeft" fmla="*/ 0 w 168120"/>
              <a:gd name="textAreaRight" fmla="*/ 118080 w 168120"/>
              <a:gd name="textAreaTop" fmla="*/ 168120 h 485640"/>
              <a:gd name="textAreaBottom" fmla="*/ 3175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481"/>
                  <a:pt x="21600" y="14961"/>
                </a:cubicBezTo>
                <a:lnTo>
                  <a:pt x="21600" y="6639"/>
                </a:lnTo>
                <a:cubicBezTo>
                  <a:pt x="21600" y="1412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авая круглая скобка 108"/>
          <p:cNvSpPr/>
          <p:nvPr/>
        </p:nvSpPr>
        <p:spPr>
          <a:xfrm rot="5400000">
            <a:off x="3799440" y="3123360"/>
            <a:ext cx="198360" cy="1317600"/>
          </a:xfrm>
          <a:custGeom>
            <a:avLst/>
            <a:gdLst>
              <a:gd name="textAreaLeft" fmla="*/ 0 w 198360"/>
              <a:gd name="textAreaRight" fmla="*/ 139320 w 198360"/>
              <a:gd name="textAreaTop" fmla="*/ 198360 h 1317600"/>
              <a:gd name="textAreaBottom" fmla="*/ 1119240 h 13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252"/>
                  <a:pt x="21600" y="6504"/>
                </a:cubicBezTo>
                <a:lnTo>
                  <a:pt x="21600" y="15096"/>
                </a:lnTo>
                <a:cubicBezTo>
                  <a:pt x="21600" y="1834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50"/>
          <p:cNvSpPr/>
          <p:nvPr/>
        </p:nvSpPr>
        <p:spPr>
          <a:xfrm>
            <a:off x="7357320" y="294948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50"/>
          <p:cNvSpPr/>
          <p:nvPr/>
        </p:nvSpPr>
        <p:spPr>
          <a:xfrm>
            <a:off x="7643160" y="341784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2"/>
          <p:cNvSpPr/>
          <p:nvPr/>
        </p:nvSpPr>
        <p:spPr>
          <a:xfrm>
            <a:off x="168120" y="73008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Закінчи виконання короткого запис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0" y="1484280"/>
            <a:ext cx="914400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У Наталки було 8 цибулин тюльпанів. Вона посадила 3 цибулини. Скільки цибулин залишилося посади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Блок-схема: альтернативный процесс 8"/>
          <p:cNvSpPr/>
          <p:nvPr/>
        </p:nvSpPr>
        <p:spPr>
          <a:xfrm>
            <a:off x="239760" y="2917800"/>
            <a:ext cx="2700360" cy="1297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1484280" y="29163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8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21"/>
          <p:cNvSpPr/>
          <p:nvPr/>
        </p:nvSpPr>
        <p:spPr>
          <a:xfrm>
            <a:off x="2009880" y="33004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3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2370240" y="3639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67"/>
          <p:cNvSpPr/>
          <p:nvPr/>
        </p:nvSpPr>
        <p:spPr>
          <a:xfrm>
            <a:off x="0" y="1854360"/>
            <a:ext cx="547704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цибулин залишилося посадит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8"/>
          <p:cNvSpPr/>
          <p:nvPr/>
        </p:nvSpPr>
        <p:spPr>
          <a:xfrm>
            <a:off x="331920" y="1484280"/>
            <a:ext cx="879444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У Наталки було 8 цибулин тюльпанів. Вона посадила 3 цибули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Овал 69"/>
          <p:cNvSpPr/>
          <p:nvPr/>
        </p:nvSpPr>
        <p:spPr>
          <a:xfrm>
            <a:off x="2471760" y="154152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Овал 70"/>
          <p:cNvSpPr/>
          <p:nvPr/>
        </p:nvSpPr>
        <p:spPr>
          <a:xfrm>
            <a:off x="7364520" y="1541520"/>
            <a:ext cx="2854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76"/>
          <p:cNvSpPr/>
          <p:nvPr/>
        </p:nvSpPr>
        <p:spPr>
          <a:xfrm>
            <a:off x="1768320" y="148896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бу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331920" y="2917800"/>
            <a:ext cx="11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Бул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78"/>
          <p:cNvSpPr/>
          <p:nvPr/>
        </p:nvSpPr>
        <p:spPr>
          <a:xfrm>
            <a:off x="331920" y="3300480"/>
            <a:ext cx="18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осадил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79"/>
          <p:cNvSpPr/>
          <p:nvPr/>
        </p:nvSpPr>
        <p:spPr>
          <a:xfrm>
            <a:off x="331920" y="3662280"/>
            <a:ext cx="21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Залишилос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80"/>
          <p:cNvSpPr/>
          <p:nvPr/>
        </p:nvSpPr>
        <p:spPr>
          <a:xfrm>
            <a:off x="6039000" y="146376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посад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81"/>
          <p:cNvSpPr/>
          <p:nvPr/>
        </p:nvSpPr>
        <p:spPr>
          <a:xfrm>
            <a:off x="2273400" y="18543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залишило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Выгнутая вверх стрелка 82"/>
          <p:cNvSpPr/>
          <p:nvPr/>
        </p:nvSpPr>
        <p:spPr>
          <a:xfrm>
            <a:off x="2144880" y="1192320"/>
            <a:ext cx="534960" cy="291960"/>
          </a:xfrm>
          <a:custGeom>
            <a:avLst/>
            <a:gdLst>
              <a:gd name="textAreaLeft" fmla="*/ 106200 w 534960"/>
              <a:gd name="textAreaRight" fmla="*/ 392040 w 534960"/>
              <a:gd name="textAreaTop" fmla="*/ 38880 h 291960"/>
              <a:gd name="textAreaBottom" fmla="*/ 253080 h 291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89" hR="21600" stAng="10800000" swAng="5400000"/>
                <a:lnTo>
                  <a:pt x="11538" y="0"/>
                </a:lnTo>
                <a:arcTo wR="8589" hR="21600" stAng="-5400000" swAng="3420096"/>
                <a:lnTo>
                  <a:pt x="21327" y="16200"/>
                </a:lnTo>
                <a:lnTo>
                  <a:pt x="18652" y="21600"/>
                </a:lnTo>
                <a:lnTo>
                  <a:pt x="15430" y="16200"/>
                </a:lnTo>
                <a:lnTo>
                  <a:pt x="16904" y="16200"/>
                </a:lnTo>
                <a:arcTo wR="8589" hR="21600" stAng="-1979904" swAng="-3182265"/>
                <a:lnTo>
                  <a:pt x="10063" y="321"/>
                </a:lnTo>
                <a:arcTo wR="8589" hR="21600" stAng="-5637831" swAng="-5162169"/>
                <a:close/>
              </a:path>
              <a:path fill="darkenLess" w="21600" h="21600">
                <a:moveTo>
                  <a:pt x="0" y="21600"/>
                </a:moveTo>
                <a:arcTo wR="8589" hR="21600" stAng="10800000" swAng="5400000"/>
                <a:lnTo>
                  <a:pt x="8589" y="0"/>
                </a:lnTo>
                <a:arcTo wR="8589" hR="21600" stAng="-5400000" swAng="237831"/>
                <a:lnTo>
                  <a:pt x="10063" y="321"/>
                </a:lnTo>
                <a:arcTo wR="8589" hR="21600" stAng="-5637831" swAng="-5162169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Выгнутая вверх стрелка 83"/>
          <p:cNvSpPr/>
          <p:nvPr/>
        </p:nvSpPr>
        <p:spPr>
          <a:xfrm>
            <a:off x="6942240" y="1192320"/>
            <a:ext cx="534960" cy="291960"/>
          </a:xfrm>
          <a:custGeom>
            <a:avLst/>
            <a:gdLst>
              <a:gd name="textAreaLeft" fmla="*/ 106200 w 534960"/>
              <a:gd name="textAreaRight" fmla="*/ 392040 w 534960"/>
              <a:gd name="textAreaTop" fmla="*/ 38880 h 291960"/>
              <a:gd name="textAreaBottom" fmla="*/ 253080 h 291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89" hR="21600" stAng="10800000" swAng="5400000"/>
                <a:lnTo>
                  <a:pt x="11538" y="0"/>
                </a:lnTo>
                <a:arcTo wR="8589" hR="21600" stAng="-5400000" swAng="3420096"/>
                <a:lnTo>
                  <a:pt x="21327" y="16200"/>
                </a:lnTo>
                <a:lnTo>
                  <a:pt x="18652" y="21600"/>
                </a:lnTo>
                <a:lnTo>
                  <a:pt x="15430" y="16200"/>
                </a:lnTo>
                <a:lnTo>
                  <a:pt x="16904" y="16200"/>
                </a:lnTo>
                <a:arcTo wR="8589" hR="21600" stAng="-1979904" swAng="-3182265"/>
                <a:lnTo>
                  <a:pt x="10063" y="321"/>
                </a:lnTo>
                <a:arcTo wR="8589" hR="21600" stAng="-5637831" swAng="-5162169"/>
                <a:close/>
              </a:path>
              <a:path fill="darkenLess" w="21600" h="21600">
                <a:moveTo>
                  <a:pt x="0" y="21600"/>
                </a:moveTo>
                <a:arcTo wR="8589" hR="21600" stAng="10800000" swAng="5400000"/>
                <a:lnTo>
                  <a:pt x="8589" y="0"/>
                </a:lnTo>
                <a:arcTo wR="8589" hR="21600" stAng="-5400000" swAng="237831"/>
                <a:lnTo>
                  <a:pt x="10063" y="321"/>
                </a:lnTo>
                <a:arcTo wR="8589" hR="21600" stAng="-5637831" swAng="-5162169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Выгнутая вверх стрелка 84"/>
          <p:cNvSpPr/>
          <p:nvPr/>
        </p:nvSpPr>
        <p:spPr>
          <a:xfrm flipH="1">
            <a:off x="1042200" y="1854360"/>
            <a:ext cx="1451160" cy="145800"/>
          </a:xfrm>
          <a:custGeom>
            <a:avLst/>
            <a:gdLst>
              <a:gd name="textAreaLeft" fmla="*/ 348480 w 1451160"/>
              <a:gd name="textAreaRight" fmla="*/ 1083600 w 1451160"/>
              <a:gd name="textAreaTop" fmla="*/ 19440 h 145800"/>
              <a:gd name="textAreaBottom" fmla="*/ 126360 h 14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93" hR="21600" stAng="10800000" swAng="5400000"/>
                <a:lnTo>
                  <a:pt x="10936" y="0"/>
                </a:lnTo>
                <a:arcTo wR="10393" hR="21600" stAng="-5400000" swAng="3706796"/>
                <a:lnTo>
                  <a:pt x="21270" y="16200"/>
                </a:lnTo>
                <a:lnTo>
                  <a:pt x="21057" y="21600"/>
                </a:lnTo>
                <a:lnTo>
                  <a:pt x="20183" y="16200"/>
                </a:lnTo>
                <a:lnTo>
                  <a:pt x="20455" y="16200"/>
                </a:lnTo>
                <a:arcTo wR="10393" hR="21600" stAng="-1693204" swAng="-3663573"/>
                <a:lnTo>
                  <a:pt x="10664" y="7"/>
                </a:lnTo>
                <a:arcTo wR="10393" hR="21600" stAng="-5443223" swAng="-5356777"/>
                <a:close/>
              </a:path>
              <a:path fill="darkenLess" w="21600" h="21600">
                <a:moveTo>
                  <a:pt x="0" y="21600"/>
                </a:moveTo>
                <a:arcTo wR="10393" hR="21600" stAng="10800000" swAng="5400000"/>
                <a:lnTo>
                  <a:pt x="10393" y="0"/>
                </a:lnTo>
                <a:arcTo wR="10393" hR="21600" stAng="-5400000" swAng="43223"/>
                <a:lnTo>
                  <a:pt x="10664" y="7"/>
                </a:lnTo>
                <a:arcTo wR="10393" hR="21600" stAng="-5443223" swAng="-5356777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3062160" y="2825640"/>
            <a:ext cx="6018480" cy="1370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6"/>
          <p:cNvSpPr/>
          <p:nvPr/>
        </p:nvSpPr>
        <p:spPr>
          <a:xfrm>
            <a:off x="7329600" y="282564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7748640" y="282564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8196120" y="282564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90"/>
          <p:cNvSpPr/>
          <p:nvPr/>
        </p:nvSpPr>
        <p:spPr>
          <a:xfrm>
            <a:off x="7305840" y="3255840"/>
            <a:ext cx="14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 –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91"/>
          <p:cNvSpPr/>
          <p:nvPr/>
        </p:nvSpPr>
        <p:spPr>
          <a:xfrm>
            <a:off x="8136000" y="36990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92"/>
          <p:cNvSpPr/>
          <p:nvPr/>
        </p:nvSpPr>
        <p:spPr>
          <a:xfrm>
            <a:off x="4173480" y="26766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94"/>
          <p:cNvSpPr/>
          <p:nvPr/>
        </p:nvSpPr>
        <p:spPr>
          <a:xfrm>
            <a:off x="3886200" y="371808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95"/>
          <p:cNvSpPr/>
          <p:nvPr/>
        </p:nvSpPr>
        <p:spPr>
          <a:xfrm>
            <a:off x="4836960" y="371808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5"/>
          <p:cNvSpPr/>
          <p:nvPr/>
        </p:nvSpPr>
        <p:spPr>
          <a:xfrm>
            <a:off x="3519360" y="3395520"/>
            <a:ext cx="1791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96"/>
          <p:cNvSpPr/>
          <p:nvPr/>
        </p:nvSpPr>
        <p:spPr>
          <a:xfrm flipV="1">
            <a:off x="3519360" y="328752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97"/>
          <p:cNvSpPr/>
          <p:nvPr/>
        </p:nvSpPr>
        <p:spPr>
          <a:xfrm flipV="1">
            <a:off x="5310360" y="329868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авая круглая скобка 98"/>
          <p:cNvSpPr/>
          <p:nvPr/>
        </p:nvSpPr>
        <p:spPr>
          <a:xfrm flipH="1" rot="5400000">
            <a:off x="4275000" y="2307960"/>
            <a:ext cx="244440" cy="1800000"/>
          </a:xfrm>
          <a:custGeom>
            <a:avLst/>
            <a:gdLst>
              <a:gd name="textAreaLeft" fmla="*/ -360 w 244440"/>
              <a:gd name="textAreaRight" fmla="*/ 171000 w 244440"/>
              <a:gd name="textAreaTop" fmla="*/ 244080 h 1800000"/>
              <a:gd name="textAreaBottom" fmla="*/ 155592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933"/>
                  <a:pt x="21600" y="5865"/>
                </a:cubicBezTo>
                <a:lnTo>
                  <a:pt x="21600" y="15735"/>
                </a:lnTo>
                <a:cubicBezTo>
                  <a:pt x="21600" y="18668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ая соединительная линия 7"/>
          <p:cNvSpPr/>
          <p:nvPr/>
        </p:nvSpPr>
        <p:spPr>
          <a:xfrm flipV="1">
            <a:off x="4616280" y="3406320"/>
            <a:ext cx="6764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ая соединительная линия 101"/>
          <p:cNvSpPr/>
          <p:nvPr/>
        </p:nvSpPr>
        <p:spPr>
          <a:xfrm flipV="1">
            <a:off x="4600440" y="328284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ая соединительная линия 117"/>
          <p:cNvSpPr/>
          <p:nvPr/>
        </p:nvSpPr>
        <p:spPr>
          <a:xfrm flipV="1">
            <a:off x="5305320" y="3301920"/>
            <a:ext cx="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авая круглая скобка 118"/>
          <p:cNvSpPr/>
          <p:nvPr/>
        </p:nvSpPr>
        <p:spPr>
          <a:xfrm rot="5400000">
            <a:off x="4870440" y="3232080"/>
            <a:ext cx="169920" cy="709920"/>
          </a:xfrm>
          <a:custGeom>
            <a:avLst/>
            <a:gdLst>
              <a:gd name="textAreaLeft" fmla="*/ 0 w 169920"/>
              <a:gd name="textAreaRight" fmla="*/ 119160 w 169920"/>
              <a:gd name="textAreaTop" fmla="*/ 169920 h 709920"/>
              <a:gd name="textAreaBottom" fmla="*/ 540000 h 70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169"/>
                  <a:pt x="21600" y="10338"/>
                </a:cubicBezTo>
                <a:lnTo>
                  <a:pt x="21600" y="11262"/>
                </a:lnTo>
                <a:cubicBezTo>
                  <a:pt x="21600" y="16431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авая круглая скобка 119"/>
          <p:cNvSpPr/>
          <p:nvPr/>
        </p:nvSpPr>
        <p:spPr>
          <a:xfrm rot="5400000">
            <a:off x="3935520" y="3061440"/>
            <a:ext cx="239760" cy="1073160"/>
          </a:xfrm>
          <a:custGeom>
            <a:avLst/>
            <a:gdLst>
              <a:gd name="textAreaLeft" fmla="*/ 0 w 239760"/>
              <a:gd name="textAreaRight" fmla="*/ 168120 w 239760"/>
              <a:gd name="textAreaTop" fmla="*/ 239400 h 1073160"/>
              <a:gd name="textAreaBottom" fmla="*/ 833760 h 107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824"/>
                  <a:pt x="21600" y="9647"/>
                </a:cubicBezTo>
                <a:lnTo>
                  <a:pt x="21600" y="11953"/>
                </a:lnTo>
                <a:cubicBezTo>
                  <a:pt x="21600" y="16777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ая соединительная линия 20"/>
          <p:cNvSpPr/>
          <p:nvPr/>
        </p:nvSpPr>
        <p:spPr>
          <a:xfrm>
            <a:off x="3519360" y="338940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50"/>
          <p:cNvSpPr/>
          <p:nvPr/>
        </p:nvSpPr>
        <p:spPr>
          <a:xfrm>
            <a:off x="7511400" y="305604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50"/>
          <p:cNvSpPr/>
          <p:nvPr/>
        </p:nvSpPr>
        <p:spPr>
          <a:xfrm>
            <a:off x="7768800" y="349236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30"/>
          <p:cNvSpPr/>
          <p:nvPr/>
        </p:nvSpPr>
        <p:spPr>
          <a:xfrm>
            <a:off x="393840" y="141120"/>
            <a:ext cx="7802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находження невідомих зменшуваного і від'єм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982800" y="8128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Закінчи виконання короткого запис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30240" y="1484280"/>
            <a:ext cx="9144000" cy="82548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На клумбі розцвіло  9 квітів. Із них 4 тюльпани, решта-  нарцисів. Скільки  нарцисів розцвіло на клумбі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Блок-схема: альтернативный процесс 5"/>
          <p:cNvSpPr/>
          <p:nvPr/>
        </p:nvSpPr>
        <p:spPr>
          <a:xfrm>
            <a:off x="-9360" y="2633760"/>
            <a:ext cx="3306600" cy="112392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0" y="263376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Times New Roman"/>
              </a:rPr>
              <a:t>Тюльпан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2690640" y="30178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9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0"/>
          <p:cNvSpPr/>
          <p:nvPr/>
        </p:nvSpPr>
        <p:spPr>
          <a:xfrm>
            <a:off x="1836720" y="268452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в</a:t>
            </a:r>
            <a:r>
              <a:rPr b="1" lang="uk-UA" sz="24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59"/>
          <p:cNvSpPr/>
          <p:nvPr/>
        </p:nvSpPr>
        <p:spPr>
          <a:xfrm>
            <a:off x="1836720" y="322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Правая фигурная скобка 73"/>
          <p:cNvSpPr/>
          <p:nvPr/>
        </p:nvSpPr>
        <p:spPr>
          <a:xfrm>
            <a:off x="2332080" y="2763720"/>
            <a:ext cx="420480" cy="863640"/>
          </a:xfrm>
          <a:custGeom>
            <a:avLst/>
            <a:gdLst>
              <a:gd name="textAreaLeft" fmla="*/ 0 w 420480"/>
              <a:gd name="textAreaRight" fmla="*/ 151920 w 420480"/>
              <a:gd name="textAreaTop" fmla="*/ 10800 h 863640"/>
              <a:gd name="textAreaBottom" fmla="*/ 852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9"/>
                  <a:pt x="10800" y="877"/>
                </a:cubicBezTo>
                <a:lnTo>
                  <a:pt x="10800" y="9923"/>
                </a:lnTo>
                <a:cubicBezTo>
                  <a:pt x="10800" y="10362"/>
                  <a:pt x="16200" y="10800"/>
                  <a:pt x="21600" y="10800"/>
                </a:cubicBezTo>
                <a:cubicBezTo>
                  <a:pt x="16200" y="10800"/>
                  <a:pt x="10800" y="11239"/>
                  <a:pt x="10800" y="11677"/>
                </a:cubicBezTo>
                <a:lnTo>
                  <a:pt x="10800" y="20723"/>
                </a:lnTo>
                <a:cubicBezTo>
                  <a:pt x="10800" y="2116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76"/>
          <p:cNvSpPr/>
          <p:nvPr/>
        </p:nvSpPr>
        <p:spPr>
          <a:xfrm>
            <a:off x="366840" y="1484280"/>
            <a:ext cx="880740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На клумбі розцвіло  9 квітів. Із них 4 тюльпани, решта-  нарцисі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77"/>
          <p:cNvSpPr/>
          <p:nvPr/>
        </p:nvSpPr>
        <p:spPr>
          <a:xfrm>
            <a:off x="30240" y="1833480"/>
            <a:ext cx="520200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Скільки  нарцисів розцвіло на клумбі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Овал 78"/>
          <p:cNvSpPr/>
          <p:nvPr/>
        </p:nvSpPr>
        <p:spPr>
          <a:xfrm>
            <a:off x="3024360" y="1536840"/>
            <a:ext cx="2854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Овал 79"/>
          <p:cNvSpPr/>
          <p:nvPr/>
        </p:nvSpPr>
        <p:spPr>
          <a:xfrm>
            <a:off x="5051520" y="1541520"/>
            <a:ext cx="2854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80"/>
          <p:cNvSpPr/>
          <p:nvPr/>
        </p:nvSpPr>
        <p:spPr>
          <a:xfrm>
            <a:off x="5195880" y="14842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тюльп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81"/>
          <p:cNvSpPr/>
          <p:nvPr/>
        </p:nvSpPr>
        <p:spPr>
          <a:xfrm>
            <a:off x="-47520" y="3146400"/>
            <a:ext cx="18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70c0"/>
                </a:solidFill>
                <a:latin typeface="Times New Roman"/>
              </a:rPr>
              <a:t>Нарциси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2"/>
          <p:cNvSpPr/>
          <p:nvPr/>
        </p:nvSpPr>
        <p:spPr>
          <a:xfrm>
            <a:off x="7653240" y="1496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нарцис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Выгнутая вверх стрелка 83"/>
          <p:cNvSpPr/>
          <p:nvPr/>
        </p:nvSpPr>
        <p:spPr>
          <a:xfrm flipH="1">
            <a:off x="5236560" y="1228680"/>
            <a:ext cx="771480" cy="268200"/>
          </a:xfrm>
          <a:custGeom>
            <a:avLst/>
            <a:gdLst>
              <a:gd name="textAreaLeft" fmla="*/ 167400 w 771480"/>
              <a:gd name="textAreaRight" fmla="*/ 569880 w 771480"/>
              <a:gd name="textAreaTop" fmla="*/ 35640 h 268200"/>
              <a:gd name="textAreaBottom" fmla="*/ 232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92" hR="21600" stAng="10800000" swAng="5400000"/>
                <a:lnTo>
                  <a:pt x="11270" y="0"/>
                </a:lnTo>
                <a:arcTo wR="9392" hR="21600" stAng="-5400000" swAng="3557775"/>
                <a:lnTo>
                  <a:pt x="21302" y="16200"/>
                </a:lnTo>
                <a:lnTo>
                  <a:pt x="19722" y="21600"/>
                </a:lnTo>
                <a:lnTo>
                  <a:pt x="17546" y="16200"/>
                </a:lnTo>
                <a:lnTo>
                  <a:pt x="18485" y="16200"/>
                </a:lnTo>
                <a:arcTo wR="9392" hR="21600" stAng="-1842225" swAng="-3407671"/>
                <a:lnTo>
                  <a:pt x="10331" y="108"/>
                </a:lnTo>
                <a:arcTo wR="9392" hR="21600" stAng="-5550104" swAng="-5249896"/>
                <a:close/>
              </a:path>
              <a:path fill="darkenLess" w="21600" h="21600">
                <a:moveTo>
                  <a:pt x="0" y="21600"/>
                </a:moveTo>
                <a:arcTo wR="9392" hR="21600" stAng="10800000" swAng="5400000"/>
                <a:lnTo>
                  <a:pt x="9392" y="0"/>
                </a:lnTo>
                <a:arcTo wR="9392" hR="21600" stAng="-5400000" swAng="150104"/>
                <a:lnTo>
                  <a:pt x="10331" y="108"/>
                </a:lnTo>
                <a:arcTo wR="9392" hR="21600" stAng="-5550104" swAng="-5249896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Выгнутая вверх стрелка 84"/>
          <p:cNvSpPr/>
          <p:nvPr/>
        </p:nvSpPr>
        <p:spPr>
          <a:xfrm flipH="1">
            <a:off x="792000" y="1830240"/>
            <a:ext cx="858960" cy="120960"/>
          </a:xfrm>
          <a:custGeom>
            <a:avLst/>
            <a:gdLst>
              <a:gd name="textAreaLeft" fmla="*/ 203400 w 858960"/>
              <a:gd name="textAreaRight" fmla="*/ 640440 w 858960"/>
              <a:gd name="textAreaTop" fmla="*/ 16200 h 120960"/>
              <a:gd name="textAreaBottom" fmla="*/ 104760 h 1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1" hR="21600" stAng="10800000" swAng="5400000"/>
                <a:lnTo>
                  <a:pt x="10990" y="0"/>
                </a:lnTo>
                <a:arcTo wR="10231" hR="21600" stAng="-5400000" swAng="3684266"/>
                <a:lnTo>
                  <a:pt x="21275" y="16200"/>
                </a:lnTo>
                <a:lnTo>
                  <a:pt x="20842" y="21600"/>
                </a:lnTo>
                <a:lnTo>
                  <a:pt x="19758" y="16200"/>
                </a:lnTo>
                <a:lnTo>
                  <a:pt x="20137" y="16200"/>
                </a:lnTo>
                <a:arcTo wR="10231" hR="21600" stAng="-1715734" swAng="-3623831"/>
                <a:lnTo>
                  <a:pt x="10611" y="15"/>
                </a:lnTo>
                <a:arcTo wR="10231" hR="21600" stAng="-5460435" swAng="-5339565"/>
                <a:close/>
              </a:path>
              <a:path fill="darkenLess" w="21600" h="21600">
                <a:moveTo>
                  <a:pt x="0" y="21600"/>
                </a:moveTo>
                <a:arcTo wR="10231" hR="21600" stAng="10800000" swAng="5400000"/>
                <a:lnTo>
                  <a:pt x="10231" y="0"/>
                </a:lnTo>
                <a:arcTo wR="10231" hR="21600" stAng="-5400000" swAng="60435"/>
                <a:lnTo>
                  <a:pt x="10611" y="15"/>
                </a:lnTo>
                <a:arcTo wR="10231" hR="21600" stAng="-5460435" swAng="-5339565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Выгнутая вверх стрелка 85"/>
          <p:cNvSpPr/>
          <p:nvPr/>
        </p:nvSpPr>
        <p:spPr>
          <a:xfrm flipH="1">
            <a:off x="3154320" y="1274760"/>
            <a:ext cx="636480" cy="182520"/>
          </a:xfrm>
          <a:custGeom>
            <a:avLst/>
            <a:gdLst>
              <a:gd name="textAreaLeft" fmla="*/ 141840 w 636480"/>
              <a:gd name="textAreaRight" fmla="*/ 471600 w 636480"/>
              <a:gd name="textAreaTop" fmla="*/ 24480 h 182520"/>
              <a:gd name="textAreaBottom" fmla="*/ 1580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39" hR="21600" stAng="10800000" swAng="5400000"/>
                <a:lnTo>
                  <a:pt x="11188" y="0"/>
                </a:lnTo>
                <a:arcTo wR="9639" hR="21600" stAng="-5400000" swAng="3596710"/>
                <a:lnTo>
                  <a:pt x="21294" y="16200"/>
                </a:lnTo>
                <a:lnTo>
                  <a:pt x="20052" y="21600"/>
                </a:lnTo>
                <a:lnTo>
                  <a:pt x="18197" y="16200"/>
                </a:lnTo>
                <a:lnTo>
                  <a:pt x="18971" y="16200"/>
                </a:lnTo>
                <a:arcTo wR="9639" hR="21600" stAng="-1803290" swAng="-3473098"/>
                <a:lnTo>
                  <a:pt x="10413" y="70"/>
                </a:lnTo>
                <a:arcTo wR="9639" hR="21600" stAng="-5523612" swAng="-5276388"/>
                <a:close/>
              </a:path>
              <a:path fill="darkenLess" w="21600" h="21600">
                <a:moveTo>
                  <a:pt x="0" y="21600"/>
                </a:moveTo>
                <a:arcTo wR="9639" hR="21600" stAng="10800000" swAng="5400000"/>
                <a:lnTo>
                  <a:pt x="9639" y="0"/>
                </a:lnTo>
                <a:arcTo wR="9639" hR="21600" stAng="-5400000" swAng="123612"/>
                <a:lnTo>
                  <a:pt x="10413" y="70"/>
                </a:lnTo>
                <a:arcTo wR="9639" hR="21600" stAng="-5523612" swAng="-5276388"/>
                <a:close/>
              </a:path>
            </a:pathLst>
          </a:custGeom>
          <a:solidFill>
            <a:srgbClr val="7575d1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3313080" y="2633760"/>
            <a:ext cx="5861160" cy="13348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87"/>
          <p:cNvSpPr/>
          <p:nvPr/>
        </p:nvSpPr>
        <p:spPr>
          <a:xfrm>
            <a:off x="7445520" y="263376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88"/>
          <p:cNvSpPr/>
          <p:nvPr/>
        </p:nvSpPr>
        <p:spPr>
          <a:xfrm>
            <a:off x="74455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9 – 4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89"/>
          <p:cNvSpPr/>
          <p:nvPr/>
        </p:nvSpPr>
        <p:spPr>
          <a:xfrm>
            <a:off x="7854840" y="263376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90"/>
          <p:cNvSpPr/>
          <p:nvPr/>
        </p:nvSpPr>
        <p:spPr>
          <a:xfrm>
            <a:off x="8331120" y="263376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91"/>
          <p:cNvSpPr/>
          <p:nvPr/>
        </p:nvSpPr>
        <p:spPr>
          <a:xfrm>
            <a:off x="8331120" y="35100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50"/>
          <p:cNvSpPr/>
          <p:nvPr/>
        </p:nvSpPr>
        <p:spPr>
          <a:xfrm>
            <a:off x="7585920" y="284796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Розв'язання</a:t>
            </a:r>
            <a:r>
              <a:rPr b="1" lang="uk-UA" sz="2000" spc="-1" strike="noStrike">
                <a:solidFill>
                  <a:srgbClr val="bfbfb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50"/>
          <p:cNvSpPr/>
          <p:nvPr/>
        </p:nvSpPr>
        <p:spPr>
          <a:xfrm>
            <a:off x="7795440" y="333072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f0"/>
                </a:solidFill>
                <a:latin typeface="Times New Roman"/>
              </a:rPr>
              <a:t>Відпові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9"/>
          <p:cNvSpPr/>
          <p:nvPr/>
        </p:nvSpPr>
        <p:spPr>
          <a:xfrm>
            <a:off x="1217520" y="18334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нарцис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3279600" y="147960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в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ая соединительная линия 41"/>
          <p:cNvSpPr/>
          <p:nvPr/>
        </p:nvSpPr>
        <p:spPr>
          <a:xfrm>
            <a:off x="3757680" y="3195720"/>
            <a:ext cx="194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ая соединительная линия 42"/>
          <p:cNvSpPr/>
          <p:nvPr/>
        </p:nvSpPr>
        <p:spPr>
          <a:xfrm flipV="1">
            <a:off x="3747960" y="306504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ая соединительная линия 43"/>
          <p:cNvSpPr/>
          <p:nvPr/>
        </p:nvSpPr>
        <p:spPr>
          <a:xfrm flipV="1">
            <a:off x="5703840" y="308736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авая круглая скобка 44"/>
          <p:cNvSpPr/>
          <p:nvPr/>
        </p:nvSpPr>
        <p:spPr>
          <a:xfrm flipH="1" rot="5400000">
            <a:off x="4570560" y="1984680"/>
            <a:ext cx="285480" cy="1954440"/>
          </a:xfrm>
          <a:custGeom>
            <a:avLst/>
            <a:gdLst>
              <a:gd name="textAreaLeft" fmla="*/ -360 w 285480"/>
              <a:gd name="textAreaRight" fmla="*/ 199800 w 285480"/>
              <a:gd name="textAreaTop" fmla="*/ 285480 h 1954440"/>
              <a:gd name="textAreaBottom" fmla="*/ 1668960 h 195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158"/>
                  <a:pt x="21600" y="6315"/>
                </a:cubicBezTo>
                <a:lnTo>
                  <a:pt x="21600" y="15285"/>
                </a:lnTo>
                <a:cubicBezTo>
                  <a:pt x="21600" y="1844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45"/>
          <p:cNvSpPr/>
          <p:nvPr/>
        </p:nvSpPr>
        <p:spPr>
          <a:xfrm>
            <a:off x="4581360" y="23353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авая круглая скобка 46"/>
          <p:cNvSpPr/>
          <p:nvPr/>
        </p:nvSpPr>
        <p:spPr>
          <a:xfrm rot="5400000">
            <a:off x="4042800" y="3000240"/>
            <a:ext cx="239760" cy="836280"/>
          </a:xfrm>
          <a:custGeom>
            <a:avLst/>
            <a:gdLst>
              <a:gd name="textAreaLeft" fmla="*/ 0 w 239760"/>
              <a:gd name="textAreaRight" fmla="*/ 168120 w 239760"/>
              <a:gd name="textAreaTop" fmla="*/ 239400 h 836280"/>
              <a:gd name="textAreaBottom" fmla="*/ 596880 h 83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188"/>
                  <a:pt x="21600" y="12375"/>
                </a:cubicBezTo>
                <a:lnTo>
                  <a:pt x="21600" y="9225"/>
                </a:lnTo>
                <a:cubicBezTo>
                  <a:pt x="21600" y="15413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47"/>
          <p:cNvSpPr/>
          <p:nvPr/>
        </p:nvSpPr>
        <p:spPr>
          <a:xfrm>
            <a:off x="3757680" y="3197160"/>
            <a:ext cx="841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Прямая соединительная линия 48"/>
          <p:cNvSpPr/>
          <p:nvPr/>
        </p:nvSpPr>
        <p:spPr>
          <a:xfrm flipV="1">
            <a:off x="3757680" y="30906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ая соединительная линия 49"/>
          <p:cNvSpPr/>
          <p:nvPr/>
        </p:nvSpPr>
        <p:spPr>
          <a:xfrm flipV="1">
            <a:off x="4592520" y="3090600"/>
            <a:ext cx="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50"/>
          <p:cNvSpPr/>
          <p:nvPr/>
        </p:nvSpPr>
        <p:spPr>
          <a:xfrm>
            <a:off x="3943440" y="35384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авая круглая скобка 51"/>
          <p:cNvSpPr/>
          <p:nvPr/>
        </p:nvSpPr>
        <p:spPr>
          <a:xfrm rot="5400000">
            <a:off x="5046120" y="2881080"/>
            <a:ext cx="233280" cy="1081080"/>
          </a:xfrm>
          <a:custGeom>
            <a:avLst/>
            <a:gdLst>
              <a:gd name="textAreaLeft" fmla="*/ 0 w 233280"/>
              <a:gd name="textAreaRight" fmla="*/ 163800 w 233280"/>
              <a:gd name="textAreaTop" fmla="*/ 233280 h 1081080"/>
              <a:gd name="textAreaBottom" fmla="*/ 8478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662"/>
                  <a:pt x="21600" y="9323"/>
                </a:cubicBezTo>
                <a:lnTo>
                  <a:pt x="21600" y="12277"/>
                </a:lnTo>
                <a:cubicBezTo>
                  <a:pt x="21600" y="16939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52"/>
          <p:cNvSpPr/>
          <p:nvPr/>
        </p:nvSpPr>
        <p:spPr>
          <a:xfrm>
            <a:off x="5081760" y="3498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Lilia</cp:lastModifiedBy>
  <dcterms:modified xsi:type="dcterms:W3CDTF">2014-12-11T18:28:30Z</dcterms:modified>
  <cp:revision>220</cp:revision>
  <dc:subject/>
  <dc:title>Слайд 1</dc:title>
</cp:coreProperties>
</file>