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B387-B5CE-46F4-9C18-4F7234F8C2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C097-B959-4E00-BEFB-9CF3412A78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A2AD-A084-42E9-84E0-75743B17CE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5C0-6C19-4013-94B9-253B014D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0EA-7937-4FE7-B8F0-3F81AADB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01E-B01F-4A0D-931A-00E349B5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F4C-90FA-488F-96D6-1B2E8EF0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600-60E6-49FA-8FCA-67F5C16C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6DA-D806-4945-82F6-9B0BA54A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63A-A504-43A9-9F36-AB68374C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ABA-6F08-4FFA-ABA8-E6A57DFD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6CA-CC95-4392-A2F0-5E7197FB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EC9-AF5A-4526-AB28-F21A9CE7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1C6-CC10-4500-A83D-47CB55B9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3B5-ED1E-4054-824F-A7CBA5B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130D-5DB9-4975-9B0C-E010E2A33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dotbordr"/>
          <p:cNvPicPr/>
          <p:nvPr/>
        </p:nvPicPr>
        <p:blipFill>
          <a:blip r:embed="rId1"/>
          <a:stretch/>
        </p:blipFill>
        <p:spPr>
          <a:xfrm>
            <a:off x="0" y="0"/>
            <a:ext cx="914400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bd06937_"/>
          <p:cNvPicPr/>
          <p:nvPr/>
        </p:nvPicPr>
        <p:blipFill>
          <a:blip r:embed="rId2"/>
          <a:stretch/>
        </p:blipFill>
        <p:spPr>
          <a:xfrm>
            <a:off x="7451640" y="0"/>
            <a:ext cx="1455840" cy="1125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0920" y="18900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изитная кар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2000" y="3213000"/>
            <a:ext cx="4032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Школьный     уров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.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тная грамота» за подготовку призеров школьной олимпи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 г.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плом» за участие  в школьном туре «Учитель года – 2015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униципальный  уров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07 г.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плом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г.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тная грамо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г.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годарн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979640" y="1143000"/>
            <a:ext cx="295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азиева Василя Заки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нязевская СОШ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валификационная категор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8" descr=""/>
          <p:cNvPicPr/>
          <p:nvPr/>
        </p:nvPicPr>
        <p:blipFill>
          <a:blip r:embed="rId3"/>
          <a:stretch/>
        </p:blipFill>
        <p:spPr>
          <a:xfrm>
            <a:off x="4925880" y="5346720"/>
            <a:ext cx="4224600" cy="1359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4967280" y="112536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дагогический стаж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данном учрежден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е педагог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932360" y="2060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г., 2011 г.,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250920" y="3213000"/>
            <a:ext cx="4465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российский  уров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2 г.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плом»  интернет –портала «Доска почета учителей Росс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2 г.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плом» конкурса презентаций «ТопСлай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3/14 г.г.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плом» «Учитель цифрового ве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г.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лагодарственные письмо»  «Татартеле инфо», «Олимпиада Онлай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гиональный   уровен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09г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,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ртификат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2 г.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нятия «Математического кружка» с  помощью программного обеспечения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 Notebook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2 г.,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учебных занятий с помощью программного обеспечения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RT Notebook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077280" y="285768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ценка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3" descr="мама.JPG"/>
          <p:cNvPicPr/>
          <p:nvPr/>
        </p:nvPicPr>
        <p:blipFill>
          <a:blip r:embed="rId4"/>
          <a:stretch/>
        </p:blipFill>
        <p:spPr>
          <a:xfrm>
            <a:off x="-6480" y="1047600"/>
            <a:ext cx="19018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</a:rPr>
              <a:t>Образовательная система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 Black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Black"/>
              </a:rPr>
              <a:t>Цели обучения: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 Black"/>
              </a:rPr>
              <a:t>1) создание условий для развития личности младшего школьника, реализации его способностей, поддержка </a:t>
            </a:r>
            <a:r>
              <a:rPr b="0" i="1" lang="ru-RU" sz="1600" spc="-1" strike="noStrike">
                <a:solidFill>
                  <a:srgbClr val="000000"/>
                </a:solidFill>
                <a:latin typeface="Arial Black"/>
              </a:rPr>
              <a:t>индивидуальности</a:t>
            </a:r>
            <a:r>
              <a:rPr b="1" i="1" lang="ru-RU" sz="1600" spc="-1" strike="noStrike">
                <a:solidFill>
                  <a:srgbClr val="000000"/>
                </a:solidFill>
                <a:latin typeface="Arial Black"/>
              </a:rPr>
              <a:t>;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 Black"/>
              </a:rPr>
              <a:t>2) освоение младшим школьником системы знаний, общеучебных и предметных умений и навыков;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 Black"/>
              </a:rPr>
              <a:t>3) формирование у ребенка интереса к учению и умения учиться;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 Black"/>
              </a:rPr>
              <a:t>4) формирование здоровьесберегающих навыков, обучение основам безопасной жизне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f6228"/>
                </a:solidFill>
                <a:latin typeface="Arial Black"/>
              </a:rPr>
              <a:t>Основной особенностью методов и форм является то, что предпочтение отдается </a:t>
            </a:r>
            <a:r>
              <a:rPr b="1" i="1" lang="ru-RU" sz="1600" spc="-1" strike="noStrike" u="sng">
                <a:solidFill>
                  <a:srgbClr val="4f6228"/>
                </a:solidFill>
                <a:uFillTx/>
                <a:latin typeface="Arial Black"/>
              </a:rPr>
              <a:t>проблемно-поисковой</a:t>
            </a:r>
            <a:r>
              <a:rPr b="1" i="1" lang="ru-RU" sz="1600" spc="-1" strike="noStrike">
                <a:solidFill>
                  <a:srgbClr val="4f6228"/>
                </a:solidFill>
                <a:latin typeface="Arial Black"/>
              </a:rPr>
              <a:t> и </a:t>
            </a:r>
            <a:r>
              <a:rPr b="1" i="1" lang="ru-RU" sz="1600" spc="-1" strike="noStrike" u="sng">
                <a:solidFill>
                  <a:srgbClr val="4f6228"/>
                </a:solidFill>
                <a:uFillTx/>
                <a:latin typeface="Arial Black"/>
              </a:rPr>
              <a:t>творческой </a:t>
            </a:r>
            <a:r>
              <a:rPr b="1" i="1" lang="ru-RU" sz="1600" spc="-1" strike="noStrike">
                <a:solidFill>
                  <a:srgbClr val="4f6228"/>
                </a:solidFill>
                <a:latin typeface="Arial Black"/>
              </a:rPr>
              <a:t>деятельности младших школьников</a:t>
            </a:r>
            <a:r>
              <a:rPr b="1" i="1" lang="ru-RU" sz="1600" spc="-1" strike="noStrike">
                <a:solidFill>
                  <a:srgbClr val="4f6228"/>
                </a:solidFill>
                <a:latin typeface="Calibri"/>
              </a:rPr>
              <a:t>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84807"/>
                </a:solidFill>
                <a:latin typeface="Arial Black"/>
              </a:rPr>
              <a:t>В комплект входят учебники и учебные пособия нового поколения, отвечающие требованиям к современной учебной книге.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Матема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 записи на карточках в столбиках так, чтобы значения выражений шли в таком порядке: 16, 5, 13, 42, 54, 70. Прочитай полученно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826920" y="1989000"/>
            <a:ext cx="165744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*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484360" y="1989000"/>
            <a:ext cx="57492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3419640" y="1989000"/>
            <a:ext cx="165708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5076720" y="1989000"/>
            <a:ext cx="57492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5867280" y="1989000"/>
            <a:ext cx="165744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-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7524720" y="1989000"/>
            <a:ext cx="57636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826920" y="3284640"/>
            <a:ext cx="165744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*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3"/>
          <p:cNvSpPr/>
          <p:nvPr/>
        </p:nvSpPr>
        <p:spPr>
          <a:xfrm>
            <a:off x="2484360" y="3284640"/>
            <a:ext cx="574920" cy="792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4"/>
          <p:cNvSpPr/>
          <p:nvPr/>
        </p:nvSpPr>
        <p:spPr>
          <a:xfrm>
            <a:off x="3492360" y="3213000"/>
            <a:ext cx="165600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5148360" y="3213000"/>
            <a:ext cx="57600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9"/>
          <p:cNvSpPr/>
          <p:nvPr/>
        </p:nvSpPr>
        <p:spPr>
          <a:xfrm>
            <a:off x="5940360" y="3213000"/>
            <a:ext cx="165600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*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0"/>
          <p:cNvSpPr/>
          <p:nvPr/>
        </p:nvSpPr>
        <p:spPr>
          <a:xfrm>
            <a:off x="7596360" y="3213000"/>
            <a:ext cx="57600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Матема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427640" y="2205000"/>
            <a:ext cx="165708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*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084720" y="2205000"/>
            <a:ext cx="57492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1332000" y="1197000"/>
            <a:ext cx="165564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2987640" y="1197000"/>
            <a:ext cx="576360" cy="792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1403280" y="2276640"/>
            <a:ext cx="165600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-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3059280" y="2276640"/>
            <a:ext cx="576000" cy="792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4500720" y="3500280"/>
            <a:ext cx="165564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*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6156360" y="3500280"/>
            <a:ext cx="57636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4427640" y="1125360"/>
            <a:ext cx="1657080" cy="790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084720" y="1125360"/>
            <a:ext cx="574920" cy="7909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9"/>
          <p:cNvSpPr/>
          <p:nvPr/>
        </p:nvSpPr>
        <p:spPr>
          <a:xfrm>
            <a:off x="1403280" y="3573360"/>
            <a:ext cx="1656000" cy="7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*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0"/>
          <p:cNvSpPr/>
          <p:nvPr/>
        </p:nvSpPr>
        <p:spPr>
          <a:xfrm>
            <a:off x="3059280" y="3573360"/>
            <a:ext cx="576000" cy="7923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372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рень в слов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ежинка</a:t>
            </a: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, приставка в слов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ъехали</a:t>
            </a: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, суффикс в слов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сник</a:t>
            </a: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, окончание в слове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ки</a:t>
            </a: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СНЕЖ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тремя – это приспособление для упора ног всадника. В каком из человеческих   органов можно встретить косточку похожую на ст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кисть руки     2) нос      3) ух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i (6).jpg"/>
          <p:cNvPicPr/>
          <p:nvPr/>
        </p:nvPicPr>
        <p:blipFill>
          <a:blip r:embed="rId2"/>
          <a:stretch/>
        </p:blipFill>
        <p:spPr>
          <a:xfrm>
            <a:off x="3773520" y="4572000"/>
            <a:ext cx="23162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тремя – это приспособление для упора ног всадника. В каком из человеческих   органов можно встретить косточку похожую на ст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кисть руки     2) нос      </a:t>
            </a:r>
            <a:r>
              <a:rPr b="1" i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) ух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i (6).jpg"/>
          <p:cNvPicPr/>
          <p:nvPr/>
        </p:nvPicPr>
        <p:blipFill>
          <a:blip r:embed="rId2"/>
          <a:stretch/>
        </p:blipFill>
        <p:spPr>
          <a:xfrm>
            <a:off x="3773520" y="4432320"/>
            <a:ext cx="2316240" cy="1670040"/>
          </a:xfrm>
          <a:prstGeom prst="rect">
            <a:avLst/>
          </a:prstGeom>
          <a:ln w="0">
            <a:noFill/>
          </a:ln>
        </p:spPr>
      </p:pic>
      <p:sp>
        <p:nvSpPr>
          <p:cNvPr id="97" name="Овал 4"/>
          <p:cNvSpPr/>
          <p:nvPr/>
        </p:nvSpPr>
        <p:spPr>
          <a:xfrm>
            <a:off x="5867280" y="3500280"/>
            <a:ext cx="2233800" cy="1152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е, в группе - это одна из самых  продуктивных форм организации учебного сотрудничества де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а дает  каждому ребёнку эмоциональную и содержательную поддержку, без которой у робких и слабых детей развивается школьная тревожность, а у лидеров искажается становление характера; помогает каждому ребенку утвердиться в себ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сжат4.jpg"/>
          <p:cNvPicPr/>
          <p:nvPr/>
        </p:nvPicPr>
        <p:blipFill>
          <a:blip r:embed="rId2"/>
          <a:stretch/>
        </p:blipFill>
        <p:spPr>
          <a:xfrm>
            <a:off x="5211720" y="4071960"/>
            <a:ext cx="33656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зультат использования современных образовательных технолог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алена нистр.png"/>
          <p:cNvPicPr/>
          <p:nvPr/>
        </p:nvPicPr>
        <p:blipFill>
          <a:blip r:embed="rId2"/>
          <a:stretch/>
        </p:blipFill>
        <p:spPr>
          <a:xfrm>
            <a:off x="1395360" y="1620720"/>
            <a:ext cx="2390760" cy="2719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алена.png"/>
          <p:cNvPicPr/>
          <p:nvPr/>
        </p:nvPicPr>
        <p:blipFill>
          <a:blip r:embed="rId3"/>
          <a:stretch/>
        </p:blipFill>
        <p:spPr>
          <a:xfrm>
            <a:off x="4280040" y="1481040"/>
            <a:ext cx="2108160" cy="2511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владик.png"/>
          <p:cNvPicPr/>
          <p:nvPr/>
        </p:nvPicPr>
        <p:blipFill>
          <a:blip r:embed="rId4"/>
          <a:stretch/>
        </p:blipFill>
        <p:spPr>
          <a:xfrm>
            <a:off x="5284800" y="3852720"/>
            <a:ext cx="2438280" cy="2681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райнур.png"/>
          <p:cNvPicPr/>
          <p:nvPr/>
        </p:nvPicPr>
        <p:blipFill>
          <a:blip r:embed="rId5"/>
          <a:stretch/>
        </p:blipFill>
        <p:spPr>
          <a:xfrm>
            <a:off x="2620800" y="3713040"/>
            <a:ext cx="26895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3:09:04Z</dcterms:created>
  <dc:creator>Василя</dc:creator>
  <dc:description/>
  <dc:language>en-US</dc:language>
  <cp:lastModifiedBy>Василя</cp:lastModifiedBy>
  <dcterms:modified xsi:type="dcterms:W3CDTF">2015-01-29T13:26:36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3a0000000000010243100207f6000400038000</vt:lpwstr>
  </property>
</Properties>
</file>