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532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532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2591-B32F-4EFD-B589-4D1D0F488F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2C51-4888-4D3F-8FE9-01D863D886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B14-77A6-4348-B0A5-1FEC7883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543B-7589-4136-AC89-39D81E8B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3AB-1759-4B99-ACA5-4A614F4F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303-1C80-4D4F-84E0-1FBACF43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036-152D-48E0-9B2C-43CB4BAE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3AA-FD3A-492B-BCEC-98B2001F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B66-2503-4BEE-A6E2-056424C6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DEC-0840-441C-8581-02E194D2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E85-BC35-4EDF-B1AC-9C048DA3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3C8-86DB-44C4-B7CC-AEB2B906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ED8-D205-49B5-B3A5-142CAF54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206-F103-4666-AA5B-ABF13474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8054-6DCD-465E-AB27-54D774BF89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-129960"/>
            <a:ext cx="918036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кружающий мир, 1 класс: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познавательные УУД</a:t>
            </a:r>
            <a:endParaRPr b="1" i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79280" y="37155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0" y="549360"/>
            <a:ext cx="867564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1091880"/>
            <a:ext cx="8964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620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асть 2, с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. 48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Какие свойства живых организмов можно обнаружить у неживых предметов? А какими свойствами живых организмов они не обладают? Найди общие черты и различия в каждой паре рисунков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1096920" y="2492280"/>
            <a:ext cx="297036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508720" y="2494080"/>
            <a:ext cx="3024000" cy="160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3"/>
          <a:stretch/>
        </p:blipFill>
        <p:spPr>
          <a:xfrm>
            <a:off x="1197000" y="4581360"/>
            <a:ext cx="2870280" cy="165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2914560" cy="162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y</dc:creator>
  <dc:description/>
  <dc:language>en-US</dc:language>
  <cp:lastModifiedBy>Andrey</cp:lastModifiedBy>
  <dcterms:modified xsi:type="dcterms:W3CDTF">2012-08-21T11:39:32Z</dcterms:modified>
  <cp:revision>447</cp:revision>
  <dc:subject/>
  <dc:title>PowerPoint Presentation</dc:title>
</cp:coreProperties>
</file>