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C0A-7FAD-4F59-866A-CB33F9B9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272-34DF-48A7-82B6-3711B85D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4AC-59A3-4111-A4F7-2E5C9BEA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DC11-1473-4312-9D45-58B2EAE5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D401-F4D1-47B9-A1D1-58CD46FA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789-C29F-4004-A4F3-DA82E956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6E0-BB3F-4AD7-AB3A-E971A5D6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E2E8-69EE-48D4-BADB-ABBAAB06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95DB-6CA1-48B7-9F64-2BE4C94A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0CC-C42E-498B-B8DE-97E263C7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3468-47E9-4398-A28D-F7691121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A40-46ED-4603-95EA-CDE0DE71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8D16-5843-499E-BCF1-52A1E69DD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zvuki_prirody_-_morskoy_priboy_(zaycev.net).mp3" descr=""/>
          <p:cNvPicPr/>
          <p:nvPr/>
        </p:nvPicPr>
        <p:blipFill>
          <a:blip r:embed="rId2"/>
          <a:stretch/>
        </p:blipFill>
        <p:spPr>
          <a:xfrm>
            <a:off x="6094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209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2b2b81"/>
            </a:gs>
            <a:gs pos="100000">
              <a:srgbClr val="00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8f8f8"/>
                </a:solidFill>
                <a:latin typeface="Arial"/>
              </a:rPr>
              <a:t>Тема: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8f8f8"/>
                </a:solidFill>
                <a:latin typeface="Arial"/>
              </a:rPr>
              <a:t>«Свойства воды»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2b2b8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Вывод: вода не имеет форму, она принимает форму предметов. Это свойство воды называется теку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2209680"/>
            <a:ext cx="4648320" cy="4648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495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9360">
            <a:solidFill>
              <a:srgbClr val="2b2b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b2b81"/>
                </a:solidFill>
                <a:latin typeface="Arial"/>
              </a:rPr>
              <a:t>Свойство выталкивающая с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b2b81"/>
            </a:gs>
            <a:gs pos="50000">
              <a:srgbClr val="0066ff"/>
            </a:gs>
            <a:gs pos="100000">
              <a:srgbClr val="2b2b8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8f8f8"/>
                </a:solidFill>
                <a:latin typeface="Arial"/>
              </a:rPr>
              <a:t>Вода растворител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403848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tretch/>
        </p:blipFill>
        <p:spPr>
          <a:xfrm>
            <a:off x="5943600" y="38098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228600" y="4495680"/>
            <a:ext cx="5410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Хорошо растворяются сахар, соль и др. Не растворяются глина, речной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8f8f8"/>
                </a:solidFill>
                <a:latin typeface="Arial"/>
              </a:rPr>
              <a:t>Сжимаемость вод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487692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Вывод: вода не сжима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590920" y="1600200"/>
            <a:ext cx="34002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8f8f8"/>
                </a:solidFill>
                <a:latin typeface="Arial"/>
              </a:rPr>
              <a:t>Экономия вод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50000">
              <a:srgbClr val="6600cc"/>
            </a:gs>
            <a:gs pos="100000">
              <a:srgbClr val="00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5050"/>
                </a:solidFill>
                <a:latin typeface="Arial"/>
              </a:rPr>
              <a:t>- Что вы не знали, а сейчас узнали новое  о воде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5050"/>
                </a:solidFill>
                <a:latin typeface="Arial"/>
              </a:rPr>
              <a:t>- Что особенно понравилос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5050"/>
                </a:solidFill>
                <a:latin typeface="Arial"/>
              </a:rPr>
              <a:t>- Над чем бы вы хотели поработать на следующих уроках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0033"/>
                </a:solidFill>
                <a:latin typeface="Arial"/>
              </a:rPr>
              <a:t>Домашнее зад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Подготовить реферат на тем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«Охрана воды» - 1 ряд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«Грозная сила воды(ураганы, цунами и др.) – 2 ряд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«Вода в изображении художников» - 3 ря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19:23:19Z</dcterms:created>
  <dc:creator>Оксана</dc:creator>
  <dc:description/>
  <dc:language>en-US</dc:language>
  <cp:lastModifiedBy>Дом</cp:lastModifiedBy>
  <dcterms:modified xsi:type="dcterms:W3CDTF">2014-02-20T23:32:3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