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3.png" ContentType="image/png"/>
  <Override PartName="/ppt/media/image19.gif" ContentType="image/gif"/>
  <Override PartName="/ppt/media/image1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EFF-556C-4018-85F2-1A22929E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306-CFA4-4A74-98CB-F5938F2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E31D9-2E65-4603-B7E4-27B08F28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6EE90-5208-4563-B41B-62043B37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6D547-B5B5-49BD-975D-D29624FC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36A7E-0E8D-4332-9ADC-9134A86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94092-FA8B-4ED4-80A6-3E52388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1485-7BBD-4EA1-AA85-40F0150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03010-3C4B-4502-9A32-F5601372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C362B-E1BA-46BF-B689-1A22427C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406F3-4ED1-4E07-A063-EADDBD39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703-DBD4-4B9F-A779-5C3949F4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2E8-02C2-4E41-9CEE-9737538A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4D77-86AA-44D1-B436-2D32FE2C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5586-61E9-4E69-BA48-2863623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B970-F813-4797-8407-3E63038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F03D-2344-44E1-80DE-5322AB3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D6B0-6F3A-46AD-84F3-24F10333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EEED-FF74-4CC8-BB8E-7682B8D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4A05-4E53-4854-8997-BD19F006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BA4-1121-4B8E-8CCE-732913BC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88F5-09A5-4A2A-B06D-311EE45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B5EE-DF2C-4AE8-8CD9-84186EA2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3C9-61AB-4DBA-92EA-4B1BAE1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D5C-128D-4837-B60D-D7C0640F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EFE-A618-4DD7-ABE0-2BE15CEA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8F5F-8F05-4E42-9D05-20AD2942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90EA-961F-4CFB-B03E-009D0DE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643E-A14F-49B4-B6EA-6C413ADB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862A-1FC9-44E7-B4AA-811AFE0B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8E21-F61A-4900-B7EB-1960687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72D-B04E-47C0-8DE5-3F4E864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8D61-00C5-426A-B89F-7EF61FD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3BD5-F5A3-4F78-9E4F-71DB61E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2098-AA11-4A45-8E42-4F395B4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978F-5EA8-4A1B-B38B-5655115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5991-5806-48D8-A1FB-D99E3575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FF8A-74F9-43DF-B6BB-8686D474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9DD8-9E33-4CBF-9CA5-3F18CD2A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58BF7-9519-418E-AF61-79B32E34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950F-CE56-4C7A-83A8-C857495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8EC8-4516-4FBC-B56D-4804A9E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D19-6E68-47E7-9008-8E739945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6A00-178B-4D1F-8D7F-4ACE754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24EE-C85E-4BF1-B674-8E26700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0CF7-D3F5-4F3B-BB55-5C50125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25FA-9EAC-49DD-BF79-CF8B68A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EE51-8511-4032-8A30-A13B7951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490D-134A-43AD-A3DF-FEB55E8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0804-1C09-4A05-A0CD-C0D9272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32C3-A979-4136-AA35-F197F000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A3F5-74D7-4AD0-A22B-A06AE82A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E67C-1ED0-45E0-BE60-2B204320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565-0094-4307-8D71-CA31D1D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C5D58-8281-49A8-B7B7-1FB4C6F6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2BE06-0ECB-49CB-B77E-74856422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E37B-03E7-4E19-B5A4-4DB698C3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89A2-6391-4CDF-AADF-52D5497E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E89C-F065-436D-98F0-46E8C9D7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319E-A381-4622-AA57-39370D8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6FDF1-27E1-431A-BD19-0C1B16F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6C49-4F91-46EF-8272-D3FAD33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EF33-44B1-4DFA-A5CF-A1F0F60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27A8-7B62-4D8E-BEA8-4ACA7709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E81-9A90-4F99-A79C-4B6CC79D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DC3A-2E4E-4015-AB66-66A77F90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E94A-5C67-4F4D-A460-F83E3462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D62F1-DF72-4C16-B015-FBCE8B7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7808F-FE11-4462-8909-64462B19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3F47-4473-4CCA-8E5B-6E558A4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7143E-9CA5-4939-9188-DD9E02D4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0D5F-044C-462F-A75A-004D747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82AD-2D24-439C-8240-B693C22B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51D8-0C76-4F99-980E-4A707D5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BA39-B069-4244-9683-0783485C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E28-C136-42E5-9891-A395B7D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39598-E59B-4DBF-82F2-D997A1BC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37A4-6C8C-4960-9CE2-1C2082E8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30B28-C834-4CE9-9B8B-68B9F902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7A76-4325-44CD-A7F6-5DF52A51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C73F-3FDB-4F10-B823-BFE7348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5930-659E-43A8-BFBD-3ACF4169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6BC9-6D83-46F3-BD74-3139049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3476D-1048-4502-AE99-0CD8302E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204B-7F2F-431E-B6BE-AFF0819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7F9D1-AAC4-4296-8986-805A972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099-1C14-4BD9-9C57-EC40E87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0FD0-7FCB-4347-A3EE-D4F23B2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D708-5A27-4550-AF7D-A97B952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9B08-33A8-4B7B-9FB4-A804FB6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3E69D-6154-4361-819D-EC0CB0DC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6A87-F80B-48DD-91BF-F6A47725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21682-9F5F-4E18-80AB-3E21BCD5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0B6FD-1400-4D36-873A-C44B547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1216-5779-44F5-9FC3-16F765F4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9691-BC24-4301-AF7B-34CD866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CB89B-F4BB-4B96-A418-85AC819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159-E7B8-42F1-A51B-7CB1063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C426-F33D-4949-8E4F-E0228E2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230F7-EA6B-44CD-A57B-969C64E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C2841-E3AA-4E57-95C1-5671A23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2166-2410-4E25-A3A5-9894271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9855-35E1-4985-8C4C-BD367569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734E7-8277-4907-B25E-CD08816F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59FE-B919-4484-8E37-4ADE23AC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BD05-4586-466C-878E-60B19E02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12275-CF2B-44AF-B7CF-04202975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D7D4F-6849-4F80-B75F-5F84A52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E2D-C3CD-4CA2-801B-67405D53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7306-CDD0-4996-985B-4E39FBE95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60F3-79CB-41C5-8F90-62567FA57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C2B-FA46-416B-BEDB-081943C24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19A4-948C-4E93-8802-16BD17FE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3B4-8A86-448F-9383-8C14F528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41C8-A2C7-4441-B533-24F6FAA3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C4CF-E183-48EA-9EC1-5B57E2EC8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3186-E50A-471E-B4FF-723EAEC1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88;&#1086;&#1077;&#1082;&#1090;%20&#1069;&#1081;&#1076;&#1086;&#1089;.doc" TargetMode="External"/><Relationship Id="rId2" Type="http://schemas.openxmlformats.org/officeDocument/2006/relationships/hyperlink" Target="file:///&#1055;&#1088;&#1086;&#1077;&#1082;&#1090;%20&#1069;&#1081;&#1076;&#1086;&#1089;.doc" TargetMode="External"/><Relationship Id="rId3" Type="http://schemas.openxmlformats.org/officeDocument/2006/relationships/hyperlink" Target="file:///&#1063;&#1090;&#1086;%20&#1074;%20&#1080;&#1084;&#1077;&#1085;&#1080;%20&#1090;&#1077;&#1073;&#1077;%20&#1084;&#1086;&#1105;&#1084;.ppt" TargetMode="External"/><Relationship Id="rId4" Type="http://schemas.openxmlformats.org/officeDocument/2006/relationships/hyperlink" Target="file:///&#1063;&#1090;&#1086;%20&#1074;%20&#1080;&#1084;&#1077;&#1085;&#1080;%20&#1090;&#1077;&#1073;&#1077;%20&#1084;&#1086;&#1105;&#1084;.ppt" TargetMode="External"/><Relationship Id="rId5" Type="http://schemas.openxmlformats.org/officeDocument/2006/relationships/hyperlink" Target="file:///&#1048;&#1089;&#1089;&#1083;&#1077;&#1076;&#1086;&#1074;&#1072;&#1090;&#1077;&#1083;&#1100;&#1089;&#1082;&#1072;&#1103;%20&#1088;&#1072;&#1073;&#1086;&#1090;&#1072;%20&#1087;&#1086;.ppt" TargetMode="External"/><Relationship Id="rId6" Type="http://schemas.openxmlformats.org/officeDocument/2006/relationships/hyperlink" Target="file:///&#1055;&#1088;&#1086;&#1077;&#1082;&#1090;&#1085;&#1086;%20&#8211;%20&#1080;&#1089;&#1089;&#1083;&#1077;&#1076;&#1086;&#1074;&#1072;&#1090;&#1077;&#1083;&#1100;&#1089;&#1082;&#1072;&#1103;%20&#1088;&#1072;&#1073;&#1086;&#1090;&#1072;%20&#1047;&#1074;&#1077;&#1088;&#1082;&#1086;%20&#1042;&#1083;&#1072;&#1076;&#1080;&#1089;&#1083;&#1072;&#1074;&#1072;.ppt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83;&#1072;&#1085;&#1077;&#1090;&#1072;%20&#1079;&#1072;&#1073;&#1086;&#1083;&#1077;&#1083;&#1072;.ppt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6920" y="1628640"/>
            <a:ext cx="770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роектно-исследовательская деятельность как путь творческой реализации  младшего  школьник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5767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учитель начальных классов МБОУ «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Гаранжа В. 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49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етод проектов</a:t>
            </a: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это способ достижения дидактической цели через детальную разработку проблемы, которая должна завершиться реальным результатом, оформленным тем или иным способом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03280" y="2707920"/>
            <a:ext cx="7740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Цель внедрения проектного мет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формирования исследовательских умений учащихся, способствующих развитию творческих способнос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познавательных способностей, критического мыш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Этапы проектной деятельности: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48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Перв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мотивационный) – целеполагание, погружение в прое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Второ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ланирование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Трети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актически-деятельностный) – этап собственно-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Четвёрт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рефлексивно-оценочный) – реализация проекта и его презент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ема исследования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«Моя родословная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Объект исследования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щиеся и их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Предмет исследования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ословная каждого ученика в отд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Цель исследования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здание генеалогического дерева каждого уче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ределить понятийный аппарат используемых термин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знакомиться с историей создания и развития каждой семь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ить, какое влияние оказало создание родословной на развитие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Группы методов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Times New Roman"/>
              </a:rPr>
              <a:t>теоретическ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з литературы, моделирование общей гипотезы исследования и проектирование результатов и процессов их достижения на различных этапах поисковой работ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Times New Roman"/>
              </a:rPr>
              <a:t>эмпирические</a:t>
            </a:r>
            <a:r>
              <a:rPr b="1" lang="ru-RU" sz="2400" spc="-1" strike="noStrike">
                <a:solidFill>
                  <a:srgbClr val="cc99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просно-диагностические методы (анкетирование, беседы), анализ творческих работ, наблюдения, опытная работа и др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Times New Roman"/>
              </a:rPr>
              <a:t>статистическ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ценка статистической значимости гипоте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403280" y="549000"/>
            <a:ext cx="774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Научная новиз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ов исследования состоит в том, что в работе впервые представлен опыт изучения генеалогического дерева с учащимися начальной шко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Практическая значим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езультатов исследования определяется тем, что его результаты составляют основу для решения таких актуальных задач практики непрерывного образования педагога, как повышение самооценки ребёнка в семье, воспитание чувства гордости за своих пред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Arial"/>
              </a:rPr>
              <a:t>Разработанные в ходе исследования проекты</a:t>
            </a: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Я и моя маленькая истор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ента времени моей жизн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оя семья в лица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айна моего имен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История фамил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ой зодиакальный гороскоп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ои папа и ма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ои дедушки и бабуш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ои пред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Родословное дерев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"/>
          <p:cNvSpPr/>
          <p:nvPr/>
        </p:nvSpPr>
        <p:spPr>
          <a:xfrm>
            <a:off x="2700360" y="476280"/>
            <a:ext cx="4824360" cy="1706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алое научн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 rot="10800000">
            <a:off x="4427640" y="2421000"/>
            <a:ext cx="1287360" cy="852480"/>
          </a:xfrm>
          <a:prstGeom prst="pi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1835280" y="1989000"/>
            <a:ext cx="2665440" cy="1943280"/>
          </a:xfrm>
          <a:prstGeom prst="ellipse">
            <a:avLst/>
          </a:prstGeom>
          <a:solidFill>
            <a:srgbClr val="f0a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3708360" y="3429000"/>
            <a:ext cx="2808360" cy="2016000"/>
          </a:xfrm>
          <a:prstGeom prst="ellipse">
            <a:avLst/>
          </a:prstGeom>
          <a:solidFill>
            <a:srgbClr val="f0a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5651640" y="1989000"/>
            <a:ext cx="2665440" cy="1944720"/>
          </a:xfrm>
          <a:prstGeom prst="ellipse">
            <a:avLst/>
          </a:prstGeom>
          <a:solidFill>
            <a:srgbClr val="f0a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979640" y="2133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9-23.04.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Дистанционный конкурс-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«Моя родослов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3564000" y="3789360"/>
            <a:ext cx="45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8.05.08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Научно-практ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конфере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Защита твор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940360" y="2421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Декабрь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«Что в и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   тебе моём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 rot="7884000">
            <a:off x="3116160" y="5010120"/>
            <a:ext cx="817560" cy="217440"/>
          </a:xfrm>
          <a:prstGeom prst="rightArrow">
            <a:avLst>
              <a:gd name="adj1" fmla="val 50000"/>
              <a:gd name="adj2" fmla="val 9399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 rot="2565600">
            <a:off x="6300720" y="5013000"/>
            <a:ext cx="935280" cy="203040"/>
          </a:xfrm>
          <a:prstGeom prst="rightArrow">
            <a:avLst>
              <a:gd name="adj1" fmla="val 50000"/>
              <a:gd name="adj2" fmla="val 11516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179280" y="5445000"/>
            <a:ext cx="4321440" cy="1224000"/>
          </a:xfrm>
          <a:prstGeom prst="foldedCorner">
            <a:avLst>
              <a:gd name="adj" fmla="val 12500"/>
            </a:avLst>
          </a:prstGeom>
          <a:solidFill>
            <a:srgbClr val="f9f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4859280" y="5445000"/>
            <a:ext cx="4105440" cy="1152720"/>
          </a:xfrm>
          <a:prstGeom prst="foldedCorner">
            <a:avLst>
              <a:gd name="adj" fmla="val 12500"/>
            </a:avLst>
          </a:prstGeom>
          <a:solidFill>
            <a:srgbClr val="f9f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 flipV="1" rot="10800000">
            <a:off x="172800" y="5444640"/>
            <a:ext cx="44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овательская работа по тем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Я и моя </a:t>
            </a:r>
            <a:r>
              <a:rPr b="0" lang="ru-RU" sz="18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маленька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сто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я родослов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йникова Диана 4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4788000" y="54450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овательская работа по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Юный потом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я </a:t>
            </a:r>
            <a:r>
              <a:rPr b="0" lang="ru-RU" sz="1800" spc="-1" strike="noStrike" u="sng">
                <a:solidFill>
                  <a:srgbClr val="cc9900"/>
                </a:solidFill>
                <a:uFillTx/>
                <a:latin typeface="Arial"/>
                <a:hlinkClick r:id="rId6"/>
              </a:rPr>
              <a:t>родословна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верко Владислав 4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6" descr="100_0225"/>
          <p:cNvPicPr/>
          <p:nvPr/>
        </p:nvPicPr>
        <p:blipFill>
          <a:blip r:embed="rId7"/>
          <a:stretch/>
        </p:blipFill>
        <p:spPr>
          <a:xfrm>
            <a:off x="0" y="0"/>
            <a:ext cx="2701800" cy="202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"/>
          <p:cNvPicPr/>
          <p:nvPr/>
        </p:nvPicPr>
        <p:blipFill>
          <a:blip r:embed="rId8"/>
          <a:stretch/>
        </p:blipFill>
        <p:spPr>
          <a:xfrm>
            <a:off x="7164360" y="3500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2"/>
          <p:cNvSpPr txBox="1"/>
          <p:nvPr/>
        </p:nvSpPr>
        <p:spPr>
          <a:xfrm rot="186000">
            <a:off x="107640" y="189000"/>
            <a:ext cx="8164440" cy="34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74000"/>
                </a:gradFill>
                <a:latin typeface="Impact"/>
              </a:rPr>
              <a:t>Самородки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74000"/>
              </a:gradFill>
              <a:latin typeface="Impact"/>
              <a:ea typeface="Impact"/>
            </a:endParaRPr>
          </a:p>
        </p:txBody>
      </p:sp>
      <p:sp>
        <p:nvSpPr>
          <p:cNvPr id="426" name="WordArt 3"/>
          <p:cNvSpPr txBox="1"/>
          <p:nvPr/>
        </p:nvSpPr>
        <p:spPr>
          <a:xfrm>
            <a:off x="0" y="2349360"/>
            <a:ext cx="8540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лагодарнен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82560" y="274680"/>
            <a:ext cx="756144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Проект </a:t>
            </a:r>
            <a:br>
              <a:rPr sz="5400"/>
            </a:br>
            <a:r>
              <a:rPr b="0" i="1" lang="ru-RU" sz="54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«Планета заболела»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8" name="Picture 4" descr="img005"/>
          <p:cNvPicPr/>
          <p:nvPr/>
        </p:nvPicPr>
        <p:blipFill>
          <a:blip r:embed="rId2"/>
          <a:stretch/>
        </p:blipFill>
        <p:spPr>
          <a:xfrm>
            <a:off x="4067280" y="3213000"/>
            <a:ext cx="24843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812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Педагогическая значимость проектно-исследовательской деятельности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7667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авит ученика в позицию активного участ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аёт возможность реализовать индивидуальные творческие замыс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крывает возможности формирования жизненного оп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имулирует творчество и самостоятельность, потребность в самореализации, самовыраж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водит процесс обучения и воспитания из стен школы в окружающий ми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ализует принцип сотрудничества учащихся и взрослых, сочетая коллективное и индивидуальн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дёт учащихся по ступенькам роста личности от проекта к проек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ует информационный инструментар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 работать в коман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13916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Исследовательский метод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это путь к знанию через собственный творческий, исследовательский поиск. </a:t>
            </a:r>
            <a:br>
              <a:rPr sz="20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Цел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организации исследовательской деятельности – формирование у учащихся познавательной активности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619280" y="2349000"/>
            <a:ext cx="70437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звитие логического мышления, творческих способностей, кругозора, устной и письменной реч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звитие умения обобщать и систематизировать информацию; развитие коммуникативных ум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Формирование наблюдательности и внимания, умения работать с художественными и научными текс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бщие правила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ля работающих с детьми в этом направлении: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5596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арайтесь подходить ко всему творчес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емитесь открыть и развить в каждом ребёнке его индивидуальные наклонности и способ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риентируйтесь на процесс исследовательского поиска, а не на результа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ите способности добывать информацию, а не проглатывать её в готовом вид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арайтесь меньше заниматься наставлениями, помогайте детям действовать независимо, уклоняйтесь от прямых инструкций относительно того, чем они должны занима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 допускайте скоропалительных решений, научитесь не торопиться с вынесением оценочных суждений и учите детей поступать такж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 следует полагаться на то, что дети уже обладают определёнными базовыми навыками и знаниями, помогайте им осваивать ново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 сдерживайте инициативы детей и не делайте за них то, что они могут сделать сами, или то чему они могут научиться самостоятель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ите детей действовать независимо, приучайте их навыкам оригинального решения проблем, самостоятельным поискам и анализу ситуац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могайте детям научиться управлять процессом собственного исслед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dozen_red_roses_expand_vase_md_wht"/>
          <p:cNvPicPr/>
          <p:nvPr/>
        </p:nvPicPr>
        <p:blipFill>
          <a:blip r:embed="rId1"/>
          <a:stretch/>
        </p:blipFill>
        <p:spPr>
          <a:xfrm>
            <a:off x="5435640" y="333360"/>
            <a:ext cx="3708360" cy="3024360"/>
          </a:xfrm>
          <a:prstGeom prst="rect">
            <a:avLst/>
          </a:prstGeom>
          <a:ln w="0">
            <a:noFill/>
          </a:ln>
        </p:spPr>
      </p:pic>
      <p:sp>
        <p:nvSpPr>
          <p:cNvPr id="434" name="WordArt 2"/>
          <p:cNvSpPr txBox="1"/>
          <p:nvPr/>
        </p:nvSpPr>
        <p:spPr>
          <a:xfrm>
            <a:off x="1476360" y="981000"/>
            <a:ext cx="4897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WordArt 3"/>
          <p:cNvSpPr txBox="1"/>
          <p:nvPr/>
        </p:nvSpPr>
        <p:spPr>
          <a:xfrm>
            <a:off x="468360" y="314172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рческих успехов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6" name="Picture 5" descr="AG00130_"/>
          <p:cNvPicPr/>
          <p:nvPr/>
        </p:nvPicPr>
        <p:blipFill>
          <a:blip r:embed="rId2"/>
          <a:stretch/>
        </p:blipFill>
        <p:spPr>
          <a:xfrm>
            <a:off x="3780000" y="54000"/>
            <a:ext cx="1657080" cy="1287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AG00130_"/>
          <p:cNvPicPr/>
          <p:nvPr/>
        </p:nvPicPr>
        <p:blipFill>
          <a:blip r:embed="rId3"/>
          <a:stretch/>
        </p:blipFill>
        <p:spPr>
          <a:xfrm>
            <a:off x="5580000" y="242100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4a92e"/>
                </a:solidFill>
                <a:latin typeface="Arial"/>
              </a:rPr>
              <a:t>Этапы исследовательской работы:</a:t>
            </a:r>
            <a:endParaRPr b="0" lang="en-US" sz="31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74" name="Содержимое 8" descr=""/>
          <p:cNvPicPr/>
          <p:nvPr/>
        </p:nvPicPr>
        <p:blipFill>
          <a:blip r:embed="rId1"/>
          <a:stretch/>
        </p:blipFill>
        <p:spPr>
          <a:xfrm>
            <a:off x="1054080" y="1805040"/>
            <a:ext cx="76993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4"/>
          <p:cNvSpPr txBox="1"/>
          <p:nvPr/>
        </p:nvSpPr>
        <p:spPr>
          <a:xfrm rot="5400000">
            <a:off x="-1008000" y="317664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ормы реализаци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2700360" y="1413000"/>
            <a:ext cx="151128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2700360" y="3645000"/>
            <a:ext cx="151128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бл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16"/>
          <p:cNvSpPr txBox="1"/>
          <p:nvPr/>
        </p:nvSpPr>
        <p:spPr>
          <a:xfrm rot="5400000">
            <a:off x="2122560" y="2924640"/>
            <a:ext cx="6048720" cy="10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щита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6012000" y="1268280"/>
            <a:ext cx="2376360" cy="576360"/>
          </a:xfrm>
          <a:prstGeom prst="ellipse">
            <a:avLst/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9"/>
          <p:cNvSpPr/>
          <p:nvPr/>
        </p:nvSpPr>
        <p:spPr>
          <a:xfrm>
            <a:off x="6084720" y="3357720"/>
            <a:ext cx="2376720" cy="647640"/>
          </a:xfrm>
          <a:prstGeom prst="ellipse">
            <a:avLst/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0"/>
          <p:cNvSpPr/>
          <p:nvPr/>
        </p:nvSpPr>
        <p:spPr>
          <a:xfrm>
            <a:off x="6227640" y="5229360"/>
            <a:ext cx="2376720" cy="647640"/>
          </a:xfrm>
          <a:prstGeom prst="ellipse">
            <a:avLst/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2700360" y="5516640"/>
            <a:ext cx="1511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б-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6"/>
          <p:cNvSpPr/>
          <p:nvPr/>
        </p:nvSpPr>
        <p:spPr>
          <a:xfrm>
            <a:off x="2987640" y="476280"/>
            <a:ext cx="4608720" cy="1295280"/>
          </a:xfrm>
          <a:prstGeom prst="flowChartMulti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Методы и приё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 rot="10800000">
            <a:off x="4500720" y="5733720"/>
            <a:ext cx="3456000" cy="647640"/>
          </a:xfrm>
          <a:prstGeom prst="wedgeRectCallout">
            <a:avLst>
              <a:gd name="adj1" fmla="val 32587"/>
              <a:gd name="adj2" fmla="val 653430"/>
            </a:avLst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теоретически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 rot="10800000">
            <a:off x="1547280" y="3284280"/>
            <a:ext cx="1800360" cy="609480"/>
          </a:xfrm>
          <a:prstGeom prst="wedgeRectCallout">
            <a:avLst>
              <a:gd name="adj1" fmla="val -134569"/>
              <a:gd name="adj2" fmla="val 293750"/>
            </a:avLst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 rot="10800000">
            <a:off x="1619280" y="4365360"/>
            <a:ext cx="2160720" cy="431640"/>
          </a:xfrm>
          <a:prstGeom prst="wedgeRectCallout">
            <a:avLst>
              <a:gd name="adj1" fmla="val -105328"/>
              <a:gd name="adj2" fmla="val 643379"/>
            </a:avLst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1"/>
          <p:cNvSpPr/>
          <p:nvPr/>
        </p:nvSpPr>
        <p:spPr>
          <a:xfrm rot="10800000">
            <a:off x="6227280" y="2923920"/>
            <a:ext cx="2808360" cy="431640"/>
          </a:xfrm>
          <a:prstGeom prst="wedgeRectCallout">
            <a:avLst>
              <a:gd name="adj1" fmla="val 83745"/>
              <a:gd name="adj2" fmla="val 308453"/>
            </a:avLst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2"/>
          <p:cNvSpPr/>
          <p:nvPr/>
        </p:nvSpPr>
        <p:spPr>
          <a:xfrm rot="10800000">
            <a:off x="6084720" y="4653000"/>
            <a:ext cx="2230560" cy="720720"/>
          </a:xfrm>
          <a:prstGeom prst="wedgeRectCallout">
            <a:avLst>
              <a:gd name="adj1" fmla="val 90708"/>
              <a:gd name="adj2" fmla="val 442726"/>
            </a:avLst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овый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3"/>
          <p:cNvSpPr/>
          <p:nvPr/>
        </p:nvSpPr>
        <p:spPr>
          <a:xfrm rot="10800000">
            <a:off x="2124000" y="5516640"/>
            <a:ext cx="2232000" cy="504720"/>
          </a:xfrm>
          <a:prstGeom prst="wedgeRectCallout">
            <a:avLst>
              <a:gd name="adj1" fmla="val -82009"/>
              <a:gd name="adj2" fmla="val 783643"/>
            </a:avLst>
          </a:prstGeom>
          <a:solidFill>
            <a:srgbClr val="97e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лавные компоненты модели исследовательской деятельности учащихся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91" name="Содержимое 3" descr=""/>
          <p:cNvPicPr/>
          <p:nvPr/>
        </p:nvPicPr>
        <p:blipFill>
          <a:blip r:embed="rId1"/>
          <a:stretch/>
        </p:blipFill>
        <p:spPr>
          <a:xfrm>
            <a:off x="1133640" y="1584360"/>
            <a:ext cx="75596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поненты содержания образова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 которые формируются, исходя из концепции исследовательской деятельности учащихся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93" name="Содержимое 3" descr=""/>
          <p:cNvPicPr/>
          <p:nvPr/>
        </p:nvPicPr>
        <p:blipFill>
          <a:blip r:embed="rId1"/>
          <a:stretch/>
        </p:blipFill>
        <p:spPr>
          <a:xfrm>
            <a:off x="622440" y="1596960"/>
            <a:ext cx="789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иболее распространенные и эффективные направления исследовательской работы в начальной школе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417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Arial"/>
              </a:rPr>
              <a:t>Ключевые моменты </a:t>
            </a:r>
            <a:br>
              <a:rPr sz="3600"/>
            </a:br>
            <a:r>
              <a:rPr b="1" lang="ru-RU" sz="3600" spc="-1" strike="noStrike">
                <a:solidFill>
                  <a:srgbClr val="cc9900"/>
                </a:solidFill>
                <a:latin typeface="Arial"/>
              </a:rPr>
              <a:t>каждого этапа: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перв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ор образовательной области, учебного предмета, установление связи с программ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второй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ка содержания вводного теоретического занятия с учётом: доступности, соответствия учебной нагрузки возможностям учащихся (по сложности, продолжительности, включённости в учебный план); опоры на базовую предметную программу; количества новых понятий и схем; необходимости и доступности материала для мотивации учащихся, для пробуждения интереса к работе, выбору темы и постановке задач исслед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третий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 исследования, выдвижение гипотезы: соответствие выбираемой темы материалу курса; доступность темы по сложности и объёму работы возможностям учащихся; формулировка темы ограничивает предмет исследования и содержит проблему исследования; соответствие между задачами, целями и гипотез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четвёрт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бор и освоение методики исследования: адаптированный вариант для детского исследования; соответствие методики целям, задачам, предполагаемому объекту и характеру исследования; доступность методики для понимания и применения школьник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пятый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бор и первичная обработка материала: посильность запланированного объёма работ; доступность объекта исслед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шестой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Анализ, выводы: обсуждение и сопоставление первоначальных данных и результатов; соответствие результатов и выводов задачам и цел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Этап седьмой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езентация по итогам исследования; отражение авторской пози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3:38:59Z</dcterms:created>
  <dc:creator>Admin</dc:creator>
  <dc:description/>
  <dc:language>en-US</dc:language>
  <cp:lastModifiedBy>вера</cp:lastModifiedBy>
  <dcterms:modified xsi:type="dcterms:W3CDTF">2012-11-21T17:27:00Z</dcterms:modified>
  <cp:revision>20</cp:revision>
  <dc:subject/>
  <dc:title>Слайд 1</dc:title>
</cp:coreProperties>
</file>