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0BA-02A1-4B3F-9B0B-3CB156D2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0B7-13AB-4C2C-A0AD-6EF98B5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D82-E5CB-4491-A266-B6883E23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654-440E-4BDB-A49A-80CC2F10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0B65-3741-4900-9D85-C840F81D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D4CC-63C3-4BF0-A400-8EC38519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BF3F-476E-47BE-8AD8-4A77FA9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702F-1B25-4EE5-8962-BA7B7ACC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C5D8-94BB-41BD-A1A7-02F7208C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9C4F-E8BA-4797-B643-6582D369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FEC9-0E96-4A07-9ADF-0F8A392D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33E-C816-49D2-880C-25DC40B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9291-628F-4168-A019-1965C82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F237-04C4-42A5-B2BA-812CE937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33F4-43A0-4632-908F-5036407E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5ED6-97F5-4C70-B215-A4FFC40A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108F-8437-414F-A952-E420544E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477-BBC8-4FBB-85DD-3DA61F1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569-5B41-4E6C-BB75-62EAFDD5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BE9-61DE-4C08-9533-A554C54F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E52-60FC-4A51-8C79-1ED5527E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6F3-6051-436F-8A28-F5859CC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320-555D-4E10-9BEC-04892FAE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4AF-7B25-4F0F-A170-B552779F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7733-3FCC-4B26-9B42-C69FA86792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25C3-B8CF-40D5-AF83-44EC27F082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14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езентация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к занятию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 по логопедии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ина Лариса Владимир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Ашап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инского района Перм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52720" cy="568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838080" y="620640"/>
            <a:ext cx="3927600" cy="5616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00364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НЕГ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3927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реза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вою руку развив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AG00425_"/>
          <p:cNvPicPr/>
          <p:nvPr/>
        </p:nvPicPr>
        <p:blipFill>
          <a:blip r:embed="rId1"/>
          <a:stretch/>
        </p:blipFill>
        <p:spPr>
          <a:xfrm rot="829800">
            <a:off x="4681440" y="2630520"/>
            <a:ext cx="3791160" cy="244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Дорисуй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Line 10"/>
          <p:cNvSpPr/>
          <p:nvPr/>
        </p:nvSpPr>
        <p:spPr>
          <a:xfrm flipH="1">
            <a:off x="684000" y="1700280"/>
            <a:ext cx="50292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1187280" y="1700280"/>
            <a:ext cx="432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>
            <a:off x="1619280" y="1700280"/>
            <a:ext cx="50472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2124000" y="1700280"/>
            <a:ext cx="432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H="1">
            <a:off x="826560" y="2708280"/>
            <a:ext cx="180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826920" y="270828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476360" y="2708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476360" y="357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2195640" y="2708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2195640" y="2708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6300720" y="2924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6084720" y="2924280"/>
            <a:ext cx="216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 flipH="1" flipV="1">
            <a:off x="5435280" y="3141360"/>
            <a:ext cx="865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>
            <a:off x="5435280" y="3860640"/>
            <a:ext cx="8650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5003280" y="386064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6012000" y="4437000"/>
            <a:ext cx="28872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5003280" y="3573360"/>
            <a:ext cx="360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>
            <a:off x="5076720" y="3860640"/>
            <a:ext cx="28728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5651640" y="2997360"/>
            <a:ext cx="72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 flipH="1" flipV="1">
            <a:off x="5364000" y="3357720"/>
            <a:ext cx="43200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5363640" y="4365720"/>
            <a:ext cx="36036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1"/>
          <p:cNvSpPr/>
          <p:nvPr/>
        </p:nvSpPr>
        <p:spPr>
          <a:xfrm flipH="1">
            <a:off x="5651640" y="4365720"/>
            <a:ext cx="72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Подведём итог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26920" y="2421000"/>
            <a:ext cx="3313440" cy="3024000"/>
          </a:xfrm>
          <a:prstGeom prst="smileyFace">
            <a:avLst>
              <a:gd name="adj" fmla="val 9282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5364000" y="2492280"/>
            <a:ext cx="3168720" cy="2952720"/>
          </a:xfrm>
          <a:prstGeom prst="smileyFace">
            <a:avLst>
              <a:gd name="adj" fmla="val -4652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2484360" y="765000"/>
            <a:ext cx="4248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урок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5" descr="444"/>
          <p:cNvPicPr/>
          <p:nvPr/>
        </p:nvPicPr>
        <p:blipFill>
          <a:blip r:embed="rId1"/>
          <a:stretch/>
        </p:blipFill>
        <p:spPr>
          <a:xfrm>
            <a:off x="2843280" y="2852640"/>
            <a:ext cx="3744720" cy="345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743360" cy="632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327400" y="476280"/>
            <a:ext cx="4162320" cy="604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ff"/>
                </a:solidFill>
                <a:latin typeface="Arial"/>
              </a:rPr>
              <a:t>З – 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ff"/>
                </a:solidFill>
                <a:latin typeface="Arial"/>
              </a:rPr>
              <a:t>Ж – Ш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Найди домик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124000" y="3500280"/>
            <a:ext cx="1871640" cy="1584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2124000" y="2708280"/>
            <a:ext cx="1871640" cy="792000"/>
          </a:xfrm>
          <a:prstGeom prst="flowChartExtra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262728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2626920" y="4508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2626920" y="393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492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Кроссворд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716360" y="1844640"/>
            <a:ext cx="503280" cy="504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708360" y="1844640"/>
            <a:ext cx="503280" cy="504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203640" y="1844640"/>
            <a:ext cx="504720" cy="504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211640" y="2349360"/>
            <a:ext cx="50472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211640" y="1844640"/>
            <a:ext cx="504720" cy="504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708360" y="2349360"/>
            <a:ext cx="50328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195640" y="2349360"/>
            <a:ext cx="50472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203640" y="2349360"/>
            <a:ext cx="50472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2700360" y="2349360"/>
            <a:ext cx="50328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84360" y="2349360"/>
            <a:ext cx="50292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187280" y="2349360"/>
            <a:ext cx="50508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1692360" y="2349360"/>
            <a:ext cx="50328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3708360" y="2852640"/>
            <a:ext cx="50328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732720" y="2852640"/>
            <a:ext cx="50328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227640" y="2852640"/>
            <a:ext cx="50508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4211640" y="2852640"/>
            <a:ext cx="50472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219640" y="2852640"/>
            <a:ext cx="50472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4716360" y="2852640"/>
            <a:ext cx="50328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5724360" y="2852640"/>
            <a:ext cx="50328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7236000" y="2852640"/>
            <a:ext cx="50472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7740720" y="2852640"/>
            <a:ext cx="50328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3708360" y="3357720"/>
            <a:ext cx="503280" cy="5029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2195640" y="3357720"/>
            <a:ext cx="554040" cy="5029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3203640" y="3357720"/>
            <a:ext cx="504720" cy="5029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2700360" y="3357720"/>
            <a:ext cx="503280" cy="5029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Зимние игры на улиц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324000" y="1905120"/>
            <a:ext cx="8640720" cy="4692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1187280" y="1628640"/>
            <a:ext cx="6769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 Давайте,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охнём! 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6012000" y="4941720"/>
            <a:ext cx="1282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476360" y="4869000"/>
            <a:ext cx="134460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5724360" y="189000"/>
            <a:ext cx="1513080" cy="13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4"/>
          <a:stretch/>
        </p:blipFill>
        <p:spPr>
          <a:xfrm>
            <a:off x="1619280" y="189000"/>
            <a:ext cx="1349280" cy="136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5"/>
          <a:stretch/>
        </p:blipFill>
        <p:spPr>
          <a:xfrm>
            <a:off x="2771640" y="1484280"/>
            <a:ext cx="310536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6"/>
          <a:stretch/>
        </p:blipFill>
        <p:spPr>
          <a:xfrm>
            <a:off x="5508720" y="2492280"/>
            <a:ext cx="2232000" cy="204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7"/>
          <a:stretch/>
        </p:blipFill>
        <p:spPr>
          <a:xfrm>
            <a:off x="3851280" y="2997360"/>
            <a:ext cx="822240" cy="1225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"/>
          <p:cNvPicPr/>
          <p:nvPr/>
        </p:nvPicPr>
        <p:blipFill>
          <a:blip r:embed="rId8"/>
          <a:stretch/>
        </p:blipFill>
        <p:spPr>
          <a:xfrm>
            <a:off x="1403280" y="2133720"/>
            <a:ext cx="1525680" cy="253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7:35:02Z</dcterms:created>
  <dc:creator>User</dc:creator>
  <dc:description/>
  <dc:language>en-US</dc:language>
  <cp:lastModifiedBy>Пользователь Windows</cp:lastModifiedBy>
  <dcterms:modified xsi:type="dcterms:W3CDTF">2014-08-01T13:57:48Z</dcterms:modified>
  <cp:revision>16</cp:revision>
  <dc:subject/>
  <dc:title>Слайд 1</dc:title>
</cp:coreProperties>
</file>