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gif" ContentType="image/gif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E16-149B-4E4C-9FD1-894F96F3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729-AA6D-433E-8EA8-B8B91BC3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A3F-9F69-434A-BA89-59396DDC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C6A-5CC1-4497-8DA3-DAD72FEF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054-521E-4AA0-94B4-E129F427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F0A-A094-44C6-9384-8A3121F6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E3C-36ED-4D0E-96AB-30F97556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F6D-54B7-4B22-822A-22BDF7DB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CDB-EBD5-45E6-8A77-B8E93A18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B63-B20A-4EB4-824F-1D3F14E3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831-E8C5-4487-B994-4CFBE201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454-DD6A-4E67-8773-2289FFA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4E55-4BAD-4CA1-A954-91D748944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одительское собр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сли не мы, то кто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етям нашим по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ссию любить и 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 важно не опоз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916360" y="3860640"/>
            <a:ext cx="32065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Ознакомьтесь с пасхальными играми и проведите</a:t>
            </a:r>
            <a:br>
              <a:rPr sz="36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одну из них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1333653843_2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847800" cy="11858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195640" y="2276640"/>
            <a:ext cx="6095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 rot="997800">
            <a:off x="6516720" y="3573360"/>
            <a:ext cx="1662120" cy="1917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532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Познакомьте с техникой окрашивания пасхальных яиц.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1333653843_2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847800" cy="11858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31" descr=""/>
          <p:cNvPicPr/>
          <p:nvPr/>
        </p:nvPicPr>
        <p:blipFill>
          <a:blip r:embed="rId4"/>
          <a:stretch/>
        </p:blipFill>
        <p:spPr>
          <a:xfrm rot="20949000">
            <a:off x="2195280" y="3499920"/>
            <a:ext cx="2663640" cy="2662560"/>
          </a:xfrm>
          <a:prstGeom prst="rect">
            <a:avLst/>
          </a:prstGeom>
          <a:ln w="0">
            <a:noFill/>
          </a:ln>
        </p:spPr>
      </p:pic>
      <p:pic>
        <p:nvPicPr>
          <p:cNvPr id="198" name="Opariy-2" descr=""/>
          <p:cNvPicPr/>
          <p:nvPr/>
        </p:nvPicPr>
        <p:blipFill>
          <a:blip r:embed="rId5"/>
          <a:stretch/>
        </p:blipFill>
        <p:spPr>
          <a:xfrm>
            <a:off x="4284720" y="39337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99" name="uovo_pasqua" descr=""/>
          <p:cNvPicPr/>
          <p:nvPr/>
        </p:nvPicPr>
        <p:blipFill>
          <a:blip r:embed="rId6"/>
          <a:stretch/>
        </p:blipFill>
        <p:spPr>
          <a:xfrm>
            <a:off x="900000" y="3068640"/>
            <a:ext cx="16225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ефлексия собр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авьте СИНКВЕЙН к слову «сем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ледующим правил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я строка. 1 существитель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я строка. 2 прилагатель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я строка. 3 глаг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я строка.  Фраза из 4 слов, показывающая отношение автора к теме, его чув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я строка.  Одно слово, по сути своей синоним тому, с которого синквейн начин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8578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71640" y="981000"/>
            <a:ext cx="7272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 и понимание!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2" descr="D:\мои рисунки\школа\свитки\d9269b8db5e0.gif"/>
          <p:cNvPicPr/>
          <p:nvPr/>
        </p:nvPicPr>
        <p:blipFill>
          <a:blip r:embed="rId7"/>
          <a:stretch/>
        </p:blipFill>
        <p:spPr>
          <a:xfrm>
            <a:off x="539640" y="981000"/>
            <a:ext cx="2808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6707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«Со мной моя семь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а это значи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Я счастливей все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на этом свет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34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Brush Script MT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абота с тек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Прочит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Сделайте на полях по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V" – это я зн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+" – это новое для м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-" – я думаю ина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?" – необходимо разъя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!!" – это меня очень заинтересовало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336000">
            <a:off x="5219640" y="1557360"/>
            <a:ext cx="303840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абота с тек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Подчеркните фразы, которые соответствуют представлению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светской семье                                   о православно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2482920" cy="18637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52" name="1333653843_2" descr=""/>
          <p:cNvPicPr/>
          <p:nvPr/>
        </p:nvPicPr>
        <p:blipFill>
          <a:blip r:embed="rId3"/>
          <a:stretch/>
        </p:blipFill>
        <p:spPr>
          <a:xfrm>
            <a:off x="6084720" y="2997360"/>
            <a:ext cx="1905120" cy="26636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700360" y="4724280"/>
            <a:ext cx="914400" cy="100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940360" y="5516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4284720" y="3068640"/>
            <a:ext cx="996840" cy="996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924360" y="4005360"/>
            <a:ext cx="1657440" cy="2016000"/>
            <a:chOff x="3924360" y="4005360"/>
            <a:chExt cx="1657440" cy="2016000"/>
          </a:xfrm>
        </p:grpSpPr>
        <p:sp>
          <p:nvSpPr>
            <p:cNvPr id="57" name=""/>
            <p:cNvSpPr/>
            <p:nvPr/>
          </p:nvSpPr>
          <p:spPr>
            <a:xfrm>
              <a:off x="3924360" y="4005360"/>
              <a:ext cx="1657440" cy="20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4635360" y="4129920"/>
              <a:ext cx="878400" cy="137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"/>
            <p:cNvGrpSpPr/>
            <p:nvPr/>
          </p:nvGrpSpPr>
          <p:grpSpPr>
            <a:xfrm>
              <a:off x="3984120" y="4067640"/>
              <a:ext cx="993960" cy="1902960"/>
              <a:chOff x="3984120" y="4067640"/>
              <a:chExt cx="993960" cy="1902960"/>
            </a:xfrm>
          </p:grpSpPr>
          <p:pic>
            <p:nvPicPr>
              <p:cNvPr id="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984120" y="4067640"/>
                <a:ext cx="632880" cy="162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35000" y="5454000"/>
                <a:ext cx="343080" cy="51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2" name="1333653843_2" descr=""/>
          <p:cNvPicPr/>
          <p:nvPr/>
        </p:nvPicPr>
        <p:blipFill>
          <a:blip r:embed="rId10"/>
          <a:stretch/>
        </p:blipFill>
        <p:spPr>
          <a:xfrm>
            <a:off x="6084720" y="2997360"/>
            <a:ext cx="1905120" cy="26636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63" name="1333653843_2" descr=""/>
          <p:cNvPicPr/>
          <p:nvPr/>
        </p:nvPicPr>
        <p:blipFill>
          <a:blip r:embed="rId11"/>
          <a:stretch/>
        </p:blipFill>
        <p:spPr>
          <a:xfrm>
            <a:off x="6084720" y="2997360"/>
            <a:ext cx="1905120" cy="26636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абота  в группах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3384720" cy="25398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67" name="1333653843_2" descr=""/>
          <p:cNvPicPr/>
          <p:nvPr/>
        </p:nvPicPr>
        <p:blipFill>
          <a:blip r:embed="rId3"/>
          <a:stretch/>
        </p:blipFill>
        <p:spPr>
          <a:xfrm>
            <a:off x="5435640" y="1916280"/>
            <a:ext cx="2317680" cy="3240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Кроссворд наобо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95640" y="1197000"/>
            <a:ext cx="5113080" cy="5040360"/>
            <a:chOff x="2195640" y="1197000"/>
            <a:chExt cx="5113080" cy="5040360"/>
          </a:xfrm>
        </p:grpSpPr>
        <p:sp>
          <p:nvSpPr>
            <p:cNvPr id="70" name=""/>
            <p:cNvSpPr/>
            <p:nvPr/>
          </p:nvSpPr>
          <p:spPr>
            <a:xfrm>
              <a:off x="288360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7880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7364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6884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52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5372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4856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4376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860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380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3600" y="202500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1388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1868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2384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28640" y="1673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83600" y="2375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83600" y="2727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83600" y="3078000"/>
              <a:ext cx="294840" cy="3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8360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83600" y="378000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83600" y="4131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83600" y="4482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83600" y="4833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83600" y="5184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3600" y="553536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83600" y="588672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63680" y="132300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63680" y="202500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63680" y="2375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3680" y="2727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3680" y="3078000"/>
              <a:ext cx="294840" cy="3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6368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63680" y="378000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63680" y="4131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63680" y="4482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63680" y="4833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63680" y="5184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63680" y="553536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63680" y="588672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58520" y="4833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73640" y="4833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8840" y="4833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8520" y="588672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68840" y="588672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3380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33800" y="3078000"/>
              <a:ext cx="294840" cy="3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33800" y="2727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33800" y="237564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33800" y="202500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38600" y="588672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43760" y="588672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48560" y="588672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53720" y="588672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48560" y="4131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3720" y="4131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58520" y="4131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68840" y="4131000"/>
              <a:ext cx="294840" cy="35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23840" y="2727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8640" y="2727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43760" y="2727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38600" y="2727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7880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392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8876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2864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5372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856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376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3860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23840" y="3429360"/>
              <a:ext cx="2948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195640" y="1197000"/>
              <a:ext cx="3830400" cy="4762080"/>
              <a:chOff x="2195640" y="1197000"/>
              <a:chExt cx="3830400" cy="4762080"/>
            </a:xfrm>
          </p:grpSpPr>
          <p:sp>
            <p:nvSpPr>
              <p:cNvPr id="141" name=""/>
              <p:cNvSpPr/>
              <p:nvPr/>
            </p:nvSpPr>
            <p:spPr>
              <a:xfrm>
                <a:off x="4063680" y="1701000"/>
                <a:ext cx="294840" cy="37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2785320" y="1575000"/>
                <a:ext cx="192240" cy="2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3965400" y="1197000"/>
                <a:ext cx="192240" cy="2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4555440" y="3339000"/>
                <a:ext cx="192240" cy="2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33"/>
                    </a:solidFill>
                    <a:latin typeface="Arial"/>
                  </a:rPr>
                  <a:t>6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3670560" y="5733360"/>
                <a:ext cx="192240" cy="2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33"/>
                    </a:solidFill>
                    <a:latin typeface="Arial"/>
                  </a:rPr>
                  <a:t>9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3375360" y="4725360"/>
                <a:ext cx="192240" cy="2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33"/>
                    </a:solidFill>
                    <a:latin typeface="Arial"/>
                  </a:rPr>
                  <a:t>8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3670560" y="4095000"/>
                <a:ext cx="192240" cy="2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33"/>
                    </a:solidFill>
                    <a:latin typeface="Arial"/>
                  </a:rPr>
                  <a:t>7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195640" y="3339000"/>
                <a:ext cx="192240" cy="2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5833800" y="1448640"/>
                <a:ext cx="192240" cy="226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5145480" y="2709000"/>
                <a:ext cx="192240" cy="2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  <a:ea typeface="Arial"/>
                </a:endParaRPr>
              </a:p>
            </p:txBody>
          </p:sp>
        </p:grpSp>
      </p:grp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1297080" cy="9734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075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Объясните, что обозначают слова «мужчина» и «женщи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2708280" cy="360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1297080" cy="9734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42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Поделка со смыслом.</a:t>
            </a:r>
            <a:br>
              <a:rPr sz="36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«Рома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1296720" cy="9734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grpSp>
        <p:nvGrpSpPr>
          <p:cNvPr id="157" name=""/>
          <p:cNvGrpSpPr/>
          <p:nvPr/>
        </p:nvGrpSpPr>
        <p:grpSpPr>
          <a:xfrm>
            <a:off x="4645080" y="1760400"/>
            <a:ext cx="4028760" cy="3760920"/>
            <a:chOff x="4645080" y="1760400"/>
            <a:chExt cx="4028760" cy="3760920"/>
          </a:xfrm>
        </p:grpSpPr>
        <p:grpSp>
          <p:nvGrpSpPr>
            <p:cNvPr id="158" name=""/>
            <p:cNvGrpSpPr/>
            <p:nvPr/>
          </p:nvGrpSpPr>
          <p:grpSpPr>
            <a:xfrm>
              <a:off x="4686480" y="1797120"/>
              <a:ext cx="3965760" cy="3709080"/>
              <a:chOff x="4686480" y="1797120"/>
              <a:chExt cx="3965760" cy="3709080"/>
            </a:xfrm>
          </p:grpSpPr>
          <p:sp>
            <p:nvSpPr>
              <p:cNvPr id="159" name=""/>
              <p:cNvSpPr/>
              <p:nvPr/>
            </p:nvSpPr>
            <p:spPr>
              <a:xfrm rot="4414200">
                <a:off x="5518080" y="2439360"/>
                <a:ext cx="1653840" cy="420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4414200">
                <a:off x="6109200" y="4443120"/>
                <a:ext cx="1653840" cy="420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614200">
                <a:off x="4705560" y="3787200"/>
                <a:ext cx="1775880" cy="391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614200">
                <a:off x="6857280" y="3152520"/>
                <a:ext cx="1775880" cy="391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14200">
                <a:off x="6250320" y="3352320"/>
                <a:ext cx="747360" cy="652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645080" y="1760400"/>
              <a:ext cx="4028760" cy="3760920"/>
              <a:chOff x="4645080" y="1760400"/>
              <a:chExt cx="4028760" cy="3760920"/>
            </a:xfrm>
          </p:grpSpPr>
          <p:sp>
            <p:nvSpPr>
              <p:cNvPr id="165" name=""/>
              <p:cNvSpPr/>
              <p:nvPr/>
            </p:nvSpPr>
            <p:spPr>
              <a:xfrm rot="5970000">
                <a:off x="5985360" y="2400480"/>
                <a:ext cx="1653840" cy="420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970000">
                <a:off x="5640480" y="4460760"/>
                <a:ext cx="1653840" cy="420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70000">
                <a:off x="4665240" y="3285000"/>
                <a:ext cx="1775880" cy="3916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570000">
                <a:off x="6877800" y="3655440"/>
                <a:ext cx="1775880" cy="3916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570000">
                <a:off x="6239520" y="3331800"/>
                <a:ext cx="747360" cy="652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824360" y="1916280"/>
              <a:ext cx="3655800" cy="3433320"/>
              <a:chOff x="4824360" y="1916280"/>
              <a:chExt cx="3655800" cy="3433320"/>
            </a:xfrm>
          </p:grpSpPr>
          <p:sp>
            <p:nvSpPr>
              <p:cNvPr id="171" name=""/>
              <p:cNvSpPr/>
              <p:nvPr/>
            </p:nvSpPr>
            <p:spPr>
              <a:xfrm rot="7242000">
                <a:off x="6349320" y="2524320"/>
                <a:ext cx="1653840" cy="4204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7242000">
                <a:off x="5283000" y="4320720"/>
                <a:ext cx="1653840" cy="4204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41400">
                <a:off x="4799520" y="2895120"/>
                <a:ext cx="1775880" cy="3916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41400">
                <a:off x="6728400" y="4039920"/>
                <a:ext cx="1775880" cy="3916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41400">
                <a:off x="6237720" y="3312720"/>
                <a:ext cx="747360" cy="652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16800" y="1984320"/>
              <a:ext cx="3516840" cy="3291840"/>
              <a:chOff x="4816800" y="1984320"/>
              <a:chExt cx="3516840" cy="3291840"/>
            </a:xfrm>
          </p:grpSpPr>
          <p:sp>
            <p:nvSpPr>
              <p:cNvPr id="177" name=""/>
              <p:cNvSpPr/>
              <p:nvPr/>
            </p:nvSpPr>
            <p:spPr>
              <a:xfrm rot="8233800">
                <a:off x="6503040" y="2607480"/>
                <a:ext cx="1973160" cy="35244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8233800">
                <a:off x="4673880" y="4300200"/>
                <a:ext cx="1973160" cy="35244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833800">
                <a:off x="5186880" y="2738880"/>
                <a:ext cx="1488600" cy="467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833800">
                <a:off x="6463800" y="4118760"/>
                <a:ext cx="1488600" cy="467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833800">
                <a:off x="6229440" y="3243960"/>
                <a:ext cx="626760" cy="778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5993280" y="3270600"/>
              <a:ext cx="1041840" cy="74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940360" y="3213000"/>
            <a:ext cx="1152720" cy="816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2406960"/>
            <a:ext cx="478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что клад, коли в семье 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ейное согласие всего доро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частливая семья лучше бога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ья без детей, что цветок без запа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ья в куче, не страшна и ту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мье все согласно, значит семья прекрас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сский человек без родни не жив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семье любовь да совет, так и нужды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25560" y="764640"/>
            <a:ext cx="7246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Проинсценируйте историю появления </a:t>
            </a:r>
            <a:br>
              <a:rPr sz="36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крашеных яиц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333653843_2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847800" cy="11858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68436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431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16:29:24Z</dcterms:created>
  <dc:creator>WINDOWS</dc:creator>
  <dc:description/>
  <dc:language>en-US</dc:language>
  <cp:lastModifiedBy>WINDOWS</cp:lastModifiedBy>
  <dcterms:modified xsi:type="dcterms:W3CDTF">2013-06-24T18:03:59Z</dcterms:modified>
  <cp:revision>27</cp:revision>
  <dc:subject/>
  <dc:title>Эффективные формы ведения урока  ОРКСЭ</dc:title>
</cp:coreProperties>
</file>