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692-5EC5-48EE-8D8E-2B90687B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970-E34A-40F5-A838-73880C5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2DD-D6EA-427B-8226-72D6B653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B3D-FC4C-486B-9BBA-ACAB2D6A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C99-B909-4249-A877-73C6836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8F7-B482-4E8A-9E9B-8C42FABB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649-1DEA-491C-9BD1-4003774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868-1F5B-4E6B-8A05-483AC25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947-2AE0-4621-A0A9-DE78346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5DF-556C-47D6-BB60-121E196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9EA-7ADF-4E8B-A1E2-9C99929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F86-9811-4BC1-A20E-211408F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1EB-5234-47DD-9A9E-D826484AF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79640" y="162864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ежим дня в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627640" y="350028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ое собрани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419200" y="4941720"/>
            <a:ext cx="40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октябрьской школы Кащее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15600" y="54936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аспорядок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95280" y="1268280"/>
            <a:ext cx="66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ь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ка, ум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ка на воздухе. Помощь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дготовка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бодное время  (игры, телевиз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 Уж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 Свободное время (тихие игры, чт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 Подготовка ко 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870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48720" y="47628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125360"/>
            <a:ext cx="791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-25% первоклассников остаются здоровыми после пер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%  детей, поступающих в 1 класс, имеют нарушения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343320" y="3068640"/>
            <a:ext cx="34606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82200" y="763560"/>
            <a:ext cx="775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 учащихся имеют нарушения осанки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угубляются в первый г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двигательной активности первоклас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яет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30351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126160" y="549360"/>
            <a:ext cx="44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амятка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09160" y="1341360"/>
            <a:ext cx="87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удите ребёнка в последни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решайте ребёнку проводить за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 телевизора более 45 минут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Ребёнок должен двигаться не менее 2 часов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ной сон не должен быть менее 9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ставляйте ребёнка делать уроки перед с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39552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4067280" y="3789360"/>
            <a:ext cx="3313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enOn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ecoart.ru/cgi-bin/article.pl?idp=1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gabook.ru/DescriptionImage.asp?MID=417081&amp;AID=599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76307s002.edusite.ru/p83aa1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spitalochka.ru/showthread.php?p=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28:58Z</dcterms:created>
  <dc:creator>komp</dc:creator>
  <dc:description/>
  <dc:language>en-US</dc:language>
  <cp:lastModifiedBy>Олег</cp:lastModifiedBy>
  <dcterms:modified xsi:type="dcterms:W3CDTF">2011-11-17T17:36:12Z</dcterms:modified>
  <cp:revision>6</cp:revision>
  <dc:subject/>
  <dc:title>Слайд 1</dc:title>
</cp:coreProperties>
</file>