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431-1A9A-466E-ABF7-5AF933CD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66B-BC60-4B3E-8F89-BEF53804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F58-13B9-45CB-AC3C-3D553412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EBB-B152-4F8E-9E02-0D1C54E5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906-0913-4C4A-9DF8-A47E0C85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FBA-4DC7-4B75-A207-BA99CD05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123-9183-4DDC-8B5E-F3061223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160-F044-434D-B32E-273D89A7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CAC-B7A2-4E0F-97E1-AEC53F34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6C4-4F0E-4874-A9B3-9B94EC35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587-6149-46C1-8316-83EF9BD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903-DDC4-4B9C-B7EB-98EF80F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E695-AA16-459F-8E68-AB578F44A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76560" y="763560"/>
            <a:ext cx="222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Тем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992160" y="1785960"/>
            <a:ext cx="715320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Роль родител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в нравственном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воспитании детей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37600" y="0"/>
            <a:ext cx="69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одительское собр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760" y="1989000"/>
            <a:ext cx="92944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«Каждый дом,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где обитает любов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это и в самом деле д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бо в нем отдыхает сердце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Ван Дай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2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2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2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90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2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2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2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80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2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2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2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2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2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2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2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738880" y="189000"/>
            <a:ext cx="36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коны семь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-8280" y="907920"/>
            <a:ext cx="87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ребенок, живущий в семье, должен быть люб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 ни от 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-2520" y="1773360"/>
            <a:ext cx="866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ребенок должен жить в атмосфере искр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об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-4320" y="2673360"/>
            <a:ext cx="78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и и обычаи семьи должны быть окраш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ыми эмо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-720" y="3500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должны демонстрировать красоту сво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080" y="4221000"/>
            <a:ext cx="78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понимания ребенком слов «можно», «надо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льз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0" y="5121360"/>
            <a:ext cx="88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культивирования в семье положительных привы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867240" y="2673360"/>
            <a:ext cx="781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746520" y="333360"/>
            <a:ext cx="155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3400" y="1390680"/>
            <a:ext cx="763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едить родителей, что нравственно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залог успешного существ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а в обществ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92320" y="3009960"/>
            <a:ext cx="83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действовать укреплению взаимопоним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взрослыми и детьми посредством пр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ения единых воспитательных средств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62880" y="4905360"/>
            <a:ext cx="754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овать формированию куль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я родителей и де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100"/>
                            </p:stCondLst>
                            <p:childTnLst>
                              <p:par>
                                <p:cTn id="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4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94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719280" y="763560"/>
            <a:ext cx="79768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В семейном кругу мы с В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расте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Основа основ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родительский 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В семейном круг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	</a:t>
            </a: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все корни тво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ZapfChanceryCTT"/>
              </a:rPr>
              <a:t>И в жизнь ты входил из семь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373760" y="620640"/>
            <a:ext cx="69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Тест: « Где сидит ребенок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0"/>
          <p:cNvGrpSpPr/>
          <p:nvPr/>
        </p:nvGrpSpPr>
        <p:grpSpPr>
          <a:xfrm>
            <a:off x="4389480" y="1521000"/>
            <a:ext cx="3638160" cy="3673440"/>
            <a:chOff x="4389480" y="1521000"/>
            <a:chExt cx="3638160" cy="3673440"/>
          </a:xfrm>
        </p:grpSpPr>
        <p:sp>
          <p:nvSpPr>
            <p:cNvPr id="51" name="Oval 5"/>
            <p:cNvSpPr/>
            <p:nvPr/>
          </p:nvSpPr>
          <p:spPr>
            <a:xfrm>
              <a:off x="5856840" y="1521000"/>
              <a:ext cx="750960" cy="64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7276680" y="2600280"/>
              <a:ext cx="750960" cy="64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4389480" y="2637000"/>
              <a:ext cx="756720" cy="64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4938120" y="4257720"/>
              <a:ext cx="751320" cy="64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9"/>
            <p:cNvSpPr/>
            <p:nvPr/>
          </p:nvSpPr>
          <p:spPr>
            <a:xfrm>
              <a:off x="5898960" y="4545000"/>
              <a:ext cx="750960" cy="64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6858720" y="4257720"/>
              <a:ext cx="750960" cy="64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4643640" y="1785960"/>
              <a:ext cx="802800" cy="620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6981840" y="1785960"/>
              <a:ext cx="839520" cy="620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4461120" y="3538440"/>
              <a:ext cx="727200" cy="53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7151400" y="3611520"/>
              <a:ext cx="778680" cy="53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5"/>
          <p:cNvSpPr/>
          <p:nvPr/>
        </p:nvSpPr>
        <p:spPr>
          <a:xfrm>
            <a:off x="721440" y="180828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Б - 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793440" y="37530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 - 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758880" y="31050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 - 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757800" y="24210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 - дед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72400" y="5300640"/>
            <a:ext cx="84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1-6 - место, которое может занять реб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673360" y="326880"/>
            <a:ext cx="27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6877080" y="1557360"/>
            <a:ext cx="647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8101080" y="2637000"/>
            <a:ext cx="647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5616720" y="2673360"/>
            <a:ext cx="647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6084720" y="4294080"/>
            <a:ext cx="648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6913440" y="4581360"/>
            <a:ext cx="648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7740720" y="4294080"/>
            <a:ext cx="647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5776920" y="1859040"/>
            <a:ext cx="766800" cy="5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7931160" y="1895400"/>
            <a:ext cx="657360" cy="51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580000" y="3537000"/>
            <a:ext cx="720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7993080" y="3610080"/>
            <a:ext cx="72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7"/>
          <p:cNvSpPr/>
          <p:nvPr/>
        </p:nvSpPr>
        <p:spPr>
          <a:xfrm>
            <a:off x="468360" y="1521000"/>
            <a:ext cx="647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8"/>
          <p:cNvSpPr/>
          <p:nvPr/>
        </p:nvSpPr>
        <p:spPr>
          <a:xfrm>
            <a:off x="468360" y="2421000"/>
            <a:ext cx="647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3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468360" y="3284640"/>
            <a:ext cx="647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1306800" y="1587600"/>
            <a:ext cx="402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ивык к защите со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абушки и дед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1397880" y="2457360"/>
            <a:ext cx="42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еобходимо задуматься мам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ли п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1503360" y="3502080"/>
            <a:ext cx="19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альше вс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212560" y="635040"/>
            <a:ext cx="46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ЭКСПРЕСС-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30200" y="1484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как вы распределяете обязанности в семье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31640" y="2492280"/>
            <a:ext cx="85345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какие постоянные или временные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поручения имеет ваш ребенок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1640" y="3753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как дети относятся к их выполнению 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31640" y="4797360"/>
            <a:ext cx="85345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выполняете ли вы какую-либо рабо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вместе с ребенком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4"/>
          <p:cNvSpPr/>
          <p:nvPr/>
        </p:nvSpPr>
        <p:spPr>
          <a:xfrm>
            <a:off x="2050920" y="1376280"/>
            <a:ext cx="5472360" cy="514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 flipV="1">
            <a:off x="4859280" y="1375920"/>
            <a:ext cx="0" cy="2629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4896000" y="2241360"/>
            <a:ext cx="1981080" cy="17636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 flipH="1" flipV="1">
            <a:off x="2158560" y="3392640"/>
            <a:ext cx="2700360" cy="61272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>
            <a:off x="2268360" y="4041720"/>
            <a:ext cx="2556000" cy="8636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4284720" y="4041720"/>
            <a:ext cx="574560" cy="24116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824360" y="4005360"/>
            <a:ext cx="2700360" cy="36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4859280" y="4041720"/>
            <a:ext cx="1620720" cy="1908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341440" y="40464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месте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024360" y="2205000"/>
            <a:ext cx="159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гулят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ыхо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4931280" y="1928880"/>
            <a:ext cx="13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ходит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5291280" y="3141720"/>
            <a:ext cx="2154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обсу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успехи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336760" y="396864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читать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2769840" y="4653000"/>
            <a:ext cx="202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рассказы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о прожи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4534920" y="5229360"/>
            <a:ext cx="173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сещ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пор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5651640" y="4113360"/>
            <a:ext cx="158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сещ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шк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аз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4"/>
          <p:cNvSpPr/>
          <p:nvPr/>
        </p:nvSpPr>
        <p:spPr>
          <a:xfrm>
            <a:off x="3708360" y="-2556000"/>
            <a:ext cx="1476360" cy="25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 rot="3893400">
            <a:off x="9419400" y="-1992600"/>
            <a:ext cx="1430280" cy="255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3816360" y="6858000"/>
            <a:ext cx="1440000" cy="25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 rot="6848400">
            <a:off x="9847800" y="4956840"/>
            <a:ext cx="1432080" cy="284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 rot="18245400">
            <a:off x="-1770120" y="-2020680"/>
            <a:ext cx="1486080" cy="25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 rot="14445600">
            <a:off x="-1721160" y="6274440"/>
            <a:ext cx="1389240" cy="25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3166920" y="2673360"/>
            <a:ext cx="2665440" cy="14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 rot="2101800">
            <a:off x="1892520" y="202860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ув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890520" y="1449360"/>
            <a:ext cx="12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382560" y="3176640"/>
            <a:ext cx="22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рав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 rot="19635600">
            <a:off x="1568520" y="418284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 rot="19518600">
            <a:off x="5404320" y="198864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р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 rot="1842600">
            <a:off x="5455080" y="415908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 rot="21407400">
            <a:off x="3818520" y="490536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3 0.42916 L -4.72222E-006 -0.40162 E">
                                      <p:cBhvr>
                                        <p:cTn id="19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-0.42292 -0.29861 E">
                                      <p:cBhvr>
                                        <p:cTn id="19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41145 0.44676 E">
                                      <p:cBhvr>
                                        <p:cTn id="20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40365 -0.45949 E">
                                      <p:cBhvr>
                                        <p:cTn id="21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L 0.41546 0.45092 E">
                                      <p:cBhvr>
                                        <p:cTn id="22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3.05556E-006 -0.45139 E">
                                      <p:cBhvr>
                                        <p:cTn id="23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580680" y="2205000"/>
            <a:ext cx="788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равственность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это внутренние духовные качест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которыми руководствуется человек.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6:09:29Z</dcterms:created>
  <dc:creator>сергей</dc:creator>
  <dc:description/>
  <dc:language>en-US</dc:language>
  <cp:lastModifiedBy>user</cp:lastModifiedBy>
  <dcterms:modified xsi:type="dcterms:W3CDTF">2013-09-26T03:12:43Z</dcterms:modified>
  <cp:revision>15</cp:revision>
  <dc:subject/>
  <dc:title>Слайд 1</dc:title>
</cp:coreProperties>
</file>