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2E9-810F-4D11-A702-3AB7C33D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634-7CE8-4A8C-B808-57B81C0C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16E-C033-416C-86C8-816C4FFE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F7E-DC84-4EE3-B6F8-68FFAC57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472-830C-4D22-9B69-479AE293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0BE-F164-4E9D-8684-808073AA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0CD-03F0-46ED-A262-3FBC2328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929-98FB-4B95-9890-E5094828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B6A-3475-4A71-8937-8154C4EB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9BA-423C-47AE-B7DE-B47604DC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E8F-CA5B-418D-9E77-E53B4837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CE2-6BA4-4710-9B69-47BDE00E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8EC9-490E-4A67-87FF-9FE2F12BB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2;&#1086;&#1085;&#1080;&#1090;&#1086;&#1088;&#1080;&#1085;&#1075;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79280" y="1432080"/>
            <a:ext cx="896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«Использование ИКТ при формировании навыка самостоятельной учебной деятельности младших школьников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7480" y="6329520"/>
            <a:ext cx="88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учитель начальных классов Троицкой СОШ № 5 Куликова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8000" y="568440"/>
            <a:ext cx="89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ониторинг  педагог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2421000"/>
            <a:ext cx="84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нализ успеваемости учащихся по предмету "Окружающий мир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Мониторинг качества образования по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146480" y="3170160"/>
          <a:ext cx="851040" cy="517680"/>
        </p:xfrm>
        <a:graphic>
          <a:graphicData uri="http://schemas.openxmlformats.org/drawingml/2006/table">
            <a:tbl>
              <a:tblPr/>
              <a:tblGrid>
                <a:gridCol w="851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Object 2"/>
          <p:cNvGraphicFramePr/>
          <p:nvPr/>
        </p:nvGraphicFramePr>
        <p:xfrm>
          <a:off x="250920" y="549360"/>
          <a:ext cx="8648640" cy="280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49360"/>
                    <a:ext cx="864864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1476360" y="3610080"/>
          <a:ext cx="6010200" cy="324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610080"/>
                    <a:ext cx="601020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19"/>
          <p:cNvSpPr/>
          <p:nvPr/>
        </p:nvSpPr>
        <p:spPr>
          <a:xfrm>
            <a:off x="0" y="11592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ценка качества знаний по предмету "Окружающий мир" 2007-08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14200" y="214200"/>
            <a:ext cx="87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ниторинг качества образования по русскому языку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2007 – 0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900000" y="2205000"/>
          <a:ext cx="712800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205000"/>
                    <a:ext cx="71280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1000080" y="785880"/>
          <a:ext cx="6769080" cy="54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785880"/>
                    <a:ext cx="6769080" cy="54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Box 3"/>
          <p:cNvSpPr/>
          <p:nvPr/>
        </p:nvSpPr>
        <p:spPr>
          <a:xfrm>
            <a:off x="857160" y="0"/>
            <a:ext cx="803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чество знаний учащихся по русскому языку 2007-0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1476360" y="1052640"/>
          <a:ext cx="640872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052640"/>
                    <a:ext cx="6408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Box 3"/>
          <p:cNvSpPr/>
          <p:nvPr/>
        </p:nvSpPr>
        <p:spPr>
          <a:xfrm>
            <a:off x="857160" y="285840"/>
            <a:ext cx="79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чество знаний учащихся по русскому языку 2007-0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0" t="0" r="2343" b="0"/>
          <a:stretch/>
        </p:blipFill>
        <p:spPr>
          <a:xfrm>
            <a:off x="0" y="64296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нтернет – ресурсы, используемые в педагог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-214200" y="0"/>
            <a:ext cx="950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50920" y="352440"/>
            <a:ext cx="889308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начально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 Повышать познавательную мотивацию, делая процесс обучения интересным и продуктив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 Развивать навыки самостоятельности и само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. Включить в работу всех детей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4. Обеспечить эффективность урока и успешность каждому уче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. Достичь оптимального общего развития каждого школьника, развивая его мышление, волю, чувства, нравственные предст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Овал 3"/>
          <p:cNvSpPr/>
          <p:nvPr/>
        </p:nvSpPr>
        <p:spPr>
          <a:xfrm>
            <a:off x="1571760" y="928800"/>
            <a:ext cx="371448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4"/>
          <p:cNvSpPr/>
          <p:nvPr/>
        </p:nvSpPr>
        <p:spPr>
          <a:xfrm>
            <a:off x="7429680" y="3643200"/>
            <a:ext cx="192852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7866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estival.1september.ru/2006_2007/index.php?subject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384200" y="971640"/>
            <a:ext cx="6067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527120" y="1042920"/>
            <a:ext cx="58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239840" y="755640"/>
            <a:ext cx="67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971640" y="981000"/>
            <a:ext cx="68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естиваль педагогических идей «Открытый ур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26449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gakids.ru/search.php?query=%F3%F0%EE%EA%E8&amp;start=3&amp;search=1&amp;results=10&amp;type=and&amp;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785960" y="2286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исковик – 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53080" y="37864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google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124000" y="3357720"/>
            <a:ext cx="44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иск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303120" y="34920"/>
            <a:ext cx="86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писок информацион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1"/>
          <p:cNvSpPr/>
          <p:nvPr/>
        </p:nvSpPr>
        <p:spPr>
          <a:xfrm>
            <a:off x="232560" y="471492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/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2839320" y="4286160"/>
            <a:ext cx="33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еть творческих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3"/>
          <p:cNvSpPr/>
          <p:nvPr/>
        </p:nvSpPr>
        <p:spPr>
          <a:xfrm>
            <a:off x="0" y="578628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om.fsio.ru/item.asp?id=100048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2469240" y="521496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ртал газеты «Начальная школ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31840" y="179280"/>
            <a:ext cx="837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спользование ИКТ способствует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31840" y="1857240"/>
            <a:ext cx="891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осуществлению индивидуального и дифференцированного подхода к учащим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азвитию личности обучаем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вышению эффективности учебного процесса при овладении умениями самостоятельного получения зн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подготовке ученика к комфортной жизни в условиях информационного обще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1" descr=""/>
          <p:cNvPicPr/>
          <p:nvPr/>
        </p:nvPicPr>
        <p:blipFill>
          <a:blip r:embed="rId1"/>
          <a:stretch/>
        </p:blipFill>
        <p:spPr>
          <a:xfrm>
            <a:off x="993600" y="676440"/>
            <a:ext cx="6583680" cy="110952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2" descr=""/>
          <p:cNvPicPr/>
          <p:nvPr/>
        </p:nvPicPr>
        <p:blipFill>
          <a:blip r:embed="rId2"/>
          <a:stretch/>
        </p:blipFill>
        <p:spPr>
          <a:xfrm>
            <a:off x="3193920" y="2060640"/>
            <a:ext cx="1670040" cy="115236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3" descr=""/>
          <p:cNvPicPr/>
          <p:nvPr/>
        </p:nvPicPr>
        <p:blipFill>
          <a:blip r:embed="rId3"/>
          <a:stretch/>
        </p:blipFill>
        <p:spPr>
          <a:xfrm>
            <a:off x="2060640" y="3346560"/>
            <a:ext cx="454824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4"/>
          <p:cNvSpPr/>
          <p:nvPr/>
        </p:nvSpPr>
        <p:spPr>
          <a:xfrm>
            <a:off x="1928880" y="614376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Calibri"/>
              </a:rPr>
              <a:t>Куликова С.В., учитель  начальных классов МОУ «Троицкая СОШ № 5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03120" y="208080"/>
            <a:ext cx="844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мения, обеспечивающие развитие самостоятельной учеб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58760" y="1504800"/>
            <a:ext cx="89852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ициати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готовность ученика взять на себя ответственность за выполнение учебного задания и довести решение до ко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двидение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способность подчинить решение учебной задачи достижению определенной ц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оцен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предполагает адекватное отношение ученика к предстоящей учебно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контро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базируется на осознанной потребности ученика в контролируемой им самим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ворчество в учен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наблюдается в поиске новых способов решения учебной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311120" y="281160"/>
            <a:ext cx="69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ые техноло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47840" y="1576440"/>
            <a:ext cx="837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презентации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составление букл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устные выступления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сообщени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информационный бюллет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00040" y="85716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Осенний бал двойных согласн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250920" y="5734080"/>
            <a:ext cx="8497800" cy="86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971640" y="20606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0" y="1989000"/>
            <a:ext cx="298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1.Вспомнить правописание слов с двойными согласными и правила их перен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2.Показать детям красоту осеннего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.Продолжить воспитание любви к языку,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688000" y="1700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ы исследо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795840" y="4067280"/>
            <a:ext cx="704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796000" y="2421000"/>
            <a:ext cx="311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равило переноса слов с двойными соглас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2. Животные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6641640" y="621504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ктябрь 2007 г</a:t>
            </a:r>
            <a:r>
              <a:rPr b="0" lang="ru-RU" sz="20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0" y="1557360"/>
            <a:ext cx="29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и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1403280" y="5805360"/>
            <a:ext cx="60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Урок был показан на неделе инноваций.</a:t>
            </a:r>
            <a:r>
              <a:rPr b="0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214200" y="35712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Интегрированный урок русского языка и окружающего мира,  3 "А"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DSC00880"/>
          <p:cNvPicPr/>
          <p:nvPr/>
        </p:nvPicPr>
        <p:blipFill>
          <a:blip r:embed="rId1"/>
          <a:stretch/>
        </p:blipFill>
        <p:spPr>
          <a:xfrm>
            <a:off x="2916360" y="2349360"/>
            <a:ext cx="28796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" descr=""/>
          <p:cNvPicPr/>
          <p:nvPr/>
        </p:nvPicPr>
        <p:blipFill>
          <a:blip r:embed="rId1"/>
          <a:stretch/>
        </p:blipFill>
        <p:spPr>
          <a:xfrm>
            <a:off x="2530440" y="981000"/>
            <a:ext cx="6613560" cy="824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367920" y="260280"/>
            <a:ext cx="36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стный жур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08000" y="2060640"/>
            <a:ext cx="223200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771640" y="2060640"/>
            <a:ext cx="266400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372360" y="2060640"/>
            <a:ext cx="252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24000" y="5734080"/>
            <a:ext cx="835164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79280" y="206064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и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95280" y="2492280"/>
            <a:ext cx="181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179280" y="2421000"/>
            <a:ext cx="2160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влечь внимание детей к кни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азвивать литературно – творческие способност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Познакомить детей с литературным фолькло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987640" y="2060640"/>
            <a:ext cx="23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м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059280" y="2565360"/>
            <a:ext cx="21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.Фолькл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.Литературный фолькл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6516720" y="2205000"/>
            <a:ext cx="2144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"А" клас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ктябрь 200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95280" y="59500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зентация учащихся, разыгрывание сценок из произведений художественной литературы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российский урок чт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9" descr="DSC00881"/>
          <p:cNvPicPr/>
          <p:nvPr/>
        </p:nvPicPr>
        <p:blipFill>
          <a:blip r:embed="rId2"/>
          <a:stretch/>
        </p:blipFill>
        <p:spPr>
          <a:xfrm>
            <a:off x="5724360" y="3284640"/>
            <a:ext cx="30956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071720" y="142920"/>
            <a:ext cx="70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"Строение и разнообразие растений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79280" y="1125360"/>
            <a:ext cx="266544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И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.Познакомить учащихся с миром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.Продолжить воспитание экологической культуры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3.Развивать любознательность, бережное отношение к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059280" y="2060640"/>
            <a:ext cx="29509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ЕМЫ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.Как охраняют редкие растения  в нашей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.Чем похожи водоросли, мхи, папорот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3.Как влияет деятельность человека на раст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357280" y="7142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кружающий мир, 3 "А"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5"/>
          <p:cNvSpPr/>
          <p:nvPr/>
        </p:nvSpPr>
        <p:spPr>
          <a:xfrm>
            <a:off x="6804000" y="1557360"/>
            <a:ext cx="2000160" cy="500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6732720" y="1557360"/>
            <a:ext cx="20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враль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8"/>
          <p:cNvSpPr/>
          <p:nvPr/>
        </p:nvSpPr>
        <p:spPr>
          <a:xfrm>
            <a:off x="428760" y="6066000"/>
            <a:ext cx="8569080" cy="792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1632240" y="6215040"/>
            <a:ext cx="56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стные выступления, газета, сообщения уча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DSC00879"/>
          <p:cNvPicPr/>
          <p:nvPr/>
        </p:nvPicPr>
        <p:blipFill>
          <a:blip r:embed="rId1"/>
          <a:stretch/>
        </p:blipFill>
        <p:spPr>
          <a:xfrm>
            <a:off x="6300720" y="2349360"/>
            <a:ext cx="2700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12600"/>
            <a:ext cx="9247320" cy="908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1143000" y="100008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ающий мир 3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24000" y="1844640"/>
            <a:ext cx="223344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867280" y="1844640"/>
            <a:ext cx="2374920" cy="35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276720" y="1773360"/>
            <a:ext cx="1944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95280" y="5943600"/>
            <a:ext cx="8209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DSC00882"/>
          <p:cNvPicPr/>
          <p:nvPr/>
        </p:nvPicPr>
        <p:blipFill>
          <a:blip r:embed="rId2"/>
          <a:stretch/>
        </p:blipFill>
        <p:spPr>
          <a:xfrm>
            <a:off x="2700360" y="3141720"/>
            <a:ext cx="276552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395280" y="198900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Цель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395280" y="227664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Развитие познавательного интереса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012000" y="1989000"/>
            <a:ext cx="21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084720" y="2349360"/>
            <a:ext cx="2036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ствовать развитию мышления учащихся на основе углубления зн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ть нав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24000" y="32036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Темы исследо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395280" y="3860640"/>
            <a:ext cx="217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1.Самая большая морская ры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2.Самая маленькая речная рыб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3.Почему они так называют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3392640" y="191628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прель 20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519120" y="6040440"/>
            <a:ext cx="81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езентация учащихся, сообщения, информационный бюллет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уликова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3120" y="324000"/>
            <a:ext cx="81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"Нумерация чисел в пределах тысяч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55840" y="826920"/>
            <a:ext cx="54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смический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24000" y="1484280"/>
            <a:ext cx="86421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облемный вопрос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"Зачем летают в космос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24000" y="2276640"/>
            <a:ext cx="2735280" cy="33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11120" y="2482920"/>
            <a:ext cx="2576520" cy="34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Закрепить знания детей о нумерации чисел в пределах 1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сширить представления детей о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DSC00880"/>
          <p:cNvPicPr/>
          <p:nvPr/>
        </p:nvPicPr>
        <p:blipFill>
          <a:blip r:embed="rId1"/>
          <a:stretch/>
        </p:blipFill>
        <p:spPr>
          <a:xfrm>
            <a:off x="5940360" y="2708280"/>
            <a:ext cx="2879640" cy="2627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3"/>
          <p:cNvSpPr/>
          <p:nvPr/>
        </p:nvSpPr>
        <p:spPr>
          <a:xfrm>
            <a:off x="3276720" y="3429000"/>
            <a:ext cx="2303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492360" y="3716280"/>
            <a:ext cx="18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"А" класс апрель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395280" y="5805360"/>
            <a:ext cx="856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698400" y="6083280"/>
            <a:ext cx="7618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539640" y="5950080"/>
            <a:ext cx="79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стные выступления, презентация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6:38:28Z</dcterms:created>
  <dc:creator>eXPerience</dc:creator>
  <dc:description/>
  <dc:language>en-US</dc:language>
  <cp:lastModifiedBy>Admin</cp:lastModifiedBy>
  <dcterms:modified xsi:type="dcterms:W3CDTF">2012-01-29T11:53:50Z</dcterms:modified>
  <cp:revision>4</cp:revision>
  <dc:subject/>
  <dc:title>Слайд 1</dc:title>
</cp:coreProperties>
</file>