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13.gif" ContentType="image/gif"/>
  <Override PartName="/ppt/media/image23.gif" ContentType="image/gif"/>
  <Override PartName="/ppt/media/image16.png" ContentType="image/png"/>
  <Override PartName="/ppt/media/image2.png" ContentType="image/png"/>
  <Override PartName="/ppt/media/image25.png" ContentType="image/png"/>
  <Override PartName="/ppt/media/image32.gif" ContentType="image/gif"/>
  <Override PartName="/ppt/media/image5.gif" ContentType="image/gif"/>
  <Override PartName="/ppt/media/image1.wmf" ContentType="image/x-wmf"/>
  <Override PartName="/ppt/media/image31.jpeg" ContentType="image/jpeg"/>
  <Override PartName="/ppt/media/image14.gif" ContentType="image/gif"/>
  <Override PartName="/ppt/media/image17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F87F4-5F06-45EF-BF2B-AC89C4C533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C805D0-3196-4069-8343-09E828525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3D214-0D93-4B60-897C-E97F2C01D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38AC91-6059-4427-8FDF-48BA54F96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F90B1D-B96C-4B1A-AD5D-85E1FC5A3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D9316-2990-4B54-9B50-704A3040C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9B73-2643-405F-9E27-ED3DC202D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C5F8-8F5D-41C8-891C-FEC353FC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B0E4-B98D-4E09-B4E0-F5BADBABE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E397-DB9D-4D11-8C19-867AA9372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40B3-2EB4-4B23-9A77-049F2E7A87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31B8-7929-45DF-90E7-B5F10D16D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A667-B805-49AE-B39D-7FCC88F3F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011F-FE6B-4658-920F-9197A5167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2E8C-89F3-4CC0-AC77-FB007779F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8B5A-549E-4506-BF05-FE99027EC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6571-4006-4F34-A2EA-0D1F77D40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2696-B372-4BC5-B69F-C8728DDA5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1BAA-243D-416B-80D2-37F3D9BCA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3F6D-9A2B-4664-A43F-3306FC09F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0E60-96EB-4802-8F59-CA5081D716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D358-584D-49C3-B0A2-B353455993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3BA6-CCF6-473F-9BDC-793B7C9486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3B6-8DAB-49E9-A06F-0B744C855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9FC-8390-4D03-B8C9-933DC38354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81D-5DC5-4C8D-822A-953C3B1F8B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1FA-4B5A-4BC6-9B0C-09D3D31893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B7B-0D7F-4E37-A4BD-B605170FD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6181-CC00-4F5A-B26C-396B9DB16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4CE-82AE-4B95-9219-867835879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435-6C6C-48E7-A1E0-EEBE175F9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B5B-2F92-4B61-BAE0-FFB521EEC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EA4-E8BD-435E-87F6-5720941BA9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92C-63A8-4B23-86FE-5F43B7E506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81D-1475-4D16-8D17-2EE3FEC7C1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C12-514A-4D61-BFDC-F2FC82F04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CDEA-01ED-479E-8D17-6554075EB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724E-4BA3-47E2-9AA7-DB6BC042E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5C0E-4398-4197-911C-15DC86668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5AEC-7E16-42F2-B17C-9C9FB30AC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0A5A-1FBB-4839-843D-31BDE76FE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E041-4540-4A78-B590-CDE470C87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C9F240-A18D-444D-A6A7-A14FE3B4010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F12801-6B50-4E28-BB78-E6CCB0FADC1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6633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633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A4DA2A-5B2B-4F16-B196-A29F125AF9EF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1449360"/>
            <a:ext cx="8055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Урок математики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         в 4 классе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368280"/>
            <a:ext cx="5400720" cy="72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Презентационное сопровождение ур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УМК «Школа России»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4505400"/>
            <a:ext cx="3778200" cy="107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Алексашенко Наталья  Никола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учитель МБОУ СОШ № 2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625320" y="738360"/>
            <a:ext cx="822960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00280" indent="-455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Microsoft YaHei"/>
              </a:rPr>
              <a:t>1.  Два мальчика плыли одновременно навстречу друг другу с двух   концов бассейна со скоростью  20 м / мин. Через  сколько минут они встретятся, если длина бассейна 100 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455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455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455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Microsoft YaHei"/>
              </a:rPr>
              <a:t>2. От двух причалов вышли одновременно навстречу друг другу 2 катера и встретились через 5 часов. Один катер шёл  со скоростью  29 км / ч,  а другой 35 км / ч. Каково расстояние между причал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 Из двух городов вышли одновременно  навстречу друг другу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ва автобуса и встретились через 4 часа. Скорость одного 60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м/ч, а другого на 5 км больше. Найдите расстояние между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1957320"/>
                <a:tab algn="l" pos="2871720"/>
                <a:tab algn="l" pos="3786120"/>
                <a:tab algn="l" pos="4700520"/>
                <a:tab algn="l" pos="5614920"/>
                <a:tab algn="l" pos="6529320"/>
                <a:tab algn="l" pos="7443720"/>
                <a:tab algn="l" pos="8358120"/>
                <a:tab algn="l" pos="9272520"/>
                <a:tab algn="l" pos="10186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ород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9F63D-F24F-4EE1-B4CF-7B689132FA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457200" y="277920"/>
            <a:ext cx="82296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aramond"/>
              </a:rPr>
              <a:t>                </a:t>
            </a:r>
            <a:r>
              <a:rPr b="1" lang="ru-RU" sz="4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 себя.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.  100 : 20 = 5 (ч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. ( 29 + 3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5 = 320(км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. 1) 60 + 5 = 65 (км/ч)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   2) (60 + 65) </a:t>
            </a:r>
            <a:r>
              <a:rPr b="1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4 = 500 (км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568912-4BE8-48CE-AD7C-1365E106A7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F46373-ED12-4543-A76D-723BB0AB54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446040" y="3794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Будь  внимательны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2411280" y="2168640"/>
            <a:ext cx="378144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001 05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132000" y="3075120"/>
            <a:ext cx="306072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832 97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11280" y="3968640"/>
            <a:ext cx="3781440" cy="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1332000" y="3068640"/>
            <a:ext cx="539640" cy="14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2411280" y="4149720"/>
            <a:ext cx="377208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4 169 08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5111640" y="4148280"/>
            <a:ext cx="720720" cy="72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2232000" y="4148280"/>
            <a:ext cx="720720" cy="72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3971880" y="4148280"/>
            <a:ext cx="720720" cy="72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2411280" y="486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125960" y="4869000"/>
            <a:ext cx="41112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5292720" y="4869000"/>
            <a:ext cx="35892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7164360" y="1700280"/>
            <a:ext cx="1778760" cy="4390200"/>
            <a:chOff x="7164360" y="1700280"/>
            <a:chExt cx="1778760" cy="4390200"/>
          </a:xfrm>
        </p:grpSpPr>
        <p:sp>
          <p:nvSpPr>
            <p:cNvPr id="1589" name=""/>
            <p:cNvSpPr/>
            <p:nvPr/>
          </p:nvSpPr>
          <p:spPr>
            <a:xfrm rot="10800000">
              <a:off x="7164360" y="3286080"/>
              <a:ext cx="285840" cy="7192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0800000">
              <a:off x="7164360" y="2566800"/>
              <a:ext cx="285840" cy="718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10800000">
              <a:off x="7164360" y="1846080"/>
              <a:ext cx="285840" cy="718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7378920" y="1700280"/>
              <a:ext cx="1564200" cy="4390200"/>
              <a:chOff x="7378920" y="1700280"/>
              <a:chExt cx="1564200" cy="4390200"/>
            </a:xfrm>
          </p:grpSpPr>
          <p:sp>
            <p:nvSpPr>
              <p:cNvPr id="1593" name=""/>
              <p:cNvSpPr/>
              <p:nvPr/>
            </p:nvSpPr>
            <p:spPr>
              <a:xfrm rot="10800000">
                <a:off x="8533800" y="1846080"/>
                <a:ext cx="358560" cy="71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10800000">
                <a:off x="8533800" y="3285000"/>
                <a:ext cx="358560" cy="718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0800000">
                <a:off x="8533800" y="2566800"/>
                <a:ext cx="358560" cy="71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378920" y="1700280"/>
                <a:ext cx="1367640" cy="230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460720" y="4148640"/>
                <a:ext cx="48240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452000" y="1917360"/>
                <a:ext cx="1222920" cy="186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55640" y="4004280"/>
                <a:ext cx="214200" cy="1941840"/>
              </a:xfrm>
              <a:prstGeom prst="plus">
                <a:avLst>
                  <a:gd name="adj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0800000">
                <a:off x="7739280" y="5876280"/>
                <a:ext cx="646560" cy="21420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7800840" y="2173320"/>
            <a:ext cx="432000" cy="433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7800840" y="271152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812000" y="3213000"/>
            <a:ext cx="432000" cy="43344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3137040" y="127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овер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dur="indefinite" fill="hold">
                      <p:stCondLst>
                        <p:cond delay="0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 fill="hold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 fill="hold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 fill="hold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 fill="hold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 fill="hold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 fill="hold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 fill="hold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 fill="hold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 fill="hold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 fill="hold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DDE85E-8AD4-4FE0-92E2-4BB4F36C37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4930920" y="46846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Тиш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5289480" y="2352600"/>
            <a:ext cx="340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дальше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625320" y="738360"/>
            <a:ext cx="32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едешь,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163520" y="3608280"/>
            <a:ext cx="35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mbria Math"/>
                <a:ea typeface="Cambria Math"/>
              </a:rPr>
              <a:t>будешь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>
            <a:off x="625320" y="5402160"/>
            <a:ext cx="1435320" cy="73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25 -0.07332 L -0.46197 -0.44057 E">
                                      <p:cBhvr>
                                        <p:cTn id="656" dur="1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dur="indefinite" fill="hold">
                      <p:stCondLst>
                        <p:cond delay="indefinite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2.91397 -6 L 0.19687 0.23612 E">
                                      <p:cBhvr>
                                        <p:cTn id="660" dur="1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4.25532 -6 L -0.19687 0.13113 E">
                                      <p:cBhvr>
                                        <p:cTn id="664" dur="1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36 0.00485 L 0.45208 0.10962 E">
                                      <p:cBhvr>
                                        <p:cTn id="668" dur="1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285840" y="214200"/>
            <a:ext cx="86421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54000"/>
                <a:tab algn="l" pos="968400"/>
                <a:tab algn="l" pos="1882800"/>
                <a:tab algn="l" pos="2797200"/>
                <a:tab algn="l" pos="3711600"/>
                <a:tab algn="l" pos="4626000"/>
                <a:tab algn="l" pos="5540400"/>
                <a:tab algn="l" pos="6454800"/>
                <a:tab algn="l" pos="7369200"/>
                <a:tab algn="l" pos="8283600"/>
                <a:tab algn="l" pos="9198000"/>
                <a:tab algn="l" pos="10112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625320" y="1276200"/>
            <a:ext cx="2333880" cy="1570320"/>
            <a:chOff x="625320" y="1276200"/>
            <a:chExt cx="2333880" cy="1570320"/>
          </a:xfrm>
        </p:grpSpPr>
        <p:pic>
          <p:nvPicPr>
            <p:cNvPr id="1613" name="" descr=""/>
            <p:cNvPicPr/>
            <p:nvPr/>
          </p:nvPicPr>
          <p:blipFill>
            <a:blip r:embed="rId1"/>
            <a:stretch/>
          </p:blipFill>
          <p:spPr>
            <a:xfrm>
              <a:off x="625320" y="1276200"/>
              <a:ext cx="2333880" cy="15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>
              <a:off x="625320" y="1276200"/>
              <a:ext cx="2333880" cy="15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3571920" y="2714760"/>
            <a:ext cx="2212920" cy="1884240"/>
            <a:chOff x="3571920" y="2714760"/>
            <a:chExt cx="2212920" cy="1884240"/>
          </a:xfrm>
        </p:grpSpPr>
        <p:pic>
          <p:nvPicPr>
            <p:cNvPr id="1616" name="" descr=""/>
            <p:cNvPicPr/>
            <p:nvPr/>
          </p:nvPicPr>
          <p:blipFill>
            <a:blip r:embed="rId2"/>
            <a:stretch/>
          </p:blipFill>
          <p:spPr>
            <a:xfrm>
              <a:off x="3571920" y="2714760"/>
              <a:ext cx="22129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>
              <a:off x="3571920" y="2714760"/>
              <a:ext cx="221292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CB0F7-0967-465C-B0FE-CF849E8405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1623" name="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74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78" dur="1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82" dur="1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4.95837 -6 L -0.63003 -0.12604 E">
                                      <p:cBhvr>
                                        <p:cTn id="686" dur="1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dur="indefinite" fill="hold">
                      <p:stCondLst>
                        <p:cond delay="indefinite"/>
                      </p:stCondLst>
                      <p:childTnLst>
                        <p:par>
                          <p:cTn id="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1.42461 -6 L -0.66944 -0.57701 E">
                                      <p:cBhvr>
                                        <p:cTn id="690" dur="1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694" dur="1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9" name=""/>
          <p:cNvGraphicFramePr/>
          <p:nvPr/>
        </p:nvGraphicFramePr>
        <p:xfrm>
          <a:off x="1403280" y="1197000"/>
          <a:ext cx="487692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0" name=""/>
          <p:cNvSpPr/>
          <p:nvPr/>
        </p:nvSpPr>
        <p:spPr>
          <a:xfrm>
            <a:off x="385452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2598840" y="1994040"/>
            <a:ext cx="1211040" cy="79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385452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2598840" y="271152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2598840" y="4505400"/>
            <a:ext cx="1224000" cy="717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2598840" y="1276200"/>
            <a:ext cx="1255680" cy="717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3854520" y="432576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3854520" y="3608280"/>
            <a:ext cx="122400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dur="indefinite" fill="hold">
                      <p:stCondLst>
                        <p:cond delay="indefinite"/>
                      </p:stCondLst>
                      <p:childTnLst>
                        <p:par>
                          <p:cTn id="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 fill="hold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 fill="hold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 fill="hold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 fill="hold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 fill="hold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fill="hold">
                      <p:stCondLst>
                        <p:cond delay="indefinite"/>
                      </p:stCondLst>
                      <p:childTnLst>
                        <p:par>
                          <p:cTn id="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 fill="hold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 fill="hold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 fill="hold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dur="indefinite" fill="hold">
                      <p:stCondLst>
                        <p:cond delay="indefinite"/>
                      </p:stCondLst>
                      <p:childTnLst>
                        <p:par>
                          <p:cTn id="7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 fill="hold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dur="indefinite" fill="hold">
                      <p:stCondLst>
                        <p:cond delay="indefinite"/>
                      </p:stCondLst>
                      <p:childTnLst>
                        <p:par>
                          <p:cTn id="7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 fill="hold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93D99F-87C0-4F86-9064-0883FD87B6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1042920" y="692280"/>
            <a:ext cx="7274160" cy="15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Comic Sans MS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Comic Sans MS"/>
              <a:ea typeface="Comic Sans MS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446040" y="2890800"/>
            <a:ext cx="84121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mic Sans MS"/>
              </a:rPr>
              <a:t>Составьте задачи на встречное движ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mic Sans MS"/>
              <a:ea typeface="Comic Sans MS"/>
            </a:endParaRPr>
          </a:p>
        </p:txBody>
      </p:sp>
      <p:sp>
        <p:nvSpPr>
          <p:cNvPr id="1642" name="">
            <a:hlinkClick r:id="" action="ppaction://hlinkshowjump?jump=firstslide"/>
          </p:cNvPr>
          <p:cNvSpPr/>
          <p:nvPr/>
        </p:nvSpPr>
        <p:spPr>
          <a:xfrm>
            <a:off x="7442280" y="5222880"/>
            <a:ext cx="720720" cy="728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8640"/>
              <a:gd name="textAreaBottom" fmla="*/ 682200 h 728640"/>
            </a:gdLst>
            <a:ahLst/>
            <a:rect l="textAreaLeft" t="textAreaTop" r="textAreaRight" b="textAreaBottom"/>
            <a:pathLst>
              <a:path w="21600" h="21837">
                <a:moveTo>
                  <a:pt x="0" y="0"/>
                </a:moveTo>
                <a:lnTo>
                  <a:pt x="21600" y="0"/>
                </a:lnTo>
                <a:lnTo>
                  <a:pt x="21600" y="21837"/>
                </a:lnTo>
                <a:lnTo>
                  <a:pt x="0" y="21837"/>
                </a:lnTo>
                <a:close/>
              </a:path>
              <a:path fill="lightenLess" w="21600" h="218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37">
                <a:moveTo>
                  <a:pt x="21600" y="0"/>
                </a:moveTo>
                <a:lnTo>
                  <a:pt x="21600" y="21837"/>
                </a:lnTo>
                <a:lnTo>
                  <a:pt x="20200" y="20437"/>
                </a:lnTo>
                <a:lnTo>
                  <a:pt x="20200" y="1400"/>
                </a:lnTo>
                <a:close/>
              </a:path>
              <a:path fill="darkenLess" w="21600" h="21837">
                <a:moveTo>
                  <a:pt x="21600" y="21837"/>
                </a:moveTo>
                <a:lnTo>
                  <a:pt x="0" y="21837"/>
                </a:lnTo>
                <a:lnTo>
                  <a:pt x="1400" y="20437"/>
                </a:lnTo>
                <a:lnTo>
                  <a:pt x="20200" y="20437"/>
                </a:lnTo>
                <a:close/>
              </a:path>
              <a:path fill="lighten" w="21600" h="21837">
                <a:moveTo>
                  <a:pt x="0" y="218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37"/>
                </a:lnTo>
                <a:close/>
              </a:path>
              <a:path fill="darken" w="21600" h="21837">
                <a:moveTo>
                  <a:pt x="10800" y="3956"/>
                </a:moveTo>
                <a:lnTo>
                  <a:pt x="13376" y="6567"/>
                </a:ln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lnTo>
                  <a:pt x="17763" y="10919"/>
                </a:lnTo>
                <a:lnTo>
                  <a:pt x="16109" y="10919"/>
                </a:lnTo>
                <a:lnTo>
                  <a:pt x="16109" y="18108"/>
                </a:lnTo>
                <a:lnTo>
                  <a:pt x="5491" y="18108"/>
                </a:lnTo>
                <a:lnTo>
                  <a:pt x="5491" y="10919"/>
                </a:lnTo>
                <a:lnTo>
                  <a:pt x="3837" y="10919"/>
                </a:lnTo>
                <a:close/>
              </a:path>
              <a:path fill="darkenLess" w="21600" h="21837">
                <a:moveTo>
                  <a:pt x="13376" y="6567"/>
                </a:move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close/>
              </a:path>
              <a:path fill="darkenLess" w="21600" h="21837">
                <a:moveTo>
                  <a:pt x="9877" y="14418"/>
                </a:moveTo>
                <a:lnTo>
                  <a:pt x="11723" y="14418"/>
                </a:lnTo>
                <a:lnTo>
                  <a:pt x="11723" y="18108"/>
                </a:lnTo>
                <a:lnTo>
                  <a:pt x="16109" y="18108"/>
                </a:lnTo>
                <a:lnTo>
                  <a:pt x="16109" y="10919"/>
                </a:lnTo>
                <a:lnTo>
                  <a:pt x="5491" y="10919"/>
                </a:lnTo>
                <a:lnTo>
                  <a:pt x="5491" y="18108"/>
                </a:lnTo>
                <a:lnTo>
                  <a:pt x="9877" y="18108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 fill="hold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 fill="hold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4" dur="500" fill="hold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 fill="hold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1403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Garamond"/>
              </a:rPr>
              <a:t>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одумайте !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804960" y="1276200"/>
            <a:ext cx="734220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ие виды работ выполняли на уроке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Какое задание было для вас интересным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a0a10"/>
                </a:solidFill>
                <a:latin typeface="Arial"/>
              </a:rPr>
              <a:t>Нужно ли быть внимательными при движении на дорогах и почему?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Пригодятся ли вам  знания на расчёт пути, времени и скорости в жизн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 fill="hold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 fill="hold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 fill="hold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 fill="hold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 fill="hold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9272EF-2241-4E6A-B8B1-31471474B5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446040" y="2711520"/>
            <a:ext cx="843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7083360" y="4325760"/>
            <a:ext cx="137808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625320" y="181440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вченко Е.М. Задачи на движение. 4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t-n.ru/communities.aspx?cat_no=5025&amp;lib_no=9389&amp;tmpl=li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Comic Sans MS"/>
              </a:rPr>
              <a:t>Коллекции картин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tt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//www.lenagold.ru/fon/clipart.htm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gifpark.ru/index.htm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3BCDC1-990F-45C9-8025-C12EDF7FAF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точник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пользованных материа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60020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«Хотим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вс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знать!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CC9999-7D25-4A52-AD0A-A92EA40ED3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24800" y="1096920"/>
            <a:ext cx="137772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FA387-21D7-487A-99E1-3356B94389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" name=""/>
          <p:cNvCxnSpPr/>
          <p:nvPr/>
        </p:nvCxnSpPr>
        <p:spPr>
          <a:xfrm>
            <a:off x="985320" y="109656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66760" y="200160"/>
            <a:ext cx="20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Comic Sans MS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2060640" y="163512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2420640" y="2532240"/>
            <a:ext cx="538920" cy="538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495600" y="3070080"/>
            <a:ext cx="89712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3855600" y="396684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4930920" y="4325760"/>
            <a:ext cx="896760" cy="89712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881360" y="1096920"/>
            <a:ext cx="71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60828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957400" y="2173320"/>
            <a:ext cx="19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+6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01720" y="91764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: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5290920" y="522252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545160" y="5581800"/>
            <a:ext cx="1255680" cy="896760"/>
          </a:xfrm>
          <a:prstGeom prst="ellipse">
            <a:avLst/>
          </a:prstGeom>
          <a:solidFill>
            <a:srgbClr val="ffffe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827680" y="48639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6040" y="5222880"/>
            <a:ext cx="878040" cy="942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98840" y="37944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Математическая размин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686E9F-51DD-4319-9038-10E82AE1D8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6280"/>
            <a:ext cx="81583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Математическая разминка</a:t>
            </a:r>
            <a:r>
              <a:rPr b="0" lang="ru-RU" sz="4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460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22440" y="2711520"/>
            <a:ext cx="57636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59884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675240" y="2711520"/>
            <a:ext cx="576000" cy="229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930920" y="1814400"/>
            <a:ext cx="57600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186600" y="2711520"/>
            <a:ext cx="576000" cy="222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262640" y="1814400"/>
            <a:ext cx="576360" cy="211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8159760" y="2711520"/>
            <a:ext cx="576360" cy="2371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9966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6640" y="1090440"/>
            <a:ext cx="8583840" cy="382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4.91329 -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4.91329 -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3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4.91329 -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4.91329 -6 C -0.01424 -0.05734 -0.00295 -0.12047 -0.00451 -0.17966 C -0.00486 -0.18798 -0.00938 -0.19492 -0.01094 -0.20301 C -0.01528 -0.2222 -0.01962 -0.24301 -0.02847 -0.25989 C -0.03108 -0.27353 -0.03646 -0.28694 -0.04271 -0.29804 C -0.04497 -0.30705 -0.04878 -0.3126 -0.05399 -0.31908 C -0.05712 -0.32833 -0.06076 -0.33249 -0.06493 -0.34035 C -0.06858 -0.34752 -0.07049 -0.35677 -0.07465 -0.36347 C -0.09149 -0.39099 -0.11476 -0.41573 -0.14115 -0.42266 C -0.15469 -0.43168 -0.16962 -0.43561 -0.18403 -0.44162 C -0.20226 -0.44925 -0.21771 -0.45573 -0.23628 -0.46081 C -0.24635 -0.46359 -0.25503 -0.47237 -0.2651 -0.47561 C -0.45347 -0.47237 -0.33906 -0.48532 -0.39531 -0.46705 C -0.42865 -0.43746 -0.52188 -0.45041 -0.53472 -0.45018 C -0.54149 -0.4481 -0.54913 -0.44994 -0.55538 -0.44601 C -0.55747 -0.44463 -0.55729 -0.44023 -0.55851 -0.43746 C -0.55955 -0.43515 -0.56076 -0.4333 -0.56181 -0.43122 C -0.5658 -0.41526 -0.56215 -0.41341 -0.57292 -0.40994 C -0.58976 -0.41064 -0.60694 -0.41249 -0.62378 -0.41203 C -0.63524 -0.41156 -0.64722 -0.40255 -0.65868 -0.39954 C -0.66563 -0.39492 -0.67205 -0.39445 -0.67917 -0.39099 C -0.68872 -0.38636 -0.69792 -0.38151 -0.70781 -0.37827 C -0.71528 -0.37203 -0.72309 -0.36625 -0.73003 -0.35931 C -0.73316 -0.3563 -0.73958 -0.35075 -0.73958 -0.35075 C -0.74844 -0.33318 -0.7467 -0.30729 -0.75851 -0.29156 C -0.76024 -0.28925 -0.76302 -0.28902 -0.76493 -0.2874 C -0.76719 -0.28555 -0.76892 -0.28278 -0.77118 -0.28116 C -0.77726 -0.277 -0.78941 -0.27445 -0.79514 -0.2726 C -0.80434 -0.2696 -0.79531 -0.27191 -0.80451 -0.26636 C -0.8184 -0.25804 -0.80955 -0.2659 -0.82049 -0.25781 C -0.82951 -0.2511 -0.82049 -0.25573 -0.8316 -0.24925 C -0.8342 -0.24763 -0.83698 -0.24648 -0.83958 -0.24509 C -0.84271 -0.2437 -0.84896 -0.24093 -0.84896 -0.24093 C -0.86337 -0.22682 -0.85885 -0.23422 -0.86493 -0.22197 C -0.86719 -0.21272 -0.8651 -0.20578 -0.86337 -0.19653 C -0.86285 -0.18798 -0.86319 -0.17966 -0.86181 -0.1711 C -0.86146 -0.16925 -0.8599 -0.16786 -0.85851 -0.16694 C -0.85799 -0.16671 -0.85851 -0.16833 -0.85851 -0.16925 E">
                                      <p:cBhvr>
                                        <p:cTn id="4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L 5.78035 -8 C 0.00241999999999987 -0.00994000000000028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L 5.78035 -8 C 0.00241999999999987 -0.00994000000000028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L 5.78035 -8 C 0.00241999999999987 -0.00994000000000028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L 5.78035 -8 C 0.00241999999999987 -0.00994000000000028 0.00451 -0.01827 0.00798 -0.02751 C 0.00729 -0.0622 0.01163 -0.12786 -0.01112 -0.15861 C -0.01737 -0.16717 -0.02813 -0.1704 -0.03646 -0.17341 C -0.04289 -0.17272 -0.04914 -0.17225 -0.05556 -0.1711 C -0.06285 -0.16994 -0.06893 -0.16462 -0.07622 -0.16277 C -0.08126 -0.15746 -0.08438 -0.15283 -0.09046 -0.15006 C -0.09758 -0.14058 -0.10244 -0.12948 -0.10955 -0.12046 C -0.11285 -0.10913 -0.11494 -0.09734 -0.1191 -0.0867 C -0.12049 -0.07884 -0.1224 -0.07121 -0.12379 -0.06335 C -0.12431 -0.03653 -0.12449 -0.00994 -0.12535 0.01688 C -0.1257 0.02497 -0.13004 0.03214 -0.13021 0.04023 C -0.13074 0.07977 -0.13021 0.11908 -0.13021 0.15861 E">
                                      <p:cBhvr>
                                        <p:cTn id="50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6 L -8.15029 -6 C -0.00140000000000029 0.0143300000000002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6 L -8.15029 -6 C -0.00140000000000029 0.0143300000000002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6 L -8.15029 -6 C -0.00140000000000029 0.0143300000000002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6 L -8.15029 -6 C -0.00140000000000029 0.0143300000000002 -0.00435 0.02635 -0.00643 0.04023 C -0.01043 0.06751 -0.01268 0.09734 -0.02223 0.12254 C -0.02744 0.15445 -0.02501 0.18612 -0.01911 0.2178 C -0.01876 0.21965 -0.01164 0.23283 -0.00956 0.23676 C -0.00522 0.24508 0.00103 0.25549 0.0078 0.26011 C 0.0144 0.2645 0.02447 0.26866 0.03159 0.27051 C 0.04114 0.26982 0.05069 0.27028 0.06023 0.26843 C 0.06735 0.26705 0.07395 0.24971 0.07777 0.243 C 0.08037 0.23283 0.08523 0.2215 0.09201 0.21572 C 0.09548 0.20161 0.09096 0.21757 0.09826 0.20092 C 0.11145 0.17086 0.09878 0.19421 0.10937 0.17549 C 0.11405 0.15213 0.11892 0.12739 0.1269 0.10566 C 0.1302 0.08369 0.13628 0.06242 0.13957 0.04023 C 0.13905 -0.02613 0.17655 -0.13018 0.13159 -0.15862 E">
                                      <p:cBhvr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8.67052 -7 C -0.00364000000000075 0.0732999999999997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8.67052 -7 C -0.00364000000000075 0.0732999999999997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8.67052 -7 C -0.00364000000000075 0.0732999999999997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8.67052 -7 C -0.00364000000000075 0.0732999999999997 0.00851 0.16717 -0.01753 0.23676 C -0.02257 0.26405 -0.01753 0.25619 -0.02552 0.26636 C -0.02691 0.277 -0.0283 0.28763 -0.03021 0.29804 C -0.02968 0.30798 -0.02951 0.31792 -0.02864 0.32763 C -0.02795 0.3348 -0.01493 0.36116 -0.00955 0.36578 C -0.00173 0.37989 -0.00677 0.37179 0.00625 0.38913 C 0.00973 0.39376 0.01511 0.39538 0.01893 0.39954 C 0.029 0.41087 0.01476 0.39607 0.02535 0.41018 C 0.03264 0.41989 0.04254 0.42705 0.0507 0.43561 C 0.05348 0.43838 0.06806 0.44856 0.07292 0.45041 C 0.07535 0.45133 0.08125 0.45272 0.08403 0.45457 C 0.09514 0.46197 0.10851 0.46636 0.12066 0.47145 C 0.12969 0.47954 0.12066 0.4726 0.1349 0.47792 C 0.13611 0.47838 0.14497 0.48347 0.14757 0.48416 C 0.15382 0.48578 0.16667 0.48833 0.16667 0.48833 C 0.19809 0.5022 0.23299 0.49457 0.26493 0.48624 C 0.27257 0.47954 0.26771 0.48324 0.27934 0.47792 C 0.28247 0.47653 0.28577 0.47492 0.28889 0.47353 C 0.29045 0.47283 0.29358 0.47145 0.29358 0.47145 C 0.29879 0.46636 0.30191 0.46127 0.30782 0.45873 C 0.31424 0.45064 0.30834 0.45919 0.31424 0.44601 C 0.3191 0.43515 0.325 0.42335 0.33177 0.41434 C 0.3349 0.39769 0.33716 0.38289 0.34288 0.36786 C 0.3467 0.33665 0.3415 0.36809 0.34757 0.3489 C 0.35157 0.33642 0.35157 0.32208 0.35712 0.31075 C 0.35903 0.29272 0.36025 0.27214 0.36667 0.25596 C 0.36875 0.24486 0.37084 0.23422 0.37448 0.22405 C 0.37691 0.20948 0.37969 0.19422 0.37622 0.17965 C 0.37483 0.17318 0.36337 0.16925 0.36337 0.16925 C 0.36285 0.16717 0.36181 0.16509 0.36181 0.16278 C 0.36181 0.1607 0.36407 0.15838 0.36337 0.15653 C 0.36268 0.15468 0.35868 0.15445 0.35868 0.15445 E">
                                      <p:cBhvr>
                                        <p:cTn id="66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1064 C 0.00607 -0.05342 0.00625 -0.11771 0.00711 -0.18177 C 0.00746 -0.20559 0.00642 -0.22941 0.01354 -0.25161 C 0.01701 -0.26248 0.02257 -0.27174 0.02777 -0.28122 C 0.02934 -0.28399 0.03246 -0.28954 0.03246 -0.28931 C 0.03472 -0.2981 0.03628 -0.30342 0.04201 -0.30874 C 0.04444 -0.31336 0.04566 -0.31914 0.04843 -0.32354 C 0.04982 -0.32585 0.06423 -0.33834 0.06423 -0.33811 C 0.06701 -0.34088 0.07378 -0.3425 0.07378 -0.34227 C 0.08073 -0.34181 0.08767 -0.34158 0.09444 -0.34042 C 0.09965 -0.3395 0.10225 -0.33395 0.10711 -0.33186 C 0.10764 -0.32978 0.10781 -0.32747 0.10868 -0.32562 C 0.10955 -0.32377 0.11128 -0.32308 0.11198 -0.32123 C 0.11371 -0.3166 0.11406 -0.31128 0.1151 -0.30643 C 0.11892 -0.28816 0.12343 -0.2567 0.1342 -0.24306 C 0.13715 -0.2308 0.13854 -0.21184 0.14531 -0.20282 C 0.14757 -0.1938 0.1493 -0.18455 0.15156 -0.17553 C 0.15208 -0.16558 0.15312 -0.14593 0.15312 -0.14569 E">
                                      <p:cBhvr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 -6 L -8.15029 -6 C 0.000519999999999854 -0.0640499999999999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 -6 L -8.15029 -6 C 0.000519999999999854 -0.0640499999999999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 -6 L -8.15029 -6 C 0.000519999999999854 -0.0640499999999999 0.0007 -0.12833 0.00157 -0.19238 C 0.00191 -0.21619 0.00087 -0.24001 0.00799 -0.2622 C 0.01146 -0.27307 0.01702 -0.28232 0.02223 -0.2918 C 0.02379 -0.29457 0.02691 -0.30012 0.02691 -0.30012 C 0.02917 -0.30868 0.03073 -0.31399 0.03646 -0.31931 C 0.03889 -0.32394 0.04011 -0.32972 0.04289 -0.33411 C 0.04427 -0.33642 0.05868 -0.34891 0.05868 -0.34891 C 0.06146 -0.35145 0.06823 -0.35307 0.06823 -0.35307 C 0.07518 -0.35238 0.08212 -0.35214 0.08889 -0.35099 C 0.0941 -0.35006 0.0967 -0.34451 0.10157 -0.34243 C 0.10209 -0.34035 0.10226 -0.33804 0.10313 -0.33619 C 0.104 -0.33434 0.10573 -0.33365 0.10643 -0.3318 C 0.10816 -0.32717 0.10851 -0.32186 0.10955 -0.317 C 0.11337 -0.29873 0.11789 -0.26729 0.12865 -0.25365 C 0.1316 -0.24139 0.13299 -0.22243 0.13976 -0.21342 C 0.14202 -0.2044 0.14375 -0.19515 0.14601 -0.18613 C 0.14653 -0.17619 0.14757 -0.15654 0.14757 -0.15654 E">
                                      <p:cBhvr>
                                        <p:cTn id="7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5.78035 -8 C 0.0123300000000004 -0.0233499999999998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5.78035 -8 C 0.0123300000000004 -0.0233499999999998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7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5.78035 -8 C 0.0123300000000004 -0.0233499999999998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0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5.78035 -8 C 0.0123300000000004 -0.0233499999999998 0.00191 -0.00115999999999999 0.00486 -0.06751 C 0.00521 -0.07468 0.00712 -0.08162 0.00799 -0.08879 C 0.00747 -0.11283 0.00729 -0.13665 0.00642 -0.16069 C 0.00503 -0.19584 -0.02153 -0.20647 -0.04271 -0.21341 C -0.05191 -0.21642 -0.04323 -0.21457 -0.05382 -0.21988 C -0.05955 -0.22289 -0.06684 -0.22451 -0.07292 -0.22613 C -0.08299 -0.23468 -0.09462 -0.23792 -0.10625 -0.24092 C -0.11684 -0.24786 -0.11424 -0.2474 -0.1316 -0.2474 C -0.20781 -0.2474 -0.28403 -0.24578 -0.36024 -0.24509 C -0.36962 -0.243 -0.37778 -0.23884 -0.38715 -0.23676 C -0.39236 -0.23006 -0.39861 -0.23237 -0.40469 -0.22821 C -0.41302 -0.22266 -0.41441 -0.2141 -0.42535 -0.21133 C -0.43021 -0.20994 -0.43368 -0.20971 -0.43802 -0.20717 C -0.44444 -0.20347 -0.44896 -0.19722 -0.45556 -0.19445 C -0.45712 -0.19168 -0.45833 -0.18844 -0.46024 -0.1859 C -0.46215 -0.18335 -0.4651 -0.18243 -0.46667 -0.17965 C -0.4684 -0.17665 -0.46823 -0.17202 -0.46979 -0.16902 C -0.4717 -0.16532 -0.47569 -0.16416 -0.47778 -0.16069 C -0.48524 -0.14821 -0.47726 -0.16023 -0.48247 -0.14798 C -0.48368 -0.14497 -0.48576 -0.14243 -0.48715 -0.13942 C -0.48837 -0.13688 -0.48941 -0.13387 -0.49045 -0.1311 C -0.49549 -0.09711 -0.49601 -0.05526 -0.47604 -0.02959 C -0.47153 -0.01734 -0.46615 -0.00879 -0.45712 -0.00208 C -0.4434 0.00809 -0.46285 -0.01087 -0.44601 0.00416 C -0.4375 0.01179 -0.44931 0.00624 -0.43646 0.01064 C -0.42465 0.02081 -0.41146 0.02382 -0.39826 0.0296 C -0.39184 0.03237 -0.38576 0.03746 -0.37934 0.04023 C -0.36944 0.04463 -0.3592 0.04832 -0.34913 0.05295 C -0.34201 0.05619 -0.33438 0.05734 -0.32691 0.05919 C -0.32066 0.06081 -0.30781 0.06335 -0.30781 0.06335 C -0.29896 0.06775 -0.29149 0.07237 -0.28247 0.07607 C -0.27917 0.07746 -0.27292 0.08046 -0.27292 0.08046 C -0.25122 0.07977 -0.22951 0.08023 -0.20781 0.07815 C -0.2059 0.07792 -0.20486 0.07491 -0.20313 0.07399 C -0.19201 0.06844 -0.17934 0.06728 -0.16823 0.06127 C -0.14149 0.04671 -0.16458 0.05688 -0.15069 0.05087 C -0.14653 0.04509 -0.14288 0.04393 -0.13802 0.04023 C -0.1309 0.03491 -0.12656 0.02867 -0.11892 0.02543 C -0.11094 0.01827 -0.11007 0.01965 -0.10781 0.03168 C -0.10833 0.05202 -0.10851 0.0726 -0.10938 0.09295 C -0.1099 0.1052 -0.11146 0.10913 -0.11424 0.12046 C -0.11476 0.12254 -0.1158 0.12694 -0.1158 0.12694 C -0.11753 0.14936 -0.11736 0.15491 -0.11736 0.14382 E">
                                      <p:cBhvr>
                                        <p:cTn id="8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9.82659 -7 C -0.00174 0.01803 -0.00643 0.03329 -0.00955 0.05064 C -0.01233 0.0652 -0.01424 0.08231 -0.02066 0.09503 C -0.02014 0.16139 -0.02014 0.22751 -0.0191 0.29387 C -0.01893 0.30358 -0.0099 0.33803 -0.00469 0.34451 C -0.00347 0.35214 -0.00226 0.36254 -1.94444 -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">
                                      <p:cBhvr>
                                        <p:cTn id="8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9.82659 -7 C -0.00174 0.01803 -0.00643 0.03329 -0.00955 0.05064 C -0.01233 0.0652 -0.01424 0.08231 -0.02066 0.09503 C -0.02014 0.16139 -0.02014 0.22751 -0.0191 0.29387 C -0.01893 0.30358 -0.0099 0.33803 -0.00469 0.34451 C -0.00347 0.35214 -0.00226 0.36254 -1.94444 -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">
                                      <p:cBhvr>
                                        <p:cTn id="8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9.82659 -7 C -0.00174 0.01803 -0.00643 0.03329 -0.00955 0.05064 C -0.01233 0.0652 -0.01424 0.08231 -0.02066 0.09503 C -0.02014 0.16139 -0.02014 0.22751 -0.0191 0.29387 C -0.01893 0.30358 -0.0099 0.33803 -0.00469 0.34451 C -0.00347 0.35214 -0.00226 0.36254 -1.94444 -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">
                                      <p:cBhvr>
                                        <p:cTn id="88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9.82659 -7 C -0.00174 0.01803 -0.00643 0.03329 -0.00955 0.05064 C -0.01233 0.0652 -0.01424 0.08231 -0.02066 0.09503 C -0.02014 0.16139 -0.02014 0.22751 -0.0191 0.29387 C -0.01893 0.30358 -0.0099 0.33803 -0.00469 0.34451 C -0.00347 0.35214 -0.00226 0.36254 -1.94444 -6 0.36994 C 0.00364 0.3815 0.01319 0.38867 0.02066 0.39538 C 0.02691 0.40092 0.03264 0.40717 0.03975 0.41017 C 0.04844 0.41896 0.05573 0.42289 0.06666 0.42497 C 0.07465 0.43214 0.08594 0.43422 0.09531 0.43769 C 0.10955 0.43699 0.12378 0.43699 0.13802 0.43538 C 0.15746 0.43306 0.17465 0.41988 0.18889 0.4037 C 0.19323 0.39861 0.1934 0.40092 0.19687 0.39538 C 0.20364 0.38428 0.20469 0.36902 0.21111 0.35723 C 0.21354 0.33688 0.21701 0.31445 0.22378 0.29595 C 0.22725 0.27237 0.23594 0.25156 0.23975 0.22821 C 0.24062 0.19029 0.23941 0.14659 0.25087 0.10983 C 0.25469 0.09757 0.25746 0.0904 0.26024 0.07815 C 0.2618 0.07121 0.2651 0.05711 0.2651 0.05711 C 0.26389 0.04671 0.2625 0.03792 0.25712 0.0296 C 0.25469 0.0259 0.24913 0.01896 0.24913 0.01896 C 0.24687 0.01017 0.24913 0.01087 0.24913 0.00208">
                                      <p:cBhvr>
                                        <p:cTn id="9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-1.84971 -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 -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">
                                      <p:cBhvr>
                                        <p:cTn id="9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-1.84971 -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 -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">
                                      <p:cBhvr>
                                        <p:cTn id="9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-1.84971 -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 -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">
                                      <p:cBhvr>
                                        <p:cTn id="9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 -6 -1.84971 -6 C -0.00226 0.01434 -0.00452 0.02636 -0.01112 0.03792 C -0.0132 0.05018 -0.01407 0.05873 -0.02067 0.06752 C -0.02362 0.07977 -0.02883 0.07422 -0.03664 0.08463 C -0.04428 0.0948 -0.05487 0.09943 -0.06355 0.10775 C -0.06546 0.1096 -0.0665 0.1126 -0.06841 0.11422 C -0.0731 0.11815 -0.08039 0.12232 -0.08577 0.12463 C -0.08924 0.12786 -0.09271 0.13133 -0.09688 0.13318 C -0.10105 0.13503 -0.10955 0.13734 -0.10955 0.13734 C -0.11511 0.14428 -0.11962 0.14613 -0.12709 0.14798 C -0.13334 0.15353 -0.1389 0.15445 -0.14619 0.1563 C -0.15035 0.16208 -0.15469 0.1644 -0.16042 0.16694 C -0.16355 0.16971 -0.1691 0.17064 -0.16997 0.17549 C -0.17188 0.18567 -0.16997 0.18174 -0.17466 0.18821 C -0.18386 0.21642 -0.1915 0.24555 -0.19844 0.27469 C -0.20261 0.29272 -0.20504 0.31168 -0.20955 0.32971 C -0.22466 0.39006 -0.20955 0.32047 -0.2191 0.36578 C -0.22049 0.38174 -0.22379 0.3963 -0.22553 0.41226 C -0.22449 0.43399 -0.23803 0.47145 -0.22223 0.47769 C -0.18351 0.49272 -0.10921 0.48023 -0.05556 0.47145 C -0.04376 0.46474 -0.03091 0.46174 -0.0191 0.45457 C -0.01598 0.45272 -0.00834 0.44763 -0.00487 0.44393 C -0.00313 0.44208 -0.00192 0.43908 -6.11111 -6 0.43746 C 0.00329 0.43492 0.00746 0.43492 0.0111 0.4333 C 0.02447 0.42151 0.00572 0.43769 0.02222 0.42497 C 0.02777 0.42058 0.0302 0.41503 0.03645 0.41226 C 0.03888 0.40902 0.04235 0.40717 0.04444 0.4037 C 0.04548 0.40208 0.04513 0.39931 0.046 0.39746 C 0.04808 0.39284 0.05138 0.38914 0.05381 0.38474 C 0.05885 0.37526 0.06215 0.36509 0.06822 0.35723 C 0.07048 0.34821 0.07534 0.33966 0.07933 0.3318 C 0.08211 0.3207 0.08715 0.31191 0.09201 0.3022 C 0.09305 0.30012 0.09513 0.29596 0.09513 0.29596 C 0.09947 0.27839 0.0934 0.29919 0.09999 0.28532 C 0.10086 0.28347 0.10069 0.28093 0.10156 0.27908 C 0.10277 0.27607 0.10468 0.2733 0.10624 0.27052 C 0.10885 0.25989 0.11545 0.24995 0.12048 0.24093 C 0.12222 0.2326 0.12395 0.22567 0.1269 0.21781 C 0.12795 0.21203 0.12795 0.20578 0.13003 0.2007 C 0.13281 0.19376 0.13367 0.19284 0.13489 0.1859 C 0.13558 0.18243 0.13541 0.17873 0.13645 0.17549 C 0.13697 0.17365 0.13871 0.17272 0.13958 0.1711 C 0.14079 0.16856 0.14183 0.16555 0.1427 0.16278 C 0.14565 0.15307 0.14617 0.14266 0.14913 0.13318 C 0.15485 0.11492 0.16267 0.09688 0.17291 0.08232 C 0.17447 0.07584 0.18263 0.06081 0.18715 0.05711 C 0.19114 0.05365 0.19999 0.04856 0.19999 0.04856 C 0.20538 0.04139 0.21163 0.03839 0.21735 0.03168 C 0.22013 0.02844 0.22534 0.02613 0.22534 0.02104 C 0.22534 0.01688 0.22534 0.01249 0.22534 0.00833">
                                      <p:cBhvr>
                                        <p:cTn id="9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E9F53A-37AA-4C93-97EE-3B18C7FC17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7237FE-4BE4-4D81-AB35-07CCD7AB3D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F23E57-0827-449E-8C94-099302493F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1905120" y="18144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144000" y="1096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9142560" y="256536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-1777320" y="3846240"/>
            <a:ext cx="1807560" cy="1676880"/>
            <a:chOff x="-1777320" y="3846240"/>
            <a:chExt cx="1807560" cy="1676880"/>
          </a:xfrm>
        </p:grpSpPr>
        <p:grpSp>
          <p:nvGrpSpPr>
            <p:cNvPr id="211" name=""/>
            <p:cNvGrpSpPr/>
            <p:nvPr/>
          </p:nvGrpSpPr>
          <p:grpSpPr>
            <a:xfrm>
              <a:off x="-1777320" y="3846240"/>
              <a:ext cx="1660680" cy="1472400"/>
              <a:chOff x="-1777320" y="3846240"/>
              <a:chExt cx="1660680" cy="1472400"/>
            </a:xfrm>
          </p:grpSpPr>
          <p:sp>
            <p:nvSpPr>
              <p:cNvPr id="212" name=""/>
              <p:cNvSpPr/>
              <p:nvPr/>
            </p:nvSpPr>
            <p:spPr>
              <a:xfrm flipH="1" rot="21360000">
                <a:off x="-834840" y="4719960"/>
                <a:ext cx="384120" cy="314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21360000">
                <a:off x="-1771200" y="4877640"/>
                <a:ext cx="763560" cy="19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1360000">
                <a:off x="-1400400" y="4614480"/>
                <a:ext cx="597600" cy="511560"/>
              </a:xfrm>
              <a:prstGeom prst="pie">
                <a:avLst/>
              </a:prstGeom>
              <a:solidFill>
                <a:srgbClr val="3b81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21360000">
                <a:off x="-1373400" y="4215600"/>
                <a:ext cx="329400" cy="4867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21360000">
                <a:off x="-1130040" y="3984120"/>
                <a:ext cx="338760" cy="3434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21360000">
                <a:off x="-975960" y="4200840"/>
                <a:ext cx="94680" cy="370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1360000">
                <a:off x="-1147320" y="4011480"/>
                <a:ext cx="300600" cy="1814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21360000">
                <a:off x="-938160" y="4309200"/>
                <a:ext cx="497880" cy="2811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21360000">
                <a:off x="-886320" y="4412880"/>
                <a:ext cx="393840" cy="31968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360000">
                <a:off x="-621720" y="4598280"/>
                <a:ext cx="245880" cy="16200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rot="21360000">
                <a:off x="-577800" y="4710240"/>
                <a:ext cx="212040" cy="26316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rot="21360000">
                <a:off x="-538200" y="4818240"/>
                <a:ext cx="409320" cy="37116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rot="21360000">
                <a:off x="-536760" y="4633200"/>
                <a:ext cx="231120" cy="17136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rot="19260000">
                <a:off x="-456120" y="4641480"/>
                <a:ext cx="96120" cy="17928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rot="21360000">
                <a:off x="-1285920" y="5046480"/>
                <a:ext cx="493200" cy="25524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21360000">
                <a:off x="-1198800" y="5046480"/>
                <a:ext cx="321120" cy="237600"/>
              </a:xfrm>
              <a:prstGeom prst="pi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rot="21360000">
                <a:off x="-1714680" y="4997880"/>
                <a:ext cx="542880" cy="142560"/>
              </a:xfrm>
              <a:prstGeom prst="pie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21360000">
                <a:off x="-1175040" y="4249440"/>
                <a:ext cx="271800" cy="5202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rot="21360000">
                <a:off x="-1152000" y="4307040"/>
                <a:ext cx="329400" cy="4096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-1287360" y="3846240"/>
                <a:ext cx="384120" cy="232920"/>
                <a:chOff x="-1287360" y="3846240"/>
                <a:chExt cx="384120" cy="2329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-1287360" y="3846240"/>
                  <a:ext cx="384120" cy="232920"/>
                  <a:chOff x="-1287360" y="3846240"/>
                  <a:chExt cx="384120" cy="2329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21360000">
                    <a:off x="-1156320" y="3854520"/>
                    <a:ext cx="247320" cy="180000"/>
                  </a:xfrm>
                  <a:prstGeom prst="pi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21360000">
                    <a:off x="-1283400" y="3946320"/>
                    <a:ext cx="152280" cy="127440"/>
                  </a:xfrm>
                  <a:prstGeom prst="pi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 flipH="1" rot="1800000">
                  <a:off x="-1213200" y="3957120"/>
                  <a:ext cx="49320" cy="100800"/>
                </a:xfrm>
                <a:prstGeom prst="pie">
                  <a:avLst/>
                </a:prstGeom>
                <a:solidFill>
                  <a:srgbClr val="0099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21360000">
                  <a:off x="-1166760" y="3911760"/>
                  <a:ext cx="245520" cy="83160"/>
                </a:xfrm>
                <a:custGeom>
                  <a:avLst/>
                  <a:gdLst>
                    <a:gd name="textAreaLeft" fmla="*/ 97560 w 245520"/>
                    <a:gd name="textAreaRight" fmla="*/ 147960 w 245520"/>
                    <a:gd name="textAreaTop" fmla="*/ 33120 h 83160"/>
                    <a:gd name="textAreaBottom" fmla="*/ 5004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 rot="21360000">
                <a:off x="-883800" y="4657320"/>
                <a:ext cx="245520" cy="312840"/>
              </a:xfrm>
              <a:prstGeom prst="pie">
                <a:avLst/>
              </a:pr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21360000">
                <a:off x="-1384200" y="4601160"/>
                <a:ext cx="253800" cy="123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-1697040" y="5005800"/>
              <a:ext cx="526320" cy="517320"/>
              <a:chOff x="-1697040" y="5005800"/>
              <a:chExt cx="526320" cy="517320"/>
            </a:xfrm>
          </p:grpSpPr>
          <p:sp>
            <p:nvSpPr>
              <p:cNvPr id="240" name=""/>
              <p:cNvSpPr/>
              <p:nvPr/>
            </p:nvSpPr>
            <p:spPr>
              <a:xfrm rot="21360000">
                <a:off x="-1680480" y="5022360"/>
                <a:ext cx="493920" cy="48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360000">
                <a:off x="-1587600" y="5119200"/>
                <a:ext cx="304920" cy="28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360000">
                <a:off x="-1563480" y="5142960"/>
                <a:ext cx="259200" cy="240840"/>
              </a:xfrm>
              <a:custGeom>
                <a:avLst/>
                <a:gdLst>
                  <a:gd name="textAreaLeft" fmla="*/ 104760 w 259200"/>
                  <a:gd name="textAreaRight" fmla="*/ 154440 w 259200"/>
                  <a:gd name="textAreaTop" fmla="*/ 97200 h 240840"/>
                  <a:gd name="textAreaBottom" fmla="*/ 143640 h 24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-495720" y="4845600"/>
              <a:ext cx="525960" cy="517320"/>
              <a:chOff x="-495720" y="4845600"/>
              <a:chExt cx="525960" cy="517320"/>
            </a:xfrm>
          </p:grpSpPr>
          <p:sp>
            <p:nvSpPr>
              <p:cNvPr id="244" name=""/>
              <p:cNvSpPr/>
              <p:nvPr/>
            </p:nvSpPr>
            <p:spPr>
              <a:xfrm rot="21360000">
                <a:off x="-479160" y="4862160"/>
                <a:ext cx="493560" cy="48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60000">
                <a:off x="-384840" y="4959000"/>
                <a:ext cx="304560" cy="288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360000">
                <a:off x="-360720" y="4983120"/>
                <a:ext cx="258840" cy="240840"/>
              </a:xfrm>
              <a:custGeom>
                <a:avLst/>
                <a:gdLst>
                  <a:gd name="textAreaLeft" fmla="*/ 104760 w 258840"/>
                  <a:gd name="textAreaRight" fmla="*/ 154080 w 258840"/>
                  <a:gd name="textAreaTop" fmla="*/ 97200 h 240840"/>
                  <a:gd name="textAreaBottom" fmla="*/ 143640 h 24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-1270080" y="4437000"/>
            <a:ext cx="960480" cy="1656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9336240" y="4211640"/>
            <a:ext cx="961920" cy="165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78120" y="200160"/>
            <a:ext cx="359424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Comic Sans MS"/>
              </a:rPr>
              <a:t>Тема  урока 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-5184720" y="2060640"/>
            <a:ext cx="5184720" cy="115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Встречно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8964720" y="3500280"/>
            <a:ext cx="5184720" cy="115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omic Sans MS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598840" y="109692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Задачи н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416 C 0.07604 0.00554 0.14861 0.00878 0.22639 0.01063 C 0.29202 0.02774 0.42865 0.01294 0.44861 0.01271 C 0.46719 0.00462 0.46632 0.00624 0.49306 0.00624 E">
                                      <p:cBhvr>
                                        <p:cTn id="45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0.06058 C -0.09063 0.06775 -0.12101 0.06382 -0.17118 0.06266 C -0.17535 0.06128 -0.17969 0.05989 -0.18386 0.0585 C -0.18594 0.05781 -0.19028 0.05642 -0.19028 0.05665 C -0.31789 0.06081 -0.44514 0.06914 -0.57275 0.06914 E">
                                      <p:cBhvr>
                                        <p:cTn id="45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0115 C -0.05087 -0.01133 -0.08559 -0.00855 -0.11667 0.00301 C -0.13507 0.00971 -0.15174 0.0215 -0.17066 0.02636 C -0.17951 0.03214 -0.18733 0.03468 -0.19757 0.03468 C -0.29861 0.03538 -0.39983 0.03468 -0.50087 0.03468 E">
                                      <p:cBhvr>
                                        <p:cTn id="46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 -6 L -5.37572 -6 C 0.01112 -0.000700000000000145 0.02223 -0.00024 0.03334 -0.00209 C 0.03577 -0.00255 0.03751 -0.00533 0.03976 -0.00625 C 0.05539 -0.01319 0.07119 -0.02105 0.08733 -0.02544 C 0.09914 -0.03561 0.11355 -0.04001 0.12692 -0.0444 C 0.16546 -0.08278 0.31216 -0.05226 0.39532 -0.05712 C 0.40261 -0.06035 0.4099 -0.06475 0.41754 -0.06775 C 0.42032 -0.06891 0.42588 -0.07007 0.42865 -0.07192 C 0.43924 -0.07908 0.42657 -0.07377 0.43976 -0.07816 C 0.44445 -0.08486 0.45088 -0.08602 0.4573 -0.08879 C 0.46494 -0.09203 0.47154 -0.09689 0.47952 -0.09943 C 0.49063 -0.10683 0.51147 -0.12324 0.52049 -0.13527 E">
                                      <p:cBhvr>
                                        <p:cTn id="46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1.79191 -6 C 0.11927 0.00670000000000037 0.18559 0.0074 0.33785 0.00855 C 0.36285 0.00693 0.38854 0.0104 0.41267 0.00231 C 0.41892 0.00023 0.42535 -0.00393 0.43177 -0.00625 C 0.44114 -0.00971 0.45347 -0.01388 0.4618 -0.02104 C 0.4658 -0.02451 0.47465 -0.0296 0.47465 -0.0296 C 0.47969 -0.03954 0.47604 -0.03492 0.48733 -0.04 C 0.48889 -0.0407 0.49201 -0.04208 0.49201 -0.04208 C 0.5 -0.05318 0.5243 -0.0548 0.53489 -0.0548 E">
                                      <p:cBhvr>
                                        <p:cTn id="477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2.25434 -6 C -0.0052 -0.00232 -0.01059 -0.00394 -0.01579 -0.00625 C -0.01736 -0.00763 -0.01875 -0.00948 -0.02048 -0.01064 C -0.02361 -0.01249 -0.03003 -0.0148 -0.03003 -0.0148 C -0.11753 -0.01272 -0.09461 -0.01735 -0.13802 -0.00833 C -0.15173 0.00046 -0.13611 -0.00856 -0.15555 -0.00209 C -0.1618 2.25434 -6 -0.1684 0.0067 -0.17447 0.00855 C -0.17968 0.01017 -0.18507 0.00994 -0.19045 0.01063 C -0.19652 0.01271 -0.20173 0.01711 -0.20781 0.01895 C -0.21701 0.02173 -0.22552 0.02381 -0.23489 0.02543 C -0.28663 0.04809 -0.24114 0.02959 -0.37777 0.02751 C -0.396 0.01526 -0.37812 0.02589 -0.3967 0.01895 C -0.40468 0.01595 -0.41128 0.00994 -0.41892 0.00647 C -0.42326 0.00069 -0.4276 0.00046 -0.43333 -0.00209 C -0.44027 -0.00833 -0.44652 -0.01018 -0.45382 -0.01688 C -0.45607 -0.01896 -0.4592 -0.01781 -0.4618 -0.01896 C -0.46614 -0.02081 -0.47066 -0.0222 -0.47447 -0.02544 C -0.47934 -0.0296 -0.4901 -0.03769 -0.49513 -0.04024 C -0.50382 -0.04463 -0.5151 -0.04486 -0.52378 -0.04856 C -0.52847 -0.05064 -0.53298 -0.05457 -0.53802 -0.05503 C -0.54704 -0.05573 -0.5559 -0.05503 -0.56493 -0.05503">
                                      <p:cBhvr>
                                        <p:cTn id="479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0.0104 L 0.67726 0.0104 E">
                                      <p:cBhvr>
                                        <p:cTn id="49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45 -0.01572 L -0.66545 -0.01572 E">
                                      <p:cBhvr>
                                        <p:cTn id="499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537B8D-C97B-4536-A32C-661A3D57EB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5734080"/>
            <a:ext cx="144144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320" y="3975120"/>
            <a:ext cx="9176760" cy="1624320"/>
            <a:chOff x="4320" y="3975120"/>
            <a:chExt cx="9176760" cy="1624320"/>
          </a:xfrm>
        </p:grpSpPr>
        <p:grpSp>
          <p:nvGrpSpPr>
            <p:cNvPr id="256" name=""/>
            <p:cNvGrpSpPr/>
            <p:nvPr/>
          </p:nvGrpSpPr>
          <p:grpSpPr>
            <a:xfrm>
              <a:off x="8640" y="4499280"/>
              <a:ext cx="9172440" cy="1100160"/>
              <a:chOff x="8640" y="4499280"/>
              <a:chExt cx="9172440" cy="1100160"/>
            </a:xfrm>
          </p:grpSpPr>
          <p:sp>
            <p:nvSpPr>
              <p:cNvPr id="257" name=""/>
              <p:cNvSpPr/>
              <p:nvPr/>
            </p:nvSpPr>
            <p:spPr>
              <a:xfrm rot="360000">
                <a:off x="7551000" y="5101560"/>
                <a:ext cx="428040" cy="44064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360000">
                <a:off x="7826040" y="5121720"/>
                <a:ext cx="414720" cy="44064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360000">
                <a:off x="8123760" y="5119560"/>
                <a:ext cx="435600" cy="43956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60000">
                <a:off x="8435160" y="5138280"/>
                <a:ext cx="413280" cy="44064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360000">
                <a:off x="8745480" y="5135040"/>
                <a:ext cx="413280" cy="4410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360000">
                <a:off x="1616040" y="4712400"/>
                <a:ext cx="435960" cy="4392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50000">
                    <a:srgbClr val="5e4700"/>
                  </a:gs>
                  <a:gs pos="100000">
                    <a:srgbClr val="cc9900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360000">
                <a:off x="145080" y="4519440"/>
                <a:ext cx="414720" cy="4410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60000">
                <a:off x="414000" y="4553640"/>
                <a:ext cx="425880" cy="440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60000">
                <a:off x="785880" y="4601880"/>
                <a:ext cx="413280" cy="440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089720" y="4593960"/>
                <a:ext cx="6655680" cy="988200"/>
                <a:chOff x="1089720" y="4593960"/>
                <a:chExt cx="6655680" cy="988200"/>
              </a:xfrm>
            </p:grpSpPr>
            <p:sp>
              <p:nvSpPr>
                <p:cNvPr id="267" name=""/>
                <p:cNvSpPr/>
                <p:nvPr/>
              </p:nvSpPr>
              <p:spPr>
                <a:xfrm rot="360000">
                  <a:off x="1378080" y="4689000"/>
                  <a:ext cx="441720" cy="40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360000">
                  <a:off x="1974960" y="4722120"/>
                  <a:ext cx="41436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360000">
                  <a:off x="2338200" y="4774680"/>
                  <a:ext cx="414360" cy="45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360000">
                  <a:off x="2672640" y="4787280"/>
                  <a:ext cx="42840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360000">
                  <a:off x="3020040" y="4773600"/>
                  <a:ext cx="43848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360000">
                  <a:off x="3314520" y="4799880"/>
                  <a:ext cx="43020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360000">
                  <a:off x="3673080" y="4804920"/>
                  <a:ext cx="43848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360000">
                  <a:off x="3956040" y="4836960"/>
                  <a:ext cx="43344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360000">
                  <a:off x="4308480" y="4861800"/>
                  <a:ext cx="438840" cy="45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360000">
                  <a:off x="4598280" y="4888080"/>
                  <a:ext cx="433440" cy="45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360000">
                  <a:off x="5030280" y="4894200"/>
                  <a:ext cx="42732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360000">
                  <a:off x="5308560" y="4933440"/>
                  <a:ext cx="43056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60000">
                  <a:off x="5585760" y="4942080"/>
                  <a:ext cx="43884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360000">
                  <a:off x="5865840" y="5004000"/>
                  <a:ext cx="438480" cy="45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360000">
                  <a:off x="6185880" y="5022720"/>
                  <a:ext cx="414360" cy="45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360000">
                  <a:off x="6450120" y="5004000"/>
                  <a:ext cx="419040" cy="45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360000">
                  <a:off x="6732000" y="5037120"/>
                  <a:ext cx="414360" cy="45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360000">
                  <a:off x="7017120" y="5075640"/>
                  <a:ext cx="414360" cy="45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360000">
                  <a:off x="7308000" y="5106960"/>
                  <a:ext cx="414360" cy="45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360000">
                  <a:off x="1112040" y="4615200"/>
                  <a:ext cx="435240" cy="45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cc6600"/>
                    </a:gs>
                    <a:gs pos="100000">
                      <a:srgbClr val="ffffcc"/>
                    </a:gs>
                  </a:gsLst>
                  <a:lin ang="18900000"/>
                </a:gradFill>
                <a:ln w="12600">
                  <a:solidFill>
                    <a:srgbClr val="99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 flipH="1" flipV="1">
                <a:off x="8640" y="4730760"/>
                <a:ext cx="9135720" cy="6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65880" y="4860360"/>
                <a:ext cx="9067320" cy="61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 rot="360000">
              <a:off x="7548120" y="4551480"/>
              <a:ext cx="412200" cy="42156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360000">
              <a:off x="7809840" y="4562640"/>
              <a:ext cx="412560" cy="41976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360000">
              <a:off x="8105040" y="4564440"/>
              <a:ext cx="412560" cy="42120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360000">
              <a:off x="8414640" y="4581000"/>
              <a:ext cx="410760" cy="41976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360000">
              <a:off x="8724240" y="4576320"/>
              <a:ext cx="410760" cy="42120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60000">
              <a:off x="1631160" y="4170240"/>
              <a:ext cx="412560" cy="42156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360000">
              <a:off x="145440" y="3995280"/>
              <a:ext cx="412200" cy="421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0000">
              <a:off x="428040" y="4025520"/>
              <a:ext cx="412200" cy="42156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360000">
              <a:off x="780480" y="4064040"/>
              <a:ext cx="412200" cy="42156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085040" y="4055760"/>
              <a:ext cx="6638400" cy="953280"/>
              <a:chOff x="1085040" y="4055760"/>
              <a:chExt cx="6638400" cy="953280"/>
            </a:xfrm>
          </p:grpSpPr>
          <p:sp>
            <p:nvSpPr>
              <p:cNvPr id="299" name=""/>
              <p:cNvSpPr/>
              <p:nvPr/>
            </p:nvSpPr>
            <p:spPr>
              <a:xfrm rot="360000">
                <a:off x="1374480" y="4138920"/>
                <a:ext cx="439200" cy="389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360000">
                <a:off x="1968480" y="4189320"/>
                <a:ext cx="413280" cy="4334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360000">
                <a:off x="2323080" y="4230000"/>
                <a:ext cx="413280" cy="4330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60000">
                <a:off x="2677320" y="4248720"/>
                <a:ext cx="413640" cy="4330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60000">
                <a:off x="3016080" y="4221720"/>
                <a:ext cx="43596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60000">
                <a:off x="3299040" y="4251600"/>
                <a:ext cx="42624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60000">
                <a:off x="3674160" y="4258440"/>
                <a:ext cx="42012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60000">
                <a:off x="3941280" y="4283640"/>
                <a:ext cx="42624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60000">
                <a:off x="4292640" y="4307760"/>
                <a:ext cx="43596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60000">
                <a:off x="4594320" y="4346280"/>
                <a:ext cx="41184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60000">
                <a:off x="5007960" y="4356360"/>
                <a:ext cx="43452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60000">
                <a:off x="5282640" y="4386960"/>
                <a:ext cx="43596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60000">
                <a:off x="5590440" y="4403880"/>
                <a:ext cx="423000" cy="4334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60000">
                <a:off x="5851440" y="4440600"/>
                <a:ext cx="43272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60000">
                <a:off x="6156000" y="4469400"/>
                <a:ext cx="413280" cy="4334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60000">
                <a:off x="6425640" y="4448880"/>
                <a:ext cx="413280" cy="4334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60000">
                <a:off x="6722640" y="4494960"/>
                <a:ext cx="411840" cy="4334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360000">
                <a:off x="7005600" y="4528440"/>
                <a:ext cx="413280" cy="4330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60000">
                <a:off x="7288560" y="4557240"/>
                <a:ext cx="413280" cy="43128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360000">
                <a:off x="1106280" y="4076640"/>
                <a:ext cx="428040" cy="43164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cc6600"/>
                  </a:gs>
                  <a:gs pos="100000">
                    <a:srgbClr val="ffffcc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H="1" flipV="1">
              <a:off x="4320" y="4183200"/>
              <a:ext cx="9118440" cy="60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59760" y="4305960"/>
              <a:ext cx="9050040" cy="59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1" name=""/>
          <p:cNvSpPr/>
          <p:nvPr/>
        </p:nvSpPr>
        <p:spPr>
          <a:xfrm rot="300000">
            <a:off x="7434720" y="299736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0км/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7667640" y="3524400"/>
            <a:ext cx="1084320" cy="9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2286000"/>
            <a:ext cx="750960" cy="809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2760" y="4565520"/>
            <a:ext cx="8355960" cy="1854000"/>
            <a:chOff x="212760" y="4565520"/>
            <a:chExt cx="8355960" cy="1854000"/>
          </a:xfrm>
        </p:grpSpPr>
        <p:sp>
          <p:nvSpPr>
            <p:cNvPr id="325" name=""/>
            <p:cNvSpPr/>
            <p:nvPr/>
          </p:nvSpPr>
          <p:spPr>
            <a:xfrm rot="300000">
              <a:off x="3876120" y="5563080"/>
              <a:ext cx="7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r>
                <a:rPr b="1" lang="ru-RU" sz="3600" spc="-1" strike="noStrike">
                  <a:solidFill>
                    <a:srgbClr val="663300"/>
                  </a:solidFill>
                  <a:latin typeface="Comic Sans MS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440000">
              <a:off x="3927240" y="1161720"/>
              <a:ext cx="927000" cy="8311680"/>
            </a:xfrm>
            <a:custGeom>
              <a:avLst/>
              <a:gdLst>
                <a:gd name="textAreaLeft" fmla="*/ 592200 w 927000"/>
                <a:gd name="textAreaRight" fmla="*/ 927360 w 927000"/>
                <a:gd name="textAreaTop" fmla="*/ 216720 h 8311680"/>
                <a:gd name="textAreaBottom" fmla="*/ 8094960 h 831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111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2133720"/>
            <a:ext cx="750600" cy="8096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 rot="240000">
            <a:off x="140400" y="2678040"/>
            <a:ext cx="173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  <a:ea typeface="Arial"/>
              </a:rPr>
              <a:t>70 км/ч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368280" y="3422520"/>
            <a:ext cx="890640" cy="7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6108840"/>
            <a:ext cx="1930320" cy="53316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8165" h="21600">
                <a:moveTo>
                  <a:pt x="0" y="0"/>
                </a:moveTo>
                <a:lnTo>
                  <a:pt x="78165" y="0"/>
                </a:lnTo>
                <a:lnTo>
                  <a:pt x="78165" y="21600"/>
                </a:lnTo>
                <a:lnTo>
                  <a:pt x="0" y="21600"/>
                </a:lnTo>
                <a:close/>
              </a:path>
              <a:path fill="lightenLess" w="78165" h="21600">
                <a:moveTo>
                  <a:pt x="0" y="0"/>
                </a:moveTo>
                <a:lnTo>
                  <a:pt x="78165" y="0"/>
                </a:lnTo>
                <a:lnTo>
                  <a:pt x="76765" y="1400"/>
                </a:lnTo>
                <a:lnTo>
                  <a:pt x="1400" y="1400"/>
                </a:lnTo>
                <a:close/>
              </a:path>
              <a:path fill="darken" w="78165" h="21600">
                <a:moveTo>
                  <a:pt x="78165" y="0"/>
                </a:moveTo>
                <a:lnTo>
                  <a:pt x="78165" y="21600"/>
                </a:lnTo>
                <a:lnTo>
                  <a:pt x="76765" y="20200"/>
                </a:lnTo>
                <a:lnTo>
                  <a:pt x="76765" y="1400"/>
                </a:lnTo>
                <a:close/>
              </a:path>
              <a:path fill="darkenLess" w="78165" h="21600">
                <a:moveTo>
                  <a:pt x="78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65" y="20200"/>
                </a:lnTo>
                <a:close/>
              </a:path>
              <a:path fill="lighten" w="78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330120" y="3403440"/>
            <a:ext cx="8407440" cy="2070360"/>
          </a:xfrm>
          <a:prstGeom prst="pie">
            <a:avLst/>
          </a:pr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-2545920" y="3867840"/>
            <a:ext cx="2533320" cy="885600"/>
            <a:chOff x="-2545920" y="3867840"/>
            <a:chExt cx="2533320" cy="885600"/>
          </a:xfrm>
        </p:grpSpPr>
        <p:grpSp>
          <p:nvGrpSpPr>
            <p:cNvPr id="335" name=""/>
            <p:cNvGrpSpPr/>
            <p:nvPr/>
          </p:nvGrpSpPr>
          <p:grpSpPr>
            <a:xfrm>
              <a:off x="-2545920" y="3951720"/>
              <a:ext cx="1213200" cy="682560"/>
              <a:chOff x="-2545920" y="3951720"/>
              <a:chExt cx="1213200" cy="6825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-2545920" y="3951720"/>
                <a:ext cx="1127160" cy="682560"/>
                <a:chOff x="-2545920" y="3951720"/>
                <a:chExt cx="1127160" cy="682560"/>
              </a:xfrm>
            </p:grpSpPr>
            <p:sp>
              <p:nvSpPr>
                <p:cNvPr id="337" name=""/>
                <p:cNvSpPr/>
                <p:nvPr/>
              </p:nvSpPr>
              <p:spPr>
                <a:xfrm rot="180000">
                  <a:off x="-2534760" y="4001760"/>
                  <a:ext cx="109800" cy="42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5f5f5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-2413080" y="4420080"/>
                  <a:ext cx="176040" cy="185040"/>
                  <a:chOff x="-2413080" y="4420080"/>
                  <a:chExt cx="176040" cy="1850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180000">
                    <a:off x="-2406960" y="4424040"/>
                    <a:ext cx="165600" cy="176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180000">
                    <a:off x="-2408400" y="4427280"/>
                    <a:ext cx="165240" cy="172080"/>
                  </a:xfrm>
                  <a:custGeom>
                    <a:avLst/>
                    <a:gdLst>
                      <a:gd name="textAreaLeft" fmla="*/ 75960 w 165240"/>
                      <a:gd name="textAreaRight" fmla="*/ 89280 w 165240"/>
                      <a:gd name="textAreaTop" fmla="*/ 79200 h 172080"/>
                      <a:gd name="textAreaBottom" fmla="*/ 92880 h 172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45929" dir="19571123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-1729800" y="4448880"/>
                  <a:ext cx="175680" cy="185400"/>
                  <a:chOff x="-1729800" y="4448880"/>
                  <a:chExt cx="175680" cy="1854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80000">
                    <a:off x="-1725120" y="4452840"/>
                    <a:ext cx="166680" cy="176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7632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80000">
                    <a:off x="-1724760" y="4457520"/>
                    <a:ext cx="164880" cy="172080"/>
                  </a:xfrm>
                  <a:custGeom>
                    <a:avLst/>
                    <a:gdLst>
                      <a:gd name="textAreaLeft" fmla="*/ 75960 w 164880"/>
                      <a:gd name="textAreaRight" fmla="*/ 88920 w 164880"/>
                      <a:gd name="textAreaTop" fmla="*/ 79200 h 172080"/>
                      <a:gd name="textAreaBottom" fmla="*/ 92880 h 172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9607" y="11032"/>
                        </a:lnTo>
                        <a:lnTo>
                          <a:pt x="786" y="14846"/>
                        </a:lnTo>
                        <a:lnTo>
                          <a:pt x="9781" y="11462"/>
                        </a:lnTo>
                        <a:lnTo>
                          <a:pt x="3163" y="18437"/>
                        </a:lnTo>
                        <a:lnTo>
                          <a:pt x="10121" y="11807"/>
                        </a:lnTo>
                        <a:lnTo>
                          <a:pt x="6580" y="20741"/>
                        </a:lnTo>
                        <a:lnTo>
                          <a:pt x="10547" y="11988"/>
                        </a:lnTo>
                        <a:lnTo>
                          <a:pt x="10800" y="21600"/>
                        </a:lnTo>
                        <a:lnTo>
                          <a:pt x="11032" y="11993"/>
                        </a:lnTo>
                        <a:lnTo>
                          <a:pt x="14846" y="20814"/>
                        </a:lnTo>
                        <a:lnTo>
                          <a:pt x="11462" y="11819"/>
                        </a:lnTo>
                        <a:lnTo>
                          <a:pt x="18437" y="18437"/>
                        </a:lnTo>
                        <a:lnTo>
                          <a:pt x="11807" y="11479"/>
                        </a:lnTo>
                        <a:lnTo>
                          <a:pt x="20741" y="15020"/>
                        </a:lnTo>
                        <a:lnTo>
                          <a:pt x="11988" y="11053"/>
                        </a:lnTo>
                        <a:lnTo>
                          <a:pt x="21600" y="10800"/>
                        </a:lnTo>
                        <a:lnTo>
                          <a:pt x="11993" y="10568"/>
                        </a:lnTo>
                        <a:lnTo>
                          <a:pt x="20814" y="6754"/>
                        </a:lnTo>
                        <a:lnTo>
                          <a:pt x="11819" y="10138"/>
                        </a:lnTo>
                        <a:lnTo>
                          <a:pt x="18437" y="3163"/>
                        </a:lnTo>
                        <a:lnTo>
                          <a:pt x="11479" y="9793"/>
                        </a:lnTo>
                        <a:lnTo>
                          <a:pt x="15020" y="859"/>
                        </a:lnTo>
                        <a:lnTo>
                          <a:pt x="11053" y="9612"/>
                        </a:lnTo>
                        <a:lnTo>
                          <a:pt x="10800" y="0"/>
                        </a:lnTo>
                        <a:lnTo>
                          <a:pt x="10568" y="9607"/>
                        </a:lnTo>
                        <a:lnTo>
                          <a:pt x="6754" y="786"/>
                        </a:lnTo>
                        <a:lnTo>
                          <a:pt x="10138" y="9781"/>
                        </a:lnTo>
                        <a:lnTo>
                          <a:pt x="3163" y="3163"/>
                        </a:lnTo>
                        <a:lnTo>
                          <a:pt x="9793" y="10121"/>
                        </a:lnTo>
                        <a:lnTo>
                          <a:pt x="859" y="6580"/>
                        </a:lnTo>
                        <a:lnTo>
                          <a:pt x="9612" y="1054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53966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 rot="180000">
                  <a:off x="-2528640" y="4030200"/>
                  <a:ext cx="1046520" cy="41292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  <a:effectLst>
                  <a:outerShdw dist="99192" dir="18581945" blurRad="0" rotWithShape="0">
                    <a:srgbClr val="66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-1713960" y="3976920"/>
                  <a:ext cx="177840" cy="122040"/>
                  <a:chOff x="-1713960" y="3976920"/>
                  <a:chExt cx="177840" cy="1220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80000">
                    <a:off x="-1712520" y="4038480"/>
                    <a:ext cx="163440" cy="55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80000">
                    <a:off x="-1700640" y="4011480"/>
                    <a:ext cx="148320" cy="4212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80000">
                    <a:off x="-1708920" y="3981240"/>
                    <a:ext cx="17172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rot="180000">
                  <a:off x="-1540080" y="4035240"/>
                  <a:ext cx="11016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5f5f5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-2315880" y="3951720"/>
                  <a:ext cx="176040" cy="122400"/>
                  <a:chOff x="-2315880" y="3951720"/>
                  <a:chExt cx="176040" cy="1224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80000">
                    <a:off x="-2314440" y="4016880"/>
                    <a:ext cx="163440" cy="5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80000">
                    <a:off x="-2309400" y="3988080"/>
                    <a:ext cx="151920" cy="388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prstDash val="sysDot"/>
                    <a:round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180000">
                    <a:off x="-2310480" y="3956040"/>
                    <a:ext cx="169920" cy="47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-1487160" y="4341960"/>
                <a:ext cx="154440" cy="112320"/>
                <a:chOff x="-1487160" y="4341960"/>
                <a:chExt cx="154440" cy="11232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-1439280" y="4341960"/>
                  <a:ext cx="6480" cy="11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-1409040" y="4343040"/>
                  <a:ext cx="6480" cy="11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-1439280" y="4341960"/>
                  <a:ext cx="6480" cy="11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-1409040" y="4343040"/>
                  <a:ext cx="6480" cy="11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80000">
                  <a:off x="-1486800" y="4388760"/>
                  <a:ext cx="154080" cy="1548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-1433160" y="3867840"/>
              <a:ext cx="1420560" cy="885600"/>
              <a:chOff x="-1433160" y="3867840"/>
              <a:chExt cx="1420560" cy="8856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-649800" y="4452120"/>
                <a:ext cx="266760" cy="288360"/>
                <a:chOff x="-649800" y="4452120"/>
                <a:chExt cx="266760" cy="28836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-649800" y="4452120"/>
                  <a:ext cx="264600" cy="285840"/>
                  <a:chOff x="-649800" y="4452120"/>
                  <a:chExt cx="264600" cy="28584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-649800" y="4452120"/>
                    <a:ext cx="264600" cy="285840"/>
                    <a:chOff x="-649800" y="4452120"/>
                    <a:chExt cx="264600" cy="28584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-649800" y="4452120"/>
                      <a:ext cx="264600" cy="285840"/>
                      <a:chOff x="-649800" y="4452120"/>
                      <a:chExt cx="264600" cy="285840"/>
                    </a:xfrm>
                  </p:grpSpPr>
                  <p:sp>
                    <p:nvSpPr>
                      <p:cNvPr id="365" name=""/>
                      <p:cNvSpPr/>
                      <p:nvPr/>
                    </p:nvSpPr>
                    <p:spPr>
                      <a:xfrm rot="180000">
                        <a:off x="-642600" y="4458240"/>
                        <a:ext cx="250560" cy="2732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 rot="180000">
                        <a:off x="-642600" y="4458240"/>
                        <a:ext cx="250560" cy="273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7" name=""/>
                    <p:cNvGrpSpPr/>
                    <p:nvPr/>
                  </p:nvGrpSpPr>
                  <p:grpSpPr>
                    <a:xfrm>
                      <a:off x="-625680" y="4476960"/>
                      <a:ext cx="218880" cy="237240"/>
                      <a:chOff x="-625680" y="4476960"/>
                      <a:chExt cx="218880" cy="237240"/>
                    </a:xfrm>
                  </p:grpSpPr>
                  <p:sp>
                    <p:nvSpPr>
                      <p:cNvPr id="368" name=""/>
                      <p:cNvSpPr/>
                      <p:nvPr/>
                    </p:nvSpPr>
                    <p:spPr>
                      <a:xfrm rot="180000">
                        <a:off x="-619560" y="4482000"/>
                        <a:ext cx="207360" cy="22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 rot="180000">
                        <a:off x="-619560" y="4482000"/>
                        <a:ext cx="207360" cy="2268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-625680" y="4476960"/>
                    <a:ext cx="219240" cy="237600"/>
                    <a:chOff x="-625680" y="4476960"/>
                    <a:chExt cx="219240" cy="23760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180000">
                      <a:off x="-619560" y="4482000"/>
                      <a:ext cx="207720" cy="22716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180000">
                      <a:off x="-619560" y="4482000"/>
                      <a:ext cx="207720" cy="227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-649800" y="4452120"/>
                  <a:ext cx="264960" cy="287640"/>
                  <a:chOff x="-649800" y="4452120"/>
                  <a:chExt cx="264960" cy="28764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-649800" y="4452120"/>
                    <a:ext cx="264960" cy="287640"/>
                    <a:chOff x="-649800" y="4452120"/>
                    <a:chExt cx="264960" cy="2876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80000">
                      <a:off x="-642600" y="4458240"/>
                      <a:ext cx="250920" cy="2750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80000">
                      <a:off x="-642600" y="4458240"/>
                      <a:ext cx="250920" cy="275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-625680" y="4476960"/>
                    <a:ext cx="219240" cy="237600"/>
                    <a:chOff x="-625680" y="4476960"/>
                    <a:chExt cx="219240" cy="23760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80000">
                      <a:off x="-619560" y="4482000"/>
                      <a:ext cx="207720" cy="227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80000">
                      <a:off x="-619560" y="4482000"/>
                      <a:ext cx="207720" cy="227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-627480" y="4476960"/>
                  <a:ext cx="221400" cy="238320"/>
                  <a:chOff x="-627480" y="4476960"/>
                  <a:chExt cx="221400" cy="2383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-649800" y="4452120"/>
                  <a:ext cx="266760" cy="288360"/>
                  <a:chOff x="-649800" y="4452120"/>
                  <a:chExt cx="266760" cy="2883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80000">
                    <a:off x="-642600" y="4458240"/>
                    <a:ext cx="252720" cy="2754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80000">
                    <a:off x="-642600" y="4458240"/>
                    <a:ext cx="252720" cy="275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-627480" y="4476960"/>
                  <a:ext cx="221400" cy="238320"/>
                  <a:chOff x="-627480" y="4476960"/>
                  <a:chExt cx="221400" cy="2383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-649800" y="4452120"/>
                  <a:ext cx="266760" cy="288360"/>
                  <a:chOff x="-649800" y="4452120"/>
                  <a:chExt cx="266760" cy="28836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80000">
                    <a:off x="-642600" y="4458240"/>
                    <a:ext cx="252720" cy="2754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80000">
                    <a:off x="-642600" y="4458240"/>
                    <a:ext cx="252720" cy="275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-627480" y="4476960"/>
                  <a:ext cx="221400" cy="238320"/>
                  <a:chOff x="-627480" y="4476960"/>
                  <a:chExt cx="221400" cy="2383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-627480" y="4476960"/>
                  <a:ext cx="221400" cy="238320"/>
                  <a:chOff x="-627480" y="4476960"/>
                  <a:chExt cx="221400" cy="2383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80000">
                    <a:off x="-621360" y="4482000"/>
                    <a:ext cx="20988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-987840" y="4434480"/>
                <a:ext cx="267120" cy="288720"/>
                <a:chOff x="-987840" y="4434480"/>
                <a:chExt cx="267120" cy="28872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-987840" y="4434480"/>
                  <a:ext cx="264600" cy="285840"/>
                  <a:chOff x="-987840" y="4434480"/>
                  <a:chExt cx="264600" cy="285840"/>
                </a:xfrm>
              </p:grpSpPr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-987840" y="4434480"/>
                    <a:ext cx="264600" cy="285840"/>
                    <a:chOff x="-987840" y="4434480"/>
                    <a:chExt cx="264600" cy="285840"/>
                  </a:xfrm>
                </p:grpSpPr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-987840" y="4434480"/>
                      <a:ext cx="264600" cy="285840"/>
                      <a:chOff x="-987840" y="4434480"/>
                      <a:chExt cx="264600" cy="285840"/>
                    </a:xfrm>
                  </p:grpSpPr>
                  <p:sp>
                    <p:nvSpPr>
                      <p:cNvPr id="402" name=""/>
                      <p:cNvSpPr/>
                      <p:nvPr/>
                    </p:nvSpPr>
                    <p:spPr>
                      <a:xfrm rot="180000">
                        <a:off x="-980640" y="4440600"/>
                        <a:ext cx="250560" cy="2732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 rot="180000">
                        <a:off x="-980640" y="4440600"/>
                        <a:ext cx="250560" cy="273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-966960" y="4459320"/>
                      <a:ext cx="219240" cy="237600"/>
                      <a:chOff x="-966960" y="4459320"/>
                      <a:chExt cx="219240" cy="237600"/>
                    </a:xfrm>
                  </p:grpSpPr>
                  <p:sp>
                    <p:nvSpPr>
                      <p:cNvPr id="405" name=""/>
                      <p:cNvSpPr/>
                      <p:nvPr/>
                    </p:nvSpPr>
                    <p:spPr>
                      <a:xfrm rot="180000">
                        <a:off x="-960840" y="4464360"/>
                        <a:ext cx="207720" cy="227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rot="180000">
                        <a:off x="-960840" y="4464360"/>
                        <a:ext cx="207720" cy="2271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-966960" y="4459320"/>
                    <a:ext cx="219600" cy="237960"/>
                    <a:chOff x="-966960" y="4459320"/>
                    <a:chExt cx="219600" cy="237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180000">
                      <a:off x="-960840" y="4464360"/>
                      <a:ext cx="208080" cy="22752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180000">
                      <a:off x="-960840" y="4464360"/>
                      <a:ext cx="208080" cy="227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-987840" y="4434480"/>
                  <a:ext cx="264960" cy="288000"/>
                  <a:chOff x="-987840" y="4434480"/>
                  <a:chExt cx="264960" cy="288000"/>
                </a:xfrm>
              </p:grpSpPr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-987840" y="4434480"/>
                    <a:ext cx="264960" cy="288000"/>
                    <a:chOff x="-987840" y="4434480"/>
                    <a:chExt cx="264960" cy="28800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rot="180000">
                      <a:off x="-980640" y="4440600"/>
                      <a:ext cx="250920" cy="2754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rot="180000">
                      <a:off x="-980640" y="4440600"/>
                      <a:ext cx="250920" cy="275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-966960" y="4459320"/>
                    <a:ext cx="219600" cy="237960"/>
                    <a:chOff x="-966960" y="4459320"/>
                    <a:chExt cx="219600" cy="2379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rot="180000">
                      <a:off x="-960840" y="4464360"/>
                      <a:ext cx="208080" cy="227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rot="180000">
                      <a:off x="-960840" y="4464360"/>
                      <a:ext cx="208080" cy="2275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-966960" y="4459320"/>
                  <a:ext cx="221400" cy="238680"/>
                  <a:chOff x="-966960" y="4459320"/>
                  <a:chExt cx="221400" cy="2386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-987480" y="4434480"/>
                  <a:ext cx="266760" cy="288720"/>
                  <a:chOff x="-987480" y="4434480"/>
                  <a:chExt cx="266760" cy="288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180000">
                    <a:off x="-980280" y="4440600"/>
                    <a:ext cx="252720" cy="27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80000">
                    <a:off x="-980280" y="4440600"/>
                    <a:ext cx="252720" cy="275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-966960" y="4459320"/>
                  <a:ext cx="221400" cy="238680"/>
                  <a:chOff x="-966960" y="4459320"/>
                  <a:chExt cx="221400" cy="2386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-987480" y="4434480"/>
                  <a:ext cx="266760" cy="288720"/>
                  <a:chOff x="-987480" y="4434480"/>
                  <a:chExt cx="266760" cy="2887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180000">
                    <a:off x="-980280" y="4440600"/>
                    <a:ext cx="252720" cy="27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80000">
                    <a:off x="-980280" y="4440600"/>
                    <a:ext cx="252720" cy="275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-966960" y="4459320"/>
                  <a:ext cx="221400" cy="238680"/>
                  <a:chOff x="-966960" y="4459320"/>
                  <a:chExt cx="221400" cy="2386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-966960" y="4459320"/>
                  <a:ext cx="221400" cy="238680"/>
                  <a:chOff x="-966960" y="4459320"/>
                  <a:chExt cx="221400" cy="238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180000">
                    <a:off x="-960840" y="4464360"/>
                    <a:ext cx="209880" cy="227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-210960" y="4353840"/>
                <a:ext cx="190800" cy="194040"/>
                <a:chOff x="-210960" y="4353840"/>
                <a:chExt cx="190800" cy="194040"/>
              </a:xfrm>
            </p:grpSpPr>
            <p:sp>
              <p:nvSpPr>
                <p:cNvPr id="436" name=""/>
                <p:cNvSpPr/>
                <p:nvPr/>
              </p:nvSpPr>
              <p:spPr>
                <a:xfrm flipH="1">
                  <a:off x="-123120" y="4353840"/>
                  <a:ext cx="9360" cy="194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0000">
                  <a:off x="-209880" y="4419360"/>
                  <a:ext cx="189360" cy="3168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-1257480" y="4418280"/>
                <a:ext cx="263880" cy="288360"/>
                <a:chOff x="-1257480" y="4418280"/>
                <a:chExt cx="263880" cy="28836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-1257480" y="4418280"/>
                  <a:ext cx="262800" cy="285840"/>
                  <a:chOff x="-1257480" y="4418280"/>
                  <a:chExt cx="262800" cy="28584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-1257480" y="4418280"/>
                    <a:ext cx="262800" cy="285840"/>
                    <a:chOff x="-1257480" y="4418280"/>
                    <a:chExt cx="262800" cy="28584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-1257480" y="4418280"/>
                      <a:ext cx="262800" cy="285840"/>
                      <a:chOff x="-1257480" y="4418280"/>
                      <a:chExt cx="262800" cy="285840"/>
                    </a:xfrm>
                  </p:grpSpPr>
                  <p:sp>
                    <p:nvSpPr>
                      <p:cNvPr id="442" name=""/>
                      <p:cNvSpPr/>
                      <p:nvPr/>
                    </p:nvSpPr>
                    <p:spPr>
                      <a:xfrm rot="180000">
                        <a:off x="-1250280" y="4424400"/>
                        <a:ext cx="248760" cy="2732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 rot="180000">
                        <a:off x="-1250280" y="4424400"/>
                        <a:ext cx="248760" cy="273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-1235160" y="4443120"/>
                      <a:ext cx="217440" cy="237240"/>
                      <a:chOff x="-1235160" y="4443120"/>
                      <a:chExt cx="217440" cy="237240"/>
                    </a:xfrm>
                  </p:grpSpPr>
                  <p:sp>
                    <p:nvSpPr>
                      <p:cNvPr id="445" name=""/>
                      <p:cNvSpPr/>
                      <p:nvPr/>
                    </p:nvSpPr>
                    <p:spPr>
                      <a:xfrm rot="180000">
                        <a:off x="-1229040" y="4448160"/>
                        <a:ext cx="205920" cy="22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 rot="180000">
                        <a:off x="-1229040" y="4448160"/>
                        <a:ext cx="205920" cy="2268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-1235160" y="4443120"/>
                    <a:ext cx="219600" cy="237600"/>
                    <a:chOff x="-1235160" y="4443120"/>
                    <a:chExt cx="219600" cy="23760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180000">
                      <a:off x="-1229040" y="4448160"/>
                      <a:ext cx="208080" cy="22716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180000">
                      <a:off x="-1229040" y="4448160"/>
                      <a:ext cx="208080" cy="227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-1257480" y="4418280"/>
                  <a:ext cx="263160" cy="288000"/>
                  <a:chOff x="-1257480" y="4418280"/>
                  <a:chExt cx="263160" cy="28800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-1257480" y="4418280"/>
                    <a:ext cx="263160" cy="288000"/>
                    <a:chOff x="-1257480" y="4418280"/>
                    <a:chExt cx="263160" cy="2880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80000">
                      <a:off x="-1250280" y="4424400"/>
                      <a:ext cx="249120" cy="2754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80000">
                      <a:off x="-1250280" y="4424400"/>
                      <a:ext cx="249120" cy="275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-1235160" y="4443120"/>
                    <a:ext cx="219600" cy="237600"/>
                    <a:chOff x="-1235160" y="4443120"/>
                    <a:chExt cx="219600" cy="2376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180000">
                      <a:off x="-1229040" y="4448160"/>
                      <a:ext cx="208080" cy="227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180000">
                      <a:off x="-1229040" y="4448160"/>
                      <a:ext cx="208080" cy="227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-1235160" y="4443120"/>
                  <a:ext cx="219960" cy="237960"/>
                  <a:chOff x="-1235160" y="4443120"/>
                  <a:chExt cx="219960" cy="23796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-1257120" y="4418280"/>
                  <a:ext cx="263520" cy="288360"/>
                  <a:chOff x="-1257120" y="4418280"/>
                  <a:chExt cx="263520" cy="288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180000">
                    <a:off x="-1249920" y="4424400"/>
                    <a:ext cx="249480" cy="27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180000">
                    <a:off x="-1249920" y="4424400"/>
                    <a:ext cx="249480" cy="275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-1235160" y="4443120"/>
                  <a:ext cx="219960" cy="237960"/>
                  <a:chOff x="-1235160" y="4443120"/>
                  <a:chExt cx="219960" cy="2379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-1257120" y="4418280"/>
                  <a:ext cx="263520" cy="288360"/>
                  <a:chOff x="-1257120" y="4418280"/>
                  <a:chExt cx="263520" cy="2883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80000">
                    <a:off x="-1249920" y="4424400"/>
                    <a:ext cx="249480" cy="27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80000">
                    <a:off x="-1249920" y="4424400"/>
                    <a:ext cx="249480" cy="275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-1235160" y="4443120"/>
                  <a:ext cx="219960" cy="237960"/>
                  <a:chOff x="-1235160" y="4443120"/>
                  <a:chExt cx="219960" cy="237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-1235160" y="4443120"/>
                  <a:ext cx="219960" cy="237960"/>
                  <a:chOff x="-1235160" y="4443120"/>
                  <a:chExt cx="219960" cy="237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0000">
                    <a:off x="-1229040" y="4448160"/>
                    <a:ext cx="20844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-392760" y="4465080"/>
                <a:ext cx="266760" cy="288360"/>
                <a:chOff x="-392760" y="4465080"/>
                <a:chExt cx="266760" cy="28836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-392760" y="4465080"/>
                  <a:ext cx="264600" cy="285840"/>
                  <a:chOff x="-392760" y="4465080"/>
                  <a:chExt cx="264600" cy="285840"/>
                </a:xfrm>
              </p:grpSpPr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-392760" y="4465080"/>
                    <a:ext cx="264600" cy="285840"/>
                    <a:chOff x="-392760" y="4465080"/>
                    <a:chExt cx="264600" cy="28584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-392760" y="4465080"/>
                      <a:ext cx="264600" cy="285840"/>
                      <a:chOff x="-392760" y="4465080"/>
                      <a:chExt cx="264600" cy="28584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 rot="180000">
                        <a:off x="-385560" y="4471200"/>
                        <a:ext cx="250560" cy="2732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 rot="180000">
                        <a:off x="-385560" y="4471200"/>
                        <a:ext cx="250560" cy="2732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-370440" y="4489920"/>
                      <a:ext cx="219240" cy="237240"/>
                      <a:chOff x="-370440" y="4489920"/>
                      <a:chExt cx="219240" cy="237240"/>
                    </a:xfrm>
                  </p:grpSpPr>
                  <p:sp>
                    <p:nvSpPr>
                      <p:cNvPr id="482" name=""/>
                      <p:cNvSpPr/>
                      <p:nvPr/>
                    </p:nvSpPr>
                    <p:spPr>
                      <a:xfrm rot="180000">
                        <a:off x="-364320" y="4494960"/>
                        <a:ext cx="207720" cy="22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 rot="180000">
                        <a:off x="-364320" y="4494960"/>
                        <a:ext cx="207720" cy="2268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-370440" y="4489920"/>
                    <a:ext cx="219600" cy="237600"/>
                    <a:chOff x="-370440" y="4489920"/>
                    <a:chExt cx="219600" cy="2376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180000">
                      <a:off x="-364320" y="4494960"/>
                      <a:ext cx="208080" cy="22716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180000">
                      <a:off x="-364320" y="4494960"/>
                      <a:ext cx="208080" cy="227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-392760" y="4465080"/>
                  <a:ext cx="264960" cy="287640"/>
                  <a:chOff x="-392760" y="4465080"/>
                  <a:chExt cx="264960" cy="287640"/>
                </a:xfrm>
              </p:grpSpPr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-392760" y="4465080"/>
                    <a:ext cx="264960" cy="287640"/>
                    <a:chOff x="-392760" y="4465080"/>
                    <a:chExt cx="264960" cy="2876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180000">
                      <a:off x="-385560" y="4471200"/>
                      <a:ext cx="250920" cy="2750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180000">
                      <a:off x="-385560" y="4471200"/>
                      <a:ext cx="250920" cy="275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-370440" y="4489920"/>
                    <a:ext cx="219600" cy="237600"/>
                    <a:chOff x="-370440" y="4489920"/>
                    <a:chExt cx="219600" cy="23760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180000">
                      <a:off x="-364320" y="4494960"/>
                      <a:ext cx="208080" cy="227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180000">
                      <a:off x="-364320" y="4494960"/>
                      <a:ext cx="208080" cy="227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-371880" y="4489920"/>
                  <a:ext cx="221400" cy="238320"/>
                  <a:chOff x="-371880" y="4489920"/>
                  <a:chExt cx="221400" cy="2383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-392760" y="4465080"/>
                  <a:ext cx="266760" cy="288360"/>
                  <a:chOff x="-392760" y="4465080"/>
                  <a:chExt cx="266760" cy="2883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180000">
                    <a:off x="-385560" y="4471200"/>
                    <a:ext cx="252720" cy="2754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80000">
                    <a:off x="-385560" y="4471200"/>
                    <a:ext cx="252720" cy="275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-371880" y="4489920"/>
                  <a:ext cx="221400" cy="238320"/>
                  <a:chOff x="-371880" y="4489920"/>
                  <a:chExt cx="221400" cy="2383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-392760" y="4465080"/>
                  <a:ext cx="266760" cy="288360"/>
                  <a:chOff x="-392760" y="4465080"/>
                  <a:chExt cx="266760" cy="288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80000">
                    <a:off x="-385560" y="4471200"/>
                    <a:ext cx="252720" cy="2754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80000">
                    <a:off x="-385560" y="4471200"/>
                    <a:ext cx="252720" cy="275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-371880" y="4489920"/>
                  <a:ext cx="221400" cy="238320"/>
                  <a:chOff x="-371880" y="4489920"/>
                  <a:chExt cx="221400" cy="238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-371880" y="4489920"/>
                  <a:ext cx="221400" cy="238320"/>
                  <a:chOff x="-371880" y="4489920"/>
                  <a:chExt cx="221400" cy="23832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80000">
                    <a:off x="-365760" y="4494960"/>
                    <a:ext cx="209880" cy="2275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12" name=""/>
              <p:cNvSpPr/>
              <p:nvPr/>
            </p:nvSpPr>
            <p:spPr>
              <a:xfrm rot="180000">
                <a:off x="-1338120" y="4287600"/>
                <a:ext cx="360" cy="15732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-1433160" y="4287960"/>
                <a:ext cx="190800" cy="194040"/>
                <a:chOff x="-1433160" y="4287960"/>
                <a:chExt cx="190800" cy="19404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-1345320" y="4287960"/>
                  <a:ext cx="9360" cy="194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0000">
                  <a:off x="-1432080" y="4353480"/>
                  <a:ext cx="189360" cy="3168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 rot="180000">
                <a:off x="-1290240" y="3996720"/>
                <a:ext cx="1234800" cy="543600"/>
              </a:xfrm>
              <a:prstGeom prst="pie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80000">
                <a:off x="-1202040" y="4147920"/>
                <a:ext cx="108360" cy="1587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80000">
                <a:off x="-946800" y="4160880"/>
                <a:ext cx="108000" cy="1587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80000">
                <a:off x="-428760" y="4191840"/>
                <a:ext cx="135360" cy="1908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-1040760" y="3903480"/>
                <a:ext cx="120960" cy="124920"/>
                <a:chOff x="-1040760" y="3903480"/>
                <a:chExt cx="120960" cy="124920"/>
              </a:xfrm>
            </p:grpSpPr>
            <p:sp>
              <p:nvSpPr>
                <p:cNvPr id="521" name=""/>
                <p:cNvSpPr/>
                <p:nvPr/>
              </p:nvSpPr>
              <p:spPr>
                <a:xfrm rot="180000">
                  <a:off x="-1039680" y="3906360"/>
                  <a:ext cx="119160" cy="31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0000">
                  <a:off x="-1009800" y="3906360"/>
                  <a:ext cx="57600" cy="120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rot="180000">
                <a:off x="-1245600" y="4485960"/>
                <a:ext cx="10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80000">
                <a:off x="-1245600" y="4089960"/>
                <a:ext cx="109404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-474480" y="3935880"/>
                <a:ext cx="120960" cy="123480"/>
                <a:chOff x="-474480" y="3935880"/>
                <a:chExt cx="120960" cy="123480"/>
              </a:xfrm>
            </p:grpSpPr>
            <p:sp>
              <p:nvSpPr>
                <p:cNvPr id="526" name=""/>
                <p:cNvSpPr/>
                <p:nvPr/>
              </p:nvSpPr>
              <p:spPr>
                <a:xfrm rot="180000">
                  <a:off x="-473400" y="3938760"/>
                  <a:ext cx="119160" cy="31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80000">
                  <a:off x="-444240" y="3937320"/>
                  <a:ext cx="57960" cy="120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rot="180000">
                <a:off x="-1119600" y="4332960"/>
                <a:ext cx="7920" cy="19080"/>
              </a:xfrm>
              <a:prstGeom prst="pie">
                <a:avLst/>
              </a:pr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80000">
                <a:off x="-1219680" y="4099320"/>
                <a:ext cx="130320" cy="361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80000">
                <a:off x="-274320" y="4101120"/>
                <a:ext cx="253800" cy="3164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80000">
                <a:off x="-597960" y="4181760"/>
                <a:ext cx="135360" cy="191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80000">
                <a:off x="-752400" y="3879720"/>
                <a:ext cx="460800" cy="19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80000">
                <a:off x="-773640" y="4172400"/>
                <a:ext cx="135360" cy="191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9118800" y="4118760"/>
            <a:ext cx="2606400" cy="898200"/>
            <a:chOff x="9118800" y="4118760"/>
            <a:chExt cx="2606400" cy="898200"/>
          </a:xfrm>
        </p:grpSpPr>
        <p:grpSp>
          <p:nvGrpSpPr>
            <p:cNvPr id="535" name=""/>
            <p:cNvGrpSpPr/>
            <p:nvPr/>
          </p:nvGrpSpPr>
          <p:grpSpPr>
            <a:xfrm>
              <a:off x="10441440" y="4621320"/>
              <a:ext cx="118440" cy="163440"/>
              <a:chOff x="10441440" y="4621320"/>
              <a:chExt cx="118440" cy="163440"/>
            </a:xfrm>
          </p:grpSpPr>
          <p:sp>
            <p:nvSpPr>
              <p:cNvPr id="536" name=""/>
              <p:cNvSpPr/>
              <p:nvPr/>
            </p:nvSpPr>
            <p:spPr>
              <a:xfrm flipH="1">
                <a:off x="10495080" y="4621320"/>
                <a:ext cx="12600" cy="163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rot="240000">
                <a:off x="10441800" y="4676400"/>
                <a:ext cx="117000" cy="25560"/>
              </a:xfrm>
              <a:prstGeom prst="pi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1552760" y="4687920"/>
              <a:ext cx="172440" cy="163440"/>
              <a:chOff x="11552760" y="4687920"/>
              <a:chExt cx="172440" cy="163440"/>
            </a:xfrm>
          </p:grpSpPr>
          <p:sp>
            <p:nvSpPr>
              <p:cNvPr id="539" name=""/>
              <p:cNvSpPr/>
              <p:nvPr/>
            </p:nvSpPr>
            <p:spPr>
              <a:xfrm flipH="1">
                <a:off x="11633400" y="4687920"/>
                <a:ext cx="12960" cy="163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240000">
                <a:off x="11552760" y="4743360"/>
                <a:ext cx="171000" cy="25560"/>
              </a:xfrm>
              <a:prstGeom prst="pi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10527120" y="4298040"/>
              <a:ext cx="1170720" cy="718920"/>
              <a:chOff x="10527120" y="4298040"/>
              <a:chExt cx="1170720" cy="71892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11216520" y="4766760"/>
                <a:ext cx="242640" cy="249840"/>
                <a:chOff x="11216520" y="4766760"/>
                <a:chExt cx="242640" cy="24984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11216520" y="4766760"/>
                  <a:ext cx="242640" cy="249840"/>
                  <a:chOff x="11216520" y="4766760"/>
                  <a:chExt cx="242640" cy="24984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11216520" y="4766760"/>
                    <a:ext cx="242640" cy="249840"/>
                    <a:chOff x="11216520" y="4766760"/>
                    <a:chExt cx="242640" cy="24984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40000">
                      <a:off x="11224440" y="4774320"/>
                      <a:ext cx="226800" cy="234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40000">
                      <a:off x="11224440" y="4774320"/>
                      <a:ext cx="226800" cy="2347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11238840" y="4788720"/>
                    <a:ext cx="200160" cy="207360"/>
                    <a:chOff x="11238840" y="4788720"/>
                    <a:chExt cx="200160" cy="20736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240000">
                      <a:off x="11245320" y="4794840"/>
                      <a:ext cx="186840" cy="19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240000">
                      <a:off x="11245320" y="4794840"/>
                      <a:ext cx="186840" cy="1947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11238840" y="4788720"/>
                  <a:ext cx="200160" cy="207360"/>
                  <a:chOff x="11238840" y="4788720"/>
                  <a:chExt cx="200160" cy="20736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rot="240000">
                    <a:off x="11245320" y="4794840"/>
                    <a:ext cx="186840" cy="1947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240000">
                    <a:off x="11245320" y="4794840"/>
                    <a:ext cx="186840" cy="1947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53" name=""/>
              <p:cNvGrpSpPr/>
              <p:nvPr/>
            </p:nvGrpSpPr>
            <p:grpSpPr>
              <a:xfrm>
                <a:off x="10618200" y="4733280"/>
                <a:ext cx="243360" cy="249840"/>
                <a:chOff x="10618200" y="4733280"/>
                <a:chExt cx="243360" cy="24984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0618200" y="4733280"/>
                  <a:ext cx="243360" cy="249840"/>
                  <a:chOff x="10618200" y="4733280"/>
                  <a:chExt cx="243360" cy="24984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0618200" y="4733280"/>
                    <a:ext cx="243360" cy="249840"/>
                    <a:chOff x="10618200" y="4733280"/>
                    <a:chExt cx="243360" cy="2498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240000">
                      <a:off x="10625760" y="4740840"/>
                      <a:ext cx="227880" cy="234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240000">
                      <a:off x="10625760" y="4740840"/>
                      <a:ext cx="227880" cy="2347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10639800" y="4753440"/>
                    <a:ext cx="203400" cy="208080"/>
                    <a:chOff x="10639800" y="4753440"/>
                    <a:chExt cx="203400" cy="20808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H="1" rot="240000">
                      <a:off x="10645920" y="4759560"/>
                      <a:ext cx="190080" cy="195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rot="240000">
                      <a:off x="10645920" y="4759560"/>
                      <a:ext cx="190080" cy="1951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10639800" y="4753440"/>
                  <a:ext cx="203400" cy="208080"/>
                  <a:chOff x="10639800" y="4753440"/>
                  <a:chExt cx="203400" cy="2080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240000">
                    <a:off x="10645920" y="4759560"/>
                    <a:ext cx="190080" cy="1951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240000">
                    <a:off x="10645920" y="4759560"/>
                    <a:ext cx="190080" cy="195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64" name=""/>
              <p:cNvGrpSpPr/>
              <p:nvPr/>
            </p:nvGrpSpPr>
            <p:grpSpPr>
              <a:xfrm>
                <a:off x="11216520" y="4766760"/>
                <a:ext cx="242640" cy="249840"/>
                <a:chOff x="11216520" y="4766760"/>
                <a:chExt cx="242640" cy="24984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11216520" y="4766760"/>
                  <a:ext cx="242640" cy="249840"/>
                  <a:chOff x="11216520" y="4766760"/>
                  <a:chExt cx="242640" cy="2498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flipH="1" rot="240000">
                    <a:off x="11224080" y="4774320"/>
                    <a:ext cx="227160" cy="2347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rot="240000">
                    <a:off x="11224080" y="4774320"/>
                    <a:ext cx="227160" cy="234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11238840" y="4788720"/>
                  <a:ext cx="200160" cy="207360"/>
                  <a:chOff x="11238840" y="4788720"/>
                  <a:chExt cx="200160" cy="2073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240000">
                    <a:off x="11245320" y="4794840"/>
                    <a:ext cx="186840" cy="19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240000">
                    <a:off x="11245320" y="4794840"/>
                    <a:ext cx="186840" cy="194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71" name=""/>
              <p:cNvGrpSpPr/>
              <p:nvPr/>
            </p:nvGrpSpPr>
            <p:grpSpPr>
              <a:xfrm>
                <a:off x="11239200" y="4790520"/>
                <a:ext cx="200160" cy="205920"/>
                <a:chOff x="11239200" y="4790520"/>
                <a:chExt cx="200160" cy="205920"/>
              </a:xfrm>
            </p:grpSpPr>
            <p:sp>
              <p:nvSpPr>
                <p:cNvPr id="572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1216520" y="4766760"/>
                <a:ext cx="243360" cy="250200"/>
                <a:chOff x="11216520" y="4766760"/>
                <a:chExt cx="243360" cy="250200"/>
              </a:xfrm>
            </p:grpSpPr>
            <p:sp>
              <p:nvSpPr>
                <p:cNvPr id="575" name=""/>
                <p:cNvSpPr/>
                <p:nvPr/>
              </p:nvSpPr>
              <p:spPr>
                <a:xfrm flipH="1" rot="240000">
                  <a:off x="11224440" y="4774320"/>
                  <a:ext cx="227520" cy="235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rot="240000">
                  <a:off x="11224440" y="4774320"/>
                  <a:ext cx="227520" cy="235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11239200" y="4790520"/>
                <a:ext cx="200160" cy="205920"/>
                <a:chOff x="11239200" y="4790520"/>
                <a:chExt cx="200160" cy="205920"/>
              </a:xfrm>
            </p:grpSpPr>
            <p:sp>
              <p:nvSpPr>
                <p:cNvPr id="578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11216520" y="4766760"/>
                <a:ext cx="243360" cy="250200"/>
                <a:chOff x="11216520" y="4766760"/>
                <a:chExt cx="243360" cy="250200"/>
              </a:xfrm>
            </p:grpSpPr>
            <p:sp>
              <p:nvSpPr>
                <p:cNvPr id="581" name=""/>
                <p:cNvSpPr/>
                <p:nvPr/>
              </p:nvSpPr>
              <p:spPr>
                <a:xfrm flipH="1" rot="240000">
                  <a:off x="11224440" y="4774320"/>
                  <a:ext cx="227520" cy="235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rot="240000">
                  <a:off x="11224440" y="4774320"/>
                  <a:ext cx="227520" cy="235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1239200" y="4790520"/>
                <a:ext cx="200160" cy="205920"/>
                <a:chOff x="11239200" y="4790520"/>
                <a:chExt cx="200160" cy="205920"/>
              </a:xfrm>
            </p:grpSpPr>
            <p:sp>
              <p:nvSpPr>
                <p:cNvPr id="584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1239200" y="4790520"/>
                <a:ext cx="200160" cy="205920"/>
                <a:chOff x="11239200" y="4790520"/>
                <a:chExt cx="200160" cy="205920"/>
              </a:xfrm>
            </p:grpSpPr>
            <p:sp>
              <p:nvSpPr>
                <p:cNvPr id="587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rot="240000">
                  <a:off x="11245320" y="4796640"/>
                  <a:ext cx="187200" cy="193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10618560" y="4733280"/>
                <a:ext cx="243720" cy="249840"/>
                <a:chOff x="10618560" y="4733280"/>
                <a:chExt cx="243720" cy="24984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10618560" y="4733280"/>
                  <a:ext cx="243720" cy="249840"/>
                  <a:chOff x="10618560" y="4733280"/>
                  <a:chExt cx="243720" cy="2498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 rot="240000">
                    <a:off x="10625760" y="4740840"/>
                    <a:ext cx="228240" cy="2347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rot="240000">
                    <a:off x="10625760" y="4740840"/>
                    <a:ext cx="228240" cy="234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10639800" y="4753440"/>
                  <a:ext cx="203400" cy="208080"/>
                  <a:chOff x="10639800" y="4753440"/>
                  <a:chExt cx="203400" cy="20808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flipH="1" rot="240000">
                    <a:off x="10645920" y="4759560"/>
                    <a:ext cx="1900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rot="240000">
                    <a:off x="10645920" y="4759560"/>
                    <a:ext cx="190080" cy="195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96" name=""/>
              <p:cNvGrpSpPr/>
              <p:nvPr/>
            </p:nvGrpSpPr>
            <p:grpSpPr>
              <a:xfrm>
                <a:off x="10640160" y="4755240"/>
                <a:ext cx="201960" cy="206640"/>
                <a:chOff x="10640160" y="4755240"/>
                <a:chExt cx="201960" cy="206640"/>
              </a:xfrm>
            </p:grpSpPr>
            <p:sp>
              <p:nvSpPr>
                <p:cNvPr id="597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0618200" y="4733280"/>
                <a:ext cx="244080" cy="250200"/>
                <a:chOff x="10618200" y="4733280"/>
                <a:chExt cx="244080" cy="250200"/>
              </a:xfrm>
            </p:grpSpPr>
            <p:sp>
              <p:nvSpPr>
                <p:cNvPr id="600" name=""/>
                <p:cNvSpPr/>
                <p:nvPr/>
              </p:nvSpPr>
              <p:spPr>
                <a:xfrm flipH="1" rot="240000">
                  <a:off x="10625760" y="4740840"/>
                  <a:ext cx="228600" cy="235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rot="240000">
                  <a:off x="10625760" y="4740840"/>
                  <a:ext cx="228600" cy="235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10640160" y="4755240"/>
                <a:ext cx="201960" cy="206640"/>
                <a:chOff x="10640160" y="4755240"/>
                <a:chExt cx="201960" cy="206640"/>
              </a:xfrm>
            </p:grpSpPr>
            <p:sp>
              <p:nvSpPr>
                <p:cNvPr id="603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10618200" y="4733280"/>
                <a:ext cx="244080" cy="250200"/>
                <a:chOff x="10618200" y="4733280"/>
                <a:chExt cx="244080" cy="250200"/>
              </a:xfrm>
            </p:grpSpPr>
            <p:sp>
              <p:nvSpPr>
                <p:cNvPr id="606" name=""/>
                <p:cNvSpPr/>
                <p:nvPr/>
              </p:nvSpPr>
              <p:spPr>
                <a:xfrm flipH="1" rot="240000">
                  <a:off x="10625760" y="4740840"/>
                  <a:ext cx="228600" cy="23508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240000">
                  <a:off x="10625760" y="4740840"/>
                  <a:ext cx="228600" cy="235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10640160" y="4755240"/>
                <a:ext cx="201960" cy="206640"/>
                <a:chOff x="10640160" y="4755240"/>
                <a:chExt cx="201960" cy="2066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0640160" y="4755240"/>
                <a:ext cx="201960" cy="206640"/>
                <a:chOff x="10640160" y="4755240"/>
                <a:chExt cx="201960" cy="20664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240000">
                  <a:off x="10646280" y="4761360"/>
                  <a:ext cx="188640" cy="1936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 flipH="1" rot="240000">
                <a:off x="11625120" y="4685400"/>
                <a:ext cx="360" cy="13320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11526840" y="4685400"/>
                <a:ext cx="171000" cy="163440"/>
                <a:chOff x="11526840" y="4685400"/>
                <a:chExt cx="171000" cy="163440"/>
              </a:xfrm>
            </p:grpSpPr>
            <p:sp>
              <p:nvSpPr>
                <p:cNvPr id="616" name=""/>
                <p:cNvSpPr/>
                <p:nvPr/>
              </p:nvSpPr>
              <p:spPr>
                <a:xfrm flipH="1">
                  <a:off x="11606760" y="4685400"/>
                  <a:ext cx="12600" cy="163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rot="240000">
                  <a:off x="11526840" y="4742280"/>
                  <a:ext cx="169560" cy="2520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 flipH="1" rot="240000">
                <a:off x="10541880" y="4360680"/>
                <a:ext cx="998280" cy="470160"/>
              </a:xfrm>
              <a:prstGeom prst="pie">
                <a:avLst/>
              </a:pr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10586160" y="4497840"/>
                <a:ext cx="928080" cy="193680"/>
                <a:chOff x="10586160" y="4497840"/>
                <a:chExt cx="928080" cy="193680"/>
              </a:xfrm>
            </p:grpSpPr>
            <p:sp>
              <p:nvSpPr>
                <p:cNvPr id="620" name=""/>
                <p:cNvSpPr/>
                <p:nvPr/>
              </p:nvSpPr>
              <p:spPr>
                <a:xfrm flipH="1" rot="240000">
                  <a:off x="11412360" y="4550040"/>
                  <a:ext cx="9720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rot="240000">
                  <a:off x="11296080" y="4543200"/>
                  <a:ext cx="9720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240000">
                  <a:off x="11180520" y="4536360"/>
                  <a:ext cx="968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240000">
                  <a:off x="11059560" y="4528440"/>
                  <a:ext cx="986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240000">
                  <a:off x="10940040" y="4522320"/>
                  <a:ext cx="986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rot="240000">
                  <a:off x="10823400" y="4515840"/>
                  <a:ext cx="986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rot="240000">
                  <a:off x="10590480" y="4501080"/>
                  <a:ext cx="986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rot="240000">
                  <a:off x="10707120" y="4509000"/>
                  <a:ext cx="98640" cy="138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11281680" y="4325040"/>
                <a:ext cx="108720" cy="108360"/>
                <a:chOff x="11281680" y="4325040"/>
                <a:chExt cx="108720" cy="108360"/>
              </a:xfrm>
            </p:grpSpPr>
            <p:sp>
              <p:nvSpPr>
                <p:cNvPr id="629" name=""/>
                <p:cNvSpPr/>
                <p:nvPr/>
              </p:nvSpPr>
              <p:spPr>
                <a:xfrm flipH="1" rot="240000">
                  <a:off x="11282400" y="4328640"/>
                  <a:ext cx="10728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240000">
                  <a:off x="11306160" y="4328640"/>
                  <a:ext cx="51840" cy="1029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 flipH="1" rot="240000">
                <a:off x="10556640" y="4793400"/>
                <a:ext cx="96768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rot="240000">
                <a:off x="10576080" y="4457880"/>
                <a:ext cx="98676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10769400" y="4298040"/>
                <a:ext cx="108720" cy="105480"/>
                <a:chOff x="10769400" y="4298040"/>
                <a:chExt cx="108720" cy="105480"/>
              </a:xfrm>
            </p:grpSpPr>
            <p:sp>
              <p:nvSpPr>
                <p:cNvPr id="634" name=""/>
                <p:cNvSpPr/>
                <p:nvPr/>
              </p:nvSpPr>
              <p:spPr>
                <a:xfrm flipH="1" rot="240000">
                  <a:off x="10770120" y="4301640"/>
                  <a:ext cx="107280" cy="27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rot="240000">
                  <a:off x="10793520" y="4300560"/>
                  <a:ext cx="53280" cy="1011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 flipH="1" rot="240000">
                <a:off x="11413800" y="4703040"/>
                <a:ext cx="6120" cy="15840"/>
              </a:xfrm>
              <a:prstGeom prst="pie">
                <a:avLst/>
              </a:pr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240000">
                <a:off x="11397960" y="4508640"/>
                <a:ext cx="118440" cy="3067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9118800" y="4118760"/>
              <a:ext cx="1370880" cy="829800"/>
              <a:chOff x="9118800" y="4118760"/>
              <a:chExt cx="1370880" cy="82980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9466560" y="4646520"/>
                <a:ext cx="259560" cy="268200"/>
                <a:chOff x="9466560" y="4646520"/>
                <a:chExt cx="259560" cy="26820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9466920" y="4646520"/>
                  <a:ext cx="258480" cy="267480"/>
                  <a:chOff x="9466920" y="4646520"/>
                  <a:chExt cx="258480" cy="26748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9466920" y="4646520"/>
                    <a:ext cx="258480" cy="267480"/>
                    <a:chOff x="9466920" y="4646520"/>
                    <a:chExt cx="258480" cy="267480"/>
                  </a:xfrm>
                </p:grpSpPr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9466920" y="4646520"/>
                      <a:ext cx="258480" cy="267480"/>
                      <a:chOff x="9466920" y="4646520"/>
                      <a:chExt cx="258480" cy="26748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 flipH="1" rot="240000">
                        <a:off x="9475200" y="4654440"/>
                        <a:ext cx="241560" cy="2512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 flipH="1" rot="240000">
                        <a:off x="9475200" y="4654440"/>
                        <a:ext cx="241560" cy="2512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45" name=""/>
                    <p:cNvGrpSpPr/>
                    <p:nvPr/>
                  </p:nvGrpSpPr>
                  <p:grpSpPr>
                    <a:xfrm>
                      <a:off x="9490680" y="4668480"/>
                      <a:ext cx="214560" cy="221760"/>
                      <a:chOff x="9490680" y="4668480"/>
                      <a:chExt cx="214560" cy="221760"/>
                    </a:xfrm>
                  </p:grpSpPr>
                  <p:sp>
                    <p:nvSpPr>
                      <p:cNvPr id="646" name=""/>
                      <p:cNvSpPr/>
                      <p:nvPr/>
                    </p:nvSpPr>
                    <p:spPr>
                      <a:xfrm flipH="1" rot="240000">
                        <a:off x="9497520" y="4674960"/>
                        <a:ext cx="200520" cy="208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 flipH="1" rot="240000">
                        <a:off x="9497520" y="4674960"/>
                        <a:ext cx="200520" cy="2080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9490320" y="4668480"/>
                    <a:ext cx="214920" cy="222120"/>
                    <a:chOff x="9490320" y="4668480"/>
                    <a:chExt cx="214920" cy="2221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 rot="240000">
                      <a:off x="9496800" y="4674960"/>
                      <a:ext cx="200880" cy="20844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 rot="240000">
                      <a:off x="9496800" y="4674960"/>
                      <a:ext cx="200880" cy="2084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9466560" y="4646520"/>
                  <a:ext cx="258840" cy="267840"/>
                  <a:chOff x="9466560" y="4646520"/>
                  <a:chExt cx="258840" cy="267840"/>
                </a:xfrm>
              </p:grpSpPr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9466560" y="4646520"/>
                    <a:ext cx="258840" cy="267840"/>
                    <a:chOff x="9466560" y="4646520"/>
                    <a:chExt cx="258840" cy="2678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240000">
                      <a:off x="9474480" y="4654440"/>
                      <a:ext cx="241920" cy="2516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240000">
                      <a:off x="9474480" y="4654440"/>
                      <a:ext cx="241920" cy="251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9490320" y="4668480"/>
                    <a:ext cx="214920" cy="222120"/>
                    <a:chOff x="9490320" y="4668480"/>
                    <a:chExt cx="214920" cy="2221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240000">
                      <a:off x="9496800" y="4674960"/>
                      <a:ext cx="200880" cy="20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240000">
                      <a:off x="9496800" y="4674960"/>
                      <a:ext cx="200880" cy="208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9489960" y="4669920"/>
                  <a:ext cx="215640" cy="222840"/>
                  <a:chOff x="9489960" y="4669920"/>
                  <a:chExt cx="215640" cy="2228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9466920" y="4646520"/>
                  <a:ext cx="259200" cy="268200"/>
                  <a:chOff x="9466920" y="4646520"/>
                  <a:chExt cx="259200" cy="268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flipH="1" rot="240000">
                    <a:off x="9475200" y="4654440"/>
                    <a:ext cx="24228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 rot="240000">
                    <a:off x="9475200" y="4654440"/>
                    <a:ext cx="24228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9489960" y="4669920"/>
                  <a:ext cx="215640" cy="222840"/>
                  <a:chOff x="9489960" y="4669920"/>
                  <a:chExt cx="215640" cy="22284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9466920" y="4646520"/>
                  <a:ext cx="259200" cy="268200"/>
                  <a:chOff x="9466920" y="4646520"/>
                  <a:chExt cx="259200" cy="2682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240000">
                    <a:off x="9475200" y="4654440"/>
                    <a:ext cx="24228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240000">
                    <a:off x="9475200" y="4654440"/>
                    <a:ext cx="24228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9489960" y="4669920"/>
                  <a:ext cx="215640" cy="222840"/>
                  <a:chOff x="9489960" y="4669920"/>
                  <a:chExt cx="215640" cy="22284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9489960" y="4669920"/>
                  <a:ext cx="215640" cy="222840"/>
                  <a:chOff x="9489960" y="4669920"/>
                  <a:chExt cx="215640" cy="222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240000">
                    <a:off x="9496440" y="4676400"/>
                    <a:ext cx="201240" cy="2091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9791280" y="4665600"/>
                <a:ext cx="259560" cy="268560"/>
                <a:chOff x="9791280" y="4665600"/>
                <a:chExt cx="259560" cy="2685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9791640" y="4665600"/>
                  <a:ext cx="258480" cy="267840"/>
                  <a:chOff x="9791640" y="4665600"/>
                  <a:chExt cx="258480" cy="267840"/>
                </a:xfrm>
              </p:grpSpPr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9791640" y="4665600"/>
                    <a:ext cx="258480" cy="267840"/>
                    <a:chOff x="9791640" y="4665600"/>
                    <a:chExt cx="258480" cy="267840"/>
                  </a:xfrm>
                </p:grpSpPr>
                <p:grpSp>
                  <p:nvGrpSpPr>
                    <p:cNvPr id="679" name=""/>
                    <p:cNvGrpSpPr/>
                    <p:nvPr/>
                  </p:nvGrpSpPr>
                  <p:grpSpPr>
                    <a:xfrm>
                      <a:off x="9791640" y="4665600"/>
                      <a:ext cx="258480" cy="267840"/>
                      <a:chOff x="9791640" y="4665600"/>
                      <a:chExt cx="258480" cy="267840"/>
                    </a:xfrm>
                  </p:grpSpPr>
                  <p:sp>
                    <p:nvSpPr>
                      <p:cNvPr id="680" name=""/>
                      <p:cNvSpPr/>
                      <p:nvPr/>
                    </p:nvSpPr>
                    <p:spPr>
                      <a:xfrm flipH="1" rot="240000">
                        <a:off x="9799920" y="4673520"/>
                        <a:ext cx="241560" cy="251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 flipH="1" rot="240000">
                        <a:off x="9799920" y="4673520"/>
                        <a:ext cx="241560" cy="2516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9815040" y="4687920"/>
                      <a:ext cx="214560" cy="221760"/>
                      <a:chOff x="9815040" y="4687920"/>
                      <a:chExt cx="214560" cy="221760"/>
                    </a:xfrm>
                  </p:grpSpPr>
                  <p:sp>
                    <p:nvSpPr>
                      <p:cNvPr id="683" name=""/>
                      <p:cNvSpPr/>
                      <p:nvPr/>
                    </p:nvSpPr>
                    <p:spPr>
                      <a:xfrm flipH="1" rot="240000">
                        <a:off x="9821880" y="4694400"/>
                        <a:ext cx="200160" cy="208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 flipH="1" rot="240000">
                        <a:off x="9821880" y="4694400"/>
                        <a:ext cx="200160" cy="2080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9815760" y="4687920"/>
                    <a:ext cx="214560" cy="222120"/>
                    <a:chOff x="9815760" y="4687920"/>
                    <a:chExt cx="214560" cy="2221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40000">
                      <a:off x="9822600" y="4694400"/>
                      <a:ext cx="200520" cy="20844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40000">
                      <a:off x="9822600" y="4694400"/>
                      <a:ext cx="200520" cy="2084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9791280" y="4665600"/>
                  <a:ext cx="258840" cy="268200"/>
                  <a:chOff x="9791280" y="4665600"/>
                  <a:chExt cx="258840" cy="268200"/>
                </a:xfrm>
              </p:grpSpPr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9791280" y="4665600"/>
                    <a:ext cx="258840" cy="268200"/>
                    <a:chOff x="9791280" y="4665600"/>
                    <a:chExt cx="258840" cy="26820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240000">
                      <a:off x="9799200" y="4673520"/>
                      <a:ext cx="241920" cy="25200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240000">
                      <a:off x="9799200" y="4673520"/>
                      <a:ext cx="241920" cy="252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9815760" y="4687920"/>
                    <a:ext cx="214560" cy="222120"/>
                    <a:chOff x="9815760" y="4687920"/>
                    <a:chExt cx="214560" cy="22212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240000">
                      <a:off x="9822600" y="4694400"/>
                      <a:ext cx="200520" cy="20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240000">
                      <a:off x="9822600" y="4694400"/>
                      <a:ext cx="200520" cy="208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9814680" y="4689360"/>
                  <a:ext cx="215280" cy="222480"/>
                  <a:chOff x="9814680" y="4689360"/>
                  <a:chExt cx="215280" cy="2224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9791640" y="4665600"/>
                  <a:ext cx="259200" cy="268560"/>
                  <a:chOff x="9791640" y="4665600"/>
                  <a:chExt cx="259200" cy="2685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 rot="240000">
                    <a:off x="9799920" y="4673520"/>
                    <a:ext cx="242280" cy="252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 rot="240000">
                    <a:off x="9799920" y="4673520"/>
                    <a:ext cx="242280" cy="252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9814680" y="4689360"/>
                  <a:ext cx="215280" cy="222480"/>
                  <a:chOff x="9814680" y="4689360"/>
                  <a:chExt cx="215280" cy="22248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9791640" y="4665600"/>
                  <a:ext cx="259200" cy="268560"/>
                  <a:chOff x="9791640" y="4665600"/>
                  <a:chExt cx="259200" cy="26856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 flipH="1" rot="240000">
                    <a:off x="9799920" y="4673520"/>
                    <a:ext cx="242280" cy="252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 rot="240000">
                    <a:off x="9799920" y="4673520"/>
                    <a:ext cx="242280" cy="252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9814680" y="4689360"/>
                  <a:ext cx="215280" cy="222480"/>
                  <a:chOff x="9814680" y="4689360"/>
                  <a:chExt cx="215280" cy="22248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9814680" y="4689360"/>
                  <a:ext cx="215280" cy="222480"/>
                  <a:chOff x="9814680" y="4689360"/>
                  <a:chExt cx="215280" cy="22248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rot="240000">
                    <a:off x="9821520" y="4695840"/>
                    <a:ext cx="20088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3" name=""/>
              <p:cNvGrpSpPr/>
              <p:nvPr/>
            </p:nvGrpSpPr>
            <p:grpSpPr>
              <a:xfrm>
                <a:off x="9143280" y="4519080"/>
                <a:ext cx="181800" cy="176760"/>
                <a:chOff x="9143280" y="4519080"/>
                <a:chExt cx="181800" cy="176760"/>
              </a:xfrm>
            </p:grpSpPr>
            <p:sp>
              <p:nvSpPr>
                <p:cNvPr id="714" name=""/>
                <p:cNvSpPr/>
                <p:nvPr/>
              </p:nvSpPr>
              <p:spPr>
                <a:xfrm flipH="1">
                  <a:off x="9229320" y="4519080"/>
                  <a:ext cx="12600" cy="176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rot="240000">
                  <a:off x="9143640" y="4580280"/>
                  <a:ext cx="180000" cy="2880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10049040" y="4680720"/>
                <a:ext cx="255960" cy="267840"/>
                <a:chOff x="10049040" y="4680720"/>
                <a:chExt cx="255960" cy="26784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10049040" y="4680720"/>
                  <a:ext cx="255240" cy="267120"/>
                  <a:chOff x="10049040" y="4680720"/>
                  <a:chExt cx="255240" cy="267120"/>
                </a:xfrm>
              </p:grpSpPr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10049040" y="4680720"/>
                    <a:ext cx="255240" cy="267120"/>
                    <a:chOff x="10049040" y="4680720"/>
                    <a:chExt cx="255240" cy="267120"/>
                  </a:xfrm>
                </p:grpSpPr>
                <p:grpSp>
                  <p:nvGrpSpPr>
                    <p:cNvPr id="719" name=""/>
                    <p:cNvGrpSpPr/>
                    <p:nvPr/>
                  </p:nvGrpSpPr>
                  <p:grpSpPr>
                    <a:xfrm>
                      <a:off x="10049040" y="4680720"/>
                      <a:ext cx="255240" cy="267120"/>
                      <a:chOff x="10049040" y="4680720"/>
                      <a:chExt cx="255240" cy="267120"/>
                    </a:xfrm>
                  </p:grpSpPr>
                  <p:sp>
                    <p:nvSpPr>
                      <p:cNvPr id="720" name=""/>
                      <p:cNvSpPr/>
                      <p:nvPr/>
                    </p:nvSpPr>
                    <p:spPr>
                      <a:xfrm flipH="1" rot="240000">
                        <a:off x="10056960" y="4688640"/>
                        <a:ext cx="238320" cy="2512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 flipH="1" rot="240000">
                        <a:off x="10056960" y="4688640"/>
                        <a:ext cx="238320" cy="2512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22" name=""/>
                    <p:cNvGrpSpPr/>
                    <p:nvPr/>
                  </p:nvGrpSpPr>
                  <p:grpSpPr>
                    <a:xfrm>
                      <a:off x="10073520" y="4702680"/>
                      <a:ext cx="210960" cy="221400"/>
                      <a:chOff x="10073520" y="4702680"/>
                      <a:chExt cx="210960" cy="221400"/>
                    </a:xfrm>
                  </p:grpSpPr>
                  <p:sp>
                    <p:nvSpPr>
                      <p:cNvPr id="723" name=""/>
                      <p:cNvSpPr/>
                      <p:nvPr/>
                    </p:nvSpPr>
                    <p:spPr>
                      <a:xfrm flipH="1" rot="240000">
                        <a:off x="10080360" y="4709160"/>
                        <a:ext cx="196920" cy="208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 flipH="1" rot="240000">
                        <a:off x="10080360" y="4709160"/>
                        <a:ext cx="196920" cy="2080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10072800" y="4702680"/>
                    <a:ext cx="211320" cy="221760"/>
                    <a:chOff x="10072800" y="4702680"/>
                    <a:chExt cx="211320" cy="2217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flipH="1" rot="240000">
                      <a:off x="10079280" y="4709160"/>
                      <a:ext cx="197280" cy="20844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flipH="1" rot="240000">
                      <a:off x="10079280" y="4709160"/>
                      <a:ext cx="197280" cy="2084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10049400" y="4680720"/>
                  <a:ext cx="255600" cy="267480"/>
                  <a:chOff x="10049400" y="4680720"/>
                  <a:chExt cx="255600" cy="267480"/>
                </a:xfrm>
              </p:grpSpPr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10049400" y="4680720"/>
                    <a:ext cx="255600" cy="267480"/>
                    <a:chOff x="10049400" y="4680720"/>
                    <a:chExt cx="255600" cy="2674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240000">
                      <a:off x="10057680" y="4688640"/>
                      <a:ext cx="238680" cy="2516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240000">
                      <a:off x="10057680" y="4688640"/>
                      <a:ext cx="238680" cy="251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10072800" y="4702680"/>
                    <a:ext cx="211320" cy="221760"/>
                    <a:chOff x="10072800" y="4702680"/>
                    <a:chExt cx="211320" cy="22176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240000">
                      <a:off x="10079280" y="4709160"/>
                      <a:ext cx="197280" cy="20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240000">
                      <a:off x="10079280" y="4709160"/>
                      <a:ext cx="197280" cy="208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10073520" y="4704480"/>
                  <a:ext cx="211680" cy="220320"/>
                  <a:chOff x="10073520" y="4704480"/>
                  <a:chExt cx="211680" cy="2203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0049400" y="4680720"/>
                  <a:ext cx="255600" cy="267840"/>
                  <a:chOff x="10049400" y="4680720"/>
                  <a:chExt cx="255600" cy="2678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flipH="1" rot="240000">
                    <a:off x="10057680" y="4688640"/>
                    <a:ext cx="23904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rot="240000">
                    <a:off x="10057680" y="4688640"/>
                    <a:ext cx="23904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10073520" y="4704480"/>
                  <a:ext cx="211680" cy="220320"/>
                  <a:chOff x="10073520" y="4704480"/>
                  <a:chExt cx="211680" cy="2203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0049400" y="4680720"/>
                  <a:ext cx="255600" cy="267840"/>
                  <a:chOff x="10049400" y="4680720"/>
                  <a:chExt cx="255600" cy="2678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 flipH="1" rot="240000">
                    <a:off x="10057680" y="4688640"/>
                    <a:ext cx="23904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 rot="240000">
                    <a:off x="10057680" y="4688640"/>
                    <a:ext cx="23904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10073520" y="4704480"/>
                  <a:ext cx="211680" cy="220320"/>
                  <a:chOff x="10073520" y="4704480"/>
                  <a:chExt cx="211680" cy="2203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10073520" y="4704480"/>
                  <a:ext cx="211680" cy="220320"/>
                  <a:chOff x="10073520" y="4704480"/>
                  <a:chExt cx="211680" cy="22032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 rot="240000">
                    <a:off x="10080360" y="4710960"/>
                    <a:ext cx="197640" cy="207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3" name=""/>
              <p:cNvGrpSpPr/>
              <p:nvPr/>
            </p:nvGrpSpPr>
            <p:grpSpPr>
              <a:xfrm>
                <a:off x="9223200" y="4631760"/>
                <a:ext cx="259560" cy="268200"/>
                <a:chOff x="9223200" y="4631760"/>
                <a:chExt cx="259560" cy="26820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9223200" y="4631760"/>
                  <a:ext cx="258840" cy="267480"/>
                  <a:chOff x="9223200" y="4631760"/>
                  <a:chExt cx="258840" cy="267480"/>
                </a:xfrm>
              </p:grpSpPr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9223200" y="4631760"/>
                    <a:ext cx="258840" cy="267480"/>
                    <a:chOff x="9223200" y="4631760"/>
                    <a:chExt cx="258840" cy="267480"/>
                  </a:xfrm>
                </p:grpSpPr>
                <p:grpSp>
                  <p:nvGrpSpPr>
                    <p:cNvPr id="756" name=""/>
                    <p:cNvGrpSpPr/>
                    <p:nvPr/>
                  </p:nvGrpSpPr>
                  <p:grpSpPr>
                    <a:xfrm>
                      <a:off x="9223200" y="4631760"/>
                      <a:ext cx="258840" cy="267480"/>
                      <a:chOff x="9223200" y="4631760"/>
                      <a:chExt cx="258840" cy="267480"/>
                    </a:xfrm>
                  </p:grpSpPr>
                  <p:sp>
                    <p:nvSpPr>
                      <p:cNvPr id="757" name=""/>
                      <p:cNvSpPr/>
                      <p:nvPr/>
                    </p:nvSpPr>
                    <p:spPr>
                      <a:xfrm flipH="1" rot="240000">
                        <a:off x="9231120" y="4639680"/>
                        <a:ext cx="241920" cy="2512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 flipH="1" rot="240000">
                        <a:off x="9231120" y="4639680"/>
                        <a:ext cx="241920" cy="2512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9247680" y="4653720"/>
                      <a:ext cx="214560" cy="221760"/>
                      <a:chOff x="9247680" y="4653720"/>
                      <a:chExt cx="214560" cy="22176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 flipH="1" rot="240000">
                        <a:off x="9254520" y="4660200"/>
                        <a:ext cx="200520" cy="2080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 flipH="1" rot="240000">
                        <a:off x="9254520" y="4660200"/>
                        <a:ext cx="200520" cy="2080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9247320" y="4653720"/>
                    <a:ext cx="214920" cy="222120"/>
                    <a:chOff x="9247320" y="4653720"/>
                    <a:chExt cx="214920" cy="2221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40000">
                      <a:off x="9253800" y="4660200"/>
                      <a:ext cx="200880" cy="20844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40000">
                      <a:off x="9253800" y="4660200"/>
                      <a:ext cx="200880" cy="2084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9223560" y="4631760"/>
                  <a:ext cx="259200" cy="267840"/>
                  <a:chOff x="9223560" y="4631760"/>
                  <a:chExt cx="259200" cy="26784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9223560" y="4631760"/>
                    <a:ext cx="259200" cy="267840"/>
                    <a:chOff x="9223560" y="4631760"/>
                    <a:chExt cx="259200" cy="26784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 flipH="1" rot="240000">
                      <a:off x="9231840" y="4639680"/>
                      <a:ext cx="242280" cy="25164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flipH="1" rot="240000">
                      <a:off x="9231840" y="4639680"/>
                      <a:ext cx="242280" cy="251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9247320" y="4653720"/>
                    <a:ext cx="214920" cy="222120"/>
                    <a:chOff x="9247320" y="4653720"/>
                    <a:chExt cx="214920" cy="22212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 flipH="1" rot="240000">
                      <a:off x="9253800" y="4660200"/>
                      <a:ext cx="200880" cy="20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flipH="1" rot="240000">
                      <a:off x="9253800" y="4660200"/>
                      <a:ext cx="200880" cy="208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9247320" y="4653720"/>
                  <a:ext cx="215280" cy="222480"/>
                  <a:chOff x="9247320" y="4653720"/>
                  <a:chExt cx="215280" cy="2224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9223200" y="4631760"/>
                  <a:ext cx="259560" cy="268200"/>
                  <a:chOff x="9223200" y="4631760"/>
                  <a:chExt cx="259560" cy="268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flipH="1" rot="240000">
                    <a:off x="9231120" y="4639680"/>
                    <a:ext cx="24264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rot="240000">
                    <a:off x="9231120" y="4639680"/>
                    <a:ext cx="24264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9247320" y="4653720"/>
                  <a:ext cx="215280" cy="222480"/>
                  <a:chOff x="9247320" y="4653720"/>
                  <a:chExt cx="215280" cy="22248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9223200" y="4631760"/>
                  <a:ext cx="259560" cy="268200"/>
                  <a:chOff x="9223200" y="4631760"/>
                  <a:chExt cx="259560" cy="2682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 flipH="1" rot="240000">
                    <a:off x="9231120" y="4639680"/>
                    <a:ext cx="242640" cy="25200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rot="240000">
                    <a:off x="9231120" y="4639680"/>
                    <a:ext cx="242640" cy="252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9247320" y="4653720"/>
                  <a:ext cx="215280" cy="222480"/>
                  <a:chOff x="9247320" y="4653720"/>
                  <a:chExt cx="215280" cy="2224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9247320" y="4653720"/>
                  <a:ext cx="215280" cy="222480"/>
                  <a:chOff x="9247320" y="4653720"/>
                  <a:chExt cx="215280" cy="2224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rot="240000">
                    <a:off x="9254160" y="4660200"/>
                    <a:ext cx="201240" cy="208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90" name=""/>
              <p:cNvSpPr/>
              <p:nvPr/>
            </p:nvSpPr>
            <p:spPr>
              <a:xfrm flipH="1" rot="240000">
                <a:off x="10413000" y="4588560"/>
                <a:ext cx="360" cy="14292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10307880" y="4588560"/>
                <a:ext cx="181800" cy="176760"/>
                <a:chOff x="10307880" y="4588560"/>
                <a:chExt cx="181800" cy="17676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10393920" y="4588560"/>
                  <a:ext cx="12600" cy="176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240000">
                  <a:off x="10308240" y="4647960"/>
                  <a:ext cx="180000" cy="28800"/>
                </a:xfrm>
                <a:prstGeom prst="pie">
                  <a:avLst/>
                </a:pr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 flipH="1" rot="240000">
                <a:off x="9134640" y="4241880"/>
                <a:ext cx="1176480" cy="496440"/>
              </a:xfrm>
              <a:prstGeom prst="pie">
                <a:avLst/>
              </a:pr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rot="240000">
                <a:off x="10184040" y="4443480"/>
                <a:ext cx="10404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rot="240000">
                <a:off x="9938520" y="4428720"/>
                <a:ext cx="10368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 rot="240000">
                <a:off x="9417960" y="4397760"/>
                <a:ext cx="129240" cy="1742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10049040" y="4200840"/>
                <a:ext cx="114840" cy="114840"/>
                <a:chOff x="10049040" y="4200840"/>
                <a:chExt cx="114840" cy="114840"/>
              </a:xfrm>
            </p:grpSpPr>
            <p:sp>
              <p:nvSpPr>
                <p:cNvPr id="799" name=""/>
                <p:cNvSpPr/>
                <p:nvPr/>
              </p:nvSpPr>
              <p:spPr>
                <a:xfrm flipH="1" rot="240000">
                  <a:off x="10049400" y="4204440"/>
                  <a:ext cx="113040" cy="2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240000">
                  <a:off x="10074960" y="4204800"/>
                  <a:ext cx="56880" cy="109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 flipH="1" rot="240000">
                <a:off x="9282600" y="4704480"/>
                <a:ext cx="102384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rot="240000">
                <a:off x="9303480" y="4343040"/>
                <a:ext cx="104328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9507600" y="4169880"/>
                <a:ext cx="114840" cy="113400"/>
                <a:chOff x="9507600" y="4169880"/>
                <a:chExt cx="114840" cy="113400"/>
              </a:xfrm>
            </p:grpSpPr>
            <p:sp>
              <p:nvSpPr>
                <p:cNvPr id="804" name=""/>
                <p:cNvSpPr/>
                <p:nvPr/>
              </p:nvSpPr>
              <p:spPr>
                <a:xfrm flipH="1" rot="240000">
                  <a:off x="9507960" y="4173480"/>
                  <a:ext cx="113040" cy="3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240000">
                  <a:off x="9534240" y="4172400"/>
                  <a:ext cx="56160" cy="109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 flipH="1" rot="240000">
                <a:off x="10186920" y="4605840"/>
                <a:ext cx="7920" cy="17640"/>
              </a:xfrm>
              <a:prstGeom prst="pie">
                <a:avLst/>
              </a:prstGeom>
              <a:solidFill>
                <a:srgbClr val="cc99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rot="240000">
                <a:off x="10171440" y="4397760"/>
                <a:ext cx="124560" cy="3290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240000">
                <a:off x="9162720" y="4294440"/>
                <a:ext cx="241560" cy="28872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240000">
                <a:off x="9578520" y="4407480"/>
                <a:ext cx="129600" cy="1738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240000">
                <a:off x="9446400" y="4133520"/>
                <a:ext cx="439920" cy="18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240000">
                <a:off x="9746640" y="4417200"/>
                <a:ext cx="129600" cy="1742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3854520" y="3429000"/>
            <a:ext cx="861480" cy="1434960"/>
            <a:chOff x="3854520" y="3429000"/>
            <a:chExt cx="861480" cy="1434960"/>
          </a:xfrm>
        </p:grpSpPr>
        <p:sp>
          <p:nvSpPr>
            <p:cNvPr id="813" name=""/>
            <p:cNvSpPr/>
            <p:nvPr/>
          </p:nvSpPr>
          <p:spPr>
            <a:xfrm>
              <a:off x="3854520" y="4589640"/>
              <a:ext cx="428400" cy="2743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45680" y="3484440"/>
              <a:ext cx="45720" cy="127008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5400000">
              <a:off x="4037040" y="3440520"/>
              <a:ext cx="690480" cy="66744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5459040" y="4076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3854520" y="27115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 = 2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00" dur="indefinite" restart="never" nodeType="tmRoot">
          <p:childTnLst>
            <p:seq>
              <p:cTn id="501" dur="indefinite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02" dur="indefinite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4.62535 -8 L -0.4842 -0.03538 E">
                                      <p:cBhvr>
                                        <p:cTn id="505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24 0.00833 L 0.40296 0.03446 E">
                                      <p:cBhvr>
                                        <p:cTn id="507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80BC76-5590-4D2D-917F-0D01EFB317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41280" y="4913640"/>
            <a:ext cx="9029880" cy="1333080"/>
            <a:chOff x="341280" y="4913640"/>
            <a:chExt cx="9029880" cy="1333080"/>
          </a:xfrm>
        </p:grpSpPr>
        <p:grpSp>
          <p:nvGrpSpPr>
            <p:cNvPr id="820" name=""/>
            <p:cNvGrpSpPr/>
            <p:nvPr/>
          </p:nvGrpSpPr>
          <p:grpSpPr>
            <a:xfrm>
              <a:off x="341280" y="6000840"/>
              <a:ext cx="366480" cy="118800"/>
              <a:chOff x="341280" y="6000840"/>
              <a:chExt cx="366480" cy="118800"/>
            </a:xfrm>
          </p:grpSpPr>
          <p:sp>
            <p:nvSpPr>
              <p:cNvPr id="821" name=""/>
              <p:cNvSpPr/>
              <p:nvPr/>
            </p:nvSpPr>
            <p:spPr>
              <a:xfrm flipH="1" flipV="1">
                <a:off x="534240" y="6000840"/>
                <a:ext cx="173160" cy="118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flipV="1">
                <a:off x="341280" y="6018120"/>
                <a:ext cx="177840" cy="100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41280" y="5899320"/>
              <a:ext cx="366480" cy="118800"/>
              <a:chOff x="341280" y="5899320"/>
              <a:chExt cx="366480" cy="118800"/>
            </a:xfrm>
          </p:grpSpPr>
          <p:sp>
            <p:nvSpPr>
              <p:cNvPr id="824" name=""/>
              <p:cNvSpPr/>
              <p:nvPr/>
            </p:nvSpPr>
            <p:spPr>
              <a:xfrm flipH="1" flipV="1">
                <a:off x="534240" y="5899320"/>
                <a:ext cx="173160" cy="118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341280" y="5916600"/>
                <a:ext cx="177840" cy="100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17600" y="5835240"/>
              <a:ext cx="366480" cy="119520"/>
              <a:chOff x="417600" y="5835240"/>
              <a:chExt cx="366480" cy="119520"/>
            </a:xfrm>
          </p:grpSpPr>
          <p:sp>
            <p:nvSpPr>
              <p:cNvPr id="827" name=""/>
              <p:cNvSpPr/>
              <p:nvPr/>
            </p:nvSpPr>
            <p:spPr>
              <a:xfrm flipH="1" flipV="1">
                <a:off x="611280" y="5834880"/>
                <a:ext cx="172800" cy="1191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417600" y="5853240"/>
                <a:ext cx="177840" cy="1015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480960" y="5810400"/>
              <a:ext cx="366480" cy="118800"/>
              <a:chOff x="480960" y="5810400"/>
              <a:chExt cx="366480" cy="118800"/>
            </a:xfrm>
          </p:grpSpPr>
          <p:sp>
            <p:nvSpPr>
              <p:cNvPr id="830" name=""/>
              <p:cNvSpPr/>
              <p:nvPr/>
            </p:nvSpPr>
            <p:spPr>
              <a:xfrm flipH="1" flipV="1">
                <a:off x="673920" y="5810400"/>
                <a:ext cx="173160" cy="118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480960" y="5827680"/>
                <a:ext cx="177840" cy="100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4013280" y="5472360"/>
              <a:ext cx="1841400" cy="470160"/>
              <a:chOff x="4013280" y="5472360"/>
              <a:chExt cx="1841400" cy="47016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4013280" y="5472360"/>
                <a:ext cx="1072440" cy="470160"/>
                <a:chOff x="4013280" y="5472360"/>
                <a:chExt cx="1072440" cy="47016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4013280" y="5516640"/>
                  <a:ext cx="558360" cy="425880"/>
                  <a:chOff x="4013280" y="5516640"/>
                  <a:chExt cx="558360" cy="42588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4346640" y="5516640"/>
                    <a:ext cx="225000" cy="294120"/>
                    <a:chOff x="4346640" y="5516640"/>
                    <a:chExt cx="225000" cy="2941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flipH="1" rot="21120000">
                      <a:off x="4362480" y="5528520"/>
                      <a:ext cx="191880" cy="2530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flipH="1" rot="21120000">
                      <a:off x="4374720" y="5535360"/>
                      <a:ext cx="123480" cy="267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4214520" y="5546160"/>
                    <a:ext cx="283680" cy="325080"/>
                    <a:chOff x="4214520" y="5546160"/>
                    <a:chExt cx="283680" cy="32508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rot="20640000">
                      <a:off x="4246560" y="5571000"/>
                      <a:ext cx="219600" cy="2631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rot="20640000">
                      <a:off x="4263480" y="5580000"/>
                      <a:ext cx="141480" cy="277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4013280" y="5570280"/>
                    <a:ext cx="370440" cy="372240"/>
                    <a:chOff x="4013280" y="5570280"/>
                    <a:chExt cx="370440" cy="37224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19560000">
                      <a:off x="4064400" y="5622120"/>
                      <a:ext cx="267120" cy="2664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19560000">
                      <a:off x="4093920" y="5636520"/>
                      <a:ext cx="171360" cy="282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4560480" y="5472360"/>
                  <a:ext cx="525240" cy="358920"/>
                  <a:chOff x="4560480" y="5472360"/>
                  <a:chExt cx="525240" cy="358920"/>
                </a:xfrm>
              </p:grpSpPr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4560480" y="5472360"/>
                    <a:ext cx="167040" cy="256680"/>
                    <a:chOff x="4560480" y="5472360"/>
                    <a:chExt cx="167040" cy="25668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21540000">
                      <a:off x="4562280" y="5473440"/>
                      <a:ext cx="163080" cy="2368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21540000">
                      <a:off x="4612680" y="5476320"/>
                      <a:ext cx="104760" cy="2516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4646160" y="5490000"/>
                    <a:ext cx="214560" cy="284760"/>
                    <a:chOff x="4646160" y="5490000"/>
                    <a:chExt cx="214560" cy="28476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20000">
                      <a:off x="4660560" y="5500080"/>
                      <a:ext cx="185400" cy="249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20000">
                      <a:off x="4716000" y="5504760"/>
                      <a:ext cx="119520" cy="263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751280" y="5477760"/>
                    <a:ext cx="334440" cy="353520"/>
                    <a:chOff x="4751280" y="5477760"/>
                    <a:chExt cx="334440" cy="35352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1500000">
                      <a:off x="4795560" y="5517000"/>
                      <a:ext cx="245520" cy="265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500000">
                      <a:off x="4861440" y="5529600"/>
                      <a:ext cx="158040" cy="281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4782600" y="5472360"/>
                <a:ext cx="1072080" cy="470160"/>
                <a:chOff x="4782600" y="5472360"/>
                <a:chExt cx="1072080" cy="4701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5296320" y="5517000"/>
                  <a:ext cx="558360" cy="425520"/>
                  <a:chOff x="5296320" y="5517000"/>
                  <a:chExt cx="558360" cy="42552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296320" y="5517000"/>
                    <a:ext cx="224640" cy="292320"/>
                    <a:chOff x="5296320" y="5517000"/>
                    <a:chExt cx="224640" cy="29232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rot="480000">
                      <a:off x="5312880" y="5528880"/>
                      <a:ext cx="191160" cy="2530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480000">
                      <a:off x="5371560" y="5535360"/>
                      <a:ext cx="122760" cy="266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371560" y="5546520"/>
                    <a:ext cx="281880" cy="324360"/>
                    <a:chOff x="5371560" y="5546520"/>
                    <a:chExt cx="281880" cy="32436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960000">
                      <a:off x="5403240" y="5571360"/>
                      <a:ext cx="217800" cy="2631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960000">
                      <a:off x="5468400" y="5579640"/>
                      <a:ext cx="139680" cy="277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484600" y="5570280"/>
                    <a:ext cx="370080" cy="372240"/>
                    <a:chOff x="5484600" y="5570280"/>
                    <a:chExt cx="370080" cy="37224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rot="2040000">
                      <a:off x="5536080" y="5621760"/>
                      <a:ext cx="266760" cy="2664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rot="2040000">
                      <a:off x="5605200" y="5636520"/>
                      <a:ext cx="171360" cy="282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4782600" y="5472360"/>
                  <a:ext cx="525960" cy="358920"/>
                  <a:chOff x="4782600" y="5472360"/>
                  <a:chExt cx="525960" cy="358920"/>
                </a:xfrm>
              </p:grpSpPr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5141160" y="5472360"/>
                    <a:ext cx="167400" cy="256680"/>
                    <a:chOff x="5141160" y="5472360"/>
                    <a:chExt cx="167400" cy="256680"/>
                  </a:xfrm>
                </p:grpSpPr>
                <p:sp>
                  <p:nvSpPr>
                    <p:cNvPr id="867" name=""/>
                    <p:cNvSpPr/>
                    <p:nvPr/>
                  </p:nvSpPr>
                  <p:spPr>
                    <a:xfrm flipH="1" rot="60000">
                      <a:off x="5142600" y="5473440"/>
                      <a:ext cx="163080" cy="2368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flipH="1" rot="60000">
                      <a:off x="5149080" y="5476320"/>
                      <a:ext cx="104760" cy="2516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5008320" y="5490000"/>
                    <a:ext cx="216000" cy="284760"/>
                    <a:chOff x="5008320" y="5490000"/>
                    <a:chExt cx="216000" cy="28476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 flipH="1" rot="21180000">
                      <a:off x="5022720" y="5500080"/>
                      <a:ext cx="187200" cy="2484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 flipH="1" rot="21180000">
                      <a:off x="5029920" y="5504760"/>
                      <a:ext cx="120600" cy="263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4782600" y="5477760"/>
                    <a:ext cx="334800" cy="353520"/>
                    <a:chOff x="4782600" y="5477760"/>
                    <a:chExt cx="334800" cy="353520"/>
                  </a:xfrm>
                </p:grpSpPr>
                <p:sp>
                  <p:nvSpPr>
                    <p:cNvPr id="873" name=""/>
                    <p:cNvSpPr/>
                    <p:nvPr/>
                  </p:nvSpPr>
                  <p:spPr>
                    <a:xfrm flipH="1" rot="20100000">
                      <a:off x="4827240" y="5517000"/>
                      <a:ext cx="245520" cy="265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flipH="1" rot="20100000">
                      <a:off x="4847400" y="5529600"/>
                      <a:ext cx="157320" cy="2811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875" name=""/>
            <p:cNvGrpSpPr/>
            <p:nvPr/>
          </p:nvGrpSpPr>
          <p:grpSpPr>
            <a:xfrm>
              <a:off x="393840" y="5726160"/>
              <a:ext cx="1841400" cy="470160"/>
              <a:chOff x="393840" y="5726160"/>
              <a:chExt cx="1841400" cy="47016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393840" y="5726160"/>
                <a:ext cx="1072440" cy="469800"/>
                <a:chOff x="393840" y="5726160"/>
                <a:chExt cx="1072440" cy="46980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393840" y="5770800"/>
                  <a:ext cx="558720" cy="425160"/>
                  <a:chOff x="393840" y="5770800"/>
                  <a:chExt cx="558720" cy="425160"/>
                </a:xfrm>
              </p:grpSpPr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727560" y="5770800"/>
                    <a:ext cx="225000" cy="294120"/>
                    <a:chOff x="727560" y="5770800"/>
                    <a:chExt cx="225000" cy="29412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 flipH="1" rot="21120000">
                      <a:off x="743400" y="5782680"/>
                      <a:ext cx="191880" cy="252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flipH="1" rot="21120000">
                      <a:off x="753480" y="5789880"/>
                      <a:ext cx="123480" cy="267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595080" y="5800680"/>
                    <a:ext cx="281520" cy="324360"/>
                    <a:chOff x="595080" y="5800680"/>
                    <a:chExt cx="281520" cy="324360"/>
                  </a:xfrm>
                </p:grpSpPr>
                <p:sp>
                  <p:nvSpPr>
                    <p:cNvPr id="882" name=""/>
                    <p:cNvSpPr/>
                    <p:nvPr/>
                  </p:nvSpPr>
                  <p:spPr>
                    <a:xfrm flipH="1" rot="20640000">
                      <a:off x="626400" y="5825520"/>
                      <a:ext cx="218160" cy="261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flipH="1" rot="20640000">
                      <a:off x="641160" y="5835960"/>
                      <a:ext cx="140760" cy="2750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393840" y="5824080"/>
                    <a:ext cx="369720" cy="371880"/>
                    <a:chOff x="393840" y="5824080"/>
                    <a:chExt cx="369720" cy="37188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 flipH="1" rot="19560000">
                      <a:off x="444960" y="5875560"/>
                      <a:ext cx="266400" cy="2660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flipH="1" rot="19560000">
                      <a:off x="474480" y="5889600"/>
                      <a:ext cx="171000" cy="282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940680" y="5726160"/>
                  <a:ext cx="525600" cy="359640"/>
                  <a:chOff x="940680" y="5726160"/>
                  <a:chExt cx="525600" cy="359640"/>
                </a:xfrm>
              </p:grpSpPr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940680" y="5726160"/>
                    <a:ext cx="167400" cy="257040"/>
                    <a:chOff x="940680" y="5726160"/>
                    <a:chExt cx="167400" cy="25704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 rot="21540000">
                      <a:off x="942480" y="5727240"/>
                      <a:ext cx="163440" cy="237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21540000">
                      <a:off x="992880" y="5730480"/>
                      <a:ext cx="105480" cy="2516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1026720" y="5743800"/>
                    <a:ext cx="214560" cy="285480"/>
                    <a:chOff x="1026720" y="5743800"/>
                    <a:chExt cx="214560" cy="28548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420000">
                      <a:off x="1041120" y="5753880"/>
                      <a:ext cx="185400" cy="2505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420000">
                      <a:off x="1096560" y="5759280"/>
                      <a:ext cx="118800" cy="263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1131840" y="5731920"/>
                    <a:ext cx="334440" cy="353880"/>
                    <a:chOff x="1131840" y="5731920"/>
                    <a:chExt cx="334440" cy="353880"/>
                  </a:xfrm>
                </p:grpSpPr>
                <p:sp>
                  <p:nvSpPr>
                    <p:cNvPr id="895" name=""/>
                    <p:cNvSpPr/>
                    <p:nvPr/>
                  </p:nvSpPr>
                  <p:spPr>
                    <a:xfrm rot="1500000">
                      <a:off x="1176120" y="5771160"/>
                      <a:ext cx="245520" cy="265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 rot="1500000">
                      <a:off x="1242000" y="5783760"/>
                      <a:ext cx="158400" cy="281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97" name=""/>
              <p:cNvGrpSpPr/>
              <p:nvPr/>
            </p:nvGrpSpPr>
            <p:grpSpPr>
              <a:xfrm>
                <a:off x="1163160" y="5726160"/>
                <a:ext cx="1072080" cy="470160"/>
                <a:chOff x="1163160" y="5726160"/>
                <a:chExt cx="1072080" cy="470160"/>
              </a:xfrm>
            </p:grpSpPr>
            <p:grpSp>
              <p:nvGrpSpPr>
                <p:cNvPr id="898" name=""/>
                <p:cNvGrpSpPr/>
                <p:nvPr/>
              </p:nvGrpSpPr>
              <p:grpSpPr>
                <a:xfrm>
                  <a:off x="1676880" y="5771160"/>
                  <a:ext cx="558360" cy="425160"/>
                  <a:chOff x="1676880" y="5771160"/>
                  <a:chExt cx="558360" cy="425160"/>
                </a:xfrm>
              </p:grpSpPr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1676880" y="5771160"/>
                    <a:ext cx="224640" cy="291960"/>
                    <a:chOff x="1676880" y="5771160"/>
                    <a:chExt cx="224640" cy="29196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rot="480000">
                      <a:off x="1693440" y="5783040"/>
                      <a:ext cx="191160" cy="2530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rot="480000">
                      <a:off x="1751760" y="5789880"/>
                      <a:ext cx="123120" cy="2660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1752480" y="5800680"/>
                    <a:ext cx="281520" cy="324000"/>
                    <a:chOff x="1752480" y="5800680"/>
                    <a:chExt cx="281520" cy="324000"/>
                  </a:xfrm>
                </p:grpSpPr>
                <p:sp>
                  <p:nvSpPr>
                    <p:cNvPr id="903" name=""/>
                    <p:cNvSpPr/>
                    <p:nvPr/>
                  </p:nvSpPr>
                  <p:spPr>
                    <a:xfrm rot="960000">
                      <a:off x="1784160" y="5825520"/>
                      <a:ext cx="217800" cy="261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rot="960000">
                      <a:off x="1848960" y="5835600"/>
                      <a:ext cx="139680" cy="2750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1865160" y="5824080"/>
                    <a:ext cx="370080" cy="372240"/>
                    <a:chOff x="1865160" y="5824080"/>
                    <a:chExt cx="370080" cy="372240"/>
                  </a:xfrm>
                </p:grpSpPr>
                <p:sp>
                  <p:nvSpPr>
                    <p:cNvPr id="906" name=""/>
                    <p:cNvSpPr/>
                    <p:nvPr/>
                  </p:nvSpPr>
                  <p:spPr>
                    <a:xfrm rot="2040000">
                      <a:off x="1916640" y="5875560"/>
                      <a:ext cx="266760" cy="2664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rot="2040000">
                      <a:off x="1985400" y="5889600"/>
                      <a:ext cx="171360" cy="282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08" name=""/>
                <p:cNvGrpSpPr/>
                <p:nvPr/>
              </p:nvGrpSpPr>
              <p:grpSpPr>
                <a:xfrm>
                  <a:off x="1163160" y="5726160"/>
                  <a:ext cx="525600" cy="359280"/>
                  <a:chOff x="1163160" y="5726160"/>
                  <a:chExt cx="525600" cy="359280"/>
                </a:xfrm>
              </p:grpSpPr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1521000" y="5726160"/>
                    <a:ext cx="167760" cy="257040"/>
                    <a:chOff x="1521000" y="5726160"/>
                    <a:chExt cx="167760" cy="25704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 flipH="1" rot="60000">
                      <a:off x="1522800" y="5727240"/>
                      <a:ext cx="163440" cy="237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flipH="1" rot="60000">
                      <a:off x="1528920" y="5730480"/>
                      <a:ext cx="105480" cy="2516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2" name=""/>
                  <p:cNvGrpSpPr/>
                  <p:nvPr/>
                </p:nvGrpSpPr>
                <p:grpSpPr>
                  <a:xfrm>
                    <a:off x="1388880" y="5743800"/>
                    <a:ext cx="216000" cy="285120"/>
                    <a:chOff x="1388880" y="5743800"/>
                    <a:chExt cx="216000" cy="285120"/>
                  </a:xfrm>
                </p:grpSpPr>
                <p:sp>
                  <p:nvSpPr>
                    <p:cNvPr id="913" name=""/>
                    <p:cNvSpPr/>
                    <p:nvPr/>
                  </p:nvSpPr>
                  <p:spPr>
                    <a:xfrm flipH="1" rot="21180000">
                      <a:off x="1403280" y="5753880"/>
                      <a:ext cx="187200" cy="248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flipH="1" rot="21180000">
                      <a:off x="1410480" y="5758920"/>
                      <a:ext cx="120600" cy="2635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1163160" y="5731920"/>
                    <a:ext cx="334800" cy="353520"/>
                    <a:chOff x="1163160" y="5731920"/>
                    <a:chExt cx="334800" cy="35352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 flipH="1" rot="20100000">
                      <a:off x="1207800" y="5771160"/>
                      <a:ext cx="245520" cy="265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flipH="1" rot="20100000">
                      <a:off x="1227960" y="5783760"/>
                      <a:ext cx="157320" cy="2811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918" name=""/>
            <p:cNvGrpSpPr/>
            <p:nvPr/>
          </p:nvGrpSpPr>
          <p:grpSpPr>
            <a:xfrm>
              <a:off x="417600" y="5270400"/>
              <a:ext cx="163440" cy="81000"/>
              <a:chOff x="417600" y="5270400"/>
              <a:chExt cx="163440" cy="81000"/>
            </a:xfrm>
          </p:grpSpPr>
          <p:sp>
            <p:nvSpPr>
              <p:cNvPr id="919" name=""/>
              <p:cNvSpPr/>
              <p:nvPr/>
            </p:nvSpPr>
            <p:spPr>
              <a:xfrm>
                <a:off x="417600" y="5270400"/>
                <a:ext cx="75960" cy="81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480" y="5270400"/>
                <a:ext cx="79560" cy="684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17600" y="5168880"/>
              <a:ext cx="163440" cy="81000"/>
              <a:chOff x="417600" y="5168880"/>
              <a:chExt cx="163440" cy="81000"/>
            </a:xfrm>
          </p:grpSpPr>
          <p:sp>
            <p:nvSpPr>
              <p:cNvPr id="922" name=""/>
              <p:cNvSpPr/>
              <p:nvPr/>
            </p:nvSpPr>
            <p:spPr>
              <a:xfrm>
                <a:off x="417600" y="5168880"/>
                <a:ext cx="75960" cy="81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480" y="5168880"/>
                <a:ext cx="79560" cy="684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493560" y="5105520"/>
              <a:ext cx="163800" cy="81000"/>
              <a:chOff x="493560" y="5105520"/>
              <a:chExt cx="163800" cy="81000"/>
            </a:xfrm>
          </p:grpSpPr>
          <p:sp>
            <p:nvSpPr>
              <p:cNvPr id="925" name=""/>
              <p:cNvSpPr/>
              <p:nvPr/>
            </p:nvSpPr>
            <p:spPr>
              <a:xfrm>
                <a:off x="493560" y="5105520"/>
                <a:ext cx="76320" cy="81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7800" y="5105520"/>
                <a:ext cx="79560" cy="680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07960" y="4913640"/>
              <a:ext cx="8863200" cy="1333080"/>
              <a:chOff x="507960" y="4913640"/>
              <a:chExt cx="8863200" cy="13330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3352680" y="5346720"/>
                <a:ext cx="341280" cy="182520"/>
                <a:chOff x="3352680" y="5346720"/>
                <a:chExt cx="341280" cy="1825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3352680" y="5346720"/>
                  <a:ext cx="160560" cy="1825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529080" y="5348160"/>
                  <a:ext cx="164880" cy="1540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070680" y="5372280"/>
                <a:ext cx="684000" cy="220320"/>
                <a:chOff x="6070680" y="5372280"/>
                <a:chExt cx="684000" cy="2203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070680" y="5372280"/>
                  <a:ext cx="322200" cy="220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421320" y="5373720"/>
                  <a:ext cx="333360" cy="1872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404720" y="5859000"/>
                <a:ext cx="702360" cy="270360"/>
                <a:chOff x="1404720" y="5859000"/>
                <a:chExt cx="702360" cy="270360"/>
              </a:xfrm>
            </p:grpSpPr>
            <p:sp>
              <p:nvSpPr>
                <p:cNvPr id="935" name=""/>
                <p:cNvSpPr/>
                <p:nvPr/>
              </p:nvSpPr>
              <p:spPr>
                <a:xfrm rot="10620000">
                  <a:off x="1773360" y="5867280"/>
                  <a:ext cx="327600" cy="2354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10620000">
                  <a:off x="1409760" y="5920560"/>
                  <a:ext cx="338400" cy="199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4863960" y="5270400"/>
                <a:ext cx="163800" cy="81000"/>
                <a:chOff x="4863960" y="5270400"/>
                <a:chExt cx="163800" cy="810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4863960" y="52704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948200" y="527040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7721640" y="5079960"/>
                <a:ext cx="163440" cy="81000"/>
                <a:chOff x="7721640" y="5079960"/>
                <a:chExt cx="163440" cy="810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7721640" y="50799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805880" y="50799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8802720" y="5765760"/>
                <a:ext cx="163440" cy="81000"/>
                <a:chOff x="8802720" y="5765760"/>
                <a:chExt cx="163440" cy="810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8802720" y="57657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886960" y="57657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8574120" y="5816520"/>
                <a:ext cx="163440" cy="81000"/>
                <a:chOff x="8574120" y="5816520"/>
                <a:chExt cx="163440" cy="810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8574120" y="58165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58360" y="581652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8408880" y="5842080"/>
                <a:ext cx="163800" cy="81000"/>
                <a:chOff x="8408880" y="5842080"/>
                <a:chExt cx="163800" cy="8100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8408880" y="58420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493120" y="584208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8408880" y="5740560"/>
                <a:ext cx="163800" cy="80640"/>
                <a:chOff x="8408880" y="5740560"/>
                <a:chExt cx="163800" cy="806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8408880" y="574056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493120" y="574056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8485200" y="5676840"/>
                <a:ext cx="163440" cy="81000"/>
                <a:chOff x="8485200" y="5676840"/>
                <a:chExt cx="163440" cy="810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8485200" y="56768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569440" y="56768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8548560" y="5651640"/>
                <a:ext cx="163800" cy="81000"/>
                <a:chOff x="8548560" y="5651640"/>
                <a:chExt cx="163800" cy="8100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8548560" y="56516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32800" y="565164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8624880" y="5613480"/>
                <a:ext cx="163440" cy="81000"/>
                <a:chOff x="8624880" y="5613480"/>
                <a:chExt cx="163440" cy="810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8624880" y="56134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709120" y="56134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8827920" y="5537160"/>
                <a:ext cx="163800" cy="81000"/>
                <a:chOff x="8827920" y="5537160"/>
                <a:chExt cx="163800" cy="810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8827920" y="5537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912160" y="55371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824960" y="5676840"/>
                <a:ext cx="163440" cy="81000"/>
                <a:chOff x="7824960" y="5676840"/>
                <a:chExt cx="163440" cy="8100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824960" y="56768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908840" y="56768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9145440" y="5537160"/>
                <a:ext cx="163800" cy="81000"/>
                <a:chOff x="9145440" y="5537160"/>
                <a:chExt cx="163800" cy="810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9145440" y="5537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9229680" y="55371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8648640" y="5156280"/>
                <a:ext cx="163440" cy="81000"/>
                <a:chOff x="8648640" y="5156280"/>
                <a:chExt cx="163440" cy="810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8648640" y="51562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732880" y="51562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8966160" y="5156280"/>
                <a:ext cx="163440" cy="81000"/>
                <a:chOff x="8966160" y="5156280"/>
                <a:chExt cx="163440" cy="810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8966160" y="51562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9050400" y="51562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4052880" y="5506920"/>
                <a:ext cx="187200" cy="82800"/>
                <a:chOff x="4052880" y="5506920"/>
                <a:chExt cx="187200" cy="828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4052880" y="5506920"/>
                  <a:ext cx="87480" cy="82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149720" y="550692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3087720" y="5532480"/>
                <a:ext cx="163440" cy="81000"/>
                <a:chOff x="3087720" y="5532480"/>
                <a:chExt cx="163440" cy="8100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3087720" y="55324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171960" y="55324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2922480" y="5557680"/>
                <a:ext cx="163800" cy="81000"/>
                <a:chOff x="2922480" y="5557680"/>
                <a:chExt cx="163800" cy="8100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2922480" y="55576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006720" y="555768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2922480" y="5456160"/>
                <a:ext cx="163800" cy="81000"/>
                <a:chOff x="2922480" y="5456160"/>
                <a:chExt cx="163800" cy="810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2922480" y="5456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006720" y="54561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2998800" y="5392800"/>
                <a:ext cx="163440" cy="81000"/>
                <a:chOff x="2998800" y="5392800"/>
                <a:chExt cx="163440" cy="810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2998800" y="53928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83040" y="539280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3062160" y="5367240"/>
                <a:ext cx="163800" cy="81000"/>
                <a:chOff x="3062160" y="5367240"/>
                <a:chExt cx="163800" cy="810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062160" y="5367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46400" y="53672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3875040" y="5354640"/>
                <a:ext cx="187200" cy="82440"/>
                <a:chOff x="3875040" y="5354640"/>
                <a:chExt cx="187200" cy="824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3875040" y="5354640"/>
                  <a:ext cx="87480" cy="824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971880" y="535464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4078440" y="5278320"/>
                <a:ext cx="187200" cy="82800"/>
                <a:chOff x="4078440" y="5278320"/>
                <a:chExt cx="187200" cy="8280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4078440" y="5278320"/>
                  <a:ext cx="87120" cy="82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175280" y="527832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2744640" y="5494320"/>
                <a:ext cx="163800" cy="81000"/>
                <a:chOff x="2744640" y="5494320"/>
                <a:chExt cx="163800" cy="8100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2744640" y="54943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2828880" y="549432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2516040" y="5545080"/>
                <a:ext cx="163800" cy="81000"/>
                <a:chOff x="2516040" y="5545080"/>
                <a:chExt cx="163800" cy="810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2516040" y="55450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600280" y="554508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2351160" y="5570640"/>
                <a:ext cx="163440" cy="81000"/>
                <a:chOff x="2351160" y="5570640"/>
                <a:chExt cx="163440" cy="810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2351160" y="55706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435400" y="557064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2351160" y="5468760"/>
                <a:ext cx="163440" cy="81000"/>
                <a:chOff x="2351160" y="5468760"/>
                <a:chExt cx="163440" cy="8100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2351160" y="546876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435400" y="54687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2427120" y="5405400"/>
                <a:ext cx="163800" cy="81000"/>
                <a:chOff x="2427120" y="5405400"/>
                <a:chExt cx="163800" cy="8100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2427120" y="54054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511360" y="540540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2490840" y="5380200"/>
                <a:ext cx="163440" cy="80640"/>
                <a:chOff x="2490840" y="5380200"/>
                <a:chExt cx="163440" cy="8064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2490840" y="538020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575080" y="538020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2567160" y="5342040"/>
                <a:ext cx="163440" cy="81000"/>
                <a:chOff x="2567160" y="5342040"/>
                <a:chExt cx="163440" cy="810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2567160" y="53420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651040" y="534204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2770200" y="5265720"/>
                <a:ext cx="163440" cy="81000"/>
                <a:chOff x="2770200" y="5265720"/>
                <a:chExt cx="163440" cy="810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2770200" y="52657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854440" y="526572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2033640" y="5684760"/>
                <a:ext cx="163440" cy="81000"/>
                <a:chOff x="2033640" y="5684760"/>
                <a:chExt cx="163440" cy="8100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2033640" y="56847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117880" y="56847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1805040" y="5735520"/>
                <a:ext cx="163440" cy="81000"/>
                <a:chOff x="1805040" y="5735520"/>
                <a:chExt cx="163440" cy="8100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1805040" y="57355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889280" y="573552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1639800" y="5761080"/>
                <a:ext cx="163440" cy="81000"/>
                <a:chOff x="1639800" y="5761080"/>
                <a:chExt cx="163440" cy="810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639800" y="57610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724040" y="57610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1639800" y="5659560"/>
                <a:ext cx="163440" cy="81000"/>
                <a:chOff x="1639800" y="5659560"/>
                <a:chExt cx="163440" cy="8100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639800" y="56595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724040" y="565956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1716120" y="5595840"/>
                <a:ext cx="163440" cy="81000"/>
                <a:chOff x="1716120" y="5595840"/>
                <a:chExt cx="163440" cy="8100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1716120" y="55958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1800360" y="55958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1779480" y="5570640"/>
                <a:ext cx="163800" cy="81000"/>
                <a:chOff x="1779480" y="5570640"/>
                <a:chExt cx="163800" cy="8100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1779480" y="55706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863720" y="557064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1855800" y="5532480"/>
                <a:ext cx="163440" cy="81000"/>
                <a:chOff x="1855800" y="5532480"/>
                <a:chExt cx="163440" cy="8100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855800" y="55324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940040" y="55324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2058840" y="5456160"/>
                <a:ext cx="163800" cy="81000"/>
                <a:chOff x="2058840" y="5456160"/>
                <a:chExt cx="163800" cy="8100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2058840" y="5456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143080" y="54561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990720" y="5372280"/>
                <a:ext cx="163440" cy="80640"/>
                <a:chOff x="990720" y="5372280"/>
                <a:chExt cx="163440" cy="806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990720" y="5372280"/>
                  <a:ext cx="7596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074600" y="537228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762120" y="5423040"/>
                <a:ext cx="163440" cy="81000"/>
                <a:chOff x="762120" y="5423040"/>
                <a:chExt cx="163440" cy="810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62120" y="54230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46000" y="542304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596880" y="5448240"/>
                <a:ext cx="163440" cy="81000"/>
                <a:chOff x="596880" y="5448240"/>
                <a:chExt cx="163440" cy="8100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596880" y="5448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81120" y="54482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96880" y="5346720"/>
                <a:ext cx="163440" cy="81000"/>
                <a:chOff x="596880" y="5346720"/>
                <a:chExt cx="163440" cy="8100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596880" y="53467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81120" y="534672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673200" y="5283360"/>
                <a:ext cx="163440" cy="80640"/>
                <a:chOff x="673200" y="5283360"/>
                <a:chExt cx="163440" cy="806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73200" y="5283360"/>
                  <a:ext cx="7596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57080" y="528336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736560" y="5257800"/>
                <a:ext cx="163440" cy="81000"/>
                <a:chOff x="736560" y="5257800"/>
                <a:chExt cx="163440" cy="8100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736560" y="52578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20800" y="525780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812880" y="5219640"/>
                <a:ext cx="163440" cy="81000"/>
                <a:chOff x="812880" y="5219640"/>
                <a:chExt cx="163440" cy="810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812880" y="52196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96760" y="52196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1015920" y="5143680"/>
                <a:ext cx="163440" cy="80640"/>
                <a:chOff x="1015920" y="5143680"/>
                <a:chExt cx="163440" cy="8064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1015920" y="514368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100160" y="51436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736560" y="6076440"/>
                <a:ext cx="366480" cy="119520"/>
                <a:chOff x="736560" y="6076440"/>
                <a:chExt cx="366480" cy="119520"/>
              </a:xfrm>
            </p:grpSpPr>
            <p:sp>
              <p:nvSpPr>
                <p:cNvPr id="1076" name=""/>
                <p:cNvSpPr/>
                <p:nvPr/>
              </p:nvSpPr>
              <p:spPr>
                <a:xfrm flipH="1" flipV="1">
                  <a:off x="929520" y="6076080"/>
                  <a:ext cx="173160" cy="11916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flipV="1">
                  <a:off x="736560" y="6094440"/>
                  <a:ext cx="177840" cy="1015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507960" y="6127920"/>
                <a:ext cx="366480" cy="118800"/>
                <a:chOff x="507960" y="6127920"/>
                <a:chExt cx="366480" cy="118800"/>
              </a:xfrm>
            </p:grpSpPr>
            <p:sp>
              <p:nvSpPr>
                <p:cNvPr id="1079" name=""/>
                <p:cNvSpPr/>
                <p:nvPr/>
              </p:nvSpPr>
              <p:spPr>
                <a:xfrm flipH="1" flipV="1">
                  <a:off x="700920" y="6127920"/>
                  <a:ext cx="173160" cy="118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flipV="1">
                  <a:off x="507960" y="6145200"/>
                  <a:ext cx="177840" cy="1015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558720" y="5924160"/>
                <a:ext cx="366480" cy="119160"/>
                <a:chOff x="558720" y="5924160"/>
                <a:chExt cx="366480" cy="119160"/>
              </a:xfrm>
            </p:grpSpPr>
            <p:sp>
              <p:nvSpPr>
                <p:cNvPr id="1082" name=""/>
                <p:cNvSpPr/>
                <p:nvPr/>
              </p:nvSpPr>
              <p:spPr>
                <a:xfrm flipH="1" flipV="1">
                  <a:off x="751680" y="5923800"/>
                  <a:ext cx="173160" cy="11916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>
                  <a:off x="558720" y="5941440"/>
                  <a:ext cx="177840" cy="997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762120" y="5847840"/>
                <a:ext cx="366480" cy="119520"/>
                <a:chOff x="762120" y="5847840"/>
                <a:chExt cx="366480" cy="11952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>
                  <a:off x="955800" y="5847480"/>
                  <a:ext cx="172800" cy="11916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>
                  <a:off x="762120" y="5865840"/>
                  <a:ext cx="177840" cy="1015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1893960" y="5545080"/>
                <a:ext cx="163440" cy="81000"/>
                <a:chOff x="1893960" y="5545080"/>
                <a:chExt cx="163440" cy="810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893960" y="554508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978200" y="55450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7353360" y="5676840"/>
                <a:ext cx="163440" cy="81000"/>
                <a:chOff x="7353360" y="5676840"/>
                <a:chExt cx="163440" cy="8100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7353360" y="56768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437600" y="56768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7124760" y="5727600"/>
                <a:ext cx="163440" cy="81000"/>
                <a:chOff x="7124760" y="5727600"/>
                <a:chExt cx="163440" cy="810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7124760" y="57276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209000" y="572760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6959520" y="5753160"/>
                <a:ext cx="163440" cy="81000"/>
                <a:chOff x="6959520" y="5753160"/>
                <a:chExt cx="163440" cy="810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6959520" y="5753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043760" y="575316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6959520" y="5651640"/>
                <a:ext cx="163440" cy="81000"/>
                <a:chOff x="6959520" y="5651640"/>
                <a:chExt cx="163440" cy="810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6959520" y="56516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043760" y="565164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7035840" y="5587920"/>
                <a:ext cx="163440" cy="81000"/>
                <a:chOff x="7035840" y="5587920"/>
                <a:chExt cx="163440" cy="8100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7035840" y="55879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120080" y="558792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7099200" y="5562720"/>
                <a:ext cx="163440" cy="81000"/>
                <a:chOff x="7099200" y="5562720"/>
                <a:chExt cx="163440" cy="810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7099200" y="55627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183440" y="556272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7175520" y="5524560"/>
                <a:ext cx="163440" cy="81000"/>
                <a:chOff x="7175520" y="5524560"/>
                <a:chExt cx="163440" cy="8100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7175520" y="55245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259760" y="552456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7378560" y="5448240"/>
                <a:ext cx="163800" cy="81000"/>
                <a:chOff x="7378560" y="5448240"/>
                <a:chExt cx="163800" cy="810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7378560" y="5448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462800" y="54482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5994360" y="5689440"/>
                <a:ext cx="163440" cy="81000"/>
                <a:chOff x="5994360" y="5689440"/>
                <a:chExt cx="163440" cy="810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5994360" y="56894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078600" y="56894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5765760" y="5740560"/>
                <a:ext cx="163440" cy="80640"/>
                <a:chOff x="5765760" y="5740560"/>
                <a:chExt cx="163440" cy="8064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5765760" y="574056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850000" y="574056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600880" y="5765760"/>
                <a:ext cx="163440" cy="81000"/>
                <a:chOff x="5600880" y="5765760"/>
                <a:chExt cx="163440" cy="8100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5600880" y="576576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684760" y="57657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5600880" y="5664240"/>
                <a:ext cx="163440" cy="81000"/>
                <a:chOff x="5600880" y="5664240"/>
                <a:chExt cx="163440" cy="8100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5600880" y="56642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684760" y="56642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5676840" y="5600880"/>
                <a:ext cx="163440" cy="80640"/>
                <a:chOff x="5676840" y="5600880"/>
                <a:chExt cx="163440" cy="8064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5676840" y="560088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761080" y="56008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5740560" y="5575320"/>
                <a:ext cx="163440" cy="81000"/>
                <a:chOff x="5740560" y="5575320"/>
                <a:chExt cx="163440" cy="8100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5740560" y="557532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824440" y="557532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5816520" y="5537160"/>
                <a:ext cx="163440" cy="81000"/>
                <a:chOff x="5816520" y="5537160"/>
                <a:chExt cx="163440" cy="8100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5816520" y="5537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900760" y="55371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6019920" y="5460840"/>
                <a:ext cx="163440" cy="81000"/>
                <a:chOff x="6019920" y="5460840"/>
                <a:chExt cx="163440" cy="81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6019920" y="546084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103800" y="54608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1995840" y="4913640"/>
                <a:ext cx="1840680" cy="470160"/>
                <a:chOff x="1995840" y="4913640"/>
                <a:chExt cx="1840680" cy="470160"/>
              </a:xfrm>
            </p:grpSpPr>
            <p:grpSp>
              <p:nvGrpSpPr>
                <p:cNvPr id="1139" name=""/>
                <p:cNvGrpSpPr/>
                <p:nvPr/>
              </p:nvGrpSpPr>
              <p:grpSpPr>
                <a:xfrm>
                  <a:off x="1995840" y="4913640"/>
                  <a:ext cx="1072440" cy="469800"/>
                  <a:chOff x="1995840" y="4913640"/>
                  <a:chExt cx="1072440" cy="469800"/>
                </a:xfrm>
              </p:grpSpPr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1995840" y="4957920"/>
                    <a:ext cx="558360" cy="425520"/>
                    <a:chOff x="1995840" y="4957920"/>
                    <a:chExt cx="558360" cy="425520"/>
                  </a:xfrm>
                </p:grpSpPr>
                <p:grpSp>
                  <p:nvGrpSpPr>
                    <p:cNvPr id="1141" name=""/>
                    <p:cNvGrpSpPr/>
                    <p:nvPr/>
                  </p:nvGrpSpPr>
                  <p:grpSpPr>
                    <a:xfrm>
                      <a:off x="2329200" y="4957920"/>
                      <a:ext cx="225000" cy="294120"/>
                      <a:chOff x="2329200" y="4957920"/>
                      <a:chExt cx="225000" cy="294120"/>
                    </a:xfrm>
                  </p:grpSpPr>
                  <p:sp>
                    <p:nvSpPr>
                      <p:cNvPr id="1142" name=""/>
                      <p:cNvSpPr/>
                      <p:nvPr/>
                    </p:nvSpPr>
                    <p:spPr>
                      <a:xfrm flipH="1" rot="21120000">
                        <a:off x="2345400" y="4969800"/>
                        <a:ext cx="191520" cy="2530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3" name=""/>
                      <p:cNvSpPr/>
                      <p:nvPr/>
                    </p:nvSpPr>
                    <p:spPr>
                      <a:xfrm flipH="1" rot="21120000">
                        <a:off x="2356920" y="4977000"/>
                        <a:ext cx="123120" cy="2674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4" name=""/>
                    <p:cNvGrpSpPr/>
                    <p:nvPr/>
                  </p:nvGrpSpPr>
                  <p:grpSpPr>
                    <a:xfrm>
                      <a:off x="2198520" y="4987800"/>
                      <a:ext cx="282240" cy="324720"/>
                      <a:chOff x="2198520" y="4987800"/>
                      <a:chExt cx="282240" cy="324720"/>
                    </a:xfrm>
                  </p:grpSpPr>
                  <p:sp>
                    <p:nvSpPr>
                      <p:cNvPr id="1145" name=""/>
                      <p:cNvSpPr/>
                      <p:nvPr/>
                    </p:nvSpPr>
                    <p:spPr>
                      <a:xfrm flipH="1" rot="20640000">
                        <a:off x="2230200" y="5012640"/>
                        <a:ext cx="218160" cy="2631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6" name=""/>
                      <p:cNvSpPr/>
                      <p:nvPr/>
                    </p:nvSpPr>
                    <p:spPr>
                      <a:xfrm flipH="1" rot="20640000">
                        <a:off x="2245680" y="5021280"/>
                        <a:ext cx="140760" cy="2772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47" name=""/>
                    <p:cNvGrpSpPr/>
                    <p:nvPr/>
                  </p:nvGrpSpPr>
                  <p:grpSpPr>
                    <a:xfrm>
                      <a:off x="1995840" y="5011920"/>
                      <a:ext cx="369720" cy="371520"/>
                      <a:chOff x="1995840" y="5011920"/>
                      <a:chExt cx="369720" cy="371520"/>
                    </a:xfrm>
                  </p:grpSpPr>
                  <p:sp>
                    <p:nvSpPr>
                      <p:cNvPr id="1148" name=""/>
                      <p:cNvSpPr/>
                      <p:nvPr/>
                    </p:nvSpPr>
                    <p:spPr>
                      <a:xfrm flipH="1" rot="19560000">
                        <a:off x="2046960" y="5063400"/>
                        <a:ext cx="266040" cy="2667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49" name=""/>
                      <p:cNvSpPr/>
                      <p:nvPr/>
                    </p:nvSpPr>
                    <p:spPr>
                      <a:xfrm flipH="1" rot="19560000">
                        <a:off x="2076480" y="5077080"/>
                        <a:ext cx="171000" cy="2822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2542680" y="4913640"/>
                    <a:ext cx="525600" cy="358920"/>
                    <a:chOff x="2542680" y="4913640"/>
                    <a:chExt cx="525600" cy="358920"/>
                  </a:xfrm>
                </p:grpSpPr>
                <p:grpSp>
                  <p:nvGrpSpPr>
                    <p:cNvPr id="1151" name=""/>
                    <p:cNvGrpSpPr/>
                    <p:nvPr/>
                  </p:nvGrpSpPr>
                  <p:grpSpPr>
                    <a:xfrm>
                      <a:off x="2542680" y="4913640"/>
                      <a:ext cx="167040" cy="256680"/>
                      <a:chOff x="2542680" y="4913640"/>
                      <a:chExt cx="167040" cy="256680"/>
                    </a:xfrm>
                  </p:grpSpPr>
                  <p:sp>
                    <p:nvSpPr>
                      <p:cNvPr id="1152" name=""/>
                      <p:cNvSpPr/>
                      <p:nvPr/>
                    </p:nvSpPr>
                    <p:spPr>
                      <a:xfrm rot="21540000">
                        <a:off x="2544480" y="4914720"/>
                        <a:ext cx="163080" cy="2372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3" name=""/>
                      <p:cNvSpPr/>
                      <p:nvPr/>
                    </p:nvSpPr>
                    <p:spPr>
                      <a:xfrm rot="21540000">
                        <a:off x="2596320" y="4917960"/>
                        <a:ext cx="105120" cy="2512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4" name=""/>
                    <p:cNvGrpSpPr/>
                    <p:nvPr/>
                  </p:nvGrpSpPr>
                  <p:grpSpPr>
                    <a:xfrm>
                      <a:off x="2628360" y="4930920"/>
                      <a:ext cx="214560" cy="285120"/>
                      <a:chOff x="2628360" y="4930920"/>
                      <a:chExt cx="214560" cy="285120"/>
                    </a:xfrm>
                  </p:grpSpPr>
                  <p:sp>
                    <p:nvSpPr>
                      <p:cNvPr id="1155" name=""/>
                      <p:cNvSpPr/>
                      <p:nvPr/>
                    </p:nvSpPr>
                    <p:spPr>
                      <a:xfrm rot="420000">
                        <a:off x="2642760" y="4941000"/>
                        <a:ext cx="185400" cy="2505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6" name=""/>
                      <p:cNvSpPr/>
                      <p:nvPr/>
                    </p:nvSpPr>
                    <p:spPr>
                      <a:xfrm rot="420000">
                        <a:off x="2698200" y="4945680"/>
                        <a:ext cx="119520" cy="2638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57" name=""/>
                    <p:cNvGrpSpPr/>
                    <p:nvPr/>
                  </p:nvGrpSpPr>
                  <p:grpSpPr>
                    <a:xfrm>
                      <a:off x="2733480" y="4919040"/>
                      <a:ext cx="334800" cy="353520"/>
                      <a:chOff x="2733480" y="4919040"/>
                      <a:chExt cx="334800" cy="353520"/>
                    </a:xfrm>
                  </p:grpSpPr>
                  <p:sp>
                    <p:nvSpPr>
                      <p:cNvPr id="1158" name=""/>
                      <p:cNvSpPr/>
                      <p:nvPr/>
                    </p:nvSpPr>
                    <p:spPr>
                      <a:xfrm rot="1500000">
                        <a:off x="2777760" y="4958280"/>
                        <a:ext cx="245880" cy="2653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59" name=""/>
                      <p:cNvSpPr/>
                      <p:nvPr/>
                    </p:nvSpPr>
                    <p:spPr>
                      <a:xfrm rot="1500000">
                        <a:off x="2846520" y="4970880"/>
                        <a:ext cx="158040" cy="2815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2765160" y="4913640"/>
                  <a:ext cx="1071360" cy="470160"/>
                  <a:chOff x="2765160" y="4913640"/>
                  <a:chExt cx="1071360" cy="470160"/>
                </a:xfrm>
              </p:grpSpPr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3279240" y="4958280"/>
                    <a:ext cx="557280" cy="425520"/>
                    <a:chOff x="3279240" y="4958280"/>
                    <a:chExt cx="557280" cy="42552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3279240" y="4958280"/>
                      <a:ext cx="224640" cy="292320"/>
                      <a:chOff x="3279240" y="4958280"/>
                      <a:chExt cx="224640" cy="292320"/>
                    </a:xfrm>
                  </p:grpSpPr>
                  <p:sp>
                    <p:nvSpPr>
                      <p:cNvPr id="1163" name=""/>
                      <p:cNvSpPr/>
                      <p:nvPr/>
                    </p:nvSpPr>
                    <p:spPr>
                      <a:xfrm rot="480000">
                        <a:off x="3295800" y="4970160"/>
                        <a:ext cx="191160" cy="2530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4" name=""/>
                      <p:cNvSpPr/>
                      <p:nvPr/>
                    </p:nvSpPr>
                    <p:spPr>
                      <a:xfrm rot="480000">
                        <a:off x="3352320" y="4977000"/>
                        <a:ext cx="12276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5" name=""/>
                    <p:cNvGrpSpPr/>
                    <p:nvPr/>
                  </p:nvGrpSpPr>
                  <p:grpSpPr>
                    <a:xfrm>
                      <a:off x="3352680" y="4987800"/>
                      <a:ext cx="281880" cy="324720"/>
                      <a:chOff x="3352680" y="4987800"/>
                      <a:chExt cx="281880" cy="324720"/>
                    </a:xfrm>
                  </p:grpSpPr>
                  <p:sp>
                    <p:nvSpPr>
                      <p:cNvPr id="1166" name=""/>
                      <p:cNvSpPr/>
                      <p:nvPr/>
                    </p:nvSpPr>
                    <p:spPr>
                      <a:xfrm rot="960000">
                        <a:off x="3384360" y="5012640"/>
                        <a:ext cx="217800" cy="2631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 rot="960000">
                        <a:off x="3449160" y="5020920"/>
                        <a:ext cx="140400" cy="2772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68" name=""/>
                    <p:cNvGrpSpPr/>
                    <p:nvPr/>
                  </p:nvGrpSpPr>
                  <p:grpSpPr>
                    <a:xfrm>
                      <a:off x="3465720" y="5011560"/>
                      <a:ext cx="370800" cy="372240"/>
                      <a:chOff x="3465720" y="5011560"/>
                      <a:chExt cx="370800" cy="372240"/>
                    </a:xfrm>
                  </p:grpSpPr>
                  <p:sp>
                    <p:nvSpPr>
                      <p:cNvPr id="1169" name=""/>
                      <p:cNvSpPr/>
                      <p:nvPr/>
                    </p:nvSpPr>
                    <p:spPr>
                      <a:xfrm rot="2040000">
                        <a:off x="3517200" y="5063400"/>
                        <a:ext cx="26748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0" name=""/>
                      <p:cNvSpPr/>
                      <p:nvPr/>
                    </p:nvSpPr>
                    <p:spPr>
                      <a:xfrm rot="2040000">
                        <a:off x="3585960" y="5077080"/>
                        <a:ext cx="17208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2765160" y="4913640"/>
                    <a:ext cx="524160" cy="358920"/>
                    <a:chOff x="2765160" y="4913640"/>
                    <a:chExt cx="524160" cy="358920"/>
                  </a:xfrm>
                </p:grpSpPr>
                <p:grpSp>
                  <p:nvGrpSpPr>
                    <p:cNvPr id="1172" name=""/>
                    <p:cNvGrpSpPr/>
                    <p:nvPr/>
                  </p:nvGrpSpPr>
                  <p:grpSpPr>
                    <a:xfrm>
                      <a:off x="3122640" y="4913640"/>
                      <a:ext cx="166680" cy="256680"/>
                      <a:chOff x="3122640" y="4913640"/>
                      <a:chExt cx="166680" cy="256680"/>
                    </a:xfrm>
                  </p:grpSpPr>
                  <p:sp>
                    <p:nvSpPr>
                      <p:cNvPr id="1173" name=""/>
                      <p:cNvSpPr/>
                      <p:nvPr/>
                    </p:nvSpPr>
                    <p:spPr>
                      <a:xfrm flipH="1" rot="60000">
                        <a:off x="3124080" y="4914720"/>
                        <a:ext cx="162360" cy="2372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4" name=""/>
                      <p:cNvSpPr/>
                      <p:nvPr/>
                    </p:nvSpPr>
                    <p:spPr>
                      <a:xfrm flipH="1" rot="60000">
                        <a:off x="3130920" y="4917960"/>
                        <a:ext cx="104040" cy="2512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5" name=""/>
                    <p:cNvGrpSpPr/>
                    <p:nvPr/>
                  </p:nvGrpSpPr>
                  <p:grpSpPr>
                    <a:xfrm>
                      <a:off x="2989800" y="4930920"/>
                      <a:ext cx="214920" cy="285120"/>
                      <a:chOff x="2989800" y="4930920"/>
                      <a:chExt cx="214920" cy="285120"/>
                    </a:xfrm>
                  </p:grpSpPr>
                  <p:sp>
                    <p:nvSpPr>
                      <p:cNvPr id="1176" name=""/>
                      <p:cNvSpPr/>
                      <p:nvPr/>
                    </p:nvSpPr>
                    <p:spPr>
                      <a:xfrm flipH="1" rot="21180000">
                        <a:off x="3003480" y="4941000"/>
                        <a:ext cx="186120" cy="2487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77" name=""/>
                      <p:cNvSpPr/>
                      <p:nvPr/>
                    </p:nvSpPr>
                    <p:spPr>
                      <a:xfrm flipH="1" rot="21180000">
                        <a:off x="3013920" y="4945680"/>
                        <a:ext cx="120240" cy="2638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178" name=""/>
                    <p:cNvGrpSpPr/>
                    <p:nvPr/>
                  </p:nvGrpSpPr>
                  <p:grpSpPr>
                    <a:xfrm>
                      <a:off x="2765160" y="4919400"/>
                      <a:ext cx="334440" cy="353160"/>
                      <a:chOff x="2765160" y="4919400"/>
                      <a:chExt cx="334440" cy="353160"/>
                    </a:xfrm>
                  </p:grpSpPr>
                  <p:sp>
                    <p:nvSpPr>
                      <p:cNvPr id="1179" name=""/>
                      <p:cNvSpPr/>
                      <p:nvPr/>
                    </p:nvSpPr>
                    <p:spPr>
                      <a:xfrm flipH="1" rot="20100000">
                        <a:off x="2809440" y="4958640"/>
                        <a:ext cx="245160" cy="2653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180" name=""/>
                      <p:cNvSpPr/>
                      <p:nvPr/>
                    </p:nvSpPr>
                    <p:spPr>
                      <a:xfrm flipH="1" rot="20100000">
                        <a:off x="2828520" y="4970880"/>
                        <a:ext cx="158040" cy="2815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81" name=""/>
              <p:cNvGrpSpPr/>
              <p:nvPr/>
            </p:nvGrpSpPr>
            <p:grpSpPr>
              <a:xfrm>
                <a:off x="3581280" y="5003640"/>
                <a:ext cx="684360" cy="220680"/>
                <a:chOff x="3581280" y="5003640"/>
                <a:chExt cx="684360" cy="2206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581280" y="5003640"/>
                  <a:ext cx="322560" cy="220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932280" y="5005440"/>
                  <a:ext cx="333360" cy="1872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6832440" y="5448240"/>
                <a:ext cx="163800" cy="81000"/>
                <a:chOff x="6832440" y="5448240"/>
                <a:chExt cx="163800" cy="8100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6832440" y="5448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916680" y="54482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7607160" y="5308560"/>
                <a:ext cx="163800" cy="81000"/>
                <a:chOff x="7607160" y="5308560"/>
                <a:chExt cx="163800" cy="810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607160" y="53085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691400" y="53085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8267760" y="5232240"/>
                <a:ext cx="163440" cy="81000"/>
                <a:chOff x="8267760" y="5232240"/>
                <a:chExt cx="163440" cy="8100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8267760" y="5232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352000" y="52322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1957320" y="5342040"/>
                <a:ext cx="684360" cy="220680"/>
                <a:chOff x="1957320" y="5342040"/>
                <a:chExt cx="684360" cy="22068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957320" y="5342040"/>
                  <a:ext cx="322200" cy="220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8320" y="5343480"/>
                  <a:ext cx="333360" cy="1872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807160" y="5751720"/>
                <a:ext cx="1841040" cy="470520"/>
                <a:chOff x="5807160" y="5751720"/>
                <a:chExt cx="1841040" cy="47052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5807160" y="5751720"/>
                  <a:ext cx="1072440" cy="469800"/>
                  <a:chOff x="5807160" y="5751720"/>
                  <a:chExt cx="1072440" cy="469800"/>
                </a:xfrm>
              </p:grpSpPr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5807160" y="5796000"/>
                    <a:ext cx="558720" cy="425520"/>
                    <a:chOff x="5807160" y="5796000"/>
                    <a:chExt cx="558720" cy="425520"/>
                  </a:xfrm>
                </p:grpSpPr>
                <p:grpSp>
                  <p:nvGrpSpPr>
                    <p:cNvPr id="1199" name=""/>
                    <p:cNvGrpSpPr/>
                    <p:nvPr/>
                  </p:nvGrpSpPr>
                  <p:grpSpPr>
                    <a:xfrm>
                      <a:off x="6140880" y="5796000"/>
                      <a:ext cx="225000" cy="294480"/>
                      <a:chOff x="6140880" y="5796000"/>
                      <a:chExt cx="225000" cy="294480"/>
                    </a:xfrm>
                  </p:grpSpPr>
                  <p:sp>
                    <p:nvSpPr>
                      <p:cNvPr id="1200" name=""/>
                      <p:cNvSpPr/>
                      <p:nvPr/>
                    </p:nvSpPr>
                    <p:spPr>
                      <a:xfrm flipH="1" rot="21120000">
                        <a:off x="6156720" y="5807880"/>
                        <a:ext cx="191880" cy="2530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1" name=""/>
                      <p:cNvSpPr/>
                      <p:nvPr/>
                    </p:nvSpPr>
                    <p:spPr>
                      <a:xfrm flipH="1" rot="21120000">
                        <a:off x="6167880" y="5814720"/>
                        <a:ext cx="123840" cy="2682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2" name=""/>
                    <p:cNvGrpSpPr/>
                    <p:nvPr/>
                  </p:nvGrpSpPr>
                  <p:grpSpPr>
                    <a:xfrm>
                      <a:off x="6009480" y="5825520"/>
                      <a:ext cx="282960" cy="325080"/>
                      <a:chOff x="6009480" y="5825520"/>
                      <a:chExt cx="282960" cy="325080"/>
                    </a:xfrm>
                  </p:grpSpPr>
                  <p:sp>
                    <p:nvSpPr>
                      <p:cNvPr id="1203" name=""/>
                      <p:cNvSpPr/>
                      <p:nvPr/>
                    </p:nvSpPr>
                    <p:spPr>
                      <a:xfrm flipH="1" rot="20640000">
                        <a:off x="6041520" y="5850360"/>
                        <a:ext cx="218880" cy="2624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4" name=""/>
                      <p:cNvSpPr/>
                      <p:nvPr/>
                    </p:nvSpPr>
                    <p:spPr>
                      <a:xfrm flipH="1" rot="20640000">
                        <a:off x="6057000" y="5859360"/>
                        <a:ext cx="140760" cy="2772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05" name=""/>
                    <p:cNvGrpSpPr/>
                    <p:nvPr/>
                  </p:nvGrpSpPr>
                  <p:grpSpPr>
                    <a:xfrm>
                      <a:off x="5807160" y="5849640"/>
                      <a:ext cx="369720" cy="371880"/>
                      <a:chOff x="5807160" y="5849640"/>
                      <a:chExt cx="369720" cy="371880"/>
                    </a:xfrm>
                  </p:grpSpPr>
                  <p:sp>
                    <p:nvSpPr>
                      <p:cNvPr id="1206" name=""/>
                      <p:cNvSpPr/>
                      <p:nvPr/>
                    </p:nvSpPr>
                    <p:spPr>
                      <a:xfrm flipH="1" rot="19560000">
                        <a:off x="5858280" y="5901120"/>
                        <a:ext cx="266400" cy="2660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07" name=""/>
                      <p:cNvSpPr/>
                      <p:nvPr/>
                    </p:nvSpPr>
                    <p:spPr>
                      <a:xfrm flipH="1" rot="19560000">
                        <a:off x="5887800" y="5915520"/>
                        <a:ext cx="170640" cy="2822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6354360" y="5751720"/>
                    <a:ext cx="525240" cy="359280"/>
                    <a:chOff x="6354360" y="5751720"/>
                    <a:chExt cx="525240" cy="359280"/>
                  </a:xfrm>
                </p:grpSpPr>
                <p:grpSp>
                  <p:nvGrpSpPr>
                    <p:cNvPr id="1209" name=""/>
                    <p:cNvGrpSpPr/>
                    <p:nvPr/>
                  </p:nvGrpSpPr>
                  <p:grpSpPr>
                    <a:xfrm>
                      <a:off x="6354360" y="5751720"/>
                      <a:ext cx="167040" cy="258120"/>
                      <a:chOff x="6354360" y="5751720"/>
                      <a:chExt cx="167040" cy="258120"/>
                    </a:xfrm>
                  </p:grpSpPr>
                  <p:sp>
                    <p:nvSpPr>
                      <p:cNvPr id="1210" name=""/>
                      <p:cNvSpPr/>
                      <p:nvPr/>
                    </p:nvSpPr>
                    <p:spPr>
                      <a:xfrm rot="21540000">
                        <a:off x="6356160" y="5752800"/>
                        <a:ext cx="163080" cy="2379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 rot="21540000">
                        <a:off x="6408000" y="5756040"/>
                        <a:ext cx="10512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2" name=""/>
                    <p:cNvGrpSpPr/>
                    <p:nvPr/>
                  </p:nvGrpSpPr>
                  <p:grpSpPr>
                    <a:xfrm>
                      <a:off x="6440040" y="5769360"/>
                      <a:ext cx="214560" cy="286560"/>
                      <a:chOff x="6440040" y="5769360"/>
                      <a:chExt cx="214560" cy="286560"/>
                    </a:xfrm>
                  </p:grpSpPr>
                  <p:sp>
                    <p:nvSpPr>
                      <p:cNvPr id="1213" name=""/>
                      <p:cNvSpPr/>
                      <p:nvPr/>
                    </p:nvSpPr>
                    <p:spPr>
                      <a:xfrm rot="420000">
                        <a:off x="6454440" y="5779440"/>
                        <a:ext cx="185400" cy="2512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4" name=""/>
                      <p:cNvSpPr/>
                      <p:nvPr/>
                    </p:nvSpPr>
                    <p:spPr>
                      <a:xfrm rot="420000">
                        <a:off x="6510960" y="5784480"/>
                        <a:ext cx="119520" cy="2649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15" name=""/>
                    <p:cNvGrpSpPr/>
                    <p:nvPr/>
                  </p:nvGrpSpPr>
                  <p:grpSpPr>
                    <a:xfrm>
                      <a:off x="6545160" y="5756040"/>
                      <a:ext cx="334440" cy="354960"/>
                      <a:chOff x="6545160" y="5756040"/>
                      <a:chExt cx="334440" cy="354960"/>
                    </a:xfrm>
                  </p:grpSpPr>
                  <p:sp>
                    <p:nvSpPr>
                      <p:cNvPr id="1216" name=""/>
                      <p:cNvSpPr/>
                      <p:nvPr/>
                    </p:nvSpPr>
                    <p:spPr>
                      <a:xfrm rot="1500000">
                        <a:off x="6589440" y="5795280"/>
                        <a:ext cx="245520" cy="2653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 rot="1500000">
                        <a:off x="6657480" y="5809320"/>
                        <a:ext cx="157320" cy="2811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6576480" y="5751720"/>
                  <a:ext cx="1071720" cy="470520"/>
                  <a:chOff x="6576480" y="5751720"/>
                  <a:chExt cx="1071720" cy="470520"/>
                </a:xfrm>
              </p:grpSpPr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7091280" y="5796360"/>
                    <a:ext cx="556920" cy="425880"/>
                    <a:chOff x="7091280" y="5796360"/>
                    <a:chExt cx="556920" cy="425880"/>
                  </a:xfrm>
                </p:grpSpPr>
                <p:grpSp>
                  <p:nvGrpSpPr>
                    <p:cNvPr id="1220" name=""/>
                    <p:cNvGrpSpPr/>
                    <p:nvPr/>
                  </p:nvGrpSpPr>
                  <p:grpSpPr>
                    <a:xfrm>
                      <a:off x="7091280" y="5796360"/>
                      <a:ext cx="224280" cy="292320"/>
                      <a:chOff x="7091280" y="5796360"/>
                      <a:chExt cx="224280" cy="292320"/>
                    </a:xfrm>
                  </p:grpSpPr>
                  <p:sp>
                    <p:nvSpPr>
                      <p:cNvPr id="1221" name=""/>
                      <p:cNvSpPr/>
                      <p:nvPr/>
                    </p:nvSpPr>
                    <p:spPr>
                      <a:xfrm rot="480000">
                        <a:off x="7107840" y="5808240"/>
                        <a:ext cx="190800" cy="2530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2" name=""/>
                      <p:cNvSpPr/>
                      <p:nvPr/>
                    </p:nvSpPr>
                    <p:spPr>
                      <a:xfrm rot="480000">
                        <a:off x="7164720" y="5814720"/>
                        <a:ext cx="122400" cy="2667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3" name=""/>
                    <p:cNvGrpSpPr/>
                    <p:nvPr/>
                  </p:nvGrpSpPr>
                  <p:grpSpPr>
                    <a:xfrm>
                      <a:off x="7164720" y="5825880"/>
                      <a:ext cx="281880" cy="324360"/>
                      <a:chOff x="7164720" y="5825880"/>
                      <a:chExt cx="281880" cy="324360"/>
                    </a:xfrm>
                  </p:grpSpPr>
                  <p:sp>
                    <p:nvSpPr>
                      <p:cNvPr id="1224" name=""/>
                      <p:cNvSpPr/>
                      <p:nvPr/>
                    </p:nvSpPr>
                    <p:spPr>
                      <a:xfrm rot="960000">
                        <a:off x="7196400" y="5850720"/>
                        <a:ext cx="217800" cy="262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5" name=""/>
                      <p:cNvSpPr/>
                      <p:nvPr/>
                    </p:nvSpPr>
                    <p:spPr>
                      <a:xfrm rot="960000">
                        <a:off x="7261560" y="5859000"/>
                        <a:ext cx="139680" cy="2772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26" name=""/>
                    <p:cNvGrpSpPr/>
                    <p:nvPr/>
                  </p:nvGrpSpPr>
                  <p:grpSpPr>
                    <a:xfrm>
                      <a:off x="7277760" y="5849640"/>
                      <a:ext cx="370440" cy="372600"/>
                      <a:chOff x="7277760" y="5849640"/>
                      <a:chExt cx="370440" cy="372600"/>
                    </a:xfrm>
                  </p:grpSpPr>
                  <p:sp>
                    <p:nvSpPr>
                      <p:cNvPr id="1227" name=""/>
                      <p:cNvSpPr/>
                      <p:nvPr/>
                    </p:nvSpPr>
                    <p:spPr>
                      <a:xfrm rot="2040000">
                        <a:off x="7329240" y="5901480"/>
                        <a:ext cx="2671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28" name=""/>
                      <p:cNvSpPr/>
                      <p:nvPr/>
                    </p:nvSpPr>
                    <p:spPr>
                      <a:xfrm rot="2040000">
                        <a:off x="7398360" y="5915880"/>
                        <a:ext cx="171720" cy="2822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6576480" y="5751720"/>
                    <a:ext cx="524880" cy="358920"/>
                    <a:chOff x="6576480" y="5751720"/>
                    <a:chExt cx="524880" cy="358920"/>
                  </a:xfrm>
                </p:grpSpPr>
                <p:grpSp>
                  <p:nvGrpSpPr>
                    <p:cNvPr id="1230" name=""/>
                    <p:cNvGrpSpPr/>
                    <p:nvPr/>
                  </p:nvGrpSpPr>
                  <p:grpSpPr>
                    <a:xfrm>
                      <a:off x="6933960" y="5751720"/>
                      <a:ext cx="167400" cy="258120"/>
                      <a:chOff x="6933960" y="5751720"/>
                      <a:chExt cx="167400" cy="258120"/>
                    </a:xfrm>
                  </p:grpSpPr>
                  <p:sp>
                    <p:nvSpPr>
                      <p:cNvPr id="1231" name=""/>
                      <p:cNvSpPr/>
                      <p:nvPr/>
                    </p:nvSpPr>
                    <p:spPr>
                      <a:xfrm flipH="1" rot="60000">
                        <a:off x="6935400" y="5752800"/>
                        <a:ext cx="163080" cy="2379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 flipH="1" rot="60000">
                        <a:off x="6941880" y="5756040"/>
                        <a:ext cx="10476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3" name=""/>
                    <p:cNvGrpSpPr/>
                    <p:nvPr/>
                  </p:nvGrpSpPr>
                  <p:grpSpPr>
                    <a:xfrm>
                      <a:off x="6801480" y="5769360"/>
                      <a:ext cx="215640" cy="286200"/>
                      <a:chOff x="6801480" y="5769360"/>
                      <a:chExt cx="215640" cy="286200"/>
                    </a:xfrm>
                  </p:grpSpPr>
                  <p:sp>
                    <p:nvSpPr>
                      <p:cNvPr id="1234" name=""/>
                      <p:cNvSpPr/>
                      <p:nvPr/>
                    </p:nvSpPr>
                    <p:spPr>
                      <a:xfrm flipH="1" rot="21180000">
                        <a:off x="6815160" y="5779440"/>
                        <a:ext cx="186840" cy="249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 flipH="1" rot="21180000">
                        <a:off x="6824160" y="5784120"/>
                        <a:ext cx="120960" cy="2649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6576480" y="5756400"/>
                      <a:ext cx="334080" cy="354240"/>
                      <a:chOff x="6576480" y="5756400"/>
                      <a:chExt cx="334080" cy="354240"/>
                    </a:xfrm>
                  </p:grpSpPr>
                  <p:sp>
                    <p:nvSpPr>
                      <p:cNvPr id="1237" name=""/>
                      <p:cNvSpPr/>
                      <p:nvPr/>
                    </p:nvSpPr>
                    <p:spPr>
                      <a:xfrm flipH="1" rot="20100000">
                        <a:off x="6621120" y="5795640"/>
                        <a:ext cx="244800" cy="2653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 flipH="1" rot="20100000">
                        <a:off x="6639840" y="5809320"/>
                        <a:ext cx="156960" cy="2811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4940280" y="5562720"/>
                <a:ext cx="684360" cy="220680"/>
                <a:chOff x="4940280" y="5562720"/>
                <a:chExt cx="684360" cy="22068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4940280" y="5562720"/>
                  <a:ext cx="322200" cy="220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5291280" y="5564160"/>
                  <a:ext cx="333360" cy="1872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116240" y="5570640"/>
                <a:ext cx="187560" cy="82440"/>
                <a:chOff x="4116240" y="5570640"/>
                <a:chExt cx="187560" cy="824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116240" y="5570640"/>
                  <a:ext cx="87480" cy="824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213080" y="5570640"/>
                  <a:ext cx="9072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3887640" y="5621400"/>
                <a:ext cx="187560" cy="82440"/>
                <a:chOff x="3887640" y="5621400"/>
                <a:chExt cx="187560" cy="8244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3887640" y="5621400"/>
                  <a:ext cx="87480" cy="824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984480" y="5621400"/>
                  <a:ext cx="9072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2986200" y="5621400"/>
                <a:ext cx="163440" cy="81000"/>
                <a:chOff x="2986200" y="5621400"/>
                <a:chExt cx="163440" cy="8100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2986200" y="562140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070080" y="562140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2986200" y="5519880"/>
                <a:ext cx="163440" cy="81000"/>
                <a:chOff x="2986200" y="5519880"/>
                <a:chExt cx="163440" cy="810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2986200" y="551988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070080" y="551988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3062160" y="5456160"/>
                <a:ext cx="163800" cy="81000"/>
                <a:chOff x="3062160" y="5456160"/>
                <a:chExt cx="163800" cy="8100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3062160" y="5456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146400" y="54561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3862440" y="5456160"/>
                <a:ext cx="187200" cy="82800"/>
                <a:chOff x="3862440" y="5456160"/>
                <a:chExt cx="187200" cy="8280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3862440" y="5456160"/>
                  <a:ext cx="87120" cy="82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959280" y="545616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3938760" y="5418000"/>
                <a:ext cx="187200" cy="82800"/>
                <a:chOff x="3938760" y="5418000"/>
                <a:chExt cx="187200" cy="8280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3938760" y="5418000"/>
                  <a:ext cx="87120" cy="828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035600" y="541800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4141800" y="5342040"/>
                <a:ext cx="187200" cy="82440"/>
                <a:chOff x="4141800" y="5342040"/>
                <a:chExt cx="187200" cy="8244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4141800" y="5342040"/>
                  <a:ext cx="87480" cy="824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238640" y="5342040"/>
                  <a:ext cx="90360" cy="698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9182160" y="5321160"/>
                <a:ext cx="163440" cy="81000"/>
                <a:chOff x="9182160" y="5321160"/>
                <a:chExt cx="163440" cy="810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9182160" y="53211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9266400" y="53211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8953560" y="5372280"/>
                <a:ext cx="163440" cy="80640"/>
                <a:chOff x="8953560" y="5372280"/>
                <a:chExt cx="163440" cy="806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8953560" y="5372280"/>
                  <a:ext cx="76320" cy="806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9037800" y="53722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8788320" y="5397480"/>
                <a:ext cx="163440" cy="81000"/>
                <a:chOff x="8788320" y="5397480"/>
                <a:chExt cx="163440" cy="8100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8788320" y="53974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872560" y="53974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8788320" y="5295960"/>
                <a:ext cx="163440" cy="81000"/>
                <a:chOff x="8788320" y="5295960"/>
                <a:chExt cx="163440" cy="81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8788320" y="52959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872560" y="529596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8864640" y="5232240"/>
                <a:ext cx="163440" cy="81000"/>
                <a:chOff x="8864640" y="5232240"/>
                <a:chExt cx="163440" cy="8100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8864640" y="5232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948880" y="52322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8928000" y="5207040"/>
                <a:ext cx="163440" cy="81000"/>
                <a:chOff x="8928000" y="5207040"/>
                <a:chExt cx="163440" cy="8100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8928000" y="52070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012240" y="52070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9004320" y="5168880"/>
                <a:ext cx="163440" cy="81000"/>
                <a:chOff x="9004320" y="5168880"/>
                <a:chExt cx="163440" cy="810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9004320" y="51688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9088560" y="51688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9207360" y="5092560"/>
                <a:ext cx="163800" cy="81000"/>
                <a:chOff x="9207360" y="5092560"/>
                <a:chExt cx="163800" cy="810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9207360" y="50925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9291600" y="509256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812880" y="5346720"/>
                <a:ext cx="163440" cy="81000"/>
                <a:chOff x="812880" y="5346720"/>
                <a:chExt cx="163440" cy="810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812880" y="534672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96760" y="534672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584280" y="5397480"/>
                <a:ext cx="163440" cy="81000"/>
                <a:chOff x="584280" y="5397480"/>
                <a:chExt cx="163440" cy="8100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584280" y="5397480"/>
                  <a:ext cx="7596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668160" y="539748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558720" y="5232240"/>
                <a:ext cx="163440" cy="81000"/>
                <a:chOff x="558720" y="5232240"/>
                <a:chExt cx="163440" cy="8100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558720" y="52322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42960" y="523224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635040" y="5194440"/>
                <a:ext cx="163440" cy="81000"/>
                <a:chOff x="635040" y="5194440"/>
                <a:chExt cx="163440" cy="8100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635040" y="51944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19280" y="519444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838080" y="5118120"/>
                <a:ext cx="163800" cy="81000"/>
                <a:chOff x="838080" y="5118120"/>
                <a:chExt cx="163800" cy="8100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838080" y="51181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922320" y="511812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1778040" y="5334120"/>
                <a:ext cx="163440" cy="81000"/>
                <a:chOff x="1778040" y="5334120"/>
                <a:chExt cx="163440" cy="8100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778040" y="53341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862280" y="533412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1549440" y="5384880"/>
                <a:ext cx="163440" cy="81000"/>
                <a:chOff x="1549440" y="5384880"/>
                <a:chExt cx="163440" cy="810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549440" y="53848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633680" y="538488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384200" y="5410080"/>
                <a:ext cx="163440" cy="81000"/>
                <a:chOff x="1384200" y="5410080"/>
                <a:chExt cx="163440" cy="8100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1384200" y="54100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468440" y="54100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1384200" y="5308560"/>
                <a:ext cx="163440" cy="81000"/>
                <a:chOff x="1384200" y="5308560"/>
                <a:chExt cx="163440" cy="8100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1384200" y="530856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468440" y="530856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1460520" y="5245200"/>
                <a:ext cx="163440" cy="81000"/>
                <a:chOff x="1460520" y="5245200"/>
                <a:chExt cx="163440" cy="8100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1460520" y="524520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544760" y="5245200"/>
                  <a:ext cx="7920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1523880" y="5219640"/>
                <a:ext cx="163800" cy="81000"/>
                <a:chOff x="1523880" y="5219640"/>
                <a:chExt cx="163800" cy="8100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1523880" y="521964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1608120" y="5219640"/>
                  <a:ext cx="7956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600200" y="5181480"/>
                <a:ext cx="163440" cy="81000"/>
                <a:chOff x="1600200" y="5181480"/>
                <a:chExt cx="163440" cy="8100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1600200" y="518148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684440" y="5181480"/>
                  <a:ext cx="79200" cy="684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1803240" y="5105520"/>
                <a:ext cx="163800" cy="81000"/>
                <a:chOff x="1803240" y="5105520"/>
                <a:chExt cx="163800" cy="8100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1803240" y="5105520"/>
                  <a:ext cx="76320" cy="810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1887480" y="5105520"/>
                  <a:ext cx="79560" cy="6804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1714680" y="5143680"/>
                <a:ext cx="684000" cy="220320"/>
                <a:chOff x="1714680" y="5143680"/>
                <a:chExt cx="684000" cy="22032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1714680" y="5143680"/>
                  <a:ext cx="322200" cy="220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065320" y="5145120"/>
                  <a:ext cx="333360" cy="18720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2302200" y="5675400"/>
                <a:ext cx="1840680" cy="470520"/>
                <a:chOff x="2302200" y="5675400"/>
                <a:chExt cx="1840680" cy="470520"/>
              </a:xfrm>
            </p:grpSpPr>
            <p:grpSp>
              <p:nvGrpSpPr>
                <p:cNvPr id="1333" name=""/>
                <p:cNvGrpSpPr/>
                <p:nvPr/>
              </p:nvGrpSpPr>
              <p:grpSpPr>
                <a:xfrm>
                  <a:off x="2302200" y="5675400"/>
                  <a:ext cx="1072800" cy="470520"/>
                  <a:chOff x="2302200" y="5675400"/>
                  <a:chExt cx="1072800" cy="470520"/>
                </a:xfrm>
              </p:grpSpPr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2302200" y="5718600"/>
                    <a:ext cx="558000" cy="427320"/>
                    <a:chOff x="2302200" y="5718600"/>
                    <a:chExt cx="558000" cy="427320"/>
                  </a:xfrm>
                </p:grpSpPr>
                <p:grpSp>
                  <p:nvGrpSpPr>
                    <p:cNvPr id="1335" name=""/>
                    <p:cNvGrpSpPr/>
                    <p:nvPr/>
                  </p:nvGrpSpPr>
                  <p:grpSpPr>
                    <a:xfrm>
                      <a:off x="2635560" y="5718600"/>
                      <a:ext cx="224640" cy="293760"/>
                      <a:chOff x="2635560" y="5718600"/>
                      <a:chExt cx="224640" cy="293760"/>
                    </a:xfrm>
                  </p:grpSpPr>
                  <p:sp>
                    <p:nvSpPr>
                      <p:cNvPr id="1336" name=""/>
                      <p:cNvSpPr/>
                      <p:nvPr/>
                    </p:nvSpPr>
                    <p:spPr>
                      <a:xfrm flipH="1" rot="21120000">
                        <a:off x="2651760" y="5730480"/>
                        <a:ext cx="19152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 flipH="1" rot="21120000">
                        <a:off x="2663640" y="5736960"/>
                        <a:ext cx="122760" cy="267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2504880" y="5750280"/>
                      <a:ext cx="282240" cy="324360"/>
                      <a:chOff x="2504880" y="5750280"/>
                      <a:chExt cx="282240" cy="324360"/>
                    </a:xfrm>
                  </p:grpSpPr>
                  <p:sp>
                    <p:nvSpPr>
                      <p:cNvPr id="1339" name=""/>
                      <p:cNvSpPr/>
                      <p:nvPr/>
                    </p:nvSpPr>
                    <p:spPr>
                      <a:xfrm flipH="1" rot="20640000">
                        <a:off x="2536560" y="5775120"/>
                        <a:ext cx="218160" cy="262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 flipH="1" rot="20640000">
                        <a:off x="2550960" y="5783760"/>
                        <a:ext cx="140760" cy="276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1" name=""/>
                    <p:cNvGrpSpPr/>
                    <p:nvPr/>
                  </p:nvGrpSpPr>
                  <p:grpSpPr>
                    <a:xfrm>
                      <a:off x="2302200" y="5774040"/>
                      <a:ext cx="369720" cy="371880"/>
                      <a:chOff x="2302200" y="5774040"/>
                      <a:chExt cx="369720" cy="371880"/>
                    </a:xfrm>
                  </p:grpSpPr>
                  <p:sp>
                    <p:nvSpPr>
                      <p:cNvPr id="1342" name=""/>
                      <p:cNvSpPr/>
                      <p:nvPr/>
                    </p:nvSpPr>
                    <p:spPr>
                      <a:xfrm flipH="1" rot="19560000">
                        <a:off x="2353320" y="5825520"/>
                        <a:ext cx="266040" cy="2667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 flipH="1" rot="19560000">
                        <a:off x="2382120" y="5839560"/>
                        <a:ext cx="17136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2849040" y="5675400"/>
                    <a:ext cx="525960" cy="361080"/>
                    <a:chOff x="2849040" y="5675400"/>
                    <a:chExt cx="525960" cy="361080"/>
                  </a:xfrm>
                </p:grpSpPr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2849040" y="5675400"/>
                      <a:ext cx="167400" cy="259560"/>
                      <a:chOff x="2849040" y="5675400"/>
                      <a:chExt cx="167400" cy="259560"/>
                    </a:xfrm>
                  </p:grpSpPr>
                  <p:sp>
                    <p:nvSpPr>
                      <p:cNvPr id="1346" name=""/>
                      <p:cNvSpPr/>
                      <p:nvPr/>
                    </p:nvSpPr>
                    <p:spPr>
                      <a:xfrm rot="21540000">
                        <a:off x="2850840" y="5676480"/>
                        <a:ext cx="163080" cy="239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 rot="21540000">
                        <a:off x="2902680" y="5680080"/>
                        <a:ext cx="105120" cy="253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48" name=""/>
                    <p:cNvGrpSpPr/>
                    <p:nvPr/>
                  </p:nvGrpSpPr>
                  <p:grpSpPr>
                    <a:xfrm>
                      <a:off x="2934720" y="5693400"/>
                      <a:ext cx="214920" cy="288000"/>
                      <a:chOff x="2934720" y="5693400"/>
                      <a:chExt cx="214920" cy="288000"/>
                    </a:xfrm>
                  </p:grpSpPr>
                  <p:sp>
                    <p:nvSpPr>
                      <p:cNvPr id="1349" name=""/>
                      <p:cNvSpPr/>
                      <p:nvPr/>
                    </p:nvSpPr>
                    <p:spPr>
                      <a:xfrm rot="420000">
                        <a:off x="2949480" y="5703480"/>
                        <a:ext cx="18540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0" name=""/>
                      <p:cNvSpPr/>
                      <p:nvPr/>
                    </p:nvSpPr>
                    <p:spPr>
                      <a:xfrm rot="420000">
                        <a:off x="3004200" y="5708520"/>
                        <a:ext cx="1195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1" name=""/>
                    <p:cNvGrpSpPr/>
                    <p:nvPr/>
                  </p:nvGrpSpPr>
                  <p:grpSpPr>
                    <a:xfrm>
                      <a:off x="3039480" y="5680440"/>
                      <a:ext cx="335520" cy="356040"/>
                      <a:chOff x="3039480" y="5680440"/>
                      <a:chExt cx="335520" cy="356040"/>
                    </a:xfrm>
                  </p:grpSpPr>
                  <p:sp>
                    <p:nvSpPr>
                      <p:cNvPr id="1352" name=""/>
                      <p:cNvSpPr/>
                      <p:nvPr/>
                    </p:nvSpPr>
                    <p:spPr>
                      <a:xfrm rot="1500000">
                        <a:off x="3084120" y="5719680"/>
                        <a:ext cx="24588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 rot="1500000">
                        <a:off x="3151800" y="5733720"/>
                        <a:ext cx="15840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3071160" y="5675400"/>
                  <a:ext cx="1071720" cy="470520"/>
                  <a:chOff x="3071160" y="5675400"/>
                  <a:chExt cx="1071720" cy="470520"/>
                </a:xfrm>
              </p:grpSpPr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3585600" y="5718960"/>
                    <a:ext cx="557280" cy="426960"/>
                    <a:chOff x="3585600" y="5718960"/>
                    <a:chExt cx="557280" cy="426960"/>
                  </a:xfrm>
                </p:grpSpPr>
                <p:grpSp>
                  <p:nvGrpSpPr>
                    <p:cNvPr id="1356" name=""/>
                    <p:cNvGrpSpPr/>
                    <p:nvPr/>
                  </p:nvGrpSpPr>
                  <p:grpSpPr>
                    <a:xfrm>
                      <a:off x="3585600" y="5718960"/>
                      <a:ext cx="224640" cy="291960"/>
                      <a:chOff x="3585600" y="5718960"/>
                      <a:chExt cx="224640" cy="291960"/>
                    </a:xfrm>
                  </p:grpSpPr>
                  <p:sp>
                    <p:nvSpPr>
                      <p:cNvPr id="1357" name=""/>
                      <p:cNvSpPr/>
                      <p:nvPr/>
                    </p:nvSpPr>
                    <p:spPr>
                      <a:xfrm rot="480000">
                        <a:off x="3602160" y="5730840"/>
                        <a:ext cx="19116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58" name=""/>
                      <p:cNvSpPr/>
                      <p:nvPr/>
                    </p:nvSpPr>
                    <p:spPr>
                      <a:xfrm rot="480000">
                        <a:off x="3658680" y="5737320"/>
                        <a:ext cx="1231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59" name=""/>
                    <p:cNvGrpSpPr/>
                    <p:nvPr/>
                  </p:nvGrpSpPr>
                  <p:grpSpPr>
                    <a:xfrm>
                      <a:off x="3659040" y="5750280"/>
                      <a:ext cx="282240" cy="324360"/>
                      <a:chOff x="3659040" y="5750280"/>
                      <a:chExt cx="282240" cy="324360"/>
                    </a:xfrm>
                  </p:grpSpPr>
                  <p:sp>
                    <p:nvSpPr>
                      <p:cNvPr id="1360" name=""/>
                      <p:cNvSpPr/>
                      <p:nvPr/>
                    </p:nvSpPr>
                    <p:spPr>
                      <a:xfrm rot="960000">
                        <a:off x="3690720" y="5775120"/>
                        <a:ext cx="218160" cy="262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1" name=""/>
                      <p:cNvSpPr/>
                      <p:nvPr/>
                    </p:nvSpPr>
                    <p:spPr>
                      <a:xfrm rot="960000">
                        <a:off x="3755160" y="5783400"/>
                        <a:ext cx="140760" cy="276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2" name=""/>
                    <p:cNvGrpSpPr/>
                    <p:nvPr/>
                  </p:nvGrpSpPr>
                  <p:grpSpPr>
                    <a:xfrm>
                      <a:off x="3772080" y="5773680"/>
                      <a:ext cx="370800" cy="372240"/>
                      <a:chOff x="3772080" y="5773680"/>
                      <a:chExt cx="370800" cy="372240"/>
                    </a:xfrm>
                  </p:grpSpPr>
                  <p:sp>
                    <p:nvSpPr>
                      <p:cNvPr id="1363" name=""/>
                      <p:cNvSpPr/>
                      <p:nvPr/>
                    </p:nvSpPr>
                    <p:spPr>
                      <a:xfrm rot="2040000">
                        <a:off x="3823560" y="5825520"/>
                        <a:ext cx="26748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 rot="2040000">
                        <a:off x="3892320" y="5839200"/>
                        <a:ext cx="17208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3071160" y="5675400"/>
                    <a:ext cx="524520" cy="361080"/>
                    <a:chOff x="3071160" y="5675400"/>
                    <a:chExt cx="524520" cy="36108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3429000" y="5675400"/>
                      <a:ext cx="166680" cy="259560"/>
                      <a:chOff x="3429000" y="5675400"/>
                      <a:chExt cx="166680" cy="25956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 flipH="1" rot="60000">
                        <a:off x="3430440" y="5676480"/>
                        <a:ext cx="162360" cy="239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 flipH="1" rot="60000">
                        <a:off x="3438000" y="5680080"/>
                        <a:ext cx="104400" cy="253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69" name=""/>
                    <p:cNvGrpSpPr/>
                    <p:nvPr/>
                  </p:nvGrpSpPr>
                  <p:grpSpPr>
                    <a:xfrm>
                      <a:off x="3296160" y="5693400"/>
                      <a:ext cx="215280" cy="288000"/>
                      <a:chOff x="3296160" y="5693400"/>
                      <a:chExt cx="215280" cy="288000"/>
                    </a:xfrm>
                  </p:grpSpPr>
                  <p:sp>
                    <p:nvSpPr>
                      <p:cNvPr id="1370" name=""/>
                      <p:cNvSpPr/>
                      <p:nvPr/>
                    </p:nvSpPr>
                    <p:spPr>
                      <a:xfrm flipH="1" rot="21180000">
                        <a:off x="3310560" y="5703480"/>
                        <a:ext cx="186120" cy="2512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 flipH="1" rot="21180000">
                        <a:off x="3319560" y="5708520"/>
                        <a:ext cx="12024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72" name=""/>
                    <p:cNvGrpSpPr/>
                    <p:nvPr/>
                  </p:nvGrpSpPr>
                  <p:grpSpPr>
                    <a:xfrm>
                      <a:off x="3071160" y="5680440"/>
                      <a:ext cx="334800" cy="356040"/>
                      <a:chOff x="3071160" y="5680440"/>
                      <a:chExt cx="334800" cy="356040"/>
                    </a:xfrm>
                  </p:grpSpPr>
                  <p:sp>
                    <p:nvSpPr>
                      <p:cNvPr id="1373" name=""/>
                      <p:cNvSpPr/>
                      <p:nvPr/>
                    </p:nvSpPr>
                    <p:spPr>
                      <a:xfrm flipH="1" rot="20100000">
                        <a:off x="3115800" y="5719680"/>
                        <a:ext cx="24516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 rot="20100000">
                        <a:off x="3134880" y="5733720"/>
                        <a:ext cx="15804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75" name=""/>
              <p:cNvGrpSpPr/>
              <p:nvPr/>
            </p:nvGrpSpPr>
            <p:grpSpPr>
              <a:xfrm>
                <a:off x="6758280" y="5218200"/>
                <a:ext cx="1840680" cy="470880"/>
                <a:chOff x="6758280" y="5218200"/>
                <a:chExt cx="1840680" cy="470880"/>
              </a:xfrm>
            </p:grpSpPr>
            <p:grpSp>
              <p:nvGrpSpPr>
                <p:cNvPr id="1376" name=""/>
                <p:cNvGrpSpPr/>
                <p:nvPr/>
              </p:nvGrpSpPr>
              <p:grpSpPr>
                <a:xfrm>
                  <a:off x="6758280" y="5218200"/>
                  <a:ext cx="1072800" cy="470520"/>
                  <a:chOff x="6758280" y="5218200"/>
                  <a:chExt cx="1072800" cy="470520"/>
                </a:xfrm>
              </p:grpSpPr>
              <p:grpSp>
                <p:nvGrpSpPr>
                  <p:cNvPr id="1377" name=""/>
                  <p:cNvGrpSpPr/>
                  <p:nvPr/>
                </p:nvGrpSpPr>
                <p:grpSpPr>
                  <a:xfrm>
                    <a:off x="6758280" y="5261400"/>
                    <a:ext cx="558000" cy="427320"/>
                    <a:chOff x="6758280" y="5261400"/>
                    <a:chExt cx="558000" cy="427320"/>
                  </a:xfrm>
                </p:grpSpPr>
                <p:grpSp>
                  <p:nvGrpSpPr>
                    <p:cNvPr id="1378" name=""/>
                    <p:cNvGrpSpPr/>
                    <p:nvPr/>
                  </p:nvGrpSpPr>
                  <p:grpSpPr>
                    <a:xfrm>
                      <a:off x="7091640" y="5261400"/>
                      <a:ext cx="224640" cy="293760"/>
                      <a:chOff x="7091640" y="5261400"/>
                      <a:chExt cx="224640" cy="293760"/>
                    </a:xfrm>
                  </p:grpSpPr>
                  <p:sp>
                    <p:nvSpPr>
                      <p:cNvPr id="1379" name=""/>
                      <p:cNvSpPr/>
                      <p:nvPr/>
                    </p:nvSpPr>
                    <p:spPr>
                      <a:xfrm flipH="1" rot="21120000">
                        <a:off x="7107840" y="5273280"/>
                        <a:ext cx="19152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 flipH="1" rot="21120000">
                        <a:off x="7117200" y="5280120"/>
                        <a:ext cx="123120" cy="2674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1" name=""/>
                    <p:cNvGrpSpPr/>
                    <p:nvPr/>
                  </p:nvGrpSpPr>
                  <p:grpSpPr>
                    <a:xfrm>
                      <a:off x="6960960" y="5293080"/>
                      <a:ext cx="282240" cy="324360"/>
                      <a:chOff x="6960960" y="5293080"/>
                      <a:chExt cx="282240" cy="324360"/>
                    </a:xfrm>
                  </p:grpSpPr>
                  <p:sp>
                    <p:nvSpPr>
                      <p:cNvPr id="1382" name=""/>
                      <p:cNvSpPr/>
                      <p:nvPr/>
                    </p:nvSpPr>
                    <p:spPr>
                      <a:xfrm flipH="1" rot="20640000">
                        <a:off x="6992640" y="5317920"/>
                        <a:ext cx="218160" cy="262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 flipH="1" rot="20640000">
                        <a:off x="7007040" y="5326560"/>
                        <a:ext cx="140760" cy="276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84" name=""/>
                    <p:cNvGrpSpPr/>
                    <p:nvPr/>
                  </p:nvGrpSpPr>
                  <p:grpSpPr>
                    <a:xfrm>
                      <a:off x="6758280" y="5316480"/>
                      <a:ext cx="369720" cy="372240"/>
                      <a:chOff x="6758280" y="5316480"/>
                      <a:chExt cx="369720" cy="372240"/>
                    </a:xfrm>
                  </p:grpSpPr>
                  <p:sp>
                    <p:nvSpPr>
                      <p:cNvPr id="1385" name=""/>
                      <p:cNvSpPr/>
                      <p:nvPr/>
                    </p:nvSpPr>
                    <p:spPr>
                      <a:xfrm flipH="1" rot="19560000">
                        <a:off x="6809400" y="5367960"/>
                        <a:ext cx="266400" cy="2660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86" name=""/>
                      <p:cNvSpPr/>
                      <p:nvPr/>
                    </p:nvSpPr>
                    <p:spPr>
                      <a:xfrm flipH="1" rot="19560000">
                        <a:off x="6838560" y="5382360"/>
                        <a:ext cx="17172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7305120" y="5218200"/>
                    <a:ext cx="525960" cy="361080"/>
                    <a:chOff x="7305120" y="5218200"/>
                    <a:chExt cx="525960" cy="361080"/>
                  </a:xfrm>
                </p:grpSpPr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7305120" y="5218200"/>
                      <a:ext cx="167400" cy="259560"/>
                      <a:chOff x="7305120" y="5218200"/>
                      <a:chExt cx="167400" cy="259560"/>
                    </a:xfrm>
                  </p:grpSpPr>
                  <p:sp>
                    <p:nvSpPr>
                      <p:cNvPr id="1389" name=""/>
                      <p:cNvSpPr/>
                      <p:nvPr/>
                    </p:nvSpPr>
                    <p:spPr>
                      <a:xfrm rot="21540000">
                        <a:off x="7306920" y="5219280"/>
                        <a:ext cx="163080" cy="239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 rot="21540000">
                        <a:off x="7358760" y="5222880"/>
                        <a:ext cx="105120" cy="253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1" name=""/>
                    <p:cNvGrpSpPr/>
                    <p:nvPr/>
                  </p:nvGrpSpPr>
                  <p:grpSpPr>
                    <a:xfrm>
                      <a:off x="7390800" y="5236200"/>
                      <a:ext cx="214920" cy="288000"/>
                      <a:chOff x="7390800" y="5236200"/>
                      <a:chExt cx="214920" cy="288000"/>
                    </a:xfrm>
                  </p:grpSpPr>
                  <p:sp>
                    <p:nvSpPr>
                      <p:cNvPr id="1392" name=""/>
                      <p:cNvSpPr/>
                      <p:nvPr/>
                    </p:nvSpPr>
                    <p:spPr>
                      <a:xfrm rot="420000">
                        <a:off x="7405560" y="5246280"/>
                        <a:ext cx="18540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 rot="420000">
                        <a:off x="7460280" y="5251320"/>
                        <a:ext cx="1195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394" name=""/>
                    <p:cNvGrpSpPr/>
                    <p:nvPr/>
                  </p:nvGrpSpPr>
                  <p:grpSpPr>
                    <a:xfrm>
                      <a:off x="7495560" y="5223240"/>
                      <a:ext cx="335520" cy="356040"/>
                      <a:chOff x="7495560" y="5223240"/>
                      <a:chExt cx="335520" cy="356040"/>
                    </a:xfrm>
                  </p:grpSpPr>
                  <p:sp>
                    <p:nvSpPr>
                      <p:cNvPr id="1395" name=""/>
                      <p:cNvSpPr/>
                      <p:nvPr/>
                    </p:nvSpPr>
                    <p:spPr>
                      <a:xfrm rot="1500000">
                        <a:off x="7540200" y="5262480"/>
                        <a:ext cx="24588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 rot="1500000">
                        <a:off x="7607880" y="5276520"/>
                        <a:ext cx="15840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97" name=""/>
                <p:cNvGrpSpPr/>
                <p:nvPr/>
              </p:nvGrpSpPr>
              <p:grpSpPr>
                <a:xfrm>
                  <a:off x="7527240" y="5218200"/>
                  <a:ext cx="1071720" cy="470880"/>
                  <a:chOff x="7527240" y="5218200"/>
                  <a:chExt cx="1071720" cy="470880"/>
                </a:xfrm>
              </p:grpSpPr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8041680" y="5261760"/>
                    <a:ext cx="557280" cy="427320"/>
                    <a:chOff x="8041680" y="5261760"/>
                    <a:chExt cx="557280" cy="427320"/>
                  </a:xfrm>
                </p:grpSpPr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8041680" y="5261760"/>
                      <a:ext cx="224640" cy="291960"/>
                      <a:chOff x="8041680" y="5261760"/>
                      <a:chExt cx="224640" cy="291960"/>
                    </a:xfrm>
                  </p:grpSpPr>
                  <p:sp>
                    <p:nvSpPr>
                      <p:cNvPr id="1400" name=""/>
                      <p:cNvSpPr/>
                      <p:nvPr/>
                    </p:nvSpPr>
                    <p:spPr>
                      <a:xfrm rot="480000">
                        <a:off x="8058240" y="5273640"/>
                        <a:ext cx="191160" cy="25272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 rot="480000">
                        <a:off x="8114760" y="5280120"/>
                        <a:ext cx="1231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2" name=""/>
                    <p:cNvGrpSpPr/>
                    <p:nvPr/>
                  </p:nvGrpSpPr>
                  <p:grpSpPr>
                    <a:xfrm>
                      <a:off x="8115120" y="5293080"/>
                      <a:ext cx="282240" cy="324360"/>
                      <a:chOff x="8115120" y="5293080"/>
                      <a:chExt cx="282240" cy="324360"/>
                    </a:xfrm>
                  </p:grpSpPr>
                  <p:sp>
                    <p:nvSpPr>
                      <p:cNvPr id="1403" name=""/>
                      <p:cNvSpPr/>
                      <p:nvPr/>
                    </p:nvSpPr>
                    <p:spPr>
                      <a:xfrm rot="960000">
                        <a:off x="8146800" y="5317920"/>
                        <a:ext cx="218160" cy="262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 rot="960000">
                        <a:off x="8211240" y="5326200"/>
                        <a:ext cx="140760" cy="27684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05" name=""/>
                    <p:cNvGrpSpPr/>
                    <p:nvPr/>
                  </p:nvGrpSpPr>
                  <p:grpSpPr>
                    <a:xfrm>
                      <a:off x="8228520" y="5316480"/>
                      <a:ext cx="370440" cy="372600"/>
                      <a:chOff x="8228520" y="5316480"/>
                      <a:chExt cx="370440" cy="372600"/>
                    </a:xfrm>
                  </p:grpSpPr>
                  <p:sp>
                    <p:nvSpPr>
                      <p:cNvPr id="1406" name=""/>
                      <p:cNvSpPr/>
                      <p:nvPr/>
                    </p:nvSpPr>
                    <p:spPr>
                      <a:xfrm rot="2040000">
                        <a:off x="8280000" y="5368320"/>
                        <a:ext cx="26712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 rot="2040000">
                        <a:off x="8348760" y="5382360"/>
                        <a:ext cx="17172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1408" name=""/>
                  <p:cNvGrpSpPr/>
                  <p:nvPr/>
                </p:nvGrpSpPr>
                <p:grpSpPr>
                  <a:xfrm>
                    <a:off x="7527240" y="5218200"/>
                    <a:ext cx="524520" cy="361080"/>
                    <a:chOff x="7527240" y="5218200"/>
                    <a:chExt cx="524520" cy="361080"/>
                  </a:xfrm>
                </p:grpSpPr>
                <p:grpSp>
                  <p:nvGrpSpPr>
                    <p:cNvPr id="1409" name=""/>
                    <p:cNvGrpSpPr/>
                    <p:nvPr/>
                  </p:nvGrpSpPr>
                  <p:grpSpPr>
                    <a:xfrm>
                      <a:off x="7885080" y="5218200"/>
                      <a:ext cx="166680" cy="259560"/>
                      <a:chOff x="7885080" y="5218200"/>
                      <a:chExt cx="166680" cy="259560"/>
                    </a:xfrm>
                  </p:grpSpPr>
                  <p:sp>
                    <p:nvSpPr>
                      <p:cNvPr id="1410" name=""/>
                      <p:cNvSpPr/>
                      <p:nvPr/>
                    </p:nvSpPr>
                    <p:spPr>
                      <a:xfrm flipH="1" rot="60000">
                        <a:off x="7886520" y="5219280"/>
                        <a:ext cx="162360" cy="239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 flipH="1" rot="60000">
                        <a:off x="7894080" y="5222880"/>
                        <a:ext cx="104400" cy="2538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2" name=""/>
                    <p:cNvGrpSpPr/>
                    <p:nvPr/>
                  </p:nvGrpSpPr>
                  <p:grpSpPr>
                    <a:xfrm>
                      <a:off x="7752240" y="5236200"/>
                      <a:ext cx="215280" cy="288360"/>
                      <a:chOff x="7752240" y="5236200"/>
                      <a:chExt cx="215280" cy="288360"/>
                    </a:xfrm>
                  </p:grpSpPr>
                  <p:sp>
                    <p:nvSpPr>
                      <p:cNvPr id="1413" name=""/>
                      <p:cNvSpPr/>
                      <p:nvPr/>
                    </p:nvSpPr>
                    <p:spPr>
                      <a:xfrm flipH="1" rot="21180000">
                        <a:off x="7766640" y="5246280"/>
                        <a:ext cx="186120" cy="25128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 rot="21180000">
                        <a:off x="7775640" y="5251320"/>
                        <a:ext cx="119520" cy="26676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415" name=""/>
                    <p:cNvGrpSpPr/>
                    <p:nvPr/>
                  </p:nvGrpSpPr>
                  <p:grpSpPr>
                    <a:xfrm>
                      <a:off x="7527240" y="5223240"/>
                      <a:ext cx="334800" cy="356040"/>
                      <a:chOff x="7527240" y="5223240"/>
                      <a:chExt cx="334800" cy="356040"/>
                    </a:xfrm>
                  </p:grpSpPr>
                  <p:sp>
                    <p:nvSpPr>
                      <p:cNvPr id="1416" name=""/>
                      <p:cNvSpPr/>
                      <p:nvPr/>
                    </p:nvSpPr>
                    <p:spPr>
                      <a:xfrm flipH="1" rot="20100000">
                        <a:off x="7571880" y="5262480"/>
                        <a:ext cx="245160" cy="2664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 flipH="1" rot="20100000">
                        <a:off x="7590960" y="5276520"/>
                        <a:ext cx="158040" cy="282600"/>
                      </a:xfrm>
                      <a:prstGeom prst="pie">
                        <a:avLst/>
                      </a:pr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418" name=""/>
          <p:cNvGrpSpPr/>
          <p:nvPr/>
        </p:nvGrpSpPr>
        <p:grpSpPr>
          <a:xfrm>
            <a:off x="9144000" y="4114800"/>
            <a:ext cx="2617920" cy="1282680"/>
            <a:chOff x="9144000" y="4114800"/>
            <a:chExt cx="2617920" cy="1282680"/>
          </a:xfrm>
        </p:grpSpPr>
        <p:grpSp>
          <p:nvGrpSpPr>
            <p:cNvPr id="1419" name=""/>
            <p:cNvGrpSpPr/>
            <p:nvPr/>
          </p:nvGrpSpPr>
          <p:grpSpPr>
            <a:xfrm>
              <a:off x="10667880" y="4114800"/>
              <a:ext cx="1094040" cy="1217160"/>
              <a:chOff x="10667880" y="4114800"/>
              <a:chExt cx="1094040" cy="121716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10733040" y="5093640"/>
                <a:ext cx="225360" cy="238320"/>
                <a:chOff x="10733040" y="5093640"/>
                <a:chExt cx="225360" cy="238320"/>
              </a:xfrm>
            </p:grpSpPr>
            <p:grpSp>
              <p:nvGrpSpPr>
                <p:cNvPr id="1421" name=""/>
                <p:cNvGrpSpPr/>
                <p:nvPr/>
              </p:nvGrpSpPr>
              <p:grpSpPr>
                <a:xfrm>
                  <a:off x="10733040" y="5093640"/>
                  <a:ext cx="225360" cy="238320"/>
                  <a:chOff x="10733040" y="5093640"/>
                  <a:chExt cx="225360" cy="23832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10733040" y="5093640"/>
                    <a:ext cx="225360" cy="238320"/>
                    <a:chOff x="10733040" y="5093640"/>
                    <a:chExt cx="225360" cy="238320"/>
                  </a:xfrm>
                </p:grpSpPr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10733040" y="5093640"/>
                      <a:ext cx="22536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10733040" y="5093640"/>
                      <a:ext cx="225360" cy="238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10752120" y="5114520"/>
                    <a:ext cx="187200" cy="196920"/>
                    <a:chOff x="10752120" y="5114520"/>
                    <a:chExt cx="187200" cy="19692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10752120" y="5114520"/>
                      <a:ext cx="187200" cy="196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10752120" y="5114520"/>
                      <a:ext cx="187200" cy="196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28" name=""/>
                <p:cNvGrpSpPr/>
                <p:nvPr/>
              </p:nvGrpSpPr>
              <p:grpSpPr>
                <a:xfrm>
                  <a:off x="10752120" y="5114520"/>
                  <a:ext cx="187200" cy="196920"/>
                  <a:chOff x="10752120" y="5114520"/>
                  <a:chExt cx="187200" cy="19692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10752120" y="5114520"/>
                    <a:ext cx="187200" cy="1969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10752120" y="5114520"/>
                    <a:ext cx="187200" cy="196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31" name=""/>
              <p:cNvGrpSpPr/>
              <p:nvPr/>
            </p:nvGrpSpPr>
            <p:grpSpPr>
              <a:xfrm>
                <a:off x="11358720" y="5093640"/>
                <a:ext cx="226800" cy="238320"/>
                <a:chOff x="11358720" y="5093640"/>
                <a:chExt cx="226800" cy="238320"/>
              </a:xfrm>
            </p:grpSpPr>
            <p:grpSp>
              <p:nvGrpSpPr>
                <p:cNvPr id="1432" name=""/>
                <p:cNvGrpSpPr/>
                <p:nvPr/>
              </p:nvGrpSpPr>
              <p:grpSpPr>
                <a:xfrm>
                  <a:off x="11358720" y="5093640"/>
                  <a:ext cx="226800" cy="238320"/>
                  <a:chOff x="11358720" y="5093640"/>
                  <a:chExt cx="226800" cy="238320"/>
                </a:xfrm>
              </p:grpSpPr>
              <p:grpSp>
                <p:nvGrpSpPr>
                  <p:cNvPr id="1433" name=""/>
                  <p:cNvGrpSpPr/>
                  <p:nvPr/>
                </p:nvGrpSpPr>
                <p:grpSpPr>
                  <a:xfrm>
                    <a:off x="11358720" y="5093640"/>
                    <a:ext cx="226800" cy="238320"/>
                    <a:chOff x="11358720" y="5093640"/>
                    <a:chExt cx="226800" cy="238320"/>
                  </a:xfrm>
                </p:grpSpPr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11358720" y="5093640"/>
                      <a:ext cx="22680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5" name=""/>
                    <p:cNvSpPr/>
                    <p:nvPr/>
                  </p:nvSpPr>
                  <p:spPr>
                    <a:xfrm>
                      <a:off x="11358720" y="5093640"/>
                      <a:ext cx="226800" cy="2383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436" name=""/>
                  <p:cNvGrpSpPr/>
                  <p:nvPr/>
                </p:nvGrpSpPr>
                <p:grpSpPr>
                  <a:xfrm>
                    <a:off x="11376000" y="5114520"/>
                    <a:ext cx="189000" cy="196920"/>
                    <a:chOff x="11376000" y="5114520"/>
                    <a:chExt cx="189000" cy="196920"/>
                  </a:xfrm>
                </p:grpSpPr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11376000" y="5114520"/>
                      <a:ext cx="189000" cy="196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38" name=""/>
                    <p:cNvSpPr/>
                    <p:nvPr/>
                  </p:nvSpPr>
                  <p:spPr>
                    <a:xfrm>
                      <a:off x="11376000" y="5114520"/>
                      <a:ext cx="189000" cy="196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39" name=""/>
                <p:cNvGrpSpPr/>
                <p:nvPr/>
              </p:nvGrpSpPr>
              <p:grpSpPr>
                <a:xfrm>
                  <a:off x="11376000" y="5114520"/>
                  <a:ext cx="189000" cy="196920"/>
                  <a:chOff x="11376000" y="5114520"/>
                  <a:chExt cx="189000" cy="196920"/>
                </a:xfrm>
              </p:grpSpPr>
              <p:sp>
                <p:nvSpPr>
                  <p:cNvPr id="1440" name=""/>
                  <p:cNvSpPr/>
                  <p:nvPr/>
                </p:nvSpPr>
                <p:spPr>
                  <a:xfrm>
                    <a:off x="11376000" y="5114520"/>
                    <a:ext cx="189000" cy="19692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11376000" y="5114520"/>
                    <a:ext cx="189000" cy="196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2" name=""/>
              <p:cNvGrpSpPr/>
              <p:nvPr/>
            </p:nvGrpSpPr>
            <p:grpSpPr>
              <a:xfrm>
                <a:off x="10733040" y="5093640"/>
                <a:ext cx="225360" cy="238320"/>
                <a:chOff x="10733040" y="5093640"/>
                <a:chExt cx="225360" cy="238320"/>
              </a:xfrm>
            </p:grpSpPr>
            <p:grpSp>
              <p:nvGrpSpPr>
                <p:cNvPr id="1443" name=""/>
                <p:cNvGrpSpPr/>
                <p:nvPr/>
              </p:nvGrpSpPr>
              <p:grpSpPr>
                <a:xfrm>
                  <a:off x="10733040" y="5093640"/>
                  <a:ext cx="225360" cy="238320"/>
                  <a:chOff x="10733040" y="5093640"/>
                  <a:chExt cx="225360" cy="23832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10733040" y="5093640"/>
                    <a:ext cx="22536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10733040" y="5093640"/>
                    <a:ext cx="225360" cy="238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46" name=""/>
                <p:cNvGrpSpPr/>
                <p:nvPr/>
              </p:nvGrpSpPr>
              <p:grpSpPr>
                <a:xfrm>
                  <a:off x="10752120" y="5114520"/>
                  <a:ext cx="187200" cy="196920"/>
                  <a:chOff x="10752120" y="5114520"/>
                  <a:chExt cx="187200" cy="19692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10752120" y="5114520"/>
                    <a:ext cx="1872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10752120" y="5114520"/>
                    <a:ext cx="187200" cy="1969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49" name=""/>
              <p:cNvGrpSpPr/>
              <p:nvPr/>
            </p:nvGrpSpPr>
            <p:grpSpPr>
              <a:xfrm>
                <a:off x="10752120" y="5115960"/>
                <a:ext cx="185760" cy="196920"/>
                <a:chOff x="10752120" y="5115960"/>
                <a:chExt cx="185760" cy="19692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10733040" y="5093640"/>
                <a:ext cx="225360" cy="238320"/>
                <a:chOff x="10733040" y="5093640"/>
                <a:chExt cx="225360" cy="23832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10733040" y="5093640"/>
                  <a:ext cx="225360" cy="23832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0733040" y="5093640"/>
                  <a:ext cx="225360" cy="23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10752120" y="5115960"/>
                <a:ext cx="185760" cy="196920"/>
                <a:chOff x="10752120" y="5115960"/>
                <a:chExt cx="185760" cy="19692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10733040" y="5093640"/>
                <a:ext cx="225360" cy="238320"/>
                <a:chOff x="10733040" y="5093640"/>
                <a:chExt cx="225360" cy="23832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10733040" y="5093640"/>
                  <a:ext cx="225360" cy="23832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10733040" y="5093640"/>
                  <a:ext cx="225360" cy="23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10752120" y="5115960"/>
                <a:ext cx="185760" cy="196920"/>
                <a:chOff x="10752120" y="5115960"/>
                <a:chExt cx="185760" cy="1969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10752120" y="5115960"/>
                <a:ext cx="185760" cy="196920"/>
                <a:chOff x="10752120" y="5115960"/>
                <a:chExt cx="185760" cy="1969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0752120" y="5115960"/>
                  <a:ext cx="185760" cy="19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11358720" y="5093640"/>
                <a:ext cx="226800" cy="238320"/>
                <a:chOff x="11358720" y="5093640"/>
                <a:chExt cx="226800" cy="23832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11358720" y="5093640"/>
                  <a:ext cx="226800" cy="238320"/>
                  <a:chOff x="11358720" y="5093640"/>
                  <a:chExt cx="226800" cy="23832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11358720" y="5093640"/>
                    <a:ext cx="22680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11358720" y="5093640"/>
                    <a:ext cx="226800" cy="238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11376000" y="5114520"/>
                  <a:ext cx="189000" cy="196920"/>
                  <a:chOff x="11376000" y="5114520"/>
                  <a:chExt cx="189000" cy="19692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11376000" y="5114520"/>
                    <a:ext cx="1890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11376000" y="5114520"/>
                    <a:ext cx="189000" cy="1969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74" name=""/>
              <p:cNvGrpSpPr/>
              <p:nvPr/>
            </p:nvGrpSpPr>
            <p:grpSpPr>
              <a:xfrm>
                <a:off x="11377440" y="5115960"/>
                <a:ext cx="187560" cy="196920"/>
                <a:chOff x="11377440" y="5115960"/>
                <a:chExt cx="187560" cy="19692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7" name=""/>
              <p:cNvGrpSpPr/>
              <p:nvPr/>
            </p:nvGrpSpPr>
            <p:grpSpPr>
              <a:xfrm>
                <a:off x="11358720" y="5093640"/>
                <a:ext cx="226800" cy="238320"/>
                <a:chOff x="11358720" y="5093640"/>
                <a:chExt cx="226800" cy="23832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11358720" y="5093640"/>
                  <a:ext cx="226800" cy="23832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11358720" y="5093640"/>
                  <a:ext cx="226800" cy="23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0" name=""/>
              <p:cNvGrpSpPr/>
              <p:nvPr/>
            </p:nvGrpSpPr>
            <p:grpSpPr>
              <a:xfrm>
                <a:off x="11377440" y="5115960"/>
                <a:ext cx="187560" cy="196920"/>
                <a:chOff x="11377440" y="5115960"/>
                <a:chExt cx="187560" cy="19692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11358720" y="5093640"/>
                <a:ext cx="226800" cy="238320"/>
                <a:chOff x="11358720" y="5093640"/>
                <a:chExt cx="226800" cy="23832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11358720" y="5093640"/>
                  <a:ext cx="226800" cy="238320"/>
                </a:xfrm>
                <a:prstGeom prst="ellipse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1358720" y="5093640"/>
                  <a:ext cx="226800" cy="23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11377440" y="5115960"/>
                <a:ext cx="187560" cy="196920"/>
                <a:chOff x="11377440" y="5115960"/>
                <a:chExt cx="187560" cy="19692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11377440" y="5115960"/>
                <a:ext cx="187560" cy="196920"/>
                <a:chOff x="11377440" y="5115960"/>
                <a:chExt cx="187560" cy="19692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1377440" y="5115960"/>
                  <a:ext cx="187560" cy="196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10674360" y="5033520"/>
                <a:ext cx="968400" cy="119160"/>
                <a:chOff x="10674360" y="5033520"/>
                <a:chExt cx="968400" cy="119160"/>
              </a:xfrm>
            </p:grpSpPr>
            <p:pic>
              <p:nvPicPr>
                <p:cNvPr id="14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674360" y="5033520"/>
                  <a:ext cx="968400" cy="11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"/>
                <p:cNvSpPr/>
                <p:nvPr/>
              </p:nvSpPr>
              <p:spPr>
                <a:xfrm>
                  <a:off x="10674360" y="5033520"/>
                  <a:ext cx="968400" cy="117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95" name=""/>
              <p:cNvSpPr/>
              <p:nvPr/>
            </p:nvSpPr>
            <p:spPr>
              <a:xfrm>
                <a:off x="10674360" y="4904640"/>
                <a:ext cx="1085760" cy="1267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633040" y="4904640"/>
                <a:ext cx="128880" cy="2412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0667880" y="4226040"/>
                <a:ext cx="1071720" cy="775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223720" y="417024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177640" y="417024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120400" y="417024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0837080" y="411480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0912320" y="4170240"/>
                <a:ext cx="33660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10723680" y="4114800"/>
                <a:ext cx="3268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1007720" y="422604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1290320" y="4170240"/>
                <a:ext cx="328680" cy="82944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1063160" y="4114800"/>
                <a:ext cx="111240" cy="88488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715760" y="4184640"/>
                <a:ext cx="946080" cy="759600"/>
              </a:xfrm>
              <a:prstGeom prst="pi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11005920" y="4780800"/>
                <a:ext cx="114120" cy="54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11005920" y="4669200"/>
                <a:ext cx="114120" cy="54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1174400" y="4836240"/>
                <a:ext cx="114480" cy="54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11401200" y="4557960"/>
                <a:ext cx="114120" cy="540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12" name="" descr=""/>
            <p:cNvPicPr/>
            <p:nvPr/>
          </p:nvPicPr>
          <p:blipFill>
            <a:blip r:embed="rId5"/>
            <a:stretch/>
          </p:blipFill>
          <p:spPr>
            <a:xfrm>
              <a:off x="9144000" y="4343400"/>
              <a:ext cx="16606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3" name=""/>
            <p:cNvSpPr/>
            <p:nvPr/>
          </p:nvSpPr>
          <p:spPr>
            <a:xfrm>
              <a:off x="9448920" y="4343400"/>
              <a:ext cx="226800" cy="455760"/>
            </a:xfrm>
            <a:prstGeom prst="pie">
              <a:avLst/>
            </a:pr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524880" y="4648320"/>
              <a:ext cx="1141560" cy="303120"/>
            </a:xfrm>
            <a:prstGeom prst="pie">
              <a:avLst/>
            </a:pr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-1447920" y="4343400"/>
            <a:ext cx="1512720" cy="860400"/>
            <a:chOff x="-1447920" y="4343400"/>
            <a:chExt cx="1512720" cy="860400"/>
          </a:xfrm>
        </p:grpSpPr>
        <p:sp>
          <p:nvSpPr>
            <p:cNvPr id="1516" name=""/>
            <p:cNvSpPr/>
            <p:nvPr/>
          </p:nvSpPr>
          <p:spPr>
            <a:xfrm flipH="1">
              <a:off x="-1447920" y="4367160"/>
              <a:ext cx="1511280" cy="836640"/>
            </a:xfrm>
            <a:prstGeom prst="pie">
              <a:avLst/>
            </a:prstGeom>
            <a:gradFill rotWithShape="0">
              <a:gsLst>
                <a:gs pos="0">
                  <a:srgbClr val="336600"/>
                </a:gs>
                <a:gs pos="50000">
                  <a:srgbClr val="333333"/>
                </a:gs>
                <a:gs pos="100000">
                  <a:srgbClr val="3366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-619200" y="4629240"/>
              <a:ext cx="683640" cy="7776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-252000" y="4376880"/>
              <a:ext cx="88560" cy="1918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-1218600" y="4343400"/>
              <a:ext cx="521640" cy="6840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-600840" y="4778280"/>
              <a:ext cx="62784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-266400" y="4554360"/>
              <a:ext cx="95040" cy="28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f5f5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-600120" y="4703760"/>
              <a:ext cx="360" cy="353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-442080" y="4797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-266400" y="479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-1181880" y="4479840"/>
              <a:ext cx="218520" cy="209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-894240" y="4457880"/>
              <a:ext cx="226800" cy="209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-837720" y="4667400"/>
              <a:ext cx="202680" cy="15372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-1420920" y="4761000"/>
              <a:ext cx="768960" cy="330120"/>
            </a:xfrm>
            <a:prstGeom prst="pie">
              <a:avLst/>
            </a:prstGeom>
            <a:noFill/>
            <a:ln w="763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-267840" y="4572000"/>
              <a:ext cx="97920" cy="1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-265320" y="4552920"/>
              <a:ext cx="93240" cy="22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-1463760" y="4776840"/>
            <a:ext cx="760320" cy="760320"/>
            <a:chOff x="-1463760" y="4776840"/>
            <a:chExt cx="760320" cy="760320"/>
          </a:xfrm>
        </p:grpSpPr>
        <p:sp>
          <p:nvSpPr>
            <p:cNvPr id="1532" name=""/>
            <p:cNvSpPr/>
            <p:nvPr/>
          </p:nvSpPr>
          <p:spPr>
            <a:xfrm flipH="1">
              <a:off x="-1463760" y="4776840"/>
              <a:ext cx="760320" cy="7603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-1334520" y="490680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-1295640" y="4943520"/>
              <a:ext cx="425520" cy="425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-1091520" y="496260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-1277280" y="51674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-1091520" y="533412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-905760" y="51674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-1223280" y="5037120"/>
              <a:ext cx="17640" cy="1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-960480" y="5278320"/>
              <a:ext cx="17280" cy="1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-960480" y="5037120"/>
              <a:ext cx="17280" cy="1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-1223280" y="5278320"/>
              <a:ext cx="17640" cy="1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-380880" y="5043600"/>
            <a:ext cx="379440" cy="379440"/>
            <a:chOff x="-380880" y="5043600"/>
            <a:chExt cx="379440" cy="379440"/>
          </a:xfrm>
        </p:grpSpPr>
        <p:sp>
          <p:nvSpPr>
            <p:cNvPr id="1544" name=""/>
            <p:cNvSpPr/>
            <p:nvPr/>
          </p:nvSpPr>
          <p:spPr>
            <a:xfrm flipH="1">
              <a:off x="-380880" y="5043600"/>
              <a:ext cx="379440" cy="379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-307800" y="5116680"/>
              <a:ext cx="233280" cy="233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-219240" y="520704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-159480" y="5127480"/>
              <a:ext cx="2052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-289080" y="5180040"/>
              <a:ext cx="2088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-267480" y="530856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-106920" y="525636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-227160" y="5149800"/>
              <a:ext cx="12960" cy="12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-121320" y="5202360"/>
              <a:ext cx="12600" cy="12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-175320" y="5308560"/>
              <a:ext cx="12600" cy="12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-281160" y="5256360"/>
              <a:ext cx="12960" cy="12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5" name=""/>
          <p:cNvSpPr/>
          <p:nvPr/>
        </p:nvSpPr>
        <p:spPr>
          <a:xfrm>
            <a:off x="446040" y="4146480"/>
            <a:ext cx="8251920" cy="1435320"/>
          </a:xfrm>
          <a:prstGeom prst="pie">
            <a:avLst/>
          </a:pr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625320" y="342900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  <a:ea typeface="Arial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9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625320" y="4146480"/>
            <a:ext cx="2305080" cy="18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948360" y="4005360"/>
            <a:ext cx="1656000" cy="712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7082640" y="3429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  <a:ea typeface="Arial"/>
              </a:rPr>
              <a:t>7 км/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468360" y="6165720"/>
            <a:ext cx="1930320" cy="53352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8112" h="21600">
                <a:moveTo>
                  <a:pt x="0" y="0"/>
                </a:moveTo>
                <a:lnTo>
                  <a:pt x="78112" y="0"/>
                </a:lnTo>
                <a:lnTo>
                  <a:pt x="78112" y="21600"/>
                </a:lnTo>
                <a:lnTo>
                  <a:pt x="0" y="21600"/>
                </a:lnTo>
                <a:close/>
              </a:path>
              <a:path fill="lightenLess" w="78112" h="21600">
                <a:moveTo>
                  <a:pt x="0" y="0"/>
                </a:moveTo>
                <a:lnTo>
                  <a:pt x="78112" y="0"/>
                </a:lnTo>
                <a:lnTo>
                  <a:pt x="76713" y="1400"/>
                </a:lnTo>
                <a:lnTo>
                  <a:pt x="1400" y="1400"/>
                </a:lnTo>
                <a:close/>
              </a:path>
              <a:path fill="darken" w="78112" h="21600">
                <a:moveTo>
                  <a:pt x="78112" y="0"/>
                </a:moveTo>
                <a:lnTo>
                  <a:pt x="78112" y="21600"/>
                </a:lnTo>
                <a:lnTo>
                  <a:pt x="76713" y="20200"/>
                </a:lnTo>
                <a:lnTo>
                  <a:pt x="76713" y="1400"/>
                </a:lnTo>
                <a:close/>
              </a:path>
              <a:path fill="darkenLess" w="78112" h="21600">
                <a:moveTo>
                  <a:pt x="78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13" y="20200"/>
                </a:lnTo>
                <a:close/>
              </a:path>
              <a:path fill="lighten" w="78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ь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>
            <a:hlinkClick r:id="" action="ppaction://hlinkshowjump?jump=nextslide"/>
          </p:cNvPr>
          <p:cNvSpPr/>
          <p:nvPr/>
        </p:nvSpPr>
        <p:spPr>
          <a:xfrm>
            <a:off x="8352000" y="5769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4932360" y="4146480"/>
            <a:ext cx="861120" cy="1509480"/>
            <a:chOff x="4932360" y="4146480"/>
            <a:chExt cx="861120" cy="1509480"/>
          </a:xfrm>
        </p:grpSpPr>
        <p:sp>
          <p:nvSpPr>
            <p:cNvPr id="1563" name=""/>
            <p:cNvSpPr/>
            <p:nvPr/>
          </p:nvSpPr>
          <p:spPr>
            <a:xfrm>
              <a:off x="4932360" y="5381280"/>
              <a:ext cx="428400" cy="2746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23880" y="4275000"/>
              <a:ext cx="45360" cy="1271520"/>
            </a:xfrm>
            <a:prstGeom prst="plus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5400000">
              <a:off x="5183640" y="4073400"/>
              <a:ext cx="536760" cy="682920"/>
            </a:xfrm>
            <a:prstGeom prst="triangle">
              <a:avLst>
                <a:gd name="adj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2627280" y="5445000"/>
            <a:ext cx="1800" cy="287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948360" y="5373720"/>
            <a:ext cx="1800" cy="28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 rot="16200000">
            <a:off x="4187880" y="1839960"/>
            <a:ext cx="768240" cy="8251920"/>
          </a:xfrm>
          <a:custGeom>
            <a:avLst/>
            <a:gdLst>
              <a:gd name="textAreaLeft" fmla="*/ 491040 w 768240"/>
              <a:gd name="textAreaRight" fmla="*/ 768600 w 768240"/>
              <a:gd name="textAreaTop" fmla="*/ 220320 h 8251920"/>
              <a:gd name="textAreaBottom" fmla="*/ 8031600 h 825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3"/>
                  <a:pt x="10800" y="1845"/>
                </a:cubicBezTo>
                <a:lnTo>
                  <a:pt x="10800" y="8955"/>
                </a:lnTo>
                <a:cubicBezTo>
                  <a:pt x="10800" y="9878"/>
                  <a:pt x="5400" y="10800"/>
                  <a:pt x="0" y="10800"/>
                </a:cubicBezTo>
                <a:cubicBezTo>
                  <a:pt x="5400" y="10800"/>
                  <a:pt x="10800" y="11723"/>
                  <a:pt x="10800" y="12645"/>
                </a:cubicBezTo>
                <a:lnTo>
                  <a:pt x="10800" y="19755"/>
                </a:lnTo>
                <a:cubicBezTo>
                  <a:pt x="10800" y="206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4213080" y="63342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30 к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4572000" y="30700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t  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dur="indefinite" fill="hold">
                      <p:stCondLst>
                        <p:cond delay="0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 fill="hold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 fill="hold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 fill="hold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 fill="hold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 fill="hold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 fill="hold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 fill="hold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 fill="hold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dur="indefinite" restart="whenNotActive" nodeType="interactiveSeq" fill="hold">
                <p:stCondLst>
                  <p:cond evt="onClick">
                    <p:tgtEl>
                      <p:spTgt spid="1560"/>
                    </p:tgtEl>
                  </p:cond>
                </p:stCondLst>
                <p:childTnLst>
                  <p:par>
                    <p:cTn id="566" dur="indefinite" fill="hold">
                      <p:stCondLst>
                        <p:cond evt="onClick">
                          <p:tgtEl>
                            <p:spTgt spid="1560"/>
                          </p:tgtEl>
                        </p:cond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 -6 -4.6346 -6 L 0.52343 -4.6346 -6">
                                      <p:cBhvr>
                                        <p:cTn id="573" dur="5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0.02613 L 0.52101 0.01388 E">
                                      <p:cBhvr>
                                        <p:cTn id="575" dur="5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-4.6346 -6 L 0.50834 -4.6346 -6">
                                      <p:cBhvr>
                                        <p:cTn id="577" dur="50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59 -0.00972 L -0.46597 -0.00324 E">
                                      <p:cBhvr>
                                        <p:cTn id="579" dur="5000" fill="hold"/>
                                        <p:tgtEl>
                                          <p:spTgt spid="1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evt="onClick">
                          <p:tgtEl>
                            <p:spTgt spid="1560"/>
                          </p:tgtEl>
                        </p:cond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 fill="hold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fill="hold">
                      <p:stCondLst>
                        <p:cond evt="onClick">
                          <p:tgtEl>
                            <p:spTgt spid="1560"/>
                          </p:tgtEl>
                        </p:cond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 fill="hold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 fill="hold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 fill="hold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 fill="hold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 fill="hold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 fill="hold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Николаевна</dc:creator>
  <dc:description/>
  <dc:language>en-US</dc:language>
  <cp:lastModifiedBy>Татьяна</cp:lastModifiedBy>
  <dcterms:modified xsi:type="dcterms:W3CDTF">2010-07-19T15:23:21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