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806-F6AF-413E-BF54-70FB6CDD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F75-7B86-4C4E-B086-E274E449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C62-750C-4FF8-8659-900C73BA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A04-3298-4DD7-AAC6-715A0CDF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3A1-0EF4-4EDD-9DB8-841305DC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EB3-5E7F-44F7-9B83-C312C829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E4E-588E-4A42-A2E1-E60627AB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851-8AC0-4A3A-986E-D46703A1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BA5-A6EA-497F-836A-EA6FAC3C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663-29FC-4BDF-80E1-FDBF8DB7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F60-2744-4B90-9D13-9FE42AB9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459-9874-41DF-B38E-3AE787E0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C3C1-CAAF-4459-A08D-79E1AC5B1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3.proshkolu.ru/content/media/pic/std/3000000/2103000/2102363-03fd56e02356b28c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107136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рок математики во 2 класс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689040" y="2243160"/>
            <a:ext cx="7869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img3.proshkolu.ru/content/media/pic/std/3000000/2103000/2102363-03fd56e02356b28c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фон презен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1285920" y="2000160"/>
            <a:ext cx="13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8: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214800" y="2000160"/>
            <a:ext cx="221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24+2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6080400" y="2000160"/>
            <a:ext cx="121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7+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1367640" y="3500280"/>
            <a:ext cx="136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20: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3510720" y="3500280"/>
            <a:ext cx="136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36: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5798520" y="3500280"/>
            <a:ext cx="195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35+5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1714680" y="64296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идумай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6.82081E-006 L 6.38889E-006 -0.06288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4104E-006 L -0.24202 0.08648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69942E-006 L 0.31094 0.14774 E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4104E-006 L 0.02674 0.07607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28800" y="1600200"/>
            <a:ext cx="356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8:8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20:4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36:4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7+3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24+26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35+55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ычисли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214720" y="1571760"/>
            <a:ext cx="7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571840" y="2643120"/>
            <a:ext cx="78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500200" y="3714840"/>
            <a:ext cx="78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215040" y="1571760"/>
            <a:ext cx="121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6858000" y="2643120"/>
            <a:ext cx="121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6858000" y="3714840"/>
            <a:ext cx="121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9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1      5      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500040" y="3286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Arial"/>
                <a:ea typeface="Arial"/>
              </a:rPr>
              <a:t>10    50    9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Заголовок 5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ыпишем значения выражен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286080" y="264312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3"/>
          <p:cNvSpPr/>
          <p:nvPr/>
        </p:nvSpPr>
        <p:spPr>
          <a:xfrm>
            <a:off x="3500280" y="3714840"/>
            <a:ext cx="785880" cy="0"/>
          </a:xfrm>
          <a:prstGeom prst="line">
            <a:avLst/>
          </a:prstGeom>
          <a:ln w="54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3500280" y="3929040"/>
            <a:ext cx="30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10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деся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57120" y="714240"/>
            <a:ext cx="857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ма урок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отня 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овая счетная еди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3286080" y="264312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3"/>
          <p:cNvSpPr/>
          <p:nvPr/>
        </p:nvSpPr>
        <p:spPr>
          <a:xfrm>
            <a:off x="3500280" y="3714840"/>
            <a:ext cx="1357560" cy="0"/>
          </a:xfrm>
          <a:prstGeom prst="line">
            <a:avLst/>
          </a:prstGeom>
          <a:ln w="54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00280" y="3929040"/>
            <a:ext cx="30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100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един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7120" y="714240"/>
            <a:ext cx="857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ма урок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отня 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овая счетная еди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для вычислений один из столбик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840" y="2285640"/>
            <a:ext cx="8858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8·0     5·6·0       (35-7·5)·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5·0     0·(54:6)   (7-7):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0:3     0:(7·6)     (24+5·4)·(11-11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оставим алгорит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14288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рвым действием выполняю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алее –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тем –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928960" y="1857240"/>
            <a:ext cx="57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в скобка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4786200" y="2857680"/>
            <a:ext cx="43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второй ступен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786200" y="3857760"/>
            <a:ext cx="43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первой ступен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071720" y="1143000"/>
            <a:ext cx="7657920" cy="4525920"/>
          </a:xfrm>
          <a:prstGeom prst="rect">
            <a:avLst/>
          </a:prstGeom>
          <a:noFill/>
          <a:ln w="9360">
            <a:solidFill>
              <a:srgbClr val="000000">
                <a:alpha val="16000"/>
              </a:srgbClr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К. – 3 л., по 4 зак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Ж. – 4 л., по 5 зак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абота над задач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авая фигурная скобка 3"/>
          <p:cNvSpPr/>
          <p:nvPr/>
        </p:nvSpPr>
        <p:spPr>
          <a:xfrm>
            <a:off x="6500880" y="1571760"/>
            <a:ext cx="357120" cy="150012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500120"/>
              <a:gd name="textAreaBottom" fmla="*/ 149112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16200" y="10800"/>
                  <a:pt x="21600" y="10800"/>
                </a:cubicBezTo>
                <a:cubicBezTo>
                  <a:pt x="162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6786720" y="1928880"/>
            <a:ext cx="107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2214720" y="328608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1)  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2214720" y="400068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2)  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2214720" y="471492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3)  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2357280" y="5572080"/>
            <a:ext cx="26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6:17:05Z</dcterms:created>
  <dc:creator>ViTark</dc:creator>
  <dc:description/>
  <dc:language>en-US</dc:language>
  <cp:lastModifiedBy>Boroda</cp:lastModifiedBy>
  <dcterms:modified xsi:type="dcterms:W3CDTF">2014-09-19T01:59:52Z</dcterms:modified>
  <cp:revision>14</cp:revision>
  <dc:subject/>
  <dc:title>Презентация PowerPoint</dc:title>
</cp:coreProperties>
</file>