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3348-A9E1-42A2-AFC5-4E688FCC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C5E1-D195-4365-832E-1DD2E19A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59F-5019-49A7-9CAB-771A83C7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A8F-9F4C-4433-ADAE-48076D60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E298-E32A-473A-8E18-3ABF570C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489D-550E-4975-AD37-CF057E0F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5FBA-7309-4035-BD9A-064D88AE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D73A-9A6F-4860-AB45-F22ABC97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208E-AE93-4570-AEF3-A16A0FEC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10AF-2A3F-4915-ABC7-AC7183E7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F563-8F8C-4994-AAB3-1D188183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C99-92C3-4F85-8AB7-9D1014AF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EA83-629E-44F0-80A8-BAA4ED56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2E09-1F3C-444E-9651-592D9A11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F43C-B722-4E45-8955-020F75EB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741F-A8F3-4F99-BF48-F1B8BEEE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F7B0-13D6-4D38-A8BF-78F4A694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ECC8E-AFE1-4814-9ADC-9709A8FF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5B6C0-E783-4D7A-B4BF-7EA05595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0A01C-CC04-4B24-890F-F17BA0D8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610CF-A38B-4A07-AF6A-14CA59D1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1DFD8C-B8CE-4594-82C4-3CFD58DD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7F36-1B20-4542-B917-4FCDE3AB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4D5B0-E403-4CE9-8421-EA303C10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4C713-B637-44C2-AB4D-826AB7BD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02CC0-A368-4A8B-8C10-BA7D3E17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82485-6A36-4EBE-8BA3-143CA893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8B7F2-95B7-4C20-91F5-1FAF719D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EA5A5-186C-4C2F-A3BC-E706B715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CFB8D-DFFA-48D0-A1EA-65575A2F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60370-F14B-49E2-AB56-C5DD640D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BBA35-1A28-462E-AB96-B81A73DE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80E53-0141-4368-82F4-35E32215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3044-9973-4B4E-8639-691D9786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629C0-0474-4E22-918F-150E8ADA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35A6F-916F-4A7A-AA94-256E7294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223BE-7B4E-4644-A405-6C45C786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4CE2F-DF0F-42D1-83E3-15D6F15B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7639B-F164-40C7-B2CB-40857945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84DBB-982F-4F4B-9956-D769AEAA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95C22-3969-4618-B93E-AD984566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38647-FC1A-444E-9EBC-C718A91F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6AAFB-6B3E-4DFB-8B46-9E835B58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84A60-6FAC-452C-A278-51ABDAF8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F75-F5F0-4E5A-BAE0-35BE39C6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0F3CE-04B9-47AF-95AE-09AB18E8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154D5-8BCD-4AFE-B7A5-A9AB211C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B097E8-20CB-4172-8AF1-7B16A1D0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8484B-4AAE-4F38-9DD6-114003A1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9DD93-68E9-48E6-958E-088AB23B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C1AA72-960E-4B80-ADE8-2515DF21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9B36F2-790D-4065-9B43-EB967807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DB020C-558B-4DAA-9494-BD2C722F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9F426F-ECC7-437C-913E-43838681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575B3F-878F-45CA-A0C9-7B099D1A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521-76FB-4181-9AD8-DB1A4C70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E04E5D-BEBB-4CBD-AFA4-2EBA4B93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170A11-CA1D-4BCF-BBDE-A778FBDB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094145-F9A9-4B0D-BB4A-2BC8D966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390389-9CA5-410F-B3F4-A167D870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C2E6DC-5AB1-4871-B870-61E96153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254D21-2762-4054-8378-785342D7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31808F-03A4-4536-B080-691321FF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99B087-995A-414E-AE8C-7C9F86CF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194227-A0A7-4950-B2B1-A778934F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A27F2F-9A65-40D1-B407-44DD1A6E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D7C7-6AC6-478E-948E-CF69232D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A029BF-2336-4609-B735-0442D4CE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C590D8-E1BE-4C74-A3FE-300E8D9D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F44B78-AD51-4E8D-8803-C6D799FF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B7AE1C-0C70-4B93-A196-E5493E44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14D786-F783-42BD-BC53-D98224D2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3FA923-D2E1-4FFD-AA44-738D16B1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6A4387-FA3C-48EC-B864-14347111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A5498-2BFC-48E1-9C99-4D8E4D9C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A858D8-0150-4A8C-A378-7644DD08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6A831-D4E9-40CB-940C-DC53D728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1F6-FCD5-4D4F-9628-C22AB703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FCBC48-F373-4780-AB8B-22B49CA9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602BE1-0BF4-4328-BC02-1B64ED2D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67ACF5-3D70-45CF-B687-4BA67BA7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30FC92-7A4A-43A9-8F9A-44B08E83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EEACEA-30F9-4F73-93EE-02541EDF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72D-6C81-400A-B9CD-CA02F66F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0B00-D6D2-4CCC-9200-F702080CF76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5F93-6AE1-4E07-A8F6-D2F36879373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CD6D-C599-47DF-BA94-DDF20701E70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9F9F-7947-4C56-8018-EC59A627DC8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E2B2-F13E-4963-AB53-9AF876489EE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DC2D-AAE2-498C-B6C8-37C8C2CC535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7E10-31F8-4A13-AD19-DB77DCB5E0D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2421000"/>
            <a:ext cx="61722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62110"/>
                </a:solidFill>
                <a:latin typeface="Century Schoolbook"/>
              </a:rPr>
              <a:t>САДИМСЯ </a:t>
            </a:r>
            <a:br>
              <a:rPr sz="8800"/>
            </a:br>
            <a:r>
              <a:rPr b="1" lang="ru-RU" sz="8800" spc="-1" strike="noStrike">
                <a:solidFill>
                  <a:srgbClr val="862110"/>
                </a:solidFill>
                <a:latin typeface="Century Schoolbook"/>
              </a:rPr>
              <a:t>ЗА УРОКИ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74674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5f6d"/>
                </a:solidFill>
                <a:latin typeface="Century Schoolbook"/>
              </a:rPr>
              <a:t>СОВЕТЫ РОДИТЕЛЯМ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907560"/>
            <a:ext cx="746748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Не сравнивайте его умения с умениями других дет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Не кричите, лучше определите причину отсутствия у ребенка умения выполнять заданное упражне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Создайте условия для успешного выполнения ребенком домашнего зад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. Не пытайтесь выполнить за своего сына или дочь домашнее задание, это сослужит им плохую служб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. Поощряйте упорство и проявление характера в достижении цели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6. Требуйте от своего ребенка внимательного прочтения инструкций по выполнению учебных заданий, формулировки вопрос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89000"/>
            <a:ext cx="746748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7. Развивайте его внимание и внимательность при выполнении домашнего зад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8. Хвалите ребенка за своевременно и качественно выполненное домашнее задание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9. Демонстрируйте его достижения перед другими членами семьи, братьями и сестрами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0. Формируйте привычку доводить начатое дело до конца, даже если придется чем-то жертвова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1. Покупайте своему ребенку логические игры, способствующие формированию усидчивости, терпения и ответствен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2. Не отмахивайтесь от вопросов ребенка. Этим вы усугубляете проблемы, связанные с подготовкой домашних зада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2611c"/>
                </a:solidFill>
                <a:latin typeface="Century Schoolbook"/>
              </a:rPr>
              <a:t>РЕШЕНИЕ РОДИТЕЛЬСКОГО СОБРАНИЯ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одителям совместно со своим ребёнком выработать наиболее рациональный режим дня учащегося и всячески содействовать его выполнению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рганизовать в каждой семье рабочий уголок ребёнк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ддерживать у детей интерес к учебному труду, способствовать развитию их познавательной актив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чить детей выполнять домашние задания самостоятельно, пользуясь памятками: «Садимся за уроки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АНКЕТА ДЛЯ ДЕТЕЙ.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50560" y="549360"/>
            <a:ext cx="85690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a160b"/>
                </a:solidFill>
                <a:latin typeface="Century Schoolbook"/>
              </a:rPr>
              <a:t>Кто помогает тебе готовить уроки дома?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ама – 100%, папа – 33%, другие члены семьи – 22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a160b"/>
                </a:solidFill>
                <a:latin typeface="Century Schoolbook"/>
              </a:rPr>
              <a:t>В чем заключается эта помощь?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итают задание – 11%,   объясняют – 66%,        проверяют – 22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a160b"/>
                </a:solidFill>
                <a:latin typeface="Century Schoolbook"/>
              </a:rPr>
              <a:t>О чем спрашивают тебя родители, когда ты приходишь из школы?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ие оценки ты получил? -66%, что тебе задано на дом – 33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a160b"/>
                </a:solidFill>
                <a:latin typeface="Century Schoolbook"/>
              </a:rPr>
              <a:t>Уроки садишься делать сам или заставляют?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ставляют – 55%, сажусь сам – 44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a160b"/>
                </a:solidFill>
                <a:latin typeface="Century Schoolbook"/>
              </a:rPr>
              <a:t>Как поступают родители, когда ты приносишь «двойку»?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угают -77%, наказывают -11%, помогают исправить – 22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74674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АНКЕТА ДЛЯ ДЕТЕЙ.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692280"/>
            <a:ext cx="7931160" cy="57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160b"/>
                </a:solidFill>
                <a:latin typeface="Century Schoolbook"/>
              </a:rPr>
              <a:t>Чем ты занимаешься, когда возвращаешься из школы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лаю уроки – 55%, помогаю старшим – 11%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граю – 22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160b"/>
                </a:solidFill>
                <a:latin typeface="Century Schoolbook"/>
              </a:rPr>
              <a:t>Какие предметы труднее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атематика – 22%, русский язык – 55%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глийский язык – 22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160b"/>
                </a:solidFill>
                <a:latin typeface="Century Schoolbook"/>
              </a:rPr>
              <a:t>Зачем ты учишься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чтобы всё знать» – 88%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чтобы быть умнее» – 11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160b"/>
                </a:solidFill>
                <a:latin typeface="Century Schoolbook"/>
              </a:rPr>
              <a:t>Как ты оцениваешь свои успехи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рошо – 55%, нормально – 22%, нет ответа – 22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АНКЕТА ДЛЯ РОДИТЕЛЕЙ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765000"/>
            <a:ext cx="81471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160b"/>
                </a:solidFill>
                <a:latin typeface="Century Schoolbook"/>
              </a:rPr>
              <a:t>Оказываете ли Вы помощь ребенку при выполнении домашнего задания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а – 88%, нет – 11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160b"/>
                </a:solidFill>
                <a:latin typeface="Century Schoolbook"/>
              </a:rPr>
              <a:t>В чем она заключается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рка – 22%, объяснение – 66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160b"/>
                </a:solidFill>
                <a:latin typeface="Century Schoolbook"/>
              </a:rPr>
              <a:t>В какое время Ваш ребенок садится за уроки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разу после школы – 11%, в 17.00-18.00 – 66%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разное время – 22%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160b"/>
                </a:solidFill>
                <a:latin typeface="Century Schoolbook"/>
              </a:rPr>
              <a:t>Какие предметы ему даются легче, по каким испытывает затруднения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труднения: русский язык – 66%, математика – 66%, английский язык – 33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егче устные предме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5f6d"/>
                </a:solidFill>
                <a:latin typeface="Century Schoolbook"/>
              </a:rPr>
              <a:t>АНКЕТА ДЛЯ РОДИТЕЛЕЙ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125000"/>
            <a:ext cx="814716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lang="ru-RU" sz="2800" spc="-1" strike="noStrike">
                <a:solidFill>
                  <a:srgbClr val="5a160b"/>
                </a:solidFill>
                <a:latin typeface="Century Schoolbook"/>
              </a:rPr>
              <a:t>Сколько в среднем уходит времени на выполнени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160b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5a160b"/>
                </a:solidFill>
                <a:latin typeface="Century Schoolbook"/>
              </a:rPr>
              <a:t>письменных задани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0 мин – 11%, 1 час – 44%, более 1 часа – 33%, по-разному – 11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160b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5a160b"/>
                </a:solidFill>
                <a:latin typeface="Century Schoolbook"/>
              </a:rPr>
              <a:t>устных задан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0 мин. – 33%, 1 час – 44%, более 1 часа – 11%, по –разному – 11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160b"/>
                </a:solidFill>
                <a:latin typeface="Century Schoolbook"/>
              </a:rPr>
              <a:t>Ваши предложения по данной тем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менение програм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рганизация в школе «продлёнк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575f6d"/>
                </a:solidFill>
                <a:latin typeface="Century Schoolbook"/>
              </a:rPr>
              <a:t>РЕЖИМ ДНЯ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пециальные исследования показали: у тех, кто хорошо учится, есть твердо установленное время для приготовления уроков, и они его твердо придерживаются. Ребята признавались, что когда приближается час приготовления уроков, у них пропадает интерес к играм, не хочется больше гулять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575f6d"/>
                </a:solidFill>
                <a:latin typeface="Century Schoolbook"/>
              </a:rPr>
              <a:t>РЕЖИМ ДНЯ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И, напротив, среди слабых учеников много таких, у которых нет постоянного отведенного для занятий времени. Воспитание привычки к систематической работе начинается с установления твердого режима занятий, без этого не могут быть достигнуты успехи в учеб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«САДИМСЯ ЗА УРОКИ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50560" y="76464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Садитесь за уроки всегда в одно и тоже время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Проветрите комнату за 10 минут до начала занятий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Выключи радио, телевизор. В комнате, где ты работаешь, должно быть тихо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Сотри со стола пыль. Смени, если необходимо, загрязнённый лист бумаг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Проверь, на своём ли месте находится настольная ламп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a160b"/>
                </a:solidFill>
                <a:latin typeface="Century Schoolbook"/>
              </a:rPr>
              <a:t>Уточни расписание уроков на завтра. Проверь, все ли задания записаны в дневнике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96080" indent="-4960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a160b"/>
                </a:solidFill>
                <a:latin typeface="Century Schoolbook"/>
              </a:rPr>
              <a:t>Приготовь письменные принадлежности для занятий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96080" indent="-4960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a160b"/>
                </a:solidFill>
                <a:latin typeface="Century Schoolbook"/>
              </a:rPr>
              <a:t>Эти принадлежности, а также учебники, тетради, дневник положи на то место, которое ты всегда отводишь на столе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96080" indent="-4960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a160b"/>
                </a:solidFill>
                <a:latin typeface="Century Schoolbook"/>
              </a:rPr>
              <a:t>Убери со стола всё лишнее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96080" indent="-4960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a160b"/>
                </a:solidFill>
                <a:latin typeface="Century Schoolbook"/>
              </a:rPr>
              <a:t>Пришло время начать работу. Сядь удобно. Открой учебник…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0:52:54Z</dcterms:created>
  <dc:creator>Admin</dc:creator>
  <dc:description/>
  <dc:language>en-US</dc:language>
  <cp:lastModifiedBy>Admin</cp:lastModifiedBy>
  <dcterms:modified xsi:type="dcterms:W3CDTF">2013-11-04T17:32:31Z</dcterms:modified>
  <cp:revision>14</cp:revision>
  <dc:subject/>
  <dc:title>Садимся  за уроки</dc:title>
</cp:coreProperties>
</file>