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DCEA2-58D6-48C0-836E-D73626D6140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664A3-000E-41FA-8C3C-397F65C6C85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AB149-EE26-4D77-9F7C-863F76ACF21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10A03-6739-413E-A066-A2EC7859335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9E2F3-B906-4709-9BBF-AA0D131BA67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79DFE-A0D7-4B5E-B353-49F77044421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E0C9F-46B4-4559-9A0A-D9AC60C5E1C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9FD47-9F97-45BF-B8C6-92B25FE8E4D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F95B1-BB92-4773-A54D-2838AEC4798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3DED0-6700-4DD2-BCBF-40A2481F1F1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BC2B7-3DBF-4B43-B9D3-9CB3348038A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07905-73D5-44BA-94FC-2F8A38E2277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4E3B3-5A69-4B29-9B51-0AF9C9D6241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8E436-3110-461E-9174-B6467F11B1D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2AF59-EEF4-4175-A696-1FA74500A9B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3FD46-CFFA-4774-A9DC-89A2408EC60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BB724-9CA2-49FB-86E2-DC972DF747A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65E22-FAB4-4E7F-AA07-180A170541F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6F832-15BD-415A-9FD5-DC199F0AE55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D5AC7-4457-4138-85F8-40D9C09F9E5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CB0CF-B753-49B2-946C-CB5EAB02FF0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B168-A8D1-4274-94F7-6A8779F3A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CCE1-8FF8-47DC-8382-30984AE59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1E9128-09F4-4FF6-ADEB-5A56C4E64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226B07-0233-4CD7-B158-E61A1B4D0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5A1C23-0C2E-4EB4-A48E-DFC9F9FD9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7A9988-3088-49BA-B847-400A0F9EE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4AA7C5-A539-4060-9030-1C8E83B11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7A2C45-60EA-4081-8633-1DF4501E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6F406C-EF2F-4ABA-BD99-9B502B4D6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8EE53B-0B2B-4808-82F2-0DAB4DDB9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EA41CE-93ED-4477-A60D-0B76C737B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D95B8C-00D4-4CBA-9220-D4189E458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FD41-A0B8-41FF-B178-B787A5634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F3C20E-990C-4EE2-9796-52163DBCC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F27472-D3D7-437C-B1EA-922ADECF3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582050-9EC4-4CAD-8044-385B5C854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B9C6E1-67F8-4508-A6E0-898122063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80B7A7-8CC7-4DB8-A0BE-F58A2DB6F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0394EE-D989-4473-A0DA-7C2430797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6C5DDD-3256-45CF-99F2-872BD9022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9D68B2-C9CF-4D7C-B6F6-351D10A27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E0AC87-47D1-4F90-A3BE-46751F149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D30F63-3FE3-43F2-AC85-C345744CC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1F4B-29D7-431B-B56C-CF5A2849B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48FB04-E23B-409E-9F29-980E6304E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0462A3-6C4F-4513-916D-75E71553B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7AD9D8-AB7A-4F54-8E7F-CCE40ED9E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DCFF68-A6AE-4758-9BB3-EC3AD94F2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31B726-FD78-4582-BCCD-B96DD6EB4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0B5754-1EDF-43AC-B1E8-FD1CDDBA1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9F7533-E2B0-406F-AA5B-8A7AD5F77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21CEDB-831E-4AF7-8A56-A568A27F0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D3EEC1-5D73-4649-830E-9643F6CE4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4C7CA3-503C-4DB1-83CD-C723A80E0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56DC2-4C67-44F3-B40D-BDB8661B1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0DE3F8-D2B5-4261-B3DE-9E21CACF1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14BF4C-D328-4994-A3F2-194316CC2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016A0F-34B6-4C17-971B-BA520C6A2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3DAB8A-3DDC-485B-9629-87305D981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D71E4A-2E63-4C4E-894E-B5D3F2E98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591A5F-F637-4D41-849D-973FC2ABD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E33E01-5147-4A0A-A8D0-0D2DAF1A4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7BDC6F-561C-47F7-A4D0-F128996C9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35B364-7F65-422D-B9E1-E7D0B8FFC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4632C9-5009-4509-8759-31004C671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9EAA2-69AD-41AD-91F9-DB1741D8F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E4D81A-1F21-4F7E-94BD-8F2E4E716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927781-96BC-4560-89ED-5524B19E9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EAEA4F-AA7A-4D52-B38A-9763F14AB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DEA197-8284-4D1F-AB38-DCC7B6007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7A0E5D-2F51-4CCC-87B9-861771439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3F09F4-34AA-4962-800B-EEA0BA3E7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96BCA9-3208-4302-A4FA-1940A692A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4E7689-0F7E-4F59-B21B-51067D979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886ECD-CF87-4B20-9B00-DF8194CB5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4D423C-736F-4D86-9EE9-A19DFF26E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D6269-57B2-4271-8527-71CA41EF6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95B4D3-7435-4256-9E8C-DB1EAC8F4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553E99-6E4F-4E0A-ABF9-DA25B9BC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E54D7E-1582-433B-BF47-D4C93211B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21105A-467E-450B-9258-45FD1D14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1E2657-8A78-4685-B75A-3A7C0B026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DD2072-9425-4610-B320-BEA24884A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06E59F-7C14-4531-957B-60B513896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D15CA-8E51-4D32-AFEB-697C1044C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290B2-95C5-4C5B-B86B-10B22948A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DB5CC-D73C-4020-B3CF-6218E9BA4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41DCB-9C66-4BFD-9188-407D7C22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E8CE-20D8-4879-A38A-B370E5564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A21EA-D634-4F74-BB42-7B3C3C87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7577E-A74B-47CD-A03A-30876B14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C0E2F-E91A-4A5C-845F-5936BF8DF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40ACF-25B4-44A8-ABDD-527E14767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7512C-F97F-4608-B5EE-BE7C9CC0A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F8873-BE38-4179-9A00-630AA27B4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13F8F-DE90-436D-99BD-B247D7108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68C65-BDB4-43EF-A9B6-480E69773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C084B-5E1C-410E-94ED-61659AC68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D0D8E-F316-447E-A767-1184CA633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204B-24D6-4A8D-AF28-662DE60C9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6BEAF-C18F-4202-9C60-9D88EC867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3190E-71FF-4F28-A088-6EDAA8CEF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AF55E-5798-4675-8308-BD0770D3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05B84-49CD-422F-9403-452F853E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97281-E35A-4CA6-AD7F-08C18BC7F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80D89-06BE-4B40-9280-839FECCB4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8B455-8426-4AB7-A61D-48A236AA4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0AA2B-FDDD-4F3C-8818-B524CA07F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56268-88F0-4A5A-8EC6-EA837DC74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EDF5D-9707-4F32-8EAE-78DCD7EB0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9698-C8D1-427C-BAA8-E697A7AA7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23335-EB71-4A0C-9952-397076B96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387A6-AF46-46EE-9F82-79B418A50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88E3B-D512-4835-B1D4-9625FB3F6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A883E-67E5-4310-8260-B3EC31C9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D6313-C056-48B3-BB0D-DE57CCFDD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0B8C5-6803-4747-BA61-0CD33722E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37269-7A39-4815-BAFF-5F37A2204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429DC-13B9-44D0-ABC7-C5E46A6B5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2E197-953B-4050-9D27-C9335C397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93E21-D0D7-419E-83C1-63024677D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1268-D840-401F-8C80-3266AC69F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A0E5E-8E7F-4199-8FF8-CC4B7DB24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D5B8D-8B48-467D-B582-CEBA2236F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5BDC33-3A8A-403C-83B2-246BCE6A1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7193E-B10B-4A75-8AA9-322DE8945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94F26-6445-4D16-8B24-7D98646F1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7DDAC3-72B2-471C-8560-18387707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69F80-96FF-4EB7-B2B9-AA022AF15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8AEA5-085A-420E-BFDB-19D1A619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5CA0F-D6CB-4012-9C43-6206325BB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2B172A-4BDA-4003-98D4-04B52BBA5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79EB-5F18-4D4F-9C5D-7D2417970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2DE8E-BCD6-490B-81A5-A91AE7B6B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3500B8-74BC-4544-85B5-D9ABE381C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291164-6936-48C9-9E08-73B5F3243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E0F899-A0E5-4EE4-B5DF-D843D8573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14BC6B-F5D2-4407-A4C6-1E79443BE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0FE13D-E0E8-4F81-A439-D3C777B01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BACF40-D99D-48A9-93AF-12FB77F85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D6BED6-8EE5-476B-B5E9-23D461501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275C7C-15C0-4951-8F1A-FFD94F30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8A53D-8C5F-4D85-B2D6-E76B96344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A301-2C3E-43C4-AB5C-B587DBF4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A7B5AF-1D7C-4768-99CC-8AC61BDAC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48D34F-8503-450D-A005-E5B445A83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F65CE5-AFA5-4BE7-AD40-27C5A50A9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CB437A-D623-4F50-B1B4-1F4E4234A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B5F902-DD12-4475-9111-0A50315E9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7651D5-534F-410F-957E-E4A627F23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2044B4-DEEE-4869-9CF2-71F36DFB3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2B2F0E-DE5E-4E6C-9D47-A14921CAB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35EEEF-C10E-4425-917D-EF8DB9D91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80658E-187B-478A-856B-F3C909263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0957-2CBD-45AA-8724-B895CC56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50FC2A-1D86-411C-B5AB-4CE5AF227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597598-B568-4B0B-9ECC-0BDF3C8D5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F667B0-0510-4959-81D3-C8FED073D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4DDF6F-82A2-4B6B-845E-D70E551F3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71890E-430C-4550-891C-88058BF4B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9EF2CC-CCB6-429C-A7D4-1AF3BC318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730E78-5E58-4670-9C6C-08C3AA221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DFFBFB-85CB-4006-8528-E3E9D39BF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9C12E0-9AC8-412A-80BD-71A8C7EF5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842E1F-B4EC-49D7-934E-99C0D1640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9BA1-3485-4F2A-8587-9F94DCFF8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7B3926-F156-4776-A88B-15133FF15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95B22D-7D1E-43A8-AB65-55123984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60031E-E8E7-4A70-A9C2-205F5EA2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14A4D1-E4F4-4A6A-A38E-2525CC69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E76798-B6E4-463B-A37E-FE39C5547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A9749C-0307-4513-8437-552F3120F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68C987-EFD6-4D55-9E0B-2B3AE1118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4E0266-AB1D-4DA8-9BA6-17AEC5645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26D9AE-4F0B-4011-9D0D-6B392A98C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3C9D50-5590-4B5A-9FA6-9F1ABD2E6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368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0040" indent="-224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2560" indent="-224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5080" indent="-2246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5080" indent="-2246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5080" indent="-2246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94A19-34F7-4FF9-8C55-C4F1AA8EE2C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368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0040" indent="-224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2560" indent="-224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5080" indent="-2246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5080" indent="-2246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5080" indent="-2246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DF0FA-526E-4C53-9D24-1CB09805385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368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0040" indent="-224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2560" indent="-224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5080" indent="-2246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5080" indent="-2246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5080" indent="-2246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708D2-5CFD-44BA-A6DF-6B8A11F4AD8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7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368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0040" indent="-224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2560" indent="-224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5080" indent="-2246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5080" indent="-2246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5080" indent="-2246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A6A55-AC30-4D0F-A79B-5638DB28F17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368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0040" indent="-224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2560" indent="-224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5080" indent="-2246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5080" indent="-2246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5080" indent="-2246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 type="dt" idx="37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 type="ftr" idx="38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 type="sldNum" idx="39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49FA3-D23A-46BD-84EB-C0FA296B349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368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0040" indent="-224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2560" indent="-224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5080" indent="-2246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5080" indent="-2246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5080" indent="-2246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09E9A-B0FA-4333-9CC4-CF68778AA81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368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0040" indent="-224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2560" indent="-224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5080" indent="-2246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5080" indent="-2246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5080" indent="-2246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7FEC9-C9BC-4DD0-A135-F18AE76656C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368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0040" indent="-224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2560" indent="-224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5080" indent="-2246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5080" indent="-2246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5080" indent="-2246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83BEA-EEBD-48CB-A555-76085BCB93E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368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0040" indent="-224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2560" indent="-224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5080" indent="-2246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5080" indent="-2246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5080" indent="-2246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C4036-405D-4760-A843-2CFDFBA9819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368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0040" indent="-224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2560" indent="-224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5080" indent="-2246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5080" indent="-2246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5080" indent="-2246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F109A-2059-4D3E-8458-43A723BB36C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368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0040" indent="-224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2560" indent="-224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5080" indent="-2246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5080" indent="-2246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5080" indent="-2246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B1FD9-673A-41E5-807D-083184DB62D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368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0040" indent="-224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2560" indent="-224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5080" indent="-2246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5080" indent="-2246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5080" indent="-2246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8427E-8266-428C-A902-0E7436FABCF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368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0040" indent="-224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2560" indent="-224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5080" indent="-2246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5080" indent="-2246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5080" indent="-2246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2A841-1120-40C1-8E71-AB0BAF55C55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285920" y="1085760"/>
            <a:ext cx="7143840" cy="212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21304"/>
                </a:solidFill>
                <a:latin typeface="Arial"/>
                <a:ea typeface="Arial"/>
              </a:rPr>
              <a:t>Технология организации групповой работы</a:t>
            </a:r>
            <a:br>
              <a:rPr sz="4000"/>
            </a:br>
            <a:r>
              <a:rPr b="0" lang="ru-RU" sz="4000" spc="-1" strike="noStrike">
                <a:solidFill>
                  <a:srgbClr val="221304"/>
                </a:solidFill>
                <a:latin typeface="Arial"/>
                <a:ea typeface="Arial"/>
              </a:rPr>
              <a:t>в начальной школе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мение учиться – это новообразование, которое, в первую  очередь, связано с освоением формы учебного сотрудничест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Г.А. Цукерма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Arial"/>
                <a:ea typeface="Arial"/>
              </a:rPr>
              <a:t>Виды групповой работы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633" name="Picture 10" descr=""/>
          <p:cNvPicPr/>
          <p:nvPr/>
        </p:nvPicPr>
        <p:blipFill>
          <a:blip r:embed="rId1"/>
          <a:stretch/>
        </p:blipFill>
        <p:spPr>
          <a:xfrm>
            <a:off x="1285920" y="2286000"/>
            <a:ext cx="2249280" cy="3367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34" name="Скругленный прямоугольник 6"/>
          <p:cNvSpPr/>
          <p:nvPr/>
        </p:nvSpPr>
        <p:spPr>
          <a:xfrm>
            <a:off x="6286680" y="1714680"/>
            <a:ext cx="2214360" cy="857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1ab5e"/>
              </a:gs>
              <a:gs pos="100000">
                <a:srgbClr val="f5f8f1"/>
              </a:gs>
            </a:gsLst>
            <a:lin ang="16200000"/>
          </a:gradFill>
          <a:ln w="9360">
            <a:solidFill>
              <a:srgbClr val="c9d7b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хота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за сокровища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5" name="Схема 7" descr=""/>
          <p:cNvPicPr/>
          <p:nvPr/>
        </p:nvPicPr>
        <p:blipFill>
          <a:blip r:embed="rId2"/>
          <a:stretch/>
        </p:blipFill>
        <p:spPr>
          <a:xfrm>
            <a:off x="3932280" y="3468600"/>
            <a:ext cx="4803840" cy="301140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Arial"/>
                <a:ea typeface="Arial"/>
              </a:rPr>
              <a:t>Виды групповой работы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637" name="Схема 6" descr=""/>
          <p:cNvPicPr/>
          <p:nvPr/>
        </p:nvPicPr>
        <p:blipFill>
          <a:blip r:embed="rId1"/>
          <a:stretch/>
        </p:blipFill>
        <p:spPr>
          <a:xfrm>
            <a:off x="281160" y="1920960"/>
            <a:ext cx="5583240" cy="410832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3" descr=""/>
          <p:cNvPicPr/>
          <p:nvPr/>
        </p:nvPicPr>
        <p:blipFill>
          <a:blip r:embed="rId2"/>
          <a:stretch/>
        </p:blipFill>
        <p:spPr>
          <a:xfrm>
            <a:off x="5786280" y="4000680"/>
            <a:ext cx="2314800" cy="22064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39" name="Скругленный прямоугольник 10"/>
          <p:cNvSpPr/>
          <p:nvPr/>
        </p:nvSpPr>
        <p:spPr>
          <a:xfrm>
            <a:off x="6286680" y="1714680"/>
            <a:ext cx="2214360" cy="857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15e79"/>
              </a:gs>
              <a:gs pos="100000">
                <a:srgbClr val="f5f8f1"/>
              </a:gs>
            </a:gsLst>
            <a:lin ang="16200000"/>
          </a:gradFill>
          <a:ln w="9360">
            <a:solidFill>
              <a:srgbClr val="c9d7b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нежный ко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Arial"/>
                <a:ea typeface="Arial"/>
              </a:rPr>
              <a:t>Виды групповой работы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641" name="Picture 2" descr=""/>
          <p:cNvPicPr/>
          <p:nvPr/>
        </p:nvPicPr>
        <p:blipFill>
          <a:blip r:embed="rId1"/>
          <a:stretch/>
        </p:blipFill>
        <p:spPr>
          <a:xfrm>
            <a:off x="1163520" y="1584360"/>
            <a:ext cx="2841840" cy="2841480"/>
          </a:xfrm>
          <a:prstGeom prst="rect">
            <a:avLst/>
          </a:prstGeom>
          <a:ln w="0">
            <a:noFill/>
          </a:ln>
        </p:spPr>
      </p:pic>
      <p:pic>
        <p:nvPicPr>
          <p:cNvPr id="642" name="Схема 6" descr=""/>
          <p:cNvPicPr/>
          <p:nvPr/>
        </p:nvPicPr>
        <p:blipFill>
          <a:blip r:embed="rId2"/>
          <a:stretch/>
        </p:blipFill>
        <p:spPr>
          <a:xfrm>
            <a:off x="3255840" y="2468520"/>
            <a:ext cx="5894640" cy="4164120"/>
          </a:xfrm>
          <a:prstGeom prst="rect">
            <a:avLst/>
          </a:prstGeom>
          <a:ln w="0">
            <a:noFill/>
          </a:ln>
        </p:spPr>
      </p:pic>
      <p:sp>
        <p:nvSpPr>
          <p:cNvPr id="643" name="Скругленный прямоугольник 7"/>
          <p:cNvSpPr/>
          <p:nvPr/>
        </p:nvSpPr>
        <p:spPr>
          <a:xfrm>
            <a:off x="6429240" y="1714680"/>
            <a:ext cx="2071800" cy="642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ad6e6"/>
              </a:gs>
              <a:gs pos="100000">
                <a:srgbClr val="fefde3"/>
              </a:gs>
            </a:gsLst>
            <a:lin ang="16200000"/>
          </a:gradFill>
          <a:ln w="9360">
            <a:solidFill>
              <a:srgbClr val="c9d7b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азл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Arial"/>
                <a:ea typeface="Arial"/>
              </a:rPr>
              <a:t>Виды групповой работы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645" name="Picture 2" descr=""/>
          <p:cNvPicPr/>
          <p:nvPr/>
        </p:nvPicPr>
        <p:blipFill>
          <a:blip r:embed="rId1"/>
          <a:stretch/>
        </p:blipFill>
        <p:spPr>
          <a:xfrm>
            <a:off x="1341360" y="1609560"/>
            <a:ext cx="2359080" cy="4973760"/>
          </a:xfrm>
          <a:prstGeom prst="rect">
            <a:avLst/>
          </a:prstGeom>
          <a:ln w="0">
            <a:noFill/>
          </a:ln>
        </p:spPr>
      </p:pic>
      <p:pic>
        <p:nvPicPr>
          <p:cNvPr id="646" name="Схема 6" descr=""/>
          <p:cNvPicPr/>
          <p:nvPr/>
        </p:nvPicPr>
        <p:blipFill>
          <a:blip r:embed="rId2"/>
          <a:stretch/>
        </p:blipFill>
        <p:spPr>
          <a:xfrm>
            <a:off x="2779560" y="2236680"/>
            <a:ext cx="6108840" cy="4335480"/>
          </a:xfrm>
          <a:prstGeom prst="rect">
            <a:avLst/>
          </a:prstGeom>
          <a:ln w="0">
            <a:noFill/>
          </a:ln>
        </p:spPr>
      </p:pic>
      <p:sp>
        <p:nvSpPr>
          <p:cNvPr id="647" name="Скругленный прямоугольник 7"/>
          <p:cNvSpPr/>
          <p:nvPr/>
        </p:nvSpPr>
        <p:spPr>
          <a:xfrm>
            <a:off x="7000920" y="1714680"/>
            <a:ext cx="1714320" cy="857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43c00"/>
              </a:gs>
              <a:gs pos="100000">
                <a:srgbClr val="fcfab5"/>
              </a:gs>
            </a:gsLst>
            <a:lin ang="16200000"/>
          </a:gradFill>
          <a:ln w="9360">
            <a:solidFill>
              <a:srgbClr val="c9d7b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рием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«Зигзаг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1304"/>
                </a:solidFill>
                <a:latin typeface="Arial"/>
                <a:ea typeface="Arial"/>
              </a:rPr>
              <a:t>Поведение учителя во время групповой работы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649" name="Содержимое 3" descr=""/>
          <p:cNvPicPr/>
          <p:nvPr/>
        </p:nvPicPr>
        <p:blipFill>
          <a:blip r:embed="rId1"/>
          <a:stretch/>
        </p:blipFill>
        <p:spPr>
          <a:xfrm>
            <a:off x="1054080" y="1706400"/>
            <a:ext cx="7675560" cy="487044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1304"/>
                </a:solidFill>
                <a:latin typeface="Arial"/>
                <a:ea typeface="Arial"/>
              </a:rPr>
              <a:t>Принципы выбора заданий </a:t>
            </a:r>
            <a:br>
              <a:rPr sz="2800"/>
            </a:br>
            <a:r>
              <a:rPr b="0" lang="en-US" sz="2800" spc="-1" strike="noStrike">
                <a:solidFill>
                  <a:srgbClr val="221304"/>
                </a:solidFill>
                <a:latin typeface="Arial"/>
                <a:ea typeface="Arial"/>
              </a:rPr>
              <a:t>для групповой работы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651" name="Содержимое 3" descr=""/>
          <p:cNvPicPr/>
          <p:nvPr/>
        </p:nvPicPr>
        <p:blipFill>
          <a:blip r:embed="rId1"/>
          <a:stretch/>
        </p:blipFill>
        <p:spPr>
          <a:xfrm>
            <a:off x="1006560" y="1749600"/>
            <a:ext cx="7845480" cy="475452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1304"/>
                </a:solidFill>
                <a:latin typeface="Arial"/>
                <a:ea typeface="Arial"/>
              </a:rPr>
              <a:t>Правила совместной работы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653" name=""/>
          <p:cNvGraphicFramePr/>
          <p:nvPr/>
        </p:nvGraphicFramePr>
        <p:xfrm>
          <a:off x="1643040" y="1752480"/>
          <a:ext cx="6429240" cy="4622760"/>
        </p:xfrm>
        <a:graphic>
          <a:graphicData uri="http://schemas.openxmlformats.org/drawingml/2006/table">
            <a:tbl>
              <a:tblPr/>
              <a:tblGrid>
                <a:gridCol w="6429240"/>
              </a:tblGrid>
              <a:tr h="696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авила совместной рабо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086a5"/>
                      </a:solidFill>
                    </a:lnL>
                    <a:lnR w="5760">
                      <a:solidFill>
                        <a:srgbClr val="3086a5"/>
                      </a:solidFill>
                    </a:lnR>
                    <a:lnT w="5760">
                      <a:solidFill>
                        <a:srgbClr val="3086a5"/>
                      </a:solidFill>
                    </a:lnT>
                    <a:lnB w="5760">
                      <a:solidFill>
                        <a:srgbClr val="3086a5"/>
                      </a:solidFill>
                    </a:lnB>
                    <a:solidFill>
                      <a:srgbClr val="e8edf0"/>
                    </a:solidFill>
                  </a:tcPr>
                </a:tc>
              </a:tr>
              <a:tr h="1336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) работать дружно: быть внимательными друг к другу, вежливыми, не отвлекаться на посторонние дела, не мешать друг другу, вовремя оказывать помощь, выполнять указания старш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086a5"/>
                      </a:solidFill>
                    </a:lnL>
                    <a:lnR w="5760">
                      <a:solidFill>
                        <a:srgbClr val="3086a5"/>
                      </a:solidFill>
                    </a:lnR>
                    <a:lnT w="5760">
                      <a:solidFill>
                        <a:srgbClr val="3086a5"/>
                      </a:solidFill>
                    </a:lnT>
                    <a:lnB w="5760">
                      <a:solidFill>
                        <a:srgbClr val="3086a5"/>
                      </a:solidFill>
                    </a:lnB>
                    <a:solidFill>
                      <a:srgbClr val="cdd9e1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) работать по алгоритму (плану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086a5"/>
                      </a:solidFill>
                    </a:lnL>
                    <a:lnR w="5760">
                      <a:solidFill>
                        <a:srgbClr val="3086a5"/>
                      </a:solidFill>
                    </a:lnR>
                    <a:lnT w="5760">
                      <a:solidFill>
                        <a:srgbClr val="3086a5"/>
                      </a:solidFill>
                    </a:lnT>
                    <a:lnB w="5760">
                      <a:solidFill>
                        <a:srgbClr val="3086a5"/>
                      </a:solidFill>
                    </a:lnB>
                    <a:solidFill>
                      <a:srgbClr val="e8edf0"/>
                    </a:solidFill>
                  </a:tcPr>
                </a:tc>
              </a:tr>
              <a:tr h="696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) своевременно выполнять задание: следить за временем, доводить начатое дело до кон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086a5"/>
                      </a:solidFill>
                    </a:lnL>
                    <a:lnR w="5760">
                      <a:solidFill>
                        <a:srgbClr val="3086a5"/>
                      </a:solidFill>
                    </a:lnR>
                    <a:lnT w="5760">
                      <a:solidFill>
                        <a:srgbClr val="3086a5"/>
                      </a:solidFill>
                    </a:lnT>
                    <a:lnB w="5760">
                      <a:solidFill>
                        <a:srgbClr val="3086a5"/>
                      </a:solidFill>
                    </a:lnB>
                    <a:solidFill>
                      <a:srgbClr val="cdd9e1"/>
                    </a:solidFill>
                  </a:tcPr>
                </a:tc>
              </a:tr>
              <a:tr h="695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) качественно выполнять работу (аккуратно, без ошибок), соблюдать технику безопасности, экономить материал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086a5"/>
                      </a:solidFill>
                    </a:lnL>
                    <a:lnR w="5760">
                      <a:solidFill>
                        <a:srgbClr val="3086a5"/>
                      </a:solidFill>
                    </a:lnR>
                    <a:lnT w="5760">
                      <a:solidFill>
                        <a:srgbClr val="3086a5"/>
                      </a:solidFill>
                    </a:lnT>
                    <a:lnB w="5760">
                      <a:solidFill>
                        <a:srgbClr val="3086a5"/>
                      </a:solidFill>
                    </a:lnB>
                    <a:solidFill>
                      <a:srgbClr val="e8edf0"/>
                    </a:solidFill>
                  </a:tcPr>
                </a:tc>
              </a:tr>
              <a:tr h="696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) каждый из группы должен уметь защищать общее дело и свое, в част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086a5"/>
                      </a:solidFill>
                    </a:lnL>
                    <a:lnR w="5760">
                      <a:solidFill>
                        <a:srgbClr val="3086a5"/>
                      </a:solidFill>
                    </a:lnR>
                    <a:lnT w="5760">
                      <a:solidFill>
                        <a:srgbClr val="3086a5"/>
                      </a:solidFill>
                    </a:lnT>
                    <a:lnB w="5760">
                      <a:solidFill>
                        <a:srgbClr val="3086a5"/>
                      </a:solidFill>
                    </a:lnB>
                    <a:solidFill>
                      <a:srgbClr val="cdd9e1"/>
                    </a:solidFill>
                  </a:tcPr>
                </a:tc>
              </a:tr>
            </a:tbl>
          </a:graphicData>
        </a:graphic>
      </p:graphicFrame>
      <p:sp>
        <p:nvSpPr>
          <p:cNvPr id="654" name="Номер слайда 3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8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1304"/>
                </a:solidFill>
                <a:latin typeface="Arial"/>
                <a:ea typeface="Arial"/>
              </a:rPr>
              <a:t>Критерии эффективности групповой работы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656" name="Содержимое 5" descr=""/>
          <p:cNvPicPr/>
          <p:nvPr/>
        </p:nvPicPr>
        <p:blipFill>
          <a:blip r:embed="rId1"/>
          <a:stretch/>
        </p:blipFill>
        <p:spPr>
          <a:xfrm>
            <a:off x="1060560" y="1731960"/>
            <a:ext cx="7632720" cy="462600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21304"/>
                </a:solidFill>
                <a:latin typeface="Arial"/>
                <a:ea typeface="Arial"/>
              </a:rPr>
              <a:t>Учителю на заметку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1071720" y="164304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ельзя принуждать к общей работе детей, которые не хотят вместе работ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ледует разрешить отсесть в другое место ученику, который хочет работать оди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групповая работа должна занимать не более 15-20 минут в I – II классах, не более 20-30 минут – в III – IV класса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ельзя требовать в классе абсолютной тишин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ельзя наказывать детей лишением права участвовать в совместной работ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Равнобедренный треугольник 6"/>
          <p:cNvSpPr/>
          <p:nvPr/>
        </p:nvSpPr>
        <p:spPr>
          <a:xfrm rot="19204200">
            <a:off x="6538680" y="4863600"/>
            <a:ext cx="2220840" cy="1160640"/>
          </a:xfrm>
          <a:prstGeom prst="triangle">
            <a:avLst>
              <a:gd name="adj" fmla="val 57037"/>
            </a:avLst>
          </a:prstGeom>
          <a:solidFill>
            <a:srgbClr val="dab66f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0" name="Picture 6" descr=""/>
          <p:cNvPicPr/>
          <p:nvPr/>
        </p:nvPicPr>
        <p:blipFill>
          <a:blip r:embed="rId1"/>
          <a:stretch/>
        </p:blipFill>
        <p:spPr>
          <a:xfrm>
            <a:off x="3670200" y="4383000"/>
            <a:ext cx="2376720" cy="237816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1304"/>
                </a:solidFill>
                <a:latin typeface="Arial"/>
                <a:ea typeface="Arial"/>
              </a:rPr>
              <a:t>Что почитать о групповой форме работы?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999720" y="185724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Цукерман Г.А. Введение в школьную жизнь. - М.: Новая жизнь, 1994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Цукерман Г.А. Виды общения в обучении. Томск : Пеленг, 199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Глазкова А. Организация индивидуальной, групповой, коллективной деятельности. // Начальная школа.- 1999,   № 1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ередов И.М. Формы учебной работы в средней школе: Книга для учителя. М.: Просвещение, 198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урятов В.М. Как организовать обучение в малых группах. СПб.: Педагогика,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221304"/>
                </a:solidFill>
                <a:uFillTx/>
                <a:latin typeface="Arial"/>
                <a:ea typeface="Arial"/>
              </a:rPr>
              <a:t>Цель групповой работы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595" name="Содержимое 2"/>
          <p:cNvGrpSpPr/>
          <p:nvPr/>
        </p:nvGrpSpPr>
        <p:grpSpPr>
          <a:xfrm>
            <a:off x="1554120" y="2341440"/>
            <a:ext cx="4816440" cy="2602080"/>
            <a:chOff x="1554120" y="2341440"/>
            <a:chExt cx="4816440" cy="2602080"/>
          </a:xfrm>
        </p:grpSpPr>
        <p:pic>
          <p:nvPicPr>
            <p:cNvPr id="596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1554120" y="2341440"/>
              <a:ext cx="4816440" cy="260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7" name=""/>
            <p:cNvSpPr/>
            <p:nvPr/>
          </p:nvSpPr>
          <p:spPr>
            <a:xfrm>
              <a:off x="1571760" y="2357280"/>
              <a:ext cx="4786200" cy="257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marL="341280" indent="-341280" algn="ctr">
                <a:lnSpc>
                  <a:spcPct val="100000"/>
                </a:lnSpc>
                <a:spcBef>
                  <a:spcPts val="799"/>
                </a:spcBef>
                <a:buClr>
                  <a:srgbClr val="4c2b0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4c2b09"/>
                  </a:solidFill>
                  <a:latin typeface="Arial"/>
                  <a:ea typeface="Arial"/>
                </a:rPr>
                <a:t>активное включение </a:t>
              </a:r>
              <a:br>
                <a:rPr sz="3200"/>
              </a:br>
              <a:r>
                <a:rPr b="0" lang="ru-RU" sz="3200" spc="-1" strike="noStrike">
                  <a:solidFill>
                    <a:srgbClr val="4c2b09"/>
                  </a:solidFill>
                  <a:latin typeface="Arial"/>
                  <a:ea typeface="Arial"/>
                </a:rPr>
                <a:t>каждого ученика </a:t>
              </a:r>
              <a:br>
                <a:rPr sz="3200"/>
              </a:br>
              <a:r>
                <a:rPr b="0" lang="ru-RU" sz="3200" spc="-1" strike="noStrike">
                  <a:solidFill>
                    <a:srgbClr val="4c2b09"/>
                  </a:solidFill>
                  <a:latin typeface="Arial"/>
                  <a:ea typeface="Arial"/>
                </a:rPr>
                <a:t>в процесс усвоения </a:t>
              </a:r>
              <a:br>
                <a:rPr sz="3200"/>
              </a:br>
              <a:r>
                <a:rPr b="0" lang="ru-RU" sz="3200" spc="-1" strike="noStrike">
                  <a:solidFill>
                    <a:srgbClr val="4c2b09"/>
                  </a:solidFill>
                  <a:latin typeface="Arial"/>
                  <a:ea typeface="Arial"/>
                </a:rPr>
                <a:t>учебного материала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98" name="Picture 2" descr=""/>
          <p:cNvPicPr/>
          <p:nvPr/>
        </p:nvPicPr>
        <p:blipFill>
          <a:blip r:embed="rId2"/>
          <a:stretch/>
        </p:blipFill>
        <p:spPr>
          <a:xfrm>
            <a:off x="6659640" y="2276640"/>
            <a:ext cx="1981080" cy="254772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Прямоугольник 7" descr=""/>
          <p:cNvPicPr/>
          <p:nvPr/>
        </p:nvPicPr>
        <p:blipFill>
          <a:blip r:embed="rId1"/>
          <a:stretch/>
        </p:blipFill>
        <p:spPr>
          <a:xfrm>
            <a:off x="987480" y="2828880"/>
            <a:ext cx="7705800" cy="110340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Прямая соединительная линия 13"/>
          <p:cNvSpPr/>
          <p:nvPr/>
        </p:nvSpPr>
        <p:spPr>
          <a:xfrm>
            <a:off x="2000160" y="3506760"/>
            <a:ext cx="6037200" cy="0"/>
          </a:xfrm>
          <a:prstGeom prst="line">
            <a:avLst/>
          </a:prstGeom>
          <a:ln cap="rnd" w="44280">
            <a:solidFill>
              <a:srgbClr val="3086a5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Прямая соединительная линия 14"/>
          <p:cNvSpPr/>
          <p:nvPr/>
        </p:nvSpPr>
        <p:spPr>
          <a:xfrm>
            <a:off x="2000160" y="4500720"/>
            <a:ext cx="6037200" cy="0"/>
          </a:xfrm>
          <a:prstGeom prst="line">
            <a:avLst/>
          </a:prstGeom>
          <a:ln cap="rnd" w="44280">
            <a:solidFill>
              <a:srgbClr val="3086a5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Прямая соединительная линия 15"/>
          <p:cNvSpPr/>
          <p:nvPr/>
        </p:nvSpPr>
        <p:spPr>
          <a:xfrm>
            <a:off x="2000160" y="5572080"/>
            <a:ext cx="6037200" cy="0"/>
          </a:xfrm>
          <a:prstGeom prst="line">
            <a:avLst/>
          </a:prstGeom>
          <a:ln cap="rnd" w="44280">
            <a:solidFill>
              <a:srgbClr val="3086a5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Прямая соединительная линия 7"/>
          <p:cNvSpPr/>
          <p:nvPr/>
        </p:nvSpPr>
        <p:spPr>
          <a:xfrm>
            <a:off x="1891440" y="2571840"/>
            <a:ext cx="6037560" cy="0"/>
          </a:xfrm>
          <a:prstGeom prst="line">
            <a:avLst/>
          </a:prstGeom>
          <a:ln cap="rnd" w="44280">
            <a:solidFill>
              <a:srgbClr val="3086a5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Задачи групповой работы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04" name="Овал 5"/>
          <p:cNvSpPr/>
          <p:nvPr/>
        </p:nvSpPr>
        <p:spPr>
          <a:xfrm>
            <a:off x="1571760" y="2000160"/>
            <a:ext cx="642960" cy="571680"/>
          </a:xfrm>
          <a:prstGeom prst="ellipse">
            <a:avLst/>
          </a:prstGeom>
          <a:gradFill rotWithShape="0">
            <a:gsLst>
              <a:gs pos="0">
                <a:srgbClr val="a4d5f2"/>
              </a:gs>
              <a:gs pos="100000">
                <a:srgbClr val="e6f3fc"/>
              </a:gs>
            </a:gsLst>
            <a:lin ang="16200000"/>
          </a:gradFill>
          <a:ln w="9360">
            <a:solidFill>
              <a:srgbClr val="24647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TextBox 9"/>
          <p:cNvSpPr/>
          <p:nvPr/>
        </p:nvSpPr>
        <p:spPr>
          <a:xfrm>
            <a:off x="2433600" y="2143080"/>
            <a:ext cx="53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Активизация познавательной деятельно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Овал 10"/>
          <p:cNvSpPr/>
          <p:nvPr/>
        </p:nvSpPr>
        <p:spPr>
          <a:xfrm>
            <a:off x="1571760" y="2935440"/>
            <a:ext cx="642960" cy="571320"/>
          </a:xfrm>
          <a:prstGeom prst="ellipse">
            <a:avLst/>
          </a:prstGeom>
          <a:gradFill rotWithShape="0">
            <a:gsLst>
              <a:gs pos="0">
                <a:srgbClr val="a4d5f2"/>
              </a:gs>
              <a:gs pos="100000">
                <a:srgbClr val="e6f3fc"/>
              </a:gs>
            </a:gsLst>
            <a:lin ang="16200000"/>
          </a:gradFill>
          <a:ln w="9360">
            <a:solidFill>
              <a:srgbClr val="3086a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Овал 11"/>
          <p:cNvSpPr/>
          <p:nvPr/>
        </p:nvSpPr>
        <p:spPr>
          <a:xfrm>
            <a:off x="1643040" y="5000760"/>
            <a:ext cx="642960" cy="571320"/>
          </a:xfrm>
          <a:prstGeom prst="ellipse">
            <a:avLst/>
          </a:prstGeom>
          <a:gradFill rotWithShape="0">
            <a:gsLst>
              <a:gs pos="0">
                <a:srgbClr val="a4d5f2"/>
              </a:gs>
              <a:gs pos="100000">
                <a:srgbClr val="e6f3fc"/>
              </a:gs>
            </a:gsLst>
            <a:lin ang="16200000"/>
          </a:gradFill>
          <a:ln w="9360">
            <a:solidFill>
              <a:srgbClr val="3086a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Овал 12"/>
          <p:cNvSpPr/>
          <p:nvPr/>
        </p:nvSpPr>
        <p:spPr>
          <a:xfrm>
            <a:off x="1571760" y="3929040"/>
            <a:ext cx="642960" cy="571680"/>
          </a:xfrm>
          <a:prstGeom prst="ellipse">
            <a:avLst/>
          </a:prstGeom>
          <a:gradFill rotWithShape="0">
            <a:gsLst>
              <a:gs pos="0">
                <a:srgbClr val="a4d5f2"/>
              </a:gs>
              <a:gs pos="100000">
                <a:srgbClr val="e6f3fc"/>
              </a:gs>
            </a:gsLst>
            <a:lin ang="16200000"/>
          </a:gradFill>
          <a:ln w="9360">
            <a:solidFill>
              <a:srgbClr val="3086a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Box 16"/>
          <p:cNvSpPr/>
          <p:nvPr/>
        </p:nvSpPr>
        <p:spPr>
          <a:xfrm>
            <a:off x="2435400" y="2786040"/>
            <a:ext cx="552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Развитие навыков самостоятельной учебной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деятельно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Box 17"/>
          <p:cNvSpPr/>
          <p:nvPr/>
        </p:nvSpPr>
        <p:spPr>
          <a:xfrm>
            <a:off x="2433600" y="4000680"/>
            <a:ext cx="467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Развитие умений успешного общ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Box 18"/>
          <p:cNvSpPr/>
          <p:nvPr/>
        </p:nvSpPr>
        <p:spPr>
          <a:xfrm>
            <a:off x="2439000" y="4857840"/>
            <a:ext cx="466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овершенствование межличностных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тношений в класс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1304"/>
                </a:solidFill>
                <a:latin typeface="Arial"/>
                <a:ea typeface="Arial"/>
              </a:rPr>
              <a:t>Плюсы и минусы групповой работы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071360" y="1534680"/>
            <a:ext cx="3786120" cy="639720"/>
          </a:xfrm>
          <a:prstGeom prst="rect">
            <a:avLst/>
          </a:prstGeom>
          <a:solidFill>
            <a:srgbClr val="c7d7a5"/>
          </a:solidFill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люс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1071360" y="2174760"/>
            <a:ext cx="3786120" cy="3951360"/>
          </a:xfrm>
          <a:prstGeom prst="rect">
            <a:avLst/>
          </a:prstGeom>
          <a:solidFill>
            <a:srgbClr val="ecf2e1"/>
          </a:solidFill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вышается учебная и познавательная мотивац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нижается уровень тревожности учащихс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группе выше обучаемость, эффективность усвоения и актуализации знани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лучшается психологический климат в класс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857840" y="1534680"/>
            <a:ext cx="3828960" cy="639720"/>
          </a:xfrm>
          <a:prstGeom prst="rect">
            <a:avLst/>
          </a:prstGeom>
          <a:solidFill>
            <a:srgbClr val="aad6e6"/>
          </a:solidFill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инус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4857840" y="2174760"/>
            <a:ext cx="3828960" cy="3951360"/>
          </a:xfrm>
          <a:prstGeom prst="rect">
            <a:avLst/>
          </a:prstGeom>
          <a:solidFill>
            <a:srgbClr val="d5ebf2"/>
          </a:solidFill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Групповой работе надо сначала науч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рганизация групповой работы требует от учителя особых умений, усил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Некоторые ученики могут пользоваться результатами труда более сильных одноклассник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Для некоторых детей разделение на группы – процесс болезнен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Arial"/>
                <a:ea typeface="Arial"/>
              </a:rPr>
              <a:t>Принципы групповой работы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618" name="Содержимое 3" descr=""/>
          <p:cNvPicPr/>
          <p:nvPr/>
        </p:nvPicPr>
        <p:blipFill>
          <a:blip r:embed="rId1"/>
          <a:stretch/>
        </p:blipFill>
        <p:spPr>
          <a:xfrm>
            <a:off x="1158840" y="1968480"/>
            <a:ext cx="7547040" cy="423720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1304"/>
                </a:solidFill>
                <a:latin typeface="Arial"/>
                <a:ea typeface="Arial"/>
              </a:rPr>
              <a:t>Варианты комплектования групп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620" name="Содержимое 3" descr=""/>
          <p:cNvPicPr/>
          <p:nvPr/>
        </p:nvPicPr>
        <p:blipFill>
          <a:blip r:embed="rId1"/>
          <a:stretch/>
        </p:blipFill>
        <p:spPr>
          <a:xfrm>
            <a:off x="1066680" y="1762200"/>
            <a:ext cx="7632720" cy="470520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55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Arial"/>
                <a:ea typeface="Arial"/>
              </a:rPr>
              <a:t>Виды групповой работы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622" name="Содержимое 3" descr=""/>
          <p:cNvPicPr/>
          <p:nvPr/>
        </p:nvPicPr>
        <p:blipFill>
          <a:blip r:embed="rId1"/>
          <a:stretch/>
        </p:blipFill>
        <p:spPr>
          <a:xfrm>
            <a:off x="1066680" y="2200320"/>
            <a:ext cx="7632720" cy="414504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2" descr=""/>
          <p:cNvPicPr/>
          <p:nvPr/>
        </p:nvPicPr>
        <p:blipFill>
          <a:blip r:embed="rId2"/>
          <a:stretch/>
        </p:blipFill>
        <p:spPr>
          <a:xfrm>
            <a:off x="7053120" y="407880"/>
            <a:ext cx="1614600" cy="161604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Picture 2" descr=""/>
          <p:cNvPicPr/>
          <p:nvPr/>
        </p:nvPicPr>
        <p:blipFill>
          <a:blip r:embed="rId1"/>
          <a:stretch/>
        </p:blipFill>
        <p:spPr>
          <a:xfrm>
            <a:off x="3449520" y="2724120"/>
            <a:ext cx="3048120" cy="2706840"/>
          </a:xfrm>
          <a:prstGeom prst="rect">
            <a:avLst/>
          </a:prstGeom>
          <a:ln w="0">
            <a:noFill/>
          </a:ln>
        </p:spPr>
      </p:pic>
      <p:pic>
        <p:nvPicPr>
          <p:cNvPr id="625" name="Схема 5" descr=""/>
          <p:cNvPicPr/>
          <p:nvPr/>
        </p:nvPicPr>
        <p:blipFill>
          <a:blip r:embed="rId2"/>
          <a:stretch/>
        </p:blipFill>
        <p:spPr>
          <a:xfrm>
            <a:off x="1206360" y="1627200"/>
            <a:ext cx="7347240" cy="4889520"/>
          </a:xfrm>
          <a:prstGeom prst="rect">
            <a:avLst/>
          </a:prstGeom>
          <a:ln w="0">
            <a:noFill/>
          </a:ln>
        </p:spPr>
      </p:pic>
      <p:sp>
        <p:nvSpPr>
          <p:cNvPr id="626" name="Скругленный прямоугольник 6"/>
          <p:cNvSpPr/>
          <p:nvPr/>
        </p:nvSpPr>
        <p:spPr>
          <a:xfrm>
            <a:off x="6858000" y="1714680"/>
            <a:ext cx="1643040" cy="857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a4a3a"/>
              </a:gs>
              <a:gs pos="100000">
                <a:srgbClr val="fefeef"/>
              </a:gs>
            </a:gsLst>
            <a:lin ang="16200000"/>
          </a:gradFill>
          <a:ln w="9360">
            <a:solidFill>
              <a:srgbClr val="c9d7b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Мозговой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штур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Arial"/>
                <a:ea typeface="Arial"/>
              </a:rPr>
              <a:t>Виды групповой работы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Arial"/>
                <a:ea typeface="Arial"/>
              </a:rPr>
              <a:t>Виды групповой работы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629" name="Picture 3" descr=""/>
          <p:cNvPicPr/>
          <p:nvPr/>
        </p:nvPicPr>
        <p:blipFill>
          <a:blip r:embed="rId1"/>
          <a:stretch/>
        </p:blipFill>
        <p:spPr>
          <a:xfrm>
            <a:off x="1725480" y="1798560"/>
            <a:ext cx="2108160" cy="4595760"/>
          </a:xfrm>
          <a:prstGeom prst="rect">
            <a:avLst/>
          </a:prstGeom>
          <a:ln w="0">
            <a:noFill/>
          </a:ln>
        </p:spPr>
      </p:pic>
      <p:sp>
        <p:nvSpPr>
          <p:cNvPr id="630" name=""/>
          <p:cNvSpPr txBox="1"/>
          <p:nvPr/>
        </p:nvSpPr>
        <p:spPr>
          <a:xfrm>
            <a:off x="1066320" y="4704840"/>
            <a:ext cx="762012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Игра основана на выполнении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различных заданий группой по цепочк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Скругленный прямоугольник 10"/>
          <p:cNvSpPr/>
          <p:nvPr/>
        </p:nvSpPr>
        <p:spPr>
          <a:xfrm>
            <a:off x="6286680" y="1857240"/>
            <a:ext cx="2214360" cy="857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a4a3a"/>
              </a:gs>
              <a:gs pos="100000">
                <a:srgbClr val="fefeef"/>
              </a:gs>
            </a:gsLst>
            <a:lin ang="16200000"/>
          </a:gradFill>
          <a:ln w="9360">
            <a:solidFill>
              <a:srgbClr val="c9d7b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Игра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«Продолжи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5T06:39:47Z</dcterms:created>
  <dc:creator>Наталья</dc:creator>
  <dc:description/>
  <dc:language>en-US</dc:language>
  <cp:lastModifiedBy>123</cp:lastModifiedBy>
  <dcterms:modified xsi:type="dcterms:W3CDTF">2010-08-02T21:09:51Z</dcterms:modified>
  <cp:revision>107</cp:revision>
  <dc:subject/>
  <dc:title>Технология организация групповой работы</dc:title>
</cp:coreProperties>
</file>